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DD3E-2B0C-4AD5-A9A6-4F1AECF0E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D041-FF50-41FA-B2CD-4863F7A4E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67EF-C0EF-4382-AFD6-A01FE49D6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1061-BA73-4593-9D49-85A6C889D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43E50-6FA4-41C1-8797-CE539244B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3397E-06F2-4020-9B40-2682588CE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8D8A7-7BC4-4E2E-8D3C-8BC00F54A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2C795-58E5-4C4E-AC1B-210F3023E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B377A-7DA9-4EC5-ADFF-ED802786A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4D9AD-99B2-4345-8199-37250A848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A8B95-B7E8-423E-BFEC-2114F3AE7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46E0-74EC-459F-91F9-5EC49EB6F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1A3A0-D917-4848-B5BD-92F2C041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7731E-6197-4B70-B129-DC779E855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C51CE-7400-4FEE-B796-D0099AEB6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6B614-2A90-4C57-87F0-335652BCE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1392E-C7CF-4693-8A80-8A1691200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32D2-EB07-43EA-9DCA-46DB5F1D1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12FD-9811-4CDE-A556-EDBC8A572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3D1D-F20E-4052-BD47-E8A4E2F7C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0C77-4A19-423B-9C5B-F1DB9EFA7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62A0-82F7-4429-8D5F-38D6E9F6F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4A4B-F585-4CBB-974A-FA2B3DAC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FA3B-AB6C-496B-88C4-9A77180F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1A471-BC83-468C-809A-0457059229D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BBC25-AA73-4D61-BAE4-1AB38E53073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Инструкция по работе с микроскопом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Придвиньте к себе микроскоп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Посмотрите в окуляр микроскопа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Настройте резкость микроскопа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Рассмотрите организм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Отодвиньте микроскоп на безопасное расстояние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68360" y="307800"/>
            <a:ext cx="8207280" cy="6289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06" dur="indefinite" restart="never" nodeType="tmRoot">
          <p:childTnLst>
            <p:seq>
              <p:cTn id="207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208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1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671480" y="136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56000" y="932040"/>
            <a:ext cx="243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РАСТ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4360" y="2227320"/>
            <a:ext cx="266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ЖИВОТ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5080" y="3451320"/>
            <a:ext cx="215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ЧЕЛОВЕ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57440" y="4748040"/>
            <a:ext cx="166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ГРИБ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1796040" y="2752560"/>
            <a:ext cx="553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ЖИВЫЕ ОРГАНИЗМ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73080" y="716040"/>
            <a:ext cx="181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ДЫША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11640" y="1724040"/>
            <a:ext cx="256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Arial"/>
              </a:rPr>
              <a:t>ПИТАЮТ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372720" y="2732040"/>
            <a:ext cx="178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РАСТУ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08000" y="3740040"/>
            <a:ext cx="386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РАЗМНОЖАЮТ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62880" y="4675320"/>
            <a:ext cx="2964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СОСТОЯТ ИЗ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КЛЕТ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03640" y="765000"/>
            <a:ext cx="576360" cy="4680000"/>
          </a:xfrm>
          <a:custGeom>
            <a:avLst/>
            <a:gdLst>
              <a:gd name="textAreaLeft" fmla="*/ 0 w 576360"/>
              <a:gd name="textAreaRight" fmla="*/ 208080 w 576360"/>
              <a:gd name="textAreaTop" fmla="*/ 122040 h 4680000"/>
              <a:gd name="textAreaBottom" fmla="*/ 4557960 h 468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110"/>
                </a:lnTo>
                <a:cubicBezTo>
                  <a:pt x="10800" y="10010"/>
                  <a:pt x="16200" y="10910"/>
                  <a:pt x="21600" y="10910"/>
                </a:cubicBezTo>
                <a:cubicBezTo>
                  <a:pt x="16200" y="10910"/>
                  <a:pt x="10800" y="11810"/>
                  <a:pt x="10800" y="1271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ПОСТАВЬ СВОЮ ОТМЕТКУ ОБ УРОКЕ!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!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    урок понравился       и все поня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+ 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   все поня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? 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   не все поня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671480" y="136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56000" y="932040"/>
            <a:ext cx="243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РАСТ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4360" y="2227320"/>
            <a:ext cx="266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ЖИВОТ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080" y="3451320"/>
            <a:ext cx="215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ЧЕЛОВЕ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57440" y="4748040"/>
            <a:ext cx="166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ГРИБ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1796040" y="2752560"/>
            <a:ext cx="553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ЖИВЫЕ ОРГАНИЗМ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73080" y="716040"/>
            <a:ext cx="181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ДЫША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11640" y="1724040"/>
            <a:ext cx="2562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Arial"/>
              </a:rPr>
              <a:t>ПИТАЮТ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372720" y="2732040"/>
            <a:ext cx="1789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РАСТУ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508000" y="3740040"/>
            <a:ext cx="3865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РАЗМНОЖАЮТ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03640" y="765000"/>
            <a:ext cx="576360" cy="4680000"/>
          </a:xfrm>
          <a:custGeom>
            <a:avLst/>
            <a:gdLst>
              <a:gd name="textAreaLeft" fmla="*/ 0 w 576360"/>
              <a:gd name="textAreaRight" fmla="*/ 208080 w 576360"/>
              <a:gd name="textAreaTop" fmla="*/ 122040 h 4680000"/>
              <a:gd name="textAreaBottom" fmla="*/ 4557960 h 468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110"/>
                </a:lnTo>
                <a:cubicBezTo>
                  <a:pt x="10800" y="10010"/>
                  <a:pt x="16200" y="10910"/>
                  <a:pt x="21600" y="10910"/>
                </a:cubicBezTo>
                <a:cubicBezTo>
                  <a:pt x="16200" y="10910"/>
                  <a:pt x="10800" y="11810"/>
                  <a:pt x="10800" y="1271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187280" y="404280"/>
            <a:ext cx="6400800" cy="1752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Несъедобный гриб, бледно-серой окрас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Верхняя часть гриб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Съедобный гриб, растущий в березовых роща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Грибы, растущие стайками возле пеньк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Газ, которым дышат гриб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Подземная часть гриб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98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98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98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98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98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98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258920" y="2133720"/>
            <a:ext cx="648180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22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клет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</p:spTree>
  </p:cSld>
  <p:transition>
    <p:comb dir="horz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3527280" cy="52563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356000" y="1341360"/>
            <a:ext cx="4392720" cy="39592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Arial"/>
              </a:rPr>
              <a:t>Сделай вывод по плану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. Что такое микроорганизмы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. Кто к ним относится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Расскажи по вопросам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. Что напоминает тело микроорганизмов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. Как оно называется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. Как называются микроорганизмы, состоящие из одной клетки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. Что такое микроорганизмы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19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98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98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98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98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476360" y="333360"/>
            <a:ext cx="6189840" cy="62341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Arial"/>
              </a:rPr>
              <a:t>Закончи фразы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Не каждый организм состоит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се известные тебе живые организмы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Они напоминают собой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3T18:03:57Z</dcterms:created>
  <dc:creator>Ю-Ю</dc:creator>
  <dc:description/>
  <dc:language>en-US</dc:language>
  <cp:lastModifiedBy>Sys</cp:lastModifiedBy>
  <dcterms:modified xsi:type="dcterms:W3CDTF">2008-04-10T14:15:00Z</dcterms:modified>
  <cp:revision>11</cp:revision>
  <dc:subject/>
  <dc:title>Интегрированный урок окружающего мира  и информатики  2 класс (по УМК «Начальная школа ХХ1 века»)</dc:title>
</cp:coreProperties>
</file>