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0E0-8CD2-4D70-A094-D55847D0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E5C-52F1-4014-8432-AD87CCCB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7B4-0EFD-4830-8FD4-D8AC6276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5FA-E798-4DBB-AC5E-DFB0ACA3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4A99-F582-48D0-A69E-7B5456CF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42E3-149A-4774-8901-5EFDE4F0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CD0F-0845-4098-86BD-229043FE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EA62-D5C6-4E24-8E36-644353D1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EDF-5E9B-4B39-A608-825D81BA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E7E5-836F-401F-BCFD-CE36EB75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F986-0866-45C2-8AC6-BE82CF3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226-F578-4DD6-B428-DB16BD54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F914-5E5A-42D9-A66E-F7DBEB6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453E-460B-439C-ACDB-761DFABC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F655-A869-4657-913E-3865A725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4CB5-3DF8-4135-895F-2C88B56E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3E05-CAC0-457F-8EAC-9C1E334F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626-6344-4CA2-A530-2397ED35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548-A49E-4D25-8847-2309BDF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043-4F21-47B8-ACC5-2EF76865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D83-0001-454E-A52B-8B2678B4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EA0-2176-4C39-903B-E2690D9C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5E4-8C4F-4475-A218-392782C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C9A-F041-4C3A-AED8-C3F2ED0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C02F-95CD-4700-A92E-90CE6B3246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F1D5-D636-46FD-BE70-6AF4EB1B03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Инструкция по работе с микроскопо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Придвиньте к себе микроскоп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Посмотрите в окуляр микроскоп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Настройте резкость микроскоп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ассмотрите организм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тодвиньте микроскоп на безопасное расстояни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307800"/>
            <a:ext cx="8207280" cy="6289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71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6000" y="93204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22732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080" y="345132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7440" y="4748040"/>
            <a:ext cx="16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1796040" y="2752560"/>
            <a:ext cx="55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ИВЫЕ ОРГАНИЗ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3080" y="71604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ДЫШ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1640" y="172404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ПИТ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720" y="2732040"/>
            <a:ext cx="17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РАСТ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000" y="3740040"/>
            <a:ext cx="38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РАЗМНОЖ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62880" y="4675320"/>
            <a:ext cx="296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СТОЯТ 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765000"/>
            <a:ext cx="576360" cy="4680000"/>
          </a:xfrm>
          <a:custGeom>
            <a:avLst/>
            <a:gdLst>
              <a:gd name="textAreaLeft" fmla="*/ 0 w 576360"/>
              <a:gd name="textAreaRight" fmla="*/ 208080 w 57636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0"/>
                </a:lnTo>
                <a:cubicBezTo>
                  <a:pt x="10800" y="10010"/>
                  <a:pt x="16200" y="10910"/>
                  <a:pt x="21600" y="10910"/>
                </a:cubicBezTo>
                <a:cubicBezTo>
                  <a:pt x="16200" y="10910"/>
                  <a:pt x="10800" y="11810"/>
                  <a:pt x="10800" y="127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ПОСТАВЬ СВОЮ ОТМЕТКУ ОБ УРОКЕ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!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урок понравился       и все поня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все поня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не все поня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71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6000" y="93204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22732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080" y="345132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7440" y="4748040"/>
            <a:ext cx="16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ГРИ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1796040" y="2752560"/>
            <a:ext cx="55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ИВЫЕ ОРГАНИЗ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3080" y="71604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ДЫШ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1640" y="1724040"/>
            <a:ext cx="25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ПИТ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720" y="2732040"/>
            <a:ext cx="178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РАСТУ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000" y="3740040"/>
            <a:ext cx="386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РАЗМНОЖ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765000"/>
            <a:ext cx="576360" cy="4680000"/>
          </a:xfrm>
          <a:custGeom>
            <a:avLst/>
            <a:gdLst>
              <a:gd name="textAreaLeft" fmla="*/ 0 w 576360"/>
              <a:gd name="textAreaRight" fmla="*/ 208080 w 57636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0"/>
                </a:lnTo>
                <a:cubicBezTo>
                  <a:pt x="10800" y="10010"/>
                  <a:pt x="16200" y="10910"/>
                  <a:pt x="21600" y="10910"/>
                </a:cubicBezTo>
                <a:cubicBezTo>
                  <a:pt x="16200" y="10910"/>
                  <a:pt x="10800" y="11810"/>
                  <a:pt x="10800" y="127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87280" y="404280"/>
            <a:ext cx="640080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съедобный гриб, бледно-серой окрас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хняя часть гри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ъедобный гриб, растущий в березовых рощ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рибы, растущие стайками возле пень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аз, которым дышат гри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дземная часть гри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58920" y="2133720"/>
            <a:ext cx="6481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527280" cy="5256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392720" cy="3959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Сделай вывод по плану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Что такое микроорганизм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Кто к ним относитс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асскажи по вопросам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Что напоминает тело микроорганизм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Как оно называетс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Как называются микроорганизмы, состоящие из одной клет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Что такое микроорганизм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189840" cy="623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Закончи фраз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 каждый организм состои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се известные тебе живые организмы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ни напоминают собой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8:03:57Z</dcterms:created>
  <dc:creator>Ю-Ю</dc:creator>
  <dc:description/>
  <dc:language>en-US</dc:language>
  <cp:lastModifiedBy>Sys</cp:lastModifiedBy>
  <dcterms:modified xsi:type="dcterms:W3CDTF">2008-04-10T14:15:00Z</dcterms:modified>
  <cp:revision>11</cp:revision>
  <dc:subject/>
  <dc:title>Интегрированный урок окружающего мира  и информатики  2 класс (по УМК «Начальная школа ХХ1 века»)</dc:title>
</cp:coreProperties>
</file>