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5B5-DD2E-4086-AFBB-1AC2D856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E4D4-4702-471C-8FAD-C64F6B8C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85C4-6809-447C-A9F5-17F2377F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0E7-2D33-4FAE-A90E-5F70B1A8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495B-AB93-416D-9740-709F53CE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34D2-C940-4922-86BE-5D06039B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9A85-B94B-4B85-8A2D-8D0E6F1E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207E-93E9-4865-AF2D-12FBAE21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38EE-7B98-46D4-8BE3-3ADFCA17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7257-26D8-414A-92BE-5DA2D343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A807-9BA6-4851-991B-30BC8606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20D-366F-4552-AAEF-DBEF179F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36C5-CD02-40D9-93A3-21ECAAD0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724E-1368-4516-A29F-FA3BA920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0318-3C96-4892-99ED-C82C1886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38ED-8A67-4319-832A-5C3FAE76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4695-3880-457A-8730-2F74FE8C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8279B-8B85-4A48-8198-9AEECB98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5DD0F-6ADC-4695-8780-46BE3C21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E6DB2-6F05-4067-B483-076CC79D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1254B-B29C-481D-A9AC-5328E4C6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0DB73-449E-4633-AC0D-186EC25A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062-18C7-4065-B56A-5C06EFCC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9B0F6-5475-45ED-85AC-9FB873E7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46F9A-C4C3-41EB-9A60-117AE7BD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0DA0-2D30-4DD5-8ADA-0F5B9C4D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F2C21-6D53-4AC9-A954-89095DDB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C2C8D-A74B-4061-838B-0D778648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77C55-8885-4157-977F-77ACADF2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EFA66-CFE3-4A20-857F-95ECAF66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3A78D-9B42-40B3-B1BA-759DA4CE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79318-659A-4F85-BBE5-5695BDF9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94519-79D2-48F7-A736-C8D17D3B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2E5-FAAF-490B-8B39-2EF69923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605EE-93A2-46B7-8CA5-8199F9F5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FC907-7AB8-48E4-8824-53B03325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B3057-E2A0-44D3-9F92-218C7260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E9F72-A018-4053-A36D-F2DACA34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C9124-F380-4B5E-BEC3-38A16A36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F0B98-33CC-45E6-9FE8-78716B25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D2F1D-DEF2-4244-BB7B-3B8F3CA1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A657C-E040-4450-958D-752FB90B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430CB-FAEC-47D7-AE40-A47A07FD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B4126-DA9A-458E-B336-D76085B7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2D3-DDDD-4E1D-AC46-EAC38D38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219C9-7618-4454-A17D-7DD5BC45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876BC-8C07-43B7-B0F1-39DB9A0C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F5CB5-7E61-469A-8444-A6BCACFD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6B32B-92A9-441C-A94F-49F988E2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06E57-707D-4389-B8EA-947CB428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E58D1-3507-4C99-A722-A0E69E0D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35169-970F-4D57-A0A4-4CA18ED4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793E0-57F5-49DD-9E2B-22D8B5E6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D30A9-56F4-44DF-9C74-F41734D2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4EE4E-AF35-4C1D-8253-E7CED3A3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33C-019F-42DF-A2BB-F26686FD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5F23B-4DDD-411B-A34F-082C9707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4E3-01E3-4626-BD58-7A31ED3A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9D5-781F-4478-9C10-D787B430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46B-45DE-4233-9538-C6E2E67D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87D1-916F-4DB4-8906-B9E95FE9AAD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85B8-200C-429D-B7A1-3740B1A24AE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364A-822A-4491-A3D8-CEC8EC333F4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39B2-45DC-45DC-8075-FBFA38D01A4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90E5-2B2D-46A6-9EAE-C4C5E1A1A86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61440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4617b"/>
                </a:solidFill>
                <a:latin typeface="Cambria"/>
              </a:rPr>
              <a:t>Задача решается с применением метода вспомогательных секущих плоскостей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остроить линию пересечения пирамиды и призмы.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1" descr="http://dvoika.net/education/Graphbook/book/zadachi/10/10-06/img/pic2.gif"/>
          <p:cNvPicPr/>
          <p:nvPr/>
        </p:nvPicPr>
        <p:blipFill>
          <a:blip r:embed="rId1"/>
          <a:stretch/>
        </p:blipFill>
        <p:spPr>
          <a:xfrm>
            <a:off x="642960" y="214200"/>
            <a:ext cx="7858080" cy="6500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1" descr="http://dvoika.net/education/Graphbook/book/zadachi/10/10-06/img/pic3.gif"/>
          <p:cNvPicPr/>
          <p:nvPr/>
        </p:nvPicPr>
        <p:blipFill>
          <a:blip r:embed="rId1"/>
          <a:stretch/>
        </p:blipFill>
        <p:spPr>
          <a:xfrm>
            <a:off x="571680" y="0"/>
            <a:ext cx="7929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1" descr="http://dvoika.net/education/Graphbook/book/zadachi/10/10-06/img/pic4.gif"/>
          <p:cNvPicPr/>
          <p:nvPr/>
        </p:nvPicPr>
        <p:blipFill>
          <a:blip r:embed="rId1"/>
          <a:stretch/>
        </p:blipFill>
        <p:spPr>
          <a:xfrm>
            <a:off x="428760" y="0"/>
            <a:ext cx="7786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1" descr="http://dvoika.net/education/Graphbook/book/zadachi/10/10-06/img/pic5.gif"/>
          <p:cNvPicPr/>
          <p:nvPr/>
        </p:nvPicPr>
        <p:blipFill>
          <a:blip r:embed="rId1"/>
          <a:stretch/>
        </p:blipFill>
        <p:spPr>
          <a:xfrm>
            <a:off x="1428840" y="0"/>
            <a:ext cx="6643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http://dvoika.net/education/Graphbook/book/zadachi/10/10-06/img/pic6.gif"/>
          <p:cNvPicPr/>
          <p:nvPr/>
        </p:nvPicPr>
        <p:blipFill>
          <a:blip r:embed="rId1"/>
          <a:stretch/>
        </p:blipFill>
        <p:spPr>
          <a:xfrm>
            <a:off x="9288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1" descr="http://dvoika.net/education/Graphbook/book/zadachi/10/10-06/img/pic7.gif"/>
          <p:cNvPicPr/>
          <p:nvPr/>
        </p:nvPicPr>
        <p:blipFill>
          <a:blip r:embed="rId1"/>
          <a:stretch/>
        </p:blipFill>
        <p:spPr>
          <a:xfrm>
            <a:off x="785880" y="0"/>
            <a:ext cx="7215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3" descr="http://dvoika.net/education/Graphbook/book/zadachi/10/10-07/img/pic1.gif"/>
          <p:cNvPicPr/>
          <p:nvPr/>
        </p:nvPicPr>
        <p:blipFill>
          <a:blip r:embed="rId1"/>
          <a:stretch/>
        </p:blipFill>
        <p:spPr>
          <a:xfrm>
            <a:off x="1143000" y="0"/>
            <a:ext cx="6143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1" descr="http://dvoika.net/education/Graphbook/book/zadachi/10/10-07/img/pic2.gif"/>
          <p:cNvPicPr/>
          <p:nvPr/>
        </p:nvPicPr>
        <p:blipFill>
          <a:blip r:embed="rId1"/>
          <a:stretch/>
        </p:blipFill>
        <p:spPr>
          <a:xfrm>
            <a:off x="1214280" y="0"/>
            <a:ext cx="6429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http://dvoika.net/education/Graphbook/book/zadachi/10/10-07/img/pic3.gif"/>
          <p:cNvPicPr/>
          <p:nvPr/>
        </p:nvPicPr>
        <p:blipFill>
          <a:blip r:embed="rId1"/>
          <a:stretch/>
        </p:blipFill>
        <p:spPr>
          <a:xfrm>
            <a:off x="428760" y="0"/>
            <a:ext cx="8143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http://dvoika.net/education/Graphbook/book/zadachi/10/10-07/img/pic4.gif"/>
          <p:cNvPicPr/>
          <p:nvPr/>
        </p:nvPicPr>
        <p:blipFill>
          <a:blip r:embed="rId1"/>
          <a:stretch/>
        </p:blipFill>
        <p:spPr>
          <a:xfrm>
            <a:off x="857160" y="0"/>
            <a:ext cx="7000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http://dvoika.net/education/Graphbook/book/zadachi/10/10-07/img/pic5.gif"/>
          <p:cNvPicPr/>
          <p:nvPr/>
        </p:nvPicPr>
        <p:blipFill>
          <a:blip r:embed="rId1"/>
          <a:stretch/>
        </p:blipFill>
        <p:spPr>
          <a:xfrm>
            <a:off x="785880" y="0"/>
            <a:ext cx="7143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1" descr="http://dvoika.net/education/Graphbook/book/zadachi/10/10-07/img/pic6.gif"/>
          <p:cNvPicPr/>
          <p:nvPr/>
        </p:nvPicPr>
        <p:blipFill>
          <a:blip r:embed="rId1"/>
          <a:stretch/>
        </p:blipFill>
        <p:spPr>
          <a:xfrm>
            <a:off x="928800" y="0"/>
            <a:ext cx="7143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дача решается с применением метода вспомогательных секущих плоскостей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17146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остроить линию пересечения двух призм.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http://dvoika.net/education/Graphbook/book/zadachi/10/10-06/img/pic1.gif"/>
          <p:cNvPicPr/>
          <p:nvPr/>
        </p:nvPicPr>
        <p:blipFill>
          <a:blip r:embed="rId1"/>
          <a:stretch/>
        </p:blipFill>
        <p:spPr>
          <a:xfrm>
            <a:off x="1143000" y="285840"/>
            <a:ext cx="6643800" cy="6429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0:36:16Z</dcterms:created>
  <dc:creator>Хозяин</dc:creator>
  <dc:description/>
  <dc:language>en-US</dc:language>
  <cp:lastModifiedBy>Хозяин</cp:lastModifiedBy>
  <dcterms:modified xsi:type="dcterms:W3CDTF">2010-11-10T20:48:29Z</dcterms:modified>
  <cp:revision>2</cp:revision>
  <dc:subject/>
  <dc:title> Построить линию пересечения пирамиды и призмы. </dc:title>
</cp:coreProperties>
</file>