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758-8D98-4258-936A-0D8B4FE5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400-D1F4-45F0-B8DB-AE298D2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E61-3D6B-4B08-9C4D-7F0B3846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E6B-E2CB-4C4D-9BD2-DDFB9280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6E7F-A055-49DF-85CD-1B3C36E1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0BBB-276F-486A-BA27-FD94B55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2EE-772A-46D2-B506-E0529AC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93F-62C8-4131-8233-BDD7B84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4167-974A-4A53-8949-8D3591F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9561-258E-4ACC-ADF9-2A0C348B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B723-B41C-4343-8A69-A59C3901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3C0-C1FC-420E-8610-E2682CC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67F-CE77-4CAE-9DD0-42A32E1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CCE2-D665-4E7C-835E-C4FA9B6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64D-C1DF-4395-A8A0-37F01AC6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8D5-1848-4491-879C-FE643EAB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5B4A-0F40-45D6-818F-83156AF7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4107F-AB39-46C0-8D30-FEC4AA40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A7B26-4F72-487A-901A-AF40279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0826A-28C2-4B07-B17F-C42242A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0D537-2B65-4C4C-8E8A-C4018329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A0332-9BD9-47E5-A36F-61BD8107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B27-2C5A-48F8-A997-CAC807A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0A0E0-C4AD-4C97-8E67-0D1DF784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F5D9B-454F-4E7C-AA4E-72A98CD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69D54-51A8-44FE-AAE9-229B353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5A75C-26E8-4DD4-97F8-F4E4233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C7E94-EE76-4D6B-856B-6FDF917E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5582D-225F-4542-BFA4-60AA9C1E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0C7C2-80D7-4029-8A23-CBEC8111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D86E-3EE9-4F0A-B294-BDCFFAC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3D6B-907B-4F97-B9F9-4AE27F7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B5EE-4D88-4112-A92F-4DD51661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FEC-D9CB-4186-A2EA-A11AA1F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94D9-A342-44E4-BA9A-346F91B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BA06-4297-4CD0-A35B-32E8F3A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ECE2-2C2F-4A63-AB96-F65C277C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368B-4CB2-4E39-B109-8E76379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B77C-48EE-43F2-B361-32FD0B40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C927-9FE1-4A0C-982C-0A7304A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D82E-8894-4676-A5FC-00F6762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B248-05A9-4DB9-A5E4-2663D1C3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6544-A62C-47C6-B046-1814C95E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61B1C-E95E-4BB1-84DF-5A4547FE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7A6-C3B1-49CC-9E82-CC954860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60C7B-EC12-45B1-A1FD-7DE3A76C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A147A-1088-4CD9-BCD5-542C2661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4F757-2A93-401B-8413-DD93F6A7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15D8F-3B49-4220-935E-4DCB28FC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2EAE2-5638-4768-85A9-2482330D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F3740-45D6-4770-8AC7-12A1FB1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3873B-B540-4661-B787-C93B429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F74CB-4A6B-4805-AA86-F27A0B7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2C926-6265-406C-B1F4-C025764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358FA-27C1-4F75-ABF9-FB415B7A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E15-FEA4-4AA2-9114-249B698F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D6D5A-420A-4F95-A4D6-4DD5F082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C6F98-DFD0-433A-9B0D-AF10489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61B64-6F7A-444E-9888-B40B72F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30094-5F18-4550-8FD9-52ED03FC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3A872-968D-47EA-90CA-9CC0704D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F1ADB-5529-4C29-BB9D-D5700C93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D5EFF-5DA7-4147-8F20-9314A540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2F627-4169-4BDA-BE15-0E2E2EC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24FE1-293A-4CE0-9A5B-9918317F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57545-364F-4852-BF20-AEC2900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C39-B605-41B1-B2A1-B58C70B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6E793-A737-4912-8366-CE5D28DC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CC561-9C27-4AF2-B29B-4C6DF9CB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22806-C6F9-4A72-97D3-78D22C0F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C17A4-A6D5-40F4-8A94-BD9C8D63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6BF03-EFC0-4E30-8957-C54170F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D7ED9-1F43-45E6-886D-5417FCB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8D353-AE59-4C9A-B1FB-FF777E6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A3595-2A7D-47D3-9406-C1F4C37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3C0A2-E986-468A-972E-3602E8F8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5CE92-FD78-456D-8CD6-23A6AFC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246-0E60-4878-BDC9-EF22C3C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5C33D-6091-4346-A055-88623556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0BC74-A968-4005-B9F6-1D60A015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C5117-898A-4D40-BB3F-36EA1B1C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5A1A5-93C4-4C20-BFFC-92B4C439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D27A2-C8A2-4531-9776-8CF32DB0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BB9-379C-4765-B363-5D297B0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7F9-5489-4332-A896-49BDA385A1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DAA-9C11-4DD3-8844-A1585DC04C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017-AE88-47E1-AB4F-64D429908A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016-72D6-4D6D-9F3D-B1B7C7E6ECA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9B7-97C9-4180-BD23-2F227FC142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6BC-11E5-4C43-A6A7-56B0FE4D31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D52F-E8D5-46FA-AD7B-28867B7A73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ОРТФОЛИО УЧЕНИКА НАЧАЛЬНОЙ ШКО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Ознакомительный материал на 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готовила Вилко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ОУ СОШ № 3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УКТУРА ПОРТФОЛИ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ит основную информацию (фамилия имя и отчество; учебное заведение, класс), контактную информацию и фот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Й МИР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е имя" - информация о том, что означает имя, можно написать о знаменитых людях, носивших и носящих это имя. Если у ребенка редкая или интересная фамилия, можно найти информацию о том, что она означает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я семья" - здесь можно рассказать о каждом члене семьи или составить небольшой рассказ о своей семь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й город" - рассказ о родном городе (селе, деревне), о его интересных местах. Здесь же можно разместить нарисованную вместе с ребенком схему маршрута от дома до школы Важно чтобы на ней были отмечены опасные места (пересечения дорог, светофоры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и друзья" - фотографии друзей, информация об их интересах, увлечениях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и увлечения" - небольшой рассказ о том, чем увлекается ребенок. Здесь же можно написать о занятиях в спортивной секции, учебе в музыкальной школе или других учебных заведениях дополнительного образовани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я школа" - рассказ о школе и о педагогах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и любимые школьные предметы" - небольшие заметки о любимых школьных предметах, построенные по принципу "мне нравится..., потому что...". Также неплох вариант с названием "Школьные предметы". При этом ребенок может высказаться о каждом предмете, найдя в нём что-то важное и нужное для себ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Я УЧЁБ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этом разделе заголовки листов посвящены конкретному школьному предмету. Ученик наполняет этот раздел удачно написанными контрольными работами, интересными проектами, отзывами о прочитанных книгах, графиками роста скорости чтения, творческими работ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Я ОБЩЕСТВЕННАЯ РАБОТ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мероприятия, которые проводятся вне рамок учебной деятельности можно отнести к общественной работе (поручениям). Может быть, ребенок играл роль в школьном спектакле, или читал стихи на торжественной линейке, или оформил стенгазету к празднику или выступал на утреннике… Вариантов очень много. Оформлять этот раздел желательно с использованием фотографий и кратких сообщений на те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Ё ТВОРЧЕСТВО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этот раздел ребенок помещает свои творческие работы: рисунки, сказки, стихи. Если выполнена объемная работа (поделка), нужно поместить ее фотографию. Родителям необходимо предоставить полную свободу ребенку при наполнении этого раздела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ажно! Если работа принимала участие в выставке или участвовала в конкурсе, также необходимо дать информацию об этом мероприятии: название, когда, где и кем проводилось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орошо бы дополнить это сообщение фотографией. Если событие освещалось в СМИ или Интернете - надо найти эту информацию. Если проводилось Интернет-порталом, сделать распечатку тематической страничк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И ВПЕЧАТЛЕНИЯ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начальной школе дети принимают активное участие в экскурсионно-познавательных программах, ходят в театр, на выставки, посещают музеи. Необходимо в завершение экскурсии или похода предложить ребенку творческое домашнее задание, выполняя которое, он не только вспомнит содержание экскурсии, но и получит возможность выразить свои впечатления. Если в школе это не практикуется, родителям имеет смысл прийти на помощь учителю и разработать и размножить типовой бланк "Творческого задания". В конце учебного года возможно проведение презентации творческих заданий с обязательным награждением лучших работ в нескольких номинация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И ДОСТИЖЕНИЯ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десь размещаются грамоты, сертификаты, дипломы, благодарственные письма, а также итоговые аттестационные ведомости. Причем в начальной школе не следует разделять по важности успехи в учебе (похвальный лист) и успехи, например, в спорте (диплом). Лучше выбрать расположение не в порядке значимости, а, например, в хронологическом поряд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ОТЗЫВЫ И ПОЖЕЛАНИЯ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портфолио ученика начальной школы этот раздел включают не часто. А жаль! Ничто так не повышает самооценку ребенка, как положительная оценка педагогом его стараний. К сожалению дневники школьников пестрят либо нелицеприятными замечаниями типа "Не готов к уроку!", либо ничего не отражающей похвалой типа "Молодец!". А что если вместо того же "Молодец!" дать небольшой отзыв в портфолио? Например: "Принял активное участие в подготовке к внеклассному мероприятию "Цена Победы". Выучил и великолепно рассказал стихотворение. Самостоятельно подготовил стенгазету, при этом привлек к оформлению своих товарищей."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РАБОТЫ, КОТОРЫМИ Я ГОРЖУСЬ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чале нового учебного года необходимо внимательно изучить портфолио, проанализировать собранный в нем материал. При переходе в старший класс содержимое всех разделов надо полностью обнов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нее значимые работы и документы извлекаются (можно поместить в отдельную папку), а то, что представляет бОльшую ценность, размещается в специальном разделе. Его можно озаглавить "РАБОТЫ, КОТОРЫМИ Я ГОРЖУСЬ"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АЖНО ПОМНИТЬ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ервом классе, когда ребенок только начинает работать над составлением портфолио, без помощи родителей ему не обойтись. Но по мере того, как он взрослеет эту помощь надо сводить к минимуму. Старайтесь с самого начала построить работу ребенка таким образом, чтобы он сам прикладывал определенные усилия к формированию портфолио. В процессе работы неизбежно происходит процесс осмысления своих достижений, формирование личного отношения к полученным результатам и осознание своих возмож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ой из основных задач обучения и воспитания в начальной школе является выявление и развитие индивидуальных творческих способностей ребен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70320" y="836280"/>
            <a:ext cx="36576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сновные цели и задачи ведения портфолио в начальных классах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создание ситуации успеха для каждого ученика, повышение самооценки и уверенности в собственных возможностях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максимальное раскрытие индивидуальных способностей каждого ребенка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развитие познавательных интересов учащихся и формирование готовности к самостоятельному познанию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формирование установки на творческую деятельность и умений творческой деятельности, развитие мотивации дальнейшего творческого роста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формирование положительных моральных и нравственных качеств личности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риобретение навыков рефлексии, формирование умения анализировать собственные интересы, склонности, потребности и соотносить их с имеющимися возможностями ("я реальный", "я идеальный")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формирование жизненных идеалов, стимулирование стремления к самосовершенствованию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ЛАВНАЯ МЫСЛЬ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вы обратили внимание на то, что постепенно "человек для общества" уступает место "человеку для себя"? Вот поэтому и главные усилия в сфере образования теперь предлагается направлять на развитие прежде всего тех способностей, которые не вытекают из каких-то абстрактных "общественных потребностей", а требуются самому человеку для успешной самоактуализации и самореализации, для продвижения к целям, которые человек поставил себе с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ЛАВНОЕ НЕ ПОБЕДА, ГЛАВНОЕ - УЧАСТ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условная ценность портфолио заключается в том, что оно способствует повышению самооценки ученика, максимальному раскрытию индивидуальных возможностей каждого ребенка, развитию мотивации дальнейшего творческого роста. Поэтому крайне важно усвоить для себя и пояснить ребенку, что составление портфолио - это не гонка за дипломами и всевозможными грамотами! Важен сам процесс участия в учебной деятельности или творческой работе, а не его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М, КТО БУДЕТ УЧИТЬСЯ В 8-9 КЛАСС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казом Министерства образования № 2783 от 18.07.2002 г. утверждена "Концепция профильного обучения на старшей ступени общего образования". Вот выдержка из главы "Предпрофильная подготовка (на второй ступени общего образования) этого документа 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. 3. Итоговая аттестация выпускников основной шко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организация поступления в старшую профильную школ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существующей практике число желающих продолжить образование в старших классах определенного общеобразовательного учреждения (лицея, гимназии) больше, чем реальные возможности приема в эти классы. Возникает ситуация конкурсного приема, которая может стать особенно актуальной в условиях перехода на профильное обучение. Поэтому необходимо решить вопрос об открытой, гласной процедуре проведения подобного конкурсного набо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едует отметить, что конкурсный набор в старшие классы отдельных общеобразовательных учреждений не входит в противоречие с законодательно закрепленным правом получения каждым ребенком общего (полного) среднего образования (ст. 16, п.1, абз. 2 Закона Российской Федерации "Об образовании"). Закон гарантирует гражданам право получения образования этого уровня, что, однако, не есть синоним права получения его в конкретном общеобразовательном учреждении. В связи с этим представляется целесообразным, наряду с итоговой аттестацией выпускников основной школы предусмотреть определенную форму, позволяющую объективно оценить уровень готовности учащихся к продолжению образования по тому или иному профилю, а также создать основу для внедрения в массовую практику механизмов рационального и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розрачного конкурсного набора в старшую профильную школ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жную роль должно сыграть введение накопительной оценки (портфолио - "портфель достижений"), которая учитывает различные достижения учащихся по исполнению тех или иных проектов, написанию рефератов, творческих работ, реальные результаты на курсах по выбору и т.п. Муниципальные органы управления образованием должны обеспечить возможность получения общего среднего (полного) образования каждому школьнику, изъявившему желание в его получ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 Для поступления в вуз необходимо закончить специальный профильный класс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Поступление в профильный класс осуществляется на конкурсной основе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 В конкурсном отборе участвует не только аттестат, но и портфолио (8-9 класс)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Управления образования администрации области своим приказом вводит в действие "Положение индивидуальной накопительной оценке обучающихся основной школы общеобразовательных учреждений области"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 В "Положении о портфолио" обязательно прописывают: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a) цели и задачи портфолио,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b) структуру портфолио,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c) форму учета портфолио в определении образовательного рейтинга выпускника основной (общей) школ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6. В портфолио есть обязательный раздел "Итоговая ведомость". Администрацией МОУ (школы) выставляется итоговая оценка, скрепляется подписью директора и печатью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087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ЧЕМ ПОРТФОЛИО УЧЕНИКУ 9 КЛАСС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Цель портфолио - выполнять роль индивидуальной накопительной оценки и, наряду с результатами экзаменов, определять рейтинг выпускников основной школ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м всем придется привыкнуть к формул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ттестат + портфолио = образовательный рейтинг выпускника шко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ядок исчисления удельного "веса" портфолио в суммарном образовательном рейтинге ученика предполагает два вариант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Вес портфолио может соответствовать весу одного экзамена - max 5 балл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Вес портфолио может соответствовать весу двух экзаменов - max 10 балл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4:59:16Z</dcterms:created>
  <dc:creator>1</dc:creator>
  <dc:description/>
  <dc:language>en-US</dc:language>
  <cp:lastModifiedBy>1</cp:lastModifiedBy>
  <dcterms:modified xsi:type="dcterms:W3CDTF">2011-09-29T15:49:51Z</dcterms:modified>
  <cp:revision>6</cp:revision>
  <dc:subject/>
  <dc:title>Портфолио ученика начальной школы</dc:title>
</cp:coreProperties>
</file>