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997-8078-40CD-9A53-FF388A65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14C-EA70-4C85-B660-66589605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354-2C7D-438D-8C6B-B9E9AB62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B71-B5FA-40BC-B61B-42362BAA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1C0E-0936-4F89-9399-E7B42E41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7125-0568-409E-A86B-4955DC29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61D8-6FC7-4DF8-98F3-72274A84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F42E-74F1-4F2D-8AC7-B6E11617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398E-8B7C-4706-A0F8-2B49285F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A469-CB3A-4B95-869E-AD6CD28D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9D3D-CA22-4CE4-A798-F7F8B765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3B2-CF4B-4D45-8A92-2EEABFA6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5FB6-EBC0-4C89-8311-39F51B4F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D719-43A4-4C18-AE98-0CAA257E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74BD-3ABC-48F1-90B3-8A8B2AA8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5591-52E1-4E34-B1B0-D948947C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9DBB-05D0-4F80-B88C-E2FAAD04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A53B9-9DA6-4EC5-93DC-3411FCF5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6442F-97C1-4352-9AB3-C41F6CF2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D2364-F319-4236-B550-F4FCBF1A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2640F-5B8C-4DD9-9D61-AEEAB17F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D5056-7458-4233-9D86-564CB03B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E37-6478-4E39-95FB-4A193CB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AFD71-8785-4897-A2CA-F0E4BEF1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B02E7-4650-4268-A6F2-65FDDD36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FA7F7-8414-4A54-957C-7FD9407F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8CD4A-5BA5-490B-937D-D456170E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8E80F-FDFE-4D0F-B1D9-BC21DFF6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9F0FA-B690-4E20-A610-F527860A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D8F20-8E76-4D89-BEC7-5E068DD6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A79E-F3E3-46DC-9BE1-21CFFB03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258E-54A6-47AB-B777-2321D68A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36B23-E258-4F45-ADD5-C6CA22C5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21E-3304-4479-AD2A-9AEF1021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43C8A-6523-4266-94D4-807CC995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A31C-9BD5-4BD8-A7B9-833C8158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A3331-13D2-4843-9067-A2417023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E7C9-5CC0-4BB5-AF1F-79853BEF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48688-D092-4AEC-B6F7-2297657F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8775-5027-4D38-A32E-539EB17F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7594-0EB6-4E7B-98B8-3B4416F4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B2914-0F45-438A-8DA9-B7FD5E55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E52C-5AAF-441A-8163-ABF7345E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D2263-17B3-4BA5-AD88-0913471A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DE3-CE04-4739-94D0-D2BCB2F6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210A9-AAD6-458B-ABCB-B71A8503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67540-00FA-4FB5-82F3-BE3E74D4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8F58D-4E34-4676-A795-0391B4CE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3B37C-81D0-44D8-86FA-56E9BA7F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278F6-8806-4BEC-9FC1-87992F5F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F5955-C4B7-4A6D-B29D-0B1FA446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3D289-4EAE-4397-9410-A3F0D896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A1E0A-FCF4-4C37-BC14-EA11592B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EA95B-1545-4335-BB00-EA667A6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FB3F6-9DB4-4033-8B5B-0D3B7417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559-B60C-477F-B025-D06061F6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A2719-8976-4719-9AC3-263C98BE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B8EFB-1FDD-4DE1-AC16-52D294AA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68B62-1E72-46E8-9AD2-EFBC25A9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E255B-9437-4951-8153-3D07B224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205DA-169B-400C-81C8-BF546113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4A5E7-7699-4336-9E29-C86D8153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2F3EC-E1F6-434D-9431-BB5B9B4F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48DF6-A6A1-417B-A476-7C7E7EFB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09F72-75C9-45B9-AA5D-60313E8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02760-4081-43D3-9054-1AE5FA50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80A-D7F3-4519-9B83-DD77F6D4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7EE0E-03F5-4EC5-8F6C-6463BC94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85AA3-5AB7-48A8-B8AD-870CFA92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1E7EE-DC9E-4951-9BDB-0D0E1984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6B778-8B0B-4F3B-AE5D-C956A5DC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09615-E267-42A6-AC6B-4A793F23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34D23-6F7F-4C3F-8941-DFF6351D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F335F-553B-44E5-A2A3-971B6141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9C48B-833E-4563-9316-20F4513D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AD829-7A7F-4FA3-8411-21A665CA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65892-FC87-4E4C-9721-1A6B7D98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789-5233-4DC2-8D69-90585D64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BB695-F8EE-42D3-8280-1B506CD9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FBAF62-9CF0-47DF-A374-66A04469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4F356-7A28-4AC0-A0AC-15F2AA28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38E40-2C0E-432C-91BA-D74FF08D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53864-F66C-4070-ACEE-FF7044C1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745-07E3-44AE-A50F-9480FA3F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BFB-0E1E-4979-B02D-0B734989DD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1590-9DE7-4A17-BBDC-EE58C5CC010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4409-E04B-43EB-9315-E10E415CDA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5AA2-4960-4BC2-8528-26E0034FAE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4513-98D2-4A48-BAA7-4887146874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7792-CCC3-49C5-A9F8-B6FDA81777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01B7-422E-4B89-B009-31D29103D30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ОРТФОЛИО УЧЕНИКА НАЧАЛЬНОЙ ШКОЛ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Ознакомительный материал на родительское собрани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дготовила Вилкова Светлана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МОУ СОШ № 3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РУКТУРА ПОРТФОЛИО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ТУЛЬНЫЙ ЛИ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ит основную информацию (фамилия имя и отчество; учебное заведение, класс), контактную информацию и фото уче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Й МИР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е имя" - информация о том, что означает имя, можно написать о знаменитых людях, носивших и носящих это имя. Если у ребенка редкая или интересная фамилия, можно найти информацию о том, что она означает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я семья" - здесь можно рассказать о каждом члене семьи или составить небольшой рассказ о своей семь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й город" - рассказ о родном городе (селе, деревне), о его интересных местах. Здесь же можно разместить нарисованную вместе с ребенком схему маршрута от дома до школы Важно чтобы на ней были отмечены опасные места (пересечения дорог, светофоры)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и друзья" - фотографии друзей, информация об их интересах, увлечениях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и увлечения" - небольшой рассказ о том, чем увлекается ребенок. Здесь же можно написать о занятиях в спортивной секции, учебе в музыкальной школе или других учебных заведениях дополнительного образования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я школа" - рассказ о школе и о педагогах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"Мои любимые школьные предметы" - небольшие заметки о любимых школьных предметах, построенные по принципу "мне нравится..., потому что...". Также неплох вариант с названием "Школьные предметы". При этом ребенок может высказаться о каждом предмете, найдя в нём что-то важное и нужное для себя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Я УЧЁБА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этом разделе заголовки листов посвящены конкретному школьному предмету. Ученик наполняет этот раздел удачно написанными контрольными работами, интересными проектами, отзывами о прочитанных книгах, графиками роста скорости чтения, творческими работ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Я ОБЩЕСТВЕННАЯ РАБОТА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мероприятия, которые проводятся вне рамок учебной деятельности можно отнести к общественной работе (поручениям). Может быть, ребенок играл роль в школьном спектакле, или читал стихи на торжественной линейке, или оформил стенгазету к празднику или выступал на утреннике… Вариантов очень много. Оформлять этот раздел желательно с использованием фотографий и кратких сообщений на те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Ё ТВОРЧЕСТВО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этот раздел ребенок помещает свои творческие работы: рисунки, сказки, стихи. Если выполнена объемная работа (поделка), нужно поместить ее фотографию. Родителям необходимо предоставить полную свободу ребенку при наполнении этого раздела!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ажно! Если работа принимала участие в выставке или участвовала в конкурсе, также необходимо дать информацию об этом мероприятии: название, когда, где и кем проводилось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Хорошо бы дополнить это сообщение фотографией. Если событие освещалось в СМИ или Интернете - надо найти эту информацию. Если проводилось Интернет-порталом, сделать распечатку тематической страничк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И ВПЕЧАТЛЕНИЯ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начальной школе дети принимают активное участие в экскурсионно-познавательных программах, ходят в театр, на выставки, посещают музеи. Необходимо в завершение экскурсии или похода предложить ребенку творческое домашнее задание, выполняя которое, он не только вспомнит содержание экскурсии, но и получит возможность выразить свои впечатления. Если в школе это не практикуется, родителям имеет смысл прийти на помощь учителю и разработать и размножить типовой бланк "Творческого задания". В конце учебного года возможно проведение презентации творческих заданий с обязательным награждением лучших работ в нескольких номинация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МОИ ДОСТИЖЕНИЯ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десь размещаются грамоты, сертификаты, дипломы, благодарственные письма, а также итоговые аттестационные ведомости. Причем в начальной школе не следует разделять по важности успехи в учебе (похвальный лист) и успехи, например, в спорте (диплом). Лучше выбрать расположение не в порядке значимости, а, например, в хронологическом порядк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ОТЗЫВЫ И ПОЖЕЛАНИЯ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портфолио ученика начальной школы этот раздел включают не часто. А жаль! Ничто так не повышает самооценку ребенка, как положительная оценка педагогом его стараний. К сожалению дневники школьников пестрят либо нелицеприятными замечаниями типа "Не готов к уроку!", либо ничего не отражающей похвалой типа "Молодец!". А что если вместо того же "Молодец!" дать небольшой отзыв в портфолио? Например: "Принял активное участие в подготовке к внеклассному мероприятию "Цена Победы". Выучил и великолепно рассказал стихотворение. Самостоятельно подготовил стенгазету, при этом привлек к оформлению своих товарищей."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АЗДЕЛ "РАБОТЫ, КОТОРЫМИ Я ГОРЖУСЬ"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начале нового учебного года необходимо внимательно изучить портфолио, проанализировать собранный в нем материал. При переходе в старший класс содержимое всех разделов надо полностью обнови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нее значимые работы и документы извлекаются (можно поместить в отдельную папку), а то, что представляет бОльшую ценность, размещается в специальном разделе. Его можно озаглавить "РАБОТЫ, КОТОРЫМИ Я ГОРЖУСЬ"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АЖНО ПОМНИТЬ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ервом классе, когда ребенок только начинает работать над составлением портфолио, без помощи родителей ему не обойтись. Но по мере того, как он взрослеет эту помощь надо сводить к минимуму. Старайтесь с самого начала построить работу ребенка таким образом, чтобы он сам прикладывал определенные усилия к формированию портфолио. В процессе работы неизбежно происходит процесс осмысления своих достижений, формирование личного отношения к полученным результатам и осознание своих возможнос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И И ЗАДАЧ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дной из основных задач обучения и воспитания в начальной школе является выявление и развитие индивидуальных творческих способностей ребенк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270320" y="836280"/>
            <a:ext cx="36576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сновные цели и задачи ведения портфолио в начальных классах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создание ситуации успеха для каждого ученика, повышение самооценки и уверенности в собственных возможностях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максимальное раскрытие индивидуальных способностей каждого ребенка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развитие познавательных интересов учащихся и формирование готовности к самостоятельному познанию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формирование установки на творческую деятельность и умений творческой деятельности, развитие мотивации дальнейшего творческого роста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формирование положительных моральных и нравственных качеств личности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приобретение навыков рефлексии, формирование умения анализировать собственные интересы, склонности, потребности и соотносить их с имеющимися возможностями ("я реальный", "я идеальный");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формирование жизненных идеалов, стимулирование стремления к самосовершенствованию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ЛАВНАЯ МЫСЛЬ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вы обратили внимание на то, что постепенно "человек для общества" уступает место "человеку для себя"? Вот поэтому и главные усилия в сфере образования теперь предлагается направлять на развитие прежде всего тех способностей, которые не вытекают из каких-то абстрактных "общественных потребностей", а требуются самому человеку для успешной самоактуализации и самореализации, для продвижения к целям, которые человек поставил себе са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ГЛАВНОЕ НЕ ПОБЕДА, ГЛАВНОЕ - УЧАСТ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условная ценность портфолио заключается в том, что оно способствует повышению самооценки ученика, максимальному раскрытию индивидуальных возможностей каждого ребенка, развитию мотивации дальнейшего творческого роста. Поэтому крайне важно усвоить для себя и пояснить ребенку, что составление портфолио - это не гонка за дипломами и всевозможными грамотами! Важен сам процесс участия в учебной деятельности или творческой работе, а не его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ЕМ, КТО БУДЕТ УЧИТЬСЯ В 8-9 КЛАСС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иказом Министерства образования № 2783 от 18.07.2002 г. утверждена "Концепция профильного обучения на старшей ступени общего образования". Вот выдержка из главы "Предпрофильная подготовка (на второй ступени общего образования) этого документа 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. 3. Итоговая аттестация выпускников основной шко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 организация поступления в старшую профильную школ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существующей практике число желающих продолжить образование в старших классах определенного общеобразовательного учреждения (лицея, гимназии) больше, чем реальные возможности приема в эти классы. Возникает ситуация конкурсного приема, которая может стать особенно актуальной в условиях перехода на профильное обучение. Поэтому необходимо решить вопрос об открытой, гласной процедуре проведения подобного конкурсного набор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ледует отметить, что конкурсный набор в старшие классы отдельных общеобразовательных учреждений не входит в противоречие с законодательно закрепленным правом получения каждым ребенком общего (полного) среднего образования (ст. 16, п.1, абз. 2 Закона Российской Федерации "Об образовании"). Закон гарантирует гражданам право получения образования этого уровня, что, однако, не есть синоним права получения его в конкретном общеобразовательном учреждении. В связи с этим представляется целесообразным, наряду с итоговой аттестацией выпускников основной школы предусмотреть определенную форму, позволяющую объективно оценить уровень готовности учащихся к продолжению образования по тому или иному профилю, а также создать основу для внедрения в массовую практику механизмов рационального и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прозрачного конкурсного набора в старшую профильную школ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ажную роль должно сыграть введение накопительной оценки (портфолио - "портфель достижений"), которая учитывает различные достижения учащихся по исполнению тех или иных проектов, написанию рефератов, творческих работ, реальные результаты на курсах по выбору и т.п. Муниципальные органы управления образованием должны обеспечить возможность получения общего среднего (полного) образования каждому школьнику, изъявившему желание в его получе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. Для поступления в вуз необходимо закончить специальный профильный класс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2. Поступление в профильный класс осуществляется на конкурсной основе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3. В конкурсном отборе участвует не только аттестат, но и портфолио (8-9 класс)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4. Управления образования администрации области своим приказом вводит в действие "Положение индивидуальной накопительной оценке обучающихся основной школы общеобразовательных учреждений области"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5. В "Положении о портфолио" обязательно прописывают: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a) цели и задачи портфолио,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b) структуру портфолио,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c) форму учета портфолио в определении образовательного рейтинга выпускника основной (общей) школы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6. В портфолио есть обязательный раздел "Итоговая ведомость". Администрацией МОУ (школы) выставляется итоговая оценка, скрепляется подписью директора и печатью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20872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ЧЕМ ПОРТФОЛИО УЧЕНИКУ 9 КЛАССА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Цель портфолио - выполнять роль индивидуальной накопительной оценки и, наряду с результатами экзаменов, определять рейтинг выпускников основной школ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м всем придется привыкнуть к формуле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ттестат + портфолио = образовательный рейтинг выпускника шко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рядок исчисления удельного "веса" портфолио в суммарном образовательном рейтинге ученика предполагает два вариант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. Вес портфолио может соответствовать весу одного экзамена - max 5 балл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. Вес портфолио может соответствовать весу двух экзаменов - max 10 балл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4:59:16Z</dcterms:created>
  <dc:creator>1</dc:creator>
  <dc:description/>
  <dc:language>en-US</dc:language>
  <cp:lastModifiedBy>1</cp:lastModifiedBy>
  <dcterms:modified xsi:type="dcterms:W3CDTF">2011-09-29T15:49:51Z</dcterms:modified>
  <cp:revision>6</cp:revision>
  <dc:subject/>
  <dc:title>Портфолио ученика начальной школы</dc:title>
</cp:coreProperties>
</file>