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982-37A4-4095-9A64-A9597A33D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AED-644A-40D0-A588-E6ED5EE30F3A}" type="slidenum">
              <a:rPr b="0" lang="ru-RU" sz="12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на уроках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559-9076-4717-B8C5-930FFC13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A72-0C03-4E67-A57C-2C7123F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B1F-6A0D-4025-B40C-45961152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785-7DBD-4A56-99BA-33C39A39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757-DD1C-4EB8-BF3D-824E0359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34D-CAE8-4C36-9BC6-475F7ACC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963-E5F4-4DBC-BDD0-8F68EC4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853-C2DA-4746-9DA0-E63DEAB2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08F-995F-4043-BB13-61D2053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C70-D9E2-45F9-8CE6-3278B0B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4D0-42D0-48BE-B8B4-71AADD0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569-2C10-4084-91BF-3469755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D3D9-3E0A-4C10-9D56-9008551C4EDD}" type="slidenum">
              <a:rPr b="0" lang="ru-RU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МОУ «Средняя общеобразовательная школа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№11 им.А.И.Фатьянова»</a:t>
            </a:r>
            <a:br>
              <a:rPr sz="2000"/>
            </a:b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доровьесберегающие технологии на уроках математики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Трыкина О.В., учитель математики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 кв.категория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3.Соблюдение гигиенических требований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вежий воздух;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птимальный тепловой режим-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хорошая освещённость/норма-300люкс на поверхности парты и 500 люкс- классной доски/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Чистота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4.Благоприятный эмоциональный настрой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5.Физкультминутки и другие оздоровительные моменты на уроке- их место, содержание и продолжительность.Норма-на15-20мин урока по 1мин из 3-х лёгких упражнений с 3-4 повторениями каждого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72" name="Picture 6" descr="Изображение 431"/>
          <p:cNvPicPr/>
          <p:nvPr/>
        </p:nvPicPr>
        <p:blipFill>
          <a:blip r:embed="rId1"/>
          <a:stretch/>
        </p:blipFill>
        <p:spPr>
          <a:xfrm>
            <a:off x="5210280" y="1052640"/>
            <a:ext cx="2914560" cy="21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Изображение 447"/>
          <p:cNvPicPr/>
          <p:nvPr/>
        </p:nvPicPr>
        <p:blipFill>
          <a:blip r:embed="rId2"/>
          <a:stretch/>
        </p:blipFill>
        <p:spPr>
          <a:xfrm>
            <a:off x="5208480" y="3573360"/>
            <a:ext cx="291636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Точечный массаж биологически активных точек лица и головы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)точка на лбу между бровями(«третий глаз»):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2)Парные точки по краям крыльев носа(помогает восстановить обоняние)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3)Точка посредине верхнего края подбородка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4)Парные точки в височных ямках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5) Три точки на затылке в углублениях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6) Парные точки в области уха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) потягивание за мочки сверху вниз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2)потягивание ушной раковины вверх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3)Потягивание ушной раковины к наружи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4) Круговые движения ушной раковины по часовой стрелке и против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Организация учебного труда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БЩИЕ ПРАВИЛА РАБОТЫ ПО ИЗУЧЕНИЮ МАТЕМАТИКЕ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/рациональная организация учебного труда/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1.Работа по изучению математике должна быть систематической, ежедневной, без каких либо перерывов, за исключением, конечно, дней отдыха.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2.Надо стремиться к тому, чтобы сразу понять все, что изучается на уроках, надо освоить все действия, все умения,  которые отрабатываются на уроках. Главное, что для этого надо делать,- это быть на уроках математики активным участником.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3.Надо стараться “докапываться” до главного, до общих основ изучаемого материала, т.е.  главной целью изучения математики должно быть усвоение и овладение идеями и методами математической науки.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4.Надо приучить себя к постоянному самоконтролю и самооценке своей учебной работы. Мы учимся не для учителя, не для родителей, а для себя, и вся наша работа- </a:t>
            </a:r>
            <a:r>
              <a:rPr b="0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ЭТО РАБОТА ДЛЯ СЕБЯ!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Профилактика стрессов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80" name="Picture 7" descr="Изображение 435"/>
          <p:cNvPicPr/>
          <p:nvPr/>
        </p:nvPicPr>
        <p:blipFill>
          <a:blip r:embed="rId1"/>
          <a:stretch/>
        </p:blipFill>
        <p:spPr>
          <a:xfrm>
            <a:off x="684360" y="1600200"/>
            <a:ext cx="4103640" cy="3916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абота в парах, в группах как на местах, так и у доски, где ведомый, более «слабый» ученик чувствует поддержку товарища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731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пособствует более глубокому усвоению учебного материала, рождению интереса к процессу учения, возникает чувство удовлетворённости не только результатом, но и самим процессом учения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Arial"/>
              </a:rPr>
              <a:t>«Единственная красота, которую я знаю,-</a:t>
            </a:r>
            <a:br>
              <a:rPr sz="4800"/>
            </a:br>
            <a:r>
              <a:rPr b="0" i="1" lang="ru-RU" sz="4800" spc="-1" strike="noStrike">
                <a:solidFill>
                  <a:srgbClr val="660033"/>
                </a:solidFill>
                <a:latin typeface="Arial"/>
              </a:rPr>
              <a:t>это здоровье»</a:t>
            </a:r>
            <a:br>
              <a:rPr sz="4800"/>
            </a:br>
            <a:r>
              <a:rPr b="0" i="1" lang="ru-RU" sz="4800" spc="-1" strike="noStrike">
                <a:solidFill>
                  <a:srgbClr val="660033"/>
                </a:solidFill>
                <a:latin typeface="Arial"/>
              </a:rPr>
              <a:t>                              Гейне</a:t>
            </a:r>
            <a:endParaRPr b="0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703764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Минздрав сообщает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790560" y="1835280"/>
          <a:ext cx="7535880" cy="40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835280"/>
                    <a:ext cx="753588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Подростки 15-17 лет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1место-болезни органов дыхани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2 место- болезни глаза и его придаточного аппарат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3 место- болезни костно-мышечной системы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Рост онкологической заболеваемости у детей до 14 лет на 26,2%, среди подростков15-17 лет-на83,3%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8" name="Picture 54" descr="Изображение 313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5840" y="188640"/>
            <a:ext cx="8497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«Здоровье- не всё, но все без здоровья –ничто»</a:t>
            </a:r>
            <a:br>
              <a:rPr sz="3600"/>
            </a:b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Сократ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Здоровье ученика в норме, если:</a:t>
            </a:r>
            <a:br>
              <a:rPr sz="4000"/>
            </a:b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а) в физическом плане- умеет преодолевать усталость, здоровье позволяет ему справляться с учебной нагрузкой;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б)в социальном плане- он коммуникабелен, общителен;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)в эмоциональном плане- уравновешен, способен удивляться и восхищаться;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г) в интеллектуальном плане- проявляет хорошие умственные способности, наблюдательность, воображение, самообучаемость;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) в нравственном плане- честен, самокритичен, эмпатичен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Организация учебной деятельности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1.Строгая дозировка учебной нагрузки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Число видов учебной деятельности: опрос учащихся, ответы на вопросы, решение примеров, задач и т.д. Норма -4-7видов за урок.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- норма 7-10мин;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число видов преподаваний: словесный, наглядный, самостоятельная работа и т.д. Норма- не менее трёх;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чередование видов преподавания. Норма- не позже чем через 10-15 мин.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4" name="Picture 8" descr="Изображение 437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Получение новой информации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8332560" cy="3557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тсюда вывод: необходимо использовать различные источники информации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2.Построение урока с учётом работоспособности учащихся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Недельная динамика работоспособности учащихся средних и старших классов :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онедель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- происходит «врабатывание» в учебную работу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торник и среда-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дни оптимальной работоспособности, период оптимальной регуляции физиологических функций;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Четверг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-работоспособность падает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ятница и суббота-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низкий уровень работоспособности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ервые 3-5минут любого урока занимает «врабатывание», т.е.привыкание к учителю и предмету. Оптимально устойчивая работоспособность  длится 20-25 минут для среднего звена и 25-30-для старшеклассников. После этого на несколько минут наступает «предутомление», или неустойчивая работоспособность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1:59:48Z</dcterms:created>
  <dc:creator>саша</dc:creator>
  <dc:description/>
  <dc:language>en-US</dc:language>
  <cp:lastModifiedBy>Алекс</cp:lastModifiedBy>
  <dcterms:modified xsi:type="dcterms:W3CDTF">2011-12-20T18:49:47Z</dcterms:modified>
  <cp:revision>14</cp:revision>
  <dc:subject/>
  <dc:title>«Единственная красота, которую я знаю,- это здоровье»                               Гейне</dc:title>
</cp:coreProperties>
</file>