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9A7-7E03-4571-B54D-AA94FDAE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326-4173-4DDF-B304-65A6E91F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B7F-2002-4F3B-98B6-93182BFD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E67-1165-4E59-BE8A-A250CE11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009-66C5-4B24-8420-1074B59C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7A0-846E-479B-8112-607E52C9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DF8-44B2-42C3-A5ED-C837C863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16E-06DD-45A5-8FE6-0B78D165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0CA-CA64-405D-AD3A-E3579A57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F76-FA8D-46AC-85CA-98CC9374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F8F-2BC5-4B99-84DB-812A8B4B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625-826E-4453-A4D1-44704E34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6748-5B25-4DAF-8CDC-DC4EF9583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Живая зыб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 водной стихии в искус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05120"/>
          <a:ext cx="3962520" cy="3108240"/>
        </p:xfrm>
        <a:graphic>
          <a:graphicData uri="http://schemas.openxmlformats.org/drawingml/2006/table">
            <a:tbl>
              <a:tblPr/>
              <a:tblGrid>
                <a:gridCol w="322200"/>
                <a:gridCol w="314280"/>
                <a:gridCol w="320760"/>
                <a:gridCol w="297000"/>
                <a:gridCol w="320400"/>
                <a:gridCol w="324000"/>
                <a:gridCol w="293760"/>
                <a:gridCol w="295200"/>
                <a:gridCol w="295200"/>
                <a:gridCol w="295200"/>
                <a:gridCol w="295560"/>
                <a:gridCol w="293400"/>
                <a:gridCol w="295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301"/>
          <p:cNvSpPr/>
          <p:nvPr/>
        </p:nvSpPr>
        <p:spPr>
          <a:xfrm>
            <a:off x="4495680" y="3581640"/>
            <a:ext cx="443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Художник, изображающий водную     стих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ающийся русский марин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звание картины Айвазовского (Редкое явление приро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«Буря на ….океан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мо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«Девятый 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естите на свою работу парусник, который больше всего соответствует вашему настроению на сегодняшнем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2362320" y="3048120"/>
            <a:ext cx="2104920" cy="2162160"/>
            <a:chOff x="2362320" y="3048120"/>
            <a:chExt cx="2104920" cy="2162160"/>
          </a:xfrm>
        </p:grpSpPr>
        <p:sp>
          <p:nvSpPr>
            <p:cNvPr id="87" name="AutoShape 5"/>
            <p:cNvSpPr/>
            <p:nvPr/>
          </p:nvSpPr>
          <p:spPr>
            <a:xfrm>
              <a:off x="2362320" y="3048120"/>
              <a:ext cx="210492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"/>
            <p:cNvSpPr/>
            <p:nvPr/>
          </p:nvSpPr>
          <p:spPr>
            <a:xfrm>
              <a:off x="2380680" y="3062160"/>
              <a:ext cx="2066400" cy="2128320"/>
            </a:xfrm>
            <a:custGeom>
              <a:avLst/>
              <a:gdLst>
                <a:gd name="textAreaLeft" fmla="*/ 0 w 2066400"/>
                <a:gd name="textAreaRight" fmla="*/ 2066760 w 2066400"/>
                <a:gd name="textAreaTop" fmla="*/ 0 h 2128320"/>
                <a:gd name="textAreaBottom" fmla="*/ 2128680 h 2128320"/>
              </a:gdLst>
              <a:ahLst/>
              <a:rect l="textAreaLeft" t="textAreaTop" r="textAreaRight" b="textAreaBottom"/>
              <a:pathLst>
                <a:path w="4859" h="5005">
                  <a:moveTo>
                    <a:pt x="316" y="0"/>
                  </a:moveTo>
                  <a:lnTo>
                    <a:pt x="176" y="202"/>
                  </a:lnTo>
                  <a:lnTo>
                    <a:pt x="265" y="348"/>
                  </a:lnTo>
                  <a:lnTo>
                    <a:pt x="249" y="370"/>
                  </a:lnTo>
                  <a:lnTo>
                    <a:pt x="229" y="399"/>
                  </a:lnTo>
                  <a:lnTo>
                    <a:pt x="207" y="439"/>
                  </a:lnTo>
                  <a:lnTo>
                    <a:pt x="194" y="461"/>
                  </a:lnTo>
                  <a:lnTo>
                    <a:pt x="180" y="488"/>
                  </a:lnTo>
                  <a:lnTo>
                    <a:pt x="165" y="519"/>
                  </a:lnTo>
                  <a:lnTo>
                    <a:pt x="152" y="550"/>
                  </a:lnTo>
                  <a:lnTo>
                    <a:pt x="136" y="585"/>
                  </a:lnTo>
                  <a:lnTo>
                    <a:pt x="120" y="623"/>
                  </a:lnTo>
                  <a:lnTo>
                    <a:pt x="114" y="643"/>
                  </a:lnTo>
                  <a:lnTo>
                    <a:pt x="107" y="663"/>
                  </a:lnTo>
                  <a:lnTo>
                    <a:pt x="98" y="685"/>
                  </a:lnTo>
                  <a:lnTo>
                    <a:pt x="92" y="707"/>
                  </a:lnTo>
                  <a:lnTo>
                    <a:pt x="78" y="754"/>
                  </a:lnTo>
                  <a:lnTo>
                    <a:pt x="65" y="802"/>
                  </a:lnTo>
                  <a:lnTo>
                    <a:pt x="52" y="853"/>
                  </a:lnTo>
                  <a:lnTo>
                    <a:pt x="40" y="909"/>
                  </a:lnTo>
                  <a:lnTo>
                    <a:pt x="29" y="966"/>
                  </a:lnTo>
                  <a:lnTo>
                    <a:pt x="20" y="1026"/>
                  </a:lnTo>
                  <a:lnTo>
                    <a:pt x="7" y="1155"/>
                  </a:lnTo>
                  <a:lnTo>
                    <a:pt x="0" y="1296"/>
                  </a:lnTo>
                  <a:lnTo>
                    <a:pt x="3" y="1447"/>
                  </a:lnTo>
                  <a:lnTo>
                    <a:pt x="7" y="1527"/>
                  </a:lnTo>
                  <a:lnTo>
                    <a:pt x="14" y="1609"/>
                  </a:lnTo>
                  <a:lnTo>
                    <a:pt x="25" y="1695"/>
                  </a:lnTo>
                  <a:lnTo>
                    <a:pt x="38" y="1784"/>
                  </a:lnTo>
                  <a:lnTo>
                    <a:pt x="45" y="1828"/>
                  </a:lnTo>
                  <a:lnTo>
                    <a:pt x="54" y="1872"/>
                  </a:lnTo>
                  <a:lnTo>
                    <a:pt x="63" y="1917"/>
                  </a:lnTo>
                  <a:lnTo>
                    <a:pt x="72" y="1961"/>
                  </a:lnTo>
                  <a:lnTo>
                    <a:pt x="83" y="2005"/>
                  </a:lnTo>
                  <a:lnTo>
                    <a:pt x="94" y="2050"/>
                  </a:lnTo>
                  <a:lnTo>
                    <a:pt x="105" y="2092"/>
                  </a:lnTo>
                  <a:lnTo>
                    <a:pt x="118" y="2136"/>
                  </a:lnTo>
                  <a:lnTo>
                    <a:pt x="129" y="2178"/>
                  </a:lnTo>
                  <a:lnTo>
                    <a:pt x="143" y="2220"/>
                  </a:lnTo>
                  <a:lnTo>
                    <a:pt x="149" y="2243"/>
                  </a:lnTo>
                  <a:lnTo>
                    <a:pt x="156" y="2262"/>
                  </a:lnTo>
                  <a:lnTo>
                    <a:pt x="165" y="2285"/>
                  </a:lnTo>
                  <a:lnTo>
                    <a:pt x="172" y="2305"/>
                  </a:lnTo>
                  <a:lnTo>
                    <a:pt x="178" y="2327"/>
                  </a:lnTo>
                  <a:lnTo>
                    <a:pt x="185" y="2347"/>
                  </a:lnTo>
                  <a:lnTo>
                    <a:pt x="194" y="2367"/>
                  </a:lnTo>
                  <a:lnTo>
                    <a:pt x="200" y="2387"/>
                  </a:lnTo>
                  <a:lnTo>
                    <a:pt x="207" y="2409"/>
                  </a:lnTo>
                  <a:lnTo>
                    <a:pt x="216" y="2429"/>
                  </a:lnTo>
                  <a:lnTo>
                    <a:pt x="223" y="2449"/>
                  </a:lnTo>
                  <a:lnTo>
                    <a:pt x="231" y="2469"/>
                  </a:lnTo>
                  <a:lnTo>
                    <a:pt x="238" y="2488"/>
                  </a:lnTo>
                  <a:lnTo>
                    <a:pt x="247" y="2508"/>
                  </a:lnTo>
                  <a:lnTo>
                    <a:pt x="254" y="2528"/>
                  </a:lnTo>
                  <a:lnTo>
                    <a:pt x="263" y="2548"/>
                  </a:lnTo>
                  <a:lnTo>
                    <a:pt x="269" y="2568"/>
                  </a:lnTo>
                  <a:lnTo>
                    <a:pt x="278" y="2586"/>
                  </a:lnTo>
                  <a:lnTo>
                    <a:pt x="287" y="2606"/>
                  </a:lnTo>
                  <a:lnTo>
                    <a:pt x="296" y="2626"/>
                  </a:lnTo>
                  <a:lnTo>
                    <a:pt x="311" y="2663"/>
                  </a:lnTo>
                  <a:lnTo>
                    <a:pt x="329" y="2701"/>
                  </a:lnTo>
                  <a:lnTo>
                    <a:pt x="345" y="2737"/>
                  </a:lnTo>
                  <a:lnTo>
                    <a:pt x="363" y="2774"/>
                  </a:lnTo>
                  <a:lnTo>
                    <a:pt x="380" y="2810"/>
                  </a:lnTo>
                  <a:lnTo>
                    <a:pt x="398" y="2845"/>
                  </a:lnTo>
                  <a:lnTo>
                    <a:pt x="414" y="2878"/>
                  </a:lnTo>
                  <a:lnTo>
                    <a:pt x="431" y="2914"/>
                  </a:lnTo>
                  <a:lnTo>
                    <a:pt x="449" y="2947"/>
                  </a:lnTo>
                  <a:lnTo>
                    <a:pt x="467" y="2978"/>
                  </a:lnTo>
                  <a:lnTo>
                    <a:pt x="485" y="3011"/>
                  </a:lnTo>
                  <a:lnTo>
                    <a:pt x="500" y="3042"/>
                  </a:lnTo>
                  <a:lnTo>
                    <a:pt x="518" y="3073"/>
                  </a:lnTo>
                  <a:lnTo>
                    <a:pt x="536" y="3102"/>
                  </a:lnTo>
                  <a:lnTo>
                    <a:pt x="551" y="3131"/>
                  </a:lnTo>
                  <a:lnTo>
                    <a:pt x="569" y="3160"/>
                  </a:lnTo>
                  <a:lnTo>
                    <a:pt x="585" y="3189"/>
                  </a:lnTo>
                  <a:lnTo>
                    <a:pt x="600" y="3215"/>
                  </a:lnTo>
                  <a:lnTo>
                    <a:pt x="616" y="3240"/>
                  </a:lnTo>
                  <a:lnTo>
                    <a:pt x="631" y="3266"/>
                  </a:lnTo>
                  <a:lnTo>
                    <a:pt x="647" y="3291"/>
                  </a:lnTo>
                  <a:lnTo>
                    <a:pt x="663" y="3313"/>
                  </a:lnTo>
                  <a:lnTo>
                    <a:pt x="676" y="3337"/>
                  </a:lnTo>
                  <a:lnTo>
                    <a:pt x="689" y="3359"/>
                  </a:lnTo>
                  <a:lnTo>
                    <a:pt x="705" y="3379"/>
                  </a:lnTo>
                  <a:lnTo>
                    <a:pt x="718" y="3399"/>
                  </a:lnTo>
                  <a:lnTo>
                    <a:pt x="742" y="3437"/>
                  </a:lnTo>
                  <a:lnTo>
                    <a:pt x="765" y="3470"/>
                  </a:lnTo>
                  <a:lnTo>
                    <a:pt x="785" y="3499"/>
                  </a:lnTo>
                  <a:lnTo>
                    <a:pt x="802" y="3523"/>
                  </a:lnTo>
                  <a:lnTo>
                    <a:pt x="818" y="3545"/>
                  </a:lnTo>
                  <a:lnTo>
                    <a:pt x="838" y="3572"/>
                  </a:lnTo>
                  <a:lnTo>
                    <a:pt x="845" y="3583"/>
                  </a:lnTo>
                  <a:lnTo>
                    <a:pt x="722" y="3610"/>
                  </a:lnTo>
                  <a:lnTo>
                    <a:pt x="907" y="3767"/>
                  </a:lnTo>
                  <a:lnTo>
                    <a:pt x="1400" y="3758"/>
                  </a:lnTo>
                  <a:lnTo>
                    <a:pt x="1207" y="3838"/>
                  </a:lnTo>
                  <a:lnTo>
                    <a:pt x="1191" y="3924"/>
                  </a:lnTo>
                  <a:lnTo>
                    <a:pt x="1158" y="3918"/>
                  </a:lnTo>
                  <a:lnTo>
                    <a:pt x="1118" y="3911"/>
                  </a:lnTo>
                  <a:lnTo>
                    <a:pt x="1065" y="3906"/>
                  </a:lnTo>
                  <a:lnTo>
                    <a:pt x="934" y="3904"/>
                  </a:lnTo>
                  <a:lnTo>
                    <a:pt x="776" y="3924"/>
                  </a:lnTo>
                  <a:lnTo>
                    <a:pt x="736" y="3933"/>
                  </a:lnTo>
                  <a:lnTo>
                    <a:pt x="698" y="3946"/>
                  </a:lnTo>
                  <a:lnTo>
                    <a:pt x="683" y="3953"/>
                  </a:lnTo>
                  <a:lnTo>
                    <a:pt x="665" y="3962"/>
                  </a:lnTo>
                  <a:lnTo>
                    <a:pt x="649" y="3971"/>
                  </a:lnTo>
                  <a:lnTo>
                    <a:pt x="634" y="3980"/>
                  </a:lnTo>
                  <a:lnTo>
                    <a:pt x="618" y="3988"/>
                  </a:lnTo>
                  <a:lnTo>
                    <a:pt x="605" y="3997"/>
                  </a:lnTo>
                  <a:lnTo>
                    <a:pt x="591" y="4008"/>
                  </a:lnTo>
                  <a:lnTo>
                    <a:pt x="578" y="4017"/>
                  </a:lnTo>
                  <a:lnTo>
                    <a:pt x="567" y="4028"/>
                  </a:lnTo>
                  <a:lnTo>
                    <a:pt x="556" y="4039"/>
                  </a:lnTo>
                  <a:lnTo>
                    <a:pt x="545" y="4048"/>
                  </a:lnTo>
                  <a:lnTo>
                    <a:pt x="534" y="4059"/>
                  </a:lnTo>
                  <a:lnTo>
                    <a:pt x="525" y="4070"/>
                  </a:lnTo>
                  <a:lnTo>
                    <a:pt x="516" y="4079"/>
                  </a:lnTo>
                  <a:lnTo>
                    <a:pt x="507" y="4088"/>
                  </a:lnTo>
                  <a:lnTo>
                    <a:pt x="500" y="4099"/>
                  </a:lnTo>
                  <a:lnTo>
                    <a:pt x="478" y="4130"/>
                  </a:lnTo>
                  <a:lnTo>
                    <a:pt x="458" y="4161"/>
                  </a:lnTo>
                  <a:lnTo>
                    <a:pt x="583" y="4409"/>
                  </a:lnTo>
                  <a:lnTo>
                    <a:pt x="545" y="4412"/>
                  </a:lnTo>
                  <a:lnTo>
                    <a:pt x="456" y="4421"/>
                  </a:lnTo>
                  <a:lnTo>
                    <a:pt x="405" y="4429"/>
                  </a:lnTo>
                  <a:lnTo>
                    <a:pt x="351" y="4438"/>
                  </a:lnTo>
                  <a:lnTo>
                    <a:pt x="303" y="4449"/>
                  </a:lnTo>
                  <a:lnTo>
                    <a:pt x="265" y="4460"/>
                  </a:lnTo>
                  <a:lnTo>
                    <a:pt x="236" y="4476"/>
                  </a:lnTo>
                  <a:lnTo>
                    <a:pt x="211" y="4489"/>
                  </a:lnTo>
                  <a:lnTo>
                    <a:pt x="194" y="4505"/>
                  </a:lnTo>
                  <a:lnTo>
                    <a:pt x="178" y="4518"/>
                  </a:lnTo>
                  <a:lnTo>
                    <a:pt x="160" y="4549"/>
                  </a:lnTo>
                  <a:lnTo>
                    <a:pt x="209" y="4553"/>
                  </a:lnTo>
                  <a:lnTo>
                    <a:pt x="258" y="4562"/>
                  </a:lnTo>
                  <a:lnTo>
                    <a:pt x="311" y="4571"/>
                  </a:lnTo>
                  <a:lnTo>
                    <a:pt x="363" y="4587"/>
                  </a:lnTo>
                  <a:lnTo>
                    <a:pt x="400" y="4604"/>
                  </a:lnTo>
                  <a:lnTo>
                    <a:pt x="411" y="4616"/>
                  </a:lnTo>
                  <a:lnTo>
                    <a:pt x="418" y="4627"/>
                  </a:lnTo>
                  <a:lnTo>
                    <a:pt x="416" y="4640"/>
                  </a:lnTo>
                  <a:lnTo>
                    <a:pt x="405" y="4655"/>
                  </a:lnTo>
                  <a:lnTo>
                    <a:pt x="378" y="4700"/>
                  </a:lnTo>
                  <a:lnTo>
                    <a:pt x="383" y="4715"/>
                  </a:lnTo>
                  <a:lnTo>
                    <a:pt x="387" y="4720"/>
                  </a:lnTo>
                  <a:lnTo>
                    <a:pt x="396" y="4724"/>
                  </a:lnTo>
                  <a:lnTo>
                    <a:pt x="416" y="4731"/>
                  </a:lnTo>
                  <a:lnTo>
                    <a:pt x="438" y="4735"/>
                  </a:lnTo>
                  <a:lnTo>
                    <a:pt x="485" y="4742"/>
                  </a:lnTo>
                  <a:lnTo>
                    <a:pt x="525" y="4762"/>
                  </a:lnTo>
                  <a:lnTo>
                    <a:pt x="534" y="4768"/>
                  </a:lnTo>
                  <a:lnTo>
                    <a:pt x="543" y="4777"/>
                  </a:lnTo>
                  <a:lnTo>
                    <a:pt x="549" y="4786"/>
                  </a:lnTo>
                  <a:lnTo>
                    <a:pt x="558" y="4795"/>
                  </a:lnTo>
                  <a:lnTo>
                    <a:pt x="565" y="4802"/>
                  </a:lnTo>
                  <a:lnTo>
                    <a:pt x="571" y="4810"/>
                  </a:lnTo>
                  <a:lnTo>
                    <a:pt x="583" y="4826"/>
                  </a:lnTo>
                  <a:lnTo>
                    <a:pt x="591" y="4839"/>
                  </a:lnTo>
                  <a:lnTo>
                    <a:pt x="520" y="4910"/>
                  </a:lnTo>
                  <a:lnTo>
                    <a:pt x="687" y="4901"/>
                  </a:lnTo>
                  <a:lnTo>
                    <a:pt x="556" y="4979"/>
                  </a:lnTo>
                  <a:lnTo>
                    <a:pt x="802" y="4928"/>
                  </a:lnTo>
                  <a:lnTo>
                    <a:pt x="714" y="4997"/>
                  </a:lnTo>
                  <a:lnTo>
                    <a:pt x="916" y="4997"/>
                  </a:lnTo>
                  <a:lnTo>
                    <a:pt x="929" y="4979"/>
                  </a:lnTo>
                  <a:lnTo>
                    <a:pt x="936" y="4972"/>
                  </a:lnTo>
                  <a:lnTo>
                    <a:pt x="942" y="4961"/>
                  </a:lnTo>
                  <a:lnTo>
                    <a:pt x="951" y="4952"/>
                  </a:lnTo>
                  <a:lnTo>
                    <a:pt x="960" y="4941"/>
                  </a:lnTo>
                  <a:lnTo>
                    <a:pt x="971" y="4932"/>
                  </a:lnTo>
                  <a:lnTo>
                    <a:pt x="980" y="4923"/>
                  </a:lnTo>
                  <a:lnTo>
                    <a:pt x="991" y="4915"/>
                  </a:lnTo>
                  <a:lnTo>
                    <a:pt x="1002" y="4908"/>
                  </a:lnTo>
                  <a:lnTo>
                    <a:pt x="1020" y="4899"/>
                  </a:lnTo>
                  <a:lnTo>
                    <a:pt x="1040" y="4901"/>
                  </a:lnTo>
                  <a:lnTo>
                    <a:pt x="1054" y="4910"/>
                  </a:lnTo>
                  <a:lnTo>
                    <a:pt x="1065" y="4923"/>
                  </a:lnTo>
                  <a:lnTo>
                    <a:pt x="1089" y="4959"/>
                  </a:lnTo>
                  <a:lnTo>
                    <a:pt x="1098" y="4968"/>
                  </a:lnTo>
                  <a:lnTo>
                    <a:pt x="1107" y="4977"/>
                  </a:lnTo>
                  <a:lnTo>
                    <a:pt x="1118" y="4986"/>
                  </a:lnTo>
                  <a:lnTo>
                    <a:pt x="1134" y="4992"/>
                  </a:lnTo>
                  <a:lnTo>
                    <a:pt x="1149" y="4997"/>
                  </a:lnTo>
                  <a:lnTo>
                    <a:pt x="1169" y="5001"/>
                  </a:lnTo>
                  <a:lnTo>
                    <a:pt x="1218" y="5005"/>
                  </a:lnTo>
                  <a:lnTo>
                    <a:pt x="1349" y="4992"/>
                  </a:lnTo>
                  <a:lnTo>
                    <a:pt x="1422" y="4981"/>
                  </a:lnTo>
                  <a:lnTo>
                    <a:pt x="1458" y="4974"/>
                  </a:lnTo>
                  <a:lnTo>
                    <a:pt x="1493" y="4966"/>
                  </a:lnTo>
                  <a:lnTo>
                    <a:pt x="1525" y="4959"/>
                  </a:lnTo>
                  <a:lnTo>
                    <a:pt x="1556" y="4952"/>
                  </a:lnTo>
                  <a:lnTo>
                    <a:pt x="1609" y="4939"/>
                  </a:lnTo>
                  <a:lnTo>
                    <a:pt x="1642" y="4930"/>
                  </a:lnTo>
                  <a:lnTo>
                    <a:pt x="1656" y="4928"/>
                  </a:lnTo>
                  <a:lnTo>
                    <a:pt x="2087" y="4988"/>
                  </a:lnTo>
                  <a:lnTo>
                    <a:pt x="2109" y="4981"/>
                  </a:lnTo>
                  <a:lnTo>
                    <a:pt x="2136" y="4972"/>
                  </a:lnTo>
                  <a:lnTo>
                    <a:pt x="2169" y="4961"/>
                  </a:lnTo>
                  <a:lnTo>
                    <a:pt x="2209" y="4950"/>
                  </a:lnTo>
                  <a:lnTo>
                    <a:pt x="2231" y="4943"/>
                  </a:lnTo>
                  <a:lnTo>
                    <a:pt x="2255" y="4937"/>
                  </a:lnTo>
                  <a:lnTo>
                    <a:pt x="2280" y="4928"/>
                  </a:lnTo>
                  <a:lnTo>
                    <a:pt x="2307" y="4923"/>
                  </a:lnTo>
                  <a:lnTo>
                    <a:pt x="2333" y="4917"/>
                  </a:lnTo>
                  <a:lnTo>
                    <a:pt x="2360" y="4910"/>
                  </a:lnTo>
                  <a:lnTo>
                    <a:pt x="2415" y="4899"/>
                  </a:lnTo>
                  <a:lnTo>
                    <a:pt x="2469" y="4888"/>
                  </a:lnTo>
                  <a:lnTo>
                    <a:pt x="2522" y="4881"/>
                  </a:lnTo>
                  <a:lnTo>
                    <a:pt x="2575" y="4877"/>
                  </a:lnTo>
                  <a:lnTo>
                    <a:pt x="2667" y="4884"/>
                  </a:lnTo>
                  <a:lnTo>
                    <a:pt x="2704" y="4892"/>
                  </a:lnTo>
                  <a:lnTo>
                    <a:pt x="2735" y="4910"/>
                  </a:lnTo>
                  <a:lnTo>
                    <a:pt x="2749" y="4919"/>
                  </a:lnTo>
                  <a:lnTo>
                    <a:pt x="2764" y="4928"/>
                  </a:lnTo>
                  <a:lnTo>
                    <a:pt x="2782" y="4937"/>
                  </a:lnTo>
                  <a:lnTo>
                    <a:pt x="2802" y="4943"/>
                  </a:lnTo>
                  <a:lnTo>
                    <a:pt x="2822" y="4950"/>
                  </a:lnTo>
                  <a:lnTo>
                    <a:pt x="2842" y="4957"/>
                  </a:lnTo>
                  <a:lnTo>
                    <a:pt x="2866" y="4963"/>
                  </a:lnTo>
                  <a:lnTo>
                    <a:pt x="2889" y="4970"/>
                  </a:lnTo>
                  <a:lnTo>
                    <a:pt x="2940" y="4979"/>
                  </a:lnTo>
                  <a:lnTo>
                    <a:pt x="2993" y="4986"/>
                  </a:lnTo>
                  <a:lnTo>
                    <a:pt x="3106" y="4994"/>
                  </a:lnTo>
                  <a:lnTo>
                    <a:pt x="3220" y="4994"/>
                  </a:lnTo>
                  <a:lnTo>
                    <a:pt x="3331" y="4988"/>
                  </a:lnTo>
                  <a:lnTo>
                    <a:pt x="3433" y="4974"/>
                  </a:lnTo>
                  <a:lnTo>
                    <a:pt x="3475" y="4966"/>
                  </a:lnTo>
                  <a:lnTo>
                    <a:pt x="3515" y="4955"/>
                  </a:lnTo>
                  <a:lnTo>
                    <a:pt x="3553" y="4941"/>
                  </a:lnTo>
                  <a:lnTo>
                    <a:pt x="3591" y="4930"/>
                  </a:lnTo>
                  <a:lnTo>
                    <a:pt x="3629" y="4917"/>
                  </a:lnTo>
                  <a:lnTo>
                    <a:pt x="3669" y="4906"/>
                  </a:lnTo>
                  <a:lnTo>
                    <a:pt x="3706" y="4892"/>
                  </a:lnTo>
                  <a:lnTo>
                    <a:pt x="3744" y="4879"/>
                  </a:lnTo>
                  <a:lnTo>
                    <a:pt x="3780" y="4868"/>
                  </a:lnTo>
                  <a:lnTo>
                    <a:pt x="3815" y="4857"/>
                  </a:lnTo>
                  <a:lnTo>
                    <a:pt x="3846" y="4846"/>
                  </a:lnTo>
                  <a:lnTo>
                    <a:pt x="3875" y="4835"/>
                  </a:lnTo>
                  <a:lnTo>
                    <a:pt x="3902" y="4826"/>
                  </a:lnTo>
                  <a:lnTo>
                    <a:pt x="3924" y="4819"/>
                  </a:lnTo>
                  <a:lnTo>
                    <a:pt x="3955" y="4808"/>
                  </a:lnTo>
                  <a:lnTo>
                    <a:pt x="3968" y="4804"/>
                  </a:lnTo>
                  <a:lnTo>
                    <a:pt x="3940" y="4731"/>
                  </a:lnTo>
                  <a:lnTo>
                    <a:pt x="3955" y="4711"/>
                  </a:lnTo>
                  <a:lnTo>
                    <a:pt x="3964" y="4700"/>
                  </a:lnTo>
                  <a:lnTo>
                    <a:pt x="3973" y="4689"/>
                  </a:lnTo>
                  <a:lnTo>
                    <a:pt x="3984" y="4678"/>
                  </a:lnTo>
                  <a:lnTo>
                    <a:pt x="3995" y="4666"/>
                  </a:lnTo>
                  <a:lnTo>
                    <a:pt x="4008" y="4658"/>
                  </a:lnTo>
                  <a:lnTo>
                    <a:pt x="4022" y="4651"/>
                  </a:lnTo>
                  <a:lnTo>
                    <a:pt x="4037" y="4644"/>
                  </a:lnTo>
                  <a:lnTo>
                    <a:pt x="4053" y="4640"/>
                  </a:lnTo>
                  <a:lnTo>
                    <a:pt x="4084" y="4644"/>
                  </a:lnTo>
                  <a:lnTo>
                    <a:pt x="4117" y="4664"/>
                  </a:lnTo>
                  <a:lnTo>
                    <a:pt x="4126" y="4671"/>
                  </a:lnTo>
                  <a:lnTo>
                    <a:pt x="4135" y="4675"/>
                  </a:lnTo>
                  <a:lnTo>
                    <a:pt x="4151" y="4686"/>
                  </a:lnTo>
                  <a:lnTo>
                    <a:pt x="4168" y="4693"/>
                  </a:lnTo>
                  <a:lnTo>
                    <a:pt x="4186" y="4697"/>
                  </a:lnTo>
                  <a:lnTo>
                    <a:pt x="4219" y="4697"/>
                  </a:lnTo>
                  <a:lnTo>
                    <a:pt x="4251" y="4693"/>
                  </a:lnTo>
                  <a:lnTo>
                    <a:pt x="4279" y="4684"/>
                  </a:lnTo>
                  <a:lnTo>
                    <a:pt x="4299" y="4675"/>
                  </a:lnTo>
                  <a:lnTo>
                    <a:pt x="4319" y="4664"/>
                  </a:lnTo>
                  <a:lnTo>
                    <a:pt x="4328" y="4522"/>
                  </a:lnTo>
                  <a:lnTo>
                    <a:pt x="4435" y="4549"/>
                  </a:lnTo>
                  <a:lnTo>
                    <a:pt x="4539" y="4436"/>
                  </a:lnTo>
                  <a:lnTo>
                    <a:pt x="4722" y="4491"/>
                  </a:lnTo>
                  <a:lnTo>
                    <a:pt x="4730" y="4483"/>
                  </a:lnTo>
                  <a:lnTo>
                    <a:pt x="4742" y="4471"/>
                  </a:lnTo>
                  <a:lnTo>
                    <a:pt x="4748" y="4463"/>
                  </a:lnTo>
                  <a:lnTo>
                    <a:pt x="4755" y="4456"/>
                  </a:lnTo>
                  <a:lnTo>
                    <a:pt x="4762" y="4445"/>
                  </a:lnTo>
                  <a:lnTo>
                    <a:pt x="4770" y="4436"/>
                  </a:lnTo>
                  <a:lnTo>
                    <a:pt x="4786" y="4412"/>
                  </a:lnTo>
                  <a:lnTo>
                    <a:pt x="4804" y="4385"/>
                  </a:lnTo>
                  <a:lnTo>
                    <a:pt x="4819" y="4356"/>
                  </a:lnTo>
                  <a:lnTo>
                    <a:pt x="4833" y="4325"/>
                  </a:lnTo>
                  <a:lnTo>
                    <a:pt x="4846" y="4290"/>
                  </a:lnTo>
                  <a:lnTo>
                    <a:pt x="4859" y="4212"/>
                  </a:lnTo>
                  <a:lnTo>
                    <a:pt x="4855" y="4128"/>
                  </a:lnTo>
                  <a:lnTo>
                    <a:pt x="4844" y="4084"/>
                  </a:lnTo>
                  <a:lnTo>
                    <a:pt x="4835" y="4059"/>
                  </a:lnTo>
                  <a:lnTo>
                    <a:pt x="4824" y="4037"/>
                  </a:lnTo>
                  <a:lnTo>
                    <a:pt x="4813" y="4015"/>
                  </a:lnTo>
                  <a:lnTo>
                    <a:pt x="4799" y="3993"/>
                  </a:lnTo>
                  <a:lnTo>
                    <a:pt x="4784" y="3973"/>
                  </a:lnTo>
                  <a:lnTo>
                    <a:pt x="4775" y="3964"/>
                  </a:lnTo>
                  <a:lnTo>
                    <a:pt x="4768" y="3953"/>
                  </a:lnTo>
                  <a:lnTo>
                    <a:pt x="4759" y="3944"/>
                  </a:lnTo>
                  <a:lnTo>
                    <a:pt x="4750" y="3935"/>
                  </a:lnTo>
                  <a:lnTo>
                    <a:pt x="4742" y="3926"/>
                  </a:lnTo>
                  <a:lnTo>
                    <a:pt x="4730" y="3918"/>
                  </a:lnTo>
                  <a:lnTo>
                    <a:pt x="4722" y="3911"/>
                  </a:lnTo>
                  <a:lnTo>
                    <a:pt x="4713" y="3902"/>
                  </a:lnTo>
                  <a:lnTo>
                    <a:pt x="4702" y="3895"/>
                  </a:lnTo>
                  <a:lnTo>
                    <a:pt x="4693" y="3887"/>
                  </a:lnTo>
                  <a:lnTo>
                    <a:pt x="4682" y="3880"/>
                  </a:lnTo>
                  <a:lnTo>
                    <a:pt x="4670" y="3873"/>
                  </a:lnTo>
                  <a:lnTo>
                    <a:pt x="4662" y="3867"/>
                  </a:lnTo>
                  <a:lnTo>
                    <a:pt x="4651" y="3860"/>
                  </a:lnTo>
                  <a:lnTo>
                    <a:pt x="4628" y="3847"/>
                  </a:lnTo>
                  <a:lnTo>
                    <a:pt x="4606" y="3836"/>
                  </a:lnTo>
                  <a:lnTo>
                    <a:pt x="4582" y="3827"/>
                  </a:lnTo>
                  <a:lnTo>
                    <a:pt x="4559" y="3818"/>
                  </a:lnTo>
                  <a:lnTo>
                    <a:pt x="4535" y="3809"/>
                  </a:lnTo>
                  <a:lnTo>
                    <a:pt x="4511" y="3802"/>
                  </a:lnTo>
                  <a:lnTo>
                    <a:pt x="4486" y="3796"/>
                  </a:lnTo>
                  <a:lnTo>
                    <a:pt x="4462" y="3791"/>
                  </a:lnTo>
                  <a:lnTo>
                    <a:pt x="4415" y="3782"/>
                  </a:lnTo>
                  <a:lnTo>
                    <a:pt x="4322" y="3778"/>
                  </a:lnTo>
                  <a:lnTo>
                    <a:pt x="4239" y="3787"/>
                  </a:lnTo>
                  <a:lnTo>
                    <a:pt x="4202" y="3798"/>
                  </a:lnTo>
                  <a:lnTo>
                    <a:pt x="4171" y="3811"/>
                  </a:lnTo>
                  <a:lnTo>
                    <a:pt x="4155" y="3818"/>
                  </a:lnTo>
                  <a:lnTo>
                    <a:pt x="4137" y="3827"/>
                  </a:lnTo>
                  <a:lnTo>
                    <a:pt x="4117" y="3836"/>
                  </a:lnTo>
                  <a:lnTo>
                    <a:pt x="4097" y="3847"/>
                  </a:lnTo>
                  <a:lnTo>
                    <a:pt x="4075" y="3858"/>
                  </a:lnTo>
                  <a:lnTo>
                    <a:pt x="4051" y="3869"/>
                  </a:lnTo>
                  <a:lnTo>
                    <a:pt x="4026" y="3880"/>
                  </a:lnTo>
                  <a:lnTo>
                    <a:pt x="4002" y="3891"/>
                  </a:lnTo>
                  <a:lnTo>
                    <a:pt x="3975" y="3904"/>
                  </a:lnTo>
                  <a:lnTo>
                    <a:pt x="3948" y="3915"/>
                  </a:lnTo>
                  <a:lnTo>
                    <a:pt x="3922" y="3929"/>
                  </a:lnTo>
                  <a:lnTo>
                    <a:pt x="3895" y="3942"/>
                  </a:lnTo>
                  <a:lnTo>
                    <a:pt x="3866" y="3955"/>
                  </a:lnTo>
                  <a:lnTo>
                    <a:pt x="3840" y="3966"/>
                  </a:lnTo>
                  <a:lnTo>
                    <a:pt x="3813" y="3980"/>
                  </a:lnTo>
                  <a:lnTo>
                    <a:pt x="3786" y="3993"/>
                  </a:lnTo>
                  <a:lnTo>
                    <a:pt x="3760" y="4004"/>
                  </a:lnTo>
                  <a:lnTo>
                    <a:pt x="3733" y="4017"/>
                  </a:lnTo>
                  <a:lnTo>
                    <a:pt x="3708" y="4028"/>
                  </a:lnTo>
                  <a:lnTo>
                    <a:pt x="3684" y="4039"/>
                  </a:lnTo>
                  <a:lnTo>
                    <a:pt x="3660" y="4051"/>
                  </a:lnTo>
                  <a:lnTo>
                    <a:pt x="3640" y="4059"/>
                  </a:lnTo>
                  <a:lnTo>
                    <a:pt x="3617" y="4070"/>
                  </a:lnTo>
                  <a:lnTo>
                    <a:pt x="3600" y="4077"/>
                  </a:lnTo>
                  <a:lnTo>
                    <a:pt x="3582" y="4086"/>
                  </a:lnTo>
                  <a:lnTo>
                    <a:pt x="3566" y="4093"/>
                  </a:lnTo>
                  <a:lnTo>
                    <a:pt x="3542" y="4104"/>
                  </a:lnTo>
                  <a:lnTo>
                    <a:pt x="3520" y="4115"/>
                  </a:lnTo>
                  <a:lnTo>
                    <a:pt x="3526" y="4086"/>
                  </a:lnTo>
                  <a:lnTo>
                    <a:pt x="3537" y="4055"/>
                  </a:lnTo>
                  <a:lnTo>
                    <a:pt x="3544" y="4035"/>
                  </a:lnTo>
                  <a:lnTo>
                    <a:pt x="3555" y="4015"/>
                  </a:lnTo>
                  <a:lnTo>
                    <a:pt x="3569" y="3993"/>
                  </a:lnTo>
                  <a:lnTo>
                    <a:pt x="3584" y="3969"/>
                  </a:lnTo>
                  <a:lnTo>
                    <a:pt x="3602" y="3944"/>
                  </a:lnTo>
                  <a:lnTo>
                    <a:pt x="3611" y="3933"/>
                  </a:lnTo>
                  <a:lnTo>
                    <a:pt x="3622" y="3920"/>
                  </a:lnTo>
                  <a:lnTo>
                    <a:pt x="3635" y="3909"/>
                  </a:lnTo>
                  <a:lnTo>
                    <a:pt x="3646" y="3895"/>
                  </a:lnTo>
                  <a:lnTo>
                    <a:pt x="3660" y="3884"/>
                  </a:lnTo>
                  <a:lnTo>
                    <a:pt x="3675" y="3871"/>
                  </a:lnTo>
                  <a:lnTo>
                    <a:pt x="3691" y="3858"/>
                  </a:lnTo>
                  <a:lnTo>
                    <a:pt x="3706" y="3847"/>
                  </a:lnTo>
                  <a:lnTo>
                    <a:pt x="3724" y="3836"/>
                  </a:lnTo>
                  <a:lnTo>
                    <a:pt x="3742" y="3822"/>
                  </a:lnTo>
                  <a:lnTo>
                    <a:pt x="3762" y="3811"/>
                  </a:lnTo>
                  <a:lnTo>
                    <a:pt x="3782" y="3800"/>
                  </a:lnTo>
                  <a:lnTo>
                    <a:pt x="3800" y="3791"/>
                  </a:lnTo>
                  <a:lnTo>
                    <a:pt x="3817" y="3780"/>
                  </a:lnTo>
                  <a:lnTo>
                    <a:pt x="3837" y="3771"/>
                  </a:lnTo>
                  <a:lnTo>
                    <a:pt x="3855" y="3760"/>
                  </a:lnTo>
                  <a:lnTo>
                    <a:pt x="3873" y="3751"/>
                  </a:lnTo>
                  <a:lnTo>
                    <a:pt x="3891" y="3743"/>
                  </a:lnTo>
                  <a:lnTo>
                    <a:pt x="3908" y="3734"/>
                  </a:lnTo>
                  <a:lnTo>
                    <a:pt x="3926" y="3727"/>
                  </a:lnTo>
                  <a:lnTo>
                    <a:pt x="3944" y="3720"/>
                  </a:lnTo>
                  <a:lnTo>
                    <a:pt x="3960" y="3712"/>
                  </a:lnTo>
                  <a:lnTo>
                    <a:pt x="3975" y="3705"/>
                  </a:lnTo>
                  <a:lnTo>
                    <a:pt x="3991" y="3698"/>
                  </a:lnTo>
                  <a:lnTo>
                    <a:pt x="4020" y="3687"/>
                  </a:lnTo>
                  <a:lnTo>
                    <a:pt x="4048" y="3676"/>
                  </a:lnTo>
                  <a:lnTo>
                    <a:pt x="4073" y="3667"/>
                  </a:lnTo>
                  <a:lnTo>
                    <a:pt x="4093" y="3661"/>
                  </a:lnTo>
                  <a:lnTo>
                    <a:pt x="4111" y="3654"/>
                  </a:lnTo>
                  <a:lnTo>
                    <a:pt x="4146" y="3643"/>
                  </a:lnTo>
                  <a:lnTo>
                    <a:pt x="4126" y="3530"/>
                  </a:lnTo>
                  <a:lnTo>
                    <a:pt x="3431" y="3740"/>
                  </a:lnTo>
                  <a:lnTo>
                    <a:pt x="2815" y="3807"/>
                  </a:lnTo>
                  <a:lnTo>
                    <a:pt x="2682" y="3696"/>
                  </a:lnTo>
                  <a:lnTo>
                    <a:pt x="2804" y="3698"/>
                  </a:lnTo>
                  <a:lnTo>
                    <a:pt x="3089" y="3694"/>
                  </a:lnTo>
                  <a:lnTo>
                    <a:pt x="3255" y="3685"/>
                  </a:lnTo>
                  <a:lnTo>
                    <a:pt x="3417" y="3667"/>
                  </a:lnTo>
                  <a:lnTo>
                    <a:pt x="3493" y="3654"/>
                  </a:lnTo>
                  <a:lnTo>
                    <a:pt x="3564" y="3641"/>
                  </a:lnTo>
                  <a:lnTo>
                    <a:pt x="3595" y="3632"/>
                  </a:lnTo>
                  <a:lnTo>
                    <a:pt x="3626" y="3621"/>
                  </a:lnTo>
                  <a:lnTo>
                    <a:pt x="3653" y="3612"/>
                  </a:lnTo>
                  <a:lnTo>
                    <a:pt x="3677" y="3601"/>
                  </a:lnTo>
                  <a:lnTo>
                    <a:pt x="3700" y="3587"/>
                  </a:lnTo>
                  <a:lnTo>
                    <a:pt x="3722" y="3576"/>
                  </a:lnTo>
                  <a:lnTo>
                    <a:pt x="3744" y="3565"/>
                  </a:lnTo>
                  <a:lnTo>
                    <a:pt x="3766" y="3554"/>
                  </a:lnTo>
                  <a:lnTo>
                    <a:pt x="3786" y="3545"/>
                  </a:lnTo>
                  <a:lnTo>
                    <a:pt x="3806" y="3534"/>
                  </a:lnTo>
                  <a:lnTo>
                    <a:pt x="3826" y="3523"/>
                  </a:lnTo>
                  <a:lnTo>
                    <a:pt x="3846" y="3514"/>
                  </a:lnTo>
                  <a:lnTo>
                    <a:pt x="3864" y="3503"/>
                  </a:lnTo>
                  <a:lnTo>
                    <a:pt x="3882" y="3494"/>
                  </a:lnTo>
                  <a:lnTo>
                    <a:pt x="3900" y="3486"/>
                  </a:lnTo>
                  <a:lnTo>
                    <a:pt x="3917" y="3477"/>
                  </a:lnTo>
                  <a:lnTo>
                    <a:pt x="3933" y="3468"/>
                  </a:lnTo>
                  <a:lnTo>
                    <a:pt x="3948" y="3459"/>
                  </a:lnTo>
                  <a:lnTo>
                    <a:pt x="3962" y="3452"/>
                  </a:lnTo>
                  <a:lnTo>
                    <a:pt x="3977" y="3443"/>
                  </a:lnTo>
                  <a:lnTo>
                    <a:pt x="3991" y="3437"/>
                  </a:lnTo>
                  <a:lnTo>
                    <a:pt x="4002" y="3430"/>
                  </a:lnTo>
                  <a:lnTo>
                    <a:pt x="4024" y="3417"/>
                  </a:lnTo>
                  <a:lnTo>
                    <a:pt x="4044" y="3406"/>
                  </a:lnTo>
                  <a:lnTo>
                    <a:pt x="4062" y="3397"/>
                  </a:lnTo>
                  <a:lnTo>
                    <a:pt x="4084" y="3386"/>
                  </a:lnTo>
                  <a:lnTo>
                    <a:pt x="4091" y="3381"/>
                  </a:lnTo>
                  <a:lnTo>
                    <a:pt x="1320" y="805"/>
                  </a:lnTo>
                  <a:lnTo>
                    <a:pt x="1320" y="1332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7"/>
            <p:cNvSpPr/>
            <p:nvPr/>
          </p:nvSpPr>
          <p:spPr>
            <a:xfrm>
              <a:off x="2472840" y="3340800"/>
              <a:ext cx="288000" cy="77616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776160"/>
                <a:gd name="textAreaBottom" fmla="*/ 776520 h 776160"/>
              </a:gdLst>
              <a:ahLst/>
              <a:rect l="textAreaLeft" t="textAreaTop" r="textAreaRight" b="textAreaBottom"/>
              <a:pathLst>
                <a:path w="678" h="1826">
                  <a:moveTo>
                    <a:pt x="58" y="0"/>
                  </a:moveTo>
                  <a:lnTo>
                    <a:pt x="53" y="31"/>
                  </a:lnTo>
                  <a:lnTo>
                    <a:pt x="38" y="115"/>
                  </a:lnTo>
                  <a:lnTo>
                    <a:pt x="20" y="244"/>
                  </a:lnTo>
                  <a:lnTo>
                    <a:pt x="7" y="403"/>
                  </a:lnTo>
                  <a:lnTo>
                    <a:pt x="0" y="587"/>
                  </a:lnTo>
                  <a:lnTo>
                    <a:pt x="7" y="780"/>
                  </a:lnTo>
                  <a:lnTo>
                    <a:pt x="18" y="877"/>
                  </a:lnTo>
                  <a:lnTo>
                    <a:pt x="27" y="926"/>
                  </a:lnTo>
                  <a:lnTo>
                    <a:pt x="35" y="975"/>
                  </a:lnTo>
                  <a:lnTo>
                    <a:pt x="47" y="1022"/>
                  </a:lnTo>
                  <a:lnTo>
                    <a:pt x="58" y="1068"/>
                  </a:lnTo>
                  <a:lnTo>
                    <a:pt x="71" y="1115"/>
                  </a:lnTo>
                  <a:lnTo>
                    <a:pt x="80" y="1137"/>
                  </a:lnTo>
                  <a:lnTo>
                    <a:pt x="87" y="1159"/>
                  </a:lnTo>
                  <a:lnTo>
                    <a:pt x="95" y="1181"/>
                  </a:lnTo>
                  <a:lnTo>
                    <a:pt x="104" y="1201"/>
                  </a:lnTo>
                  <a:lnTo>
                    <a:pt x="113" y="1223"/>
                  </a:lnTo>
                  <a:lnTo>
                    <a:pt x="122" y="1243"/>
                  </a:lnTo>
                  <a:lnTo>
                    <a:pt x="133" y="1263"/>
                  </a:lnTo>
                  <a:lnTo>
                    <a:pt x="142" y="1283"/>
                  </a:lnTo>
                  <a:lnTo>
                    <a:pt x="153" y="1303"/>
                  </a:lnTo>
                  <a:lnTo>
                    <a:pt x="164" y="1323"/>
                  </a:lnTo>
                  <a:lnTo>
                    <a:pt x="184" y="1358"/>
                  </a:lnTo>
                  <a:lnTo>
                    <a:pt x="207" y="1394"/>
                  </a:lnTo>
                  <a:lnTo>
                    <a:pt x="231" y="1429"/>
                  </a:lnTo>
                  <a:lnTo>
                    <a:pt x="255" y="1460"/>
                  </a:lnTo>
                  <a:lnTo>
                    <a:pt x="260" y="1469"/>
                  </a:lnTo>
                  <a:lnTo>
                    <a:pt x="267" y="1476"/>
                  </a:lnTo>
                  <a:lnTo>
                    <a:pt x="273" y="1485"/>
                  </a:lnTo>
                  <a:lnTo>
                    <a:pt x="278" y="1491"/>
                  </a:lnTo>
                  <a:lnTo>
                    <a:pt x="284" y="1500"/>
                  </a:lnTo>
                  <a:lnTo>
                    <a:pt x="291" y="1507"/>
                  </a:lnTo>
                  <a:lnTo>
                    <a:pt x="298" y="1513"/>
                  </a:lnTo>
                  <a:lnTo>
                    <a:pt x="302" y="1522"/>
                  </a:lnTo>
                  <a:lnTo>
                    <a:pt x="309" y="1529"/>
                  </a:lnTo>
                  <a:lnTo>
                    <a:pt x="315" y="1536"/>
                  </a:lnTo>
                  <a:lnTo>
                    <a:pt x="322" y="1542"/>
                  </a:lnTo>
                  <a:lnTo>
                    <a:pt x="327" y="1549"/>
                  </a:lnTo>
                  <a:lnTo>
                    <a:pt x="333" y="1555"/>
                  </a:lnTo>
                  <a:lnTo>
                    <a:pt x="340" y="1562"/>
                  </a:lnTo>
                  <a:lnTo>
                    <a:pt x="347" y="1569"/>
                  </a:lnTo>
                  <a:lnTo>
                    <a:pt x="353" y="1575"/>
                  </a:lnTo>
                  <a:lnTo>
                    <a:pt x="364" y="1589"/>
                  </a:lnTo>
                  <a:lnTo>
                    <a:pt x="378" y="1602"/>
                  </a:lnTo>
                  <a:lnTo>
                    <a:pt x="389" y="1613"/>
                  </a:lnTo>
                  <a:lnTo>
                    <a:pt x="402" y="1624"/>
                  </a:lnTo>
                  <a:lnTo>
                    <a:pt x="413" y="1635"/>
                  </a:lnTo>
                  <a:lnTo>
                    <a:pt x="424" y="1646"/>
                  </a:lnTo>
                  <a:lnTo>
                    <a:pt x="438" y="1657"/>
                  </a:lnTo>
                  <a:lnTo>
                    <a:pt x="449" y="1668"/>
                  </a:lnTo>
                  <a:lnTo>
                    <a:pt x="460" y="1677"/>
                  </a:lnTo>
                  <a:lnTo>
                    <a:pt x="473" y="1688"/>
                  </a:lnTo>
                  <a:lnTo>
                    <a:pt x="484" y="1697"/>
                  </a:lnTo>
                  <a:lnTo>
                    <a:pt x="495" y="1706"/>
                  </a:lnTo>
                  <a:lnTo>
                    <a:pt x="506" y="1715"/>
                  </a:lnTo>
                  <a:lnTo>
                    <a:pt x="518" y="1724"/>
                  </a:lnTo>
                  <a:lnTo>
                    <a:pt x="526" y="1731"/>
                  </a:lnTo>
                  <a:lnTo>
                    <a:pt x="538" y="1739"/>
                  </a:lnTo>
                  <a:lnTo>
                    <a:pt x="549" y="1746"/>
                  </a:lnTo>
                  <a:lnTo>
                    <a:pt x="558" y="1753"/>
                  </a:lnTo>
                  <a:lnTo>
                    <a:pt x="566" y="1759"/>
                  </a:lnTo>
                  <a:lnTo>
                    <a:pt x="578" y="1766"/>
                  </a:lnTo>
                  <a:lnTo>
                    <a:pt x="593" y="1777"/>
                  </a:lnTo>
                  <a:lnTo>
                    <a:pt x="611" y="1788"/>
                  </a:lnTo>
                  <a:lnTo>
                    <a:pt x="624" y="1797"/>
                  </a:lnTo>
                  <a:lnTo>
                    <a:pt x="638" y="1806"/>
                  </a:lnTo>
                  <a:lnTo>
                    <a:pt x="660" y="1817"/>
                  </a:lnTo>
                  <a:lnTo>
                    <a:pt x="678" y="1826"/>
                  </a:lnTo>
                  <a:lnTo>
                    <a:pt x="678" y="1742"/>
                  </a:lnTo>
                  <a:lnTo>
                    <a:pt x="673" y="1735"/>
                  </a:lnTo>
                  <a:lnTo>
                    <a:pt x="666" y="1731"/>
                  </a:lnTo>
                  <a:lnTo>
                    <a:pt x="660" y="1722"/>
                  </a:lnTo>
                  <a:lnTo>
                    <a:pt x="651" y="1711"/>
                  </a:lnTo>
                  <a:lnTo>
                    <a:pt x="640" y="1697"/>
                  </a:lnTo>
                  <a:lnTo>
                    <a:pt x="633" y="1691"/>
                  </a:lnTo>
                  <a:lnTo>
                    <a:pt x="626" y="1684"/>
                  </a:lnTo>
                  <a:lnTo>
                    <a:pt x="620" y="1675"/>
                  </a:lnTo>
                  <a:lnTo>
                    <a:pt x="611" y="1666"/>
                  </a:lnTo>
                  <a:lnTo>
                    <a:pt x="604" y="1657"/>
                  </a:lnTo>
                  <a:lnTo>
                    <a:pt x="595" y="1649"/>
                  </a:lnTo>
                  <a:lnTo>
                    <a:pt x="586" y="1637"/>
                  </a:lnTo>
                  <a:lnTo>
                    <a:pt x="578" y="1626"/>
                  </a:lnTo>
                  <a:lnTo>
                    <a:pt x="571" y="1618"/>
                  </a:lnTo>
                  <a:lnTo>
                    <a:pt x="560" y="1604"/>
                  </a:lnTo>
                  <a:lnTo>
                    <a:pt x="551" y="1593"/>
                  </a:lnTo>
                  <a:lnTo>
                    <a:pt x="542" y="1582"/>
                  </a:lnTo>
                  <a:lnTo>
                    <a:pt x="531" y="1569"/>
                  </a:lnTo>
                  <a:lnTo>
                    <a:pt x="522" y="1555"/>
                  </a:lnTo>
                  <a:lnTo>
                    <a:pt x="518" y="1549"/>
                  </a:lnTo>
                  <a:lnTo>
                    <a:pt x="511" y="1542"/>
                  </a:lnTo>
                  <a:lnTo>
                    <a:pt x="506" y="1536"/>
                  </a:lnTo>
                  <a:lnTo>
                    <a:pt x="502" y="1529"/>
                  </a:lnTo>
                  <a:lnTo>
                    <a:pt x="480" y="1500"/>
                  </a:lnTo>
                  <a:lnTo>
                    <a:pt x="460" y="1471"/>
                  </a:lnTo>
                  <a:lnTo>
                    <a:pt x="438" y="1440"/>
                  </a:lnTo>
                  <a:lnTo>
                    <a:pt x="415" y="1409"/>
                  </a:lnTo>
                  <a:lnTo>
                    <a:pt x="393" y="1376"/>
                  </a:lnTo>
                  <a:lnTo>
                    <a:pt x="371" y="1341"/>
                  </a:lnTo>
                  <a:lnTo>
                    <a:pt x="349" y="1305"/>
                  </a:lnTo>
                  <a:lnTo>
                    <a:pt x="329" y="1270"/>
                  </a:lnTo>
                  <a:lnTo>
                    <a:pt x="309" y="1234"/>
                  </a:lnTo>
                  <a:lnTo>
                    <a:pt x="287" y="1197"/>
                  </a:lnTo>
                  <a:lnTo>
                    <a:pt x="269" y="1159"/>
                  </a:lnTo>
                  <a:lnTo>
                    <a:pt x="249" y="1119"/>
                  </a:lnTo>
                  <a:lnTo>
                    <a:pt x="233" y="1081"/>
                  </a:lnTo>
                  <a:lnTo>
                    <a:pt x="215" y="1041"/>
                  </a:lnTo>
                  <a:lnTo>
                    <a:pt x="202" y="1002"/>
                  </a:lnTo>
                  <a:lnTo>
                    <a:pt x="187" y="962"/>
                  </a:lnTo>
                  <a:lnTo>
                    <a:pt x="175" y="922"/>
                  </a:lnTo>
                  <a:lnTo>
                    <a:pt x="164" y="882"/>
                  </a:lnTo>
                  <a:lnTo>
                    <a:pt x="158" y="842"/>
                  </a:lnTo>
                  <a:lnTo>
                    <a:pt x="149" y="802"/>
                  </a:lnTo>
                  <a:lnTo>
                    <a:pt x="135" y="725"/>
                  </a:lnTo>
                  <a:lnTo>
                    <a:pt x="118" y="578"/>
                  </a:lnTo>
                  <a:lnTo>
                    <a:pt x="113" y="443"/>
                  </a:lnTo>
                  <a:lnTo>
                    <a:pt x="113" y="324"/>
                  </a:lnTo>
                  <a:lnTo>
                    <a:pt x="120" y="226"/>
                  </a:lnTo>
                  <a:lnTo>
                    <a:pt x="127" y="151"/>
                  </a:lnTo>
                  <a:lnTo>
                    <a:pt x="138" y="86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8"/>
            <p:cNvSpPr/>
            <p:nvPr/>
          </p:nvSpPr>
          <p:spPr>
            <a:xfrm>
              <a:off x="2490480" y="3144960"/>
              <a:ext cx="434520" cy="629280"/>
            </a:xfrm>
            <a:custGeom>
              <a:avLst/>
              <a:gdLst>
                <a:gd name="textAreaLeft" fmla="*/ 0 w 434520"/>
                <a:gd name="textAreaRight" fmla="*/ 434880 w 43452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1022" h="1480">
                  <a:moveTo>
                    <a:pt x="58" y="0"/>
                  </a:moveTo>
                  <a:lnTo>
                    <a:pt x="16" y="18"/>
                  </a:lnTo>
                  <a:lnTo>
                    <a:pt x="0" y="49"/>
                  </a:lnTo>
                  <a:lnTo>
                    <a:pt x="5" y="71"/>
                  </a:lnTo>
                  <a:lnTo>
                    <a:pt x="20" y="100"/>
                  </a:lnTo>
                  <a:lnTo>
                    <a:pt x="45" y="133"/>
                  </a:lnTo>
                  <a:lnTo>
                    <a:pt x="67" y="166"/>
                  </a:lnTo>
                  <a:lnTo>
                    <a:pt x="89" y="197"/>
                  </a:lnTo>
                  <a:lnTo>
                    <a:pt x="107" y="231"/>
                  </a:lnTo>
                  <a:lnTo>
                    <a:pt x="125" y="259"/>
                  </a:lnTo>
                  <a:lnTo>
                    <a:pt x="136" y="288"/>
                  </a:lnTo>
                  <a:lnTo>
                    <a:pt x="151" y="337"/>
                  </a:lnTo>
                  <a:lnTo>
                    <a:pt x="158" y="355"/>
                  </a:lnTo>
                  <a:lnTo>
                    <a:pt x="178" y="386"/>
                  </a:lnTo>
                  <a:lnTo>
                    <a:pt x="191" y="403"/>
                  </a:lnTo>
                  <a:lnTo>
                    <a:pt x="205" y="423"/>
                  </a:lnTo>
                  <a:lnTo>
                    <a:pt x="213" y="437"/>
                  </a:lnTo>
                  <a:lnTo>
                    <a:pt x="222" y="448"/>
                  </a:lnTo>
                  <a:lnTo>
                    <a:pt x="233" y="461"/>
                  </a:lnTo>
                  <a:lnTo>
                    <a:pt x="242" y="474"/>
                  </a:lnTo>
                  <a:lnTo>
                    <a:pt x="249" y="481"/>
                  </a:lnTo>
                  <a:lnTo>
                    <a:pt x="253" y="488"/>
                  </a:lnTo>
                  <a:lnTo>
                    <a:pt x="258" y="494"/>
                  </a:lnTo>
                  <a:lnTo>
                    <a:pt x="265" y="501"/>
                  </a:lnTo>
                  <a:lnTo>
                    <a:pt x="269" y="508"/>
                  </a:lnTo>
                  <a:lnTo>
                    <a:pt x="276" y="514"/>
                  </a:lnTo>
                  <a:lnTo>
                    <a:pt x="280" y="523"/>
                  </a:lnTo>
                  <a:lnTo>
                    <a:pt x="287" y="530"/>
                  </a:lnTo>
                  <a:lnTo>
                    <a:pt x="293" y="536"/>
                  </a:lnTo>
                  <a:lnTo>
                    <a:pt x="298" y="545"/>
                  </a:lnTo>
                  <a:lnTo>
                    <a:pt x="305" y="552"/>
                  </a:lnTo>
                  <a:lnTo>
                    <a:pt x="311" y="561"/>
                  </a:lnTo>
                  <a:lnTo>
                    <a:pt x="318" y="567"/>
                  </a:lnTo>
                  <a:lnTo>
                    <a:pt x="325" y="576"/>
                  </a:lnTo>
                  <a:lnTo>
                    <a:pt x="329" y="583"/>
                  </a:lnTo>
                  <a:lnTo>
                    <a:pt x="336" y="592"/>
                  </a:lnTo>
                  <a:lnTo>
                    <a:pt x="342" y="598"/>
                  </a:lnTo>
                  <a:lnTo>
                    <a:pt x="349" y="607"/>
                  </a:lnTo>
                  <a:lnTo>
                    <a:pt x="356" y="616"/>
                  </a:lnTo>
                  <a:lnTo>
                    <a:pt x="362" y="625"/>
                  </a:lnTo>
                  <a:lnTo>
                    <a:pt x="369" y="632"/>
                  </a:lnTo>
                  <a:lnTo>
                    <a:pt x="376" y="641"/>
                  </a:lnTo>
                  <a:lnTo>
                    <a:pt x="382" y="649"/>
                  </a:lnTo>
                  <a:lnTo>
                    <a:pt x="389" y="658"/>
                  </a:lnTo>
                  <a:lnTo>
                    <a:pt x="398" y="665"/>
                  </a:lnTo>
                  <a:lnTo>
                    <a:pt x="405" y="674"/>
                  </a:lnTo>
                  <a:lnTo>
                    <a:pt x="411" y="683"/>
                  </a:lnTo>
                  <a:lnTo>
                    <a:pt x="418" y="692"/>
                  </a:lnTo>
                  <a:lnTo>
                    <a:pt x="425" y="700"/>
                  </a:lnTo>
                  <a:lnTo>
                    <a:pt x="431" y="709"/>
                  </a:lnTo>
                  <a:lnTo>
                    <a:pt x="438" y="718"/>
                  </a:lnTo>
                  <a:lnTo>
                    <a:pt x="447" y="727"/>
                  </a:lnTo>
                  <a:lnTo>
                    <a:pt x="453" y="736"/>
                  </a:lnTo>
                  <a:lnTo>
                    <a:pt x="460" y="742"/>
                  </a:lnTo>
                  <a:lnTo>
                    <a:pt x="467" y="754"/>
                  </a:lnTo>
                  <a:lnTo>
                    <a:pt x="473" y="760"/>
                  </a:lnTo>
                  <a:lnTo>
                    <a:pt x="482" y="769"/>
                  </a:lnTo>
                  <a:lnTo>
                    <a:pt x="489" y="778"/>
                  </a:lnTo>
                  <a:lnTo>
                    <a:pt x="496" y="787"/>
                  </a:lnTo>
                  <a:lnTo>
                    <a:pt x="502" y="796"/>
                  </a:lnTo>
                  <a:lnTo>
                    <a:pt x="511" y="805"/>
                  </a:lnTo>
                  <a:lnTo>
                    <a:pt x="518" y="813"/>
                  </a:lnTo>
                  <a:lnTo>
                    <a:pt x="524" y="822"/>
                  </a:lnTo>
                  <a:lnTo>
                    <a:pt x="531" y="831"/>
                  </a:lnTo>
                  <a:lnTo>
                    <a:pt x="538" y="840"/>
                  </a:lnTo>
                  <a:lnTo>
                    <a:pt x="544" y="849"/>
                  </a:lnTo>
                  <a:lnTo>
                    <a:pt x="553" y="855"/>
                  </a:lnTo>
                  <a:lnTo>
                    <a:pt x="560" y="864"/>
                  </a:lnTo>
                  <a:lnTo>
                    <a:pt x="567" y="873"/>
                  </a:lnTo>
                  <a:lnTo>
                    <a:pt x="573" y="882"/>
                  </a:lnTo>
                  <a:lnTo>
                    <a:pt x="580" y="891"/>
                  </a:lnTo>
                  <a:lnTo>
                    <a:pt x="587" y="900"/>
                  </a:lnTo>
                  <a:lnTo>
                    <a:pt x="593" y="906"/>
                  </a:lnTo>
                  <a:lnTo>
                    <a:pt x="600" y="915"/>
                  </a:lnTo>
                  <a:lnTo>
                    <a:pt x="607" y="924"/>
                  </a:lnTo>
                  <a:lnTo>
                    <a:pt x="613" y="931"/>
                  </a:lnTo>
                  <a:lnTo>
                    <a:pt x="627" y="949"/>
                  </a:lnTo>
                  <a:lnTo>
                    <a:pt x="633" y="955"/>
                  </a:lnTo>
                  <a:lnTo>
                    <a:pt x="640" y="964"/>
                  </a:lnTo>
                  <a:lnTo>
                    <a:pt x="647" y="973"/>
                  </a:lnTo>
                  <a:lnTo>
                    <a:pt x="653" y="980"/>
                  </a:lnTo>
                  <a:lnTo>
                    <a:pt x="660" y="988"/>
                  </a:lnTo>
                  <a:lnTo>
                    <a:pt x="664" y="995"/>
                  </a:lnTo>
                  <a:lnTo>
                    <a:pt x="671" y="1002"/>
                  </a:lnTo>
                  <a:lnTo>
                    <a:pt x="678" y="1011"/>
                  </a:lnTo>
                  <a:lnTo>
                    <a:pt x="682" y="1017"/>
                  </a:lnTo>
                  <a:lnTo>
                    <a:pt x="689" y="1024"/>
                  </a:lnTo>
                  <a:lnTo>
                    <a:pt x="696" y="1033"/>
                  </a:lnTo>
                  <a:lnTo>
                    <a:pt x="700" y="1039"/>
                  </a:lnTo>
                  <a:lnTo>
                    <a:pt x="707" y="1046"/>
                  </a:lnTo>
                  <a:lnTo>
                    <a:pt x="711" y="1053"/>
                  </a:lnTo>
                  <a:lnTo>
                    <a:pt x="718" y="1059"/>
                  </a:lnTo>
                  <a:lnTo>
                    <a:pt x="722" y="1066"/>
                  </a:lnTo>
                  <a:lnTo>
                    <a:pt x="727" y="1073"/>
                  </a:lnTo>
                  <a:lnTo>
                    <a:pt x="733" y="1079"/>
                  </a:lnTo>
                  <a:lnTo>
                    <a:pt x="742" y="1093"/>
                  </a:lnTo>
                  <a:lnTo>
                    <a:pt x="751" y="1104"/>
                  </a:lnTo>
                  <a:lnTo>
                    <a:pt x="760" y="1115"/>
                  </a:lnTo>
                  <a:lnTo>
                    <a:pt x="769" y="1126"/>
                  </a:lnTo>
                  <a:lnTo>
                    <a:pt x="784" y="1146"/>
                  </a:lnTo>
                  <a:lnTo>
                    <a:pt x="807" y="1179"/>
                  </a:lnTo>
                  <a:lnTo>
                    <a:pt x="824" y="1208"/>
                  </a:lnTo>
                  <a:lnTo>
                    <a:pt x="842" y="1237"/>
                  </a:lnTo>
                  <a:lnTo>
                    <a:pt x="860" y="1265"/>
                  </a:lnTo>
                  <a:lnTo>
                    <a:pt x="878" y="1294"/>
                  </a:lnTo>
                  <a:lnTo>
                    <a:pt x="896" y="1323"/>
                  </a:lnTo>
                  <a:lnTo>
                    <a:pt x="911" y="1352"/>
                  </a:lnTo>
                  <a:lnTo>
                    <a:pt x="929" y="1378"/>
                  </a:lnTo>
                  <a:lnTo>
                    <a:pt x="944" y="1403"/>
                  </a:lnTo>
                  <a:lnTo>
                    <a:pt x="958" y="1425"/>
                  </a:lnTo>
                  <a:lnTo>
                    <a:pt x="971" y="1445"/>
                  </a:lnTo>
                  <a:lnTo>
                    <a:pt x="978" y="1454"/>
                  </a:lnTo>
                  <a:lnTo>
                    <a:pt x="984" y="1460"/>
                  </a:lnTo>
                  <a:lnTo>
                    <a:pt x="995" y="1471"/>
                  </a:lnTo>
                  <a:lnTo>
                    <a:pt x="1004" y="1480"/>
                  </a:lnTo>
                  <a:lnTo>
                    <a:pt x="1013" y="1480"/>
                  </a:lnTo>
                  <a:lnTo>
                    <a:pt x="1022" y="1467"/>
                  </a:lnTo>
                  <a:lnTo>
                    <a:pt x="1022" y="1438"/>
                  </a:lnTo>
                  <a:lnTo>
                    <a:pt x="1013" y="1407"/>
                  </a:lnTo>
                  <a:lnTo>
                    <a:pt x="1007" y="1389"/>
                  </a:lnTo>
                  <a:lnTo>
                    <a:pt x="998" y="1370"/>
                  </a:lnTo>
                  <a:lnTo>
                    <a:pt x="987" y="1350"/>
                  </a:lnTo>
                  <a:lnTo>
                    <a:pt x="975" y="1327"/>
                  </a:lnTo>
                  <a:lnTo>
                    <a:pt x="962" y="1303"/>
                  </a:lnTo>
                  <a:lnTo>
                    <a:pt x="947" y="1276"/>
                  </a:lnTo>
                  <a:lnTo>
                    <a:pt x="931" y="1250"/>
                  </a:lnTo>
                  <a:lnTo>
                    <a:pt x="916" y="1221"/>
                  </a:lnTo>
                  <a:lnTo>
                    <a:pt x="898" y="1188"/>
                  </a:lnTo>
                  <a:lnTo>
                    <a:pt x="880" y="1155"/>
                  </a:lnTo>
                  <a:lnTo>
                    <a:pt x="860" y="1117"/>
                  </a:lnTo>
                  <a:lnTo>
                    <a:pt x="842" y="1079"/>
                  </a:lnTo>
                  <a:lnTo>
                    <a:pt x="831" y="1057"/>
                  </a:lnTo>
                  <a:lnTo>
                    <a:pt x="818" y="1035"/>
                  </a:lnTo>
                  <a:lnTo>
                    <a:pt x="804" y="1011"/>
                  </a:lnTo>
                  <a:lnTo>
                    <a:pt x="787" y="986"/>
                  </a:lnTo>
                  <a:lnTo>
                    <a:pt x="769" y="960"/>
                  </a:lnTo>
                  <a:lnTo>
                    <a:pt x="749" y="933"/>
                  </a:lnTo>
                  <a:lnTo>
                    <a:pt x="729" y="904"/>
                  </a:lnTo>
                  <a:lnTo>
                    <a:pt x="718" y="891"/>
                  </a:lnTo>
                  <a:lnTo>
                    <a:pt x="713" y="882"/>
                  </a:lnTo>
                  <a:lnTo>
                    <a:pt x="707" y="875"/>
                  </a:lnTo>
                  <a:lnTo>
                    <a:pt x="700" y="869"/>
                  </a:lnTo>
                  <a:lnTo>
                    <a:pt x="696" y="862"/>
                  </a:lnTo>
                  <a:lnTo>
                    <a:pt x="684" y="847"/>
                  </a:lnTo>
                  <a:lnTo>
                    <a:pt x="678" y="840"/>
                  </a:lnTo>
                  <a:lnTo>
                    <a:pt x="671" y="831"/>
                  </a:lnTo>
                  <a:lnTo>
                    <a:pt x="667" y="824"/>
                  </a:lnTo>
                  <a:lnTo>
                    <a:pt x="660" y="816"/>
                  </a:lnTo>
                  <a:lnTo>
                    <a:pt x="653" y="809"/>
                  </a:lnTo>
                  <a:lnTo>
                    <a:pt x="647" y="800"/>
                  </a:lnTo>
                  <a:lnTo>
                    <a:pt x="642" y="793"/>
                  </a:lnTo>
                  <a:lnTo>
                    <a:pt x="636" y="787"/>
                  </a:lnTo>
                  <a:lnTo>
                    <a:pt x="629" y="778"/>
                  </a:lnTo>
                  <a:lnTo>
                    <a:pt x="622" y="771"/>
                  </a:lnTo>
                  <a:lnTo>
                    <a:pt x="616" y="762"/>
                  </a:lnTo>
                  <a:lnTo>
                    <a:pt x="609" y="756"/>
                  </a:lnTo>
                  <a:lnTo>
                    <a:pt x="602" y="747"/>
                  </a:lnTo>
                  <a:lnTo>
                    <a:pt x="598" y="740"/>
                  </a:lnTo>
                  <a:lnTo>
                    <a:pt x="591" y="731"/>
                  </a:lnTo>
                  <a:lnTo>
                    <a:pt x="584" y="725"/>
                  </a:lnTo>
                  <a:lnTo>
                    <a:pt x="578" y="716"/>
                  </a:lnTo>
                  <a:lnTo>
                    <a:pt x="571" y="709"/>
                  </a:lnTo>
                  <a:lnTo>
                    <a:pt x="564" y="703"/>
                  </a:lnTo>
                  <a:lnTo>
                    <a:pt x="558" y="694"/>
                  </a:lnTo>
                  <a:lnTo>
                    <a:pt x="551" y="687"/>
                  </a:lnTo>
                  <a:lnTo>
                    <a:pt x="544" y="678"/>
                  </a:lnTo>
                  <a:lnTo>
                    <a:pt x="538" y="672"/>
                  </a:lnTo>
                  <a:lnTo>
                    <a:pt x="531" y="663"/>
                  </a:lnTo>
                  <a:lnTo>
                    <a:pt x="520" y="647"/>
                  </a:lnTo>
                  <a:lnTo>
                    <a:pt x="513" y="641"/>
                  </a:lnTo>
                  <a:lnTo>
                    <a:pt x="507" y="634"/>
                  </a:lnTo>
                  <a:lnTo>
                    <a:pt x="500" y="625"/>
                  </a:lnTo>
                  <a:lnTo>
                    <a:pt x="493" y="618"/>
                  </a:lnTo>
                  <a:lnTo>
                    <a:pt x="487" y="610"/>
                  </a:lnTo>
                  <a:lnTo>
                    <a:pt x="480" y="603"/>
                  </a:lnTo>
                  <a:lnTo>
                    <a:pt x="467" y="587"/>
                  </a:lnTo>
                  <a:lnTo>
                    <a:pt x="462" y="581"/>
                  </a:lnTo>
                  <a:lnTo>
                    <a:pt x="456" y="572"/>
                  </a:lnTo>
                  <a:lnTo>
                    <a:pt x="449" y="565"/>
                  </a:lnTo>
                  <a:lnTo>
                    <a:pt x="442" y="559"/>
                  </a:lnTo>
                  <a:lnTo>
                    <a:pt x="431" y="543"/>
                  </a:lnTo>
                  <a:lnTo>
                    <a:pt x="425" y="536"/>
                  </a:lnTo>
                  <a:lnTo>
                    <a:pt x="418" y="530"/>
                  </a:lnTo>
                  <a:lnTo>
                    <a:pt x="411" y="523"/>
                  </a:lnTo>
                  <a:lnTo>
                    <a:pt x="407" y="514"/>
                  </a:lnTo>
                  <a:lnTo>
                    <a:pt x="400" y="508"/>
                  </a:lnTo>
                  <a:lnTo>
                    <a:pt x="396" y="501"/>
                  </a:lnTo>
                  <a:lnTo>
                    <a:pt x="389" y="494"/>
                  </a:lnTo>
                  <a:lnTo>
                    <a:pt x="382" y="488"/>
                  </a:lnTo>
                  <a:lnTo>
                    <a:pt x="371" y="474"/>
                  </a:lnTo>
                  <a:lnTo>
                    <a:pt x="367" y="468"/>
                  </a:lnTo>
                  <a:lnTo>
                    <a:pt x="360" y="461"/>
                  </a:lnTo>
                  <a:lnTo>
                    <a:pt x="351" y="448"/>
                  </a:lnTo>
                  <a:lnTo>
                    <a:pt x="340" y="434"/>
                  </a:lnTo>
                  <a:lnTo>
                    <a:pt x="329" y="423"/>
                  </a:lnTo>
                  <a:lnTo>
                    <a:pt x="320" y="410"/>
                  </a:lnTo>
                  <a:lnTo>
                    <a:pt x="311" y="399"/>
                  </a:lnTo>
                  <a:lnTo>
                    <a:pt x="302" y="388"/>
                  </a:lnTo>
                  <a:lnTo>
                    <a:pt x="293" y="377"/>
                  </a:lnTo>
                  <a:lnTo>
                    <a:pt x="285" y="366"/>
                  </a:lnTo>
                  <a:lnTo>
                    <a:pt x="258" y="328"/>
                  </a:lnTo>
                  <a:lnTo>
                    <a:pt x="229" y="273"/>
                  </a:lnTo>
                  <a:lnTo>
                    <a:pt x="225" y="253"/>
                  </a:lnTo>
                  <a:lnTo>
                    <a:pt x="216" y="233"/>
                  </a:lnTo>
                  <a:lnTo>
                    <a:pt x="207" y="211"/>
                  </a:lnTo>
                  <a:lnTo>
                    <a:pt x="193" y="189"/>
                  </a:lnTo>
                  <a:lnTo>
                    <a:pt x="180" y="164"/>
                  </a:lnTo>
                  <a:lnTo>
                    <a:pt x="165" y="142"/>
                  </a:lnTo>
                  <a:lnTo>
                    <a:pt x="151" y="120"/>
                  </a:lnTo>
                  <a:lnTo>
                    <a:pt x="136" y="100"/>
                  </a:lnTo>
                  <a:lnTo>
                    <a:pt x="120" y="78"/>
                  </a:lnTo>
                  <a:lnTo>
                    <a:pt x="113" y="69"/>
                  </a:lnTo>
                  <a:lnTo>
                    <a:pt x="107" y="60"/>
                  </a:lnTo>
                  <a:lnTo>
                    <a:pt x="100" y="51"/>
                  </a:lnTo>
                  <a:lnTo>
                    <a:pt x="93" y="42"/>
                  </a:lnTo>
                  <a:lnTo>
                    <a:pt x="87" y="36"/>
                  </a:lnTo>
                  <a:lnTo>
                    <a:pt x="80" y="29"/>
                  </a:lnTo>
                  <a:lnTo>
                    <a:pt x="71" y="16"/>
                  </a:lnTo>
                  <a:lnTo>
                    <a:pt x="65" y="7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"/>
            <p:cNvSpPr/>
            <p:nvPr/>
          </p:nvSpPr>
          <p:spPr>
            <a:xfrm>
              <a:off x="2964960" y="3478680"/>
              <a:ext cx="823320" cy="1140120"/>
            </a:xfrm>
            <a:custGeom>
              <a:avLst/>
              <a:gdLst>
                <a:gd name="textAreaLeft" fmla="*/ 0 w 823320"/>
                <a:gd name="textAreaRight" fmla="*/ 823680 w 823320"/>
                <a:gd name="textAreaTop" fmla="*/ 0 h 1140120"/>
                <a:gd name="textAreaBottom" fmla="*/ 1140120 h 1140120"/>
              </a:gdLst>
              <a:ahLst/>
              <a:rect l="textAreaLeft" t="textAreaTop" r="textAreaRight" b="textAreaBottom"/>
              <a:pathLst>
                <a:path w="1936" h="2681">
                  <a:moveTo>
                    <a:pt x="23" y="0"/>
                  </a:moveTo>
                  <a:lnTo>
                    <a:pt x="14" y="181"/>
                  </a:lnTo>
                  <a:lnTo>
                    <a:pt x="0" y="604"/>
                  </a:lnTo>
                  <a:lnTo>
                    <a:pt x="0" y="848"/>
                  </a:lnTo>
                  <a:lnTo>
                    <a:pt x="7" y="1085"/>
                  </a:lnTo>
                  <a:lnTo>
                    <a:pt x="16" y="1192"/>
                  </a:lnTo>
                  <a:lnTo>
                    <a:pt x="25" y="1289"/>
                  </a:lnTo>
                  <a:lnTo>
                    <a:pt x="32" y="1331"/>
                  </a:lnTo>
                  <a:lnTo>
                    <a:pt x="40" y="1371"/>
                  </a:lnTo>
                  <a:lnTo>
                    <a:pt x="49" y="1407"/>
                  </a:lnTo>
                  <a:lnTo>
                    <a:pt x="58" y="1438"/>
                  </a:lnTo>
                  <a:lnTo>
                    <a:pt x="69" y="1466"/>
                  </a:lnTo>
                  <a:lnTo>
                    <a:pt x="80" y="1497"/>
                  </a:lnTo>
                  <a:lnTo>
                    <a:pt x="92" y="1528"/>
                  </a:lnTo>
                  <a:lnTo>
                    <a:pt x="105" y="1562"/>
                  </a:lnTo>
                  <a:lnTo>
                    <a:pt x="118" y="1595"/>
                  </a:lnTo>
                  <a:lnTo>
                    <a:pt x="132" y="1630"/>
                  </a:lnTo>
                  <a:lnTo>
                    <a:pt x="147" y="1666"/>
                  </a:lnTo>
                  <a:lnTo>
                    <a:pt x="160" y="1703"/>
                  </a:lnTo>
                  <a:lnTo>
                    <a:pt x="176" y="1741"/>
                  </a:lnTo>
                  <a:lnTo>
                    <a:pt x="192" y="1779"/>
                  </a:lnTo>
                  <a:lnTo>
                    <a:pt x="207" y="1816"/>
                  </a:lnTo>
                  <a:lnTo>
                    <a:pt x="225" y="1854"/>
                  </a:lnTo>
                  <a:lnTo>
                    <a:pt x="240" y="1892"/>
                  </a:lnTo>
                  <a:lnTo>
                    <a:pt x="256" y="1929"/>
                  </a:lnTo>
                  <a:lnTo>
                    <a:pt x="274" y="1967"/>
                  </a:lnTo>
                  <a:lnTo>
                    <a:pt x="289" y="2005"/>
                  </a:lnTo>
                  <a:lnTo>
                    <a:pt x="305" y="2040"/>
                  </a:lnTo>
                  <a:lnTo>
                    <a:pt x="323" y="2076"/>
                  </a:lnTo>
                  <a:lnTo>
                    <a:pt x="338" y="2111"/>
                  </a:lnTo>
                  <a:lnTo>
                    <a:pt x="354" y="2147"/>
                  </a:lnTo>
                  <a:lnTo>
                    <a:pt x="369" y="2180"/>
                  </a:lnTo>
                  <a:lnTo>
                    <a:pt x="385" y="2211"/>
                  </a:lnTo>
                  <a:lnTo>
                    <a:pt x="400" y="2242"/>
                  </a:lnTo>
                  <a:lnTo>
                    <a:pt x="414" y="2271"/>
                  </a:lnTo>
                  <a:lnTo>
                    <a:pt x="427" y="2299"/>
                  </a:lnTo>
                  <a:lnTo>
                    <a:pt x="440" y="2324"/>
                  </a:lnTo>
                  <a:lnTo>
                    <a:pt x="454" y="2348"/>
                  </a:lnTo>
                  <a:lnTo>
                    <a:pt x="465" y="2370"/>
                  </a:lnTo>
                  <a:lnTo>
                    <a:pt x="476" y="2390"/>
                  </a:lnTo>
                  <a:lnTo>
                    <a:pt x="487" y="2408"/>
                  </a:lnTo>
                  <a:lnTo>
                    <a:pt x="505" y="2437"/>
                  </a:lnTo>
                  <a:lnTo>
                    <a:pt x="514" y="2448"/>
                  </a:lnTo>
                  <a:lnTo>
                    <a:pt x="523" y="2459"/>
                  </a:lnTo>
                  <a:lnTo>
                    <a:pt x="536" y="2470"/>
                  </a:lnTo>
                  <a:lnTo>
                    <a:pt x="547" y="2481"/>
                  </a:lnTo>
                  <a:lnTo>
                    <a:pt x="560" y="2494"/>
                  </a:lnTo>
                  <a:lnTo>
                    <a:pt x="576" y="2506"/>
                  </a:lnTo>
                  <a:lnTo>
                    <a:pt x="591" y="2517"/>
                  </a:lnTo>
                  <a:lnTo>
                    <a:pt x="609" y="2525"/>
                  </a:lnTo>
                  <a:lnTo>
                    <a:pt x="627" y="2537"/>
                  </a:lnTo>
                  <a:lnTo>
                    <a:pt x="645" y="2548"/>
                  </a:lnTo>
                  <a:lnTo>
                    <a:pt x="665" y="2556"/>
                  </a:lnTo>
                  <a:lnTo>
                    <a:pt x="685" y="2568"/>
                  </a:lnTo>
                  <a:lnTo>
                    <a:pt x="707" y="2576"/>
                  </a:lnTo>
                  <a:lnTo>
                    <a:pt x="729" y="2587"/>
                  </a:lnTo>
                  <a:lnTo>
                    <a:pt x="751" y="2596"/>
                  </a:lnTo>
                  <a:lnTo>
                    <a:pt x="774" y="2605"/>
                  </a:lnTo>
                  <a:lnTo>
                    <a:pt x="798" y="2614"/>
                  </a:lnTo>
                  <a:lnTo>
                    <a:pt x="822" y="2621"/>
                  </a:lnTo>
                  <a:lnTo>
                    <a:pt x="847" y="2630"/>
                  </a:lnTo>
                  <a:lnTo>
                    <a:pt x="871" y="2636"/>
                  </a:lnTo>
                  <a:lnTo>
                    <a:pt x="898" y="2643"/>
                  </a:lnTo>
                  <a:lnTo>
                    <a:pt x="922" y="2650"/>
                  </a:lnTo>
                  <a:lnTo>
                    <a:pt x="976" y="2661"/>
                  </a:lnTo>
                  <a:lnTo>
                    <a:pt x="1029" y="2669"/>
                  </a:lnTo>
                  <a:lnTo>
                    <a:pt x="1080" y="2676"/>
                  </a:lnTo>
                  <a:lnTo>
                    <a:pt x="1187" y="2681"/>
                  </a:lnTo>
                  <a:lnTo>
                    <a:pt x="1407" y="2669"/>
                  </a:lnTo>
                  <a:lnTo>
                    <a:pt x="1516" y="2654"/>
                  </a:lnTo>
                  <a:lnTo>
                    <a:pt x="1569" y="2647"/>
                  </a:lnTo>
                  <a:lnTo>
                    <a:pt x="1620" y="2636"/>
                  </a:lnTo>
                  <a:lnTo>
                    <a:pt x="1669" y="2627"/>
                  </a:lnTo>
                  <a:lnTo>
                    <a:pt x="1716" y="2616"/>
                  </a:lnTo>
                  <a:lnTo>
                    <a:pt x="1758" y="2605"/>
                  </a:lnTo>
                  <a:lnTo>
                    <a:pt x="1793" y="2592"/>
                  </a:lnTo>
                  <a:lnTo>
                    <a:pt x="1827" y="2581"/>
                  </a:lnTo>
                  <a:lnTo>
                    <a:pt x="1856" y="2570"/>
                  </a:lnTo>
                  <a:lnTo>
                    <a:pt x="1878" y="2556"/>
                  </a:lnTo>
                  <a:lnTo>
                    <a:pt x="1893" y="2545"/>
                  </a:lnTo>
                  <a:lnTo>
                    <a:pt x="1904" y="2532"/>
                  </a:lnTo>
                  <a:lnTo>
                    <a:pt x="1913" y="2521"/>
                  </a:lnTo>
                  <a:lnTo>
                    <a:pt x="1927" y="2503"/>
                  </a:lnTo>
                  <a:lnTo>
                    <a:pt x="1936" y="2474"/>
                  </a:lnTo>
                  <a:lnTo>
                    <a:pt x="1931" y="2457"/>
                  </a:lnTo>
                  <a:lnTo>
                    <a:pt x="1929" y="2450"/>
                  </a:lnTo>
                  <a:lnTo>
                    <a:pt x="1913" y="2459"/>
                  </a:lnTo>
                  <a:lnTo>
                    <a:pt x="1893" y="2468"/>
                  </a:lnTo>
                  <a:lnTo>
                    <a:pt x="1869" y="2479"/>
                  </a:lnTo>
                  <a:lnTo>
                    <a:pt x="1838" y="2490"/>
                  </a:lnTo>
                  <a:lnTo>
                    <a:pt x="1804" y="2503"/>
                  </a:lnTo>
                  <a:lnTo>
                    <a:pt x="1767" y="2514"/>
                  </a:lnTo>
                  <a:lnTo>
                    <a:pt x="1727" y="2523"/>
                  </a:lnTo>
                  <a:lnTo>
                    <a:pt x="1687" y="2528"/>
                  </a:lnTo>
                  <a:lnTo>
                    <a:pt x="1647" y="2523"/>
                  </a:lnTo>
                  <a:lnTo>
                    <a:pt x="1578" y="2503"/>
                  </a:lnTo>
                  <a:lnTo>
                    <a:pt x="1551" y="2488"/>
                  </a:lnTo>
                  <a:lnTo>
                    <a:pt x="1533" y="2472"/>
                  </a:lnTo>
                  <a:lnTo>
                    <a:pt x="1522" y="2457"/>
                  </a:lnTo>
                  <a:lnTo>
                    <a:pt x="1525" y="2443"/>
                  </a:lnTo>
                  <a:lnTo>
                    <a:pt x="1536" y="2432"/>
                  </a:lnTo>
                  <a:lnTo>
                    <a:pt x="1545" y="2426"/>
                  </a:lnTo>
                  <a:lnTo>
                    <a:pt x="1553" y="2419"/>
                  </a:lnTo>
                  <a:lnTo>
                    <a:pt x="1562" y="2410"/>
                  </a:lnTo>
                  <a:lnTo>
                    <a:pt x="1573" y="2404"/>
                  </a:lnTo>
                  <a:lnTo>
                    <a:pt x="1585" y="2397"/>
                  </a:lnTo>
                  <a:lnTo>
                    <a:pt x="1596" y="2390"/>
                  </a:lnTo>
                  <a:lnTo>
                    <a:pt x="1605" y="2384"/>
                  </a:lnTo>
                  <a:lnTo>
                    <a:pt x="1616" y="2377"/>
                  </a:lnTo>
                  <a:lnTo>
                    <a:pt x="1631" y="2366"/>
                  </a:lnTo>
                  <a:lnTo>
                    <a:pt x="1647" y="2357"/>
                  </a:lnTo>
                  <a:lnTo>
                    <a:pt x="1593" y="2350"/>
                  </a:lnTo>
                  <a:lnTo>
                    <a:pt x="1527" y="2342"/>
                  </a:lnTo>
                  <a:lnTo>
                    <a:pt x="1431" y="2335"/>
                  </a:lnTo>
                  <a:lnTo>
                    <a:pt x="1349" y="2324"/>
                  </a:lnTo>
                  <a:lnTo>
                    <a:pt x="1305" y="2308"/>
                  </a:lnTo>
                  <a:lnTo>
                    <a:pt x="1289" y="2293"/>
                  </a:lnTo>
                  <a:lnTo>
                    <a:pt x="1287" y="2286"/>
                  </a:lnTo>
                  <a:lnTo>
                    <a:pt x="1505" y="2242"/>
                  </a:lnTo>
                  <a:lnTo>
                    <a:pt x="1142" y="2213"/>
                  </a:lnTo>
                  <a:lnTo>
                    <a:pt x="1467" y="2127"/>
                  </a:lnTo>
                  <a:lnTo>
                    <a:pt x="1298" y="2127"/>
                  </a:lnTo>
                  <a:lnTo>
                    <a:pt x="1167" y="2109"/>
                  </a:lnTo>
                  <a:lnTo>
                    <a:pt x="1114" y="2093"/>
                  </a:lnTo>
                  <a:lnTo>
                    <a:pt x="1078" y="2069"/>
                  </a:lnTo>
                  <a:lnTo>
                    <a:pt x="1067" y="2049"/>
                  </a:lnTo>
                  <a:lnTo>
                    <a:pt x="1071" y="2045"/>
                  </a:lnTo>
                  <a:lnTo>
                    <a:pt x="1080" y="2040"/>
                  </a:lnTo>
                  <a:lnTo>
                    <a:pt x="1151" y="2040"/>
                  </a:lnTo>
                  <a:lnTo>
                    <a:pt x="1247" y="2038"/>
                  </a:lnTo>
                  <a:lnTo>
                    <a:pt x="1287" y="2027"/>
                  </a:lnTo>
                  <a:lnTo>
                    <a:pt x="1316" y="2005"/>
                  </a:lnTo>
                  <a:lnTo>
                    <a:pt x="1331" y="1978"/>
                  </a:lnTo>
                  <a:lnTo>
                    <a:pt x="1333" y="1956"/>
                  </a:lnTo>
                  <a:lnTo>
                    <a:pt x="1322" y="1941"/>
                  </a:lnTo>
                  <a:lnTo>
                    <a:pt x="1316" y="1934"/>
                  </a:lnTo>
                  <a:lnTo>
                    <a:pt x="1305" y="1929"/>
                  </a:lnTo>
                  <a:lnTo>
                    <a:pt x="1280" y="1921"/>
                  </a:lnTo>
                  <a:lnTo>
                    <a:pt x="1249" y="1916"/>
                  </a:lnTo>
                  <a:lnTo>
                    <a:pt x="1180" y="1912"/>
                  </a:lnTo>
                  <a:lnTo>
                    <a:pt x="1076" y="1918"/>
                  </a:lnTo>
                  <a:lnTo>
                    <a:pt x="1022" y="1914"/>
                  </a:lnTo>
                  <a:lnTo>
                    <a:pt x="936" y="1896"/>
                  </a:lnTo>
                  <a:lnTo>
                    <a:pt x="887" y="1883"/>
                  </a:lnTo>
                  <a:lnTo>
                    <a:pt x="867" y="1876"/>
                  </a:lnTo>
                  <a:lnTo>
                    <a:pt x="849" y="1867"/>
                  </a:lnTo>
                  <a:lnTo>
                    <a:pt x="831" y="1859"/>
                  </a:lnTo>
                  <a:lnTo>
                    <a:pt x="818" y="1852"/>
                  </a:lnTo>
                  <a:lnTo>
                    <a:pt x="800" y="1836"/>
                  </a:lnTo>
                  <a:lnTo>
                    <a:pt x="789" y="1823"/>
                  </a:lnTo>
                  <a:lnTo>
                    <a:pt x="791" y="1812"/>
                  </a:lnTo>
                  <a:lnTo>
                    <a:pt x="805" y="1805"/>
                  </a:lnTo>
                  <a:lnTo>
                    <a:pt x="829" y="1803"/>
                  </a:lnTo>
                  <a:lnTo>
                    <a:pt x="896" y="1799"/>
                  </a:lnTo>
                  <a:lnTo>
                    <a:pt x="962" y="1785"/>
                  </a:lnTo>
                  <a:lnTo>
                    <a:pt x="1016" y="1772"/>
                  </a:lnTo>
                  <a:lnTo>
                    <a:pt x="1038" y="1768"/>
                  </a:lnTo>
                  <a:lnTo>
                    <a:pt x="727" y="1732"/>
                  </a:lnTo>
                  <a:lnTo>
                    <a:pt x="729" y="1721"/>
                  </a:lnTo>
                  <a:lnTo>
                    <a:pt x="743" y="1699"/>
                  </a:lnTo>
                  <a:lnTo>
                    <a:pt x="749" y="1692"/>
                  </a:lnTo>
                  <a:lnTo>
                    <a:pt x="756" y="1688"/>
                  </a:lnTo>
                  <a:lnTo>
                    <a:pt x="765" y="1681"/>
                  </a:lnTo>
                  <a:lnTo>
                    <a:pt x="776" y="1677"/>
                  </a:lnTo>
                  <a:lnTo>
                    <a:pt x="805" y="1670"/>
                  </a:lnTo>
                  <a:lnTo>
                    <a:pt x="842" y="1668"/>
                  </a:lnTo>
                  <a:lnTo>
                    <a:pt x="925" y="1661"/>
                  </a:lnTo>
                  <a:lnTo>
                    <a:pt x="994" y="1646"/>
                  </a:lnTo>
                  <a:lnTo>
                    <a:pt x="1022" y="1637"/>
                  </a:lnTo>
                  <a:lnTo>
                    <a:pt x="1042" y="1630"/>
                  </a:lnTo>
                  <a:lnTo>
                    <a:pt x="1058" y="1624"/>
                  </a:lnTo>
                  <a:lnTo>
                    <a:pt x="862" y="1610"/>
                  </a:lnTo>
                  <a:lnTo>
                    <a:pt x="723" y="1595"/>
                  </a:lnTo>
                  <a:lnTo>
                    <a:pt x="674" y="1582"/>
                  </a:lnTo>
                  <a:lnTo>
                    <a:pt x="649" y="1566"/>
                  </a:lnTo>
                  <a:lnTo>
                    <a:pt x="651" y="1553"/>
                  </a:lnTo>
                  <a:lnTo>
                    <a:pt x="663" y="1548"/>
                  </a:lnTo>
                  <a:lnTo>
                    <a:pt x="676" y="1544"/>
                  </a:lnTo>
                  <a:lnTo>
                    <a:pt x="711" y="1537"/>
                  </a:lnTo>
                  <a:lnTo>
                    <a:pt x="758" y="1535"/>
                  </a:lnTo>
                  <a:lnTo>
                    <a:pt x="916" y="1537"/>
                  </a:lnTo>
                  <a:lnTo>
                    <a:pt x="954" y="1528"/>
                  </a:lnTo>
                  <a:lnTo>
                    <a:pt x="976" y="1517"/>
                  </a:lnTo>
                  <a:lnTo>
                    <a:pt x="996" y="1506"/>
                  </a:lnTo>
                  <a:lnTo>
                    <a:pt x="1016" y="1493"/>
                  </a:lnTo>
                  <a:lnTo>
                    <a:pt x="1031" y="1484"/>
                  </a:lnTo>
                  <a:lnTo>
                    <a:pt x="1045" y="1473"/>
                  </a:lnTo>
                  <a:lnTo>
                    <a:pt x="885" y="1466"/>
                  </a:lnTo>
                  <a:lnTo>
                    <a:pt x="738" y="1457"/>
                  </a:lnTo>
                  <a:lnTo>
                    <a:pt x="591" y="1444"/>
                  </a:lnTo>
                  <a:lnTo>
                    <a:pt x="536" y="1435"/>
                  </a:lnTo>
                  <a:lnTo>
                    <a:pt x="503" y="1424"/>
                  </a:lnTo>
                  <a:lnTo>
                    <a:pt x="489" y="1413"/>
                  </a:lnTo>
                  <a:lnTo>
                    <a:pt x="496" y="1402"/>
                  </a:lnTo>
                  <a:lnTo>
                    <a:pt x="505" y="1398"/>
                  </a:lnTo>
                  <a:lnTo>
                    <a:pt x="516" y="1393"/>
                  </a:lnTo>
                  <a:lnTo>
                    <a:pt x="554" y="1384"/>
                  </a:lnTo>
                  <a:lnTo>
                    <a:pt x="603" y="1376"/>
                  </a:lnTo>
                  <a:lnTo>
                    <a:pt x="663" y="1371"/>
                  </a:lnTo>
                  <a:lnTo>
                    <a:pt x="840" y="1367"/>
                  </a:lnTo>
                  <a:lnTo>
                    <a:pt x="891" y="1360"/>
                  </a:lnTo>
                  <a:lnTo>
                    <a:pt x="936" y="1342"/>
                  </a:lnTo>
                  <a:lnTo>
                    <a:pt x="954" y="1331"/>
                  </a:lnTo>
                  <a:lnTo>
                    <a:pt x="960" y="1320"/>
                  </a:lnTo>
                  <a:lnTo>
                    <a:pt x="956" y="1311"/>
                  </a:lnTo>
                  <a:lnTo>
                    <a:pt x="951" y="1305"/>
                  </a:lnTo>
                  <a:lnTo>
                    <a:pt x="947" y="1300"/>
                  </a:lnTo>
                  <a:lnTo>
                    <a:pt x="934" y="1291"/>
                  </a:lnTo>
                  <a:lnTo>
                    <a:pt x="922" y="1285"/>
                  </a:lnTo>
                  <a:lnTo>
                    <a:pt x="909" y="1278"/>
                  </a:lnTo>
                  <a:lnTo>
                    <a:pt x="498" y="1249"/>
                  </a:lnTo>
                  <a:lnTo>
                    <a:pt x="540" y="1192"/>
                  </a:lnTo>
                  <a:lnTo>
                    <a:pt x="829" y="1178"/>
                  </a:lnTo>
                  <a:lnTo>
                    <a:pt x="454" y="1127"/>
                  </a:lnTo>
                  <a:lnTo>
                    <a:pt x="460" y="1118"/>
                  </a:lnTo>
                  <a:lnTo>
                    <a:pt x="474" y="1099"/>
                  </a:lnTo>
                  <a:lnTo>
                    <a:pt x="485" y="1087"/>
                  </a:lnTo>
                  <a:lnTo>
                    <a:pt x="496" y="1076"/>
                  </a:lnTo>
                  <a:lnTo>
                    <a:pt x="511" y="1068"/>
                  </a:lnTo>
                  <a:lnTo>
                    <a:pt x="527" y="1063"/>
                  </a:lnTo>
                  <a:lnTo>
                    <a:pt x="583" y="1056"/>
                  </a:lnTo>
                  <a:lnTo>
                    <a:pt x="665" y="1045"/>
                  </a:lnTo>
                  <a:lnTo>
                    <a:pt x="738" y="1039"/>
                  </a:lnTo>
                  <a:lnTo>
                    <a:pt x="771" y="1034"/>
                  </a:lnTo>
                  <a:lnTo>
                    <a:pt x="740" y="1028"/>
                  </a:lnTo>
                  <a:lnTo>
                    <a:pt x="707" y="1021"/>
                  </a:lnTo>
                  <a:lnTo>
                    <a:pt x="665" y="1012"/>
                  </a:lnTo>
                  <a:lnTo>
                    <a:pt x="620" y="1003"/>
                  </a:lnTo>
                  <a:lnTo>
                    <a:pt x="576" y="994"/>
                  </a:lnTo>
                  <a:lnTo>
                    <a:pt x="538" y="988"/>
                  </a:lnTo>
                  <a:lnTo>
                    <a:pt x="505" y="983"/>
                  </a:lnTo>
                  <a:lnTo>
                    <a:pt x="383" y="981"/>
                  </a:lnTo>
                  <a:lnTo>
                    <a:pt x="345" y="974"/>
                  </a:lnTo>
                  <a:lnTo>
                    <a:pt x="343" y="963"/>
                  </a:lnTo>
                  <a:lnTo>
                    <a:pt x="354" y="948"/>
                  </a:lnTo>
                  <a:lnTo>
                    <a:pt x="365" y="939"/>
                  </a:lnTo>
                  <a:lnTo>
                    <a:pt x="376" y="930"/>
                  </a:lnTo>
                  <a:lnTo>
                    <a:pt x="389" y="926"/>
                  </a:lnTo>
                  <a:lnTo>
                    <a:pt x="403" y="919"/>
                  </a:lnTo>
                  <a:lnTo>
                    <a:pt x="436" y="910"/>
                  </a:lnTo>
                  <a:lnTo>
                    <a:pt x="469" y="904"/>
                  </a:lnTo>
                  <a:lnTo>
                    <a:pt x="585" y="890"/>
                  </a:lnTo>
                  <a:lnTo>
                    <a:pt x="598" y="886"/>
                  </a:lnTo>
                  <a:lnTo>
                    <a:pt x="607" y="877"/>
                  </a:lnTo>
                  <a:lnTo>
                    <a:pt x="609" y="864"/>
                  </a:lnTo>
                  <a:lnTo>
                    <a:pt x="607" y="853"/>
                  </a:lnTo>
                  <a:lnTo>
                    <a:pt x="598" y="828"/>
                  </a:lnTo>
                  <a:lnTo>
                    <a:pt x="591" y="819"/>
                  </a:lnTo>
                  <a:lnTo>
                    <a:pt x="507" y="822"/>
                  </a:lnTo>
                  <a:lnTo>
                    <a:pt x="429" y="819"/>
                  </a:lnTo>
                  <a:lnTo>
                    <a:pt x="354" y="804"/>
                  </a:lnTo>
                  <a:lnTo>
                    <a:pt x="320" y="793"/>
                  </a:lnTo>
                  <a:lnTo>
                    <a:pt x="296" y="782"/>
                  </a:lnTo>
                  <a:lnTo>
                    <a:pt x="274" y="768"/>
                  </a:lnTo>
                  <a:lnTo>
                    <a:pt x="258" y="757"/>
                  </a:lnTo>
                  <a:lnTo>
                    <a:pt x="245" y="746"/>
                  </a:lnTo>
                  <a:lnTo>
                    <a:pt x="238" y="740"/>
                  </a:lnTo>
                  <a:lnTo>
                    <a:pt x="232" y="733"/>
                  </a:lnTo>
                  <a:lnTo>
                    <a:pt x="260" y="729"/>
                  </a:lnTo>
                  <a:lnTo>
                    <a:pt x="331" y="722"/>
                  </a:lnTo>
                  <a:lnTo>
                    <a:pt x="411" y="717"/>
                  </a:lnTo>
                  <a:lnTo>
                    <a:pt x="469" y="717"/>
                  </a:lnTo>
                  <a:lnTo>
                    <a:pt x="485" y="717"/>
                  </a:lnTo>
                  <a:lnTo>
                    <a:pt x="498" y="711"/>
                  </a:lnTo>
                  <a:lnTo>
                    <a:pt x="509" y="700"/>
                  </a:lnTo>
                  <a:lnTo>
                    <a:pt x="516" y="689"/>
                  </a:lnTo>
                  <a:lnTo>
                    <a:pt x="527" y="653"/>
                  </a:lnTo>
                  <a:lnTo>
                    <a:pt x="260" y="647"/>
                  </a:lnTo>
                  <a:lnTo>
                    <a:pt x="354" y="589"/>
                  </a:lnTo>
                  <a:lnTo>
                    <a:pt x="469" y="560"/>
                  </a:lnTo>
                  <a:lnTo>
                    <a:pt x="180" y="538"/>
                  </a:lnTo>
                  <a:lnTo>
                    <a:pt x="303" y="503"/>
                  </a:lnTo>
                  <a:lnTo>
                    <a:pt x="152" y="458"/>
                  </a:lnTo>
                  <a:lnTo>
                    <a:pt x="172" y="449"/>
                  </a:lnTo>
                  <a:lnTo>
                    <a:pt x="192" y="436"/>
                  </a:lnTo>
                  <a:lnTo>
                    <a:pt x="203" y="429"/>
                  </a:lnTo>
                  <a:lnTo>
                    <a:pt x="214" y="421"/>
                  </a:lnTo>
                  <a:lnTo>
                    <a:pt x="225" y="412"/>
                  </a:lnTo>
                  <a:lnTo>
                    <a:pt x="236" y="403"/>
                  </a:lnTo>
                  <a:lnTo>
                    <a:pt x="245" y="392"/>
                  </a:lnTo>
                  <a:lnTo>
                    <a:pt x="252" y="381"/>
                  </a:lnTo>
                  <a:lnTo>
                    <a:pt x="263" y="356"/>
                  </a:lnTo>
                  <a:lnTo>
                    <a:pt x="260" y="330"/>
                  </a:lnTo>
                  <a:lnTo>
                    <a:pt x="247" y="308"/>
                  </a:lnTo>
                  <a:lnTo>
                    <a:pt x="238" y="301"/>
                  </a:lnTo>
                  <a:lnTo>
                    <a:pt x="227" y="296"/>
                  </a:lnTo>
                  <a:lnTo>
                    <a:pt x="203" y="290"/>
                  </a:lnTo>
                  <a:lnTo>
                    <a:pt x="176" y="290"/>
                  </a:lnTo>
                  <a:lnTo>
                    <a:pt x="129" y="290"/>
                  </a:lnTo>
                  <a:lnTo>
                    <a:pt x="114" y="283"/>
                  </a:lnTo>
                  <a:lnTo>
                    <a:pt x="109" y="272"/>
                  </a:lnTo>
                  <a:lnTo>
                    <a:pt x="116" y="237"/>
                  </a:lnTo>
                  <a:lnTo>
                    <a:pt x="123" y="217"/>
                  </a:lnTo>
                  <a:lnTo>
                    <a:pt x="129" y="199"/>
                  </a:lnTo>
                  <a:lnTo>
                    <a:pt x="145" y="168"/>
                  </a:lnTo>
                  <a:lnTo>
                    <a:pt x="152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2419920" y="3215520"/>
              <a:ext cx="619560" cy="137772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1377720"/>
                <a:gd name="textAreaBottom" fmla="*/ 1378080 h 1377720"/>
              </a:gdLst>
              <a:ahLst/>
              <a:rect l="textAreaLeft" t="textAreaTop" r="textAreaRight" b="textAreaBottom"/>
              <a:pathLst>
                <a:path w="1457" h="3240">
                  <a:moveTo>
                    <a:pt x="206" y="0"/>
                  </a:moveTo>
                  <a:lnTo>
                    <a:pt x="202" y="16"/>
                  </a:lnTo>
                  <a:lnTo>
                    <a:pt x="195" y="34"/>
                  </a:lnTo>
                  <a:lnTo>
                    <a:pt x="184" y="56"/>
                  </a:lnTo>
                  <a:lnTo>
                    <a:pt x="173" y="87"/>
                  </a:lnTo>
                  <a:lnTo>
                    <a:pt x="159" y="122"/>
                  </a:lnTo>
                  <a:lnTo>
                    <a:pt x="153" y="140"/>
                  </a:lnTo>
                  <a:lnTo>
                    <a:pt x="146" y="160"/>
                  </a:lnTo>
                  <a:lnTo>
                    <a:pt x="139" y="182"/>
                  </a:lnTo>
                  <a:lnTo>
                    <a:pt x="131" y="204"/>
                  </a:lnTo>
                  <a:lnTo>
                    <a:pt x="124" y="229"/>
                  </a:lnTo>
                  <a:lnTo>
                    <a:pt x="115" y="253"/>
                  </a:lnTo>
                  <a:lnTo>
                    <a:pt x="100" y="304"/>
                  </a:lnTo>
                  <a:lnTo>
                    <a:pt x="84" y="357"/>
                  </a:lnTo>
                  <a:lnTo>
                    <a:pt x="71" y="413"/>
                  </a:lnTo>
                  <a:lnTo>
                    <a:pt x="55" y="470"/>
                  </a:lnTo>
                  <a:lnTo>
                    <a:pt x="44" y="528"/>
                  </a:lnTo>
                  <a:lnTo>
                    <a:pt x="33" y="588"/>
                  </a:lnTo>
                  <a:lnTo>
                    <a:pt x="22" y="647"/>
                  </a:lnTo>
                  <a:lnTo>
                    <a:pt x="2" y="918"/>
                  </a:lnTo>
                  <a:lnTo>
                    <a:pt x="0" y="1066"/>
                  </a:lnTo>
                  <a:lnTo>
                    <a:pt x="4" y="1212"/>
                  </a:lnTo>
                  <a:lnTo>
                    <a:pt x="11" y="1348"/>
                  </a:lnTo>
                  <a:lnTo>
                    <a:pt x="17" y="1410"/>
                  </a:lnTo>
                  <a:lnTo>
                    <a:pt x="24" y="1465"/>
                  </a:lnTo>
                  <a:lnTo>
                    <a:pt x="33" y="1516"/>
                  </a:lnTo>
                  <a:lnTo>
                    <a:pt x="42" y="1558"/>
                  </a:lnTo>
                  <a:lnTo>
                    <a:pt x="51" y="1591"/>
                  </a:lnTo>
                  <a:lnTo>
                    <a:pt x="62" y="1616"/>
                  </a:lnTo>
                  <a:lnTo>
                    <a:pt x="73" y="1636"/>
                  </a:lnTo>
                  <a:lnTo>
                    <a:pt x="86" y="1658"/>
                  </a:lnTo>
                  <a:lnTo>
                    <a:pt x="100" y="1680"/>
                  </a:lnTo>
                  <a:lnTo>
                    <a:pt x="113" y="1704"/>
                  </a:lnTo>
                  <a:lnTo>
                    <a:pt x="126" y="1729"/>
                  </a:lnTo>
                  <a:lnTo>
                    <a:pt x="139" y="1755"/>
                  </a:lnTo>
                  <a:lnTo>
                    <a:pt x="153" y="1780"/>
                  </a:lnTo>
                  <a:lnTo>
                    <a:pt x="164" y="1804"/>
                  </a:lnTo>
                  <a:lnTo>
                    <a:pt x="177" y="1828"/>
                  </a:lnTo>
                  <a:lnTo>
                    <a:pt x="188" y="1850"/>
                  </a:lnTo>
                  <a:lnTo>
                    <a:pt x="206" y="1890"/>
                  </a:lnTo>
                  <a:lnTo>
                    <a:pt x="219" y="1941"/>
                  </a:lnTo>
                  <a:lnTo>
                    <a:pt x="215" y="1955"/>
                  </a:lnTo>
                  <a:lnTo>
                    <a:pt x="208" y="1968"/>
                  </a:lnTo>
                  <a:lnTo>
                    <a:pt x="191" y="1992"/>
                  </a:lnTo>
                  <a:lnTo>
                    <a:pt x="188" y="2014"/>
                  </a:lnTo>
                  <a:lnTo>
                    <a:pt x="193" y="2019"/>
                  </a:lnTo>
                  <a:lnTo>
                    <a:pt x="202" y="2023"/>
                  </a:lnTo>
                  <a:lnTo>
                    <a:pt x="224" y="2030"/>
                  </a:lnTo>
                  <a:lnTo>
                    <a:pt x="271" y="2045"/>
                  </a:lnTo>
                  <a:lnTo>
                    <a:pt x="293" y="2063"/>
                  </a:lnTo>
                  <a:lnTo>
                    <a:pt x="295" y="2072"/>
                  </a:lnTo>
                  <a:lnTo>
                    <a:pt x="293" y="2081"/>
                  </a:lnTo>
                  <a:lnTo>
                    <a:pt x="286" y="2088"/>
                  </a:lnTo>
                  <a:lnTo>
                    <a:pt x="275" y="2094"/>
                  </a:lnTo>
                  <a:lnTo>
                    <a:pt x="257" y="2108"/>
                  </a:lnTo>
                  <a:lnTo>
                    <a:pt x="248" y="2121"/>
                  </a:lnTo>
                  <a:lnTo>
                    <a:pt x="253" y="2134"/>
                  </a:lnTo>
                  <a:lnTo>
                    <a:pt x="262" y="2141"/>
                  </a:lnTo>
                  <a:lnTo>
                    <a:pt x="275" y="2147"/>
                  </a:lnTo>
                  <a:lnTo>
                    <a:pt x="299" y="2158"/>
                  </a:lnTo>
                  <a:lnTo>
                    <a:pt x="311" y="2172"/>
                  </a:lnTo>
                  <a:lnTo>
                    <a:pt x="308" y="2187"/>
                  </a:lnTo>
                  <a:lnTo>
                    <a:pt x="297" y="2212"/>
                  </a:lnTo>
                  <a:lnTo>
                    <a:pt x="293" y="2225"/>
                  </a:lnTo>
                  <a:lnTo>
                    <a:pt x="297" y="2236"/>
                  </a:lnTo>
                  <a:lnTo>
                    <a:pt x="306" y="2245"/>
                  </a:lnTo>
                  <a:lnTo>
                    <a:pt x="319" y="2254"/>
                  </a:lnTo>
                  <a:lnTo>
                    <a:pt x="333" y="2258"/>
                  </a:lnTo>
                  <a:lnTo>
                    <a:pt x="346" y="2263"/>
                  </a:lnTo>
                  <a:lnTo>
                    <a:pt x="357" y="2267"/>
                  </a:lnTo>
                  <a:lnTo>
                    <a:pt x="331" y="2309"/>
                  </a:lnTo>
                  <a:lnTo>
                    <a:pt x="339" y="2318"/>
                  </a:lnTo>
                  <a:lnTo>
                    <a:pt x="348" y="2329"/>
                  </a:lnTo>
                  <a:lnTo>
                    <a:pt x="353" y="2334"/>
                  </a:lnTo>
                  <a:lnTo>
                    <a:pt x="357" y="2340"/>
                  </a:lnTo>
                  <a:lnTo>
                    <a:pt x="364" y="2349"/>
                  </a:lnTo>
                  <a:lnTo>
                    <a:pt x="371" y="2358"/>
                  </a:lnTo>
                  <a:lnTo>
                    <a:pt x="379" y="2367"/>
                  </a:lnTo>
                  <a:lnTo>
                    <a:pt x="386" y="2376"/>
                  </a:lnTo>
                  <a:lnTo>
                    <a:pt x="395" y="2384"/>
                  </a:lnTo>
                  <a:lnTo>
                    <a:pt x="402" y="2396"/>
                  </a:lnTo>
                  <a:lnTo>
                    <a:pt x="411" y="2407"/>
                  </a:lnTo>
                  <a:lnTo>
                    <a:pt x="419" y="2418"/>
                  </a:lnTo>
                  <a:lnTo>
                    <a:pt x="428" y="2429"/>
                  </a:lnTo>
                  <a:lnTo>
                    <a:pt x="437" y="2440"/>
                  </a:lnTo>
                  <a:lnTo>
                    <a:pt x="444" y="2451"/>
                  </a:lnTo>
                  <a:lnTo>
                    <a:pt x="453" y="2462"/>
                  </a:lnTo>
                  <a:lnTo>
                    <a:pt x="471" y="2484"/>
                  </a:lnTo>
                  <a:lnTo>
                    <a:pt x="486" y="2506"/>
                  </a:lnTo>
                  <a:lnTo>
                    <a:pt x="513" y="2546"/>
                  </a:lnTo>
                  <a:lnTo>
                    <a:pt x="528" y="2579"/>
                  </a:lnTo>
                  <a:lnTo>
                    <a:pt x="542" y="2610"/>
                  </a:lnTo>
                  <a:lnTo>
                    <a:pt x="553" y="2646"/>
                  </a:lnTo>
                  <a:lnTo>
                    <a:pt x="566" y="2684"/>
                  </a:lnTo>
                  <a:lnTo>
                    <a:pt x="573" y="2704"/>
                  </a:lnTo>
                  <a:lnTo>
                    <a:pt x="577" y="2723"/>
                  </a:lnTo>
                  <a:lnTo>
                    <a:pt x="591" y="2759"/>
                  </a:lnTo>
                  <a:lnTo>
                    <a:pt x="602" y="2792"/>
                  </a:lnTo>
                  <a:lnTo>
                    <a:pt x="613" y="2817"/>
                  </a:lnTo>
                  <a:lnTo>
                    <a:pt x="624" y="2832"/>
                  </a:lnTo>
                  <a:lnTo>
                    <a:pt x="637" y="2856"/>
                  </a:lnTo>
                  <a:lnTo>
                    <a:pt x="648" y="2879"/>
                  </a:lnTo>
                  <a:lnTo>
                    <a:pt x="662" y="2905"/>
                  </a:lnTo>
                  <a:lnTo>
                    <a:pt x="677" y="2936"/>
                  </a:lnTo>
                  <a:lnTo>
                    <a:pt x="693" y="2969"/>
                  </a:lnTo>
                  <a:lnTo>
                    <a:pt x="710" y="3005"/>
                  </a:lnTo>
                  <a:lnTo>
                    <a:pt x="730" y="3040"/>
                  </a:lnTo>
                  <a:lnTo>
                    <a:pt x="750" y="3076"/>
                  </a:lnTo>
                  <a:lnTo>
                    <a:pt x="770" y="3111"/>
                  </a:lnTo>
                  <a:lnTo>
                    <a:pt x="790" y="3144"/>
                  </a:lnTo>
                  <a:lnTo>
                    <a:pt x="810" y="3173"/>
                  </a:lnTo>
                  <a:lnTo>
                    <a:pt x="817" y="3180"/>
                  </a:lnTo>
                  <a:lnTo>
                    <a:pt x="822" y="3187"/>
                  </a:lnTo>
                  <a:lnTo>
                    <a:pt x="833" y="3200"/>
                  </a:lnTo>
                  <a:lnTo>
                    <a:pt x="844" y="3209"/>
                  </a:lnTo>
                  <a:lnTo>
                    <a:pt x="853" y="3220"/>
                  </a:lnTo>
                  <a:lnTo>
                    <a:pt x="864" y="3226"/>
                  </a:lnTo>
                  <a:lnTo>
                    <a:pt x="875" y="3233"/>
                  </a:lnTo>
                  <a:lnTo>
                    <a:pt x="895" y="3240"/>
                  </a:lnTo>
                  <a:lnTo>
                    <a:pt x="942" y="3238"/>
                  </a:lnTo>
                  <a:lnTo>
                    <a:pt x="1002" y="3229"/>
                  </a:lnTo>
                  <a:lnTo>
                    <a:pt x="1035" y="3220"/>
                  </a:lnTo>
                  <a:lnTo>
                    <a:pt x="1070" y="3209"/>
                  </a:lnTo>
                  <a:lnTo>
                    <a:pt x="1106" y="3198"/>
                  </a:lnTo>
                  <a:lnTo>
                    <a:pt x="1141" y="3184"/>
                  </a:lnTo>
                  <a:lnTo>
                    <a:pt x="1159" y="3178"/>
                  </a:lnTo>
                  <a:lnTo>
                    <a:pt x="1179" y="3169"/>
                  </a:lnTo>
                  <a:lnTo>
                    <a:pt x="1197" y="3162"/>
                  </a:lnTo>
                  <a:lnTo>
                    <a:pt x="1213" y="3153"/>
                  </a:lnTo>
                  <a:lnTo>
                    <a:pt x="1230" y="3147"/>
                  </a:lnTo>
                  <a:lnTo>
                    <a:pt x="1248" y="3138"/>
                  </a:lnTo>
                  <a:lnTo>
                    <a:pt x="1264" y="3129"/>
                  </a:lnTo>
                  <a:lnTo>
                    <a:pt x="1279" y="3122"/>
                  </a:lnTo>
                  <a:lnTo>
                    <a:pt x="1295" y="3113"/>
                  </a:lnTo>
                  <a:lnTo>
                    <a:pt x="1308" y="3105"/>
                  </a:lnTo>
                  <a:lnTo>
                    <a:pt x="1321" y="3096"/>
                  </a:lnTo>
                  <a:lnTo>
                    <a:pt x="1335" y="3087"/>
                  </a:lnTo>
                  <a:lnTo>
                    <a:pt x="1346" y="3080"/>
                  </a:lnTo>
                  <a:lnTo>
                    <a:pt x="1357" y="3071"/>
                  </a:lnTo>
                  <a:lnTo>
                    <a:pt x="1366" y="3062"/>
                  </a:lnTo>
                  <a:lnTo>
                    <a:pt x="1375" y="3056"/>
                  </a:lnTo>
                  <a:lnTo>
                    <a:pt x="1381" y="3047"/>
                  </a:lnTo>
                  <a:lnTo>
                    <a:pt x="1390" y="3038"/>
                  </a:lnTo>
                  <a:lnTo>
                    <a:pt x="1397" y="3029"/>
                  </a:lnTo>
                  <a:lnTo>
                    <a:pt x="1404" y="3020"/>
                  </a:lnTo>
                  <a:lnTo>
                    <a:pt x="1428" y="2980"/>
                  </a:lnTo>
                  <a:lnTo>
                    <a:pt x="1446" y="2941"/>
                  </a:lnTo>
                  <a:lnTo>
                    <a:pt x="1457" y="2901"/>
                  </a:lnTo>
                  <a:lnTo>
                    <a:pt x="1457" y="2870"/>
                  </a:lnTo>
                  <a:lnTo>
                    <a:pt x="1453" y="2856"/>
                  </a:lnTo>
                  <a:lnTo>
                    <a:pt x="1450" y="2852"/>
                  </a:lnTo>
                  <a:lnTo>
                    <a:pt x="1446" y="2848"/>
                  </a:lnTo>
                  <a:lnTo>
                    <a:pt x="1435" y="2841"/>
                  </a:lnTo>
                  <a:lnTo>
                    <a:pt x="1419" y="2839"/>
                  </a:lnTo>
                  <a:lnTo>
                    <a:pt x="1379" y="2845"/>
                  </a:lnTo>
                  <a:lnTo>
                    <a:pt x="1355" y="2852"/>
                  </a:lnTo>
                  <a:lnTo>
                    <a:pt x="1328" y="2861"/>
                  </a:lnTo>
                  <a:lnTo>
                    <a:pt x="1306" y="2870"/>
                  </a:lnTo>
                  <a:lnTo>
                    <a:pt x="1281" y="2876"/>
                  </a:lnTo>
                  <a:lnTo>
                    <a:pt x="1259" y="2885"/>
                  </a:lnTo>
                  <a:lnTo>
                    <a:pt x="1237" y="2892"/>
                  </a:lnTo>
                  <a:lnTo>
                    <a:pt x="1215" y="2899"/>
                  </a:lnTo>
                  <a:lnTo>
                    <a:pt x="1195" y="2903"/>
                  </a:lnTo>
                  <a:lnTo>
                    <a:pt x="1159" y="2912"/>
                  </a:lnTo>
                  <a:lnTo>
                    <a:pt x="1130" y="2916"/>
                  </a:lnTo>
                  <a:lnTo>
                    <a:pt x="1108" y="2914"/>
                  </a:lnTo>
                  <a:lnTo>
                    <a:pt x="1095" y="2905"/>
                  </a:lnTo>
                  <a:lnTo>
                    <a:pt x="1077" y="2874"/>
                  </a:lnTo>
                  <a:lnTo>
                    <a:pt x="1086" y="2867"/>
                  </a:lnTo>
                  <a:lnTo>
                    <a:pt x="1108" y="2859"/>
                  </a:lnTo>
                  <a:lnTo>
                    <a:pt x="1130" y="2848"/>
                  </a:lnTo>
                  <a:lnTo>
                    <a:pt x="1148" y="2841"/>
                  </a:lnTo>
                  <a:lnTo>
                    <a:pt x="1166" y="2834"/>
                  </a:lnTo>
                  <a:lnTo>
                    <a:pt x="1186" y="2825"/>
                  </a:lnTo>
                  <a:lnTo>
                    <a:pt x="1206" y="2819"/>
                  </a:lnTo>
                  <a:lnTo>
                    <a:pt x="1228" y="2810"/>
                  </a:lnTo>
                  <a:lnTo>
                    <a:pt x="1248" y="2799"/>
                  </a:lnTo>
                  <a:lnTo>
                    <a:pt x="1270" y="2792"/>
                  </a:lnTo>
                  <a:lnTo>
                    <a:pt x="1290" y="2783"/>
                  </a:lnTo>
                  <a:lnTo>
                    <a:pt x="1308" y="2774"/>
                  </a:lnTo>
                  <a:lnTo>
                    <a:pt x="1324" y="2768"/>
                  </a:lnTo>
                  <a:lnTo>
                    <a:pt x="1348" y="2759"/>
                  </a:lnTo>
                  <a:lnTo>
                    <a:pt x="1357" y="2754"/>
                  </a:lnTo>
                  <a:lnTo>
                    <a:pt x="1301" y="2766"/>
                  </a:lnTo>
                  <a:lnTo>
                    <a:pt x="1246" y="2772"/>
                  </a:lnTo>
                  <a:lnTo>
                    <a:pt x="1181" y="2781"/>
                  </a:lnTo>
                  <a:lnTo>
                    <a:pt x="1117" y="2786"/>
                  </a:lnTo>
                  <a:lnTo>
                    <a:pt x="1064" y="2786"/>
                  </a:lnTo>
                  <a:lnTo>
                    <a:pt x="1028" y="2777"/>
                  </a:lnTo>
                  <a:lnTo>
                    <a:pt x="1019" y="2759"/>
                  </a:lnTo>
                  <a:lnTo>
                    <a:pt x="1035" y="2737"/>
                  </a:lnTo>
                  <a:lnTo>
                    <a:pt x="1050" y="2726"/>
                  </a:lnTo>
                  <a:lnTo>
                    <a:pt x="1068" y="2715"/>
                  </a:lnTo>
                  <a:lnTo>
                    <a:pt x="1090" y="2706"/>
                  </a:lnTo>
                  <a:lnTo>
                    <a:pt x="1115" y="2695"/>
                  </a:lnTo>
                  <a:lnTo>
                    <a:pt x="1139" y="2688"/>
                  </a:lnTo>
                  <a:lnTo>
                    <a:pt x="1164" y="2679"/>
                  </a:lnTo>
                  <a:lnTo>
                    <a:pt x="1188" y="2673"/>
                  </a:lnTo>
                  <a:lnTo>
                    <a:pt x="1213" y="2666"/>
                  </a:lnTo>
                  <a:lnTo>
                    <a:pt x="1257" y="2657"/>
                  </a:lnTo>
                  <a:lnTo>
                    <a:pt x="1297" y="2648"/>
                  </a:lnTo>
                  <a:lnTo>
                    <a:pt x="1244" y="2650"/>
                  </a:lnTo>
                  <a:lnTo>
                    <a:pt x="1128" y="2653"/>
                  </a:lnTo>
                  <a:lnTo>
                    <a:pt x="1015" y="2644"/>
                  </a:lnTo>
                  <a:lnTo>
                    <a:pt x="979" y="2630"/>
                  </a:lnTo>
                  <a:lnTo>
                    <a:pt x="970" y="2613"/>
                  </a:lnTo>
                  <a:lnTo>
                    <a:pt x="977" y="2604"/>
                  </a:lnTo>
                  <a:lnTo>
                    <a:pt x="986" y="2595"/>
                  </a:lnTo>
                  <a:lnTo>
                    <a:pt x="999" y="2586"/>
                  </a:lnTo>
                  <a:lnTo>
                    <a:pt x="1015" y="2579"/>
                  </a:lnTo>
                  <a:lnTo>
                    <a:pt x="1035" y="2573"/>
                  </a:lnTo>
                  <a:lnTo>
                    <a:pt x="1055" y="2568"/>
                  </a:lnTo>
                  <a:lnTo>
                    <a:pt x="1097" y="2560"/>
                  </a:lnTo>
                  <a:lnTo>
                    <a:pt x="1139" y="2553"/>
                  </a:lnTo>
                  <a:lnTo>
                    <a:pt x="1177" y="2548"/>
                  </a:lnTo>
                  <a:lnTo>
                    <a:pt x="1210" y="2546"/>
                  </a:lnTo>
                  <a:lnTo>
                    <a:pt x="1206" y="2542"/>
                  </a:lnTo>
                  <a:lnTo>
                    <a:pt x="1190" y="2533"/>
                  </a:lnTo>
                  <a:lnTo>
                    <a:pt x="1179" y="2526"/>
                  </a:lnTo>
                  <a:lnTo>
                    <a:pt x="1166" y="2520"/>
                  </a:lnTo>
                  <a:lnTo>
                    <a:pt x="1153" y="2513"/>
                  </a:lnTo>
                  <a:lnTo>
                    <a:pt x="1137" y="2506"/>
                  </a:lnTo>
                  <a:lnTo>
                    <a:pt x="1124" y="2497"/>
                  </a:lnTo>
                  <a:lnTo>
                    <a:pt x="1106" y="2491"/>
                  </a:lnTo>
                  <a:lnTo>
                    <a:pt x="1090" y="2484"/>
                  </a:lnTo>
                  <a:lnTo>
                    <a:pt x="1075" y="2480"/>
                  </a:lnTo>
                  <a:lnTo>
                    <a:pt x="1046" y="2473"/>
                  </a:lnTo>
                  <a:lnTo>
                    <a:pt x="1024" y="2473"/>
                  </a:lnTo>
                  <a:lnTo>
                    <a:pt x="979" y="2471"/>
                  </a:lnTo>
                  <a:lnTo>
                    <a:pt x="939" y="2453"/>
                  </a:lnTo>
                  <a:lnTo>
                    <a:pt x="917" y="2431"/>
                  </a:lnTo>
                  <a:lnTo>
                    <a:pt x="915" y="2418"/>
                  </a:lnTo>
                  <a:lnTo>
                    <a:pt x="919" y="2404"/>
                  </a:lnTo>
                  <a:lnTo>
                    <a:pt x="926" y="2398"/>
                  </a:lnTo>
                  <a:lnTo>
                    <a:pt x="933" y="2393"/>
                  </a:lnTo>
                  <a:lnTo>
                    <a:pt x="948" y="2384"/>
                  </a:lnTo>
                  <a:lnTo>
                    <a:pt x="968" y="2376"/>
                  </a:lnTo>
                  <a:lnTo>
                    <a:pt x="988" y="2369"/>
                  </a:lnTo>
                  <a:lnTo>
                    <a:pt x="1024" y="2349"/>
                  </a:lnTo>
                  <a:lnTo>
                    <a:pt x="1033" y="2336"/>
                  </a:lnTo>
                  <a:lnTo>
                    <a:pt x="1035" y="2318"/>
                  </a:lnTo>
                  <a:lnTo>
                    <a:pt x="1030" y="2305"/>
                  </a:lnTo>
                  <a:lnTo>
                    <a:pt x="1017" y="2305"/>
                  </a:lnTo>
                  <a:lnTo>
                    <a:pt x="999" y="2311"/>
                  </a:lnTo>
                  <a:lnTo>
                    <a:pt x="979" y="2322"/>
                  </a:lnTo>
                  <a:lnTo>
                    <a:pt x="959" y="2327"/>
                  </a:lnTo>
                  <a:lnTo>
                    <a:pt x="942" y="2325"/>
                  </a:lnTo>
                  <a:lnTo>
                    <a:pt x="930" y="2307"/>
                  </a:lnTo>
                  <a:lnTo>
                    <a:pt x="924" y="2271"/>
                  </a:lnTo>
                  <a:lnTo>
                    <a:pt x="926" y="2232"/>
                  </a:lnTo>
                  <a:lnTo>
                    <a:pt x="930" y="2205"/>
                  </a:lnTo>
                  <a:lnTo>
                    <a:pt x="939" y="2189"/>
                  </a:lnTo>
                  <a:lnTo>
                    <a:pt x="950" y="2178"/>
                  </a:lnTo>
                  <a:lnTo>
                    <a:pt x="973" y="2158"/>
                  </a:lnTo>
                  <a:lnTo>
                    <a:pt x="984" y="2112"/>
                  </a:lnTo>
                  <a:lnTo>
                    <a:pt x="982" y="2059"/>
                  </a:lnTo>
                  <a:lnTo>
                    <a:pt x="975" y="2041"/>
                  </a:lnTo>
                  <a:lnTo>
                    <a:pt x="968" y="2028"/>
                  </a:lnTo>
                  <a:lnTo>
                    <a:pt x="937" y="1950"/>
                  </a:lnTo>
                  <a:lnTo>
                    <a:pt x="935" y="1921"/>
                  </a:lnTo>
                  <a:lnTo>
                    <a:pt x="942" y="1899"/>
                  </a:lnTo>
                  <a:lnTo>
                    <a:pt x="948" y="1893"/>
                  </a:lnTo>
                  <a:lnTo>
                    <a:pt x="955" y="1884"/>
                  </a:lnTo>
                  <a:lnTo>
                    <a:pt x="962" y="1877"/>
                  </a:lnTo>
                  <a:lnTo>
                    <a:pt x="970" y="1870"/>
                  </a:lnTo>
                  <a:lnTo>
                    <a:pt x="986" y="1859"/>
                  </a:lnTo>
                  <a:lnTo>
                    <a:pt x="999" y="1846"/>
                  </a:lnTo>
                  <a:lnTo>
                    <a:pt x="1010" y="1808"/>
                  </a:lnTo>
                  <a:lnTo>
                    <a:pt x="997" y="1760"/>
                  </a:lnTo>
                  <a:lnTo>
                    <a:pt x="984" y="1718"/>
                  </a:lnTo>
                  <a:lnTo>
                    <a:pt x="977" y="1693"/>
                  </a:lnTo>
                  <a:lnTo>
                    <a:pt x="968" y="1667"/>
                  </a:lnTo>
                  <a:lnTo>
                    <a:pt x="959" y="1640"/>
                  </a:lnTo>
                  <a:lnTo>
                    <a:pt x="950" y="1609"/>
                  </a:lnTo>
                  <a:lnTo>
                    <a:pt x="939" y="1578"/>
                  </a:lnTo>
                  <a:lnTo>
                    <a:pt x="928" y="1545"/>
                  </a:lnTo>
                  <a:lnTo>
                    <a:pt x="917" y="1511"/>
                  </a:lnTo>
                  <a:lnTo>
                    <a:pt x="906" y="1476"/>
                  </a:lnTo>
                  <a:lnTo>
                    <a:pt x="893" y="1441"/>
                  </a:lnTo>
                  <a:lnTo>
                    <a:pt x="882" y="1403"/>
                  </a:lnTo>
                  <a:lnTo>
                    <a:pt x="868" y="1367"/>
                  </a:lnTo>
                  <a:lnTo>
                    <a:pt x="857" y="1330"/>
                  </a:lnTo>
                  <a:lnTo>
                    <a:pt x="844" y="1292"/>
                  </a:lnTo>
                  <a:lnTo>
                    <a:pt x="833" y="1257"/>
                  </a:lnTo>
                  <a:lnTo>
                    <a:pt x="819" y="1219"/>
                  </a:lnTo>
                  <a:lnTo>
                    <a:pt x="808" y="1184"/>
                  </a:lnTo>
                  <a:lnTo>
                    <a:pt x="797" y="1146"/>
                  </a:lnTo>
                  <a:lnTo>
                    <a:pt x="786" y="1113"/>
                  </a:lnTo>
                  <a:lnTo>
                    <a:pt x="775" y="1079"/>
                  </a:lnTo>
                  <a:lnTo>
                    <a:pt x="764" y="1046"/>
                  </a:lnTo>
                  <a:lnTo>
                    <a:pt x="746" y="986"/>
                  </a:lnTo>
                  <a:lnTo>
                    <a:pt x="730" y="931"/>
                  </a:lnTo>
                  <a:lnTo>
                    <a:pt x="717" y="887"/>
                  </a:lnTo>
                  <a:lnTo>
                    <a:pt x="706" y="849"/>
                  </a:lnTo>
                  <a:lnTo>
                    <a:pt x="695" y="816"/>
                  </a:lnTo>
                  <a:lnTo>
                    <a:pt x="682" y="789"/>
                  </a:lnTo>
                  <a:lnTo>
                    <a:pt x="670" y="765"/>
                  </a:lnTo>
                  <a:lnTo>
                    <a:pt x="655" y="743"/>
                  </a:lnTo>
                  <a:lnTo>
                    <a:pt x="648" y="734"/>
                  </a:lnTo>
                  <a:lnTo>
                    <a:pt x="642" y="725"/>
                  </a:lnTo>
                  <a:lnTo>
                    <a:pt x="635" y="716"/>
                  </a:lnTo>
                  <a:lnTo>
                    <a:pt x="628" y="709"/>
                  </a:lnTo>
                  <a:lnTo>
                    <a:pt x="622" y="703"/>
                  </a:lnTo>
                  <a:lnTo>
                    <a:pt x="615" y="696"/>
                  </a:lnTo>
                  <a:lnTo>
                    <a:pt x="602" y="685"/>
                  </a:lnTo>
                  <a:lnTo>
                    <a:pt x="588" y="674"/>
                  </a:lnTo>
                  <a:lnTo>
                    <a:pt x="575" y="665"/>
                  </a:lnTo>
                  <a:lnTo>
                    <a:pt x="562" y="654"/>
                  </a:lnTo>
                  <a:lnTo>
                    <a:pt x="551" y="645"/>
                  </a:lnTo>
                  <a:lnTo>
                    <a:pt x="539" y="634"/>
                  </a:lnTo>
                  <a:lnTo>
                    <a:pt x="519" y="610"/>
                  </a:lnTo>
                  <a:lnTo>
                    <a:pt x="502" y="581"/>
                  </a:lnTo>
                  <a:lnTo>
                    <a:pt x="495" y="572"/>
                  </a:lnTo>
                  <a:lnTo>
                    <a:pt x="491" y="565"/>
                  </a:lnTo>
                  <a:lnTo>
                    <a:pt x="477" y="552"/>
                  </a:lnTo>
                  <a:lnTo>
                    <a:pt x="471" y="543"/>
                  </a:lnTo>
                  <a:lnTo>
                    <a:pt x="464" y="537"/>
                  </a:lnTo>
                  <a:lnTo>
                    <a:pt x="457" y="530"/>
                  </a:lnTo>
                  <a:lnTo>
                    <a:pt x="451" y="523"/>
                  </a:lnTo>
                  <a:lnTo>
                    <a:pt x="444" y="517"/>
                  </a:lnTo>
                  <a:lnTo>
                    <a:pt x="435" y="508"/>
                  </a:lnTo>
                  <a:lnTo>
                    <a:pt x="428" y="501"/>
                  </a:lnTo>
                  <a:lnTo>
                    <a:pt x="422" y="492"/>
                  </a:lnTo>
                  <a:lnTo>
                    <a:pt x="415" y="486"/>
                  </a:lnTo>
                  <a:lnTo>
                    <a:pt x="406" y="479"/>
                  </a:lnTo>
                  <a:lnTo>
                    <a:pt x="399" y="470"/>
                  </a:lnTo>
                  <a:lnTo>
                    <a:pt x="393" y="463"/>
                  </a:lnTo>
                  <a:lnTo>
                    <a:pt x="379" y="446"/>
                  </a:lnTo>
                  <a:lnTo>
                    <a:pt x="368" y="430"/>
                  </a:lnTo>
                  <a:lnTo>
                    <a:pt x="346" y="395"/>
                  </a:lnTo>
                  <a:lnTo>
                    <a:pt x="331" y="355"/>
                  </a:lnTo>
                  <a:lnTo>
                    <a:pt x="317" y="311"/>
                  </a:lnTo>
                  <a:lnTo>
                    <a:pt x="308" y="284"/>
                  </a:lnTo>
                  <a:lnTo>
                    <a:pt x="299" y="255"/>
                  </a:lnTo>
                  <a:lnTo>
                    <a:pt x="291" y="226"/>
                  </a:lnTo>
                  <a:lnTo>
                    <a:pt x="279" y="195"/>
                  </a:lnTo>
                  <a:lnTo>
                    <a:pt x="268" y="167"/>
                  </a:lnTo>
                  <a:lnTo>
                    <a:pt x="257" y="138"/>
                  </a:lnTo>
                  <a:lnTo>
                    <a:pt x="248" y="111"/>
                  </a:lnTo>
                  <a:lnTo>
                    <a:pt x="239" y="85"/>
                  </a:lnTo>
                  <a:lnTo>
                    <a:pt x="231" y="60"/>
                  </a:lnTo>
                  <a:lnTo>
                    <a:pt x="222" y="40"/>
                  </a:lnTo>
                  <a:lnTo>
                    <a:pt x="211" y="11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>
              <a:off x="2630520" y="4585680"/>
              <a:ext cx="1483920" cy="278640"/>
            </a:xfrm>
            <a:custGeom>
              <a:avLst/>
              <a:gdLst>
                <a:gd name="textAreaLeft" fmla="*/ 0 w 1483920"/>
                <a:gd name="textAreaRight" fmla="*/ 1484280 w 148392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3490" h="656">
                  <a:moveTo>
                    <a:pt x="664" y="368"/>
                  </a:moveTo>
                  <a:lnTo>
                    <a:pt x="153" y="417"/>
                  </a:lnTo>
                  <a:lnTo>
                    <a:pt x="131" y="425"/>
                  </a:lnTo>
                  <a:lnTo>
                    <a:pt x="111" y="436"/>
                  </a:lnTo>
                  <a:lnTo>
                    <a:pt x="91" y="448"/>
                  </a:lnTo>
                  <a:lnTo>
                    <a:pt x="73" y="459"/>
                  </a:lnTo>
                  <a:lnTo>
                    <a:pt x="56" y="470"/>
                  </a:lnTo>
                  <a:lnTo>
                    <a:pt x="42" y="481"/>
                  </a:lnTo>
                  <a:lnTo>
                    <a:pt x="29" y="492"/>
                  </a:lnTo>
                  <a:lnTo>
                    <a:pt x="18" y="503"/>
                  </a:lnTo>
                  <a:lnTo>
                    <a:pt x="0" y="545"/>
                  </a:lnTo>
                  <a:lnTo>
                    <a:pt x="4" y="563"/>
                  </a:lnTo>
                  <a:lnTo>
                    <a:pt x="11" y="572"/>
                  </a:lnTo>
                  <a:lnTo>
                    <a:pt x="20" y="578"/>
                  </a:lnTo>
                  <a:lnTo>
                    <a:pt x="36" y="585"/>
                  </a:lnTo>
                  <a:lnTo>
                    <a:pt x="56" y="592"/>
                  </a:lnTo>
                  <a:lnTo>
                    <a:pt x="80" y="598"/>
                  </a:lnTo>
                  <a:lnTo>
                    <a:pt x="111" y="603"/>
                  </a:lnTo>
                  <a:lnTo>
                    <a:pt x="147" y="609"/>
                  </a:lnTo>
                  <a:lnTo>
                    <a:pt x="184" y="614"/>
                  </a:lnTo>
                  <a:lnTo>
                    <a:pt x="269" y="625"/>
                  </a:lnTo>
                  <a:lnTo>
                    <a:pt x="367" y="634"/>
                  </a:lnTo>
                  <a:lnTo>
                    <a:pt x="469" y="643"/>
                  </a:lnTo>
                  <a:lnTo>
                    <a:pt x="573" y="649"/>
                  </a:lnTo>
                  <a:lnTo>
                    <a:pt x="675" y="656"/>
                  </a:lnTo>
                  <a:lnTo>
                    <a:pt x="802" y="656"/>
                  </a:lnTo>
                  <a:lnTo>
                    <a:pt x="971" y="645"/>
                  </a:lnTo>
                  <a:lnTo>
                    <a:pt x="1064" y="638"/>
                  </a:lnTo>
                  <a:lnTo>
                    <a:pt x="1164" y="627"/>
                  </a:lnTo>
                  <a:lnTo>
                    <a:pt x="1269" y="618"/>
                  </a:lnTo>
                  <a:lnTo>
                    <a:pt x="1373" y="605"/>
                  </a:lnTo>
                  <a:lnTo>
                    <a:pt x="1477" y="594"/>
                  </a:lnTo>
                  <a:lnTo>
                    <a:pt x="1582" y="581"/>
                  </a:lnTo>
                  <a:lnTo>
                    <a:pt x="1682" y="567"/>
                  </a:lnTo>
                  <a:lnTo>
                    <a:pt x="1777" y="554"/>
                  </a:lnTo>
                  <a:lnTo>
                    <a:pt x="1864" y="543"/>
                  </a:lnTo>
                  <a:lnTo>
                    <a:pt x="1946" y="532"/>
                  </a:lnTo>
                  <a:lnTo>
                    <a:pt x="2015" y="521"/>
                  </a:lnTo>
                  <a:lnTo>
                    <a:pt x="2075" y="512"/>
                  </a:lnTo>
                  <a:lnTo>
                    <a:pt x="2135" y="499"/>
                  </a:lnTo>
                  <a:lnTo>
                    <a:pt x="2173" y="490"/>
                  </a:lnTo>
                  <a:lnTo>
                    <a:pt x="2213" y="479"/>
                  </a:lnTo>
                  <a:lnTo>
                    <a:pt x="2257" y="465"/>
                  </a:lnTo>
                  <a:lnTo>
                    <a:pt x="2279" y="459"/>
                  </a:lnTo>
                  <a:lnTo>
                    <a:pt x="2304" y="452"/>
                  </a:lnTo>
                  <a:lnTo>
                    <a:pt x="2328" y="443"/>
                  </a:lnTo>
                  <a:lnTo>
                    <a:pt x="2353" y="436"/>
                  </a:lnTo>
                  <a:lnTo>
                    <a:pt x="2379" y="428"/>
                  </a:lnTo>
                  <a:lnTo>
                    <a:pt x="2404" y="419"/>
                  </a:lnTo>
                  <a:lnTo>
                    <a:pt x="2431" y="410"/>
                  </a:lnTo>
                  <a:lnTo>
                    <a:pt x="2457" y="401"/>
                  </a:lnTo>
                  <a:lnTo>
                    <a:pt x="2486" y="392"/>
                  </a:lnTo>
                  <a:lnTo>
                    <a:pt x="2513" y="383"/>
                  </a:lnTo>
                  <a:lnTo>
                    <a:pt x="2542" y="372"/>
                  </a:lnTo>
                  <a:lnTo>
                    <a:pt x="2568" y="363"/>
                  </a:lnTo>
                  <a:lnTo>
                    <a:pt x="2597" y="355"/>
                  </a:lnTo>
                  <a:lnTo>
                    <a:pt x="2626" y="343"/>
                  </a:lnTo>
                  <a:lnTo>
                    <a:pt x="2655" y="332"/>
                  </a:lnTo>
                  <a:lnTo>
                    <a:pt x="2684" y="323"/>
                  </a:lnTo>
                  <a:lnTo>
                    <a:pt x="2713" y="312"/>
                  </a:lnTo>
                  <a:lnTo>
                    <a:pt x="2742" y="301"/>
                  </a:lnTo>
                  <a:lnTo>
                    <a:pt x="2770" y="292"/>
                  </a:lnTo>
                  <a:lnTo>
                    <a:pt x="2799" y="281"/>
                  </a:lnTo>
                  <a:lnTo>
                    <a:pt x="2828" y="270"/>
                  </a:lnTo>
                  <a:lnTo>
                    <a:pt x="2857" y="261"/>
                  </a:lnTo>
                  <a:lnTo>
                    <a:pt x="2886" y="250"/>
                  </a:lnTo>
                  <a:lnTo>
                    <a:pt x="2915" y="239"/>
                  </a:lnTo>
                  <a:lnTo>
                    <a:pt x="2942" y="228"/>
                  </a:lnTo>
                  <a:lnTo>
                    <a:pt x="2970" y="219"/>
                  </a:lnTo>
                  <a:lnTo>
                    <a:pt x="2997" y="208"/>
                  </a:lnTo>
                  <a:lnTo>
                    <a:pt x="3024" y="199"/>
                  </a:lnTo>
                  <a:lnTo>
                    <a:pt x="3050" y="188"/>
                  </a:lnTo>
                  <a:lnTo>
                    <a:pt x="3075" y="179"/>
                  </a:lnTo>
                  <a:lnTo>
                    <a:pt x="3101" y="171"/>
                  </a:lnTo>
                  <a:lnTo>
                    <a:pt x="3126" y="160"/>
                  </a:lnTo>
                  <a:lnTo>
                    <a:pt x="3148" y="151"/>
                  </a:lnTo>
                  <a:lnTo>
                    <a:pt x="3173" y="142"/>
                  </a:lnTo>
                  <a:lnTo>
                    <a:pt x="3195" y="133"/>
                  </a:lnTo>
                  <a:lnTo>
                    <a:pt x="3217" y="126"/>
                  </a:lnTo>
                  <a:lnTo>
                    <a:pt x="3237" y="117"/>
                  </a:lnTo>
                  <a:lnTo>
                    <a:pt x="3257" y="111"/>
                  </a:lnTo>
                  <a:lnTo>
                    <a:pt x="3277" y="102"/>
                  </a:lnTo>
                  <a:lnTo>
                    <a:pt x="3295" y="95"/>
                  </a:lnTo>
                  <a:lnTo>
                    <a:pt x="3313" y="89"/>
                  </a:lnTo>
                  <a:lnTo>
                    <a:pt x="3330" y="82"/>
                  </a:lnTo>
                  <a:lnTo>
                    <a:pt x="3359" y="71"/>
                  </a:lnTo>
                  <a:lnTo>
                    <a:pt x="3384" y="62"/>
                  </a:lnTo>
                  <a:lnTo>
                    <a:pt x="3404" y="53"/>
                  </a:lnTo>
                  <a:lnTo>
                    <a:pt x="3419" y="49"/>
                  </a:lnTo>
                  <a:lnTo>
                    <a:pt x="3430" y="42"/>
                  </a:lnTo>
                  <a:lnTo>
                    <a:pt x="3490" y="0"/>
                  </a:lnTo>
                  <a:lnTo>
                    <a:pt x="3479" y="4"/>
                  </a:lnTo>
                  <a:lnTo>
                    <a:pt x="3444" y="16"/>
                  </a:lnTo>
                  <a:lnTo>
                    <a:pt x="3419" y="24"/>
                  </a:lnTo>
                  <a:lnTo>
                    <a:pt x="3388" y="33"/>
                  </a:lnTo>
                  <a:lnTo>
                    <a:pt x="3355" y="47"/>
                  </a:lnTo>
                  <a:lnTo>
                    <a:pt x="3317" y="58"/>
                  </a:lnTo>
                  <a:lnTo>
                    <a:pt x="3297" y="64"/>
                  </a:lnTo>
                  <a:lnTo>
                    <a:pt x="3277" y="71"/>
                  </a:lnTo>
                  <a:lnTo>
                    <a:pt x="3255" y="80"/>
                  </a:lnTo>
                  <a:lnTo>
                    <a:pt x="3233" y="86"/>
                  </a:lnTo>
                  <a:lnTo>
                    <a:pt x="3210" y="95"/>
                  </a:lnTo>
                  <a:lnTo>
                    <a:pt x="3186" y="102"/>
                  </a:lnTo>
                  <a:lnTo>
                    <a:pt x="3161" y="111"/>
                  </a:lnTo>
                  <a:lnTo>
                    <a:pt x="3137" y="120"/>
                  </a:lnTo>
                  <a:lnTo>
                    <a:pt x="3110" y="126"/>
                  </a:lnTo>
                  <a:lnTo>
                    <a:pt x="3086" y="135"/>
                  </a:lnTo>
                  <a:lnTo>
                    <a:pt x="3059" y="144"/>
                  </a:lnTo>
                  <a:lnTo>
                    <a:pt x="3033" y="153"/>
                  </a:lnTo>
                  <a:lnTo>
                    <a:pt x="3006" y="162"/>
                  </a:lnTo>
                  <a:lnTo>
                    <a:pt x="2979" y="171"/>
                  </a:lnTo>
                  <a:lnTo>
                    <a:pt x="2950" y="179"/>
                  </a:lnTo>
                  <a:lnTo>
                    <a:pt x="2924" y="191"/>
                  </a:lnTo>
                  <a:lnTo>
                    <a:pt x="2897" y="199"/>
                  </a:lnTo>
                  <a:lnTo>
                    <a:pt x="2868" y="208"/>
                  </a:lnTo>
                  <a:lnTo>
                    <a:pt x="2842" y="217"/>
                  </a:lnTo>
                  <a:lnTo>
                    <a:pt x="2813" y="226"/>
                  </a:lnTo>
                  <a:lnTo>
                    <a:pt x="2786" y="235"/>
                  </a:lnTo>
                  <a:lnTo>
                    <a:pt x="2757" y="244"/>
                  </a:lnTo>
                  <a:lnTo>
                    <a:pt x="2730" y="253"/>
                  </a:lnTo>
                  <a:lnTo>
                    <a:pt x="2704" y="261"/>
                  </a:lnTo>
                  <a:lnTo>
                    <a:pt x="2677" y="270"/>
                  </a:lnTo>
                  <a:lnTo>
                    <a:pt x="2650" y="279"/>
                  </a:lnTo>
                  <a:lnTo>
                    <a:pt x="2624" y="288"/>
                  </a:lnTo>
                  <a:lnTo>
                    <a:pt x="2597" y="297"/>
                  </a:lnTo>
                  <a:lnTo>
                    <a:pt x="2573" y="306"/>
                  </a:lnTo>
                  <a:lnTo>
                    <a:pt x="2546" y="312"/>
                  </a:lnTo>
                  <a:lnTo>
                    <a:pt x="2522" y="321"/>
                  </a:lnTo>
                  <a:lnTo>
                    <a:pt x="2499" y="330"/>
                  </a:lnTo>
                  <a:lnTo>
                    <a:pt x="2475" y="337"/>
                  </a:lnTo>
                  <a:lnTo>
                    <a:pt x="2453" y="343"/>
                  </a:lnTo>
                  <a:lnTo>
                    <a:pt x="2431" y="350"/>
                  </a:lnTo>
                  <a:lnTo>
                    <a:pt x="2408" y="357"/>
                  </a:lnTo>
                  <a:lnTo>
                    <a:pt x="2368" y="370"/>
                  </a:lnTo>
                  <a:lnTo>
                    <a:pt x="2333" y="381"/>
                  </a:lnTo>
                  <a:lnTo>
                    <a:pt x="2299" y="392"/>
                  </a:lnTo>
                  <a:lnTo>
                    <a:pt x="2271" y="399"/>
                  </a:lnTo>
                  <a:lnTo>
                    <a:pt x="2228" y="412"/>
                  </a:lnTo>
                  <a:lnTo>
                    <a:pt x="2191" y="421"/>
                  </a:lnTo>
                  <a:lnTo>
                    <a:pt x="2139" y="432"/>
                  </a:lnTo>
                  <a:lnTo>
                    <a:pt x="2108" y="439"/>
                  </a:lnTo>
                  <a:lnTo>
                    <a:pt x="2077" y="445"/>
                  </a:lnTo>
                  <a:lnTo>
                    <a:pt x="2042" y="452"/>
                  </a:lnTo>
                  <a:lnTo>
                    <a:pt x="2004" y="459"/>
                  </a:lnTo>
                  <a:lnTo>
                    <a:pt x="1966" y="468"/>
                  </a:lnTo>
                  <a:lnTo>
                    <a:pt x="1926" y="474"/>
                  </a:lnTo>
                  <a:lnTo>
                    <a:pt x="1882" y="483"/>
                  </a:lnTo>
                  <a:lnTo>
                    <a:pt x="1842" y="492"/>
                  </a:lnTo>
                  <a:lnTo>
                    <a:pt x="1795" y="499"/>
                  </a:lnTo>
                  <a:lnTo>
                    <a:pt x="1748" y="507"/>
                  </a:lnTo>
                  <a:lnTo>
                    <a:pt x="1702" y="516"/>
                  </a:lnTo>
                  <a:lnTo>
                    <a:pt x="1653" y="523"/>
                  </a:lnTo>
                  <a:lnTo>
                    <a:pt x="1604" y="532"/>
                  </a:lnTo>
                  <a:lnTo>
                    <a:pt x="1553" y="538"/>
                  </a:lnTo>
                  <a:lnTo>
                    <a:pt x="1504" y="547"/>
                  </a:lnTo>
                  <a:lnTo>
                    <a:pt x="1453" y="554"/>
                  </a:lnTo>
                  <a:lnTo>
                    <a:pt x="1402" y="561"/>
                  </a:lnTo>
                  <a:lnTo>
                    <a:pt x="1353" y="567"/>
                  </a:lnTo>
                  <a:lnTo>
                    <a:pt x="1253" y="581"/>
                  </a:lnTo>
                  <a:lnTo>
                    <a:pt x="1155" y="589"/>
                  </a:lnTo>
                  <a:lnTo>
                    <a:pt x="1064" y="598"/>
                  </a:lnTo>
                  <a:lnTo>
                    <a:pt x="898" y="605"/>
                  </a:lnTo>
                  <a:lnTo>
                    <a:pt x="611" y="598"/>
                  </a:lnTo>
                  <a:lnTo>
                    <a:pt x="380" y="585"/>
                  </a:lnTo>
                  <a:lnTo>
                    <a:pt x="287" y="576"/>
                  </a:lnTo>
                  <a:lnTo>
                    <a:pt x="213" y="567"/>
                  </a:lnTo>
                  <a:lnTo>
                    <a:pt x="129" y="545"/>
                  </a:lnTo>
                  <a:lnTo>
                    <a:pt x="115" y="532"/>
                  </a:lnTo>
                  <a:lnTo>
                    <a:pt x="111" y="518"/>
                  </a:lnTo>
                  <a:lnTo>
                    <a:pt x="120" y="503"/>
                  </a:lnTo>
                  <a:lnTo>
                    <a:pt x="127" y="494"/>
                  </a:lnTo>
                  <a:lnTo>
                    <a:pt x="135" y="487"/>
                  </a:lnTo>
                  <a:lnTo>
                    <a:pt x="149" y="481"/>
                  </a:lnTo>
                  <a:lnTo>
                    <a:pt x="162" y="472"/>
                  </a:lnTo>
                  <a:lnTo>
                    <a:pt x="178" y="465"/>
                  </a:lnTo>
                  <a:lnTo>
                    <a:pt x="195" y="459"/>
                  </a:lnTo>
                  <a:lnTo>
                    <a:pt x="215" y="452"/>
                  </a:lnTo>
                  <a:lnTo>
                    <a:pt x="235" y="448"/>
                  </a:lnTo>
                  <a:lnTo>
                    <a:pt x="282" y="436"/>
                  </a:lnTo>
                  <a:lnTo>
                    <a:pt x="338" y="430"/>
                  </a:lnTo>
                  <a:lnTo>
                    <a:pt x="400" y="423"/>
                  </a:lnTo>
                  <a:lnTo>
                    <a:pt x="529" y="414"/>
                  </a:lnTo>
                  <a:lnTo>
                    <a:pt x="673" y="408"/>
                  </a:lnTo>
                  <a:lnTo>
                    <a:pt x="664" y="368"/>
                  </a:lnTo>
                  <a:lnTo>
                    <a:pt x="664" y="368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857320" y="4775040"/>
              <a:ext cx="88920" cy="43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09" h="104">
                  <a:moveTo>
                    <a:pt x="127" y="14"/>
                  </a:moveTo>
                  <a:lnTo>
                    <a:pt x="111" y="9"/>
                  </a:lnTo>
                  <a:lnTo>
                    <a:pt x="74" y="5"/>
                  </a:lnTo>
                  <a:lnTo>
                    <a:pt x="31" y="3"/>
                  </a:lnTo>
                  <a:lnTo>
                    <a:pt x="2" y="14"/>
                  </a:lnTo>
                  <a:lnTo>
                    <a:pt x="0" y="34"/>
                  </a:lnTo>
                  <a:lnTo>
                    <a:pt x="7" y="42"/>
                  </a:lnTo>
                  <a:lnTo>
                    <a:pt x="16" y="51"/>
                  </a:lnTo>
                  <a:lnTo>
                    <a:pt x="27" y="60"/>
                  </a:lnTo>
                  <a:lnTo>
                    <a:pt x="40" y="65"/>
                  </a:lnTo>
                  <a:lnTo>
                    <a:pt x="62" y="65"/>
                  </a:lnTo>
                  <a:lnTo>
                    <a:pt x="87" y="58"/>
                  </a:lnTo>
                  <a:lnTo>
                    <a:pt x="113" y="54"/>
                  </a:lnTo>
                  <a:lnTo>
                    <a:pt x="145" y="47"/>
                  </a:lnTo>
                  <a:lnTo>
                    <a:pt x="140" y="104"/>
                  </a:lnTo>
                  <a:lnTo>
                    <a:pt x="182" y="93"/>
                  </a:lnTo>
                  <a:lnTo>
                    <a:pt x="200" y="85"/>
                  </a:lnTo>
                  <a:lnTo>
                    <a:pt x="209" y="82"/>
                  </a:lnTo>
                  <a:lnTo>
                    <a:pt x="158" y="0"/>
                  </a:lnTo>
                  <a:lnTo>
                    <a:pt x="127" y="14"/>
                  </a:lnTo>
                  <a:lnTo>
                    <a:pt x="127" y="14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2625120" y="4829760"/>
              <a:ext cx="874800" cy="16272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7" h="383">
                  <a:moveTo>
                    <a:pt x="0" y="60"/>
                  </a:moveTo>
                  <a:lnTo>
                    <a:pt x="4" y="64"/>
                  </a:lnTo>
                  <a:lnTo>
                    <a:pt x="11" y="71"/>
                  </a:lnTo>
                  <a:lnTo>
                    <a:pt x="20" y="80"/>
                  </a:lnTo>
                  <a:lnTo>
                    <a:pt x="31" y="91"/>
                  </a:lnTo>
                  <a:lnTo>
                    <a:pt x="42" y="102"/>
                  </a:lnTo>
                  <a:lnTo>
                    <a:pt x="49" y="108"/>
                  </a:lnTo>
                  <a:lnTo>
                    <a:pt x="55" y="115"/>
                  </a:lnTo>
                  <a:lnTo>
                    <a:pt x="62" y="122"/>
                  </a:lnTo>
                  <a:lnTo>
                    <a:pt x="71" y="128"/>
                  </a:lnTo>
                  <a:lnTo>
                    <a:pt x="77" y="137"/>
                  </a:lnTo>
                  <a:lnTo>
                    <a:pt x="86" y="144"/>
                  </a:lnTo>
                  <a:lnTo>
                    <a:pt x="95" y="151"/>
                  </a:lnTo>
                  <a:lnTo>
                    <a:pt x="102" y="159"/>
                  </a:lnTo>
                  <a:lnTo>
                    <a:pt x="111" y="166"/>
                  </a:lnTo>
                  <a:lnTo>
                    <a:pt x="120" y="175"/>
                  </a:lnTo>
                  <a:lnTo>
                    <a:pt x="128" y="182"/>
                  </a:lnTo>
                  <a:lnTo>
                    <a:pt x="137" y="190"/>
                  </a:lnTo>
                  <a:lnTo>
                    <a:pt x="146" y="197"/>
                  </a:lnTo>
                  <a:lnTo>
                    <a:pt x="155" y="204"/>
                  </a:lnTo>
                  <a:lnTo>
                    <a:pt x="164" y="213"/>
                  </a:lnTo>
                  <a:lnTo>
                    <a:pt x="171" y="219"/>
                  </a:lnTo>
                  <a:lnTo>
                    <a:pt x="180" y="226"/>
                  </a:lnTo>
                  <a:lnTo>
                    <a:pt x="188" y="233"/>
                  </a:lnTo>
                  <a:lnTo>
                    <a:pt x="206" y="244"/>
                  </a:lnTo>
                  <a:lnTo>
                    <a:pt x="224" y="257"/>
                  </a:lnTo>
                  <a:lnTo>
                    <a:pt x="233" y="261"/>
                  </a:lnTo>
                  <a:lnTo>
                    <a:pt x="244" y="270"/>
                  </a:lnTo>
                  <a:lnTo>
                    <a:pt x="255" y="277"/>
                  </a:lnTo>
                  <a:lnTo>
                    <a:pt x="266" y="283"/>
                  </a:lnTo>
                  <a:lnTo>
                    <a:pt x="280" y="290"/>
                  </a:lnTo>
                  <a:lnTo>
                    <a:pt x="291" y="299"/>
                  </a:lnTo>
                  <a:lnTo>
                    <a:pt x="304" y="306"/>
                  </a:lnTo>
                  <a:lnTo>
                    <a:pt x="317" y="314"/>
                  </a:lnTo>
                  <a:lnTo>
                    <a:pt x="328" y="321"/>
                  </a:lnTo>
                  <a:lnTo>
                    <a:pt x="342" y="328"/>
                  </a:lnTo>
                  <a:lnTo>
                    <a:pt x="355" y="334"/>
                  </a:lnTo>
                  <a:lnTo>
                    <a:pt x="368" y="341"/>
                  </a:lnTo>
                  <a:lnTo>
                    <a:pt x="382" y="348"/>
                  </a:lnTo>
                  <a:lnTo>
                    <a:pt x="393" y="354"/>
                  </a:lnTo>
                  <a:lnTo>
                    <a:pt x="417" y="365"/>
                  </a:lnTo>
                  <a:lnTo>
                    <a:pt x="440" y="374"/>
                  </a:lnTo>
                  <a:lnTo>
                    <a:pt x="457" y="379"/>
                  </a:lnTo>
                  <a:lnTo>
                    <a:pt x="475" y="383"/>
                  </a:lnTo>
                  <a:lnTo>
                    <a:pt x="495" y="377"/>
                  </a:lnTo>
                  <a:lnTo>
                    <a:pt x="497" y="354"/>
                  </a:lnTo>
                  <a:lnTo>
                    <a:pt x="488" y="326"/>
                  </a:lnTo>
                  <a:lnTo>
                    <a:pt x="477" y="299"/>
                  </a:lnTo>
                  <a:lnTo>
                    <a:pt x="468" y="275"/>
                  </a:lnTo>
                  <a:lnTo>
                    <a:pt x="462" y="257"/>
                  </a:lnTo>
                  <a:lnTo>
                    <a:pt x="451" y="230"/>
                  </a:lnTo>
                  <a:lnTo>
                    <a:pt x="446" y="221"/>
                  </a:lnTo>
                  <a:lnTo>
                    <a:pt x="493" y="221"/>
                  </a:lnTo>
                  <a:lnTo>
                    <a:pt x="502" y="241"/>
                  </a:lnTo>
                  <a:lnTo>
                    <a:pt x="513" y="261"/>
                  </a:lnTo>
                  <a:lnTo>
                    <a:pt x="526" y="286"/>
                  </a:lnTo>
                  <a:lnTo>
                    <a:pt x="540" y="308"/>
                  </a:lnTo>
                  <a:lnTo>
                    <a:pt x="555" y="328"/>
                  </a:lnTo>
                  <a:lnTo>
                    <a:pt x="562" y="334"/>
                  </a:lnTo>
                  <a:lnTo>
                    <a:pt x="568" y="341"/>
                  </a:lnTo>
                  <a:lnTo>
                    <a:pt x="580" y="348"/>
                  </a:lnTo>
                  <a:lnTo>
                    <a:pt x="584" y="346"/>
                  </a:lnTo>
                  <a:lnTo>
                    <a:pt x="584" y="339"/>
                  </a:lnTo>
                  <a:lnTo>
                    <a:pt x="577" y="321"/>
                  </a:lnTo>
                  <a:lnTo>
                    <a:pt x="577" y="303"/>
                  </a:lnTo>
                  <a:lnTo>
                    <a:pt x="584" y="297"/>
                  </a:lnTo>
                  <a:lnTo>
                    <a:pt x="600" y="295"/>
                  </a:lnTo>
                  <a:lnTo>
                    <a:pt x="631" y="303"/>
                  </a:lnTo>
                  <a:lnTo>
                    <a:pt x="648" y="321"/>
                  </a:lnTo>
                  <a:lnTo>
                    <a:pt x="659" y="341"/>
                  </a:lnTo>
                  <a:lnTo>
                    <a:pt x="671" y="348"/>
                  </a:lnTo>
                  <a:lnTo>
                    <a:pt x="682" y="352"/>
                  </a:lnTo>
                  <a:lnTo>
                    <a:pt x="739" y="354"/>
                  </a:lnTo>
                  <a:lnTo>
                    <a:pt x="764" y="348"/>
                  </a:lnTo>
                  <a:lnTo>
                    <a:pt x="777" y="330"/>
                  </a:lnTo>
                  <a:lnTo>
                    <a:pt x="782" y="319"/>
                  </a:lnTo>
                  <a:lnTo>
                    <a:pt x="793" y="312"/>
                  </a:lnTo>
                  <a:lnTo>
                    <a:pt x="824" y="306"/>
                  </a:lnTo>
                  <a:lnTo>
                    <a:pt x="859" y="310"/>
                  </a:lnTo>
                  <a:lnTo>
                    <a:pt x="888" y="321"/>
                  </a:lnTo>
                  <a:lnTo>
                    <a:pt x="899" y="328"/>
                  </a:lnTo>
                  <a:lnTo>
                    <a:pt x="913" y="337"/>
                  </a:lnTo>
                  <a:lnTo>
                    <a:pt x="924" y="346"/>
                  </a:lnTo>
                  <a:lnTo>
                    <a:pt x="937" y="352"/>
                  </a:lnTo>
                  <a:lnTo>
                    <a:pt x="959" y="352"/>
                  </a:lnTo>
                  <a:lnTo>
                    <a:pt x="973" y="330"/>
                  </a:lnTo>
                  <a:lnTo>
                    <a:pt x="979" y="312"/>
                  </a:lnTo>
                  <a:lnTo>
                    <a:pt x="986" y="297"/>
                  </a:lnTo>
                  <a:lnTo>
                    <a:pt x="993" y="286"/>
                  </a:lnTo>
                  <a:lnTo>
                    <a:pt x="1002" y="279"/>
                  </a:lnTo>
                  <a:lnTo>
                    <a:pt x="1011" y="272"/>
                  </a:lnTo>
                  <a:lnTo>
                    <a:pt x="1022" y="272"/>
                  </a:lnTo>
                  <a:lnTo>
                    <a:pt x="1042" y="279"/>
                  </a:lnTo>
                  <a:lnTo>
                    <a:pt x="1057" y="286"/>
                  </a:lnTo>
                  <a:lnTo>
                    <a:pt x="1082" y="292"/>
                  </a:lnTo>
                  <a:lnTo>
                    <a:pt x="1111" y="301"/>
                  </a:lnTo>
                  <a:lnTo>
                    <a:pt x="1142" y="310"/>
                  </a:lnTo>
                  <a:lnTo>
                    <a:pt x="1175" y="319"/>
                  </a:lnTo>
                  <a:lnTo>
                    <a:pt x="1206" y="323"/>
                  </a:lnTo>
                  <a:lnTo>
                    <a:pt x="1257" y="330"/>
                  </a:lnTo>
                  <a:lnTo>
                    <a:pt x="1273" y="328"/>
                  </a:lnTo>
                  <a:lnTo>
                    <a:pt x="1282" y="321"/>
                  </a:lnTo>
                  <a:lnTo>
                    <a:pt x="1293" y="301"/>
                  </a:lnTo>
                  <a:lnTo>
                    <a:pt x="1297" y="290"/>
                  </a:lnTo>
                  <a:lnTo>
                    <a:pt x="1308" y="283"/>
                  </a:lnTo>
                  <a:lnTo>
                    <a:pt x="1328" y="279"/>
                  </a:lnTo>
                  <a:lnTo>
                    <a:pt x="1355" y="279"/>
                  </a:lnTo>
                  <a:lnTo>
                    <a:pt x="1473" y="283"/>
                  </a:lnTo>
                  <a:lnTo>
                    <a:pt x="1524" y="283"/>
                  </a:lnTo>
                  <a:lnTo>
                    <a:pt x="1535" y="239"/>
                  </a:lnTo>
                  <a:lnTo>
                    <a:pt x="1559" y="244"/>
                  </a:lnTo>
                  <a:lnTo>
                    <a:pt x="1613" y="250"/>
                  </a:lnTo>
                  <a:lnTo>
                    <a:pt x="1673" y="257"/>
                  </a:lnTo>
                  <a:lnTo>
                    <a:pt x="1719" y="261"/>
                  </a:lnTo>
                  <a:lnTo>
                    <a:pt x="1748" y="252"/>
                  </a:lnTo>
                  <a:lnTo>
                    <a:pt x="1766" y="235"/>
                  </a:lnTo>
                  <a:lnTo>
                    <a:pt x="1779" y="210"/>
                  </a:lnTo>
                  <a:lnTo>
                    <a:pt x="1806" y="217"/>
                  </a:lnTo>
                  <a:lnTo>
                    <a:pt x="1830" y="224"/>
                  </a:lnTo>
                  <a:lnTo>
                    <a:pt x="1857" y="228"/>
                  </a:lnTo>
                  <a:lnTo>
                    <a:pt x="1910" y="230"/>
                  </a:lnTo>
                  <a:lnTo>
                    <a:pt x="1928" y="224"/>
                  </a:lnTo>
                  <a:lnTo>
                    <a:pt x="1933" y="210"/>
                  </a:lnTo>
                  <a:lnTo>
                    <a:pt x="1924" y="142"/>
                  </a:lnTo>
                  <a:lnTo>
                    <a:pt x="1970" y="146"/>
                  </a:lnTo>
                  <a:lnTo>
                    <a:pt x="1999" y="142"/>
                  </a:lnTo>
                  <a:lnTo>
                    <a:pt x="2026" y="124"/>
                  </a:lnTo>
                  <a:lnTo>
                    <a:pt x="2046" y="95"/>
                  </a:lnTo>
                  <a:lnTo>
                    <a:pt x="2055" y="69"/>
                  </a:lnTo>
                  <a:lnTo>
                    <a:pt x="2057" y="38"/>
                  </a:lnTo>
                  <a:lnTo>
                    <a:pt x="1915" y="0"/>
                  </a:lnTo>
                  <a:lnTo>
                    <a:pt x="1890" y="7"/>
                  </a:lnTo>
                  <a:lnTo>
                    <a:pt x="1859" y="13"/>
                  </a:lnTo>
                  <a:lnTo>
                    <a:pt x="1819" y="20"/>
                  </a:lnTo>
                  <a:lnTo>
                    <a:pt x="1768" y="31"/>
                  </a:lnTo>
                  <a:lnTo>
                    <a:pt x="1708" y="42"/>
                  </a:lnTo>
                  <a:lnTo>
                    <a:pt x="1639" y="55"/>
                  </a:lnTo>
                  <a:lnTo>
                    <a:pt x="1602" y="60"/>
                  </a:lnTo>
                  <a:lnTo>
                    <a:pt x="1564" y="66"/>
                  </a:lnTo>
                  <a:lnTo>
                    <a:pt x="1526" y="73"/>
                  </a:lnTo>
                  <a:lnTo>
                    <a:pt x="1484" y="80"/>
                  </a:lnTo>
                  <a:lnTo>
                    <a:pt x="1442" y="86"/>
                  </a:lnTo>
                  <a:lnTo>
                    <a:pt x="1399" y="93"/>
                  </a:lnTo>
                  <a:lnTo>
                    <a:pt x="1355" y="100"/>
                  </a:lnTo>
                  <a:lnTo>
                    <a:pt x="1310" y="106"/>
                  </a:lnTo>
                  <a:lnTo>
                    <a:pt x="1222" y="120"/>
                  </a:lnTo>
                  <a:lnTo>
                    <a:pt x="1128" y="131"/>
                  </a:lnTo>
                  <a:lnTo>
                    <a:pt x="1035" y="139"/>
                  </a:lnTo>
                  <a:lnTo>
                    <a:pt x="944" y="148"/>
                  </a:lnTo>
                  <a:lnTo>
                    <a:pt x="853" y="155"/>
                  </a:lnTo>
                  <a:lnTo>
                    <a:pt x="677" y="157"/>
                  </a:lnTo>
                  <a:lnTo>
                    <a:pt x="517" y="151"/>
                  </a:lnTo>
                  <a:lnTo>
                    <a:pt x="371" y="135"/>
                  </a:lnTo>
                  <a:lnTo>
                    <a:pt x="306" y="126"/>
                  </a:lnTo>
                  <a:lnTo>
                    <a:pt x="246" y="117"/>
                  </a:lnTo>
                  <a:lnTo>
                    <a:pt x="191" y="106"/>
                  </a:lnTo>
                  <a:lnTo>
                    <a:pt x="144" y="97"/>
                  </a:lnTo>
                  <a:lnTo>
                    <a:pt x="100" y="86"/>
                  </a:lnTo>
                  <a:lnTo>
                    <a:pt x="66" y="77"/>
                  </a:lnTo>
                  <a:lnTo>
                    <a:pt x="17" y="64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>
              <a:off x="2971440" y="4665600"/>
              <a:ext cx="457200" cy="62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075" h="147">
                  <a:moveTo>
                    <a:pt x="0" y="147"/>
                  </a:moveTo>
                  <a:lnTo>
                    <a:pt x="13" y="100"/>
                  </a:lnTo>
                  <a:lnTo>
                    <a:pt x="27" y="80"/>
                  </a:lnTo>
                  <a:lnTo>
                    <a:pt x="36" y="71"/>
                  </a:lnTo>
                  <a:lnTo>
                    <a:pt x="47" y="62"/>
                  </a:lnTo>
                  <a:lnTo>
                    <a:pt x="60" y="51"/>
                  </a:lnTo>
                  <a:lnTo>
                    <a:pt x="76" y="45"/>
                  </a:lnTo>
                  <a:lnTo>
                    <a:pt x="91" y="36"/>
                  </a:lnTo>
                  <a:lnTo>
                    <a:pt x="111" y="31"/>
                  </a:lnTo>
                  <a:lnTo>
                    <a:pt x="136" y="25"/>
                  </a:lnTo>
                  <a:lnTo>
                    <a:pt x="164" y="20"/>
                  </a:lnTo>
                  <a:lnTo>
                    <a:pt x="231" y="14"/>
                  </a:lnTo>
                  <a:lnTo>
                    <a:pt x="398" y="9"/>
                  </a:lnTo>
                  <a:lnTo>
                    <a:pt x="691" y="9"/>
                  </a:lnTo>
                  <a:lnTo>
                    <a:pt x="929" y="0"/>
                  </a:lnTo>
                  <a:lnTo>
                    <a:pt x="1033" y="0"/>
                  </a:lnTo>
                  <a:lnTo>
                    <a:pt x="1062" y="3"/>
                  </a:lnTo>
                  <a:lnTo>
                    <a:pt x="1075" y="9"/>
                  </a:lnTo>
                  <a:lnTo>
                    <a:pt x="1073" y="40"/>
                  </a:lnTo>
                  <a:lnTo>
                    <a:pt x="1066" y="49"/>
                  </a:lnTo>
                  <a:lnTo>
                    <a:pt x="1058" y="58"/>
                  </a:lnTo>
                  <a:lnTo>
                    <a:pt x="1044" y="67"/>
                  </a:lnTo>
                  <a:lnTo>
                    <a:pt x="1031" y="78"/>
                  </a:lnTo>
                  <a:lnTo>
                    <a:pt x="1020" y="82"/>
                  </a:lnTo>
                  <a:lnTo>
                    <a:pt x="1006" y="87"/>
                  </a:lnTo>
                  <a:lnTo>
                    <a:pt x="975" y="96"/>
                  </a:lnTo>
                  <a:lnTo>
                    <a:pt x="940" y="102"/>
                  </a:lnTo>
                  <a:lnTo>
                    <a:pt x="898" y="107"/>
                  </a:lnTo>
                  <a:lnTo>
                    <a:pt x="809" y="116"/>
                  </a:lnTo>
                  <a:lnTo>
                    <a:pt x="722" y="124"/>
                  </a:lnTo>
                  <a:lnTo>
                    <a:pt x="658" y="129"/>
                  </a:lnTo>
                  <a:lnTo>
                    <a:pt x="562" y="133"/>
                  </a:lnTo>
                  <a:lnTo>
                    <a:pt x="318" y="140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3039840" y="4763880"/>
              <a:ext cx="45360" cy="385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07" h="91">
                  <a:moveTo>
                    <a:pt x="0" y="62"/>
                  </a:moveTo>
                  <a:lnTo>
                    <a:pt x="0" y="33"/>
                  </a:lnTo>
                  <a:lnTo>
                    <a:pt x="11" y="13"/>
                  </a:lnTo>
                  <a:lnTo>
                    <a:pt x="22" y="4"/>
                  </a:lnTo>
                  <a:lnTo>
                    <a:pt x="38" y="0"/>
                  </a:lnTo>
                  <a:lnTo>
                    <a:pt x="69" y="2"/>
                  </a:lnTo>
                  <a:lnTo>
                    <a:pt x="91" y="13"/>
                  </a:lnTo>
                  <a:lnTo>
                    <a:pt x="104" y="29"/>
                  </a:lnTo>
                  <a:lnTo>
                    <a:pt x="107" y="44"/>
                  </a:lnTo>
                  <a:lnTo>
                    <a:pt x="100" y="62"/>
                  </a:lnTo>
                  <a:lnTo>
                    <a:pt x="93" y="71"/>
                  </a:lnTo>
                  <a:lnTo>
                    <a:pt x="84" y="80"/>
                  </a:lnTo>
                  <a:lnTo>
                    <a:pt x="76" y="86"/>
                  </a:lnTo>
                  <a:lnTo>
                    <a:pt x="67" y="91"/>
                  </a:lnTo>
                  <a:lnTo>
                    <a:pt x="42" y="86"/>
                  </a:lnTo>
                  <a:lnTo>
                    <a:pt x="20" y="75"/>
                  </a:lnTo>
                  <a:lnTo>
                    <a:pt x="7" y="68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3124800" y="4757040"/>
              <a:ext cx="47880" cy="378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13" h="89">
                  <a:moveTo>
                    <a:pt x="4" y="20"/>
                  </a:moveTo>
                  <a:lnTo>
                    <a:pt x="9" y="16"/>
                  </a:lnTo>
                  <a:lnTo>
                    <a:pt x="22" y="7"/>
                  </a:lnTo>
                  <a:lnTo>
                    <a:pt x="42" y="0"/>
                  </a:lnTo>
                  <a:lnTo>
                    <a:pt x="69" y="0"/>
                  </a:lnTo>
                  <a:lnTo>
                    <a:pt x="93" y="9"/>
                  </a:lnTo>
                  <a:lnTo>
                    <a:pt x="104" y="22"/>
                  </a:lnTo>
                  <a:lnTo>
                    <a:pt x="113" y="51"/>
                  </a:lnTo>
                  <a:lnTo>
                    <a:pt x="107" y="67"/>
                  </a:lnTo>
                  <a:lnTo>
                    <a:pt x="100" y="73"/>
                  </a:lnTo>
                  <a:lnTo>
                    <a:pt x="93" y="82"/>
                  </a:lnTo>
                  <a:lnTo>
                    <a:pt x="84" y="87"/>
                  </a:lnTo>
                  <a:lnTo>
                    <a:pt x="73" y="89"/>
                  </a:lnTo>
                  <a:lnTo>
                    <a:pt x="53" y="84"/>
                  </a:lnTo>
                  <a:lnTo>
                    <a:pt x="31" y="73"/>
                  </a:lnTo>
                  <a:lnTo>
                    <a:pt x="15" y="62"/>
                  </a:lnTo>
                  <a:lnTo>
                    <a:pt x="0" y="51"/>
                  </a:lnTo>
                  <a:lnTo>
                    <a:pt x="4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3222000" y="4742280"/>
              <a:ext cx="56520" cy="403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133" h="95">
                  <a:moveTo>
                    <a:pt x="0" y="40"/>
                  </a:moveTo>
                  <a:lnTo>
                    <a:pt x="9" y="18"/>
                  </a:lnTo>
                  <a:lnTo>
                    <a:pt x="22" y="2"/>
                  </a:lnTo>
                  <a:lnTo>
                    <a:pt x="46" y="0"/>
                  </a:lnTo>
                  <a:lnTo>
                    <a:pt x="75" y="9"/>
                  </a:lnTo>
                  <a:lnTo>
                    <a:pt x="102" y="20"/>
                  </a:lnTo>
                  <a:lnTo>
                    <a:pt x="122" y="31"/>
                  </a:lnTo>
                  <a:lnTo>
                    <a:pt x="133" y="44"/>
                  </a:lnTo>
                  <a:lnTo>
                    <a:pt x="131" y="60"/>
                  </a:lnTo>
                  <a:lnTo>
                    <a:pt x="124" y="75"/>
                  </a:lnTo>
                  <a:lnTo>
                    <a:pt x="115" y="84"/>
                  </a:lnTo>
                  <a:lnTo>
                    <a:pt x="104" y="88"/>
                  </a:lnTo>
                  <a:lnTo>
                    <a:pt x="75" y="95"/>
                  </a:lnTo>
                  <a:lnTo>
                    <a:pt x="46" y="91"/>
                  </a:lnTo>
                  <a:lnTo>
                    <a:pt x="24" y="82"/>
                  </a:lnTo>
                  <a:lnTo>
                    <a:pt x="9" y="68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3457440" y="4691160"/>
              <a:ext cx="171720" cy="723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04" h="171">
                  <a:moveTo>
                    <a:pt x="224" y="0"/>
                  </a:moveTo>
                  <a:lnTo>
                    <a:pt x="213" y="7"/>
                  </a:lnTo>
                  <a:lnTo>
                    <a:pt x="200" y="16"/>
                  </a:lnTo>
                  <a:lnTo>
                    <a:pt x="184" y="25"/>
                  </a:lnTo>
                  <a:lnTo>
                    <a:pt x="164" y="36"/>
                  </a:lnTo>
                  <a:lnTo>
                    <a:pt x="155" y="42"/>
                  </a:lnTo>
                  <a:lnTo>
                    <a:pt x="144" y="49"/>
                  </a:lnTo>
                  <a:lnTo>
                    <a:pt x="133" y="56"/>
                  </a:lnTo>
                  <a:lnTo>
                    <a:pt x="122" y="62"/>
                  </a:lnTo>
                  <a:lnTo>
                    <a:pt x="111" y="71"/>
                  </a:lnTo>
                  <a:lnTo>
                    <a:pt x="100" y="78"/>
                  </a:lnTo>
                  <a:lnTo>
                    <a:pt x="87" y="84"/>
                  </a:lnTo>
                  <a:lnTo>
                    <a:pt x="76" y="93"/>
                  </a:lnTo>
                  <a:lnTo>
                    <a:pt x="67" y="100"/>
                  </a:lnTo>
                  <a:lnTo>
                    <a:pt x="56" y="107"/>
                  </a:lnTo>
                  <a:lnTo>
                    <a:pt x="44" y="115"/>
                  </a:lnTo>
                  <a:lnTo>
                    <a:pt x="36" y="122"/>
                  </a:lnTo>
                  <a:lnTo>
                    <a:pt x="20" y="135"/>
                  </a:lnTo>
                  <a:lnTo>
                    <a:pt x="9" y="146"/>
                  </a:lnTo>
                  <a:lnTo>
                    <a:pt x="0" y="155"/>
                  </a:lnTo>
                  <a:lnTo>
                    <a:pt x="2" y="169"/>
                  </a:lnTo>
                  <a:lnTo>
                    <a:pt x="47" y="171"/>
                  </a:lnTo>
                  <a:lnTo>
                    <a:pt x="111" y="160"/>
                  </a:lnTo>
                  <a:lnTo>
                    <a:pt x="144" y="153"/>
                  </a:lnTo>
                  <a:lnTo>
                    <a:pt x="180" y="144"/>
                  </a:lnTo>
                  <a:lnTo>
                    <a:pt x="211" y="138"/>
                  </a:lnTo>
                  <a:lnTo>
                    <a:pt x="238" y="133"/>
                  </a:lnTo>
                  <a:lnTo>
                    <a:pt x="291" y="120"/>
                  </a:lnTo>
                  <a:lnTo>
                    <a:pt x="320" y="109"/>
                  </a:lnTo>
                  <a:lnTo>
                    <a:pt x="344" y="98"/>
                  </a:lnTo>
                  <a:lnTo>
                    <a:pt x="369" y="87"/>
                  </a:lnTo>
                  <a:lnTo>
                    <a:pt x="389" y="78"/>
                  </a:lnTo>
                  <a:lnTo>
                    <a:pt x="404" y="69"/>
                  </a:lnTo>
                  <a:lnTo>
                    <a:pt x="178" y="111"/>
                  </a:lnTo>
                  <a:lnTo>
                    <a:pt x="220" y="64"/>
                  </a:lnTo>
                  <a:lnTo>
                    <a:pt x="384" y="40"/>
                  </a:lnTo>
                  <a:lnTo>
                    <a:pt x="260" y="36"/>
                  </a:lnTo>
                  <a:lnTo>
                    <a:pt x="289" y="13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3406320" y="4706640"/>
              <a:ext cx="27000" cy="24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4" h="59">
                  <a:moveTo>
                    <a:pt x="64" y="0"/>
                  </a:moveTo>
                  <a:lnTo>
                    <a:pt x="33" y="6"/>
                  </a:lnTo>
                  <a:lnTo>
                    <a:pt x="13" y="15"/>
                  </a:lnTo>
                  <a:lnTo>
                    <a:pt x="0" y="28"/>
                  </a:lnTo>
                  <a:lnTo>
                    <a:pt x="2" y="44"/>
                  </a:lnTo>
                  <a:lnTo>
                    <a:pt x="7" y="48"/>
                  </a:lnTo>
                  <a:lnTo>
                    <a:pt x="11" y="53"/>
                  </a:lnTo>
                  <a:lnTo>
                    <a:pt x="24" y="59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>
              <a:off x="4148640" y="4695840"/>
              <a:ext cx="266400" cy="2214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27" h="521">
                  <a:moveTo>
                    <a:pt x="67" y="49"/>
                  </a:moveTo>
                  <a:lnTo>
                    <a:pt x="74" y="45"/>
                  </a:lnTo>
                  <a:lnTo>
                    <a:pt x="91" y="33"/>
                  </a:lnTo>
                  <a:lnTo>
                    <a:pt x="105" y="27"/>
                  </a:lnTo>
                  <a:lnTo>
                    <a:pt x="120" y="20"/>
                  </a:lnTo>
                  <a:lnTo>
                    <a:pt x="138" y="14"/>
                  </a:lnTo>
                  <a:lnTo>
                    <a:pt x="158" y="7"/>
                  </a:lnTo>
                  <a:lnTo>
                    <a:pt x="205" y="0"/>
                  </a:lnTo>
                  <a:lnTo>
                    <a:pt x="260" y="2"/>
                  </a:lnTo>
                  <a:lnTo>
                    <a:pt x="322" y="16"/>
                  </a:lnTo>
                  <a:lnTo>
                    <a:pt x="356" y="31"/>
                  </a:lnTo>
                  <a:lnTo>
                    <a:pt x="374" y="40"/>
                  </a:lnTo>
                  <a:lnTo>
                    <a:pt x="391" y="49"/>
                  </a:lnTo>
                  <a:lnTo>
                    <a:pt x="409" y="60"/>
                  </a:lnTo>
                  <a:lnTo>
                    <a:pt x="425" y="71"/>
                  </a:lnTo>
                  <a:lnTo>
                    <a:pt x="440" y="80"/>
                  </a:lnTo>
                  <a:lnTo>
                    <a:pt x="456" y="91"/>
                  </a:lnTo>
                  <a:lnTo>
                    <a:pt x="471" y="100"/>
                  </a:lnTo>
                  <a:lnTo>
                    <a:pt x="485" y="111"/>
                  </a:lnTo>
                  <a:lnTo>
                    <a:pt x="498" y="120"/>
                  </a:lnTo>
                  <a:lnTo>
                    <a:pt x="511" y="131"/>
                  </a:lnTo>
                  <a:lnTo>
                    <a:pt x="522" y="140"/>
                  </a:lnTo>
                  <a:lnTo>
                    <a:pt x="533" y="151"/>
                  </a:lnTo>
                  <a:lnTo>
                    <a:pt x="545" y="160"/>
                  </a:lnTo>
                  <a:lnTo>
                    <a:pt x="553" y="169"/>
                  </a:lnTo>
                  <a:lnTo>
                    <a:pt x="562" y="180"/>
                  </a:lnTo>
                  <a:lnTo>
                    <a:pt x="571" y="189"/>
                  </a:lnTo>
                  <a:lnTo>
                    <a:pt x="580" y="197"/>
                  </a:lnTo>
                  <a:lnTo>
                    <a:pt x="587" y="209"/>
                  </a:lnTo>
                  <a:lnTo>
                    <a:pt x="609" y="246"/>
                  </a:lnTo>
                  <a:lnTo>
                    <a:pt x="622" y="286"/>
                  </a:lnTo>
                  <a:lnTo>
                    <a:pt x="627" y="326"/>
                  </a:lnTo>
                  <a:lnTo>
                    <a:pt x="622" y="366"/>
                  </a:lnTo>
                  <a:lnTo>
                    <a:pt x="611" y="408"/>
                  </a:lnTo>
                  <a:lnTo>
                    <a:pt x="602" y="426"/>
                  </a:lnTo>
                  <a:lnTo>
                    <a:pt x="596" y="443"/>
                  </a:lnTo>
                  <a:lnTo>
                    <a:pt x="580" y="472"/>
                  </a:lnTo>
                  <a:lnTo>
                    <a:pt x="562" y="497"/>
                  </a:lnTo>
                  <a:lnTo>
                    <a:pt x="556" y="505"/>
                  </a:lnTo>
                  <a:lnTo>
                    <a:pt x="547" y="512"/>
                  </a:lnTo>
                  <a:lnTo>
                    <a:pt x="533" y="521"/>
                  </a:lnTo>
                  <a:lnTo>
                    <a:pt x="525" y="521"/>
                  </a:lnTo>
                  <a:lnTo>
                    <a:pt x="520" y="510"/>
                  </a:lnTo>
                  <a:lnTo>
                    <a:pt x="513" y="428"/>
                  </a:lnTo>
                  <a:lnTo>
                    <a:pt x="527" y="419"/>
                  </a:lnTo>
                  <a:lnTo>
                    <a:pt x="538" y="408"/>
                  </a:lnTo>
                  <a:lnTo>
                    <a:pt x="556" y="384"/>
                  </a:lnTo>
                  <a:lnTo>
                    <a:pt x="560" y="357"/>
                  </a:lnTo>
                  <a:lnTo>
                    <a:pt x="556" y="341"/>
                  </a:lnTo>
                  <a:lnTo>
                    <a:pt x="545" y="326"/>
                  </a:lnTo>
                  <a:lnTo>
                    <a:pt x="538" y="317"/>
                  </a:lnTo>
                  <a:lnTo>
                    <a:pt x="531" y="310"/>
                  </a:lnTo>
                  <a:lnTo>
                    <a:pt x="525" y="302"/>
                  </a:lnTo>
                  <a:lnTo>
                    <a:pt x="518" y="295"/>
                  </a:lnTo>
                  <a:lnTo>
                    <a:pt x="505" y="284"/>
                  </a:lnTo>
                  <a:lnTo>
                    <a:pt x="494" y="275"/>
                  </a:lnTo>
                  <a:lnTo>
                    <a:pt x="482" y="271"/>
                  </a:lnTo>
                  <a:lnTo>
                    <a:pt x="476" y="268"/>
                  </a:lnTo>
                  <a:lnTo>
                    <a:pt x="467" y="275"/>
                  </a:lnTo>
                  <a:lnTo>
                    <a:pt x="476" y="293"/>
                  </a:lnTo>
                  <a:lnTo>
                    <a:pt x="491" y="317"/>
                  </a:lnTo>
                  <a:lnTo>
                    <a:pt x="509" y="361"/>
                  </a:lnTo>
                  <a:lnTo>
                    <a:pt x="505" y="370"/>
                  </a:lnTo>
                  <a:lnTo>
                    <a:pt x="496" y="372"/>
                  </a:lnTo>
                  <a:lnTo>
                    <a:pt x="471" y="379"/>
                  </a:lnTo>
                  <a:lnTo>
                    <a:pt x="449" y="388"/>
                  </a:lnTo>
                  <a:lnTo>
                    <a:pt x="447" y="419"/>
                  </a:lnTo>
                  <a:lnTo>
                    <a:pt x="454" y="437"/>
                  </a:lnTo>
                  <a:lnTo>
                    <a:pt x="460" y="454"/>
                  </a:lnTo>
                  <a:lnTo>
                    <a:pt x="469" y="479"/>
                  </a:lnTo>
                  <a:lnTo>
                    <a:pt x="469" y="497"/>
                  </a:lnTo>
                  <a:lnTo>
                    <a:pt x="462" y="503"/>
                  </a:lnTo>
                  <a:lnTo>
                    <a:pt x="451" y="510"/>
                  </a:lnTo>
                  <a:lnTo>
                    <a:pt x="425" y="512"/>
                  </a:lnTo>
                  <a:lnTo>
                    <a:pt x="402" y="501"/>
                  </a:lnTo>
                  <a:lnTo>
                    <a:pt x="385" y="479"/>
                  </a:lnTo>
                  <a:lnTo>
                    <a:pt x="380" y="454"/>
                  </a:lnTo>
                  <a:lnTo>
                    <a:pt x="387" y="426"/>
                  </a:lnTo>
                  <a:lnTo>
                    <a:pt x="396" y="397"/>
                  </a:lnTo>
                  <a:lnTo>
                    <a:pt x="402" y="375"/>
                  </a:lnTo>
                  <a:lnTo>
                    <a:pt x="407" y="366"/>
                  </a:lnTo>
                  <a:lnTo>
                    <a:pt x="394" y="375"/>
                  </a:lnTo>
                  <a:lnTo>
                    <a:pt x="380" y="379"/>
                  </a:lnTo>
                  <a:lnTo>
                    <a:pt x="367" y="386"/>
                  </a:lnTo>
                  <a:lnTo>
                    <a:pt x="342" y="386"/>
                  </a:lnTo>
                  <a:lnTo>
                    <a:pt x="334" y="361"/>
                  </a:lnTo>
                  <a:lnTo>
                    <a:pt x="340" y="341"/>
                  </a:lnTo>
                  <a:lnTo>
                    <a:pt x="349" y="326"/>
                  </a:lnTo>
                  <a:lnTo>
                    <a:pt x="358" y="313"/>
                  </a:lnTo>
                  <a:lnTo>
                    <a:pt x="369" y="302"/>
                  </a:lnTo>
                  <a:lnTo>
                    <a:pt x="380" y="295"/>
                  </a:lnTo>
                  <a:lnTo>
                    <a:pt x="387" y="288"/>
                  </a:lnTo>
                  <a:lnTo>
                    <a:pt x="396" y="284"/>
                  </a:lnTo>
                  <a:lnTo>
                    <a:pt x="405" y="257"/>
                  </a:lnTo>
                  <a:lnTo>
                    <a:pt x="405" y="224"/>
                  </a:lnTo>
                  <a:lnTo>
                    <a:pt x="402" y="204"/>
                  </a:lnTo>
                  <a:lnTo>
                    <a:pt x="396" y="182"/>
                  </a:lnTo>
                  <a:lnTo>
                    <a:pt x="387" y="160"/>
                  </a:lnTo>
                  <a:lnTo>
                    <a:pt x="374" y="138"/>
                  </a:lnTo>
                  <a:lnTo>
                    <a:pt x="365" y="129"/>
                  </a:lnTo>
                  <a:lnTo>
                    <a:pt x="358" y="118"/>
                  </a:lnTo>
                  <a:lnTo>
                    <a:pt x="347" y="109"/>
                  </a:lnTo>
                  <a:lnTo>
                    <a:pt x="338" y="100"/>
                  </a:lnTo>
                  <a:lnTo>
                    <a:pt x="327" y="93"/>
                  </a:lnTo>
                  <a:lnTo>
                    <a:pt x="316" y="87"/>
                  </a:lnTo>
                  <a:lnTo>
                    <a:pt x="305" y="80"/>
                  </a:lnTo>
                  <a:lnTo>
                    <a:pt x="291" y="73"/>
                  </a:lnTo>
                  <a:lnTo>
                    <a:pt x="265" y="67"/>
                  </a:lnTo>
                  <a:lnTo>
                    <a:pt x="236" y="64"/>
                  </a:lnTo>
                  <a:lnTo>
                    <a:pt x="180" y="73"/>
                  </a:lnTo>
                  <a:lnTo>
                    <a:pt x="154" y="82"/>
                  </a:lnTo>
                  <a:lnTo>
                    <a:pt x="131" y="93"/>
                  </a:lnTo>
                  <a:lnTo>
                    <a:pt x="111" y="102"/>
                  </a:lnTo>
                  <a:lnTo>
                    <a:pt x="96" y="113"/>
                  </a:lnTo>
                  <a:lnTo>
                    <a:pt x="82" y="122"/>
                  </a:lnTo>
                  <a:lnTo>
                    <a:pt x="211" y="122"/>
                  </a:lnTo>
                  <a:lnTo>
                    <a:pt x="234" y="124"/>
                  </a:lnTo>
                  <a:lnTo>
                    <a:pt x="251" y="133"/>
                  </a:lnTo>
                  <a:lnTo>
                    <a:pt x="265" y="144"/>
                  </a:lnTo>
                  <a:lnTo>
                    <a:pt x="276" y="158"/>
                  </a:lnTo>
                  <a:lnTo>
                    <a:pt x="294" y="193"/>
                  </a:lnTo>
                  <a:lnTo>
                    <a:pt x="287" y="189"/>
                  </a:lnTo>
                  <a:lnTo>
                    <a:pt x="271" y="180"/>
                  </a:lnTo>
                  <a:lnTo>
                    <a:pt x="242" y="171"/>
                  </a:lnTo>
                  <a:lnTo>
                    <a:pt x="200" y="166"/>
                  </a:lnTo>
                  <a:lnTo>
                    <a:pt x="151" y="173"/>
                  </a:lnTo>
                  <a:lnTo>
                    <a:pt x="98" y="184"/>
                  </a:lnTo>
                  <a:lnTo>
                    <a:pt x="58" y="197"/>
                  </a:lnTo>
                  <a:lnTo>
                    <a:pt x="42" y="204"/>
                  </a:lnTo>
                  <a:lnTo>
                    <a:pt x="0" y="135"/>
                  </a:lnTo>
                  <a:lnTo>
                    <a:pt x="67" y="49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>
              <a:off x="4160160" y="4785480"/>
              <a:ext cx="122040" cy="648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87" h="153">
                  <a:moveTo>
                    <a:pt x="20" y="22"/>
                  </a:moveTo>
                  <a:lnTo>
                    <a:pt x="40" y="17"/>
                  </a:lnTo>
                  <a:lnTo>
                    <a:pt x="87" y="6"/>
                  </a:lnTo>
                  <a:lnTo>
                    <a:pt x="147" y="0"/>
                  </a:lnTo>
                  <a:lnTo>
                    <a:pt x="200" y="0"/>
                  </a:lnTo>
                  <a:lnTo>
                    <a:pt x="240" y="13"/>
                  </a:lnTo>
                  <a:lnTo>
                    <a:pt x="255" y="24"/>
                  </a:lnTo>
                  <a:lnTo>
                    <a:pt x="267" y="35"/>
                  </a:lnTo>
                  <a:lnTo>
                    <a:pt x="275" y="44"/>
                  </a:lnTo>
                  <a:lnTo>
                    <a:pt x="282" y="53"/>
                  </a:lnTo>
                  <a:lnTo>
                    <a:pt x="287" y="62"/>
                  </a:lnTo>
                  <a:lnTo>
                    <a:pt x="267" y="86"/>
                  </a:lnTo>
                  <a:lnTo>
                    <a:pt x="262" y="84"/>
                  </a:lnTo>
                  <a:lnTo>
                    <a:pt x="249" y="75"/>
                  </a:lnTo>
                  <a:lnTo>
                    <a:pt x="227" y="64"/>
                  </a:lnTo>
                  <a:lnTo>
                    <a:pt x="211" y="57"/>
                  </a:lnTo>
                  <a:lnTo>
                    <a:pt x="195" y="53"/>
                  </a:lnTo>
                  <a:lnTo>
                    <a:pt x="158" y="48"/>
                  </a:lnTo>
                  <a:lnTo>
                    <a:pt x="124" y="51"/>
                  </a:lnTo>
                  <a:lnTo>
                    <a:pt x="89" y="57"/>
                  </a:lnTo>
                  <a:lnTo>
                    <a:pt x="109" y="62"/>
                  </a:lnTo>
                  <a:lnTo>
                    <a:pt x="149" y="71"/>
                  </a:lnTo>
                  <a:lnTo>
                    <a:pt x="195" y="84"/>
                  </a:lnTo>
                  <a:lnTo>
                    <a:pt x="222" y="97"/>
                  </a:lnTo>
                  <a:lnTo>
                    <a:pt x="238" y="119"/>
                  </a:lnTo>
                  <a:lnTo>
                    <a:pt x="238" y="128"/>
                  </a:lnTo>
                  <a:lnTo>
                    <a:pt x="209" y="153"/>
                  </a:lnTo>
                  <a:lnTo>
                    <a:pt x="200" y="148"/>
                  </a:lnTo>
                  <a:lnTo>
                    <a:pt x="173" y="137"/>
                  </a:lnTo>
                  <a:lnTo>
                    <a:pt x="158" y="130"/>
                  </a:lnTo>
                  <a:lnTo>
                    <a:pt x="142" y="126"/>
                  </a:lnTo>
                  <a:lnTo>
                    <a:pt x="109" y="119"/>
                  </a:lnTo>
                  <a:lnTo>
                    <a:pt x="82" y="124"/>
                  </a:lnTo>
                  <a:lnTo>
                    <a:pt x="58" y="135"/>
                  </a:lnTo>
                  <a:lnTo>
                    <a:pt x="40" y="146"/>
                  </a:lnTo>
                  <a:lnTo>
                    <a:pt x="33" y="150"/>
                  </a:lnTo>
                  <a:lnTo>
                    <a:pt x="13" y="117"/>
                  </a:lnTo>
                  <a:lnTo>
                    <a:pt x="51" y="97"/>
                  </a:lnTo>
                  <a:lnTo>
                    <a:pt x="0" y="73"/>
                  </a:lnTo>
                  <a:lnTo>
                    <a:pt x="4" y="57"/>
                  </a:lnTo>
                  <a:lnTo>
                    <a:pt x="11" y="40"/>
                  </a:lnTo>
                  <a:lnTo>
                    <a:pt x="20" y="22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"/>
            <p:cNvSpPr/>
            <p:nvPr/>
          </p:nvSpPr>
          <p:spPr>
            <a:xfrm>
              <a:off x="4198320" y="4861800"/>
              <a:ext cx="58320" cy="619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38" h="146">
                  <a:moveTo>
                    <a:pt x="0" y="18"/>
                  </a:moveTo>
                  <a:lnTo>
                    <a:pt x="11" y="11"/>
                  </a:lnTo>
                  <a:lnTo>
                    <a:pt x="24" y="7"/>
                  </a:lnTo>
                  <a:lnTo>
                    <a:pt x="40" y="2"/>
                  </a:lnTo>
                  <a:lnTo>
                    <a:pt x="75" y="0"/>
                  </a:lnTo>
                  <a:lnTo>
                    <a:pt x="111" y="13"/>
                  </a:lnTo>
                  <a:lnTo>
                    <a:pt x="124" y="25"/>
                  </a:lnTo>
                  <a:lnTo>
                    <a:pt x="133" y="38"/>
                  </a:lnTo>
                  <a:lnTo>
                    <a:pt x="138" y="58"/>
                  </a:lnTo>
                  <a:lnTo>
                    <a:pt x="135" y="73"/>
                  </a:lnTo>
                  <a:lnTo>
                    <a:pt x="133" y="80"/>
                  </a:lnTo>
                  <a:lnTo>
                    <a:pt x="129" y="91"/>
                  </a:lnTo>
                  <a:lnTo>
                    <a:pt x="115" y="118"/>
                  </a:lnTo>
                  <a:lnTo>
                    <a:pt x="106" y="131"/>
                  </a:lnTo>
                  <a:lnTo>
                    <a:pt x="98" y="140"/>
                  </a:lnTo>
                  <a:lnTo>
                    <a:pt x="86" y="146"/>
                  </a:lnTo>
                  <a:lnTo>
                    <a:pt x="78" y="146"/>
                  </a:lnTo>
                  <a:lnTo>
                    <a:pt x="58" y="131"/>
                  </a:lnTo>
                  <a:lnTo>
                    <a:pt x="71" y="113"/>
                  </a:lnTo>
                  <a:lnTo>
                    <a:pt x="82" y="87"/>
                  </a:lnTo>
                  <a:lnTo>
                    <a:pt x="80" y="80"/>
                  </a:lnTo>
                  <a:lnTo>
                    <a:pt x="75" y="76"/>
                  </a:lnTo>
                  <a:lnTo>
                    <a:pt x="55" y="69"/>
                  </a:lnTo>
                  <a:lnTo>
                    <a:pt x="31" y="67"/>
                  </a:lnTo>
                  <a:lnTo>
                    <a:pt x="15" y="71"/>
                  </a:lnTo>
                  <a:lnTo>
                    <a:pt x="2" y="8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"/>
            <p:cNvSpPr/>
            <p:nvPr/>
          </p:nvSpPr>
          <p:spPr>
            <a:xfrm>
              <a:off x="4194360" y="4876920"/>
              <a:ext cx="97920" cy="100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31" h="237">
                  <a:moveTo>
                    <a:pt x="171" y="0"/>
                  </a:moveTo>
                  <a:lnTo>
                    <a:pt x="175" y="11"/>
                  </a:lnTo>
                  <a:lnTo>
                    <a:pt x="187" y="40"/>
                  </a:lnTo>
                  <a:lnTo>
                    <a:pt x="191" y="77"/>
                  </a:lnTo>
                  <a:lnTo>
                    <a:pt x="189" y="97"/>
                  </a:lnTo>
                  <a:lnTo>
                    <a:pt x="182" y="115"/>
                  </a:lnTo>
                  <a:lnTo>
                    <a:pt x="169" y="133"/>
                  </a:lnTo>
                  <a:lnTo>
                    <a:pt x="162" y="139"/>
                  </a:lnTo>
                  <a:lnTo>
                    <a:pt x="153" y="146"/>
                  </a:lnTo>
                  <a:lnTo>
                    <a:pt x="144" y="153"/>
                  </a:lnTo>
                  <a:lnTo>
                    <a:pt x="135" y="159"/>
                  </a:lnTo>
                  <a:lnTo>
                    <a:pt x="118" y="170"/>
                  </a:lnTo>
                  <a:lnTo>
                    <a:pt x="98" y="179"/>
                  </a:lnTo>
                  <a:lnTo>
                    <a:pt x="82" y="181"/>
                  </a:lnTo>
                  <a:lnTo>
                    <a:pt x="55" y="177"/>
                  </a:lnTo>
                  <a:lnTo>
                    <a:pt x="33" y="144"/>
                  </a:lnTo>
                  <a:lnTo>
                    <a:pt x="29" y="126"/>
                  </a:lnTo>
                  <a:lnTo>
                    <a:pt x="0" y="150"/>
                  </a:lnTo>
                  <a:lnTo>
                    <a:pt x="4" y="168"/>
                  </a:lnTo>
                  <a:lnTo>
                    <a:pt x="9" y="184"/>
                  </a:lnTo>
                  <a:lnTo>
                    <a:pt x="20" y="201"/>
                  </a:lnTo>
                  <a:lnTo>
                    <a:pt x="27" y="210"/>
                  </a:lnTo>
                  <a:lnTo>
                    <a:pt x="35" y="219"/>
                  </a:lnTo>
                  <a:lnTo>
                    <a:pt x="44" y="226"/>
                  </a:lnTo>
                  <a:lnTo>
                    <a:pt x="58" y="230"/>
                  </a:lnTo>
                  <a:lnTo>
                    <a:pt x="84" y="237"/>
                  </a:lnTo>
                  <a:lnTo>
                    <a:pt x="120" y="232"/>
                  </a:lnTo>
                  <a:lnTo>
                    <a:pt x="155" y="219"/>
                  </a:lnTo>
                  <a:lnTo>
                    <a:pt x="169" y="210"/>
                  </a:lnTo>
                  <a:lnTo>
                    <a:pt x="182" y="201"/>
                  </a:lnTo>
                  <a:lnTo>
                    <a:pt x="218" y="155"/>
                  </a:lnTo>
                  <a:lnTo>
                    <a:pt x="231" y="104"/>
                  </a:lnTo>
                  <a:lnTo>
                    <a:pt x="231" y="64"/>
                  </a:lnTo>
                  <a:lnTo>
                    <a:pt x="224" y="48"/>
                  </a:lnTo>
                  <a:lnTo>
                    <a:pt x="215" y="37"/>
                  </a:lnTo>
                  <a:lnTo>
                    <a:pt x="207" y="26"/>
                  </a:lnTo>
                  <a:lnTo>
                    <a:pt x="198" y="17"/>
                  </a:lnTo>
                  <a:lnTo>
                    <a:pt x="187" y="9"/>
                  </a:lnTo>
                  <a:lnTo>
                    <a:pt x="180" y="4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4"/>
            <p:cNvSpPr/>
            <p:nvPr/>
          </p:nvSpPr>
          <p:spPr>
            <a:xfrm>
              <a:off x="4116960" y="4914360"/>
              <a:ext cx="88560" cy="126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209" h="297">
                  <a:moveTo>
                    <a:pt x="4" y="127"/>
                  </a:moveTo>
                  <a:lnTo>
                    <a:pt x="0" y="204"/>
                  </a:lnTo>
                  <a:lnTo>
                    <a:pt x="6" y="233"/>
                  </a:lnTo>
                  <a:lnTo>
                    <a:pt x="22" y="260"/>
                  </a:lnTo>
                  <a:lnTo>
                    <a:pt x="26" y="266"/>
                  </a:lnTo>
                  <a:lnTo>
                    <a:pt x="33" y="271"/>
                  </a:lnTo>
                  <a:lnTo>
                    <a:pt x="46" y="282"/>
                  </a:lnTo>
                  <a:lnTo>
                    <a:pt x="62" y="288"/>
                  </a:lnTo>
                  <a:lnTo>
                    <a:pt x="82" y="293"/>
                  </a:lnTo>
                  <a:lnTo>
                    <a:pt x="120" y="297"/>
                  </a:lnTo>
                  <a:lnTo>
                    <a:pt x="149" y="293"/>
                  </a:lnTo>
                  <a:lnTo>
                    <a:pt x="186" y="277"/>
                  </a:lnTo>
                  <a:lnTo>
                    <a:pt x="209" y="246"/>
                  </a:lnTo>
                  <a:lnTo>
                    <a:pt x="202" y="213"/>
                  </a:lnTo>
                  <a:lnTo>
                    <a:pt x="184" y="222"/>
                  </a:lnTo>
                  <a:lnTo>
                    <a:pt x="166" y="228"/>
                  </a:lnTo>
                  <a:lnTo>
                    <a:pt x="144" y="235"/>
                  </a:lnTo>
                  <a:lnTo>
                    <a:pt x="122" y="242"/>
                  </a:lnTo>
                  <a:lnTo>
                    <a:pt x="102" y="242"/>
                  </a:lnTo>
                  <a:lnTo>
                    <a:pt x="84" y="237"/>
                  </a:lnTo>
                  <a:lnTo>
                    <a:pt x="73" y="224"/>
                  </a:lnTo>
                  <a:lnTo>
                    <a:pt x="66" y="193"/>
                  </a:lnTo>
                  <a:lnTo>
                    <a:pt x="69" y="166"/>
                  </a:lnTo>
                  <a:lnTo>
                    <a:pt x="75" y="151"/>
                  </a:lnTo>
                  <a:lnTo>
                    <a:pt x="78" y="144"/>
                  </a:lnTo>
                  <a:lnTo>
                    <a:pt x="91" y="166"/>
                  </a:lnTo>
                  <a:lnTo>
                    <a:pt x="100" y="173"/>
                  </a:lnTo>
                  <a:lnTo>
                    <a:pt x="111" y="178"/>
                  </a:lnTo>
                  <a:lnTo>
                    <a:pt x="142" y="175"/>
                  </a:lnTo>
                  <a:lnTo>
                    <a:pt x="171" y="164"/>
                  </a:lnTo>
                  <a:lnTo>
                    <a:pt x="184" y="151"/>
                  </a:lnTo>
                  <a:lnTo>
                    <a:pt x="189" y="140"/>
                  </a:lnTo>
                  <a:lnTo>
                    <a:pt x="157" y="113"/>
                  </a:lnTo>
                  <a:lnTo>
                    <a:pt x="151" y="118"/>
                  </a:lnTo>
                  <a:lnTo>
                    <a:pt x="135" y="122"/>
                  </a:lnTo>
                  <a:lnTo>
                    <a:pt x="117" y="120"/>
                  </a:lnTo>
                  <a:lnTo>
                    <a:pt x="102" y="104"/>
                  </a:lnTo>
                  <a:lnTo>
                    <a:pt x="102" y="78"/>
                  </a:lnTo>
                  <a:lnTo>
                    <a:pt x="120" y="56"/>
                  </a:lnTo>
                  <a:lnTo>
                    <a:pt x="129" y="47"/>
                  </a:lnTo>
                  <a:lnTo>
                    <a:pt x="140" y="38"/>
                  </a:lnTo>
                  <a:lnTo>
                    <a:pt x="149" y="31"/>
                  </a:lnTo>
                  <a:lnTo>
                    <a:pt x="135" y="0"/>
                  </a:lnTo>
                  <a:lnTo>
                    <a:pt x="129" y="9"/>
                  </a:lnTo>
                  <a:lnTo>
                    <a:pt x="120" y="16"/>
                  </a:lnTo>
                  <a:lnTo>
                    <a:pt x="109" y="25"/>
                  </a:lnTo>
                  <a:lnTo>
                    <a:pt x="97" y="36"/>
                  </a:lnTo>
                  <a:lnTo>
                    <a:pt x="86" y="45"/>
                  </a:lnTo>
                  <a:lnTo>
                    <a:pt x="73" y="56"/>
                  </a:lnTo>
                  <a:lnTo>
                    <a:pt x="60" y="65"/>
                  </a:lnTo>
                  <a:lnTo>
                    <a:pt x="49" y="76"/>
                  </a:lnTo>
                  <a:lnTo>
                    <a:pt x="40" y="84"/>
                  </a:lnTo>
                  <a:lnTo>
                    <a:pt x="29" y="96"/>
                  </a:lnTo>
                  <a:lnTo>
                    <a:pt x="22" y="104"/>
                  </a:lnTo>
                  <a:lnTo>
                    <a:pt x="13" y="113"/>
                  </a:lnTo>
                  <a:lnTo>
                    <a:pt x="9" y="120"/>
                  </a:lnTo>
                  <a:lnTo>
                    <a:pt x="4" y="127"/>
                  </a:lnTo>
                  <a:lnTo>
                    <a:pt x="4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5"/>
            <p:cNvSpPr/>
            <p:nvPr/>
          </p:nvSpPr>
          <p:spPr>
            <a:xfrm>
              <a:off x="3946680" y="4861800"/>
              <a:ext cx="218880" cy="1764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515" h="415">
                  <a:moveTo>
                    <a:pt x="515" y="22"/>
                  </a:moveTo>
                  <a:lnTo>
                    <a:pt x="509" y="27"/>
                  </a:lnTo>
                  <a:lnTo>
                    <a:pt x="495" y="38"/>
                  </a:lnTo>
                  <a:lnTo>
                    <a:pt x="486" y="47"/>
                  </a:lnTo>
                  <a:lnTo>
                    <a:pt x="475" y="56"/>
                  </a:lnTo>
                  <a:lnTo>
                    <a:pt x="462" y="67"/>
                  </a:lnTo>
                  <a:lnTo>
                    <a:pt x="451" y="78"/>
                  </a:lnTo>
                  <a:lnTo>
                    <a:pt x="438" y="89"/>
                  </a:lnTo>
                  <a:lnTo>
                    <a:pt x="424" y="100"/>
                  </a:lnTo>
                  <a:lnTo>
                    <a:pt x="413" y="113"/>
                  </a:lnTo>
                  <a:lnTo>
                    <a:pt x="402" y="124"/>
                  </a:lnTo>
                  <a:lnTo>
                    <a:pt x="371" y="166"/>
                  </a:lnTo>
                  <a:lnTo>
                    <a:pt x="353" y="222"/>
                  </a:lnTo>
                  <a:lnTo>
                    <a:pt x="353" y="244"/>
                  </a:lnTo>
                  <a:lnTo>
                    <a:pt x="253" y="295"/>
                  </a:lnTo>
                  <a:lnTo>
                    <a:pt x="142" y="415"/>
                  </a:lnTo>
                  <a:lnTo>
                    <a:pt x="109" y="395"/>
                  </a:lnTo>
                  <a:lnTo>
                    <a:pt x="113" y="384"/>
                  </a:lnTo>
                  <a:lnTo>
                    <a:pt x="120" y="377"/>
                  </a:lnTo>
                  <a:lnTo>
                    <a:pt x="126" y="368"/>
                  </a:lnTo>
                  <a:lnTo>
                    <a:pt x="133" y="359"/>
                  </a:lnTo>
                  <a:lnTo>
                    <a:pt x="142" y="350"/>
                  </a:lnTo>
                  <a:lnTo>
                    <a:pt x="151" y="341"/>
                  </a:lnTo>
                  <a:lnTo>
                    <a:pt x="162" y="330"/>
                  </a:lnTo>
                  <a:lnTo>
                    <a:pt x="171" y="321"/>
                  </a:lnTo>
                  <a:lnTo>
                    <a:pt x="182" y="313"/>
                  </a:lnTo>
                  <a:lnTo>
                    <a:pt x="191" y="306"/>
                  </a:lnTo>
                  <a:lnTo>
                    <a:pt x="198" y="299"/>
                  </a:lnTo>
                  <a:lnTo>
                    <a:pt x="211" y="288"/>
                  </a:lnTo>
                  <a:lnTo>
                    <a:pt x="215" y="284"/>
                  </a:lnTo>
                  <a:lnTo>
                    <a:pt x="202" y="282"/>
                  </a:lnTo>
                  <a:lnTo>
                    <a:pt x="175" y="290"/>
                  </a:lnTo>
                  <a:lnTo>
                    <a:pt x="155" y="299"/>
                  </a:lnTo>
                  <a:lnTo>
                    <a:pt x="142" y="306"/>
                  </a:lnTo>
                  <a:lnTo>
                    <a:pt x="126" y="315"/>
                  </a:lnTo>
                  <a:lnTo>
                    <a:pt x="113" y="324"/>
                  </a:lnTo>
                  <a:lnTo>
                    <a:pt x="100" y="333"/>
                  </a:lnTo>
                  <a:lnTo>
                    <a:pt x="86" y="339"/>
                  </a:lnTo>
                  <a:lnTo>
                    <a:pt x="75" y="348"/>
                  </a:lnTo>
                  <a:lnTo>
                    <a:pt x="66" y="355"/>
                  </a:lnTo>
                  <a:lnTo>
                    <a:pt x="60" y="361"/>
                  </a:lnTo>
                  <a:lnTo>
                    <a:pt x="44" y="375"/>
                  </a:lnTo>
                  <a:lnTo>
                    <a:pt x="35" y="384"/>
                  </a:lnTo>
                  <a:lnTo>
                    <a:pt x="29" y="392"/>
                  </a:lnTo>
                  <a:lnTo>
                    <a:pt x="24" y="399"/>
                  </a:lnTo>
                  <a:lnTo>
                    <a:pt x="0" y="375"/>
                  </a:lnTo>
                  <a:lnTo>
                    <a:pt x="4" y="368"/>
                  </a:lnTo>
                  <a:lnTo>
                    <a:pt x="9" y="359"/>
                  </a:lnTo>
                  <a:lnTo>
                    <a:pt x="18" y="350"/>
                  </a:lnTo>
                  <a:lnTo>
                    <a:pt x="26" y="339"/>
                  </a:lnTo>
                  <a:lnTo>
                    <a:pt x="31" y="333"/>
                  </a:lnTo>
                  <a:lnTo>
                    <a:pt x="38" y="324"/>
                  </a:lnTo>
                  <a:lnTo>
                    <a:pt x="44" y="317"/>
                  </a:lnTo>
                  <a:lnTo>
                    <a:pt x="51" y="310"/>
                  </a:lnTo>
                  <a:lnTo>
                    <a:pt x="58" y="302"/>
                  </a:lnTo>
                  <a:lnTo>
                    <a:pt x="64" y="293"/>
                  </a:lnTo>
                  <a:lnTo>
                    <a:pt x="73" y="284"/>
                  </a:lnTo>
                  <a:lnTo>
                    <a:pt x="82" y="275"/>
                  </a:lnTo>
                  <a:lnTo>
                    <a:pt x="89" y="266"/>
                  </a:lnTo>
                  <a:lnTo>
                    <a:pt x="98" y="257"/>
                  </a:lnTo>
                  <a:lnTo>
                    <a:pt x="109" y="248"/>
                  </a:lnTo>
                  <a:lnTo>
                    <a:pt x="118" y="239"/>
                  </a:lnTo>
                  <a:lnTo>
                    <a:pt x="126" y="228"/>
                  </a:lnTo>
                  <a:lnTo>
                    <a:pt x="138" y="220"/>
                  </a:lnTo>
                  <a:lnTo>
                    <a:pt x="146" y="211"/>
                  </a:lnTo>
                  <a:lnTo>
                    <a:pt x="158" y="202"/>
                  </a:lnTo>
                  <a:lnTo>
                    <a:pt x="166" y="193"/>
                  </a:lnTo>
                  <a:lnTo>
                    <a:pt x="178" y="184"/>
                  </a:lnTo>
                  <a:lnTo>
                    <a:pt x="189" y="175"/>
                  </a:lnTo>
                  <a:lnTo>
                    <a:pt x="200" y="166"/>
                  </a:lnTo>
                  <a:lnTo>
                    <a:pt x="211" y="160"/>
                  </a:lnTo>
                  <a:lnTo>
                    <a:pt x="222" y="151"/>
                  </a:lnTo>
                  <a:lnTo>
                    <a:pt x="233" y="144"/>
                  </a:lnTo>
                  <a:lnTo>
                    <a:pt x="244" y="135"/>
                  </a:lnTo>
                  <a:lnTo>
                    <a:pt x="255" y="129"/>
                  </a:lnTo>
                  <a:lnTo>
                    <a:pt x="266" y="120"/>
                  </a:lnTo>
                  <a:lnTo>
                    <a:pt x="278" y="113"/>
                  </a:lnTo>
                  <a:lnTo>
                    <a:pt x="289" y="107"/>
                  </a:lnTo>
                  <a:lnTo>
                    <a:pt x="300" y="100"/>
                  </a:lnTo>
                  <a:lnTo>
                    <a:pt x="311" y="93"/>
                  </a:lnTo>
                  <a:lnTo>
                    <a:pt x="320" y="87"/>
                  </a:lnTo>
                  <a:lnTo>
                    <a:pt x="331" y="80"/>
                  </a:lnTo>
                  <a:lnTo>
                    <a:pt x="351" y="67"/>
                  </a:lnTo>
                  <a:lnTo>
                    <a:pt x="369" y="56"/>
                  </a:lnTo>
                  <a:lnTo>
                    <a:pt x="386" y="45"/>
                  </a:lnTo>
                  <a:lnTo>
                    <a:pt x="402" y="36"/>
                  </a:lnTo>
                  <a:lnTo>
                    <a:pt x="418" y="27"/>
                  </a:lnTo>
                  <a:lnTo>
                    <a:pt x="429" y="18"/>
                  </a:lnTo>
                  <a:lnTo>
                    <a:pt x="440" y="11"/>
                  </a:lnTo>
                  <a:lnTo>
                    <a:pt x="455" y="2"/>
                  </a:lnTo>
                  <a:lnTo>
                    <a:pt x="460" y="0"/>
                  </a:lnTo>
                  <a:lnTo>
                    <a:pt x="451" y="31"/>
                  </a:lnTo>
                  <a:lnTo>
                    <a:pt x="375" y="91"/>
                  </a:lnTo>
                  <a:lnTo>
                    <a:pt x="515" y="22"/>
                  </a:lnTo>
                  <a:lnTo>
                    <a:pt x="515" y="22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4017240" y="4982400"/>
              <a:ext cx="87840" cy="83520"/>
            </a:xfrm>
            <a:custGeom>
              <a:avLst/>
              <a:gdLst>
                <a:gd name="textAreaLeft" fmla="*/ 0 w 87840"/>
                <a:gd name="textAreaRight" fmla="*/ 87840 w 878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07" h="197">
                  <a:moveTo>
                    <a:pt x="196" y="0"/>
                  </a:moveTo>
                  <a:lnTo>
                    <a:pt x="185" y="4"/>
                  </a:lnTo>
                  <a:lnTo>
                    <a:pt x="154" y="18"/>
                  </a:lnTo>
                  <a:lnTo>
                    <a:pt x="134" y="26"/>
                  </a:lnTo>
                  <a:lnTo>
                    <a:pt x="114" y="37"/>
                  </a:lnTo>
                  <a:lnTo>
                    <a:pt x="94" y="51"/>
                  </a:lnTo>
                  <a:lnTo>
                    <a:pt x="76" y="64"/>
                  </a:lnTo>
                  <a:lnTo>
                    <a:pt x="69" y="71"/>
                  </a:lnTo>
                  <a:lnTo>
                    <a:pt x="60" y="80"/>
                  </a:lnTo>
                  <a:lnTo>
                    <a:pt x="54" y="88"/>
                  </a:lnTo>
                  <a:lnTo>
                    <a:pt x="47" y="97"/>
                  </a:lnTo>
                  <a:lnTo>
                    <a:pt x="23" y="137"/>
                  </a:lnTo>
                  <a:lnTo>
                    <a:pt x="5" y="166"/>
                  </a:lnTo>
                  <a:lnTo>
                    <a:pt x="0" y="179"/>
                  </a:lnTo>
                  <a:lnTo>
                    <a:pt x="23" y="197"/>
                  </a:lnTo>
                  <a:lnTo>
                    <a:pt x="27" y="193"/>
                  </a:lnTo>
                  <a:lnTo>
                    <a:pt x="36" y="181"/>
                  </a:lnTo>
                  <a:lnTo>
                    <a:pt x="43" y="175"/>
                  </a:lnTo>
                  <a:lnTo>
                    <a:pt x="49" y="166"/>
                  </a:lnTo>
                  <a:lnTo>
                    <a:pt x="58" y="157"/>
                  </a:lnTo>
                  <a:lnTo>
                    <a:pt x="67" y="148"/>
                  </a:lnTo>
                  <a:lnTo>
                    <a:pt x="76" y="139"/>
                  </a:lnTo>
                  <a:lnTo>
                    <a:pt x="85" y="131"/>
                  </a:lnTo>
                  <a:lnTo>
                    <a:pt x="94" y="122"/>
                  </a:lnTo>
                  <a:lnTo>
                    <a:pt x="105" y="113"/>
                  </a:lnTo>
                  <a:lnTo>
                    <a:pt x="114" y="106"/>
                  </a:lnTo>
                  <a:lnTo>
                    <a:pt x="123" y="100"/>
                  </a:lnTo>
                  <a:lnTo>
                    <a:pt x="138" y="93"/>
                  </a:lnTo>
                  <a:lnTo>
                    <a:pt x="165" y="91"/>
                  </a:lnTo>
                  <a:lnTo>
                    <a:pt x="187" y="95"/>
                  </a:lnTo>
                  <a:lnTo>
                    <a:pt x="203" y="97"/>
                  </a:lnTo>
                  <a:lnTo>
                    <a:pt x="207" y="84"/>
                  </a:lnTo>
                  <a:lnTo>
                    <a:pt x="203" y="31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7"/>
            <p:cNvSpPr/>
            <p:nvPr/>
          </p:nvSpPr>
          <p:spPr>
            <a:xfrm>
              <a:off x="3840120" y="4721400"/>
              <a:ext cx="309960" cy="2052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729" h="483">
                  <a:moveTo>
                    <a:pt x="706" y="0"/>
                  </a:moveTo>
                  <a:lnTo>
                    <a:pt x="700" y="4"/>
                  </a:lnTo>
                  <a:lnTo>
                    <a:pt x="677" y="16"/>
                  </a:lnTo>
                  <a:lnTo>
                    <a:pt x="662" y="24"/>
                  </a:lnTo>
                  <a:lnTo>
                    <a:pt x="644" y="33"/>
                  </a:lnTo>
                  <a:lnTo>
                    <a:pt x="624" y="44"/>
                  </a:lnTo>
                  <a:lnTo>
                    <a:pt x="600" y="55"/>
                  </a:lnTo>
                  <a:lnTo>
                    <a:pt x="575" y="67"/>
                  </a:lnTo>
                  <a:lnTo>
                    <a:pt x="546" y="80"/>
                  </a:lnTo>
                  <a:lnTo>
                    <a:pt x="517" y="93"/>
                  </a:lnTo>
                  <a:lnTo>
                    <a:pt x="486" y="104"/>
                  </a:lnTo>
                  <a:lnTo>
                    <a:pt x="455" y="115"/>
                  </a:lnTo>
                  <a:lnTo>
                    <a:pt x="420" y="129"/>
                  </a:lnTo>
                  <a:lnTo>
                    <a:pt x="386" y="137"/>
                  </a:lnTo>
                  <a:lnTo>
                    <a:pt x="351" y="149"/>
                  </a:lnTo>
                  <a:lnTo>
                    <a:pt x="315" y="160"/>
                  </a:lnTo>
                  <a:lnTo>
                    <a:pt x="280" y="173"/>
                  </a:lnTo>
                  <a:lnTo>
                    <a:pt x="262" y="180"/>
                  </a:lnTo>
                  <a:lnTo>
                    <a:pt x="246" y="188"/>
                  </a:lnTo>
                  <a:lnTo>
                    <a:pt x="231" y="197"/>
                  </a:lnTo>
                  <a:lnTo>
                    <a:pt x="213" y="206"/>
                  </a:lnTo>
                  <a:lnTo>
                    <a:pt x="198" y="215"/>
                  </a:lnTo>
                  <a:lnTo>
                    <a:pt x="184" y="226"/>
                  </a:lnTo>
                  <a:lnTo>
                    <a:pt x="169" y="235"/>
                  </a:lnTo>
                  <a:lnTo>
                    <a:pt x="155" y="246"/>
                  </a:lnTo>
                  <a:lnTo>
                    <a:pt x="140" y="255"/>
                  </a:lnTo>
                  <a:lnTo>
                    <a:pt x="126" y="266"/>
                  </a:lnTo>
                  <a:lnTo>
                    <a:pt x="115" y="277"/>
                  </a:lnTo>
                  <a:lnTo>
                    <a:pt x="102" y="286"/>
                  </a:lnTo>
                  <a:lnTo>
                    <a:pt x="91" y="297"/>
                  </a:lnTo>
                  <a:lnTo>
                    <a:pt x="80" y="306"/>
                  </a:lnTo>
                  <a:lnTo>
                    <a:pt x="69" y="317"/>
                  </a:lnTo>
                  <a:lnTo>
                    <a:pt x="60" y="326"/>
                  </a:lnTo>
                  <a:lnTo>
                    <a:pt x="51" y="335"/>
                  </a:lnTo>
                  <a:lnTo>
                    <a:pt x="42" y="343"/>
                  </a:lnTo>
                  <a:lnTo>
                    <a:pt x="33" y="350"/>
                  </a:lnTo>
                  <a:lnTo>
                    <a:pt x="26" y="359"/>
                  </a:lnTo>
                  <a:lnTo>
                    <a:pt x="15" y="370"/>
                  </a:lnTo>
                  <a:lnTo>
                    <a:pt x="6" y="381"/>
                  </a:lnTo>
                  <a:lnTo>
                    <a:pt x="0" y="388"/>
                  </a:lnTo>
                  <a:lnTo>
                    <a:pt x="42" y="432"/>
                  </a:lnTo>
                  <a:lnTo>
                    <a:pt x="46" y="428"/>
                  </a:lnTo>
                  <a:lnTo>
                    <a:pt x="55" y="417"/>
                  </a:lnTo>
                  <a:lnTo>
                    <a:pt x="64" y="408"/>
                  </a:lnTo>
                  <a:lnTo>
                    <a:pt x="71" y="399"/>
                  </a:lnTo>
                  <a:lnTo>
                    <a:pt x="82" y="390"/>
                  </a:lnTo>
                  <a:lnTo>
                    <a:pt x="93" y="379"/>
                  </a:lnTo>
                  <a:lnTo>
                    <a:pt x="104" y="366"/>
                  </a:lnTo>
                  <a:lnTo>
                    <a:pt x="115" y="355"/>
                  </a:lnTo>
                  <a:lnTo>
                    <a:pt x="129" y="341"/>
                  </a:lnTo>
                  <a:lnTo>
                    <a:pt x="142" y="330"/>
                  </a:lnTo>
                  <a:lnTo>
                    <a:pt x="158" y="317"/>
                  </a:lnTo>
                  <a:lnTo>
                    <a:pt x="171" y="306"/>
                  </a:lnTo>
                  <a:lnTo>
                    <a:pt x="186" y="295"/>
                  </a:lnTo>
                  <a:lnTo>
                    <a:pt x="202" y="284"/>
                  </a:lnTo>
                  <a:lnTo>
                    <a:pt x="218" y="273"/>
                  </a:lnTo>
                  <a:lnTo>
                    <a:pt x="238" y="264"/>
                  </a:lnTo>
                  <a:lnTo>
                    <a:pt x="257" y="255"/>
                  </a:lnTo>
                  <a:lnTo>
                    <a:pt x="280" y="244"/>
                  </a:lnTo>
                  <a:lnTo>
                    <a:pt x="302" y="235"/>
                  </a:lnTo>
                  <a:lnTo>
                    <a:pt x="326" y="226"/>
                  </a:lnTo>
                  <a:lnTo>
                    <a:pt x="351" y="219"/>
                  </a:lnTo>
                  <a:lnTo>
                    <a:pt x="373" y="211"/>
                  </a:lnTo>
                  <a:lnTo>
                    <a:pt x="395" y="204"/>
                  </a:lnTo>
                  <a:lnTo>
                    <a:pt x="417" y="197"/>
                  </a:lnTo>
                  <a:lnTo>
                    <a:pt x="453" y="188"/>
                  </a:lnTo>
                  <a:lnTo>
                    <a:pt x="486" y="180"/>
                  </a:lnTo>
                  <a:lnTo>
                    <a:pt x="466" y="188"/>
                  </a:lnTo>
                  <a:lnTo>
                    <a:pt x="444" y="199"/>
                  </a:lnTo>
                  <a:lnTo>
                    <a:pt x="433" y="206"/>
                  </a:lnTo>
                  <a:lnTo>
                    <a:pt x="420" y="213"/>
                  </a:lnTo>
                  <a:lnTo>
                    <a:pt x="406" y="219"/>
                  </a:lnTo>
                  <a:lnTo>
                    <a:pt x="391" y="228"/>
                  </a:lnTo>
                  <a:lnTo>
                    <a:pt x="380" y="235"/>
                  </a:lnTo>
                  <a:lnTo>
                    <a:pt x="366" y="242"/>
                  </a:lnTo>
                  <a:lnTo>
                    <a:pt x="355" y="250"/>
                  </a:lnTo>
                  <a:lnTo>
                    <a:pt x="344" y="257"/>
                  </a:lnTo>
                  <a:lnTo>
                    <a:pt x="326" y="268"/>
                  </a:lnTo>
                  <a:lnTo>
                    <a:pt x="320" y="275"/>
                  </a:lnTo>
                  <a:lnTo>
                    <a:pt x="311" y="281"/>
                  </a:lnTo>
                  <a:lnTo>
                    <a:pt x="300" y="288"/>
                  </a:lnTo>
                  <a:lnTo>
                    <a:pt x="286" y="295"/>
                  </a:lnTo>
                  <a:lnTo>
                    <a:pt x="273" y="304"/>
                  </a:lnTo>
                  <a:lnTo>
                    <a:pt x="257" y="310"/>
                  </a:lnTo>
                  <a:lnTo>
                    <a:pt x="242" y="319"/>
                  </a:lnTo>
                  <a:lnTo>
                    <a:pt x="226" y="328"/>
                  </a:lnTo>
                  <a:lnTo>
                    <a:pt x="213" y="337"/>
                  </a:lnTo>
                  <a:lnTo>
                    <a:pt x="198" y="346"/>
                  </a:lnTo>
                  <a:lnTo>
                    <a:pt x="184" y="355"/>
                  </a:lnTo>
                  <a:lnTo>
                    <a:pt x="171" y="363"/>
                  </a:lnTo>
                  <a:lnTo>
                    <a:pt x="160" y="372"/>
                  </a:lnTo>
                  <a:lnTo>
                    <a:pt x="151" y="381"/>
                  </a:lnTo>
                  <a:lnTo>
                    <a:pt x="138" y="397"/>
                  </a:lnTo>
                  <a:lnTo>
                    <a:pt x="124" y="425"/>
                  </a:lnTo>
                  <a:lnTo>
                    <a:pt x="115" y="454"/>
                  </a:lnTo>
                  <a:lnTo>
                    <a:pt x="109" y="483"/>
                  </a:lnTo>
                  <a:lnTo>
                    <a:pt x="144" y="483"/>
                  </a:lnTo>
                  <a:lnTo>
                    <a:pt x="149" y="479"/>
                  </a:lnTo>
                  <a:lnTo>
                    <a:pt x="155" y="474"/>
                  </a:lnTo>
                  <a:lnTo>
                    <a:pt x="162" y="465"/>
                  </a:lnTo>
                  <a:lnTo>
                    <a:pt x="171" y="456"/>
                  </a:lnTo>
                  <a:lnTo>
                    <a:pt x="180" y="448"/>
                  </a:lnTo>
                  <a:lnTo>
                    <a:pt x="191" y="437"/>
                  </a:lnTo>
                  <a:lnTo>
                    <a:pt x="204" y="425"/>
                  </a:lnTo>
                  <a:lnTo>
                    <a:pt x="218" y="414"/>
                  </a:lnTo>
                  <a:lnTo>
                    <a:pt x="231" y="403"/>
                  </a:lnTo>
                  <a:lnTo>
                    <a:pt x="246" y="392"/>
                  </a:lnTo>
                  <a:lnTo>
                    <a:pt x="262" y="381"/>
                  </a:lnTo>
                  <a:lnTo>
                    <a:pt x="277" y="370"/>
                  </a:lnTo>
                  <a:lnTo>
                    <a:pt x="293" y="361"/>
                  </a:lnTo>
                  <a:lnTo>
                    <a:pt x="309" y="355"/>
                  </a:lnTo>
                  <a:lnTo>
                    <a:pt x="324" y="348"/>
                  </a:lnTo>
                  <a:lnTo>
                    <a:pt x="353" y="337"/>
                  </a:lnTo>
                  <a:lnTo>
                    <a:pt x="380" y="328"/>
                  </a:lnTo>
                  <a:lnTo>
                    <a:pt x="404" y="317"/>
                  </a:lnTo>
                  <a:lnTo>
                    <a:pt x="424" y="306"/>
                  </a:lnTo>
                  <a:lnTo>
                    <a:pt x="444" y="295"/>
                  </a:lnTo>
                  <a:lnTo>
                    <a:pt x="462" y="284"/>
                  </a:lnTo>
                  <a:lnTo>
                    <a:pt x="477" y="270"/>
                  </a:lnTo>
                  <a:lnTo>
                    <a:pt x="486" y="264"/>
                  </a:lnTo>
                  <a:lnTo>
                    <a:pt x="493" y="255"/>
                  </a:lnTo>
                  <a:lnTo>
                    <a:pt x="502" y="248"/>
                  </a:lnTo>
                  <a:lnTo>
                    <a:pt x="515" y="239"/>
                  </a:lnTo>
                  <a:lnTo>
                    <a:pt x="531" y="230"/>
                  </a:lnTo>
                  <a:lnTo>
                    <a:pt x="549" y="222"/>
                  </a:lnTo>
                  <a:lnTo>
                    <a:pt x="566" y="213"/>
                  </a:lnTo>
                  <a:lnTo>
                    <a:pt x="586" y="206"/>
                  </a:lnTo>
                  <a:lnTo>
                    <a:pt x="606" y="197"/>
                  </a:lnTo>
                  <a:lnTo>
                    <a:pt x="626" y="188"/>
                  </a:lnTo>
                  <a:lnTo>
                    <a:pt x="646" y="182"/>
                  </a:lnTo>
                  <a:lnTo>
                    <a:pt x="666" y="175"/>
                  </a:lnTo>
                  <a:lnTo>
                    <a:pt x="700" y="164"/>
                  </a:lnTo>
                  <a:lnTo>
                    <a:pt x="729" y="153"/>
                  </a:lnTo>
                  <a:lnTo>
                    <a:pt x="720" y="120"/>
                  </a:lnTo>
                  <a:lnTo>
                    <a:pt x="564" y="146"/>
                  </a:lnTo>
                  <a:lnTo>
                    <a:pt x="691" y="62"/>
                  </a:lnTo>
                  <a:lnTo>
                    <a:pt x="706" y="0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8"/>
            <p:cNvSpPr/>
            <p:nvPr/>
          </p:nvSpPr>
          <p:spPr>
            <a:xfrm>
              <a:off x="3863520" y="4814640"/>
              <a:ext cx="286560" cy="18756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674" h="441">
                  <a:moveTo>
                    <a:pt x="647" y="0"/>
                  </a:moveTo>
                  <a:lnTo>
                    <a:pt x="616" y="11"/>
                  </a:lnTo>
                  <a:lnTo>
                    <a:pt x="585" y="23"/>
                  </a:lnTo>
                  <a:lnTo>
                    <a:pt x="567" y="29"/>
                  </a:lnTo>
                  <a:lnTo>
                    <a:pt x="549" y="36"/>
                  </a:lnTo>
                  <a:lnTo>
                    <a:pt x="529" y="45"/>
                  </a:lnTo>
                  <a:lnTo>
                    <a:pt x="509" y="51"/>
                  </a:lnTo>
                  <a:lnTo>
                    <a:pt x="491" y="60"/>
                  </a:lnTo>
                  <a:lnTo>
                    <a:pt x="474" y="69"/>
                  </a:lnTo>
                  <a:lnTo>
                    <a:pt x="458" y="76"/>
                  </a:lnTo>
                  <a:lnTo>
                    <a:pt x="445" y="85"/>
                  </a:lnTo>
                  <a:lnTo>
                    <a:pt x="427" y="98"/>
                  </a:lnTo>
                  <a:lnTo>
                    <a:pt x="418" y="105"/>
                  </a:lnTo>
                  <a:lnTo>
                    <a:pt x="409" y="111"/>
                  </a:lnTo>
                  <a:lnTo>
                    <a:pt x="398" y="118"/>
                  </a:lnTo>
                  <a:lnTo>
                    <a:pt x="385" y="127"/>
                  </a:lnTo>
                  <a:lnTo>
                    <a:pt x="371" y="133"/>
                  </a:lnTo>
                  <a:lnTo>
                    <a:pt x="356" y="142"/>
                  </a:lnTo>
                  <a:lnTo>
                    <a:pt x="338" y="151"/>
                  </a:lnTo>
                  <a:lnTo>
                    <a:pt x="322" y="160"/>
                  </a:lnTo>
                  <a:lnTo>
                    <a:pt x="305" y="169"/>
                  </a:lnTo>
                  <a:lnTo>
                    <a:pt x="289" y="178"/>
                  </a:lnTo>
                  <a:lnTo>
                    <a:pt x="271" y="187"/>
                  </a:lnTo>
                  <a:lnTo>
                    <a:pt x="256" y="198"/>
                  </a:lnTo>
                  <a:lnTo>
                    <a:pt x="240" y="206"/>
                  </a:lnTo>
                  <a:lnTo>
                    <a:pt x="227" y="215"/>
                  </a:lnTo>
                  <a:lnTo>
                    <a:pt x="214" y="224"/>
                  </a:lnTo>
                  <a:lnTo>
                    <a:pt x="202" y="233"/>
                  </a:lnTo>
                  <a:lnTo>
                    <a:pt x="194" y="242"/>
                  </a:lnTo>
                  <a:lnTo>
                    <a:pt x="183" y="253"/>
                  </a:lnTo>
                  <a:lnTo>
                    <a:pt x="174" y="262"/>
                  </a:lnTo>
                  <a:lnTo>
                    <a:pt x="165" y="271"/>
                  </a:lnTo>
                  <a:lnTo>
                    <a:pt x="158" y="280"/>
                  </a:lnTo>
                  <a:lnTo>
                    <a:pt x="149" y="288"/>
                  </a:lnTo>
                  <a:lnTo>
                    <a:pt x="140" y="295"/>
                  </a:lnTo>
                  <a:lnTo>
                    <a:pt x="134" y="304"/>
                  </a:lnTo>
                  <a:lnTo>
                    <a:pt x="127" y="311"/>
                  </a:lnTo>
                  <a:lnTo>
                    <a:pt x="120" y="317"/>
                  </a:lnTo>
                  <a:lnTo>
                    <a:pt x="109" y="328"/>
                  </a:lnTo>
                  <a:lnTo>
                    <a:pt x="100" y="337"/>
                  </a:lnTo>
                  <a:lnTo>
                    <a:pt x="91" y="342"/>
                  </a:lnTo>
                  <a:lnTo>
                    <a:pt x="40" y="346"/>
                  </a:lnTo>
                  <a:lnTo>
                    <a:pt x="0" y="348"/>
                  </a:lnTo>
                  <a:lnTo>
                    <a:pt x="5" y="355"/>
                  </a:lnTo>
                  <a:lnTo>
                    <a:pt x="11" y="362"/>
                  </a:lnTo>
                  <a:lnTo>
                    <a:pt x="20" y="370"/>
                  </a:lnTo>
                  <a:lnTo>
                    <a:pt x="31" y="377"/>
                  </a:lnTo>
                  <a:lnTo>
                    <a:pt x="43" y="384"/>
                  </a:lnTo>
                  <a:lnTo>
                    <a:pt x="58" y="388"/>
                  </a:lnTo>
                  <a:lnTo>
                    <a:pt x="71" y="390"/>
                  </a:lnTo>
                  <a:lnTo>
                    <a:pt x="89" y="386"/>
                  </a:lnTo>
                  <a:lnTo>
                    <a:pt x="111" y="373"/>
                  </a:lnTo>
                  <a:lnTo>
                    <a:pt x="123" y="364"/>
                  </a:lnTo>
                  <a:lnTo>
                    <a:pt x="136" y="355"/>
                  </a:lnTo>
                  <a:lnTo>
                    <a:pt x="147" y="344"/>
                  </a:lnTo>
                  <a:lnTo>
                    <a:pt x="160" y="333"/>
                  </a:lnTo>
                  <a:lnTo>
                    <a:pt x="171" y="324"/>
                  </a:lnTo>
                  <a:lnTo>
                    <a:pt x="180" y="313"/>
                  </a:lnTo>
                  <a:lnTo>
                    <a:pt x="191" y="304"/>
                  </a:lnTo>
                  <a:lnTo>
                    <a:pt x="198" y="295"/>
                  </a:lnTo>
                  <a:lnTo>
                    <a:pt x="211" y="282"/>
                  </a:lnTo>
                  <a:lnTo>
                    <a:pt x="216" y="277"/>
                  </a:lnTo>
                  <a:lnTo>
                    <a:pt x="209" y="293"/>
                  </a:lnTo>
                  <a:lnTo>
                    <a:pt x="191" y="326"/>
                  </a:lnTo>
                  <a:lnTo>
                    <a:pt x="180" y="348"/>
                  </a:lnTo>
                  <a:lnTo>
                    <a:pt x="167" y="368"/>
                  </a:lnTo>
                  <a:lnTo>
                    <a:pt x="156" y="386"/>
                  </a:lnTo>
                  <a:lnTo>
                    <a:pt x="145" y="399"/>
                  </a:lnTo>
                  <a:lnTo>
                    <a:pt x="131" y="410"/>
                  </a:lnTo>
                  <a:lnTo>
                    <a:pt x="120" y="419"/>
                  </a:lnTo>
                  <a:lnTo>
                    <a:pt x="109" y="426"/>
                  </a:lnTo>
                  <a:lnTo>
                    <a:pt x="100" y="432"/>
                  </a:lnTo>
                  <a:lnTo>
                    <a:pt x="80" y="441"/>
                  </a:lnTo>
                  <a:lnTo>
                    <a:pt x="116" y="441"/>
                  </a:lnTo>
                  <a:lnTo>
                    <a:pt x="156" y="430"/>
                  </a:lnTo>
                  <a:lnTo>
                    <a:pt x="178" y="417"/>
                  </a:lnTo>
                  <a:lnTo>
                    <a:pt x="191" y="408"/>
                  </a:lnTo>
                  <a:lnTo>
                    <a:pt x="202" y="397"/>
                  </a:lnTo>
                  <a:lnTo>
                    <a:pt x="216" y="386"/>
                  </a:lnTo>
                  <a:lnTo>
                    <a:pt x="227" y="373"/>
                  </a:lnTo>
                  <a:lnTo>
                    <a:pt x="234" y="366"/>
                  </a:lnTo>
                  <a:lnTo>
                    <a:pt x="240" y="357"/>
                  </a:lnTo>
                  <a:lnTo>
                    <a:pt x="251" y="344"/>
                  </a:lnTo>
                  <a:lnTo>
                    <a:pt x="258" y="335"/>
                  </a:lnTo>
                  <a:lnTo>
                    <a:pt x="262" y="326"/>
                  </a:lnTo>
                  <a:lnTo>
                    <a:pt x="276" y="311"/>
                  </a:lnTo>
                  <a:lnTo>
                    <a:pt x="289" y="295"/>
                  </a:lnTo>
                  <a:lnTo>
                    <a:pt x="294" y="286"/>
                  </a:lnTo>
                  <a:lnTo>
                    <a:pt x="300" y="277"/>
                  </a:lnTo>
                  <a:lnTo>
                    <a:pt x="307" y="271"/>
                  </a:lnTo>
                  <a:lnTo>
                    <a:pt x="314" y="262"/>
                  </a:lnTo>
                  <a:lnTo>
                    <a:pt x="320" y="253"/>
                  </a:lnTo>
                  <a:lnTo>
                    <a:pt x="327" y="246"/>
                  </a:lnTo>
                  <a:lnTo>
                    <a:pt x="340" y="231"/>
                  </a:lnTo>
                  <a:lnTo>
                    <a:pt x="347" y="224"/>
                  </a:lnTo>
                  <a:lnTo>
                    <a:pt x="356" y="218"/>
                  </a:lnTo>
                  <a:lnTo>
                    <a:pt x="362" y="211"/>
                  </a:lnTo>
                  <a:lnTo>
                    <a:pt x="369" y="204"/>
                  </a:lnTo>
                  <a:lnTo>
                    <a:pt x="385" y="193"/>
                  </a:lnTo>
                  <a:lnTo>
                    <a:pt x="400" y="184"/>
                  </a:lnTo>
                  <a:lnTo>
                    <a:pt x="418" y="178"/>
                  </a:lnTo>
                  <a:lnTo>
                    <a:pt x="436" y="171"/>
                  </a:lnTo>
                  <a:lnTo>
                    <a:pt x="456" y="162"/>
                  </a:lnTo>
                  <a:lnTo>
                    <a:pt x="476" y="156"/>
                  </a:lnTo>
                  <a:lnTo>
                    <a:pt x="498" y="147"/>
                  </a:lnTo>
                  <a:lnTo>
                    <a:pt x="518" y="138"/>
                  </a:lnTo>
                  <a:lnTo>
                    <a:pt x="540" y="129"/>
                  </a:lnTo>
                  <a:lnTo>
                    <a:pt x="560" y="118"/>
                  </a:lnTo>
                  <a:lnTo>
                    <a:pt x="580" y="109"/>
                  </a:lnTo>
                  <a:lnTo>
                    <a:pt x="600" y="102"/>
                  </a:lnTo>
                  <a:lnTo>
                    <a:pt x="618" y="93"/>
                  </a:lnTo>
                  <a:lnTo>
                    <a:pt x="634" y="87"/>
                  </a:lnTo>
                  <a:lnTo>
                    <a:pt x="647" y="80"/>
                  </a:lnTo>
                  <a:lnTo>
                    <a:pt x="667" y="71"/>
                  </a:lnTo>
                  <a:lnTo>
                    <a:pt x="674" y="67"/>
                  </a:lnTo>
                  <a:lnTo>
                    <a:pt x="669" y="45"/>
                  </a:lnTo>
                  <a:lnTo>
                    <a:pt x="502" y="93"/>
                  </a:lnTo>
                  <a:lnTo>
                    <a:pt x="647" y="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9"/>
            <p:cNvSpPr/>
            <p:nvPr/>
          </p:nvSpPr>
          <p:spPr>
            <a:xfrm>
              <a:off x="2930760" y="4709160"/>
              <a:ext cx="147240" cy="453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47" h="107">
                  <a:moveTo>
                    <a:pt x="0" y="42"/>
                  </a:moveTo>
                  <a:lnTo>
                    <a:pt x="14" y="67"/>
                  </a:lnTo>
                  <a:lnTo>
                    <a:pt x="23" y="76"/>
                  </a:lnTo>
                  <a:lnTo>
                    <a:pt x="32" y="87"/>
                  </a:lnTo>
                  <a:lnTo>
                    <a:pt x="45" y="96"/>
                  </a:lnTo>
                  <a:lnTo>
                    <a:pt x="60" y="102"/>
                  </a:lnTo>
                  <a:lnTo>
                    <a:pt x="85" y="107"/>
                  </a:lnTo>
                  <a:lnTo>
                    <a:pt x="123" y="107"/>
                  </a:lnTo>
                  <a:lnTo>
                    <a:pt x="220" y="98"/>
                  </a:lnTo>
                  <a:lnTo>
                    <a:pt x="309" y="84"/>
                  </a:lnTo>
                  <a:lnTo>
                    <a:pt x="347" y="78"/>
                  </a:lnTo>
                  <a:lnTo>
                    <a:pt x="120" y="91"/>
                  </a:lnTo>
                  <a:lnTo>
                    <a:pt x="54" y="42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0"/>
            <p:cNvSpPr/>
            <p:nvPr/>
          </p:nvSpPr>
          <p:spPr>
            <a:xfrm>
              <a:off x="3818520" y="4696560"/>
              <a:ext cx="91080" cy="1479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215" h="348">
                  <a:moveTo>
                    <a:pt x="215" y="0"/>
                  </a:moveTo>
                  <a:lnTo>
                    <a:pt x="209" y="5"/>
                  </a:lnTo>
                  <a:lnTo>
                    <a:pt x="202" y="14"/>
                  </a:lnTo>
                  <a:lnTo>
                    <a:pt x="193" y="23"/>
                  </a:lnTo>
                  <a:lnTo>
                    <a:pt x="180" y="34"/>
                  </a:lnTo>
                  <a:lnTo>
                    <a:pt x="166" y="47"/>
                  </a:lnTo>
                  <a:lnTo>
                    <a:pt x="160" y="54"/>
                  </a:lnTo>
                  <a:lnTo>
                    <a:pt x="153" y="60"/>
                  </a:lnTo>
                  <a:lnTo>
                    <a:pt x="137" y="76"/>
                  </a:lnTo>
                  <a:lnTo>
                    <a:pt x="131" y="82"/>
                  </a:lnTo>
                  <a:lnTo>
                    <a:pt x="122" y="91"/>
                  </a:lnTo>
                  <a:lnTo>
                    <a:pt x="115" y="98"/>
                  </a:lnTo>
                  <a:lnTo>
                    <a:pt x="106" y="107"/>
                  </a:lnTo>
                  <a:lnTo>
                    <a:pt x="100" y="113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80" y="136"/>
                  </a:lnTo>
                  <a:lnTo>
                    <a:pt x="73" y="144"/>
                  </a:lnTo>
                  <a:lnTo>
                    <a:pt x="66" y="151"/>
                  </a:lnTo>
                  <a:lnTo>
                    <a:pt x="55" y="164"/>
                  </a:lnTo>
                  <a:lnTo>
                    <a:pt x="42" y="187"/>
                  </a:lnTo>
                  <a:lnTo>
                    <a:pt x="24" y="231"/>
                  </a:lnTo>
                  <a:lnTo>
                    <a:pt x="11" y="284"/>
                  </a:lnTo>
                  <a:lnTo>
                    <a:pt x="0" y="348"/>
                  </a:lnTo>
                  <a:lnTo>
                    <a:pt x="53" y="328"/>
                  </a:lnTo>
                  <a:lnTo>
                    <a:pt x="60" y="313"/>
                  </a:lnTo>
                  <a:lnTo>
                    <a:pt x="64" y="293"/>
                  </a:lnTo>
                  <a:lnTo>
                    <a:pt x="73" y="269"/>
                  </a:lnTo>
                  <a:lnTo>
                    <a:pt x="82" y="244"/>
                  </a:lnTo>
                  <a:lnTo>
                    <a:pt x="91" y="218"/>
                  </a:lnTo>
                  <a:lnTo>
                    <a:pt x="102" y="193"/>
                  </a:lnTo>
                  <a:lnTo>
                    <a:pt x="113" y="173"/>
                  </a:lnTo>
                  <a:lnTo>
                    <a:pt x="126" y="153"/>
                  </a:lnTo>
                  <a:lnTo>
                    <a:pt x="142" y="127"/>
                  </a:lnTo>
                  <a:lnTo>
                    <a:pt x="160" y="98"/>
                  </a:lnTo>
                  <a:lnTo>
                    <a:pt x="175" y="69"/>
                  </a:lnTo>
                  <a:lnTo>
                    <a:pt x="191" y="43"/>
                  </a:lnTo>
                  <a:lnTo>
                    <a:pt x="204" y="20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1"/>
            <p:cNvSpPr/>
            <p:nvPr/>
          </p:nvSpPr>
          <p:spPr>
            <a:xfrm>
              <a:off x="3362040" y="4900320"/>
              <a:ext cx="413640" cy="18360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973" h="432">
                  <a:moveTo>
                    <a:pt x="17" y="253"/>
                  </a:moveTo>
                  <a:lnTo>
                    <a:pt x="42" y="255"/>
                  </a:lnTo>
                  <a:lnTo>
                    <a:pt x="102" y="257"/>
                  </a:lnTo>
                  <a:lnTo>
                    <a:pt x="175" y="242"/>
                  </a:lnTo>
                  <a:lnTo>
                    <a:pt x="213" y="224"/>
                  </a:lnTo>
                  <a:lnTo>
                    <a:pt x="228" y="213"/>
                  </a:lnTo>
                  <a:lnTo>
                    <a:pt x="244" y="197"/>
                  </a:lnTo>
                  <a:lnTo>
                    <a:pt x="251" y="191"/>
                  </a:lnTo>
                  <a:lnTo>
                    <a:pt x="260" y="184"/>
                  </a:lnTo>
                  <a:lnTo>
                    <a:pt x="273" y="168"/>
                  </a:lnTo>
                  <a:lnTo>
                    <a:pt x="277" y="162"/>
                  </a:lnTo>
                  <a:lnTo>
                    <a:pt x="284" y="155"/>
                  </a:lnTo>
                  <a:lnTo>
                    <a:pt x="297" y="142"/>
                  </a:lnTo>
                  <a:lnTo>
                    <a:pt x="308" y="129"/>
                  </a:lnTo>
                  <a:lnTo>
                    <a:pt x="317" y="117"/>
                  </a:lnTo>
                  <a:lnTo>
                    <a:pt x="328" y="106"/>
                  </a:lnTo>
                  <a:lnTo>
                    <a:pt x="337" y="98"/>
                  </a:lnTo>
                  <a:lnTo>
                    <a:pt x="344" y="89"/>
                  </a:lnTo>
                  <a:lnTo>
                    <a:pt x="351" y="82"/>
                  </a:lnTo>
                  <a:lnTo>
                    <a:pt x="362" y="71"/>
                  </a:lnTo>
                  <a:lnTo>
                    <a:pt x="371" y="60"/>
                  </a:lnTo>
                  <a:lnTo>
                    <a:pt x="382" y="75"/>
                  </a:lnTo>
                  <a:lnTo>
                    <a:pt x="399" y="82"/>
                  </a:lnTo>
                  <a:lnTo>
                    <a:pt x="428" y="89"/>
                  </a:lnTo>
                  <a:lnTo>
                    <a:pt x="473" y="93"/>
                  </a:lnTo>
                  <a:lnTo>
                    <a:pt x="533" y="95"/>
                  </a:lnTo>
                  <a:lnTo>
                    <a:pt x="602" y="93"/>
                  </a:lnTo>
                  <a:lnTo>
                    <a:pt x="666" y="84"/>
                  </a:lnTo>
                  <a:lnTo>
                    <a:pt x="726" y="69"/>
                  </a:lnTo>
                  <a:lnTo>
                    <a:pt x="753" y="60"/>
                  </a:lnTo>
                  <a:lnTo>
                    <a:pt x="779" y="51"/>
                  </a:lnTo>
                  <a:lnTo>
                    <a:pt x="802" y="42"/>
                  </a:lnTo>
                  <a:lnTo>
                    <a:pt x="824" y="33"/>
                  </a:lnTo>
                  <a:lnTo>
                    <a:pt x="842" y="24"/>
                  </a:lnTo>
                  <a:lnTo>
                    <a:pt x="857" y="16"/>
                  </a:lnTo>
                  <a:lnTo>
                    <a:pt x="879" y="4"/>
                  </a:lnTo>
                  <a:lnTo>
                    <a:pt x="886" y="0"/>
                  </a:lnTo>
                  <a:lnTo>
                    <a:pt x="862" y="67"/>
                  </a:lnTo>
                  <a:lnTo>
                    <a:pt x="855" y="69"/>
                  </a:lnTo>
                  <a:lnTo>
                    <a:pt x="833" y="78"/>
                  </a:lnTo>
                  <a:lnTo>
                    <a:pt x="802" y="89"/>
                  </a:lnTo>
                  <a:lnTo>
                    <a:pt x="784" y="98"/>
                  </a:lnTo>
                  <a:lnTo>
                    <a:pt x="764" y="104"/>
                  </a:lnTo>
                  <a:lnTo>
                    <a:pt x="744" y="111"/>
                  </a:lnTo>
                  <a:lnTo>
                    <a:pt x="724" y="117"/>
                  </a:lnTo>
                  <a:lnTo>
                    <a:pt x="706" y="126"/>
                  </a:lnTo>
                  <a:lnTo>
                    <a:pt x="688" y="133"/>
                  </a:lnTo>
                  <a:lnTo>
                    <a:pt x="655" y="144"/>
                  </a:lnTo>
                  <a:lnTo>
                    <a:pt x="635" y="151"/>
                  </a:lnTo>
                  <a:lnTo>
                    <a:pt x="591" y="157"/>
                  </a:lnTo>
                  <a:lnTo>
                    <a:pt x="535" y="164"/>
                  </a:lnTo>
                  <a:lnTo>
                    <a:pt x="466" y="168"/>
                  </a:lnTo>
                  <a:lnTo>
                    <a:pt x="488" y="175"/>
                  </a:lnTo>
                  <a:lnTo>
                    <a:pt x="511" y="182"/>
                  </a:lnTo>
                  <a:lnTo>
                    <a:pt x="539" y="188"/>
                  </a:lnTo>
                  <a:lnTo>
                    <a:pt x="575" y="195"/>
                  </a:lnTo>
                  <a:lnTo>
                    <a:pt x="611" y="202"/>
                  </a:lnTo>
                  <a:lnTo>
                    <a:pt x="682" y="204"/>
                  </a:lnTo>
                  <a:lnTo>
                    <a:pt x="717" y="199"/>
                  </a:lnTo>
                  <a:lnTo>
                    <a:pt x="748" y="186"/>
                  </a:lnTo>
                  <a:lnTo>
                    <a:pt x="766" y="180"/>
                  </a:lnTo>
                  <a:lnTo>
                    <a:pt x="782" y="171"/>
                  </a:lnTo>
                  <a:lnTo>
                    <a:pt x="795" y="162"/>
                  </a:lnTo>
                  <a:lnTo>
                    <a:pt x="808" y="153"/>
                  </a:lnTo>
                  <a:lnTo>
                    <a:pt x="822" y="146"/>
                  </a:lnTo>
                  <a:lnTo>
                    <a:pt x="833" y="137"/>
                  </a:lnTo>
                  <a:lnTo>
                    <a:pt x="844" y="129"/>
                  </a:lnTo>
                  <a:lnTo>
                    <a:pt x="853" y="122"/>
                  </a:lnTo>
                  <a:lnTo>
                    <a:pt x="864" y="113"/>
                  </a:lnTo>
                  <a:lnTo>
                    <a:pt x="868" y="109"/>
                  </a:lnTo>
                  <a:lnTo>
                    <a:pt x="866" y="129"/>
                  </a:lnTo>
                  <a:lnTo>
                    <a:pt x="862" y="148"/>
                  </a:lnTo>
                  <a:lnTo>
                    <a:pt x="851" y="168"/>
                  </a:lnTo>
                  <a:lnTo>
                    <a:pt x="842" y="177"/>
                  </a:lnTo>
                  <a:lnTo>
                    <a:pt x="826" y="188"/>
                  </a:lnTo>
                  <a:lnTo>
                    <a:pt x="808" y="199"/>
                  </a:lnTo>
                  <a:lnTo>
                    <a:pt x="786" y="211"/>
                  </a:lnTo>
                  <a:lnTo>
                    <a:pt x="759" y="222"/>
                  </a:lnTo>
                  <a:lnTo>
                    <a:pt x="731" y="233"/>
                  </a:lnTo>
                  <a:lnTo>
                    <a:pt x="702" y="239"/>
                  </a:lnTo>
                  <a:lnTo>
                    <a:pt x="671" y="246"/>
                  </a:lnTo>
                  <a:lnTo>
                    <a:pt x="613" y="253"/>
                  </a:lnTo>
                  <a:lnTo>
                    <a:pt x="571" y="257"/>
                  </a:lnTo>
                  <a:lnTo>
                    <a:pt x="533" y="257"/>
                  </a:lnTo>
                  <a:lnTo>
                    <a:pt x="564" y="268"/>
                  </a:lnTo>
                  <a:lnTo>
                    <a:pt x="597" y="275"/>
                  </a:lnTo>
                  <a:lnTo>
                    <a:pt x="642" y="284"/>
                  </a:lnTo>
                  <a:lnTo>
                    <a:pt x="688" y="293"/>
                  </a:lnTo>
                  <a:lnTo>
                    <a:pt x="737" y="297"/>
                  </a:lnTo>
                  <a:lnTo>
                    <a:pt x="826" y="288"/>
                  </a:lnTo>
                  <a:lnTo>
                    <a:pt x="862" y="277"/>
                  </a:lnTo>
                  <a:lnTo>
                    <a:pt x="893" y="266"/>
                  </a:lnTo>
                  <a:lnTo>
                    <a:pt x="917" y="255"/>
                  </a:lnTo>
                  <a:lnTo>
                    <a:pt x="937" y="246"/>
                  </a:lnTo>
                  <a:lnTo>
                    <a:pt x="962" y="233"/>
                  </a:lnTo>
                  <a:lnTo>
                    <a:pt x="970" y="228"/>
                  </a:lnTo>
                  <a:lnTo>
                    <a:pt x="973" y="250"/>
                  </a:lnTo>
                  <a:lnTo>
                    <a:pt x="966" y="275"/>
                  </a:lnTo>
                  <a:lnTo>
                    <a:pt x="962" y="279"/>
                  </a:lnTo>
                  <a:lnTo>
                    <a:pt x="955" y="286"/>
                  </a:lnTo>
                  <a:lnTo>
                    <a:pt x="948" y="293"/>
                  </a:lnTo>
                  <a:lnTo>
                    <a:pt x="942" y="299"/>
                  </a:lnTo>
                  <a:lnTo>
                    <a:pt x="928" y="308"/>
                  </a:lnTo>
                  <a:lnTo>
                    <a:pt x="913" y="315"/>
                  </a:lnTo>
                  <a:lnTo>
                    <a:pt x="890" y="321"/>
                  </a:lnTo>
                  <a:lnTo>
                    <a:pt x="866" y="328"/>
                  </a:lnTo>
                  <a:lnTo>
                    <a:pt x="839" y="335"/>
                  </a:lnTo>
                  <a:lnTo>
                    <a:pt x="808" y="341"/>
                  </a:lnTo>
                  <a:lnTo>
                    <a:pt x="779" y="348"/>
                  </a:lnTo>
                  <a:lnTo>
                    <a:pt x="746" y="352"/>
                  </a:lnTo>
                  <a:lnTo>
                    <a:pt x="686" y="363"/>
                  </a:lnTo>
                  <a:lnTo>
                    <a:pt x="631" y="368"/>
                  </a:lnTo>
                  <a:lnTo>
                    <a:pt x="562" y="366"/>
                  </a:lnTo>
                  <a:lnTo>
                    <a:pt x="546" y="359"/>
                  </a:lnTo>
                  <a:lnTo>
                    <a:pt x="524" y="348"/>
                  </a:lnTo>
                  <a:lnTo>
                    <a:pt x="502" y="337"/>
                  </a:lnTo>
                  <a:lnTo>
                    <a:pt x="477" y="326"/>
                  </a:lnTo>
                  <a:lnTo>
                    <a:pt x="455" y="317"/>
                  </a:lnTo>
                  <a:lnTo>
                    <a:pt x="435" y="308"/>
                  </a:lnTo>
                  <a:lnTo>
                    <a:pt x="417" y="299"/>
                  </a:lnTo>
                  <a:lnTo>
                    <a:pt x="408" y="308"/>
                  </a:lnTo>
                  <a:lnTo>
                    <a:pt x="397" y="317"/>
                  </a:lnTo>
                  <a:lnTo>
                    <a:pt x="382" y="328"/>
                  </a:lnTo>
                  <a:lnTo>
                    <a:pt x="371" y="335"/>
                  </a:lnTo>
                  <a:lnTo>
                    <a:pt x="360" y="341"/>
                  </a:lnTo>
                  <a:lnTo>
                    <a:pt x="348" y="348"/>
                  </a:lnTo>
                  <a:lnTo>
                    <a:pt x="335" y="357"/>
                  </a:lnTo>
                  <a:lnTo>
                    <a:pt x="320" y="363"/>
                  </a:lnTo>
                  <a:lnTo>
                    <a:pt x="304" y="370"/>
                  </a:lnTo>
                  <a:lnTo>
                    <a:pt x="286" y="377"/>
                  </a:lnTo>
                  <a:lnTo>
                    <a:pt x="268" y="383"/>
                  </a:lnTo>
                  <a:lnTo>
                    <a:pt x="248" y="390"/>
                  </a:lnTo>
                  <a:lnTo>
                    <a:pt x="226" y="397"/>
                  </a:lnTo>
                  <a:lnTo>
                    <a:pt x="184" y="408"/>
                  </a:lnTo>
                  <a:lnTo>
                    <a:pt x="137" y="414"/>
                  </a:lnTo>
                  <a:lnTo>
                    <a:pt x="97" y="421"/>
                  </a:lnTo>
                  <a:lnTo>
                    <a:pt x="28" y="430"/>
                  </a:lnTo>
                  <a:lnTo>
                    <a:pt x="0" y="432"/>
                  </a:lnTo>
                  <a:lnTo>
                    <a:pt x="0" y="383"/>
                  </a:lnTo>
                  <a:lnTo>
                    <a:pt x="120" y="379"/>
                  </a:lnTo>
                  <a:lnTo>
                    <a:pt x="215" y="361"/>
                  </a:lnTo>
                  <a:lnTo>
                    <a:pt x="260" y="346"/>
                  </a:lnTo>
                  <a:lnTo>
                    <a:pt x="277" y="335"/>
                  </a:lnTo>
                  <a:lnTo>
                    <a:pt x="293" y="324"/>
                  </a:lnTo>
                  <a:lnTo>
                    <a:pt x="306" y="312"/>
                  </a:lnTo>
                  <a:lnTo>
                    <a:pt x="317" y="301"/>
                  </a:lnTo>
                  <a:lnTo>
                    <a:pt x="328" y="290"/>
                  </a:lnTo>
                  <a:lnTo>
                    <a:pt x="337" y="281"/>
                  </a:lnTo>
                  <a:lnTo>
                    <a:pt x="346" y="273"/>
                  </a:lnTo>
                  <a:lnTo>
                    <a:pt x="355" y="266"/>
                  </a:lnTo>
                  <a:lnTo>
                    <a:pt x="362" y="257"/>
                  </a:lnTo>
                  <a:lnTo>
                    <a:pt x="366" y="250"/>
                  </a:lnTo>
                  <a:lnTo>
                    <a:pt x="377" y="242"/>
                  </a:lnTo>
                  <a:lnTo>
                    <a:pt x="384" y="235"/>
                  </a:lnTo>
                  <a:lnTo>
                    <a:pt x="388" y="228"/>
                  </a:lnTo>
                  <a:lnTo>
                    <a:pt x="368" y="237"/>
                  </a:lnTo>
                  <a:lnTo>
                    <a:pt x="348" y="248"/>
                  </a:lnTo>
                  <a:lnTo>
                    <a:pt x="335" y="255"/>
                  </a:lnTo>
                  <a:lnTo>
                    <a:pt x="322" y="261"/>
                  </a:lnTo>
                  <a:lnTo>
                    <a:pt x="306" y="268"/>
                  </a:lnTo>
                  <a:lnTo>
                    <a:pt x="291" y="275"/>
                  </a:lnTo>
                  <a:lnTo>
                    <a:pt x="275" y="281"/>
                  </a:lnTo>
                  <a:lnTo>
                    <a:pt x="260" y="288"/>
                  </a:lnTo>
                  <a:lnTo>
                    <a:pt x="242" y="295"/>
                  </a:lnTo>
                  <a:lnTo>
                    <a:pt x="226" y="301"/>
                  </a:lnTo>
                  <a:lnTo>
                    <a:pt x="195" y="312"/>
                  </a:lnTo>
                  <a:lnTo>
                    <a:pt x="166" y="319"/>
                  </a:lnTo>
                  <a:lnTo>
                    <a:pt x="137" y="324"/>
                  </a:lnTo>
                  <a:lnTo>
                    <a:pt x="84" y="328"/>
                  </a:lnTo>
                  <a:lnTo>
                    <a:pt x="31" y="324"/>
                  </a:lnTo>
                  <a:lnTo>
                    <a:pt x="17" y="253"/>
                  </a:lnTo>
                  <a:lnTo>
                    <a:pt x="17" y="253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>
              <a:off x="3757320" y="4875840"/>
              <a:ext cx="70920" cy="828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67" h="195">
                  <a:moveTo>
                    <a:pt x="5" y="51"/>
                  </a:moveTo>
                  <a:lnTo>
                    <a:pt x="12" y="40"/>
                  </a:lnTo>
                  <a:lnTo>
                    <a:pt x="20" y="29"/>
                  </a:lnTo>
                  <a:lnTo>
                    <a:pt x="27" y="23"/>
                  </a:lnTo>
                  <a:lnTo>
                    <a:pt x="34" y="18"/>
                  </a:lnTo>
                  <a:lnTo>
                    <a:pt x="40" y="12"/>
                  </a:lnTo>
                  <a:lnTo>
                    <a:pt x="49" y="7"/>
                  </a:lnTo>
                  <a:lnTo>
                    <a:pt x="67" y="0"/>
                  </a:lnTo>
                  <a:lnTo>
                    <a:pt x="89" y="0"/>
                  </a:lnTo>
                  <a:lnTo>
                    <a:pt x="116" y="7"/>
                  </a:lnTo>
                  <a:lnTo>
                    <a:pt x="138" y="23"/>
                  </a:lnTo>
                  <a:lnTo>
                    <a:pt x="154" y="38"/>
                  </a:lnTo>
                  <a:lnTo>
                    <a:pt x="167" y="76"/>
                  </a:lnTo>
                  <a:lnTo>
                    <a:pt x="167" y="105"/>
                  </a:lnTo>
                  <a:lnTo>
                    <a:pt x="163" y="118"/>
                  </a:lnTo>
                  <a:lnTo>
                    <a:pt x="145" y="118"/>
                  </a:lnTo>
                  <a:lnTo>
                    <a:pt x="145" y="78"/>
                  </a:lnTo>
                  <a:lnTo>
                    <a:pt x="140" y="65"/>
                  </a:lnTo>
                  <a:lnTo>
                    <a:pt x="134" y="51"/>
                  </a:lnTo>
                  <a:lnTo>
                    <a:pt x="120" y="47"/>
                  </a:lnTo>
                  <a:lnTo>
                    <a:pt x="103" y="47"/>
                  </a:lnTo>
                  <a:lnTo>
                    <a:pt x="72" y="62"/>
                  </a:lnTo>
                  <a:lnTo>
                    <a:pt x="56" y="89"/>
                  </a:lnTo>
                  <a:lnTo>
                    <a:pt x="49" y="122"/>
                  </a:lnTo>
                  <a:lnTo>
                    <a:pt x="63" y="140"/>
                  </a:lnTo>
                  <a:lnTo>
                    <a:pt x="65" y="131"/>
                  </a:lnTo>
                  <a:lnTo>
                    <a:pt x="78" y="113"/>
                  </a:lnTo>
                  <a:lnTo>
                    <a:pt x="85" y="107"/>
                  </a:lnTo>
                  <a:lnTo>
                    <a:pt x="94" y="102"/>
                  </a:lnTo>
                  <a:lnTo>
                    <a:pt x="109" y="109"/>
                  </a:lnTo>
                  <a:lnTo>
                    <a:pt x="120" y="131"/>
                  </a:lnTo>
                  <a:lnTo>
                    <a:pt x="125" y="156"/>
                  </a:lnTo>
                  <a:lnTo>
                    <a:pt x="125" y="182"/>
                  </a:lnTo>
                  <a:lnTo>
                    <a:pt x="89" y="195"/>
                  </a:lnTo>
                  <a:lnTo>
                    <a:pt x="100" y="153"/>
                  </a:lnTo>
                  <a:lnTo>
                    <a:pt x="32" y="193"/>
                  </a:lnTo>
                  <a:lnTo>
                    <a:pt x="27" y="189"/>
                  </a:lnTo>
                  <a:lnTo>
                    <a:pt x="18" y="178"/>
                  </a:lnTo>
                  <a:lnTo>
                    <a:pt x="3" y="142"/>
                  </a:lnTo>
                  <a:lnTo>
                    <a:pt x="0" y="89"/>
                  </a:lnTo>
                  <a:lnTo>
                    <a:pt x="5" y="51"/>
                  </a:lnTo>
                  <a:lnTo>
                    <a:pt x="5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3782160" y="4968360"/>
              <a:ext cx="36720" cy="363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7" h="86">
                  <a:moveTo>
                    <a:pt x="16" y="15"/>
                  </a:moveTo>
                  <a:lnTo>
                    <a:pt x="22" y="11"/>
                  </a:lnTo>
                  <a:lnTo>
                    <a:pt x="36" y="4"/>
                  </a:lnTo>
                  <a:lnTo>
                    <a:pt x="56" y="0"/>
                  </a:lnTo>
                  <a:lnTo>
                    <a:pt x="74" y="6"/>
                  </a:lnTo>
                  <a:lnTo>
                    <a:pt x="85" y="22"/>
                  </a:lnTo>
                  <a:lnTo>
                    <a:pt x="87" y="42"/>
                  </a:lnTo>
                  <a:lnTo>
                    <a:pt x="87" y="68"/>
                  </a:lnTo>
                  <a:lnTo>
                    <a:pt x="45" y="86"/>
                  </a:lnTo>
                  <a:lnTo>
                    <a:pt x="47" y="70"/>
                  </a:lnTo>
                  <a:lnTo>
                    <a:pt x="45" y="44"/>
                  </a:lnTo>
                  <a:lnTo>
                    <a:pt x="36" y="39"/>
                  </a:lnTo>
                  <a:lnTo>
                    <a:pt x="20" y="37"/>
                  </a:lnTo>
                  <a:lnTo>
                    <a:pt x="0" y="42"/>
                  </a:lnTo>
                  <a:lnTo>
                    <a:pt x="16" y="15"/>
                  </a:lnTo>
                  <a:lnTo>
                    <a:pt x="1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3809880" y="4933440"/>
              <a:ext cx="50760" cy="95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20" h="226">
                  <a:moveTo>
                    <a:pt x="60" y="0"/>
                  </a:moveTo>
                  <a:lnTo>
                    <a:pt x="51" y="20"/>
                  </a:lnTo>
                  <a:lnTo>
                    <a:pt x="53" y="39"/>
                  </a:lnTo>
                  <a:lnTo>
                    <a:pt x="66" y="51"/>
                  </a:lnTo>
                  <a:lnTo>
                    <a:pt x="80" y="75"/>
                  </a:lnTo>
                  <a:lnTo>
                    <a:pt x="86" y="108"/>
                  </a:lnTo>
                  <a:lnTo>
                    <a:pt x="82" y="126"/>
                  </a:lnTo>
                  <a:lnTo>
                    <a:pt x="73" y="141"/>
                  </a:lnTo>
                  <a:lnTo>
                    <a:pt x="62" y="157"/>
                  </a:lnTo>
                  <a:lnTo>
                    <a:pt x="55" y="161"/>
                  </a:lnTo>
                  <a:lnTo>
                    <a:pt x="49" y="168"/>
                  </a:lnTo>
                  <a:lnTo>
                    <a:pt x="35" y="179"/>
                  </a:lnTo>
                  <a:lnTo>
                    <a:pt x="24" y="188"/>
                  </a:lnTo>
                  <a:lnTo>
                    <a:pt x="6" y="197"/>
                  </a:lnTo>
                  <a:lnTo>
                    <a:pt x="0" y="201"/>
                  </a:lnTo>
                  <a:lnTo>
                    <a:pt x="6" y="212"/>
                  </a:lnTo>
                  <a:lnTo>
                    <a:pt x="13" y="221"/>
                  </a:lnTo>
                  <a:lnTo>
                    <a:pt x="22" y="226"/>
                  </a:lnTo>
                  <a:lnTo>
                    <a:pt x="42" y="219"/>
                  </a:lnTo>
                  <a:lnTo>
                    <a:pt x="57" y="210"/>
                  </a:lnTo>
                  <a:lnTo>
                    <a:pt x="73" y="197"/>
                  </a:lnTo>
                  <a:lnTo>
                    <a:pt x="91" y="183"/>
                  </a:lnTo>
                  <a:lnTo>
                    <a:pt x="97" y="175"/>
                  </a:lnTo>
                  <a:lnTo>
                    <a:pt x="104" y="166"/>
                  </a:lnTo>
                  <a:lnTo>
                    <a:pt x="120" y="124"/>
                  </a:lnTo>
                  <a:lnTo>
                    <a:pt x="117" y="99"/>
                  </a:lnTo>
                  <a:lnTo>
                    <a:pt x="111" y="77"/>
                  </a:lnTo>
                  <a:lnTo>
                    <a:pt x="102" y="57"/>
                  </a:lnTo>
                  <a:lnTo>
                    <a:pt x="91" y="37"/>
                  </a:lnTo>
                  <a:lnTo>
                    <a:pt x="77" y="24"/>
                  </a:lnTo>
                  <a:lnTo>
                    <a:pt x="69" y="11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3847680" y="4922280"/>
              <a:ext cx="28800" cy="277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8" h="66">
                  <a:moveTo>
                    <a:pt x="0" y="4"/>
                  </a:moveTo>
                  <a:lnTo>
                    <a:pt x="40" y="66"/>
                  </a:lnTo>
                  <a:lnTo>
                    <a:pt x="68" y="49"/>
                  </a:lnTo>
                  <a:lnTo>
                    <a:pt x="35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3786120" y="5004000"/>
              <a:ext cx="94320" cy="705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22" h="166">
                  <a:moveTo>
                    <a:pt x="187" y="0"/>
                  </a:moveTo>
                  <a:lnTo>
                    <a:pt x="193" y="49"/>
                  </a:lnTo>
                  <a:lnTo>
                    <a:pt x="189" y="68"/>
                  </a:lnTo>
                  <a:lnTo>
                    <a:pt x="180" y="88"/>
                  </a:lnTo>
                  <a:lnTo>
                    <a:pt x="173" y="95"/>
                  </a:lnTo>
                  <a:lnTo>
                    <a:pt x="162" y="104"/>
                  </a:lnTo>
                  <a:lnTo>
                    <a:pt x="151" y="108"/>
                  </a:lnTo>
                  <a:lnTo>
                    <a:pt x="136" y="113"/>
                  </a:lnTo>
                  <a:lnTo>
                    <a:pt x="105" y="115"/>
                  </a:lnTo>
                  <a:lnTo>
                    <a:pt x="80" y="113"/>
                  </a:lnTo>
                  <a:lnTo>
                    <a:pt x="45" y="93"/>
                  </a:lnTo>
                  <a:lnTo>
                    <a:pt x="33" y="82"/>
                  </a:lnTo>
                  <a:lnTo>
                    <a:pt x="25" y="71"/>
                  </a:lnTo>
                  <a:lnTo>
                    <a:pt x="18" y="60"/>
                  </a:lnTo>
                  <a:lnTo>
                    <a:pt x="0" y="84"/>
                  </a:lnTo>
                  <a:lnTo>
                    <a:pt x="5" y="88"/>
                  </a:lnTo>
                  <a:lnTo>
                    <a:pt x="9" y="93"/>
                  </a:lnTo>
                  <a:lnTo>
                    <a:pt x="16" y="99"/>
                  </a:lnTo>
                  <a:lnTo>
                    <a:pt x="25" y="108"/>
                  </a:lnTo>
                  <a:lnTo>
                    <a:pt x="33" y="117"/>
                  </a:lnTo>
                  <a:lnTo>
                    <a:pt x="45" y="126"/>
                  </a:lnTo>
                  <a:lnTo>
                    <a:pt x="56" y="135"/>
                  </a:lnTo>
                  <a:lnTo>
                    <a:pt x="67" y="144"/>
                  </a:lnTo>
                  <a:lnTo>
                    <a:pt x="80" y="153"/>
                  </a:lnTo>
                  <a:lnTo>
                    <a:pt x="93" y="159"/>
                  </a:lnTo>
                  <a:lnTo>
                    <a:pt x="109" y="164"/>
                  </a:lnTo>
                  <a:lnTo>
                    <a:pt x="138" y="166"/>
                  </a:lnTo>
                  <a:lnTo>
                    <a:pt x="165" y="155"/>
                  </a:lnTo>
                  <a:lnTo>
                    <a:pt x="178" y="146"/>
                  </a:lnTo>
                  <a:lnTo>
                    <a:pt x="189" y="137"/>
                  </a:lnTo>
                  <a:lnTo>
                    <a:pt x="198" y="126"/>
                  </a:lnTo>
                  <a:lnTo>
                    <a:pt x="205" y="117"/>
                  </a:lnTo>
                  <a:lnTo>
                    <a:pt x="220" y="75"/>
                  </a:lnTo>
                  <a:lnTo>
                    <a:pt x="222" y="42"/>
                  </a:lnTo>
                  <a:lnTo>
                    <a:pt x="220" y="29"/>
                  </a:lnTo>
                  <a:lnTo>
                    <a:pt x="187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3801240" y="5023800"/>
              <a:ext cx="118800" cy="97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280" h="229">
                  <a:moveTo>
                    <a:pt x="244" y="0"/>
                  </a:moveTo>
                  <a:lnTo>
                    <a:pt x="242" y="76"/>
                  </a:lnTo>
                  <a:lnTo>
                    <a:pt x="233" y="104"/>
                  </a:lnTo>
                  <a:lnTo>
                    <a:pt x="217" y="133"/>
                  </a:lnTo>
                  <a:lnTo>
                    <a:pt x="213" y="138"/>
                  </a:lnTo>
                  <a:lnTo>
                    <a:pt x="206" y="144"/>
                  </a:lnTo>
                  <a:lnTo>
                    <a:pt x="193" y="155"/>
                  </a:lnTo>
                  <a:lnTo>
                    <a:pt x="177" y="162"/>
                  </a:lnTo>
                  <a:lnTo>
                    <a:pt x="160" y="169"/>
                  </a:lnTo>
                  <a:lnTo>
                    <a:pt x="124" y="173"/>
                  </a:lnTo>
                  <a:lnTo>
                    <a:pt x="93" y="173"/>
                  </a:lnTo>
                  <a:lnTo>
                    <a:pt x="46" y="158"/>
                  </a:lnTo>
                  <a:lnTo>
                    <a:pt x="31" y="149"/>
                  </a:lnTo>
                  <a:lnTo>
                    <a:pt x="22" y="140"/>
                  </a:lnTo>
                  <a:lnTo>
                    <a:pt x="13" y="131"/>
                  </a:lnTo>
                  <a:lnTo>
                    <a:pt x="0" y="158"/>
                  </a:lnTo>
                  <a:lnTo>
                    <a:pt x="4" y="162"/>
                  </a:lnTo>
                  <a:lnTo>
                    <a:pt x="15" y="173"/>
                  </a:lnTo>
                  <a:lnTo>
                    <a:pt x="24" y="180"/>
                  </a:lnTo>
                  <a:lnTo>
                    <a:pt x="33" y="186"/>
                  </a:lnTo>
                  <a:lnTo>
                    <a:pt x="44" y="195"/>
                  </a:lnTo>
                  <a:lnTo>
                    <a:pt x="57" y="202"/>
                  </a:lnTo>
                  <a:lnTo>
                    <a:pt x="71" y="209"/>
                  </a:lnTo>
                  <a:lnTo>
                    <a:pt x="86" y="215"/>
                  </a:lnTo>
                  <a:lnTo>
                    <a:pt x="102" y="222"/>
                  </a:lnTo>
                  <a:lnTo>
                    <a:pt x="120" y="224"/>
                  </a:lnTo>
                  <a:lnTo>
                    <a:pt x="157" y="229"/>
                  </a:lnTo>
                  <a:lnTo>
                    <a:pt x="200" y="220"/>
                  </a:lnTo>
                  <a:lnTo>
                    <a:pt x="235" y="202"/>
                  </a:lnTo>
                  <a:lnTo>
                    <a:pt x="249" y="189"/>
                  </a:lnTo>
                  <a:lnTo>
                    <a:pt x="260" y="175"/>
                  </a:lnTo>
                  <a:lnTo>
                    <a:pt x="273" y="144"/>
                  </a:lnTo>
                  <a:lnTo>
                    <a:pt x="280" y="111"/>
                  </a:lnTo>
                  <a:lnTo>
                    <a:pt x="277" y="56"/>
                  </a:lnTo>
                  <a:lnTo>
                    <a:pt x="273" y="31"/>
                  </a:lnTo>
                  <a:lnTo>
                    <a:pt x="244" y="0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>
              <a:off x="3903480" y="5040720"/>
              <a:ext cx="66600" cy="90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7" h="213">
                  <a:moveTo>
                    <a:pt x="80" y="0"/>
                  </a:moveTo>
                  <a:lnTo>
                    <a:pt x="82" y="129"/>
                  </a:lnTo>
                  <a:lnTo>
                    <a:pt x="73" y="146"/>
                  </a:lnTo>
                  <a:lnTo>
                    <a:pt x="60" y="164"/>
                  </a:lnTo>
                  <a:lnTo>
                    <a:pt x="53" y="171"/>
                  </a:lnTo>
                  <a:lnTo>
                    <a:pt x="46" y="177"/>
                  </a:lnTo>
                  <a:lnTo>
                    <a:pt x="40" y="184"/>
                  </a:lnTo>
                  <a:lnTo>
                    <a:pt x="33" y="191"/>
                  </a:lnTo>
                  <a:lnTo>
                    <a:pt x="22" y="200"/>
                  </a:lnTo>
                  <a:lnTo>
                    <a:pt x="11" y="206"/>
                  </a:lnTo>
                  <a:lnTo>
                    <a:pt x="0" y="213"/>
                  </a:lnTo>
                  <a:lnTo>
                    <a:pt x="64" y="211"/>
                  </a:lnTo>
                  <a:lnTo>
                    <a:pt x="69" y="206"/>
                  </a:lnTo>
                  <a:lnTo>
                    <a:pt x="77" y="195"/>
                  </a:lnTo>
                  <a:lnTo>
                    <a:pt x="86" y="186"/>
                  </a:lnTo>
                  <a:lnTo>
                    <a:pt x="93" y="177"/>
                  </a:lnTo>
                  <a:lnTo>
                    <a:pt x="102" y="169"/>
                  </a:lnTo>
                  <a:lnTo>
                    <a:pt x="111" y="157"/>
                  </a:lnTo>
                  <a:lnTo>
                    <a:pt x="120" y="146"/>
                  </a:lnTo>
                  <a:lnTo>
                    <a:pt x="128" y="135"/>
                  </a:lnTo>
                  <a:lnTo>
                    <a:pt x="142" y="113"/>
                  </a:lnTo>
                  <a:lnTo>
                    <a:pt x="157" y="76"/>
                  </a:lnTo>
                  <a:lnTo>
                    <a:pt x="151" y="47"/>
                  </a:lnTo>
                  <a:lnTo>
                    <a:pt x="140" y="25"/>
                  </a:lnTo>
                  <a:lnTo>
                    <a:pt x="133" y="16"/>
                  </a:lnTo>
                  <a:lnTo>
                    <a:pt x="126" y="9"/>
                  </a:lnTo>
                  <a:lnTo>
                    <a:pt x="120" y="2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3988440" y="5063400"/>
              <a:ext cx="21600" cy="30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51" h="73">
                  <a:moveTo>
                    <a:pt x="13" y="0"/>
                  </a:moveTo>
                  <a:lnTo>
                    <a:pt x="0" y="65"/>
                  </a:lnTo>
                  <a:lnTo>
                    <a:pt x="51" y="73"/>
                  </a:lnTo>
                  <a:lnTo>
                    <a:pt x="37" y="2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3966120" y="5095440"/>
              <a:ext cx="19080" cy="18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5" h="44">
                  <a:moveTo>
                    <a:pt x="18" y="0"/>
                  </a:moveTo>
                  <a:lnTo>
                    <a:pt x="0" y="44"/>
                  </a:lnTo>
                  <a:lnTo>
                    <a:pt x="45" y="42"/>
                  </a:lnTo>
                  <a:lnTo>
                    <a:pt x="45" y="2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4007160" y="509436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7" h="38">
                  <a:moveTo>
                    <a:pt x="53" y="0"/>
                  </a:moveTo>
                  <a:lnTo>
                    <a:pt x="0" y="29"/>
                  </a:lnTo>
                  <a:lnTo>
                    <a:pt x="24" y="38"/>
                  </a:lnTo>
                  <a:lnTo>
                    <a:pt x="67" y="18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>
              <a:off x="3338280" y="5049360"/>
              <a:ext cx="443880" cy="781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044" h="184">
                  <a:moveTo>
                    <a:pt x="982" y="0"/>
                  </a:moveTo>
                  <a:lnTo>
                    <a:pt x="960" y="11"/>
                  </a:lnTo>
                  <a:lnTo>
                    <a:pt x="933" y="20"/>
                  </a:lnTo>
                  <a:lnTo>
                    <a:pt x="915" y="27"/>
                  </a:lnTo>
                  <a:lnTo>
                    <a:pt x="895" y="33"/>
                  </a:lnTo>
                  <a:lnTo>
                    <a:pt x="873" y="40"/>
                  </a:lnTo>
                  <a:lnTo>
                    <a:pt x="849" y="44"/>
                  </a:lnTo>
                  <a:lnTo>
                    <a:pt x="793" y="56"/>
                  </a:lnTo>
                  <a:lnTo>
                    <a:pt x="731" y="62"/>
                  </a:lnTo>
                  <a:lnTo>
                    <a:pt x="660" y="67"/>
                  </a:lnTo>
                  <a:lnTo>
                    <a:pt x="535" y="67"/>
                  </a:lnTo>
                  <a:lnTo>
                    <a:pt x="451" y="60"/>
                  </a:lnTo>
                  <a:lnTo>
                    <a:pt x="391" y="51"/>
                  </a:lnTo>
                  <a:lnTo>
                    <a:pt x="384" y="56"/>
                  </a:lnTo>
                  <a:lnTo>
                    <a:pt x="369" y="67"/>
                  </a:lnTo>
                  <a:lnTo>
                    <a:pt x="360" y="73"/>
                  </a:lnTo>
                  <a:lnTo>
                    <a:pt x="347" y="80"/>
                  </a:lnTo>
                  <a:lnTo>
                    <a:pt x="333" y="89"/>
                  </a:lnTo>
                  <a:lnTo>
                    <a:pt x="318" y="95"/>
                  </a:lnTo>
                  <a:lnTo>
                    <a:pt x="302" y="104"/>
                  </a:lnTo>
                  <a:lnTo>
                    <a:pt x="284" y="113"/>
                  </a:lnTo>
                  <a:lnTo>
                    <a:pt x="267" y="120"/>
                  </a:lnTo>
                  <a:lnTo>
                    <a:pt x="249" y="129"/>
                  </a:lnTo>
                  <a:lnTo>
                    <a:pt x="229" y="135"/>
                  </a:lnTo>
                  <a:lnTo>
                    <a:pt x="211" y="140"/>
                  </a:lnTo>
                  <a:lnTo>
                    <a:pt x="176" y="144"/>
                  </a:lnTo>
                  <a:lnTo>
                    <a:pt x="51" y="153"/>
                  </a:lnTo>
                  <a:lnTo>
                    <a:pt x="0" y="157"/>
                  </a:lnTo>
                  <a:lnTo>
                    <a:pt x="4" y="175"/>
                  </a:lnTo>
                  <a:lnTo>
                    <a:pt x="33" y="177"/>
                  </a:lnTo>
                  <a:lnTo>
                    <a:pt x="109" y="180"/>
                  </a:lnTo>
                  <a:lnTo>
                    <a:pt x="202" y="180"/>
                  </a:lnTo>
                  <a:lnTo>
                    <a:pt x="302" y="166"/>
                  </a:lnTo>
                  <a:lnTo>
                    <a:pt x="347" y="155"/>
                  </a:lnTo>
                  <a:lnTo>
                    <a:pt x="380" y="146"/>
                  </a:lnTo>
                  <a:lnTo>
                    <a:pt x="424" y="131"/>
                  </a:lnTo>
                  <a:lnTo>
                    <a:pt x="451" y="118"/>
                  </a:lnTo>
                  <a:lnTo>
                    <a:pt x="673" y="118"/>
                  </a:lnTo>
                  <a:lnTo>
                    <a:pt x="511" y="169"/>
                  </a:lnTo>
                  <a:lnTo>
                    <a:pt x="522" y="173"/>
                  </a:lnTo>
                  <a:lnTo>
                    <a:pt x="555" y="180"/>
                  </a:lnTo>
                  <a:lnTo>
                    <a:pt x="604" y="184"/>
                  </a:lnTo>
                  <a:lnTo>
                    <a:pt x="667" y="184"/>
                  </a:lnTo>
                  <a:lnTo>
                    <a:pt x="709" y="175"/>
                  </a:lnTo>
                  <a:lnTo>
                    <a:pt x="735" y="169"/>
                  </a:lnTo>
                  <a:lnTo>
                    <a:pt x="764" y="160"/>
                  </a:lnTo>
                  <a:lnTo>
                    <a:pt x="793" y="149"/>
                  </a:lnTo>
                  <a:lnTo>
                    <a:pt x="827" y="135"/>
                  </a:lnTo>
                  <a:lnTo>
                    <a:pt x="858" y="122"/>
                  </a:lnTo>
                  <a:lnTo>
                    <a:pt x="873" y="115"/>
                  </a:lnTo>
                  <a:lnTo>
                    <a:pt x="889" y="111"/>
                  </a:lnTo>
                  <a:lnTo>
                    <a:pt x="904" y="102"/>
                  </a:lnTo>
                  <a:lnTo>
                    <a:pt x="920" y="95"/>
                  </a:lnTo>
                  <a:lnTo>
                    <a:pt x="949" y="84"/>
                  </a:lnTo>
                  <a:lnTo>
                    <a:pt x="975" y="73"/>
                  </a:lnTo>
                  <a:lnTo>
                    <a:pt x="998" y="62"/>
                  </a:lnTo>
                  <a:lnTo>
                    <a:pt x="1018" y="53"/>
                  </a:lnTo>
                  <a:lnTo>
                    <a:pt x="1031" y="47"/>
                  </a:lnTo>
                  <a:lnTo>
                    <a:pt x="1044" y="40"/>
                  </a:lnTo>
                  <a:lnTo>
                    <a:pt x="982" y="0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3589560" y="5092560"/>
              <a:ext cx="247320" cy="734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73440"/>
                <a:gd name="textAreaBottom" fmla="*/ 73440 h 73440"/>
              </a:gdLst>
              <a:ahLst/>
              <a:rect l="textAreaLeft" t="textAreaTop" r="textAreaRight" b="textAreaBottom"/>
              <a:pathLst>
                <a:path w="582" h="173">
                  <a:moveTo>
                    <a:pt x="435" y="0"/>
                  </a:moveTo>
                  <a:lnTo>
                    <a:pt x="427" y="4"/>
                  </a:lnTo>
                  <a:lnTo>
                    <a:pt x="404" y="13"/>
                  </a:lnTo>
                  <a:lnTo>
                    <a:pt x="389" y="20"/>
                  </a:lnTo>
                  <a:lnTo>
                    <a:pt x="373" y="27"/>
                  </a:lnTo>
                  <a:lnTo>
                    <a:pt x="353" y="35"/>
                  </a:lnTo>
                  <a:lnTo>
                    <a:pt x="333" y="44"/>
                  </a:lnTo>
                  <a:lnTo>
                    <a:pt x="313" y="53"/>
                  </a:lnTo>
                  <a:lnTo>
                    <a:pt x="293" y="62"/>
                  </a:lnTo>
                  <a:lnTo>
                    <a:pt x="271" y="71"/>
                  </a:lnTo>
                  <a:lnTo>
                    <a:pt x="251" y="80"/>
                  </a:lnTo>
                  <a:lnTo>
                    <a:pt x="233" y="89"/>
                  </a:lnTo>
                  <a:lnTo>
                    <a:pt x="216" y="95"/>
                  </a:lnTo>
                  <a:lnTo>
                    <a:pt x="189" y="109"/>
                  </a:lnTo>
                  <a:lnTo>
                    <a:pt x="164" y="120"/>
                  </a:lnTo>
                  <a:lnTo>
                    <a:pt x="136" y="126"/>
                  </a:lnTo>
                  <a:lnTo>
                    <a:pt x="73" y="135"/>
                  </a:lnTo>
                  <a:lnTo>
                    <a:pt x="0" y="140"/>
                  </a:lnTo>
                  <a:lnTo>
                    <a:pt x="27" y="146"/>
                  </a:lnTo>
                  <a:lnTo>
                    <a:pt x="56" y="153"/>
                  </a:lnTo>
                  <a:lnTo>
                    <a:pt x="96" y="162"/>
                  </a:lnTo>
                  <a:lnTo>
                    <a:pt x="144" y="168"/>
                  </a:lnTo>
                  <a:lnTo>
                    <a:pt x="198" y="173"/>
                  </a:lnTo>
                  <a:lnTo>
                    <a:pt x="322" y="168"/>
                  </a:lnTo>
                  <a:lnTo>
                    <a:pt x="382" y="160"/>
                  </a:lnTo>
                  <a:lnTo>
                    <a:pt x="435" y="151"/>
                  </a:lnTo>
                  <a:lnTo>
                    <a:pt x="480" y="140"/>
                  </a:lnTo>
                  <a:lnTo>
                    <a:pt x="518" y="129"/>
                  </a:lnTo>
                  <a:lnTo>
                    <a:pt x="547" y="117"/>
                  </a:lnTo>
                  <a:lnTo>
                    <a:pt x="567" y="111"/>
                  </a:lnTo>
                  <a:lnTo>
                    <a:pt x="582" y="102"/>
                  </a:lnTo>
                  <a:lnTo>
                    <a:pt x="571" y="84"/>
                  </a:lnTo>
                  <a:lnTo>
                    <a:pt x="531" y="95"/>
                  </a:lnTo>
                  <a:lnTo>
                    <a:pt x="491" y="104"/>
                  </a:lnTo>
                  <a:lnTo>
                    <a:pt x="442" y="115"/>
                  </a:lnTo>
                  <a:lnTo>
                    <a:pt x="393" y="126"/>
                  </a:lnTo>
                  <a:lnTo>
                    <a:pt x="351" y="135"/>
                  </a:lnTo>
                  <a:lnTo>
                    <a:pt x="316" y="140"/>
                  </a:lnTo>
                  <a:lnTo>
                    <a:pt x="298" y="140"/>
                  </a:lnTo>
                  <a:lnTo>
                    <a:pt x="293" y="126"/>
                  </a:lnTo>
                  <a:lnTo>
                    <a:pt x="298" y="120"/>
                  </a:lnTo>
                  <a:lnTo>
                    <a:pt x="304" y="111"/>
                  </a:lnTo>
                  <a:lnTo>
                    <a:pt x="313" y="104"/>
                  </a:lnTo>
                  <a:lnTo>
                    <a:pt x="322" y="98"/>
                  </a:lnTo>
                  <a:lnTo>
                    <a:pt x="331" y="91"/>
                  </a:lnTo>
                  <a:lnTo>
                    <a:pt x="453" y="38"/>
                  </a:lnTo>
                  <a:lnTo>
                    <a:pt x="435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>
              <a:off x="3775680" y="5113440"/>
              <a:ext cx="39240" cy="108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3" h="26">
                  <a:moveTo>
                    <a:pt x="71" y="0"/>
                  </a:moveTo>
                  <a:lnTo>
                    <a:pt x="0" y="24"/>
                  </a:lnTo>
                  <a:lnTo>
                    <a:pt x="89" y="26"/>
                  </a:lnTo>
                  <a:lnTo>
                    <a:pt x="93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5"/>
            <p:cNvSpPr/>
            <p:nvPr/>
          </p:nvSpPr>
          <p:spPr>
            <a:xfrm>
              <a:off x="3088800" y="4975560"/>
              <a:ext cx="270000" cy="76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635" h="180">
                  <a:moveTo>
                    <a:pt x="617" y="65"/>
                  </a:moveTo>
                  <a:lnTo>
                    <a:pt x="466" y="0"/>
                  </a:lnTo>
                  <a:lnTo>
                    <a:pt x="462" y="3"/>
                  </a:lnTo>
                  <a:lnTo>
                    <a:pt x="451" y="11"/>
                  </a:lnTo>
                  <a:lnTo>
                    <a:pt x="442" y="18"/>
                  </a:lnTo>
                  <a:lnTo>
                    <a:pt x="433" y="25"/>
                  </a:lnTo>
                  <a:lnTo>
                    <a:pt x="419" y="31"/>
                  </a:lnTo>
                  <a:lnTo>
                    <a:pt x="406" y="38"/>
                  </a:lnTo>
                  <a:lnTo>
                    <a:pt x="393" y="47"/>
                  </a:lnTo>
                  <a:lnTo>
                    <a:pt x="377" y="56"/>
                  </a:lnTo>
                  <a:lnTo>
                    <a:pt x="359" y="62"/>
                  </a:lnTo>
                  <a:lnTo>
                    <a:pt x="342" y="71"/>
                  </a:lnTo>
                  <a:lnTo>
                    <a:pt x="324" y="78"/>
                  </a:lnTo>
                  <a:lnTo>
                    <a:pt x="302" y="84"/>
                  </a:lnTo>
                  <a:lnTo>
                    <a:pt x="259" y="93"/>
                  </a:lnTo>
                  <a:lnTo>
                    <a:pt x="215" y="100"/>
                  </a:lnTo>
                  <a:lnTo>
                    <a:pt x="171" y="102"/>
                  </a:lnTo>
                  <a:lnTo>
                    <a:pt x="86" y="96"/>
                  </a:lnTo>
                  <a:lnTo>
                    <a:pt x="24" y="87"/>
                  </a:lnTo>
                  <a:lnTo>
                    <a:pt x="0" y="82"/>
                  </a:lnTo>
                  <a:lnTo>
                    <a:pt x="15" y="120"/>
                  </a:lnTo>
                  <a:lnTo>
                    <a:pt x="51" y="124"/>
                  </a:lnTo>
                  <a:lnTo>
                    <a:pt x="133" y="133"/>
                  </a:lnTo>
                  <a:lnTo>
                    <a:pt x="231" y="140"/>
                  </a:lnTo>
                  <a:lnTo>
                    <a:pt x="308" y="138"/>
                  </a:lnTo>
                  <a:lnTo>
                    <a:pt x="362" y="118"/>
                  </a:lnTo>
                  <a:lnTo>
                    <a:pt x="384" y="104"/>
                  </a:lnTo>
                  <a:lnTo>
                    <a:pt x="395" y="98"/>
                  </a:lnTo>
                  <a:lnTo>
                    <a:pt x="404" y="89"/>
                  </a:lnTo>
                  <a:lnTo>
                    <a:pt x="411" y="82"/>
                  </a:lnTo>
                  <a:lnTo>
                    <a:pt x="419" y="76"/>
                  </a:lnTo>
                  <a:lnTo>
                    <a:pt x="431" y="62"/>
                  </a:lnTo>
                  <a:lnTo>
                    <a:pt x="442" y="51"/>
                  </a:lnTo>
                  <a:lnTo>
                    <a:pt x="570" y="102"/>
                  </a:lnTo>
                  <a:lnTo>
                    <a:pt x="497" y="138"/>
                  </a:lnTo>
                  <a:lnTo>
                    <a:pt x="617" y="180"/>
                  </a:lnTo>
                  <a:lnTo>
                    <a:pt x="582" y="129"/>
                  </a:lnTo>
                  <a:lnTo>
                    <a:pt x="635" y="120"/>
                  </a:lnTo>
                  <a:lnTo>
                    <a:pt x="617" y="65"/>
                  </a:lnTo>
                  <a:lnTo>
                    <a:pt x="617" y="65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6"/>
            <p:cNvSpPr/>
            <p:nvPr/>
          </p:nvSpPr>
          <p:spPr>
            <a:xfrm>
              <a:off x="3085200" y="5036040"/>
              <a:ext cx="260640" cy="547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13" h="129">
                  <a:moveTo>
                    <a:pt x="613" y="84"/>
                  </a:moveTo>
                  <a:lnTo>
                    <a:pt x="442" y="0"/>
                  </a:lnTo>
                  <a:lnTo>
                    <a:pt x="420" y="9"/>
                  </a:lnTo>
                  <a:lnTo>
                    <a:pt x="395" y="18"/>
                  </a:lnTo>
                  <a:lnTo>
                    <a:pt x="364" y="29"/>
                  </a:lnTo>
                  <a:lnTo>
                    <a:pt x="328" y="42"/>
                  </a:lnTo>
                  <a:lnTo>
                    <a:pt x="288" y="53"/>
                  </a:lnTo>
                  <a:lnTo>
                    <a:pt x="251" y="64"/>
                  </a:lnTo>
                  <a:lnTo>
                    <a:pt x="213" y="73"/>
                  </a:lnTo>
                  <a:lnTo>
                    <a:pt x="140" y="75"/>
                  </a:lnTo>
                  <a:lnTo>
                    <a:pt x="71" y="64"/>
                  </a:lnTo>
                  <a:lnTo>
                    <a:pt x="42" y="55"/>
                  </a:lnTo>
                  <a:lnTo>
                    <a:pt x="20" y="49"/>
                  </a:lnTo>
                  <a:lnTo>
                    <a:pt x="0" y="42"/>
                  </a:lnTo>
                  <a:lnTo>
                    <a:pt x="0" y="84"/>
                  </a:lnTo>
                  <a:lnTo>
                    <a:pt x="20" y="93"/>
                  </a:lnTo>
                  <a:lnTo>
                    <a:pt x="44" y="102"/>
                  </a:lnTo>
                  <a:lnTo>
                    <a:pt x="73" y="109"/>
                  </a:lnTo>
                  <a:lnTo>
                    <a:pt x="106" y="118"/>
                  </a:lnTo>
                  <a:lnTo>
                    <a:pt x="144" y="122"/>
                  </a:lnTo>
                  <a:lnTo>
                    <a:pt x="217" y="115"/>
                  </a:lnTo>
                  <a:lnTo>
                    <a:pt x="251" y="104"/>
                  </a:lnTo>
                  <a:lnTo>
                    <a:pt x="280" y="95"/>
                  </a:lnTo>
                  <a:lnTo>
                    <a:pt x="304" y="84"/>
                  </a:lnTo>
                  <a:lnTo>
                    <a:pt x="326" y="75"/>
                  </a:lnTo>
                  <a:lnTo>
                    <a:pt x="346" y="69"/>
                  </a:lnTo>
                  <a:lnTo>
                    <a:pt x="362" y="64"/>
                  </a:lnTo>
                  <a:lnTo>
                    <a:pt x="391" y="69"/>
                  </a:lnTo>
                  <a:lnTo>
                    <a:pt x="400" y="75"/>
                  </a:lnTo>
                  <a:lnTo>
                    <a:pt x="402" y="82"/>
                  </a:lnTo>
                  <a:lnTo>
                    <a:pt x="393" y="100"/>
                  </a:lnTo>
                  <a:lnTo>
                    <a:pt x="386" y="124"/>
                  </a:lnTo>
                  <a:lnTo>
                    <a:pt x="417" y="129"/>
                  </a:lnTo>
                  <a:lnTo>
                    <a:pt x="468" y="129"/>
                  </a:lnTo>
                  <a:lnTo>
                    <a:pt x="539" y="129"/>
                  </a:lnTo>
                  <a:lnTo>
                    <a:pt x="515" y="75"/>
                  </a:lnTo>
                  <a:lnTo>
                    <a:pt x="608" y="106"/>
                  </a:lnTo>
                  <a:lnTo>
                    <a:pt x="613" y="84"/>
                  </a:lnTo>
                  <a:lnTo>
                    <a:pt x="613" y="8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7"/>
            <p:cNvSpPr/>
            <p:nvPr/>
          </p:nvSpPr>
          <p:spPr>
            <a:xfrm>
              <a:off x="3082320" y="5101200"/>
              <a:ext cx="219960" cy="518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518" h="122">
                  <a:moveTo>
                    <a:pt x="16" y="4"/>
                  </a:moveTo>
                  <a:lnTo>
                    <a:pt x="40" y="13"/>
                  </a:lnTo>
                  <a:lnTo>
                    <a:pt x="67" y="24"/>
                  </a:lnTo>
                  <a:lnTo>
                    <a:pt x="102" y="33"/>
                  </a:lnTo>
                  <a:lnTo>
                    <a:pt x="138" y="40"/>
                  </a:lnTo>
                  <a:lnTo>
                    <a:pt x="175" y="44"/>
                  </a:lnTo>
                  <a:lnTo>
                    <a:pt x="211" y="44"/>
                  </a:lnTo>
                  <a:lnTo>
                    <a:pt x="242" y="35"/>
                  </a:lnTo>
                  <a:lnTo>
                    <a:pt x="269" y="24"/>
                  </a:lnTo>
                  <a:lnTo>
                    <a:pt x="289" y="15"/>
                  </a:lnTo>
                  <a:lnTo>
                    <a:pt x="322" y="4"/>
                  </a:lnTo>
                  <a:lnTo>
                    <a:pt x="349" y="0"/>
                  </a:lnTo>
                  <a:lnTo>
                    <a:pt x="371" y="60"/>
                  </a:lnTo>
                  <a:lnTo>
                    <a:pt x="487" y="27"/>
                  </a:lnTo>
                  <a:lnTo>
                    <a:pt x="518" y="64"/>
                  </a:lnTo>
                  <a:lnTo>
                    <a:pt x="507" y="73"/>
                  </a:lnTo>
                  <a:lnTo>
                    <a:pt x="495" y="82"/>
                  </a:lnTo>
                  <a:lnTo>
                    <a:pt x="480" y="91"/>
                  </a:lnTo>
                  <a:lnTo>
                    <a:pt x="460" y="102"/>
                  </a:lnTo>
                  <a:lnTo>
                    <a:pt x="438" y="111"/>
                  </a:lnTo>
                  <a:lnTo>
                    <a:pt x="411" y="117"/>
                  </a:lnTo>
                  <a:lnTo>
                    <a:pt x="384" y="122"/>
                  </a:lnTo>
                  <a:lnTo>
                    <a:pt x="335" y="117"/>
                  </a:lnTo>
                  <a:lnTo>
                    <a:pt x="302" y="104"/>
                  </a:lnTo>
                  <a:lnTo>
                    <a:pt x="282" y="93"/>
                  </a:lnTo>
                  <a:lnTo>
                    <a:pt x="275" y="86"/>
                  </a:lnTo>
                  <a:lnTo>
                    <a:pt x="142" y="86"/>
                  </a:lnTo>
                  <a:lnTo>
                    <a:pt x="49" y="82"/>
                  </a:lnTo>
                  <a:lnTo>
                    <a:pt x="16" y="75"/>
                  </a:lnTo>
                  <a:lnTo>
                    <a:pt x="2" y="64"/>
                  </a:lnTo>
                  <a:lnTo>
                    <a:pt x="0" y="42"/>
                  </a:lnTo>
                  <a:lnTo>
                    <a:pt x="4" y="24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"/>
            <p:cNvSpPr/>
            <p:nvPr/>
          </p:nvSpPr>
          <p:spPr>
            <a:xfrm>
              <a:off x="3292560" y="5134320"/>
              <a:ext cx="78480" cy="24840"/>
            </a:xfrm>
            <a:custGeom>
              <a:avLst/>
              <a:gdLst>
                <a:gd name="textAreaLeft" fmla="*/ 0 w 78480"/>
                <a:gd name="textAreaRight" fmla="*/ 78480 w 784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5" h="59">
                  <a:moveTo>
                    <a:pt x="125" y="0"/>
                  </a:moveTo>
                  <a:lnTo>
                    <a:pt x="0" y="59"/>
                  </a:lnTo>
                  <a:lnTo>
                    <a:pt x="151" y="35"/>
                  </a:lnTo>
                  <a:lnTo>
                    <a:pt x="185" y="8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9"/>
            <p:cNvSpPr/>
            <p:nvPr/>
          </p:nvSpPr>
          <p:spPr>
            <a:xfrm>
              <a:off x="2978280" y="5003280"/>
              <a:ext cx="85680" cy="81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02" h="192">
                  <a:moveTo>
                    <a:pt x="148" y="22"/>
                  </a:moveTo>
                  <a:lnTo>
                    <a:pt x="151" y="15"/>
                  </a:lnTo>
                  <a:lnTo>
                    <a:pt x="162" y="4"/>
                  </a:lnTo>
                  <a:lnTo>
                    <a:pt x="177" y="0"/>
                  </a:lnTo>
                  <a:lnTo>
                    <a:pt x="195" y="13"/>
                  </a:lnTo>
                  <a:lnTo>
                    <a:pt x="202" y="42"/>
                  </a:lnTo>
                  <a:lnTo>
                    <a:pt x="195" y="75"/>
                  </a:lnTo>
                  <a:lnTo>
                    <a:pt x="186" y="99"/>
                  </a:lnTo>
                  <a:lnTo>
                    <a:pt x="182" y="110"/>
                  </a:lnTo>
                  <a:lnTo>
                    <a:pt x="164" y="73"/>
                  </a:lnTo>
                  <a:lnTo>
                    <a:pt x="104" y="79"/>
                  </a:lnTo>
                  <a:lnTo>
                    <a:pt x="62" y="88"/>
                  </a:lnTo>
                  <a:lnTo>
                    <a:pt x="37" y="104"/>
                  </a:lnTo>
                  <a:lnTo>
                    <a:pt x="44" y="124"/>
                  </a:lnTo>
                  <a:lnTo>
                    <a:pt x="53" y="135"/>
                  </a:lnTo>
                  <a:lnTo>
                    <a:pt x="66" y="144"/>
                  </a:lnTo>
                  <a:lnTo>
                    <a:pt x="80" y="152"/>
                  </a:lnTo>
                  <a:lnTo>
                    <a:pt x="93" y="159"/>
                  </a:lnTo>
                  <a:lnTo>
                    <a:pt x="113" y="161"/>
                  </a:lnTo>
                  <a:lnTo>
                    <a:pt x="115" y="152"/>
                  </a:lnTo>
                  <a:lnTo>
                    <a:pt x="108" y="148"/>
                  </a:lnTo>
                  <a:lnTo>
                    <a:pt x="102" y="141"/>
                  </a:lnTo>
                  <a:lnTo>
                    <a:pt x="95" y="135"/>
                  </a:lnTo>
                  <a:lnTo>
                    <a:pt x="86" y="128"/>
                  </a:lnTo>
                  <a:lnTo>
                    <a:pt x="80" y="124"/>
                  </a:lnTo>
                  <a:lnTo>
                    <a:pt x="84" y="119"/>
                  </a:lnTo>
                  <a:lnTo>
                    <a:pt x="97" y="110"/>
                  </a:lnTo>
                  <a:lnTo>
                    <a:pt x="120" y="104"/>
                  </a:lnTo>
                  <a:lnTo>
                    <a:pt x="146" y="110"/>
                  </a:lnTo>
                  <a:lnTo>
                    <a:pt x="168" y="130"/>
                  </a:lnTo>
                  <a:lnTo>
                    <a:pt x="180" y="152"/>
                  </a:lnTo>
                  <a:lnTo>
                    <a:pt x="177" y="177"/>
                  </a:lnTo>
                  <a:lnTo>
                    <a:pt x="173" y="183"/>
                  </a:lnTo>
                  <a:lnTo>
                    <a:pt x="164" y="190"/>
                  </a:lnTo>
                  <a:lnTo>
                    <a:pt x="131" y="192"/>
                  </a:lnTo>
                  <a:lnTo>
                    <a:pt x="84" y="188"/>
                  </a:lnTo>
                  <a:lnTo>
                    <a:pt x="37" y="172"/>
                  </a:lnTo>
                  <a:lnTo>
                    <a:pt x="8" y="152"/>
                  </a:lnTo>
                  <a:lnTo>
                    <a:pt x="0" y="124"/>
                  </a:lnTo>
                  <a:lnTo>
                    <a:pt x="2" y="93"/>
                  </a:lnTo>
                  <a:lnTo>
                    <a:pt x="8" y="79"/>
                  </a:lnTo>
                  <a:lnTo>
                    <a:pt x="17" y="66"/>
                  </a:lnTo>
                  <a:lnTo>
                    <a:pt x="22" y="59"/>
                  </a:lnTo>
                  <a:lnTo>
                    <a:pt x="31" y="53"/>
                  </a:lnTo>
                  <a:lnTo>
                    <a:pt x="46" y="44"/>
                  </a:lnTo>
                  <a:lnTo>
                    <a:pt x="64" y="37"/>
                  </a:lnTo>
                  <a:lnTo>
                    <a:pt x="82" y="35"/>
                  </a:lnTo>
                  <a:lnTo>
                    <a:pt x="108" y="35"/>
                  </a:lnTo>
                  <a:lnTo>
                    <a:pt x="135" y="42"/>
                  </a:lnTo>
                  <a:lnTo>
                    <a:pt x="148" y="22"/>
                  </a:lnTo>
                  <a:lnTo>
                    <a:pt x="148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0"/>
            <p:cNvSpPr/>
            <p:nvPr/>
          </p:nvSpPr>
          <p:spPr>
            <a:xfrm>
              <a:off x="2984040" y="5064480"/>
              <a:ext cx="93240" cy="579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0" h="137">
                  <a:moveTo>
                    <a:pt x="0" y="68"/>
                  </a:moveTo>
                  <a:lnTo>
                    <a:pt x="18" y="75"/>
                  </a:lnTo>
                  <a:lnTo>
                    <a:pt x="38" y="82"/>
                  </a:lnTo>
                  <a:lnTo>
                    <a:pt x="62" y="88"/>
                  </a:lnTo>
                  <a:lnTo>
                    <a:pt x="87" y="95"/>
                  </a:lnTo>
                  <a:lnTo>
                    <a:pt x="111" y="97"/>
                  </a:lnTo>
                  <a:lnTo>
                    <a:pt x="149" y="90"/>
                  </a:lnTo>
                  <a:lnTo>
                    <a:pt x="160" y="79"/>
                  </a:lnTo>
                  <a:lnTo>
                    <a:pt x="171" y="66"/>
                  </a:lnTo>
                  <a:lnTo>
                    <a:pt x="182" y="35"/>
                  </a:lnTo>
                  <a:lnTo>
                    <a:pt x="189" y="0"/>
                  </a:lnTo>
                  <a:lnTo>
                    <a:pt x="213" y="8"/>
                  </a:lnTo>
                  <a:lnTo>
                    <a:pt x="220" y="42"/>
                  </a:lnTo>
                  <a:lnTo>
                    <a:pt x="215" y="73"/>
                  </a:lnTo>
                  <a:lnTo>
                    <a:pt x="209" y="88"/>
                  </a:lnTo>
                  <a:lnTo>
                    <a:pt x="204" y="97"/>
                  </a:lnTo>
                  <a:lnTo>
                    <a:pt x="198" y="104"/>
                  </a:lnTo>
                  <a:lnTo>
                    <a:pt x="189" y="110"/>
                  </a:lnTo>
                  <a:lnTo>
                    <a:pt x="182" y="117"/>
                  </a:lnTo>
                  <a:lnTo>
                    <a:pt x="167" y="126"/>
                  </a:lnTo>
                  <a:lnTo>
                    <a:pt x="153" y="133"/>
                  </a:lnTo>
                  <a:lnTo>
                    <a:pt x="138" y="137"/>
                  </a:lnTo>
                  <a:lnTo>
                    <a:pt x="107" y="137"/>
                  </a:lnTo>
                  <a:lnTo>
                    <a:pt x="71" y="126"/>
                  </a:lnTo>
                  <a:lnTo>
                    <a:pt x="55" y="117"/>
                  </a:lnTo>
                  <a:lnTo>
                    <a:pt x="40" y="108"/>
                  </a:lnTo>
                  <a:lnTo>
                    <a:pt x="27" y="97"/>
                  </a:lnTo>
                  <a:lnTo>
                    <a:pt x="18" y="88"/>
                  </a:lnTo>
                  <a:lnTo>
                    <a:pt x="9" y="79"/>
                  </a:lnTo>
                  <a:lnTo>
                    <a:pt x="4" y="73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1"/>
            <p:cNvSpPr/>
            <p:nvPr/>
          </p:nvSpPr>
          <p:spPr>
            <a:xfrm>
              <a:off x="2984760" y="512460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02" h="69">
                  <a:moveTo>
                    <a:pt x="0" y="5"/>
                  </a:moveTo>
                  <a:lnTo>
                    <a:pt x="18" y="11"/>
                  </a:lnTo>
                  <a:lnTo>
                    <a:pt x="38" y="18"/>
                  </a:lnTo>
                  <a:lnTo>
                    <a:pt x="62" y="25"/>
                  </a:lnTo>
                  <a:lnTo>
                    <a:pt x="89" y="29"/>
                  </a:lnTo>
                  <a:lnTo>
                    <a:pt x="116" y="34"/>
                  </a:lnTo>
                  <a:lnTo>
                    <a:pt x="156" y="31"/>
                  </a:lnTo>
                  <a:lnTo>
                    <a:pt x="193" y="11"/>
                  </a:lnTo>
                  <a:lnTo>
                    <a:pt x="200" y="0"/>
                  </a:lnTo>
                  <a:lnTo>
                    <a:pt x="202" y="36"/>
                  </a:lnTo>
                  <a:lnTo>
                    <a:pt x="198" y="45"/>
                  </a:lnTo>
                  <a:lnTo>
                    <a:pt x="191" y="51"/>
                  </a:lnTo>
                  <a:lnTo>
                    <a:pt x="182" y="56"/>
                  </a:lnTo>
                  <a:lnTo>
                    <a:pt x="171" y="62"/>
                  </a:lnTo>
                  <a:lnTo>
                    <a:pt x="160" y="67"/>
                  </a:lnTo>
                  <a:lnTo>
                    <a:pt x="131" y="69"/>
                  </a:lnTo>
                  <a:lnTo>
                    <a:pt x="91" y="60"/>
                  </a:lnTo>
                  <a:lnTo>
                    <a:pt x="69" y="49"/>
                  </a:lnTo>
                  <a:lnTo>
                    <a:pt x="49" y="38"/>
                  </a:lnTo>
                  <a:lnTo>
                    <a:pt x="29" y="27"/>
                  </a:lnTo>
                  <a:lnTo>
                    <a:pt x="13" y="1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2"/>
            <p:cNvSpPr/>
            <p:nvPr/>
          </p:nvSpPr>
          <p:spPr>
            <a:xfrm>
              <a:off x="2846160" y="4984920"/>
              <a:ext cx="169560" cy="734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73440"/>
                <a:gd name="textAreaBottom" fmla="*/ 73440 h 73440"/>
              </a:gdLst>
              <a:ahLst/>
              <a:rect l="textAreaLeft" t="textAreaTop" r="textAreaRight" b="textAreaBottom"/>
              <a:pathLst>
                <a:path w="399" h="173">
                  <a:moveTo>
                    <a:pt x="355" y="0"/>
                  </a:moveTo>
                  <a:lnTo>
                    <a:pt x="273" y="43"/>
                  </a:lnTo>
                  <a:lnTo>
                    <a:pt x="268" y="69"/>
                  </a:lnTo>
                  <a:lnTo>
                    <a:pt x="255" y="89"/>
                  </a:lnTo>
                  <a:lnTo>
                    <a:pt x="248" y="96"/>
                  </a:lnTo>
                  <a:lnTo>
                    <a:pt x="239" y="100"/>
                  </a:lnTo>
                  <a:lnTo>
                    <a:pt x="228" y="105"/>
                  </a:lnTo>
                  <a:lnTo>
                    <a:pt x="206" y="100"/>
                  </a:lnTo>
                  <a:lnTo>
                    <a:pt x="159" y="91"/>
                  </a:lnTo>
                  <a:lnTo>
                    <a:pt x="106" y="80"/>
                  </a:lnTo>
                  <a:lnTo>
                    <a:pt x="55" y="76"/>
                  </a:lnTo>
                  <a:lnTo>
                    <a:pt x="20" y="89"/>
                  </a:lnTo>
                  <a:lnTo>
                    <a:pt x="0" y="116"/>
                  </a:lnTo>
                  <a:lnTo>
                    <a:pt x="2" y="144"/>
                  </a:lnTo>
                  <a:lnTo>
                    <a:pt x="6" y="151"/>
                  </a:lnTo>
                  <a:lnTo>
                    <a:pt x="13" y="158"/>
                  </a:lnTo>
                  <a:lnTo>
                    <a:pt x="22" y="162"/>
                  </a:lnTo>
                  <a:lnTo>
                    <a:pt x="31" y="167"/>
                  </a:lnTo>
                  <a:lnTo>
                    <a:pt x="55" y="171"/>
                  </a:lnTo>
                  <a:lnTo>
                    <a:pt x="80" y="173"/>
                  </a:lnTo>
                  <a:lnTo>
                    <a:pt x="124" y="173"/>
                  </a:lnTo>
                  <a:lnTo>
                    <a:pt x="173" y="164"/>
                  </a:lnTo>
                  <a:lnTo>
                    <a:pt x="164" y="156"/>
                  </a:lnTo>
                  <a:lnTo>
                    <a:pt x="157" y="149"/>
                  </a:lnTo>
                  <a:lnTo>
                    <a:pt x="151" y="147"/>
                  </a:lnTo>
                  <a:lnTo>
                    <a:pt x="51" y="127"/>
                  </a:lnTo>
                  <a:lnTo>
                    <a:pt x="66" y="120"/>
                  </a:lnTo>
                  <a:lnTo>
                    <a:pt x="86" y="118"/>
                  </a:lnTo>
                  <a:lnTo>
                    <a:pt x="139" y="125"/>
                  </a:lnTo>
                  <a:lnTo>
                    <a:pt x="195" y="131"/>
                  </a:lnTo>
                  <a:lnTo>
                    <a:pt x="237" y="131"/>
                  </a:lnTo>
                  <a:lnTo>
                    <a:pt x="259" y="118"/>
                  </a:lnTo>
                  <a:lnTo>
                    <a:pt x="273" y="98"/>
                  </a:lnTo>
                  <a:lnTo>
                    <a:pt x="282" y="78"/>
                  </a:lnTo>
                  <a:lnTo>
                    <a:pt x="291" y="67"/>
                  </a:lnTo>
                  <a:lnTo>
                    <a:pt x="302" y="58"/>
                  </a:lnTo>
                  <a:lnTo>
                    <a:pt x="317" y="49"/>
                  </a:lnTo>
                  <a:lnTo>
                    <a:pt x="333" y="43"/>
                  </a:lnTo>
                  <a:lnTo>
                    <a:pt x="364" y="38"/>
                  </a:lnTo>
                  <a:lnTo>
                    <a:pt x="399" y="40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3"/>
            <p:cNvSpPr/>
            <p:nvPr/>
          </p:nvSpPr>
          <p:spPr>
            <a:xfrm>
              <a:off x="2816640" y="5045400"/>
              <a:ext cx="157680" cy="658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371" h="155">
                  <a:moveTo>
                    <a:pt x="340" y="49"/>
                  </a:moveTo>
                  <a:lnTo>
                    <a:pt x="344" y="78"/>
                  </a:lnTo>
                  <a:lnTo>
                    <a:pt x="340" y="89"/>
                  </a:lnTo>
                  <a:lnTo>
                    <a:pt x="333" y="93"/>
                  </a:lnTo>
                  <a:lnTo>
                    <a:pt x="326" y="100"/>
                  </a:lnTo>
                  <a:lnTo>
                    <a:pt x="315" y="104"/>
                  </a:lnTo>
                  <a:lnTo>
                    <a:pt x="304" y="109"/>
                  </a:lnTo>
                  <a:lnTo>
                    <a:pt x="271" y="118"/>
                  </a:lnTo>
                  <a:lnTo>
                    <a:pt x="228" y="118"/>
                  </a:lnTo>
                  <a:lnTo>
                    <a:pt x="188" y="109"/>
                  </a:lnTo>
                  <a:lnTo>
                    <a:pt x="151" y="96"/>
                  </a:lnTo>
                  <a:lnTo>
                    <a:pt x="131" y="87"/>
                  </a:lnTo>
                  <a:lnTo>
                    <a:pt x="115" y="78"/>
                  </a:lnTo>
                  <a:lnTo>
                    <a:pt x="97" y="67"/>
                  </a:lnTo>
                  <a:lnTo>
                    <a:pt x="84" y="58"/>
                  </a:lnTo>
                  <a:lnTo>
                    <a:pt x="71" y="47"/>
                  </a:lnTo>
                  <a:lnTo>
                    <a:pt x="60" y="38"/>
                  </a:lnTo>
                  <a:lnTo>
                    <a:pt x="51" y="29"/>
                  </a:lnTo>
                  <a:lnTo>
                    <a:pt x="42" y="20"/>
                  </a:lnTo>
                  <a:lnTo>
                    <a:pt x="35" y="9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4" y="7"/>
                  </a:lnTo>
                  <a:lnTo>
                    <a:pt x="0" y="18"/>
                  </a:lnTo>
                  <a:lnTo>
                    <a:pt x="9" y="38"/>
                  </a:lnTo>
                  <a:lnTo>
                    <a:pt x="13" y="42"/>
                  </a:lnTo>
                  <a:lnTo>
                    <a:pt x="20" y="51"/>
                  </a:lnTo>
                  <a:lnTo>
                    <a:pt x="33" y="67"/>
                  </a:lnTo>
                  <a:lnTo>
                    <a:pt x="42" y="73"/>
                  </a:lnTo>
                  <a:lnTo>
                    <a:pt x="53" y="82"/>
                  </a:lnTo>
                  <a:lnTo>
                    <a:pt x="64" y="91"/>
                  </a:lnTo>
                  <a:lnTo>
                    <a:pt x="77" y="98"/>
                  </a:lnTo>
                  <a:lnTo>
                    <a:pt x="91" y="107"/>
                  </a:lnTo>
                  <a:lnTo>
                    <a:pt x="106" y="113"/>
                  </a:lnTo>
                  <a:lnTo>
                    <a:pt x="122" y="122"/>
                  </a:lnTo>
                  <a:lnTo>
                    <a:pt x="140" y="127"/>
                  </a:lnTo>
                  <a:lnTo>
                    <a:pt x="173" y="138"/>
                  </a:lnTo>
                  <a:lnTo>
                    <a:pt x="204" y="146"/>
                  </a:lnTo>
                  <a:lnTo>
                    <a:pt x="231" y="153"/>
                  </a:lnTo>
                  <a:lnTo>
                    <a:pt x="253" y="155"/>
                  </a:lnTo>
                  <a:lnTo>
                    <a:pt x="291" y="155"/>
                  </a:lnTo>
                  <a:lnTo>
                    <a:pt x="317" y="144"/>
                  </a:lnTo>
                  <a:lnTo>
                    <a:pt x="328" y="135"/>
                  </a:lnTo>
                  <a:lnTo>
                    <a:pt x="337" y="124"/>
                  </a:lnTo>
                  <a:lnTo>
                    <a:pt x="355" y="100"/>
                  </a:lnTo>
                  <a:lnTo>
                    <a:pt x="371" y="71"/>
                  </a:lnTo>
                  <a:lnTo>
                    <a:pt x="340" y="49"/>
                  </a:lnTo>
                  <a:lnTo>
                    <a:pt x="340" y="49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4"/>
            <p:cNvSpPr/>
            <p:nvPr/>
          </p:nvSpPr>
          <p:spPr>
            <a:xfrm>
              <a:off x="2901960" y="5048280"/>
              <a:ext cx="49680" cy="363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17" h="86">
                  <a:moveTo>
                    <a:pt x="0" y="60"/>
                  </a:moveTo>
                  <a:lnTo>
                    <a:pt x="28" y="64"/>
                  </a:lnTo>
                  <a:lnTo>
                    <a:pt x="53" y="62"/>
                  </a:lnTo>
                  <a:lnTo>
                    <a:pt x="73" y="46"/>
                  </a:lnTo>
                  <a:lnTo>
                    <a:pt x="82" y="13"/>
                  </a:lnTo>
                  <a:lnTo>
                    <a:pt x="77" y="0"/>
                  </a:lnTo>
                  <a:lnTo>
                    <a:pt x="86" y="7"/>
                  </a:lnTo>
                  <a:lnTo>
                    <a:pt x="95" y="13"/>
                  </a:lnTo>
                  <a:lnTo>
                    <a:pt x="104" y="22"/>
                  </a:lnTo>
                  <a:lnTo>
                    <a:pt x="117" y="42"/>
                  </a:lnTo>
                  <a:lnTo>
                    <a:pt x="113" y="60"/>
                  </a:lnTo>
                  <a:lnTo>
                    <a:pt x="104" y="69"/>
                  </a:lnTo>
                  <a:lnTo>
                    <a:pt x="97" y="75"/>
                  </a:lnTo>
                  <a:lnTo>
                    <a:pt x="82" y="82"/>
                  </a:lnTo>
                  <a:lnTo>
                    <a:pt x="51" y="86"/>
                  </a:lnTo>
                  <a:lnTo>
                    <a:pt x="17" y="73"/>
                  </a:lnTo>
                  <a:lnTo>
                    <a:pt x="4" y="64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5"/>
            <p:cNvSpPr/>
            <p:nvPr/>
          </p:nvSpPr>
          <p:spPr>
            <a:xfrm>
              <a:off x="2810880" y="5089680"/>
              <a:ext cx="194760" cy="849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458" h="200">
                  <a:moveTo>
                    <a:pt x="0" y="0"/>
                  </a:moveTo>
                  <a:lnTo>
                    <a:pt x="7" y="3"/>
                  </a:lnTo>
                  <a:lnTo>
                    <a:pt x="20" y="14"/>
                  </a:lnTo>
                  <a:lnTo>
                    <a:pt x="31" y="20"/>
                  </a:lnTo>
                  <a:lnTo>
                    <a:pt x="45" y="27"/>
                  </a:lnTo>
                  <a:lnTo>
                    <a:pt x="58" y="36"/>
                  </a:lnTo>
                  <a:lnTo>
                    <a:pt x="74" y="45"/>
                  </a:lnTo>
                  <a:lnTo>
                    <a:pt x="91" y="54"/>
                  </a:lnTo>
                  <a:lnTo>
                    <a:pt x="109" y="60"/>
                  </a:lnTo>
                  <a:lnTo>
                    <a:pt x="129" y="69"/>
                  </a:lnTo>
                  <a:lnTo>
                    <a:pt x="149" y="76"/>
                  </a:lnTo>
                  <a:lnTo>
                    <a:pt x="169" y="82"/>
                  </a:lnTo>
                  <a:lnTo>
                    <a:pt x="189" y="87"/>
                  </a:lnTo>
                  <a:lnTo>
                    <a:pt x="229" y="91"/>
                  </a:lnTo>
                  <a:lnTo>
                    <a:pt x="296" y="89"/>
                  </a:lnTo>
                  <a:lnTo>
                    <a:pt x="336" y="78"/>
                  </a:lnTo>
                  <a:lnTo>
                    <a:pt x="354" y="67"/>
                  </a:lnTo>
                  <a:lnTo>
                    <a:pt x="358" y="62"/>
                  </a:lnTo>
                  <a:lnTo>
                    <a:pt x="362" y="111"/>
                  </a:lnTo>
                  <a:lnTo>
                    <a:pt x="358" y="118"/>
                  </a:lnTo>
                  <a:lnTo>
                    <a:pt x="347" y="124"/>
                  </a:lnTo>
                  <a:lnTo>
                    <a:pt x="334" y="131"/>
                  </a:lnTo>
                  <a:lnTo>
                    <a:pt x="316" y="136"/>
                  </a:lnTo>
                  <a:lnTo>
                    <a:pt x="265" y="140"/>
                  </a:lnTo>
                  <a:lnTo>
                    <a:pt x="198" y="133"/>
                  </a:lnTo>
                  <a:lnTo>
                    <a:pt x="134" y="113"/>
                  </a:lnTo>
                  <a:lnTo>
                    <a:pt x="109" y="105"/>
                  </a:lnTo>
                  <a:lnTo>
                    <a:pt x="91" y="93"/>
                  </a:lnTo>
                  <a:lnTo>
                    <a:pt x="78" y="82"/>
                  </a:lnTo>
                  <a:lnTo>
                    <a:pt x="67" y="76"/>
                  </a:lnTo>
                  <a:lnTo>
                    <a:pt x="60" y="69"/>
                  </a:lnTo>
                  <a:lnTo>
                    <a:pt x="67" y="82"/>
                  </a:lnTo>
                  <a:lnTo>
                    <a:pt x="78" y="100"/>
                  </a:lnTo>
                  <a:lnTo>
                    <a:pt x="85" y="109"/>
                  </a:lnTo>
                  <a:lnTo>
                    <a:pt x="94" y="118"/>
                  </a:lnTo>
                  <a:lnTo>
                    <a:pt x="103" y="127"/>
                  </a:lnTo>
                  <a:lnTo>
                    <a:pt x="114" y="136"/>
                  </a:lnTo>
                  <a:lnTo>
                    <a:pt x="127" y="144"/>
                  </a:lnTo>
                  <a:lnTo>
                    <a:pt x="140" y="153"/>
                  </a:lnTo>
                  <a:lnTo>
                    <a:pt x="156" y="160"/>
                  </a:lnTo>
                  <a:lnTo>
                    <a:pt x="174" y="167"/>
                  </a:lnTo>
                  <a:lnTo>
                    <a:pt x="216" y="173"/>
                  </a:lnTo>
                  <a:lnTo>
                    <a:pt x="296" y="169"/>
                  </a:lnTo>
                  <a:lnTo>
                    <a:pt x="358" y="151"/>
                  </a:lnTo>
                  <a:lnTo>
                    <a:pt x="382" y="140"/>
                  </a:lnTo>
                  <a:lnTo>
                    <a:pt x="398" y="131"/>
                  </a:lnTo>
                  <a:lnTo>
                    <a:pt x="414" y="122"/>
                  </a:lnTo>
                  <a:lnTo>
                    <a:pt x="458" y="155"/>
                  </a:lnTo>
                  <a:lnTo>
                    <a:pt x="427" y="164"/>
                  </a:lnTo>
                  <a:lnTo>
                    <a:pt x="394" y="173"/>
                  </a:lnTo>
                  <a:lnTo>
                    <a:pt x="354" y="184"/>
                  </a:lnTo>
                  <a:lnTo>
                    <a:pt x="311" y="193"/>
                  </a:lnTo>
                  <a:lnTo>
                    <a:pt x="269" y="200"/>
                  </a:lnTo>
                  <a:lnTo>
                    <a:pt x="205" y="200"/>
                  </a:lnTo>
                  <a:lnTo>
                    <a:pt x="183" y="191"/>
                  </a:lnTo>
                  <a:lnTo>
                    <a:pt x="160" y="184"/>
                  </a:lnTo>
                  <a:lnTo>
                    <a:pt x="138" y="173"/>
                  </a:lnTo>
                  <a:lnTo>
                    <a:pt x="118" y="162"/>
                  </a:lnTo>
                  <a:lnTo>
                    <a:pt x="100" y="151"/>
                  </a:lnTo>
                  <a:lnTo>
                    <a:pt x="85" y="140"/>
                  </a:lnTo>
                  <a:lnTo>
                    <a:pt x="74" y="129"/>
                  </a:lnTo>
                  <a:lnTo>
                    <a:pt x="63" y="118"/>
                  </a:lnTo>
                  <a:lnTo>
                    <a:pt x="45" y="87"/>
                  </a:lnTo>
                  <a:lnTo>
                    <a:pt x="34" y="67"/>
                  </a:lnTo>
                  <a:lnTo>
                    <a:pt x="25" y="47"/>
                  </a:lnTo>
                  <a:lnTo>
                    <a:pt x="7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6"/>
            <p:cNvSpPr/>
            <p:nvPr/>
          </p:nvSpPr>
          <p:spPr>
            <a:xfrm>
              <a:off x="2494440" y="4949280"/>
              <a:ext cx="288360" cy="8280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678" h="195">
                  <a:moveTo>
                    <a:pt x="0" y="78"/>
                  </a:moveTo>
                  <a:lnTo>
                    <a:pt x="4" y="73"/>
                  </a:lnTo>
                  <a:lnTo>
                    <a:pt x="18" y="65"/>
                  </a:lnTo>
                  <a:lnTo>
                    <a:pt x="40" y="53"/>
                  </a:lnTo>
                  <a:lnTo>
                    <a:pt x="53" y="47"/>
                  </a:lnTo>
                  <a:lnTo>
                    <a:pt x="67" y="40"/>
                  </a:lnTo>
                  <a:lnTo>
                    <a:pt x="84" y="33"/>
                  </a:lnTo>
                  <a:lnTo>
                    <a:pt x="102" y="27"/>
                  </a:lnTo>
                  <a:lnTo>
                    <a:pt x="122" y="20"/>
                  </a:lnTo>
                  <a:lnTo>
                    <a:pt x="142" y="14"/>
                  </a:lnTo>
                  <a:lnTo>
                    <a:pt x="187" y="5"/>
                  </a:lnTo>
                  <a:lnTo>
                    <a:pt x="236" y="0"/>
                  </a:lnTo>
                  <a:lnTo>
                    <a:pt x="340" y="9"/>
                  </a:lnTo>
                  <a:lnTo>
                    <a:pt x="391" y="18"/>
                  </a:lnTo>
                  <a:lnTo>
                    <a:pt x="435" y="31"/>
                  </a:lnTo>
                  <a:lnTo>
                    <a:pt x="475" y="42"/>
                  </a:lnTo>
                  <a:lnTo>
                    <a:pt x="507" y="53"/>
                  </a:lnTo>
                  <a:lnTo>
                    <a:pt x="535" y="65"/>
                  </a:lnTo>
                  <a:lnTo>
                    <a:pt x="551" y="120"/>
                  </a:lnTo>
                  <a:lnTo>
                    <a:pt x="535" y="109"/>
                  </a:lnTo>
                  <a:lnTo>
                    <a:pt x="515" y="100"/>
                  </a:lnTo>
                  <a:lnTo>
                    <a:pt x="504" y="93"/>
                  </a:lnTo>
                  <a:lnTo>
                    <a:pt x="491" y="87"/>
                  </a:lnTo>
                  <a:lnTo>
                    <a:pt x="478" y="80"/>
                  </a:lnTo>
                  <a:lnTo>
                    <a:pt x="462" y="73"/>
                  </a:lnTo>
                  <a:lnTo>
                    <a:pt x="449" y="67"/>
                  </a:lnTo>
                  <a:lnTo>
                    <a:pt x="433" y="62"/>
                  </a:lnTo>
                  <a:lnTo>
                    <a:pt x="404" y="53"/>
                  </a:lnTo>
                  <a:lnTo>
                    <a:pt x="376" y="47"/>
                  </a:lnTo>
                  <a:lnTo>
                    <a:pt x="324" y="47"/>
                  </a:lnTo>
                  <a:lnTo>
                    <a:pt x="287" y="51"/>
                  </a:lnTo>
                  <a:lnTo>
                    <a:pt x="260" y="60"/>
                  </a:lnTo>
                  <a:lnTo>
                    <a:pt x="251" y="65"/>
                  </a:lnTo>
                  <a:lnTo>
                    <a:pt x="433" y="89"/>
                  </a:lnTo>
                  <a:lnTo>
                    <a:pt x="460" y="102"/>
                  </a:lnTo>
                  <a:lnTo>
                    <a:pt x="487" y="115"/>
                  </a:lnTo>
                  <a:lnTo>
                    <a:pt x="502" y="120"/>
                  </a:lnTo>
                  <a:lnTo>
                    <a:pt x="515" y="127"/>
                  </a:lnTo>
                  <a:lnTo>
                    <a:pt x="542" y="140"/>
                  </a:lnTo>
                  <a:lnTo>
                    <a:pt x="567" y="151"/>
                  </a:lnTo>
                  <a:lnTo>
                    <a:pt x="589" y="158"/>
                  </a:lnTo>
                  <a:lnTo>
                    <a:pt x="618" y="164"/>
                  </a:lnTo>
                  <a:lnTo>
                    <a:pt x="624" y="162"/>
                  </a:lnTo>
                  <a:lnTo>
                    <a:pt x="629" y="155"/>
                  </a:lnTo>
                  <a:lnTo>
                    <a:pt x="627" y="138"/>
                  </a:lnTo>
                  <a:lnTo>
                    <a:pt x="620" y="122"/>
                  </a:lnTo>
                  <a:lnTo>
                    <a:pt x="615" y="113"/>
                  </a:lnTo>
                  <a:lnTo>
                    <a:pt x="647" y="122"/>
                  </a:lnTo>
                  <a:lnTo>
                    <a:pt x="667" y="133"/>
                  </a:lnTo>
                  <a:lnTo>
                    <a:pt x="678" y="153"/>
                  </a:lnTo>
                  <a:lnTo>
                    <a:pt x="675" y="171"/>
                  </a:lnTo>
                  <a:lnTo>
                    <a:pt x="671" y="180"/>
                  </a:lnTo>
                  <a:lnTo>
                    <a:pt x="664" y="186"/>
                  </a:lnTo>
                  <a:lnTo>
                    <a:pt x="653" y="193"/>
                  </a:lnTo>
                  <a:lnTo>
                    <a:pt x="642" y="195"/>
                  </a:lnTo>
                  <a:lnTo>
                    <a:pt x="611" y="195"/>
                  </a:lnTo>
                  <a:lnTo>
                    <a:pt x="573" y="178"/>
                  </a:lnTo>
                  <a:lnTo>
                    <a:pt x="560" y="173"/>
                  </a:lnTo>
                  <a:lnTo>
                    <a:pt x="549" y="164"/>
                  </a:lnTo>
                  <a:lnTo>
                    <a:pt x="535" y="158"/>
                  </a:lnTo>
                  <a:lnTo>
                    <a:pt x="522" y="151"/>
                  </a:lnTo>
                  <a:lnTo>
                    <a:pt x="507" y="142"/>
                  </a:lnTo>
                  <a:lnTo>
                    <a:pt x="491" y="135"/>
                  </a:lnTo>
                  <a:lnTo>
                    <a:pt x="473" y="129"/>
                  </a:lnTo>
                  <a:lnTo>
                    <a:pt x="455" y="122"/>
                  </a:lnTo>
                  <a:lnTo>
                    <a:pt x="435" y="115"/>
                  </a:lnTo>
                  <a:lnTo>
                    <a:pt x="413" y="111"/>
                  </a:lnTo>
                  <a:lnTo>
                    <a:pt x="367" y="102"/>
                  </a:lnTo>
                  <a:lnTo>
                    <a:pt x="280" y="100"/>
                  </a:lnTo>
                  <a:lnTo>
                    <a:pt x="218" y="109"/>
                  </a:lnTo>
                  <a:lnTo>
                    <a:pt x="180" y="120"/>
                  </a:lnTo>
                  <a:lnTo>
                    <a:pt x="167" y="124"/>
                  </a:lnTo>
                  <a:lnTo>
                    <a:pt x="147" y="111"/>
                  </a:lnTo>
                  <a:lnTo>
                    <a:pt x="242" y="47"/>
                  </a:lnTo>
                  <a:lnTo>
                    <a:pt x="122" y="56"/>
                  </a:lnTo>
                  <a:lnTo>
                    <a:pt x="96" y="67"/>
                  </a:lnTo>
                  <a:lnTo>
                    <a:pt x="69" y="78"/>
                  </a:lnTo>
                  <a:lnTo>
                    <a:pt x="49" y="89"/>
                  </a:lnTo>
                  <a:lnTo>
                    <a:pt x="40" y="91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7"/>
            <p:cNvSpPr/>
            <p:nvPr/>
          </p:nvSpPr>
          <p:spPr>
            <a:xfrm>
              <a:off x="2566440" y="5007960"/>
              <a:ext cx="228600" cy="88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538" h="208">
                  <a:moveTo>
                    <a:pt x="35" y="15"/>
                  </a:moveTo>
                  <a:lnTo>
                    <a:pt x="58" y="11"/>
                  </a:lnTo>
                  <a:lnTo>
                    <a:pt x="111" y="2"/>
                  </a:lnTo>
                  <a:lnTo>
                    <a:pt x="180" y="0"/>
                  </a:lnTo>
                  <a:lnTo>
                    <a:pt x="240" y="13"/>
                  </a:lnTo>
                  <a:lnTo>
                    <a:pt x="264" y="24"/>
                  </a:lnTo>
                  <a:lnTo>
                    <a:pt x="278" y="31"/>
                  </a:lnTo>
                  <a:lnTo>
                    <a:pt x="293" y="37"/>
                  </a:lnTo>
                  <a:lnTo>
                    <a:pt x="306" y="46"/>
                  </a:lnTo>
                  <a:lnTo>
                    <a:pt x="320" y="53"/>
                  </a:lnTo>
                  <a:lnTo>
                    <a:pt x="335" y="59"/>
                  </a:lnTo>
                  <a:lnTo>
                    <a:pt x="349" y="66"/>
                  </a:lnTo>
                  <a:lnTo>
                    <a:pt x="362" y="73"/>
                  </a:lnTo>
                  <a:lnTo>
                    <a:pt x="373" y="79"/>
                  </a:lnTo>
                  <a:lnTo>
                    <a:pt x="398" y="90"/>
                  </a:lnTo>
                  <a:lnTo>
                    <a:pt x="418" y="99"/>
                  </a:lnTo>
                  <a:lnTo>
                    <a:pt x="431" y="104"/>
                  </a:lnTo>
                  <a:lnTo>
                    <a:pt x="458" y="104"/>
                  </a:lnTo>
                  <a:lnTo>
                    <a:pt x="482" y="99"/>
                  </a:lnTo>
                  <a:lnTo>
                    <a:pt x="506" y="88"/>
                  </a:lnTo>
                  <a:lnTo>
                    <a:pt x="506" y="115"/>
                  </a:lnTo>
                  <a:lnTo>
                    <a:pt x="509" y="121"/>
                  </a:lnTo>
                  <a:lnTo>
                    <a:pt x="493" y="128"/>
                  </a:lnTo>
                  <a:lnTo>
                    <a:pt x="453" y="133"/>
                  </a:lnTo>
                  <a:lnTo>
                    <a:pt x="398" y="126"/>
                  </a:lnTo>
                  <a:lnTo>
                    <a:pt x="369" y="117"/>
                  </a:lnTo>
                  <a:lnTo>
                    <a:pt x="344" y="108"/>
                  </a:lnTo>
                  <a:lnTo>
                    <a:pt x="324" y="99"/>
                  </a:lnTo>
                  <a:lnTo>
                    <a:pt x="306" y="90"/>
                  </a:lnTo>
                  <a:lnTo>
                    <a:pt x="293" y="82"/>
                  </a:lnTo>
                  <a:lnTo>
                    <a:pt x="302" y="93"/>
                  </a:lnTo>
                  <a:lnTo>
                    <a:pt x="313" y="102"/>
                  </a:lnTo>
                  <a:lnTo>
                    <a:pt x="320" y="108"/>
                  </a:lnTo>
                  <a:lnTo>
                    <a:pt x="329" y="115"/>
                  </a:lnTo>
                  <a:lnTo>
                    <a:pt x="335" y="121"/>
                  </a:lnTo>
                  <a:lnTo>
                    <a:pt x="346" y="128"/>
                  </a:lnTo>
                  <a:lnTo>
                    <a:pt x="355" y="135"/>
                  </a:lnTo>
                  <a:lnTo>
                    <a:pt x="366" y="139"/>
                  </a:lnTo>
                  <a:lnTo>
                    <a:pt x="389" y="150"/>
                  </a:lnTo>
                  <a:lnTo>
                    <a:pt x="415" y="157"/>
                  </a:lnTo>
                  <a:lnTo>
                    <a:pt x="462" y="164"/>
                  </a:lnTo>
                  <a:lnTo>
                    <a:pt x="495" y="164"/>
                  </a:lnTo>
                  <a:lnTo>
                    <a:pt x="526" y="159"/>
                  </a:lnTo>
                  <a:lnTo>
                    <a:pt x="538" y="186"/>
                  </a:lnTo>
                  <a:lnTo>
                    <a:pt x="526" y="190"/>
                  </a:lnTo>
                  <a:lnTo>
                    <a:pt x="500" y="199"/>
                  </a:lnTo>
                  <a:lnTo>
                    <a:pt x="464" y="206"/>
                  </a:lnTo>
                  <a:lnTo>
                    <a:pt x="424" y="208"/>
                  </a:lnTo>
                  <a:lnTo>
                    <a:pt x="380" y="197"/>
                  </a:lnTo>
                  <a:lnTo>
                    <a:pt x="360" y="188"/>
                  </a:lnTo>
                  <a:lnTo>
                    <a:pt x="340" y="177"/>
                  </a:lnTo>
                  <a:lnTo>
                    <a:pt x="322" y="168"/>
                  </a:lnTo>
                  <a:lnTo>
                    <a:pt x="309" y="161"/>
                  </a:lnTo>
                  <a:lnTo>
                    <a:pt x="298" y="153"/>
                  </a:lnTo>
                  <a:lnTo>
                    <a:pt x="284" y="144"/>
                  </a:lnTo>
                  <a:lnTo>
                    <a:pt x="271" y="135"/>
                  </a:lnTo>
                  <a:lnTo>
                    <a:pt x="253" y="124"/>
                  </a:lnTo>
                  <a:lnTo>
                    <a:pt x="235" y="113"/>
                  </a:lnTo>
                  <a:lnTo>
                    <a:pt x="215" y="104"/>
                  </a:lnTo>
                  <a:lnTo>
                    <a:pt x="198" y="99"/>
                  </a:lnTo>
                  <a:lnTo>
                    <a:pt x="182" y="97"/>
                  </a:lnTo>
                  <a:lnTo>
                    <a:pt x="151" y="104"/>
                  </a:lnTo>
                  <a:lnTo>
                    <a:pt x="124" y="117"/>
                  </a:lnTo>
                  <a:lnTo>
                    <a:pt x="104" y="128"/>
                  </a:lnTo>
                  <a:lnTo>
                    <a:pt x="98" y="133"/>
                  </a:lnTo>
                  <a:lnTo>
                    <a:pt x="64" y="115"/>
                  </a:lnTo>
                  <a:lnTo>
                    <a:pt x="69" y="110"/>
                  </a:lnTo>
                  <a:lnTo>
                    <a:pt x="78" y="102"/>
                  </a:lnTo>
                  <a:lnTo>
                    <a:pt x="87" y="97"/>
                  </a:lnTo>
                  <a:lnTo>
                    <a:pt x="98" y="90"/>
                  </a:lnTo>
                  <a:lnTo>
                    <a:pt x="113" y="84"/>
                  </a:lnTo>
                  <a:lnTo>
                    <a:pt x="129" y="77"/>
                  </a:lnTo>
                  <a:lnTo>
                    <a:pt x="162" y="68"/>
                  </a:lnTo>
                  <a:lnTo>
                    <a:pt x="189" y="64"/>
                  </a:lnTo>
                  <a:lnTo>
                    <a:pt x="211" y="62"/>
                  </a:lnTo>
                  <a:lnTo>
                    <a:pt x="204" y="48"/>
                  </a:lnTo>
                  <a:lnTo>
                    <a:pt x="191" y="42"/>
                  </a:lnTo>
                  <a:lnTo>
                    <a:pt x="164" y="37"/>
                  </a:lnTo>
                  <a:lnTo>
                    <a:pt x="118" y="46"/>
                  </a:lnTo>
                  <a:lnTo>
                    <a:pt x="91" y="53"/>
                  </a:lnTo>
                  <a:lnTo>
                    <a:pt x="64" y="62"/>
                  </a:lnTo>
                  <a:lnTo>
                    <a:pt x="40" y="71"/>
                  </a:lnTo>
                  <a:lnTo>
                    <a:pt x="20" y="79"/>
                  </a:lnTo>
                  <a:lnTo>
                    <a:pt x="0" y="86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8"/>
            <p:cNvSpPr/>
            <p:nvPr/>
          </p:nvSpPr>
          <p:spPr>
            <a:xfrm>
              <a:off x="2617200" y="5067000"/>
              <a:ext cx="191520" cy="1090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451" h="257">
                  <a:moveTo>
                    <a:pt x="0" y="22"/>
                  </a:moveTo>
                  <a:lnTo>
                    <a:pt x="13" y="16"/>
                  </a:lnTo>
                  <a:lnTo>
                    <a:pt x="29" y="9"/>
                  </a:lnTo>
                  <a:lnTo>
                    <a:pt x="49" y="2"/>
                  </a:lnTo>
                  <a:lnTo>
                    <a:pt x="93" y="0"/>
                  </a:lnTo>
                  <a:lnTo>
                    <a:pt x="118" y="7"/>
                  </a:lnTo>
                  <a:lnTo>
                    <a:pt x="138" y="22"/>
                  </a:lnTo>
                  <a:lnTo>
                    <a:pt x="149" y="33"/>
                  </a:lnTo>
                  <a:lnTo>
                    <a:pt x="162" y="42"/>
                  </a:lnTo>
                  <a:lnTo>
                    <a:pt x="175" y="51"/>
                  </a:lnTo>
                  <a:lnTo>
                    <a:pt x="189" y="60"/>
                  </a:lnTo>
                  <a:lnTo>
                    <a:pt x="204" y="67"/>
                  </a:lnTo>
                  <a:lnTo>
                    <a:pt x="220" y="73"/>
                  </a:lnTo>
                  <a:lnTo>
                    <a:pt x="235" y="80"/>
                  </a:lnTo>
                  <a:lnTo>
                    <a:pt x="253" y="87"/>
                  </a:lnTo>
                  <a:lnTo>
                    <a:pt x="284" y="95"/>
                  </a:lnTo>
                  <a:lnTo>
                    <a:pt x="313" y="104"/>
                  </a:lnTo>
                  <a:lnTo>
                    <a:pt x="360" y="109"/>
                  </a:lnTo>
                  <a:lnTo>
                    <a:pt x="413" y="98"/>
                  </a:lnTo>
                  <a:lnTo>
                    <a:pt x="433" y="87"/>
                  </a:lnTo>
                  <a:lnTo>
                    <a:pt x="451" y="122"/>
                  </a:lnTo>
                  <a:lnTo>
                    <a:pt x="440" y="131"/>
                  </a:lnTo>
                  <a:lnTo>
                    <a:pt x="429" y="142"/>
                  </a:lnTo>
                  <a:lnTo>
                    <a:pt x="415" y="155"/>
                  </a:lnTo>
                  <a:lnTo>
                    <a:pt x="409" y="162"/>
                  </a:lnTo>
                  <a:lnTo>
                    <a:pt x="400" y="169"/>
                  </a:lnTo>
                  <a:lnTo>
                    <a:pt x="393" y="175"/>
                  </a:lnTo>
                  <a:lnTo>
                    <a:pt x="386" y="182"/>
                  </a:lnTo>
                  <a:lnTo>
                    <a:pt x="375" y="193"/>
                  </a:lnTo>
                  <a:lnTo>
                    <a:pt x="369" y="202"/>
                  </a:lnTo>
                  <a:lnTo>
                    <a:pt x="353" y="235"/>
                  </a:lnTo>
                  <a:lnTo>
                    <a:pt x="349" y="253"/>
                  </a:lnTo>
                  <a:lnTo>
                    <a:pt x="253" y="257"/>
                  </a:lnTo>
                  <a:lnTo>
                    <a:pt x="306" y="200"/>
                  </a:lnTo>
                  <a:lnTo>
                    <a:pt x="255" y="191"/>
                  </a:lnTo>
                  <a:lnTo>
                    <a:pt x="155" y="213"/>
                  </a:lnTo>
                  <a:lnTo>
                    <a:pt x="262" y="144"/>
                  </a:lnTo>
                  <a:lnTo>
                    <a:pt x="38" y="155"/>
                  </a:lnTo>
                  <a:lnTo>
                    <a:pt x="122" y="115"/>
                  </a:lnTo>
                  <a:lnTo>
                    <a:pt x="53" y="100"/>
                  </a:lnTo>
                  <a:lnTo>
                    <a:pt x="42" y="71"/>
                  </a:lnTo>
                  <a:lnTo>
                    <a:pt x="51" y="69"/>
                  </a:lnTo>
                  <a:lnTo>
                    <a:pt x="71" y="60"/>
                  </a:lnTo>
                  <a:lnTo>
                    <a:pt x="100" y="56"/>
                  </a:lnTo>
                  <a:lnTo>
                    <a:pt x="129" y="64"/>
                  </a:lnTo>
                  <a:lnTo>
                    <a:pt x="151" y="82"/>
                  </a:lnTo>
                  <a:lnTo>
                    <a:pt x="160" y="91"/>
                  </a:lnTo>
                  <a:lnTo>
                    <a:pt x="166" y="100"/>
                  </a:lnTo>
                  <a:lnTo>
                    <a:pt x="173" y="107"/>
                  </a:lnTo>
                  <a:lnTo>
                    <a:pt x="182" y="113"/>
                  </a:lnTo>
                  <a:lnTo>
                    <a:pt x="202" y="118"/>
                  </a:lnTo>
                  <a:lnTo>
                    <a:pt x="235" y="109"/>
                  </a:lnTo>
                  <a:lnTo>
                    <a:pt x="242" y="102"/>
                  </a:lnTo>
                  <a:lnTo>
                    <a:pt x="229" y="98"/>
                  </a:lnTo>
                  <a:lnTo>
                    <a:pt x="202" y="89"/>
                  </a:lnTo>
                  <a:lnTo>
                    <a:pt x="171" y="76"/>
                  </a:lnTo>
                  <a:lnTo>
                    <a:pt x="151" y="62"/>
                  </a:lnTo>
                  <a:lnTo>
                    <a:pt x="144" y="56"/>
                  </a:lnTo>
                  <a:lnTo>
                    <a:pt x="135" y="49"/>
                  </a:lnTo>
                  <a:lnTo>
                    <a:pt x="127" y="42"/>
                  </a:lnTo>
                  <a:lnTo>
                    <a:pt x="115" y="38"/>
                  </a:lnTo>
                  <a:lnTo>
                    <a:pt x="93" y="31"/>
                  </a:lnTo>
                  <a:lnTo>
                    <a:pt x="73" y="29"/>
                  </a:lnTo>
                  <a:lnTo>
                    <a:pt x="42" y="40"/>
                  </a:lnTo>
                  <a:lnTo>
                    <a:pt x="27" y="4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9"/>
            <p:cNvSpPr/>
            <p:nvPr/>
          </p:nvSpPr>
          <p:spPr>
            <a:xfrm>
              <a:off x="2803680" y="5009760"/>
              <a:ext cx="40320" cy="24480"/>
            </a:xfrm>
            <a:custGeom>
              <a:avLst/>
              <a:gdLst>
                <a:gd name="textAreaLeft" fmla="*/ 0 w 40320"/>
                <a:gd name="textAreaRight" fmla="*/ 40320 w 403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5" h="58">
                  <a:moveTo>
                    <a:pt x="95" y="11"/>
                  </a:moveTo>
                  <a:lnTo>
                    <a:pt x="84" y="7"/>
                  </a:lnTo>
                  <a:lnTo>
                    <a:pt x="57" y="0"/>
                  </a:lnTo>
                  <a:lnTo>
                    <a:pt x="28" y="0"/>
                  </a:lnTo>
                  <a:lnTo>
                    <a:pt x="17" y="4"/>
                  </a:lnTo>
                  <a:lnTo>
                    <a:pt x="8" y="13"/>
                  </a:lnTo>
                  <a:lnTo>
                    <a:pt x="0" y="49"/>
                  </a:lnTo>
                  <a:lnTo>
                    <a:pt x="11" y="58"/>
                  </a:lnTo>
                  <a:lnTo>
                    <a:pt x="28" y="49"/>
                  </a:lnTo>
                  <a:lnTo>
                    <a:pt x="37" y="40"/>
                  </a:lnTo>
                  <a:lnTo>
                    <a:pt x="62" y="58"/>
                  </a:lnTo>
                  <a:lnTo>
                    <a:pt x="95" y="11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0"/>
            <p:cNvSpPr/>
            <p:nvPr/>
          </p:nvSpPr>
          <p:spPr>
            <a:xfrm>
              <a:off x="3378960" y="3875040"/>
              <a:ext cx="533520" cy="5022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255" h="1181">
                  <a:moveTo>
                    <a:pt x="0" y="0"/>
                  </a:moveTo>
                  <a:lnTo>
                    <a:pt x="15" y="11"/>
                  </a:lnTo>
                  <a:lnTo>
                    <a:pt x="22" y="18"/>
                  </a:lnTo>
                  <a:lnTo>
                    <a:pt x="31" y="27"/>
                  </a:lnTo>
                  <a:lnTo>
                    <a:pt x="42" y="36"/>
                  </a:lnTo>
                  <a:lnTo>
                    <a:pt x="53" y="45"/>
                  </a:lnTo>
                  <a:lnTo>
                    <a:pt x="66" y="58"/>
                  </a:lnTo>
                  <a:lnTo>
                    <a:pt x="82" y="71"/>
                  </a:lnTo>
                  <a:lnTo>
                    <a:pt x="86" y="78"/>
                  </a:lnTo>
                  <a:lnTo>
                    <a:pt x="95" y="85"/>
                  </a:lnTo>
                  <a:lnTo>
                    <a:pt x="104" y="91"/>
                  </a:lnTo>
                  <a:lnTo>
                    <a:pt x="111" y="100"/>
                  </a:lnTo>
                  <a:lnTo>
                    <a:pt x="122" y="107"/>
                  </a:lnTo>
                  <a:lnTo>
                    <a:pt x="131" y="116"/>
                  </a:lnTo>
                  <a:lnTo>
                    <a:pt x="140" y="122"/>
                  </a:lnTo>
                  <a:lnTo>
                    <a:pt x="148" y="131"/>
                  </a:lnTo>
                  <a:lnTo>
                    <a:pt x="160" y="140"/>
                  </a:lnTo>
                  <a:lnTo>
                    <a:pt x="168" y="149"/>
                  </a:lnTo>
                  <a:lnTo>
                    <a:pt x="180" y="158"/>
                  </a:lnTo>
                  <a:lnTo>
                    <a:pt x="191" y="169"/>
                  </a:lnTo>
                  <a:lnTo>
                    <a:pt x="202" y="178"/>
                  </a:lnTo>
                  <a:lnTo>
                    <a:pt x="213" y="186"/>
                  </a:lnTo>
                  <a:lnTo>
                    <a:pt x="224" y="198"/>
                  </a:lnTo>
                  <a:lnTo>
                    <a:pt x="235" y="206"/>
                  </a:lnTo>
                  <a:lnTo>
                    <a:pt x="248" y="218"/>
                  </a:lnTo>
                  <a:lnTo>
                    <a:pt x="260" y="229"/>
                  </a:lnTo>
                  <a:lnTo>
                    <a:pt x="271" y="240"/>
                  </a:lnTo>
                  <a:lnTo>
                    <a:pt x="284" y="251"/>
                  </a:lnTo>
                  <a:lnTo>
                    <a:pt x="295" y="262"/>
                  </a:lnTo>
                  <a:lnTo>
                    <a:pt x="308" y="273"/>
                  </a:lnTo>
                  <a:lnTo>
                    <a:pt x="322" y="284"/>
                  </a:lnTo>
                  <a:lnTo>
                    <a:pt x="335" y="295"/>
                  </a:lnTo>
                  <a:lnTo>
                    <a:pt x="348" y="306"/>
                  </a:lnTo>
                  <a:lnTo>
                    <a:pt x="362" y="317"/>
                  </a:lnTo>
                  <a:lnTo>
                    <a:pt x="375" y="331"/>
                  </a:lnTo>
                  <a:lnTo>
                    <a:pt x="388" y="342"/>
                  </a:lnTo>
                  <a:lnTo>
                    <a:pt x="402" y="353"/>
                  </a:lnTo>
                  <a:lnTo>
                    <a:pt x="415" y="366"/>
                  </a:lnTo>
                  <a:lnTo>
                    <a:pt x="428" y="377"/>
                  </a:lnTo>
                  <a:lnTo>
                    <a:pt x="444" y="390"/>
                  </a:lnTo>
                  <a:lnTo>
                    <a:pt x="457" y="401"/>
                  </a:lnTo>
                  <a:lnTo>
                    <a:pt x="471" y="415"/>
                  </a:lnTo>
                  <a:lnTo>
                    <a:pt x="486" y="428"/>
                  </a:lnTo>
                  <a:lnTo>
                    <a:pt x="499" y="439"/>
                  </a:lnTo>
                  <a:lnTo>
                    <a:pt x="513" y="452"/>
                  </a:lnTo>
                  <a:lnTo>
                    <a:pt x="528" y="466"/>
                  </a:lnTo>
                  <a:lnTo>
                    <a:pt x="542" y="479"/>
                  </a:lnTo>
                  <a:lnTo>
                    <a:pt x="557" y="490"/>
                  </a:lnTo>
                  <a:lnTo>
                    <a:pt x="571" y="503"/>
                  </a:lnTo>
                  <a:lnTo>
                    <a:pt x="586" y="517"/>
                  </a:lnTo>
                  <a:lnTo>
                    <a:pt x="599" y="530"/>
                  </a:lnTo>
                  <a:lnTo>
                    <a:pt x="615" y="541"/>
                  </a:lnTo>
                  <a:lnTo>
                    <a:pt x="631" y="554"/>
                  </a:lnTo>
                  <a:lnTo>
                    <a:pt x="644" y="568"/>
                  </a:lnTo>
                  <a:lnTo>
                    <a:pt x="657" y="581"/>
                  </a:lnTo>
                  <a:lnTo>
                    <a:pt x="673" y="594"/>
                  </a:lnTo>
                  <a:lnTo>
                    <a:pt x="688" y="605"/>
                  </a:lnTo>
                  <a:lnTo>
                    <a:pt x="702" y="619"/>
                  </a:lnTo>
                  <a:lnTo>
                    <a:pt x="715" y="632"/>
                  </a:lnTo>
                  <a:lnTo>
                    <a:pt x="731" y="645"/>
                  </a:lnTo>
                  <a:lnTo>
                    <a:pt x="744" y="656"/>
                  </a:lnTo>
                  <a:lnTo>
                    <a:pt x="759" y="670"/>
                  </a:lnTo>
                  <a:lnTo>
                    <a:pt x="773" y="683"/>
                  </a:lnTo>
                  <a:lnTo>
                    <a:pt x="786" y="696"/>
                  </a:lnTo>
                  <a:lnTo>
                    <a:pt x="802" y="707"/>
                  </a:lnTo>
                  <a:lnTo>
                    <a:pt x="815" y="720"/>
                  </a:lnTo>
                  <a:lnTo>
                    <a:pt x="828" y="732"/>
                  </a:lnTo>
                  <a:lnTo>
                    <a:pt x="842" y="745"/>
                  </a:lnTo>
                  <a:lnTo>
                    <a:pt x="857" y="756"/>
                  </a:lnTo>
                  <a:lnTo>
                    <a:pt x="870" y="769"/>
                  </a:lnTo>
                  <a:lnTo>
                    <a:pt x="884" y="780"/>
                  </a:lnTo>
                  <a:lnTo>
                    <a:pt x="897" y="791"/>
                  </a:lnTo>
                  <a:lnTo>
                    <a:pt x="908" y="805"/>
                  </a:lnTo>
                  <a:lnTo>
                    <a:pt x="922" y="816"/>
                  </a:lnTo>
                  <a:lnTo>
                    <a:pt x="935" y="827"/>
                  </a:lnTo>
                  <a:lnTo>
                    <a:pt x="948" y="838"/>
                  </a:lnTo>
                  <a:lnTo>
                    <a:pt x="959" y="849"/>
                  </a:lnTo>
                  <a:lnTo>
                    <a:pt x="973" y="860"/>
                  </a:lnTo>
                  <a:lnTo>
                    <a:pt x="984" y="871"/>
                  </a:lnTo>
                  <a:lnTo>
                    <a:pt x="997" y="882"/>
                  </a:lnTo>
                  <a:lnTo>
                    <a:pt x="1008" y="893"/>
                  </a:lnTo>
                  <a:lnTo>
                    <a:pt x="1019" y="904"/>
                  </a:lnTo>
                  <a:lnTo>
                    <a:pt x="1030" y="913"/>
                  </a:lnTo>
                  <a:lnTo>
                    <a:pt x="1042" y="924"/>
                  </a:lnTo>
                  <a:lnTo>
                    <a:pt x="1053" y="933"/>
                  </a:lnTo>
                  <a:lnTo>
                    <a:pt x="1064" y="944"/>
                  </a:lnTo>
                  <a:lnTo>
                    <a:pt x="1075" y="953"/>
                  </a:lnTo>
                  <a:lnTo>
                    <a:pt x="1084" y="962"/>
                  </a:lnTo>
                  <a:lnTo>
                    <a:pt x="1095" y="973"/>
                  </a:lnTo>
                  <a:lnTo>
                    <a:pt x="1104" y="982"/>
                  </a:lnTo>
                  <a:lnTo>
                    <a:pt x="1115" y="989"/>
                  </a:lnTo>
                  <a:lnTo>
                    <a:pt x="1124" y="997"/>
                  </a:lnTo>
                  <a:lnTo>
                    <a:pt x="1133" y="1006"/>
                  </a:lnTo>
                  <a:lnTo>
                    <a:pt x="1142" y="1015"/>
                  </a:lnTo>
                  <a:lnTo>
                    <a:pt x="1148" y="1022"/>
                  </a:lnTo>
                  <a:lnTo>
                    <a:pt x="1157" y="1031"/>
                  </a:lnTo>
                  <a:lnTo>
                    <a:pt x="1166" y="1037"/>
                  </a:lnTo>
                  <a:lnTo>
                    <a:pt x="1173" y="1044"/>
                  </a:lnTo>
                  <a:lnTo>
                    <a:pt x="1179" y="1051"/>
                  </a:lnTo>
                  <a:lnTo>
                    <a:pt x="1186" y="1057"/>
                  </a:lnTo>
                  <a:lnTo>
                    <a:pt x="1199" y="1068"/>
                  </a:lnTo>
                  <a:lnTo>
                    <a:pt x="1210" y="1079"/>
                  </a:lnTo>
                  <a:lnTo>
                    <a:pt x="1219" y="1090"/>
                  </a:lnTo>
                  <a:lnTo>
                    <a:pt x="1228" y="1097"/>
                  </a:lnTo>
                  <a:lnTo>
                    <a:pt x="1239" y="1110"/>
                  </a:lnTo>
                  <a:lnTo>
                    <a:pt x="1246" y="1117"/>
                  </a:lnTo>
                  <a:lnTo>
                    <a:pt x="1255" y="1170"/>
                  </a:lnTo>
                  <a:lnTo>
                    <a:pt x="1248" y="1177"/>
                  </a:lnTo>
                  <a:lnTo>
                    <a:pt x="1239" y="1181"/>
                  </a:lnTo>
                  <a:lnTo>
                    <a:pt x="1208" y="1181"/>
                  </a:lnTo>
                  <a:lnTo>
                    <a:pt x="1188" y="1172"/>
                  </a:lnTo>
                  <a:lnTo>
                    <a:pt x="1177" y="1164"/>
                  </a:lnTo>
                  <a:lnTo>
                    <a:pt x="1166" y="1153"/>
                  </a:lnTo>
                  <a:lnTo>
                    <a:pt x="1155" y="1141"/>
                  </a:lnTo>
                  <a:lnTo>
                    <a:pt x="1144" y="1126"/>
                  </a:lnTo>
                  <a:lnTo>
                    <a:pt x="1122" y="1097"/>
                  </a:lnTo>
                  <a:lnTo>
                    <a:pt x="1099" y="1066"/>
                  </a:lnTo>
                  <a:lnTo>
                    <a:pt x="1093" y="1057"/>
                  </a:lnTo>
                  <a:lnTo>
                    <a:pt x="1088" y="1051"/>
                  </a:lnTo>
                  <a:lnTo>
                    <a:pt x="1082" y="1042"/>
                  </a:lnTo>
                  <a:lnTo>
                    <a:pt x="1075" y="1035"/>
                  </a:lnTo>
                  <a:lnTo>
                    <a:pt x="1070" y="1028"/>
                  </a:lnTo>
                  <a:lnTo>
                    <a:pt x="1064" y="1022"/>
                  </a:lnTo>
                  <a:lnTo>
                    <a:pt x="1053" y="1011"/>
                  </a:lnTo>
                  <a:lnTo>
                    <a:pt x="1039" y="1000"/>
                  </a:lnTo>
                  <a:lnTo>
                    <a:pt x="1028" y="991"/>
                  </a:lnTo>
                  <a:lnTo>
                    <a:pt x="1017" y="986"/>
                  </a:lnTo>
                  <a:lnTo>
                    <a:pt x="1004" y="982"/>
                  </a:lnTo>
                  <a:lnTo>
                    <a:pt x="979" y="975"/>
                  </a:lnTo>
                  <a:lnTo>
                    <a:pt x="933" y="969"/>
                  </a:lnTo>
                  <a:lnTo>
                    <a:pt x="893" y="953"/>
                  </a:lnTo>
                  <a:lnTo>
                    <a:pt x="866" y="911"/>
                  </a:lnTo>
                  <a:lnTo>
                    <a:pt x="855" y="880"/>
                  </a:lnTo>
                  <a:lnTo>
                    <a:pt x="846" y="853"/>
                  </a:lnTo>
                  <a:lnTo>
                    <a:pt x="837" y="827"/>
                  </a:lnTo>
                  <a:lnTo>
                    <a:pt x="828" y="805"/>
                  </a:lnTo>
                  <a:lnTo>
                    <a:pt x="819" y="785"/>
                  </a:lnTo>
                  <a:lnTo>
                    <a:pt x="808" y="769"/>
                  </a:lnTo>
                  <a:lnTo>
                    <a:pt x="797" y="760"/>
                  </a:lnTo>
                  <a:lnTo>
                    <a:pt x="784" y="758"/>
                  </a:lnTo>
                  <a:lnTo>
                    <a:pt x="755" y="751"/>
                  </a:lnTo>
                  <a:lnTo>
                    <a:pt x="726" y="738"/>
                  </a:lnTo>
                  <a:lnTo>
                    <a:pt x="704" y="727"/>
                  </a:lnTo>
                  <a:lnTo>
                    <a:pt x="693" y="720"/>
                  </a:lnTo>
                  <a:lnTo>
                    <a:pt x="675" y="667"/>
                  </a:lnTo>
                  <a:lnTo>
                    <a:pt x="586" y="641"/>
                  </a:lnTo>
                  <a:lnTo>
                    <a:pt x="577" y="634"/>
                  </a:lnTo>
                  <a:lnTo>
                    <a:pt x="568" y="625"/>
                  </a:lnTo>
                  <a:lnTo>
                    <a:pt x="557" y="614"/>
                  </a:lnTo>
                  <a:lnTo>
                    <a:pt x="544" y="601"/>
                  </a:lnTo>
                  <a:lnTo>
                    <a:pt x="535" y="594"/>
                  </a:lnTo>
                  <a:lnTo>
                    <a:pt x="528" y="588"/>
                  </a:lnTo>
                  <a:lnTo>
                    <a:pt x="519" y="579"/>
                  </a:lnTo>
                  <a:lnTo>
                    <a:pt x="511" y="570"/>
                  </a:lnTo>
                  <a:lnTo>
                    <a:pt x="502" y="563"/>
                  </a:lnTo>
                  <a:lnTo>
                    <a:pt x="493" y="554"/>
                  </a:lnTo>
                  <a:lnTo>
                    <a:pt x="486" y="545"/>
                  </a:lnTo>
                  <a:lnTo>
                    <a:pt x="477" y="537"/>
                  </a:lnTo>
                  <a:lnTo>
                    <a:pt x="468" y="530"/>
                  </a:lnTo>
                  <a:lnTo>
                    <a:pt x="459" y="521"/>
                  </a:lnTo>
                  <a:lnTo>
                    <a:pt x="451" y="512"/>
                  </a:lnTo>
                  <a:lnTo>
                    <a:pt x="444" y="503"/>
                  </a:lnTo>
                  <a:lnTo>
                    <a:pt x="437" y="494"/>
                  </a:lnTo>
                  <a:lnTo>
                    <a:pt x="428" y="488"/>
                  </a:lnTo>
                  <a:lnTo>
                    <a:pt x="395" y="441"/>
                  </a:lnTo>
                  <a:lnTo>
                    <a:pt x="388" y="421"/>
                  </a:lnTo>
                  <a:lnTo>
                    <a:pt x="371" y="395"/>
                  </a:lnTo>
                  <a:lnTo>
                    <a:pt x="348" y="359"/>
                  </a:lnTo>
                  <a:lnTo>
                    <a:pt x="335" y="342"/>
                  </a:lnTo>
                  <a:lnTo>
                    <a:pt x="328" y="331"/>
                  </a:lnTo>
                  <a:lnTo>
                    <a:pt x="320" y="322"/>
                  </a:lnTo>
                  <a:lnTo>
                    <a:pt x="313" y="313"/>
                  </a:lnTo>
                  <a:lnTo>
                    <a:pt x="304" y="304"/>
                  </a:lnTo>
                  <a:lnTo>
                    <a:pt x="297" y="295"/>
                  </a:lnTo>
                  <a:lnTo>
                    <a:pt x="288" y="286"/>
                  </a:lnTo>
                  <a:lnTo>
                    <a:pt x="282" y="277"/>
                  </a:lnTo>
                  <a:lnTo>
                    <a:pt x="273" y="268"/>
                  </a:lnTo>
                  <a:lnTo>
                    <a:pt x="266" y="262"/>
                  </a:lnTo>
                  <a:lnTo>
                    <a:pt x="257" y="253"/>
                  </a:lnTo>
                  <a:lnTo>
                    <a:pt x="248" y="246"/>
                  </a:lnTo>
                  <a:lnTo>
                    <a:pt x="242" y="240"/>
                  </a:lnTo>
                  <a:lnTo>
                    <a:pt x="226" y="229"/>
                  </a:lnTo>
                  <a:lnTo>
                    <a:pt x="211" y="222"/>
                  </a:lnTo>
                  <a:lnTo>
                    <a:pt x="197" y="215"/>
                  </a:lnTo>
                  <a:lnTo>
                    <a:pt x="168" y="206"/>
                  </a:lnTo>
                  <a:lnTo>
                    <a:pt x="155" y="200"/>
                  </a:lnTo>
                  <a:lnTo>
                    <a:pt x="140" y="191"/>
                  </a:lnTo>
                  <a:lnTo>
                    <a:pt x="126" y="182"/>
                  </a:lnTo>
                  <a:lnTo>
                    <a:pt x="111" y="173"/>
                  </a:lnTo>
                  <a:lnTo>
                    <a:pt x="97" y="164"/>
                  </a:lnTo>
                  <a:lnTo>
                    <a:pt x="84" y="155"/>
                  </a:lnTo>
                  <a:lnTo>
                    <a:pt x="73" y="147"/>
                  </a:lnTo>
                  <a:lnTo>
                    <a:pt x="62" y="138"/>
                  </a:lnTo>
                  <a:lnTo>
                    <a:pt x="53" y="129"/>
                  </a:lnTo>
                  <a:lnTo>
                    <a:pt x="44" y="122"/>
                  </a:lnTo>
                  <a:lnTo>
                    <a:pt x="33" y="111"/>
                  </a:lnTo>
                  <a:lnTo>
                    <a:pt x="28" y="10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1"/>
            <p:cNvSpPr/>
            <p:nvPr/>
          </p:nvSpPr>
          <p:spPr>
            <a:xfrm>
              <a:off x="3950640" y="4431240"/>
              <a:ext cx="68760" cy="72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62" h="170">
                  <a:moveTo>
                    <a:pt x="0" y="0"/>
                  </a:moveTo>
                  <a:lnTo>
                    <a:pt x="26" y="6"/>
                  </a:lnTo>
                  <a:lnTo>
                    <a:pt x="51" y="13"/>
                  </a:lnTo>
                  <a:lnTo>
                    <a:pt x="82" y="24"/>
                  </a:lnTo>
                  <a:lnTo>
                    <a:pt x="111" y="37"/>
                  </a:lnTo>
                  <a:lnTo>
                    <a:pt x="137" y="53"/>
                  </a:lnTo>
                  <a:lnTo>
                    <a:pt x="162" y="90"/>
                  </a:lnTo>
                  <a:lnTo>
                    <a:pt x="160" y="108"/>
                  </a:lnTo>
                  <a:lnTo>
                    <a:pt x="149" y="126"/>
                  </a:lnTo>
                  <a:lnTo>
                    <a:pt x="140" y="133"/>
                  </a:lnTo>
                  <a:lnTo>
                    <a:pt x="131" y="139"/>
                  </a:lnTo>
                  <a:lnTo>
                    <a:pt x="122" y="146"/>
                  </a:lnTo>
                  <a:lnTo>
                    <a:pt x="113" y="150"/>
                  </a:lnTo>
                  <a:lnTo>
                    <a:pt x="95" y="159"/>
                  </a:lnTo>
                  <a:lnTo>
                    <a:pt x="80" y="166"/>
                  </a:lnTo>
                  <a:lnTo>
                    <a:pt x="64" y="170"/>
                  </a:lnTo>
                  <a:lnTo>
                    <a:pt x="46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2"/>
            <p:cNvSpPr/>
            <p:nvPr/>
          </p:nvSpPr>
          <p:spPr>
            <a:xfrm>
              <a:off x="3309840" y="4693320"/>
              <a:ext cx="74520" cy="14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76" h="35">
                  <a:moveTo>
                    <a:pt x="0" y="35"/>
                  </a:moveTo>
                  <a:lnTo>
                    <a:pt x="156" y="22"/>
                  </a:lnTo>
                  <a:lnTo>
                    <a:pt x="176" y="0"/>
                  </a:lnTo>
                  <a:lnTo>
                    <a:pt x="125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3"/>
            <p:cNvSpPr/>
            <p:nvPr/>
          </p:nvSpPr>
          <p:spPr>
            <a:xfrm>
              <a:off x="2749680" y="4918320"/>
              <a:ext cx="68760" cy="460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62" h="109">
                  <a:moveTo>
                    <a:pt x="0" y="0"/>
                  </a:moveTo>
                  <a:lnTo>
                    <a:pt x="9" y="9"/>
                  </a:lnTo>
                  <a:lnTo>
                    <a:pt x="15" y="18"/>
                  </a:lnTo>
                  <a:lnTo>
                    <a:pt x="27" y="29"/>
                  </a:lnTo>
                  <a:lnTo>
                    <a:pt x="33" y="33"/>
                  </a:lnTo>
                  <a:lnTo>
                    <a:pt x="40" y="40"/>
                  </a:lnTo>
                  <a:lnTo>
                    <a:pt x="53" y="56"/>
                  </a:lnTo>
                  <a:lnTo>
                    <a:pt x="62" y="62"/>
                  </a:lnTo>
                  <a:lnTo>
                    <a:pt x="69" y="69"/>
                  </a:lnTo>
                  <a:lnTo>
                    <a:pt x="78" y="75"/>
                  </a:lnTo>
                  <a:lnTo>
                    <a:pt x="87" y="82"/>
                  </a:lnTo>
                  <a:lnTo>
                    <a:pt x="104" y="93"/>
                  </a:lnTo>
                  <a:lnTo>
                    <a:pt x="118" y="102"/>
                  </a:lnTo>
                  <a:lnTo>
                    <a:pt x="142" y="109"/>
                  </a:lnTo>
                  <a:lnTo>
                    <a:pt x="162" y="109"/>
                  </a:lnTo>
                  <a:lnTo>
                    <a:pt x="138" y="75"/>
                  </a:lnTo>
                  <a:lnTo>
                    <a:pt x="6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4"/>
            <p:cNvSpPr/>
            <p:nvPr/>
          </p:nvSpPr>
          <p:spPr>
            <a:xfrm>
              <a:off x="3297600" y="4876920"/>
              <a:ext cx="60120" cy="36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2" h="86">
                  <a:moveTo>
                    <a:pt x="35" y="0"/>
                  </a:moveTo>
                  <a:lnTo>
                    <a:pt x="55" y="9"/>
                  </a:lnTo>
                  <a:lnTo>
                    <a:pt x="75" y="17"/>
                  </a:lnTo>
                  <a:lnTo>
                    <a:pt x="95" y="28"/>
                  </a:lnTo>
                  <a:lnTo>
                    <a:pt x="117" y="40"/>
                  </a:lnTo>
                  <a:lnTo>
                    <a:pt x="133" y="53"/>
                  </a:lnTo>
                  <a:lnTo>
                    <a:pt x="142" y="64"/>
                  </a:lnTo>
                  <a:lnTo>
                    <a:pt x="142" y="75"/>
                  </a:lnTo>
                  <a:lnTo>
                    <a:pt x="133" y="82"/>
                  </a:lnTo>
                  <a:lnTo>
                    <a:pt x="124" y="86"/>
                  </a:lnTo>
                  <a:lnTo>
                    <a:pt x="106" y="86"/>
                  </a:lnTo>
                  <a:lnTo>
                    <a:pt x="86" y="82"/>
                  </a:lnTo>
                  <a:lnTo>
                    <a:pt x="0" y="2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5"/>
            <p:cNvSpPr/>
            <p:nvPr/>
          </p:nvSpPr>
          <p:spPr>
            <a:xfrm>
              <a:off x="3242880" y="4892040"/>
              <a:ext cx="57960" cy="306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37" h="73">
                  <a:moveTo>
                    <a:pt x="0" y="0"/>
                  </a:moveTo>
                  <a:lnTo>
                    <a:pt x="64" y="0"/>
                  </a:lnTo>
                  <a:lnTo>
                    <a:pt x="137" y="62"/>
                  </a:lnTo>
                  <a:lnTo>
                    <a:pt x="80" y="7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6"/>
            <p:cNvSpPr/>
            <p:nvPr/>
          </p:nvSpPr>
          <p:spPr>
            <a:xfrm>
              <a:off x="3181320" y="4898520"/>
              <a:ext cx="65160" cy="392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54" h="93">
                  <a:moveTo>
                    <a:pt x="45" y="0"/>
                  </a:moveTo>
                  <a:lnTo>
                    <a:pt x="102" y="55"/>
                  </a:lnTo>
                  <a:lnTo>
                    <a:pt x="154" y="62"/>
                  </a:lnTo>
                  <a:lnTo>
                    <a:pt x="142" y="93"/>
                  </a:lnTo>
                  <a:lnTo>
                    <a:pt x="91" y="82"/>
                  </a:lnTo>
                  <a:lnTo>
                    <a:pt x="0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7"/>
            <p:cNvSpPr/>
            <p:nvPr/>
          </p:nvSpPr>
          <p:spPr>
            <a:xfrm>
              <a:off x="3393720" y="4859280"/>
              <a:ext cx="39240" cy="327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3" h="77">
                  <a:moveTo>
                    <a:pt x="0" y="0"/>
                  </a:moveTo>
                  <a:lnTo>
                    <a:pt x="49" y="77"/>
                  </a:lnTo>
                  <a:lnTo>
                    <a:pt x="71" y="77"/>
                  </a:lnTo>
                  <a:lnTo>
                    <a:pt x="87" y="73"/>
                  </a:lnTo>
                  <a:lnTo>
                    <a:pt x="93" y="57"/>
                  </a:lnTo>
                  <a:lnTo>
                    <a:pt x="87" y="37"/>
                  </a:lnTo>
                  <a:lnTo>
                    <a:pt x="73" y="17"/>
                  </a:lnTo>
                  <a:lnTo>
                    <a:pt x="67" y="11"/>
                  </a:lnTo>
                  <a:lnTo>
                    <a:pt x="60" y="4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8"/>
            <p:cNvSpPr/>
            <p:nvPr/>
          </p:nvSpPr>
          <p:spPr>
            <a:xfrm>
              <a:off x="3123720" y="4900320"/>
              <a:ext cx="46080" cy="378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9" h="89">
                  <a:moveTo>
                    <a:pt x="40" y="89"/>
                  </a:moveTo>
                  <a:lnTo>
                    <a:pt x="0" y="27"/>
                  </a:lnTo>
                  <a:lnTo>
                    <a:pt x="31" y="0"/>
                  </a:lnTo>
                  <a:lnTo>
                    <a:pt x="109" y="73"/>
                  </a:lnTo>
                  <a:lnTo>
                    <a:pt x="57" y="67"/>
                  </a:lnTo>
                  <a:lnTo>
                    <a:pt x="40" y="89"/>
                  </a:lnTo>
                  <a:lnTo>
                    <a:pt x="4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9"/>
            <p:cNvSpPr/>
            <p:nvPr/>
          </p:nvSpPr>
          <p:spPr>
            <a:xfrm>
              <a:off x="2470680" y="3506760"/>
              <a:ext cx="199440" cy="6537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469" h="1538">
                  <a:moveTo>
                    <a:pt x="0" y="33"/>
                  </a:moveTo>
                  <a:lnTo>
                    <a:pt x="3" y="148"/>
                  </a:lnTo>
                  <a:lnTo>
                    <a:pt x="7" y="275"/>
                  </a:lnTo>
                  <a:lnTo>
                    <a:pt x="14" y="428"/>
                  </a:lnTo>
                  <a:lnTo>
                    <a:pt x="20" y="510"/>
                  </a:lnTo>
                  <a:lnTo>
                    <a:pt x="27" y="596"/>
                  </a:lnTo>
                  <a:lnTo>
                    <a:pt x="36" y="680"/>
                  </a:lnTo>
                  <a:lnTo>
                    <a:pt x="47" y="762"/>
                  </a:lnTo>
                  <a:lnTo>
                    <a:pt x="58" y="842"/>
                  </a:lnTo>
                  <a:lnTo>
                    <a:pt x="74" y="917"/>
                  </a:lnTo>
                  <a:lnTo>
                    <a:pt x="83" y="953"/>
                  </a:lnTo>
                  <a:lnTo>
                    <a:pt x="92" y="986"/>
                  </a:lnTo>
                  <a:lnTo>
                    <a:pt x="100" y="1017"/>
                  </a:lnTo>
                  <a:lnTo>
                    <a:pt x="109" y="1046"/>
                  </a:lnTo>
                  <a:lnTo>
                    <a:pt x="120" y="1075"/>
                  </a:lnTo>
                  <a:lnTo>
                    <a:pt x="132" y="1101"/>
                  </a:lnTo>
                  <a:lnTo>
                    <a:pt x="140" y="1128"/>
                  </a:lnTo>
                  <a:lnTo>
                    <a:pt x="152" y="1152"/>
                  </a:lnTo>
                  <a:lnTo>
                    <a:pt x="163" y="1177"/>
                  </a:lnTo>
                  <a:lnTo>
                    <a:pt x="172" y="1201"/>
                  </a:lnTo>
                  <a:lnTo>
                    <a:pt x="183" y="1225"/>
                  </a:lnTo>
                  <a:lnTo>
                    <a:pt x="194" y="1247"/>
                  </a:lnTo>
                  <a:lnTo>
                    <a:pt x="203" y="1270"/>
                  </a:lnTo>
                  <a:lnTo>
                    <a:pt x="214" y="1292"/>
                  </a:lnTo>
                  <a:lnTo>
                    <a:pt x="223" y="1312"/>
                  </a:lnTo>
                  <a:lnTo>
                    <a:pt x="234" y="1332"/>
                  </a:lnTo>
                  <a:lnTo>
                    <a:pt x="254" y="1369"/>
                  </a:lnTo>
                  <a:lnTo>
                    <a:pt x="274" y="1403"/>
                  </a:lnTo>
                  <a:lnTo>
                    <a:pt x="292" y="1434"/>
                  </a:lnTo>
                  <a:lnTo>
                    <a:pt x="309" y="1460"/>
                  </a:lnTo>
                  <a:lnTo>
                    <a:pt x="325" y="1482"/>
                  </a:lnTo>
                  <a:lnTo>
                    <a:pt x="334" y="1493"/>
                  </a:lnTo>
                  <a:lnTo>
                    <a:pt x="340" y="1502"/>
                  </a:lnTo>
                  <a:lnTo>
                    <a:pt x="349" y="1511"/>
                  </a:lnTo>
                  <a:lnTo>
                    <a:pt x="356" y="1518"/>
                  </a:lnTo>
                  <a:lnTo>
                    <a:pt x="369" y="1529"/>
                  </a:lnTo>
                  <a:lnTo>
                    <a:pt x="380" y="1536"/>
                  </a:lnTo>
                  <a:lnTo>
                    <a:pt x="392" y="1538"/>
                  </a:lnTo>
                  <a:lnTo>
                    <a:pt x="425" y="1533"/>
                  </a:lnTo>
                  <a:lnTo>
                    <a:pt x="449" y="1522"/>
                  </a:lnTo>
                  <a:lnTo>
                    <a:pt x="465" y="1511"/>
                  </a:lnTo>
                  <a:lnTo>
                    <a:pt x="469" y="1507"/>
                  </a:lnTo>
                  <a:lnTo>
                    <a:pt x="452" y="1478"/>
                  </a:lnTo>
                  <a:lnTo>
                    <a:pt x="436" y="1449"/>
                  </a:lnTo>
                  <a:lnTo>
                    <a:pt x="414" y="1416"/>
                  </a:lnTo>
                  <a:lnTo>
                    <a:pt x="396" y="1387"/>
                  </a:lnTo>
                  <a:lnTo>
                    <a:pt x="383" y="1363"/>
                  </a:lnTo>
                  <a:lnTo>
                    <a:pt x="367" y="1334"/>
                  </a:lnTo>
                  <a:lnTo>
                    <a:pt x="349" y="1298"/>
                  </a:lnTo>
                  <a:lnTo>
                    <a:pt x="329" y="1259"/>
                  </a:lnTo>
                  <a:lnTo>
                    <a:pt x="318" y="1239"/>
                  </a:lnTo>
                  <a:lnTo>
                    <a:pt x="307" y="1216"/>
                  </a:lnTo>
                  <a:lnTo>
                    <a:pt x="298" y="1192"/>
                  </a:lnTo>
                  <a:lnTo>
                    <a:pt x="287" y="1168"/>
                  </a:lnTo>
                  <a:lnTo>
                    <a:pt x="276" y="1143"/>
                  </a:lnTo>
                  <a:lnTo>
                    <a:pt x="265" y="1119"/>
                  </a:lnTo>
                  <a:lnTo>
                    <a:pt x="254" y="1092"/>
                  </a:lnTo>
                  <a:lnTo>
                    <a:pt x="243" y="1066"/>
                  </a:lnTo>
                  <a:lnTo>
                    <a:pt x="234" y="1037"/>
                  </a:lnTo>
                  <a:lnTo>
                    <a:pt x="223" y="1010"/>
                  </a:lnTo>
                  <a:lnTo>
                    <a:pt x="214" y="982"/>
                  </a:lnTo>
                  <a:lnTo>
                    <a:pt x="203" y="953"/>
                  </a:lnTo>
                  <a:lnTo>
                    <a:pt x="187" y="895"/>
                  </a:lnTo>
                  <a:lnTo>
                    <a:pt x="172" y="835"/>
                  </a:lnTo>
                  <a:lnTo>
                    <a:pt x="149" y="718"/>
                  </a:lnTo>
                  <a:lnTo>
                    <a:pt x="140" y="663"/>
                  </a:lnTo>
                  <a:lnTo>
                    <a:pt x="132" y="614"/>
                  </a:lnTo>
                  <a:lnTo>
                    <a:pt x="123" y="567"/>
                  </a:lnTo>
                  <a:lnTo>
                    <a:pt x="112" y="527"/>
                  </a:lnTo>
                  <a:lnTo>
                    <a:pt x="100" y="492"/>
                  </a:lnTo>
                  <a:lnTo>
                    <a:pt x="89" y="459"/>
                  </a:lnTo>
                  <a:lnTo>
                    <a:pt x="80" y="430"/>
                  </a:lnTo>
                  <a:lnTo>
                    <a:pt x="69" y="406"/>
                  </a:lnTo>
                  <a:lnTo>
                    <a:pt x="60" y="383"/>
                  </a:lnTo>
                  <a:lnTo>
                    <a:pt x="52" y="363"/>
                  </a:lnTo>
                  <a:lnTo>
                    <a:pt x="38" y="328"/>
                  </a:lnTo>
                  <a:lnTo>
                    <a:pt x="32" y="299"/>
                  </a:lnTo>
                  <a:lnTo>
                    <a:pt x="36" y="270"/>
                  </a:lnTo>
                  <a:lnTo>
                    <a:pt x="45" y="246"/>
                  </a:lnTo>
                  <a:lnTo>
                    <a:pt x="56" y="228"/>
                  </a:lnTo>
                  <a:lnTo>
                    <a:pt x="60" y="222"/>
                  </a:lnTo>
                  <a:lnTo>
                    <a:pt x="65" y="215"/>
                  </a:lnTo>
                  <a:lnTo>
                    <a:pt x="74" y="206"/>
                  </a:lnTo>
                  <a:lnTo>
                    <a:pt x="78" y="191"/>
                  </a:lnTo>
                  <a:lnTo>
                    <a:pt x="63" y="168"/>
                  </a:lnTo>
                  <a:lnTo>
                    <a:pt x="45" y="142"/>
                  </a:lnTo>
                  <a:lnTo>
                    <a:pt x="45" y="124"/>
                  </a:lnTo>
                  <a:lnTo>
                    <a:pt x="56" y="106"/>
                  </a:lnTo>
                  <a:lnTo>
                    <a:pt x="78" y="49"/>
                  </a:lnTo>
                  <a:lnTo>
                    <a:pt x="36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0"/>
            <p:cNvSpPr/>
            <p:nvPr/>
          </p:nvSpPr>
          <p:spPr>
            <a:xfrm>
              <a:off x="2462400" y="340596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1" h="146">
                  <a:moveTo>
                    <a:pt x="28" y="0"/>
                  </a:moveTo>
                  <a:lnTo>
                    <a:pt x="19" y="20"/>
                  </a:lnTo>
                  <a:lnTo>
                    <a:pt x="6" y="66"/>
                  </a:lnTo>
                  <a:lnTo>
                    <a:pt x="0" y="115"/>
                  </a:lnTo>
                  <a:lnTo>
                    <a:pt x="4" y="135"/>
                  </a:lnTo>
                  <a:lnTo>
                    <a:pt x="8" y="140"/>
                  </a:lnTo>
                  <a:lnTo>
                    <a:pt x="15" y="144"/>
                  </a:lnTo>
                  <a:lnTo>
                    <a:pt x="31" y="146"/>
                  </a:lnTo>
                  <a:lnTo>
                    <a:pt x="42" y="142"/>
                  </a:lnTo>
                  <a:lnTo>
                    <a:pt x="59" y="124"/>
                  </a:lnTo>
                  <a:lnTo>
                    <a:pt x="71" y="91"/>
                  </a:lnTo>
                  <a:lnTo>
                    <a:pt x="51" y="55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1"/>
            <p:cNvSpPr/>
            <p:nvPr/>
          </p:nvSpPr>
          <p:spPr>
            <a:xfrm>
              <a:off x="3213720" y="4323600"/>
              <a:ext cx="182160" cy="392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29" h="93">
                  <a:moveTo>
                    <a:pt x="104" y="7"/>
                  </a:moveTo>
                  <a:lnTo>
                    <a:pt x="173" y="0"/>
                  </a:lnTo>
                  <a:lnTo>
                    <a:pt x="293" y="7"/>
                  </a:lnTo>
                  <a:lnTo>
                    <a:pt x="344" y="20"/>
                  </a:lnTo>
                  <a:lnTo>
                    <a:pt x="386" y="33"/>
                  </a:lnTo>
                  <a:lnTo>
                    <a:pt x="417" y="49"/>
                  </a:lnTo>
                  <a:lnTo>
                    <a:pt x="429" y="60"/>
                  </a:lnTo>
                  <a:lnTo>
                    <a:pt x="422" y="73"/>
                  </a:lnTo>
                  <a:lnTo>
                    <a:pt x="413" y="80"/>
                  </a:lnTo>
                  <a:lnTo>
                    <a:pt x="402" y="84"/>
                  </a:lnTo>
                  <a:lnTo>
                    <a:pt x="377" y="93"/>
                  </a:lnTo>
                  <a:lnTo>
                    <a:pt x="355" y="93"/>
                  </a:lnTo>
                  <a:lnTo>
                    <a:pt x="306" y="84"/>
                  </a:lnTo>
                  <a:lnTo>
                    <a:pt x="226" y="75"/>
                  </a:lnTo>
                  <a:lnTo>
                    <a:pt x="151" y="69"/>
                  </a:lnTo>
                  <a:lnTo>
                    <a:pt x="118" y="64"/>
                  </a:lnTo>
                  <a:lnTo>
                    <a:pt x="0" y="33"/>
                  </a:lnTo>
                  <a:lnTo>
                    <a:pt x="104" y="7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2"/>
            <p:cNvSpPr/>
            <p:nvPr/>
          </p:nvSpPr>
          <p:spPr>
            <a:xfrm>
              <a:off x="2723400" y="4449240"/>
              <a:ext cx="122760" cy="385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89" h="91">
                  <a:moveTo>
                    <a:pt x="0" y="24"/>
                  </a:moveTo>
                  <a:lnTo>
                    <a:pt x="6" y="31"/>
                  </a:lnTo>
                  <a:lnTo>
                    <a:pt x="13" y="37"/>
                  </a:lnTo>
                  <a:lnTo>
                    <a:pt x="22" y="46"/>
                  </a:lnTo>
                  <a:lnTo>
                    <a:pt x="33" y="55"/>
                  </a:lnTo>
                  <a:lnTo>
                    <a:pt x="44" y="64"/>
                  </a:lnTo>
                  <a:lnTo>
                    <a:pt x="57" y="71"/>
                  </a:lnTo>
                  <a:lnTo>
                    <a:pt x="71" y="75"/>
                  </a:lnTo>
                  <a:lnTo>
                    <a:pt x="113" y="79"/>
                  </a:lnTo>
                  <a:lnTo>
                    <a:pt x="173" y="88"/>
                  </a:lnTo>
                  <a:lnTo>
                    <a:pt x="233" y="91"/>
                  </a:lnTo>
                  <a:lnTo>
                    <a:pt x="253" y="86"/>
                  </a:lnTo>
                  <a:lnTo>
                    <a:pt x="266" y="77"/>
                  </a:lnTo>
                  <a:lnTo>
                    <a:pt x="284" y="40"/>
                  </a:lnTo>
                  <a:lnTo>
                    <a:pt x="289" y="20"/>
                  </a:lnTo>
                  <a:lnTo>
                    <a:pt x="173" y="29"/>
                  </a:lnTo>
                  <a:lnTo>
                    <a:pt x="71" y="0"/>
                  </a:lnTo>
                  <a:lnTo>
                    <a:pt x="6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3"/>
            <p:cNvSpPr/>
            <p:nvPr/>
          </p:nvSpPr>
          <p:spPr>
            <a:xfrm>
              <a:off x="2750400" y="4379400"/>
              <a:ext cx="81720" cy="385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93" h="91">
                  <a:moveTo>
                    <a:pt x="193" y="40"/>
                  </a:moveTo>
                  <a:lnTo>
                    <a:pt x="191" y="55"/>
                  </a:lnTo>
                  <a:lnTo>
                    <a:pt x="182" y="68"/>
                  </a:lnTo>
                  <a:lnTo>
                    <a:pt x="173" y="75"/>
                  </a:lnTo>
                  <a:lnTo>
                    <a:pt x="162" y="77"/>
                  </a:lnTo>
                  <a:lnTo>
                    <a:pt x="131" y="84"/>
                  </a:lnTo>
                  <a:lnTo>
                    <a:pt x="91" y="91"/>
                  </a:lnTo>
                  <a:lnTo>
                    <a:pt x="53" y="88"/>
                  </a:lnTo>
                  <a:lnTo>
                    <a:pt x="22" y="71"/>
                  </a:lnTo>
                  <a:lnTo>
                    <a:pt x="0" y="31"/>
                  </a:lnTo>
                  <a:lnTo>
                    <a:pt x="9" y="22"/>
                  </a:lnTo>
                  <a:lnTo>
                    <a:pt x="31" y="15"/>
                  </a:lnTo>
                  <a:lnTo>
                    <a:pt x="87" y="6"/>
                  </a:lnTo>
                  <a:lnTo>
                    <a:pt x="125" y="0"/>
                  </a:lnTo>
                  <a:lnTo>
                    <a:pt x="142" y="6"/>
                  </a:lnTo>
                  <a:lnTo>
                    <a:pt x="153" y="13"/>
                  </a:lnTo>
                  <a:lnTo>
                    <a:pt x="165" y="20"/>
                  </a:lnTo>
                  <a:lnTo>
                    <a:pt x="176" y="26"/>
                  </a:lnTo>
                  <a:lnTo>
                    <a:pt x="185" y="33"/>
                  </a:lnTo>
                  <a:lnTo>
                    <a:pt x="193" y="40"/>
                  </a:lnTo>
                  <a:lnTo>
                    <a:pt x="19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4"/>
            <p:cNvSpPr/>
            <p:nvPr/>
          </p:nvSpPr>
          <p:spPr>
            <a:xfrm>
              <a:off x="3245400" y="4235400"/>
              <a:ext cx="32040" cy="3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76" h="73">
                  <a:moveTo>
                    <a:pt x="74" y="24"/>
                  </a:moveTo>
                  <a:lnTo>
                    <a:pt x="60" y="15"/>
                  </a:lnTo>
                  <a:lnTo>
                    <a:pt x="47" y="11"/>
                  </a:lnTo>
                  <a:lnTo>
                    <a:pt x="31" y="4"/>
                  </a:lnTo>
                  <a:lnTo>
                    <a:pt x="7" y="0"/>
                  </a:lnTo>
                  <a:lnTo>
                    <a:pt x="0" y="6"/>
                  </a:lnTo>
                  <a:lnTo>
                    <a:pt x="3" y="20"/>
                  </a:lnTo>
                  <a:lnTo>
                    <a:pt x="14" y="49"/>
                  </a:lnTo>
                  <a:lnTo>
                    <a:pt x="25" y="66"/>
                  </a:lnTo>
                  <a:lnTo>
                    <a:pt x="31" y="71"/>
                  </a:lnTo>
                  <a:lnTo>
                    <a:pt x="38" y="73"/>
                  </a:lnTo>
                  <a:lnTo>
                    <a:pt x="58" y="71"/>
                  </a:lnTo>
                  <a:lnTo>
                    <a:pt x="74" y="57"/>
                  </a:lnTo>
                  <a:lnTo>
                    <a:pt x="76" y="42"/>
                  </a:lnTo>
                  <a:lnTo>
                    <a:pt x="74" y="24"/>
                  </a:lnTo>
                  <a:lnTo>
                    <a:pt x="7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5"/>
            <p:cNvSpPr/>
            <p:nvPr/>
          </p:nvSpPr>
          <p:spPr>
            <a:xfrm>
              <a:off x="2721960" y="4253040"/>
              <a:ext cx="36720" cy="34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7" h="82">
                  <a:moveTo>
                    <a:pt x="0" y="44"/>
                  </a:moveTo>
                  <a:lnTo>
                    <a:pt x="7" y="35"/>
                  </a:lnTo>
                  <a:lnTo>
                    <a:pt x="14" y="26"/>
                  </a:lnTo>
                  <a:lnTo>
                    <a:pt x="20" y="15"/>
                  </a:lnTo>
                  <a:lnTo>
                    <a:pt x="29" y="9"/>
                  </a:lnTo>
                  <a:lnTo>
                    <a:pt x="38" y="2"/>
                  </a:lnTo>
                  <a:lnTo>
                    <a:pt x="54" y="0"/>
                  </a:lnTo>
                  <a:lnTo>
                    <a:pt x="60" y="9"/>
                  </a:lnTo>
                  <a:lnTo>
                    <a:pt x="69" y="18"/>
                  </a:lnTo>
                  <a:lnTo>
                    <a:pt x="83" y="38"/>
                  </a:lnTo>
                  <a:lnTo>
                    <a:pt x="87" y="60"/>
                  </a:lnTo>
                  <a:lnTo>
                    <a:pt x="80" y="71"/>
                  </a:lnTo>
                  <a:lnTo>
                    <a:pt x="69" y="80"/>
                  </a:lnTo>
                  <a:lnTo>
                    <a:pt x="43" y="82"/>
                  </a:lnTo>
                  <a:lnTo>
                    <a:pt x="20" y="69"/>
                  </a:lnTo>
                  <a:lnTo>
                    <a:pt x="12" y="60"/>
                  </a:lnTo>
                  <a:lnTo>
                    <a:pt x="5" y="5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6"/>
            <p:cNvSpPr/>
            <p:nvPr/>
          </p:nvSpPr>
          <p:spPr>
            <a:xfrm>
              <a:off x="3156480" y="4439880"/>
              <a:ext cx="38880" cy="270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2" h="64">
                  <a:moveTo>
                    <a:pt x="0" y="0"/>
                  </a:moveTo>
                  <a:lnTo>
                    <a:pt x="60" y="6"/>
                  </a:lnTo>
                  <a:lnTo>
                    <a:pt x="89" y="17"/>
                  </a:lnTo>
                  <a:lnTo>
                    <a:pt x="92" y="22"/>
                  </a:lnTo>
                  <a:lnTo>
                    <a:pt x="85" y="31"/>
                  </a:lnTo>
                  <a:lnTo>
                    <a:pt x="63" y="39"/>
                  </a:lnTo>
                  <a:lnTo>
                    <a:pt x="49" y="44"/>
                  </a:lnTo>
                  <a:lnTo>
                    <a:pt x="43" y="46"/>
                  </a:lnTo>
                  <a:lnTo>
                    <a:pt x="43" y="53"/>
                  </a:lnTo>
                  <a:lnTo>
                    <a:pt x="36" y="59"/>
                  </a:lnTo>
                  <a:lnTo>
                    <a:pt x="23" y="6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7"/>
            <p:cNvSpPr/>
            <p:nvPr/>
          </p:nvSpPr>
          <p:spPr>
            <a:xfrm>
              <a:off x="3294720" y="4533840"/>
              <a:ext cx="35640" cy="183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84" h="44">
                  <a:moveTo>
                    <a:pt x="4" y="0"/>
                  </a:moveTo>
                  <a:lnTo>
                    <a:pt x="82" y="7"/>
                  </a:lnTo>
                  <a:lnTo>
                    <a:pt x="84" y="31"/>
                  </a:lnTo>
                  <a:lnTo>
                    <a:pt x="55" y="38"/>
                  </a:lnTo>
                  <a:lnTo>
                    <a:pt x="20" y="44"/>
                  </a:lnTo>
                  <a:lnTo>
                    <a:pt x="7" y="33"/>
                  </a:lnTo>
                  <a:lnTo>
                    <a:pt x="0" y="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8"/>
            <p:cNvSpPr/>
            <p:nvPr/>
          </p:nvSpPr>
          <p:spPr>
            <a:xfrm>
              <a:off x="3413160" y="4546080"/>
              <a:ext cx="164160" cy="262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86" h="62">
                  <a:moveTo>
                    <a:pt x="42" y="20"/>
                  </a:moveTo>
                  <a:lnTo>
                    <a:pt x="113" y="0"/>
                  </a:lnTo>
                  <a:lnTo>
                    <a:pt x="131" y="4"/>
                  </a:lnTo>
                  <a:lnTo>
                    <a:pt x="173" y="11"/>
                  </a:lnTo>
                  <a:lnTo>
                    <a:pt x="224" y="15"/>
                  </a:lnTo>
                  <a:lnTo>
                    <a:pt x="264" y="18"/>
                  </a:lnTo>
                  <a:lnTo>
                    <a:pt x="326" y="11"/>
                  </a:lnTo>
                  <a:lnTo>
                    <a:pt x="366" y="13"/>
                  </a:lnTo>
                  <a:lnTo>
                    <a:pt x="373" y="22"/>
                  </a:lnTo>
                  <a:lnTo>
                    <a:pt x="379" y="31"/>
                  </a:lnTo>
                  <a:lnTo>
                    <a:pt x="386" y="46"/>
                  </a:lnTo>
                  <a:lnTo>
                    <a:pt x="377" y="51"/>
                  </a:lnTo>
                  <a:lnTo>
                    <a:pt x="346" y="46"/>
                  </a:lnTo>
                  <a:lnTo>
                    <a:pt x="297" y="46"/>
                  </a:lnTo>
                  <a:lnTo>
                    <a:pt x="266" y="53"/>
                  </a:lnTo>
                  <a:lnTo>
                    <a:pt x="206" y="42"/>
                  </a:lnTo>
                  <a:lnTo>
                    <a:pt x="166" y="33"/>
                  </a:lnTo>
                  <a:lnTo>
                    <a:pt x="140" y="35"/>
                  </a:lnTo>
                  <a:lnTo>
                    <a:pt x="128" y="44"/>
                  </a:lnTo>
                  <a:lnTo>
                    <a:pt x="120" y="53"/>
                  </a:lnTo>
                  <a:lnTo>
                    <a:pt x="113" y="62"/>
                  </a:lnTo>
                  <a:lnTo>
                    <a:pt x="106" y="62"/>
                  </a:lnTo>
                  <a:lnTo>
                    <a:pt x="48" y="58"/>
                  </a:lnTo>
                  <a:lnTo>
                    <a:pt x="0" y="55"/>
                  </a:lnTo>
                  <a:lnTo>
                    <a:pt x="42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9"/>
            <p:cNvSpPr/>
            <p:nvPr/>
          </p:nvSpPr>
          <p:spPr>
            <a:xfrm>
              <a:off x="3544200" y="4788000"/>
              <a:ext cx="143640" cy="424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38" h="100">
                  <a:moveTo>
                    <a:pt x="0" y="76"/>
                  </a:moveTo>
                  <a:lnTo>
                    <a:pt x="20" y="71"/>
                  </a:lnTo>
                  <a:lnTo>
                    <a:pt x="65" y="60"/>
                  </a:lnTo>
                  <a:lnTo>
                    <a:pt x="116" y="51"/>
                  </a:lnTo>
                  <a:lnTo>
                    <a:pt x="151" y="47"/>
                  </a:lnTo>
                  <a:lnTo>
                    <a:pt x="191" y="40"/>
                  </a:lnTo>
                  <a:lnTo>
                    <a:pt x="223" y="31"/>
                  </a:lnTo>
                  <a:lnTo>
                    <a:pt x="256" y="25"/>
                  </a:lnTo>
                  <a:lnTo>
                    <a:pt x="287" y="16"/>
                  </a:lnTo>
                  <a:lnTo>
                    <a:pt x="314" y="9"/>
                  </a:lnTo>
                  <a:lnTo>
                    <a:pt x="338" y="0"/>
                  </a:lnTo>
                  <a:lnTo>
                    <a:pt x="309" y="34"/>
                  </a:lnTo>
                  <a:lnTo>
                    <a:pt x="278" y="45"/>
                  </a:lnTo>
                  <a:lnTo>
                    <a:pt x="249" y="54"/>
                  </a:lnTo>
                  <a:lnTo>
                    <a:pt x="220" y="67"/>
                  </a:lnTo>
                  <a:lnTo>
                    <a:pt x="194" y="76"/>
                  </a:lnTo>
                  <a:lnTo>
                    <a:pt x="167" y="76"/>
                  </a:lnTo>
                  <a:lnTo>
                    <a:pt x="143" y="76"/>
                  </a:lnTo>
                  <a:lnTo>
                    <a:pt x="83" y="76"/>
                  </a:lnTo>
                  <a:lnTo>
                    <a:pt x="45" y="10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0"/>
            <p:cNvSpPr/>
            <p:nvPr/>
          </p:nvSpPr>
          <p:spPr>
            <a:xfrm>
              <a:off x="3509280" y="4864680"/>
              <a:ext cx="33120" cy="25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8" h="60">
                  <a:moveTo>
                    <a:pt x="25" y="0"/>
                  </a:moveTo>
                  <a:lnTo>
                    <a:pt x="33" y="4"/>
                  </a:lnTo>
                  <a:lnTo>
                    <a:pt x="51" y="13"/>
                  </a:lnTo>
                  <a:lnTo>
                    <a:pt x="69" y="29"/>
                  </a:lnTo>
                  <a:lnTo>
                    <a:pt x="78" y="46"/>
                  </a:lnTo>
                  <a:lnTo>
                    <a:pt x="73" y="57"/>
                  </a:lnTo>
                  <a:lnTo>
                    <a:pt x="62" y="60"/>
                  </a:lnTo>
                  <a:lnTo>
                    <a:pt x="45" y="57"/>
                  </a:lnTo>
                  <a:lnTo>
                    <a:pt x="0" y="33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1"/>
            <p:cNvSpPr/>
            <p:nvPr/>
          </p:nvSpPr>
          <p:spPr>
            <a:xfrm>
              <a:off x="3517560" y="4946760"/>
              <a:ext cx="41400" cy="165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98" h="39">
                  <a:moveTo>
                    <a:pt x="13" y="0"/>
                  </a:moveTo>
                  <a:lnTo>
                    <a:pt x="0" y="20"/>
                  </a:lnTo>
                  <a:lnTo>
                    <a:pt x="7" y="26"/>
                  </a:lnTo>
                  <a:lnTo>
                    <a:pt x="13" y="28"/>
                  </a:lnTo>
                  <a:lnTo>
                    <a:pt x="29" y="35"/>
                  </a:lnTo>
                  <a:lnTo>
                    <a:pt x="49" y="39"/>
                  </a:lnTo>
                  <a:lnTo>
                    <a:pt x="98" y="2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2"/>
            <p:cNvSpPr/>
            <p:nvPr/>
          </p:nvSpPr>
          <p:spPr>
            <a:xfrm>
              <a:off x="3535560" y="4975560"/>
              <a:ext cx="48240" cy="19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14" h="45">
                  <a:moveTo>
                    <a:pt x="0" y="0"/>
                  </a:moveTo>
                  <a:lnTo>
                    <a:pt x="7" y="38"/>
                  </a:lnTo>
                  <a:lnTo>
                    <a:pt x="51" y="45"/>
                  </a:lnTo>
                  <a:lnTo>
                    <a:pt x="85" y="42"/>
                  </a:lnTo>
                  <a:lnTo>
                    <a:pt x="114" y="38"/>
                  </a:lnTo>
                  <a:lnTo>
                    <a:pt x="74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3"/>
            <p:cNvSpPr/>
            <p:nvPr/>
          </p:nvSpPr>
          <p:spPr>
            <a:xfrm>
              <a:off x="3519720" y="5008680"/>
              <a:ext cx="24120" cy="223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7" h="53">
                  <a:moveTo>
                    <a:pt x="24" y="15"/>
                  </a:moveTo>
                  <a:lnTo>
                    <a:pt x="28" y="13"/>
                  </a:lnTo>
                  <a:lnTo>
                    <a:pt x="40" y="4"/>
                  </a:lnTo>
                  <a:lnTo>
                    <a:pt x="51" y="0"/>
                  </a:lnTo>
                  <a:lnTo>
                    <a:pt x="57" y="4"/>
                  </a:lnTo>
                  <a:lnTo>
                    <a:pt x="57" y="15"/>
                  </a:lnTo>
                  <a:lnTo>
                    <a:pt x="53" y="26"/>
                  </a:lnTo>
                  <a:lnTo>
                    <a:pt x="46" y="33"/>
                  </a:lnTo>
                  <a:lnTo>
                    <a:pt x="44" y="35"/>
                  </a:lnTo>
                  <a:lnTo>
                    <a:pt x="0" y="53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4"/>
            <p:cNvSpPr/>
            <p:nvPr/>
          </p:nvSpPr>
          <p:spPr>
            <a:xfrm>
              <a:off x="3854160" y="4821480"/>
              <a:ext cx="78480" cy="64080"/>
            </a:xfrm>
            <a:custGeom>
              <a:avLst/>
              <a:gdLst>
                <a:gd name="textAreaLeft" fmla="*/ 0 w 78480"/>
                <a:gd name="textAreaRight" fmla="*/ 78480 w 784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5" h="151">
                  <a:moveTo>
                    <a:pt x="0" y="142"/>
                  </a:moveTo>
                  <a:lnTo>
                    <a:pt x="2" y="137"/>
                  </a:lnTo>
                  <a:lnTo>
                    <a:pt x="13" y="126"/>
                  </a:lnTo>
                  <a:lnTo>
                    <a:pt x="20" y="117"/>
                  </a:lnTo>
                  <a:lnTo>
                    <a:pt x="27" y="111"/>
                  </a:lnTo>
                  <a:lnTo>
                    <a:pt x="36" y="100"/>
                  </a:lnTo>
                  <a:lnTo>
                    <a:pt x="45" y="91"/>
                  </a:lnTo>
                  <a:lnTo>
                    <a:pt x="56" y="80"/>
                  </a:lnTo>
                  <a:lnTo>
                    <a:pt x="67" y="71"/>
                  </a:lnTo>
                  <a:lnTo>
                    <a:pt x="76" y="60"/>
                  </a:lnTo>
                  <a:lnTo>
                    <a:pt x="87" y="51"/>
                  </a:lnTo>
                  <a:lnTo>
                    <a:pt x="98" y="42"/>
                  </a:lnTo>
                  <a:lnTo>
                    <a:pt x="107" y="35"/>
                  </a:lnTo>
                  <a:lnTo>
                    <a:pt x="118" y="29"/>
                  </a:lnTo>
                  <a:lnTo>
                    <a:pt x="127" y="24"/>
                  </a:lnTo>
                  <a:lnTo>
                    <a:pt x="142" y="15"/>
                  </a:lnTo>
                  <a:lnTo>
                    <a:pt x="153" y="11"/>
                  </a:lnTo>
                  <a:lnTo>
                    <a:pt x="171" y="4"/>
                  </a:lnTo>
                  <a:lnTo>
                    <a:pt x="185" y="0"/>
                  </a:lnTo>
                  <a:lnTo>
                    <a:pt x="182" y="4"/>
                  </a:lnTo>
                  <a:lnTo>
                    <a:pt x="171" y="13"/>
                  </a:lnTo>
                  <a:lnTo>
                    <a:pt x="160" y="24"/>
                  </a:lnTo>
                  <a:lnTo>
                    <a:pt x="147" y="33"/>
                  </a:lnTo>
                  <a:lnTo>
                    <a:pt x="127" y="46"/>
                  </a:lnTo>
                  <a:lnTo>
                    <a:pt x="113" y="55"/>
                  </a:lnTo>
                  <a:lnTo>
                    <a:pt x="100" y="69"/>
                  </a:lnTo>
                  <a:lnTo>
                    <a:pt x="85" y="80"/>
                  </a:lnTo>
                  <a:lnTo>
                    <a:pt x="73" y="91"/>
                  </a:lnTo>
                  <a:lnTo>
                    <a:pt x="62" y="102"/>
                  </a:lnTo>
                  <a:lnTo>
                    <a:pt x="53" y="111"/>
                  </a:lnTo>
                  <a:lnTo>
                    <a:pt x="33" y="151"/>
                  </a:lnTo>
                  <a:lnTo>
                    <a:pt x="11" y="148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5"/>
            <p:cNvSpPr/>
            <p:nvPr/>
          </p:nvSpPr>
          <p:spPr>
            <a:xfrm>
              <a:off x="3898800" y="4879440"/>
              <a:ext cx="31680" cy="26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75" h="62">
                  <a:moveTo>
                    <a:pt x="0" y="62"/>
                  </a:moveTo>
                  <a:lnTo>
                    <a:pt x="6" y="38"/>
                  </a:lnTo>
                  <a:lnTo>
                    <a:pt x="75" y="0"/>
                  </a:lnTo>
                  <a:lnTo>
                    <a:pt x="60" y="34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6"/>
            <p:cNvSpPr/>
            <p:nvPr/>
          </p:nvSpPr>
          <p:spPr>
            <a:xfrm>
              <a:off x="4029840" y="4916520"/>
              <a:ext cx="69120" cy="457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63" h="108">
                  <a:moveTo>
                    <a:pt x="14" y="77"/>
                  </a:moveTo>
                  <a:lnTo>
                    <a:pt x="20" y="73"/>
                  </a:lnTo>
                  <a:lnTo>
                    <a:pt x="29" y="66"/>
                  </a:lnTo>
                  <a:lnTo>
                    <a:pt x="40" y="57"/>
                  </a:lnTo>
                  <a:lnTo>
                    <a:pt x="51" y="48"/>
                  </a:lnTo>
                  <a:lnTo>
                    <a:pt x="65" y="40"/>
                  </a:lnTo>
                  <a:lnTo>
                    <a:pt x="78" y="31"/>
                  </a:lnTo>
                  <a:lnTo>
                    <a:pt x="89" y="24"/>
                  </a:lnTo>
                  <a:lnTo>
                    <a:pt x="114" y="13"/>
                  </a:lnTo>
                  <a:lnTo>
                    <a:pt x="138" y="4"/>
                  </a:lnTo>
                  <a:lnTo>
                    <a:pt x="163" y="0"/>
                  </a:lnTo>
                  <a:lnTo>
                    <a:pt x="151" y="22"/>
                  </a:lnTo>
                  <a:lnTo>
                    <a:pt x="134" y="29"/>
                  </a:lnTo>
                  <a:lnTo>
                    <a:pt x="103" y="40"/>
                  </a:lnTo>
                  <a:lnTo>
                    <a:pt x="71" y="53"/>
                  </a:lnTo>
                  <a:lnTo>
                    <a:pt x="49" y="71"/>
                  </a:lnTo>
                  <a:lnTo>
                    <a:pt x="43" y="79"/>
                  </a:lnTo>
                  <a:lnTo>
                    <a:pt x="34" y="88"/>
                  </a:lnTo>
                  <a:lnTo>
                    <a:pt x="25" y="95"/>
                  </a:lnTo>
                  <a:lnTo>
                    <a:pt x="18" y="99"/>
                  </a:lnTo>
                  <a:lnTo>
                    <a:pt x="0" y="108"/>
                  </a:lnTo>
                  <a:lnTo>
                    <a:pt x="14" y="7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7"/>
            <p:cNvSpPr/>
            <p:nvPr/>
          </p:nvSpPr>
          <p:spPr>
            <a:xfrm>
              <a:off x="4120560" y="4960080"/>
              <a:ext cx="19440" cy="50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6" h="119">
                  <a:moveTo>
                    <a:pt x="46" y="0"/>
                  </a:moveTo>
                  <a:lnTo>
                    <a:pt x="37" y="8"/>
                  </a:lnTo>
                  <a:lnTo>
                    <a:pt x="20" y="33"/>
                  </a:lnTo>
                  <a:lnTo>
                    <a:pt x="4" y="62"/>
                  </a:lnTo>
                  <a:lnTo>
                    <a:pt x="0" y="86"/>
                  </a:lnTo>
                  <a:lnTo>
                    <a:pt x="9" y="104"/>
                  </a:lnTo>
                  <a:lnTo>
                    <a:pt x="13" y="110"/>
                  </a:lnTo>
                  <a:lnTo>
                    <a:pt x="17" y="115"/>
                  </a:lnTo>
                  <a:lnTo>
                    <a:pt x="24" y="119"/>
                  </a:lnTo>
                  <a:lnTo>
                    <a:pt x="26" y="117"/>
                  </a:lnTo>
                  <a:lnTo>
                    <a:pt x="26" y="90"/>
                  </a:lnTo>
                  <a:lnTo>
                    <a:pt x="24" y="55"/>
                  </a:lnTo>
                  <a:lnTo>
                    <a:pt x="44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8"/>
            <p:cNvSpPr/>
            <p:nvPr/>
          </p:nvSpPr>
          <p:spPr>
            <a:xfrm>
              <a:off x="4312440" y="4729680"/>
              <a:ext cx="36360" cy="5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6" h="124">
                  <a:moveTo>
                    <a:pt x="0" y="0"/>
                  </a:moveTo>
                  <a:lnTo>
                    <a:pt x="13" y="7"/>
                  </a:lnTo>
                  <a:lnTo>
                    <a:pt x="29" y="13"/>
                  </a:lnTo>
                  <a:lnTo>
                    <a:pt x="44" y="24"/>
                  </a:lnTo>
                  <a:lnTo>
                    <a:pt x="60" y="35"/>
                  </a:lnTo>
                  <a:lnTo>
                    <a:pt x="73" y="49"/>
                  </a:lnTo>
                  <a:lnTo>
                    <a:pt x="86" y="78"/>
                  </a:lnTo>
                  <a:lnTo>
                    <a:pt x="84" y="104"/>
                  </a:lnTo>
                  <a:lnTo>
                    <a:pt x="75" y="120"/>
                  </a:lnTo>
                  <a:lnTo>
                    <a:pt x="69" y="124"/>
                  </a:lnTo>
                  <a:lnTo>
                    <a:pt x="64" y="120"/>
                  </a:lnTo>
                  <a:lnTo>
                    <a:pt x="53" y="75"/>
                  </a:lnTo>
                  <a:lnTo>
                    <a:pt x="42" y="55"/>
                  </a:lnTo>
                  <a:lnTo>
                    <a:pt x="35" y="47"/>
                  </a:lnTo>
                  <a:lnTo>
                    <a:pt x="29" y="40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9"/>
            <p:cNvSpPr/>
            <p:nvPr/>
          </p:nvSpPr>
          <p:spPr>
            <a:xfrm>
              <a:off x="4321080" y="4874760"/>
              <a:ext cx="14760" cy="284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5" h="67">
                  <a:moveTo>
                    <a:pt x="0" y="20"/>
                  </a:moveTo>
                  <a:lnTo>
                    <a:pt x="6" y="45"/>
                  </a:lnTo>
                  <a:lnTo>
                    <a:pt x="15" y="60"/>
                  </a:lnTo>
                  <a:lnTo>
                    <a:pt x="20" y="64"/>
                  </a:lnTo>
                  <a:lnTo>
                    <a:pt x="26" y="67"/>
                  </a:lnTo>
                  <a:lnTo>
                    <a:pt x="35" y="49"/>
                  </a:lnTo>
                  <a:lnTo>
                    <a:pt x="35" y="36"/>
                  </a:lnTo>
                  <a:lnTo>
                    <a:pt x="11" y="25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90"/>
          <p:cNvGrpSpPr/>
          <p:nvPr/>
        </p:nvGrpSpPr>
        <p:grpSpPr>
          <a:xfrm>
            <a:off x="4191120" y="2666880"/>
            <a:ext cx="1828800" cy="1876680"/>
            <a:chOff x="4191120" y="2666880"/>
            <a:chExt cx="1828800" cy="1876680"/>
          </a:xfrm>
        </p:grpSpPr>
        <p:sp>
          <p:nvSpPr>
            <p:cNvPr id="173" name="AutoShape 91"/>
            <p:cNvSpPr/>
            <p:nvPr/>
          </p:nvSpPr>
          <p:spPr>
            <a:xfrm>
              <a:off x="4191120" y="2666880"/>
              <a:ext cx="1828800" cy="18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2"/>
            <p:cNvSpPr/>
            <p:nvPr/>
          </p:nvSpPr>
          <p:spPr>
            <a:xfrm>
              <a:off x="4207320" y="2678760"/>
              <a:ext cx="1794960" cy="1847160"/>
            </a:xfrm>
            <a:custGeom>
              <a:avLst/>
              <a:gdLst>
                <a:gd name="textAreaLeft" fmla="*/ 0 w 1794960"/>
                <a:gd name="textAreaRight" fmla="*/ 1795320 w 1794960"/>
                <a:gd name="textAreaTop" fmla="*/ 0 h 1847160"/>
                <a:gd name="textAreaBottom" fmla="*/ 1847520 h 1847160"/>
              </a:gdLst>
              <a:ahLst/>
              <a:rect l="textAreaLeft" t="textAreaTop" r="textAreaRight" b="textAreaBottom"/>
              <a:pathLst>
                <a:path w="4564" h="4695">
                  <a:moveTo>
                    <a:pt x="296" y="0"/>
                  </a:moveTo>
                  <a:lnTo>
                    <a:pt x="165" y="189"/>
                  </a:lnTo>
                  <a:lnTo>
                    <a:pt x="248" y="326"/>
                  </a:lnTo>
                  <a:lnTo>
                    <a:pt x="233" y="347"/>
                  </a:lnTo>
                  <a:lnTo>
                    <a:pt x="215" y="374"/>
                  </a:lnTo>
                  <a:lnTo>
                    <a:pt x="194" y="412"/>
                  </a:lnTo>
                  <a:lnTo>
                    <a:pt x="181" y="432"/>
                  </a:lnTo>
                  <a:lnTo>
                    <a:pt x="169" y="457"/>
                  </a:lnTo>
                  <a:lnTo>
                    <a:pt x="154" y="487"/>
                  </a:lnTo>
                  <a:lnTo>
                    <a:pt x="142" y="516"/>
                  </a:lnTo>
                  <a:lnTo>
                    <a:pt x="127" y="549"/>
                  </a:lnTo>
                  <a:lnTo>
                    <a:pt x="112" y="584"/>
                  </a:lnTo>
                  <a:lnTo>
                    <a:pt x="106" y="603"/>
                  </a:lnTo>
                  <a:lnTo>
                    <a:pt x="100" y="622"/>
                  </a:lnTo>
                  <a:lnTo>
                    <a:pt x="92" y="642"/>
                  </a:lnTo>
                  <a:lnTo>
                    <a:pt x="85" y="663"/>
                  </a:lnTo>
                  <a:lnTo>
                    <a:pt x="73" y="707"/>
                  </a:lnTo>
                  <a:lnTo>
                    <a:pt x="60" y="753"/>
                  </a:lnTo>
                  <a:lnTo>
                    <a:pt x="48" y="800"/>
                  </a:lnTo>
                  <a:lnTo>
                    <a:pt x="37" y="852"/>
                  </a:lnTo>
                  <a:lnTo>
                    <a:pt x="27" y="906"/>
                  </a:lnTo>
                  <a:lnTo>
                    <a:pt x="19" y="962"/>
                  </a:lnTo>
                  <a:lnTo>
                    <a:pt x="6" y="1083"/>
                  </a:lnTo>
                  <a:lnTo>
                    <a:pt x="0" y="1216"/>
                  </a:lnTo>
                  <a:lnTo>
                    <a:pt x="2" y="1357"/>
                  </a:lnTo>
                  <a:lnTo>
                    <a:pt x="6" y="1432"/>
                  </a:lnTo>
                  <a:lnTo>
                    <a:pt x="12" y="1509"/>
                  </a:lnTo>
                  <a:lnTo>
                    <a:pt x="23" y="1590"/>
                  </a:lnTo>
                  <a:lnTo>
                    <a:pt x="35" y="1673"/>
                  </a:lnTo>
                  <a:lnTo>
                    <a:pt x="41" y="1715"/>
                  </a:lnTo>
                  <a:lnTo>
                    <a:pt x="50" y="1756"/>
                  </a:lnTo>
                  <a:lnTo>
                    <a:pt x="58" y="1798"/>
                  </a:lnTo>
                  <a:lnTo>
                    <a:pt x="67" y="1840"/>
                  </a:lnTo>
                  <a:lnTo>
                    <a:pt x="77" y="1881"/>
                  </a:lnTo>
                  <a:lnTo>
                    <a:pt x="87" y="1923"/>
                  </a:lnTo>
                  <a:lnTo>
                    <a:pt x="98" y="1962"/>
                  </a:lnTo>
                  <a:lnTo>
                    <a:pt x="110" y="2004"/>
                  </a:lnTo>
                  <a:lnTo>
                    <a:pt x="121" y="2043"/>
                  </a:lnTo>
                  <a:lnTo>
                    <a:pt x="133" y="2083"/>
                  </a:lnTo>
                  <a:lnTo>
                    <a:pt x="140" y="2104"/>
                  </a:lnTo>
                  <a:lnTo>
                    <a:pt x="146" y="2122"/>
                  </a:lnTo>
                  <a:lnTo>
                    <a:pt x="154" y="2143"/>
                  </a:lnTo>
                  <a:lnTo>
                    <a:pt x="160" y="2162"/>
                  </a:lnTo>
                  <a:lnTo>
                    <a:pt x="167" y="2183"/>
                  </a:lnTo>
                  <a:lnTo>
                    <a:pt x="173" y="2201"/>
                  </a:lnTo>
                  <a:lnTo>
                    <a:pt x="181" y="2220"/>
                  </a:lnTo>
                  <a:lnTo>
                    <a:pt x="188" y="2239"/>
                  </a:lnTo>
                  <a:lnTo>
                    <a:pt x="194" y="2259"/>
                  </a:lnTo>
                  <a:lnTo>
                    <a:pt x="202" y="2278"/>
                  </a:lnTo>
                  <a:lnTo>
                    <a:pt x="208" y="2297"/>
                  </a:lnTo>
                  <a:lnTo>
                    <a:pt x="217" y="2316"/>
                  </a:lnTo>
                  <a:lnTo>
                    <a:pt x="223" y="2334"/>
                  </a:lnTo>
                  <a:lnTo>
                    <a:pt x="231" y="2353"/>
                  </a:lnTo>
                  <a:lnTo>
                    <a:pt x="238" y="2372"/>
                  </a:lnTo>
                  <a:lnTo>
                    <a:pt x="246" y="2390"/>
                  </a:lnTo>
                  <a:lnTo>
                    <a:pt x="252" y="2409"/>
                  </a:lnTo>
                  <a:lnTo>
                    <a:pt x="261" y="2426"/>
                  </a:lnTo>
                  <a:lnTo>
                    <a:pt x="269" y="2444"/>
                  </a:lnTo>
                  <a:lnTo>
                    <a:pt x="277" y="2463"/>
                  </a:lnTo>
                  <a:lnTo>
                    <a:pt x="292" y="2498"/>
                  </a:lnTo>
                  <a:lnTo>
                    <a:pt x="309" y="2534"/>
                  </a:lnTo>
                  <a:lnTo>
                    <a:pt x="323" y="2567"/>
                  </a:lnTo>
                  <a:lnTo>
                    <a:pt x="340" y="2602"/>
                  </a:lnTo>
                  <a:lnTo>
                    <a:pt x="357" y="2636"/>
                  </a:lnTo>
                  <a:lnTo>
                    <a:pt x="373" y="2669"/>
                  </a:lnTo>
                  <a:lnTo>
                    <a:pt x="388" y="2700"/>
                  </a:lnTo>
                  <a:lnTo>
                    <a:pt x="405" y="2733"/>
                  </a:lnTo>
                  <a:lnTo>
                    <a:pt x="421" y="2764"/>
                  </a:lnTo>
                  <a:lnTo>
                    <a:pt x="438" y="2794"/>
                  </a:lnTo>
                  <a:lnTo>
                    <a:pt x="455" y="2825"/>
                  </a:lnTo>
                  <a:lnTo>
                    <a:pt x="469" y="2854"/>
                  </a:lnTo>
                  <a:lnTo>
                    <a:pt x="486" y="2883"/>
                  </a:lnTo>
                  <a:lnTo>
                    <a:pt x="503" y="2910"/>
                  </a:lnTo>
                  <a:lnTo>
                    <a:pt x="517" y="2937"/>
                  </a:lnTo>
                  <a:lnTo>
                    <a:pt x="534" y="2964"/>
                  </a:lnTo>
                  <a:lnTo>
                    <a:pt x="549" y="2991"/>
                  </a:lnTo>
                  <a:lnTo>
                    <a:pt x="563" y="3016"/>
                  </a:lnTo>
                  <a:lnTo>
                    <a:pt x="578" y="3039"/>
                  </a:lnTo>
                  <a:lnTo>
                    <a:pt x="592" y="3064"/>
                  </a:lnTo>
                  <a:lnTo>
                    <a:pt x="607" y="3087"/>
                  </a:lnTo>
                  <a:lnTo>
                    <a:pt x="622" y="3107"/>
                  </a:lnTo>
                  <a:lnTo>
                    <a:pt x="634" y="3130"/>
                  </a:lnTo>
                  <a:lnTo>
                    <a:pt x="647" y="3151"/>
                  </a:lnTo>
                  <a:lnTo>
                    <a:pt x="661" y="3170"/>
                  </a:lnTo>
                  <a:lnTo>
                    <a:pt x="674" y="3188"/>
                  </a:lnTo>
                  <a:lnTo>
                    <a:pt x="697" y="3224"/>
                  </a:lnTo>
                  <a:lnTo>
                    <a:pt x="718" y="3255"/>
                  </a:lnTo>
                  <a:lnTo>
                    <a:pt x="736" y="3282"/>
                  </a:lnTo>
                  <a:lnTo>
                    <a:pt x="753" y="3305"/>
                  </a:lnTo>
                  <a:lnTo>
                    <a:pt x="768" y="3326"/>
                  </a:lnTo>
                  <a:lnTo>
                    <a:pt x="787" y="3351"/>
                  </a:lnTo>
                  <a:lnTo>
                    <a:pt x="793" y="3361"/>
                  </a:lnTo>
                  <a:lnTo>
                    <a:pt x="678" y="3386"/>
                  </a:lnTo>
                  <a:lnTo>
                    <a:pt x="851" y="3534"/>
                  </a:lnTo>
                  <a:lnTo>
                    <a:pt x="1315" y="3525"/>
                  </a:lnTo>
                  <a:lnTo>
                    <a:pt x="1133" y="3600"/>
                  </a:lnTo>
                  <a:lnTo>
                    <a:pt x="1118" y="3681"/>
                  </a:lnTo>
                  <a:lnTo>
                    <a:pt x="1087" y="3675"/>
                  </a:lnTo>
                  <a:lnTo>
                    <a:pt x="1050" y="3669"/>
                  </a:lnTo>
                  <a:lnTo>
                    <a:pt x="999" y="3664"/>
                  </a:lnTo>
                  <a:lnTo>
                    <a:pt x="876" y="3662"/>
                  </a:lnTo>
                  <a:lnTo>
                    <a:pt x="728" y="3681"/>
                  </a:lnTo>
                  <a:lnTo>
                    <a:pt x="691" y="3689"/>
                  </a:lnTo>
                  <a:lnTo>
                    <a:pt x="655" y="3702"/>
                  </a:lnTo>
                  <a:lnTo>
                    <a:pt x="640" y="3708"/>
                  </a:lnTo>
                  <a:lnTo>
                    <a:pt x="624" y="3716"/>
                  </a:lnTo>
                  <a:lnTo>
                    <a:pt x="609" y="3725"/>
                  </a:lnTo>
                  <a:lnTo>
                    <a:pt x="595" y="3733"/>
                  </a:lnTo>
                  <a:lnTo>
                    <a:pt x="580" y="3741"/>
                  </a:lnTo>
                  <a:lnTo>
                    <a:pt x="567" y="3750"/>
                  </a:lnTo>
                  <a:lnTo>
                    <a:pt x="555" y="3760"/>
                  </a:lnTo>
                  <a:lnTo>
                    <a:pt x="542" y="3768"/>
                  </a:lnTo>
                  <a:lnTo>
                    <a:pt x="532" y="3779"/>
                  </a:lnTo>
                  <a:lnTo>
                    <a:pt x="522" y="3789"/>
                  </a:lnTo>
                  <a:lnTo>
                    <a:pt x="511" y="3797"/>
                  </a:lnTo>
                  <a:lnTo>
                    <a:pt x="501" y="3808"/>
                  </a:lnTo>
                  <a:lnTo>
                    <a:pt x="492" y="3818"/>
                  </a:lnTo>
                  <a:lnTo>
                    <a:pt x="484" y="3827"/>
                  </a:lnTo>
                  <a:lnTo>
                    <a:pt x="476" y="3835"/>
                  </a:lnTo>
                  <a:lnTo>
                    <a:pt x="469" y="3845"/>
                  </a:lnTo>
                  <a:lnTo>
                    <a:pt x="448" y="3874"/>
                  </a:lnTo>
                  <a:lnTo>
                    <a:pt x="430" y="3903"/>
                  </a:lnTo>
                  <a:lnTo>
                    <a:pt x="547" y="4136"/>
                  </a:lnTo>
                  <a:lnTo>
                    <a:pt x="511" y="4138"/>
                  </a:lnTo>
                  <a:lnTo>
                    <a:pt x="428" y="4147"/>
                  </a:lnTo>
                  <a:lnTo>
                    <a:pt x="380" y="4155"/>
                  </a:lnTo>
                  <a:lnTo>
                    <a:pt x="329" y="4163"/>
                  </a:lnTo>
                  <a:lnTo>
                    <a:pt x="284" y="4174"/>
                  </a:lnTo>
                  <a:lnTo>
                    <a:pt x="248" y="4184"/>
                  </a:lnTo>
                  <a:lnTo>
                    <a:pt x="221" y="4199"/>
                  </a:lnTo>
                  <a:lnTo>
                    <a:pt x="198" y="4211"/>
                  </a:lnTo>
                  <a:lnTo>
                    <a:pt x="181" y="4226"/>
                  </a:lnTo>
                  <a:lnTo>
                    <a:pt x="167" y="4238"/>
                  </a:lnTo>
                  <a:lnTo>
                    <a:pt x="150" y="4267"/>
                  </a:lnTo>
                  <a:lnTo>
                    <a:pt x="196" y="4271"/>
                  </a:lnTo>
                  <a:lnTo>
                    <a:pt x="242" y="4280"/>
                  </a:lnTo>
                  <a:lnTo>
                    <a:pt x="292" y="4288"/>
                  </a:lnTo>
                  <a:lnTo>
                    <a:pt x="340" y="4303"/>
                  </a:lnTo>
                  <a:lnTo>
                    <a:pt x="375" y="4319"/>
                  </a:lnTo>
                  <a:lnTo>
                    <a:pt x="386" y="4330"/>
                  </a:lnTo>
                  <a:lnTo>
                    <a:pt x="392" y="4340"/>
                  </a:lnTo>
                  <a:lnTo>
                    <a:pt x="390" y="4352"/>
                  </a:lnTo>
                  <a:lnTo>
                    <a:pt x="380" y="4367"/>
                  </a:lnTo>
                  <a:lnTo>
                    <a:pt x="355" y="4409"/>
                  </a:lnTo>
                  <a:lnTo>
                    <a:pt x="359" y="4423"/>
                  </a:lnTo>
                  <a:lnTo>
                    <a:pt x="363" y="4427"/>
                  </a:lnTo>
                  <a:lnTo>
                    <a:pt x="371" y="4431"/>
                  </a:lnTo>
                  <a:lnTo>
                    <a:pt x="390" y="4438"/>
                  </a:lnTo>
                  <a:lnTo>
                    <a:pt x="411" y="4442"/>
                  </a:lnTo>
                  <a:lnTo>
                    <a:pt x="455" y="4448"/>
                  </a:lnTo>
                  <a:lnTo>
                    <a:pt x="492" y="4467"/>
                  </a:lnTo>
                  <a:lnTo>
                    <a:pt x="501" y="4473"/>
                  </a:lnTo>
                  <a:lnTo>
                    <a:pt x="509" y="4481"/>
                  </a:lnTo>
                  <a:lnTo>
                    <a:pt x="515" y="4490"/>
                  </a:lnTo>
                  <a:lnTo>
                    <a:pt x="524" y="4498"/>
                  </a:lnTo>
                  <a:lnTo>
                    <a:pt x="530" y="4504"/>
                  </a:lnTo>
                  <a:lnTo>
                    <a:pt x="536" y="4512"/>
                  </a:lnTo>
                  <a:lnTo>
                    <a:pt x="547" y="4527"/>
                  </a:lnTo>
                  <a:lnTo>
                    <a:pt x="555" y="4539"/>
                  </a:lnTo>
                  <a:lnTo>
                    <a:pt x="488" y="4606"/>
                  </a:lnTo>
                  <a:lnTo>
                    <a:pt x="645" y="4598"/>
                  </a:lnTo>
                  <a:lnTo>
                    <a:pt x="522" y="4670"/>
                  </a:lnTo>
                  <a:lnTo>
                    <a:pt x="753" y="4623"/>
                  </a:lnTo>
                  <a:lnTo>
                    <a:pt x="670" y="4687"/>
                  </a:lnTo>
                  <a:lnTo>
                    <a:pt x="860" y="4687"/>
                  </a:lnTo>
                  <a:lnTo>
                    <a:pt x="872" y="4670"/>
                  </a:lnTo>
                  <a:lnTo>
                    <a:pt x="878" y="4664"/>
                  </a:lnTo>
                  <a:lnTo>
                    <a:pt x="885" y="4654"/>
                  </a:lnTo>
                  <a:lnTo>
                    <a:pt x="893" y="4645"/>
                  </a:lnTo>
                  <a:lnTo>
                    <a:pt x="901" y="4635"/>
                  </a:lnTo>
                  <a:lnTo>
                    <a:pt x="912" y="4627"/>
                  </a:lnTo>
                  <a:lnTo>
                    <a:pt x="920" y="4618"/>
                  </a:lnTo>
                  <a:lnTo>
                    <a:pt x="931" y="4610"/>
                  </a:lnTo>
                  <a:lnTo>
                    <a:pt x="941" y="4604"/>
                  </a:lnTo>
                  <a:lnTo>
                    <a:pt x="958" y="4596"/>
                  </a:lnTo>
                  <a:lnTo>
                    <a:pt x="976" y="4598"/>
                  </a:lnTo>
                  <a:lnTo>
                    <a:pt x="989" y="4606"/>
                  </a:lnTo>
                  <a:lnTo>
                    <a:pt x="999" y="4618"/>
                  </a:lnTo>
                  <a:lnTo>
                    <a:pt x="1022" y="4652"/>
                  </a:lnTo>
                  <a:lnTo>
                    <a:pt x="1031" y="4660"/>
                  </a:lnTo>
                  <a:lnTo>
                    <a:pt x="1039" y="4668"/>
                  </a:lnTo>
                  <a:lnTo>
                    <a:pt x="1050" y="4677"/>
                  </a:lnTo>
                  <a:lnTo>
                    <a:pt x="1064" y="4683"/>
                  </a:lnTo>
                  <a:lnTo>
                    <a:pt x="1079" y="4687"/>
                  </a:lnTo>
                  <a:lnTo>
                    <a:pt x="1098" y="4691"/>
                  </a:lnTo>
                  <a:lnTo>
                    <a:pt x="1143" y="4695"/>
                  </a:lnTo>
                  <a:lnTo>
                    <a:pt x="1267" y="4683"/>
                  </a:lnTo>
                  <a:lnTo>
                    <a:pt x="1335" y="4672"/>
                  </a:lnTo>
                  <a:lnTo>
                    <a:pt x="1369" y="4666"/>
                  </a:lnTo>
                  <a:lnTo>
                    <a:pt x="1402" y="4658"/>
                  </a:lnTo>
                  <a:lnTo>
                    <a:pt x="1431" y="4652"/>
                  </a:lnTo>
                  <a:lnTo>
                    <a:pt x="1461" y="4645"/>
                  </a:lnTo>
                  <a:lnTo>
                    <a:pt x="1511" y="4633"/>
                  </a:lnTo>
                  <a:lnTo>
                    <a:pt x="1542" y="4625"/>
                  </a:lnTo>
                  <a:lnTo>
                    <a:pt x="1555" y="4623"/>
                  </a:lnTo>
                  <a:lnTo>
                    <a:pt x="1960" y="4679"/>
                  </a:lnTo>
                  <a:lnTo>
                    <a:pt x="1980" y="4672"/>
                  </a:lnTo>
                  <a:lnTo>
                    <a:pt x="2005" y="4664"/>
                  </a:lnTo>
                  <a:lnTo>
                    <a:pt x="2037" y="4654"/>
                  </a:lnTo>
                  <a:lnTo>
                    <a:pt x="2074" y="4643"/>
                  </a:lnTo>
                  <a:lnTo>
                    <a:pt x="2095" y="4637"/>
                  </a:lnTo>
                  <a:lnTo>
                    <a:pt x="2118" y="4631"/>
                  </a:lnTo>
                  <a:lnTo>
                    <a:pt x="2141" y="4623"/>
                  </a:lnTo>
                  <a:lnTo>
                    <a:pt x="2166" y="4618"/>
                  </a:lnTo>
                  <a:lnTo>
                    <a:pt x="2191" y="4612"/>
                  </a:lnTo>
                  <a:lnTo>
                    <a:pt x="2216" y="4606"/>
                  </a:lnTo>
                  <a:lnTo>
                    <a:pt x="2268" y="4596"/>
                  </a:lnTo>
                  <a:lnTo>
                    <a:pt x="2318" y="4585"/>
                  </a:lnTo>
                  <a:lnTo>
                    <a:pt x="2369" y="4579"/>
                  </a:lnTo>
                  <a:lnTo>
                    <a:pt x="2419" y="4575"/>
                  </a:lnTo>
                  <a:lnTo>
                    <a:pt x="2504" y="4581"/>
                  </a:lnTo>
                  <a:lnTo>
                    <a:pt x="2540" y="4589"/>
                  </a:lnTo>
                  <a:lnTo>
                    <a:pt x="2569" y="4606"/>
                  </a:lnTo>
                  <a:lnTo>
                    <a:pt x="2581" y="4614"/>
                  </a:lnTo>
                  <a:lnTo>
                    <a:pt x="2596" y="4623"/>
                  </a:lnTo>
                  <a:lnTo>
                    <a:pt x="2613" y="4631"/>
                  </a:lnTo>
                  <a:lnTo>
                    <a:pt x="2632" y="4637"/>
                  </a:lnTo>
                  <a:lnTo>
                    <a:pt x="2650" y="4643"/>
                  </a:lnTo>
                  <a:lnTo>
                    <a:pt x="2669" y="4650"/>
                  </a:lnTo>
                  <a:lnTo>
                    <a:pt x="2692" y="4656"/>
                  </a:lnTo>
                  <a:lnTo>
                    <a:pt x="2713" y="4662"/>
                  </a:lnTo>
                  <a:lnTo>
                    <a:pt x="2761" y="4670"/>
                  </a:lnTo>
                  <a:lnTo>
                    <a:pt x="2811" y="4677"/>
                  </a:lnTo>
                  <a:lnTo>
                    <a:pt x="2917" y="4685"/>
                  </a:lnTo>
                  <a:lnTo>
                    <a:pt x="3024" y="4685"/>
                  </a:lnTo>
                  <a:lnTo>
                    <a:pt x="3128" y="4679"/>
                  </a:lnTo>
                  <a:lnTo>
                    <a:pt x="3224" y="4666"/>
                  </a:lnTo>
                  <a:lnTo>
                    <a:pt x="3264" y="4658"/>
                  </a:lnTo>
                  <a:lnTo>
                    <a:pt x="3301" y="4648"/>
                  </a:lnTo>
                  <a:lnTo>
                    <a:pt x="3337" y="4635"/>
                  </a:lnTo>
                  <a:lnTo>
                    <a:pt x="3372" y="4625"/>
                  </a:lnTo>
                  <a:lnTo>
                    <a:pt x="3408" y="4612"/>
                  </a:lnTo>
                  <a:lnTo>
                    <a:pt x="3446" y="4602"/>
                  </a:lnTo>
                  <a:lnTo>
                    <a:pt x="3481" y="4589"/>
                  </a:lnTo>
                  <a:lnTo>
                    <a:pt x="3516" y="4577"/>
                  </a:lnTo>
                  <a:lnTo>
                    <a:pt x="3550" y="4566"/>
                  </a:lnTo>
                  <a:lnTo>
                    <a:pt x="3583" y="4556"/>
                  </a:lnTo>
                  <a:lnTo>
                    <a:pt x="3612" y="4546"/>
                  </a:lnTo>
                  <a:lnTo>
                    <a:pt x="3640" y="4535"/>
                  </a:lnTo>
                  <a:lnTo>
                    <a:pt x="3665" y="4527"/>
                  </a:lnTo>
                  <a:lnTo>
                    <a:pt x="3686" y="4521"/>
                  </a:lnTo>
                  <a:lnTo>
                    <a:pt x="3715" y="4510"/>
                  </a:lnTo>
                  <a:lnTo>
                    <a:pt x="3727" y="4506"/>
                  </a:lnTo>
                  <a:lnTo>
                    <a:pt x="3700" y="4438"/>
                  </a:lnTo>
                  <a:lnTo>
                    <a:pt x="3715" y="4419"/>
                  </a:lnTo>
                  <a:lnTo>
                    <a:pt x="3723" y="4409"/>
                  </a:lnTo>
                  <a:lnTo>
                    <a:pt x="3731" y="4398"/>
                  </a:lnTo>
                  <a:lnTo>
                    <a:pt x="3742" y="4388"/>
                  </a:lnTo>
                  <a:lnTo>
                    <a:pt x="3752" y="4377"/>
                  </a:lnTo>
                  <a:lnTo>
                    <a:pt x="3765" y="4369"/>
                  </a:lnTo>
                  <a:lnTo>
                    <a:pt x="3777" y="4363"/>
                  </a:lnTo>
                  <a:lnTo>
                    <a:pt x="3792" y="4357"/>
                  </a:lnTo>
                  <a:lnTo>
                    <a:pt x="3807" y="4352"/>
                  </a:lnTo>
                  <a:lnTo>
                    <a:pt x="3836" y="4357"/>
                  </a:lnTo>
                  <a:lnTo>
                    <a:pt x="3867" y="4375"/>
                  </a:lnTo>
                  <a:lnTo>
                    <a:pt x="3875" y="4382"/>
                  </a:lnTo>
                  <a:lnTo>
                    <a:pt x="3884" y="4386"/>
                  </a:lnTo>
                  <a:lnTo>
                    <a:pt x="3898" y="4396"/>
                  </a:lnTo>
                  <a:lnTo>
                    <a:pt x="3915" y="4402"/>
                  </a:lnTo>
                  <a:lnTo>
                    <a:pt x="3932" y="4406"/>
                  </a:lnTo>
                  <a:lnTo>
                    <a:pt x="3963" y="4406"/>
                  </a:lnTo>
                  <a:lnTo>
                    <a:pt x="3992" y="4402"/>
                  </a:lnTo>
                  <a:lnTo>
                    <a:pt x="4019" y="4394"/>
                  </a:lnTo>
                  <a:lnTo>
                    <a:pt x="4038" y="4386"/>
                  </a:lnTo>
                  <a:lnTo>
                    <a:pt x="4057" y="4375"/>
                  </a:lnTo>
                  <a:lnTo>
                    <a:pt x="4065" y="4242"/>
                  </a:lnTo>
                  <a:lnTo>
                    <a:pt x="4166" y="4267"/>
                  </a:lnTo>
                  <a:lnTo>
                    <a:pt x="4264" y="4161"/>
                  </a:lnTo>
                  <a:lnTo>
                    <a:pt x="4435" y="4213"/>
                  </a:lnTo>
                  <a:lnTo>
                    <a:pt x="4443" y="4205"/>
                  </a:lnTo>
                  <a:lnTo>
                    <a:pt x="4454" y="4194"/>
                  </a:lnTo>
                  <a:lnTo>
                    <a:pt x="4460" y="4186"/>
                  </a:lnTo>
                  <a:lnTo>
                    <a:pt x="4466" y="4180"/>
                  </a:lnTo>
                  <a:lnTo>
                    <a:pt x="4472" y="4170"/>
                  </a:lnTo>
                  <a:lnTo>
                    <a:pt x="4481" y="4161"/>
                  </a:lnTo>
                  <a:lnTo>
                    <a:pt x="4495" y="4138"/>
                  </a:lnTo>
                  <a:lnTo>
                    <a:pt x="4512" y="4113"/>
                  </a:lnTo>
                  <a:lnTo>
                    <a:pt x="4527" y="4086"/>
                  </a:lnTo>
                  <a:lnTo>
                    <a:pt x="4539" y="4057"/>
                  </a:lnTo>
                  <a:lnTo>
                    <a:pt x="4552" y="4024"/>
                  </a:lnTo>
                  <a:lnTo>
                    <a:pt x="4564" y="3951"/>
                  </a:lnTo>
                  <a:lnTo>
                    <a:pt x="4560" y="3872"/>
                  </a:lnTo>
                  <a:lnTo>
                    <a:pt x="4550" y="3831"/>
                  </a:lnTo>
                  <a:lnTo>
                    <a:pt x="4541" y="3808"/>
                  </a:lnTo>
                  <a:lnTo>
                    <a:pt x="4531" y="3787"/>
                  </a:lnTo>
                  <a:lnTo>
                    <a:pt x="4520" y="3766"/>
                  </a:lnTo>
                  <a:lnTo>
                    <a:pt x="4508" y="3746"/>
                  </a:lnTo>
                  <a:lnTo>
                    <a:pt x="4493" y="3727"/>
                  </a:lnTo>
                  <a:lnTo>
                    <a:pt x="4485" y="3718"/>
                  </a:lnTo>
                  <a:lnTo>
                    <a:pt x="4479" y="3708"/>
                  </a:lnTo>
                  <a:lnTo>
                    <a:pt x="4470" y="3700"/>
                  </a:lnTo>
                  <a:lnTo>
                    <a:pt x="4462" y="3691"/>
                  </a:lnTo>
                  <a:lnTo>
                    <a:pt x="4454" y="3683"/>
                  </a:lnTo>
                  <a:lnTo>
                    <a:pt x="4443" y="3675"/>
                  </a:lnTo>
                  <a:lnTo>
                    <a:pt x="4435" y="3669"/>
                  </a:lnTo>
                  <a:lnTo>
                    <a:pt x="4426" y="3660"/>
                  </a:lnTo>
                  <a:lnTo>
                    <a:pt x="4416" y="3654"/>
                  </a:lnTo>
                  <a:lnTo>
                    <a:pt x="4408" y="3646"/>
                  </a:lnTo>
                  <a:lnTo>
                    <a:pt x="4397" y="3640"/>
                  </a:lnTo>
                  <a:lnTo>
                    <a:pt x="4387" y="3633"/>
                  </a:lnTo>
                  <a:lnTo>
                    <a:pt x="4378" y="3627"/>
                  </a:lnTo>
                  <a:lnTo>
                    <a:pt x="4368" y="3621"/>
                  </a:lnTo>
                  <a:lnTo>
                    <a:pt x="4347" y="3608"/>
                  </a:lnTo>
                  <a:lnTo>
                    <a:pt x="4326" y="3598"/>
                  </a:lnTo>
                  <a:lnTo>
                    <a:pt x="4303" y="3590"/>
                  </a:lnTo>
                  <a:lnTo>
                    <a:pt x="4282" y="3581"/>
                  </a:lnTo>
                  <a:lnTo>
                    <a:pt x="4259" y="3573"/>
                  </a:lnTo>
                  <a:lnTo>
                    <a:pt x="4237" y="3567"/>
                  </a:lnTo>
                  <a:lnTo>
                    <a:pt x="4214" y="3561"/>
                  </a:lnTo>
                  <a:lnTo>
                    <a:pt x="4191" y="3556"/>
                  </a:lnTo>
                  <a:lnTo>
                    <a:pt x="4147" y="3548"/>
                  </a:lnTo>
                  <a:lnTo>
                    <a:pt x="4059" y="3544"/>
                  </a:lnTo>
                  <a:lnTo>
                    <a:pt x="3982" y="3552"/>
                  </a:lnTo>
                  <a:lnTo>
                    <a:pt x="3946" y="3563"/>
                  </a:lnTo>
                  <a:lnTo>
                    <a:pt x="3917" y="3575"/>
                  </a:lnTo>
                  <a:lnTo>
                    <a:pt x="3903" y="3581"/>
                  </a:lnTo>
                  <a:lnTo>
                    <a:pt x="3886" y="3590"/>
                  </a:lnTo>
                  <a:lnTo>
                    <a:pt x="3867" y="3598"/>
                  </a:lnTo>
                  <a:lnTo>
                    <a:pt x="3848" y="3608"/>
                  </a:lnTo>
                  <a:lnTo>
                    <a:pt x="3827" y="3619"/>
                  </a:lnTo>
                  <a:lnTo>
                    <a:pt x="3804" y="3629"/>
                  </a:lnTo>
                  <a:lnTo>
                    <a:pt x="3782" y="3640"/>
                  </a:lnTo>
                  <a:lnTo>
                    <a:pt x="3759" y="3650"/>
                  </a:lnTo>
                  <a:lnTo>
                    <a:pt x="3734" y="3662"/>
                  </a:lnTo>
                  <a:lnTo>
                    <a:pt x="3708" y="3673"/>
                  </a:lnTo>
                  <a:lnTo>
                    <a:pt x="3683" y="3685"/>
                  </a:lnTo>
                  <a:lnTo>
                    <a:pt x="3658" y="3698"/>
                  </a:lnTo>
                  <a:lnTo>
                    <a:pt x="3631" y="3710"/>
                  </a:lnTo>
                  <a:lnTo>
                    <a:pt x="3606" y="3721"/>
                  </a:lnTo>
                  <a:lnTo>
                    <a:pt x="3581" y="3733"/>
                  </a:lnTo>
                  <a:lnTo>
                    <a:pt x="3556" y="3746"/>
                  </a:lnTo>
                  <a:lnTo>
                    <a:pt x="3531" y="3756"/>
                  </a:lnTo>
                  <a:lnTo>
                    <a:pt x="3506" y="3768"/>
                  </a:lnTo>
                  <a:lnTo>
                    <a:pt x="3483" y="3779"/>
                  </a:lnTo>
                  <a:lnTo>
                    <a:pt x="3460" y="3789"/>
                  </a:lnTo>
                  <a:lnTo>
                    <a:pt x="3437" y="3800"/>
                  </a:lnTo>
                  <a:lnTo>
                    <a:pt x="3418" y="3808"/>
                  </a:lnTo>
                  <a:lnTo>
                    <a:pt x="3397" y="3818"/>
                  </a:lnTo>
                  <a:lnTo>
                    <a:pt x="3381" y="3824"/>
                  </a:lnTo>
                  <a:lnTo>
                    <a:pt x="3364" y="3833"/>
                  </a:lnTo>
                  <a:lnTo>
                    <a:pt x="3349" y="3839"/>
                  </a:lnTo>
                  <a:lnTo>
                    <a:pt x="3327" y="3849"/>
                  </a:lnTo>
                  <a:lnTo>
                    <a:pt x="3306" y="3860"/>
                  </a:lnTo>
                  <a:lnTo>
                    <a:pt x="3312" y="3833"/>
                  </a:lnTo>
                  <a:lnTo>
                    <a:pt x="3322" y="3804"/>
                  </a:lnTo>
                  <a:lnTo>
                    <a:pt x="3329" y="3785"/>
                  </a:lnTo>
                  <a:lnTo>
                    <a:pt x="3339" y="3766"/>
                  </a:lnTo>
                  <a:lnTo>
                    <a:pt x="3352" y="3746"/>
                  </a:lnTo>
                  <a:lnTo>
                    <a:pt x="3366" y="3723"/>
                  </a:lnTo>
                  <a:lnTo>
                    <a:pt x="3383" y="3700"/>
                  </a:lnTo>
                  <a:lnTo>
                    <a:pt x="3391" y="3689"/>
                  </a:lnTo>
                  <a:lnTo>
                    <a:pt x="3402" y="3677"/>
                  </a:lnTo>
                  <a:lnTo>
                    <a:pt x="3414" y="3667"/>
                  </a:lnTo>
                  <a:lnTo>
                    <a:pt x="3425" y="3654"/>
                  </a:lnTo>
                  <a:lnTo>
                    <a:pt x="3437" y="3644"/>
                  </a:lnTo>
                  <a:lnTo>
                    <a:pt x="3452" y="3631"/>
                  </a:lnTo>
                  <a:lnTo>
                    <a:pt x="3466" y="3619"/>
                  </a:lnTo>
                  <a:lnTo>
                    <a:pt x="3481" y="3608"/>
                  </a:lnTo>
                  <a:lnTo>
                    <a:pt x="3498" y="3598"/>
                  </a:lnTo>
                  <a:lnTo>
                    <a:pt x="3514" y="3585"/>
                  </a:lnTo>
                  <a:lnTo>
                    <a:pt x="3533" y="3575"/>
                  </a:lnTo>
                  <a:lnTo>
                    <a:pt x="3552" y="3565"/>
                  </a:lnTo>
                  <a:lnTo>
                    <a:pt x="3569" y="3556"/>
                  </a:lnTo>
                  <a:lnTo>
                    <a:pt x="3585" y="3546"/>
                  </a:lnTo>
                  <a:lnTo>
                    <a:pt x="3604" y="3538"/>
                  </a:lnTo>
                  <a:lnTo>
                    <a:pt x="3621" y="3527"/>
                  </a:lnTo>
                  <a:lnTo>
                    <a:pt x="3638" y="3519"/>
                  </a:lnTo>
                  <a:lnTo>
                    <a:pt x="3654" y="3511"/>
                  </a:lnTo>
                  <a:lnTo>
                    <a:pt x="3671" y="3502"/>
                  </a:lnTo>
                  <a:lnTo>
                    <a:pt x="3688" y="3496"/>
                  </a:lnTo>
                  <a:lnTo>
                    <a:pt x="3704" y="3490"/>
                  </a:lnTo>
                  <a:lnTo>
                    <a:pt x="3719" y="3482"/>
                  </a:lnTo>
                  <a:lnTo>
                    <a:pt x="3734" y="3475"/>
                  </a:lnTo>
                  <a:lnTo>
                    <a:pt x="3748" y="3469"/>
                  </a:lnTo>
                  <a:lnTo>
                    <a:pt x="3775" y="3459"/>
                  </a:lnTo>
                  <a:lnTo>
                    <a:pt x="3802" y="3448"/>
                  </a:lnTo>
                  <a:lnTo>
                    <a:pt x="3825" y="3440"/>
                  </a:lnTo>
                  <a:lnTo>
                    <a:pt x="3844" y="3434"/>
                  </a:lnTo>
                  <a:lnTo>
                    <a:pt x="3861" y="3428"/>
                  </a:lnTo>
                  <a:lnTo>
                    <a:pt x="3894" y="3417"/>
                  </a:lnTo>
                  <a:lnTo>
                    <a:pt x="3875" y="3311"/>
                  </a:lnTo>
                  <a:lnTo>
                    <a:pt x="3222" y="3509"/>
                  </a:lnTo>
                  <a:lnTo>
                    <a:pt x="2644" y="3571"/>
                  </a:lnTo>
                  <a:lnTo>
                    <a:pt x="2519" y="3467"/>
                  </a:lnTo>
                  <a:lnTo>
                    <a:pt x="2634" y="3469"/>
                  </a:lnTo>
                  <a:lnTo>
                    <a:pt x="2901" y="3465"/>
                  </a:lnTo>
                  <a:lnTo>
                    <a:pt x="3057" y="3457"/>
                  </a:lnTo>
                  <a:lnTo>
                    <a:pt x="3210" y="3440"/>
                  </a:lnTo>
                  <a:lnTo>
                    <a:pt x="3281" y="3428"/>
                  </a:lnTo>
                  <a:lnTo>
                    <a:pt x="3347" y="3415"/>
                  </a:lnTo>
                  <a:lnTo>
                    <a:pt x="3377" y="3407"/>
                  </a:lnTo>
                  <a:lnTo>
                    <a:pt x="3406" y="3396"/>
                  </a:lnTo>
                  <a:lnTo>
                    <a:pt x="3431" y="3388"/>
                  </a:lnTo>
                  <a:lnTo>
                    <a:pt x="3454" y="3378"/>
                  </a:lnTo>
                  <a:lnTo>
                    <a:pt x="3475" y="3365"/>
                  </a:lnTo>
                  <a:lnTo>
                    <a:pt x="3496" y="3355"/>
                  </a:lnTo>
                  <a:lnTo>
                    <a:pt x="3516" y="3344"/>
                  </a:lnTo>
                  <a:lnTo>
                    <a:pt x="3537" y="3334"/>
                  </a:lnTo>
                  <a:lnTo>
                    <a:pt x="3556" y="3326"/>
                  </a:lnTo>
                  <a:lnTo>
                    <a:pt x="3575" y="3315"/>
                  </a:lnTo>
                  <a:lnTo>
                    <a:pt x="3594" y="3305"/>
                  </a:lnTo>
                  <a:lnTo>
                    <a:pt x="3612" y="3297"/>
                  </a:lnTo>
                  <a:lnTo>
                    <a:pt x="3629" y="3286"/>
                  </a:lnTo>
                  <a:lnTo>
                    <a:pt x="3646" y="3278"/>
                  </a:lnTo>
                  <a:lnTo>
                    <a:pt x="3663" y="3270"/>
                  </a:lnTo>
                  <a:lnTo>
                    <a:pt x="3679" y="3261"/>
                  </a:lnTo>
                  <a:lnTo>
                    <a:pt x="3694" y="3253"/>
                  </a:lnTo>
                  <a:lnTo>
                    <a:pt x="3708" y="3245"/>
                  </a:lnTo>
                  <a:lnTo>
                    <a:pt x="3721" y="3238"/>
                  </a:lnTo>
                  <a:lnTo>
                    <a:pt x="3736" y="3230"/>
                  </a:lnTo>
                  <a:lnTo>
                    <a:pt x="3748" y="3224"/>
                  </a:lnTo>
                  <a:lnTo>
                    <a:pt x="3759" y="3218"/>
                  </a:lnTo>
                  <a:lnTo>
                    <a:pt x="3779" y="3205"/>
                  </a:lnTo>
                  <a:lnTo>
                    <a:pt x="3798" y="3195"/>
                  </a:lnTo>
                  <a:lnTo>
                    <a:pt x="3815" y="3186"/>
                  </a:lnTo>
                  <a:lnTo>
                    <a:pt x="3836" y="3176"/>
                  </a:lnTo>
                  <a:lnTo>
                    <a:pt x="3842" y="3172"/>
                  </a:lnTo>
                  <a:lnTo>
                    <a:pt x="1239" y="755"/>
                  </a:lnTo>
                  <a:lnTo>
                    <a:pt x="1239" y="1249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3"/>
            <p:cNvSpPr/>
            <p:nvPr/>
          </p:nvSpPr>
          <p:spPr>
            <a:xfrm>
              <a:off x="4286880" y="2921040"/>
              <a:ext cx="250560" cy="673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637" h="1713">
                  <a:moveTo>
                    <a:pt x="54" y="0"/>
                  </a:moveTo>
                  <a:lnTo>
                    <a:pt x="50" y="29"/>
                  </a:lnTo>
                  <a:lnTo>
                    <a:pt x="36" y="108"/>
                  </a:lnTo>
                  <a:lnTo>
                    <a:pt x="19" y="229"/>
                  </a:lnTo>
                  <a:lnTo>
                    <a:pt x="6" y="379"/>
                  </a:lnTo>
                  <a:lnTo>
                    <a:pt x="0" y="551"/>
                  </a:lnTo>
                  <a:lnTo>
                    <a:pt x="6" y="732"/>
                  </a:lnTo>
                  <a:lnTo>
                    <a:pt x="17" y="823"/>
                  </a:lnTo>
                  <a:lnTo>
                    <a:pt x="25" y="869"/>
                  </a:lnTo>
                  <a:lnTo>
                    <a:pt x="34" y="915"/>
                  </a:lnTo>
                  <a:lnTo>
                    <a:pt x="44" y="959"/>
                  </a:lnTo>
                  <a:lnTo>
                    <a:pt x="54" y="1002"/>
                  </a:lnTo>
                  <a:lnTo>
                    <a:pt x="67" y="1046"/>
                  </a:lnTo>
                  <a:lnTo>
                    <a:pt x="75" y="1067"/>
                  </a:lnTo>
                  <a:lnTo>
                    <a:pt x="82" y="1087"/>
                  </a:lnTo>
                  <a:lnTo>
                    <a:pt x="90" y="1108"/>
                  </a:lnTo>
                  <a:lnTo>
                    <a:pt x="98" y="1127"/>
                  </a:lnTo>
                  <a:lnTo>
                    <a:pt x="107" y="1148"/>
                  </a:lnTo>
                  <a:lnTo>
                    <a:pt x="115" y="1166"/>
                  </a:lnTo>
                  <a:lnTo>
                    <a:pt x="125" y="1185"/>
                  </a:lnTo>
                  <a:lnTo>
                    <a:pt x="134" y="1204"/>
                  </a:lnTo>
                  <a:lnTo>
                    <a:pt x="144" y="1223"/>
                  </a:lnTo>
                  <a:lnTo>
                    <a:pt x="155" y="1241"/>
                  </a:lnTo>
                  <a:lnTo>
                    <a:pt x="173" y="1274"/>
                  </a:lnTo>
                  <a:lnTo>
                    <a:pt x="194" y="1308"/>
                  </a:lnTo>
                  <a:lnTo>
                    <a:pt x="217" y="1341"/>
                  </a:lnTo>
                  <a:lnTo>
                    <a:pt x="240" y="1370"/>
                  </a:lnTo>
                  <a:lnTo>
                    <a:pt x="244" y="1378"/>
                  </a:lnTo>
                  <a:lnTo>
                    <a:pt x="251" y="1385"/>
                  </a:lnTo>
                  <a:lnTo>
                    <a:pt x="257" y="1393"/>
                  </a:lnTo>
                  <a:lnTo>
                    <a:pt x="261" y="1399"/>
                  </a:lnTo>
                  <a:lnTo>
                    <a:pt x="267" y="1407"/>
                  </a:lnTo>
                  <a:lnTo>
                    <a:pt x="274" y="1414"/>
                  </a:lnTo>
                  <a:lnTo>
                    <a:pt x="280" y="1420"/>
                  </a:lnTo>
                  <a:lnTo>
                    <a:pt x="284" y="1428"/>
                  </a:lnTo>
                  <a:lnTo>
                    <a:pt x="290" y="1435"/>
                  </a:lnTo>
                  <a:lnTo>
                    <a:pt x="297" y="1441"/>
                  </a:lnTo>
                  <a:lnTo>
                    <a:pt x="303" y="1447"/>
                  </a:lnTo>
                  <a:lnTo>
                    <a:pt x="307" y="1453"/>
                  </a:lnTo>
                  <a:lnTo>
                    <a:pt x="313" y="1459"/>
                  </a:lnTo>
                  <a:lnTo>
                    <a:pt x="320" y="1466"/>
                  </a:lnTo>
                  <a:lnTo>
                    <a:pt x="326" y="1472"/>
                  </a:lnTo>
                  <a:lnTo>
                    <a:pt x="332" y="1478"/>
                  </a:lnTo>
                  <a:lnTo>
                    <a:pt x="342" y="1491"/>
                  </a:lnTo>
                  <a:lnTo>
                    <a:pt x="355" y="1503"/>
                  </a:lnTo>
                  <a:lnTo>
                    <a:pt x="365" y="1513"/>
                  </a:lnTo>
                  <a:lnTo>
                    <a:pt x="378" y="1524"/>
                  </a:lnTo>
                  <a:lnTo>
                    <a:pt x="388" y="1534"/>
                  </a:lnTo>
                  <a:lnTo>
                    <a:pt x="399" y="1545"/>
                  </a:lnTo>
                  <a:lnTo>
                    <a:pt x="411" y="1555"/>
                  </a:lnTo>
                  <a:lnTo>
                    <a:pt x="422" y="1565"/>
                  </a:lnTo>
                  <a:lnTo>
                    <a:pt x="432" y="1574"/>
                  </a:lnTo>
                  <a:lnTo>
                    <a:pt x="445" y="1584"/>
                  </a:lnTo>
                  <a:lnTo>
                    <a:pt x="455" y="1592"/>
                  </a:lnTo>
                  <a:lnTo>
                    <a:pt x="466" y="1601"/>
                  </a:lnTo>
                  <a:lnTo>
                    <a:pt x="476" y="1609"/>
                  </a:lnTo>
                  <a:lnTo>
                    <a:pt x="486" y="1617"/>
                  </a:lnTo>
                  <a:lnTo>
                    <a:pt x="495" y="1624"/>
                  </a:lnTo>
                  <a:lnTo>
                    <a:pt x="505" y="1632"/>
                  </a:lnTo>
                  <a:lnTo>
                    <a:pt x="516" y="1638"/>
                  </a:lnTo>
                  <a:lnTo>
                    <a:pt x="524" y="1644"/>
                  </a:lnTo>
                  <a:lnTo>
                    <a:pt x="532" y="1651"/>
                  </a:lnTo>
                  <a:lnTo>
                    <a:pt x="543" y="1657"/>
                  </a:lnTo>
                  <a:lnTo>
                    <a:pt x="557" y="1667"/>
                  </a:lnTo>
                  <a:lnTo>
                    <a:pt x="574" y="1678"/>
                  </a:lnTo>
                  <a:lnTo>
                    <a:pt x="587" y="1686"/>
                  </a:lnTo>
                  <a:lnTo>
                    <a:pt x="599" y="1694"/>
                  </a:lnTo>
                  <a:lnTo>
                    <a:pt x="620" y="1705"/>
                  </a:lnTo>
                  <a:lnTo>
                    <a:pt x="637" y="1713"/>
                  </a:lnTo>
                  <a:lnTo>
                    <a:pt x="637" y="1634"/>
                  </a:lnTo>
                  <a:lnTo>
                    <a:pt x="633" y="1628"/>
                  </a:lnTo>
                  <a:lnTo>
                    <a:pt x="626" y="1624"/>
                  </a:lnTo>
                  <a:lnTo>
                    <a:pt x="620" y="1615"/>
                  </a:lnTo>
                  <a:lnTo>
                    <a:pt x="612" y="1605"/>
                  </a:lnTo>
                  <a:lnTo>
                    <a:pt x="601" y="1592"/>
                  </a:lnTo>
                  <a:lnTo>
                    <a:pt x="595" y="1586"/>
                  </a:lnTo>
                  <a:lnTo>
                    <a:pt x="589" y="1580"/>
                  </a:lnTo>
                  <a:lnTo>
                    <a:pt x="582" y="1572"/>
                  </a:lnTo>
                  <a:lnTo>
                    <a:pt x="574" y="1563"/>
                  </a:lnTo>
                  <a:lnTo>
                    <a:pt x="568" y="1555"/>
                  </a:lnTo>
                  <a:lnTo>
                    <a:pt x="560" y="1547"/>
                  </a:lnTo>
                  <a:lnTo>
                    <a:pt x="551" y="1536"/>
                  </a:lnTo>
                  <a:lnTo>
                    <a:pt x="543" y="1526"/>
                  </a:lnTo>
                  <a:lnTo>
                    <a:pt x="537" y="1518"/>
                  </a:lnTo>
                  <a:lnTo>
                    <a:pt x="526" y="1505"/>
                  </a:lnTo>
                  <a:lnTo>
                    <a:pt x="518" y="1495"/>
                  </a:lnTo>
                  <a:lnTo>
                    <a:pt x="509" y="1484"/>
                  </a:lnTo>
                  <a:lnTo>
                    <a:pt x="499" y="1472"/>
                  </a:lnTo>
                  <a:lnTo>
                    <a:pt x="491" y="1459"/>
                  </a:lnTo>
                  <a:lnTo>
                    <a:pt x="486" y="1453"/>
                  </a:lnTo>
                  <a:lnTo>
                    <a:pt x="480" y="1447"/>
                  </a:lnTo>
                  <a:lnTo>
                    <a:pt x="476" y="1441"/>
                  </a:lnTo>
                  <a:lnTo>
                    <a:pt x="472" y="1435"/>
                  </a:lnTo>
                  <a:lnTo>
                    <a:pt x="451" y="1407"/>
                  </a:lnTo>
                  <a:lnTo>
                    <a:pt x="432" y="1380"/>
                  </a:lnTo>
                  <a:lnTo>
                    <a:pt x="411" y="1351"/>
                  </a:lnTo>
                  <a:lnTo>
                    <a:pt x="390" y="1322"/>
                  </a:lnTo>
                  <a:lnTo>
                    <a:pt x="370" y="1291"/>
                  </a:lnTo>
                  <a:lnTo>
                    <a:pt x="349" y="1258"/>
                  </a:lnTo>
                  <a:lnTo>
                    <a:pt x="328" y="1225"/>
                  </a:lnTo>
                  <a:lnTo>
                    <a:pt x="309" y="1191"/>
                  </a:lnTo>
                  <a:lnTo>
                    <a:pt x="290" y="1158"/>
                  </a:lnTo>
                  <a:lnTo>
                    <a:pt x="269" y="1123"/>
                  </a:lnTo>
                  <a:lnTo>
                    <a:pt x="253" y="1087"/>
                  </a:lnTo>
                  <a:lnTo>
                    <a:pt x="234" y="1050"/>
                  </a:lnTo>
                  <a:lnTo>
                    <a:pt x="219" y="1015"/>
                  </a:lnTo>
                  <a:lnTo>
                    <a:pt x="203" y="977"/>
                  </a:lnTo>
                  <a:lnTo>
                    <a:pt x="190" y="940"/>
                  </a:lnTo>
                  <a:lnTo>
                    <a:pt x="176" y="902"/>
                  </a:lnTo>
                  <a:lnTo>
                    <a:pt x="165" y="865"/>
                  </a:lnTo>
                  <a:lnTo>
                    <a:pt x="155" y="828"/>
                  </a:lnTo>
                  <a:lnTo>
                    <a:pt x="148" y="790"/>
                  </a:lnTo>
                  <a:lnTo>
                    <a:pt x="140" y="753"/>
                  </a:lnTo>
                  <a:lnTo>
                    <a:pt x="127" y="680"/>
                  </a:lnTo>
                  <a:lnTo>
                    <a:pt x="111" y="543"/>
                  </a:lnTo>
                  <a:lnTo>
                    <a:pt x="107" y="416"/>
                  </a:lnTo>
                  <a:lnTo>
                    <a:pt x="107" y="304"/>
                  </a:lnTo>
                  <a:lnTo>
                    <a:pt x="113" y="212"/>
                  </a:lnTo>
                  <a:lnTo>
                    <a:pt x="119" y="142"/>
                  </a:lnTo>
                  <a:lnTo>
                    <a:pt x="130" y="81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4"/>
            <p:cNvSpPr/>
            <p:nvPr/>
          </p:nvSpPr>
          <p:spPr>
            <a:xfrm>
              <a:off x="4302720" y="2750760"/>
              <a:ext cx="377640" cy="5457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960" h="1388">
                  <a:moveTo>
                    <a:pt x="54" y="0"/>
                  </a:moveTo>
                  <a:lnTo>
                    <a:pt x="14" y="17"/>
                  </a:lnTo>
                  <a:lnTo>
                    <a:pt x="0" y="46"/>
                  </a:lnTo>
                  <a:lnTo>
                    <a:pt x="4" y="67"/>
                  </a:lnTo>
                  <a:lnTo>
                    <a:pt x="19" y="94"/>
                  </a:lnTo>
                  <a:lnTo>
                    <a:pt x="42" y="125"/>
                  </a:lnTo>
                  <a:lnTo>
                    <a:pt x="62" y="156"/>
                  </a:lnTo>
                  <a:lnTo>
                    <a:pt x="83" y="185"/>
                  </a:lnTo>
                  <a:lnTo>
                    <a:pt x="100" y="216"/>
                  </a:lnTo>
                  <a:lnTo>
                    <a:pt x="117" y="243"/>
                  </a:lnTo>
                  <a:lnTo>
                    <a:pt x="127" y="270"/>
                  </a:lnTo>
                  <a:lnTo>
                    <a:pt x="142" y="316"/>
                  </a:lnTo>
                  <a:lnTo>
                    <a:pt x="148" y="333"/>
                  </a:lnTo>
                  <a:lnTo>
                    <a:pt x="167" y="362"/>
                  </a:lnTo>
                  <a:lnTo>
                    <a:pt x="179" y="378"/>
                  </a:lnTo>
                  <a:lnTo>
                    <a:pt x="192" y="397"/>
                  </a:lnTo>
                  <a:lnTo>
                    <a:pt x="200" y="410"/>
                  </a:lnTo>
                  <a:lnTo>
                    <a:pt x="209" y="420"/>
                  </a:lnTo>
                  <a:lnTo>
                    <a:pt x="219" y="432"/>
                  </a:lnTo>
                  <a:lnTo>
                    <a:pt x="227" y="445"/>
                  </a:lnTo>
                  <a:lnTo>
                    <a:pt x="234" y="451"/>
                  </a:lnTo>
                  <a:lnTo>
                    <a:pt x="238" y="457"/>
                  </a:lnTo>
                  <a:lnTo>
                    <a:pt x="242" y="464"/>
                  </a:lnTo>
                  <a:lnTo>
                    <a:pt x="248" y="470"/>
                  </a:lnTo>
                  <a:lnTo>
                    <a:pt x="252" y="476"/>
                  </a:lnTo>
                  <a:lnTo>
                    <a:pt x="259" y="482"/>
                  </a:lnTo>
                  <a:lnTo>
                    <a:pt x="263" y="491"/>
                  </a:lnTo>
                  <a:lnTo>
                    <a:pt x="269" y="497"/>
                  </a:lnTo>
                  <a:lnTo>
                    <a:pt x="275" y="503"/>
                  </a:lnTo>
                  <a:lnTo>
                    <a:pt x="280" y="511"/>
                  </a:lnTo>
                  <a:lnTo>
                    <a:pt x="286" y="518"/>
                  </a:lnTo>
                  <a:lnTo>
                    <a:pt x="292" y="526"/>
                  </a:lnTo>
                  <a:lnTo>
                    <a:pt x="298" y="532"/>
                  </a:lnTo>
                  <a:lnTo>
                    <a:pt x="305" y="540"/>
                  </a:lnTo>
                  <a:lnTo>
                    <a:pt x="309" y="547"/>
                  </a:lnTo>
                  <a:lnTo>
                    <a:pt x="315" y="555"/>
                  </a:lnTo>
                  <a:lnTo>
                    <a:pt x="321" y="561"/>
                  </a:lnTo>
                  <a:lnTo>
                    <a:pt x="328" y="570"/>
                  </a:lnTo>
                  <a:lnTo>
                    <a:pt x="334" y="578"/>
                  </a:lnTo>
                  <a:lnTo>
                    <a:pt x="340" y="586"/>
                  </a:lnTo>
                  <a:lnTo>
                    <a:pt x="346" y="592"/>
                  </a:lnTo>
                  <a:lnTo>
                    <a:pt x="353" y="601"/>
                  </a:lnTo>
                  <a:lnTo>
                    <a:pt x="359" y="609"/>
                  </a:lnTo>
                  <a:lnTo>
                    <a:pt x="365" y="617"/>
                  </a:lnTo>
                  <a:lnTo>
                    <a:pt x="373" y="624"/>
                  </a:lnTo>
                  <a:lnTo>
                    <a:pt x="380" y="632"/>
                  </a:lnTo>
                  <a:lnTo>
                    <a:pt x="386" y="640"/>
                  </a:lnTo>
                  <a:lnTo>
                    <a:pt x="392" y="649"/>
                  </a:lnTo>
                  <a:lnTo>
                    <a:pt x="398" y="657"/>
                  </a:lnTo>
                  <a:lnTo>
                    <a:pt x="405" y="665"/>
                  </a:lnTo>
                  <a:lnTo>
                    <a:pt x="411" y="673"/>
                  </a:lnTo>
                  <a:lnTo>
                    <a:pt x="419" y="682"/>
                  </a:lnTo>
                  <a:lnTo>
                    <a:pt x="426" y="690"/>
                  </a:lnTo>
                  <a:lnTo>
                    <a:pt x="432" y="696"/>
                  </a:lnTo>
                  <a:lnTo>
                    <a:pt x="438" y="707"/>
                  </a:lnTo>
                  <a:lnTo>
                    <a:pt x="444" y="713"/>
                  </a:lnTo>
                  <a:lnTo>
                    <a:pt x="453" y="721"/>
                  </a:lnTo>
                  <a:lnTo>
                    <a:pt x="459" y="730"/>
                  </a:lnTo>
                  <a:lnTo>
                    <a:pt x="465" y="738"/>
                  </a:lnTo>
                  <a:lnTo>
                    <a:pt x="472" y="746"/>
                  </a:lnTo>
                  <a:lnTo>
                    <a:pt x="480" y="755"/>
                  </a:lnTo>
                  <a:lnTo>
                    <a:pt x="486" y="763"/>
                  </a:lnTo>
                  <a:lnTo>
                    <a:pt x="492" y="771"/>
                  </a:lnTo>
                  <a:lnTo>
                    <a:pt x="499" y="779"/>
                  </a:lnTo>
                  <a:lnTo>
                    <a:pt x="505" y="788"/>
                  </a:lnTo>
                  <a:lnTo>
                    <a:pt x="511" y="796"/>
                  </a:lnTo>
                  <a:lnTo>
                    <a:pt x="520" y="802"/>
                  </a:lnTo>
                  <a:lnTo>
                    <a:pt x="526" y="811"/>
                  </a:lnTo>
                  <a:lnTo>
                    <a:pt x="532" y="819"/>
                  </a:lnTo>
                  <a:lnTo>
                    <a:pt x="538" y="827"/>
                  </a:lnTo>
                  <a:lnTo>
                    <a:pt x="545" y="836"/>
                  </a:lnTo>
                  <a:lnTo>
                    <a:pt x="551" y="844"/>
                  </a:lnTo>
                  <a:lnTo>
                    <a:pt x="557" y="850"/>
                  </a:lnTo>
                  <a:lnTo>
                    <a:pt x="563" y="858"/>
                  </a:lnTo>
                  <a:lnTo>
                    <a:pt x="570" y="867"/>
                  </a:lnTo>
                  <a:lnTo>
                    <a:pt x="576" y="873"/>
                  </a:lnTo>
                  <a:lnTo>
                    <a:pt x="588" y="890"/>
                  </a:lnTo>
                  <a:lnTo>
                    <a:pt x="595" y="896"/>
                  </a:lnTo>
                  <a:lnTo>
                    <a:pt x="601" y="904"/>
                  </a:lnTo>
                  <a:lnTo>
                    <a:pt x="607" y="913"/>
                  </a:lnTo>
                  <a:lnTo>
                    <a:pt x="613" y="919"/>
                  </a:lnTo>
                  <a:lnTo>
                    <a:pt x="620" y="927"/>
                  </a:lnTo>
                  <a:lnTo>
                    <a:pt x="624" y="933"/>
                  </a:lnTo>
                  <a:lnTo>
                    <a:pt x="630" y="940"/>
                  </a:lnTo>
                  <a:lnTo>
                    <a:pt x="636" y="948"/>
                  </a:lnTo>
                  <a:lnTo>
                    <a:pt x="641" y="954"/>
                  </a:lnTo>
                  <a:lnTo>
                    <a:pt x="647" y="960"/>
                  </a:lnTo>
                  <a:lnTo>
                    <a:pt x="653" y="969"/>
                  </a:lnTo>
                  <a:lnTo>
                    <a:pt x="657" y="975"/>
                  </a:lnTo>
                  <a:lnTo>
                    <a:pt x="664" y="981"/>
                  </a:lnTo>
                  <a:lnTo>
                    <a:pt x="668" y="987"/>
                  </a:lnTo>
                  <a:lnTo>
                    <a:pt x="674" y="994"/>
                  </a:lnTo>
                  <a:lnTo>
                    <a:pt x="678" y="1000"/>
                  </a:lnTo>
                  <a:lnTo>
                    <a:pt x="682" y="1006"/>
                  </a:lnTo>
                  <a:lnTo>
                    <a:pt x="689" y="1012"/>
                  </a:lnTo>
                  <a:lnTo>
                    <a:pt x="697" y="1025"/>
                  </a:lnTo>
                  <a:lnTo>
                    <a:pt x="705" y="1035"/>
                  </a:lnTo>
                  <a:lnTo>
                    <a:pt x="714" y="1046"/>
                  </a:lnTo>
                  <a:lnTo>
                    <a:pt x="722" y="1056"/>
                  </a:lnTo>
                  <a:lnTo>
                    <a:pt x="737" y="1075"/>
                  </a:lnTo>
                  <a:lnTo>
                    <a:pt x="757" y="1106"/>
                  </a:lnTo>
                  <a:lnTo>
                    <a:pt x="774" y="1133"/>
                  </a:lnTo>
                  <a:lnTo>
                    <a:pt x="791" y="1160"/>
                  </a:lnTo>
                  <a:lnTo>
                    <a:pt x="808" y="1187"/>
                  </a:lnTo>
                  <a:lnTo>
                    <a:pt x="824" y="1214"/>
                  </a:lnTo>
                  <a:lnTo>
                    <a:pt x="841" y="1241"/>
                  </a:lnTo>
                  <a:lnTo>
                    <a:pt x="856" y="1268"/>
                  </a:lnTo>
                  <a:lnTo>
                    <a:pt x="872" y="1293"/>
                  </a:lnTo>
                  <a:lnTo>
                    <a:pt x="887" y="1316"/>
                  </a:lnTo>
                  <a:lnTo>
                    <a:pt x="899" y="1337"/>
                  </a:lnTo>
                  <a:lnTo>
                    <a:pt x="912" y="1355"/>
                  </a:lnTo>
                  <a:lnTo>
                    <a:pt x="918" y="1364"/>
                  </a:lnTo>
                  <a:lnTo>
                    <a:pt x="924" y="1370"/>
                  </a:lnTo>
                  <a:lnTo>
                    <a:pt x="935" y="1380"/>
                  </a:lnTo>
                  <a:lnTo>
                    <a:pt x="943" y="1388"/>
                  </a:lnTo>
                  <a:lnTo>
                    <a:pt x="952" y="1388"/>
                  </a:lnTo>
                  <a:lnTo>
                    <a:pt x="960" y="1376"/>
                  </a:lnTo>
                  <a:lnTo>
                    <a:pt x="960" y="1349"/>
                  </a:lnTo>
                  <a:lnTo>
                    <a:pt x="952" y="1320"/>
                  </a:lnTo>
                  <a:lnTo>
                    <a:pt x="945" y="1303"/>
                  </a:lnTo>
                  <a:lnTo>
                    <a:pt x="937" y="1285"/>
                  </a:lnTo>
                  <a:lnTo>
                    <a:pt x="927" y="1266"/>
                  </a:lnTo>
                  <a:lnTo>
                    <a:pt x="916" y="1245"/>
                  </a:lnTo>
                  <a:lnTo>
                    <a:pt x="904" y="1222"/>
                  </a:lnTo>
                  <a:lnTo>
                    <a:pt x="889" y="1197"/>
                  </a:lnTo>
                  <a:lnTo>
                    <a:pt x="874" y="1172"/>
                  </a:lnTo>
                  <a:lnTo>
                    <a:pt x="860" y="1145"/>
                  </a:lnTo>
                  <a:lnTo>
                    <a:pt x="843" y="1114"/>
                  </a:lnTo>
                  <a:lnTo>
                    <a:pt x="826" y="1083"/>
                  </a:lnTo>
                  <a:lnTo>
                    <a:pt x="808" y="1048"/>
                  </a:lnTo>
                  <a:lnTo>
                    <a:pt x="791" y="1012"/>
                  </a:lnTo>
                  <a:lnTo>
                    <a:pt x="780" y="991"/>
                  </a:lnTo>
                  <a:lnTo>
                    <a:pt x="768" y="971"/>
                  </a:lnTo>
                  <a:lnTo>
                    <a:pt x="755" y="948"/>
                  </a:lnTo>
                  <a:lnTo>
                    <a:pt x="739" y="925"/>
                  </a:lnTo>
                  <a:lnTo>
                    <a:pt x="722" y="900"/>
                  </a:lnTo>
                  <a:lnTo>
                    <a:pt x="703" y="875"/>
                  </a:lnTo>
                  <a:lnTo>
                    <a:pt x="684" y="848"/>
                  </a:lnTo>
                  <a:lnTo>
                    <a:pt x="674" y="836"/>
                  </a:lnTo>
                  <a:lnTo>
                    <a:pt x="670" y="827"/>
                  </a:lnTo>
                  <a:lnTo>
                    <a:pt x="664" y="821"/>
                  </a:lnTo>
                  <a:lnTo>
                    <a:pt x="657" y="815"/>
                  </a:lnTo>
                  <a:lnTo>
                    <a:pt x="653" y="809"/>
                  </a:lnTo>
                  <a:lnTo>
                    <a:pt x="643" y="794"/>
                  </a:lnTo>
                  <a:lnTo>
                    <a:pt x="636" y="788"/>
                  </a:lnTo>
                  <a:lnTo>
                    <a:pt x="630" y="779"/>
                  </a:lnTo>
                  <a:lnTo>
                    <a:pt x="626" y="773"/>
                  </a:lnTo>
                  <a:lnTo>
                    <a:pt x="620" y="765"/>
                  </a:lnTo>
                  <a:lnTo>
                    <a:pt x="613" y="759"/>
                  </a:lnTo>
                  <a:lnTo>
                    <a:pt x="607" y="750"/>
                  </a:lnTo>
                  <a:lnTo>
                    <a:pt x="603" y="744"/>
                  </a:lnTo>
                  <a:lnTo>
                    <a:pt x="597" y="738"/>
                  </a:lnTo>
                  <a:lnTo>
                    <a:pt x="590" y="730"/>
                  </a:lnTo>
                  <a:lnTo>
                    <a:pt x="584" y="723"/>
                  </a:lnTo>
                  <a:lnTo>
                    <a:pt x="578" y="715"/>
                  </a:lnTo>
                  <a:lnTo>
                    <a:pt x="572" y="709"/>
                  </a:lnTo>
                  <a:lnTo>
                    <a:pt x="565" y="701"/>
                  </a:lnTo>
                  <a:lnTo>
                    <a:pt x="561" y="694"/>
                  </a:lnTo>
                  <a:lnTo>
                    <a:pt x="555" y="686"/>
                  </a:lnTo>
                  <a:lnTo>
                    <a:pt x="549" y="680"/>
                  </a:lnTo>
                  <a:lnTo>
                    <a:pt x="542" y="671"/>
                  </a:lnTo>
                  <a:lnTo>
                    <a:pt x="536" y="665"/>
                  </a:lnTo>
                  <a:lnTo>
                    <a:pt x="530" y="659"/>
                  </a:lnTo>
                  <a:lnTo>
                    <a:pt x="524" y="651"/>
                  </a:lnTo>
                  <a:lnTo>
                    <a:pt x="517" y="644"/>
                  </a:lnTo>
                  <a:lnTo>
                    <a:pt x="511" y="636"/>
                  </a:lnTo>
                  <a:lnTo>
                    <a:pt x="505" y="630"/>
                  </a:lnTo>
                  <a:lnTo>
                    <a:pt x="499" y="622"/>
                  </a:lnTo>
                  <a:lnTo>
                    <a:pt x="488" y="607"/>
                  </a:lnTo>
                  <a:lnTo>
                    <a:pt x="482" y="601"/>
                  </a:lnTo>
                  <a:lnTo>
                    <a:pt x="476" y="595"/>
                  </a:lnTo>
                  <a:lnTo>
                    <a:pt x="469" y="586"/>
                  </a:lnTo>
                  <a:lnTo>
                    <a:pt x="463" y="580"/>
                  </a:lnTo>
                  <a:lnTo>
                    <a:pt x="457" y="572"/>
                  </a:lnTo>
                  <a:lnTo>
                    <a:pt x="451" y="565"/>
                  </a:lnTo>
                  <a:lnTo>
                    <a:pt x="438" y="551"/>
                  </a:lnTo>
                  <a:lnTo>
                    <a:pt x="434" y="545"/>
                  </a:lnTo>
                  <a:lnTo>
                    <a:pt x="428" y="536"/>
                  </a:lnTo>
                  <a:lnTo>
                    <a:pt x="421" y="530"/>
                  </a:lnTo>
                  <a:lnTo>
                    <a:pt x="415" y="524"/>
                  </a:lnTo>
                  <a:lnTo>
                    <a:pt x="405" y="509"/>
                  </a:lnTo>
                  <a:lnTo>
                    <a:pt x="398" y="503"/>
                  </a:lnTo>
                  <a:lnTo>
                    <a:pt x="392" y="497"/>
                  </a:lnTo>
                  <a:lnTo>
                    <a:pt x="386" y="491"/>
                  </a:lnTo>
                  <a:lnTo>
                    <a:pt x="382" y="482"/>
                  </a:lnTo>
                  <a:lnTo>
                    <a:pt x="376" y="476"/>
                  </a:lnTo>
                  <a:lnTo>
                    <a:pt x="371" y="470"/>
                  </a:lnTo>
                  <a:lnTo>
                    <a:pt x="365" y="464"/>
                  </a:lnTo>
                  <a:lnTo>
                    <a:pt x="359" y="457"/>
                  </a:lnTo>
                  <a:lnTo>
                    <a:pt x="348" y="445"/>
                  </a:lnTo>
                  <a:lnTo>
                    <a:pt x="344" y="439"/>
                  </a:lnTo>
                  <a:lnTo>
                    <a:pt x="338" y="432"/>
                  </a:lnTo>
                  <a:lnTo>
                    <a:pt x="330" y="420"/>
                  </a:lnTo>
                  <a:lnTo>
                    <a:pt x="319" y="407"/>
                  </a:lnTo>
                  <a:lnTo>
                    <a:pt x="309" y="397"/>
                  </a:lnTo>
                  <a:lnTo>
                    <a:pt x="300" y="385"/>
                  </a:lnTo>
                  <a:lnTo>
                    <a:pt x="292" y="374"/>
                  </a:lnTo>
                  <a:lnTo>
                    <a:pt x="284" y="364"/>
                  </a:lnTo>
                  <a:lnTo>
                    <a:pt x="275" y="353"/>
                  </a:lnTo>
                  <a:lnTo>
                    <a:pt x="267" y="343"/>
                  </a:lnTo>
                  <a:lnTo>
                    <a:pt x="242" y="308"/>
                  </a:lnTo>
                  <a:lnTo>
                    <a:pt x="215" y="256"/>
                  </a:lnTo>
                  <a:lnTo>
                    <a:pt x="211" y="237"/>
                  </a:lnTo>
                  <a:lnTo>
                    <a:pt x="202" y="218"/>
                  </a:lnTo>
                  <a:lnTo>
                    <a:pt x="194" y="198"/>
                  </a:lnTo>
                  <a:lnTo>
                    <a:pt x="181" y="177"/>
                  </a:lnTo>
                  <a:lnTo>
                    <a:pt x="169" y="154"/>
                  </a:lnTo>
                  <a:lnTo>
                    <a:pt x="154" y="133"/>
                  </a:lnTo>
                  <a:lnTo>
                    <a:pt x="142" y="112"/>
                  </a:lnTo>
                  <a:lnTo>
                    <a:pt x="127" y="94"/>
                  </a:lnTo>
                  <a:lnTo>
                    <a:pt x="113" y="73"/>
                  </a:lnTo>
                  <a:lnTo>
                    <a:pt x="106" y="65"/>
                  </a:lnTo>
                  <a:lnTo>
                    <a:pt x="100" y="56"/>
                  </a:lnTo>
                  <a:lnTo>
                    <a:pt x="94" y="48"/>
                  </a:lnTo>
                  <a:lnTo>
                    <a:pt x="87" y="40"/>
                  </a:lnTo>
                  <a:lnTo>
                    <a:pt x="81" y="33"/>
                  </a:lnTo>
                  <a:lnTo>
                    <a:pt x="75" y="27"/>
                  </a:lnTo>
                  <a:lnTo>
                    <a:pt x="67" y="15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5"/>
            <p:cNvSpPr/>
            <p:nvPr/>
          </p:nvSpPr>
          <p:spPr>
            <a:xfrm>
              <a:off x="4714920" y="3040560"/>
              <a:ext cx="714600" cy="9896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989640"/>
                <a:gd name="textAreaBottom" fmla="*/ 990000 h 989640"/>
              </a:gdLst>
              <a:ahLst/>
              <a:rect l="textAreaLeft" t="textAreaTop" r="textAreaRight" b="textAreaBottom"/>
              <a:pathLst>
                <a:path w="1817" h="2515">
                  <a:moveTo>
                    <a:pt x="20" y="0"/>
                  </a:moveTo>
                  <a:lnTo>
                    <a:pt x="12" y="170"/>
                  </a:lnTo>
                  <a:lnTo>
                    <a:pt x="0" y="567"/>
                  </a:lnTo>
                  <a:lnTo>
                    <a:pt x="0" y="796"/>
                  </a:lnTo>
                  <a:lnTo>
                    <a:pt x="6" y="1018"/>
                  </a:lnTo>
                  <a:lnTo>
                    <a:pt x="14" y="1118"/>
                  </a:lnTo>
                  <a:lnTo>
                    <a:pt x="23" y="1209"/>
                  </a:lnTo>
                  <a:lnTo>
                    <a:pt x="29" y="1249"/>
                  </a:lnTo>
                  <a:lnTo>
                    <a:pt x="37" y="1286"/>
                  </a:lnTo>
                  <a:lnTo>
                    <a:pt x="45" y="1320"/>
                  </a:lnTo>
                  <a:lnTo>
                    <a:pt x="54" y="1349"/>
                  </a:lnTo>
                  <a:lnTo>
                    <a:pt x="64" y="1376"/>
                  </a:lnTo>
                  <a:lnTo>
                    <a:pt x="75" y="1405"/>
                  </a:lnTo>
                  <a:lnTo>
                    <a:pt x="85" y="1434"/>
                  </a:lnTo>
                  <a:lnTo>
                    <a:pt x="98" y="1465"/>
                  </a:lnTo>
                  <a:lnTo>
                    <a:pt x="110" y="1496"/>
                  </a:lnTo>
                  <a:lnTo>
                    <a:pt x="123" y="1530"/>
                  </a:lnTo>
                  <a:lnTo>
                    <a:pt x="137" y="1563"/>
                  </a:lnTo>
                  <a:lnTo>
                    <a:pt x="150" y="1598"/>
                  </a:lnTo>
                  <a:lnTo>
                    <a:pt x="164" y="1633"/>
                  </a:lnTo>
                  <a:lnTo>
                    <a:pt x="179" y="1669"/>
                  </a:lnTo>
                  <a:lnTo>
                    <a:pt x="194" y="1704"/>
                  </a:lnTo>
                  <a:lnTo>
                    <a:pt x="210" y="1739"/>
                  </a:lnTo>
                  <a:lnTo>
                    <a:pt x="225" y="1775"/>
                  </a:lnTo>
                  <a:lnTo>
                    <a:pt x="240" y="1810"/>
                  </a:lnTo>
                  <a:lnTo>
                    <a:pt x="256" y="1845"/>
                  </a:lnTo>
                  <a:lnTo>
                    <a:pt x="271" y="1881"/>
                  </a:lnTo>
                  <a:lnTo>
                    <a:pt x="285" y="1914"/>
                  </a:lnTo>
                  <a:lnTo>
                    <a:pt x="302" y="1947"/>
                  </a:lnTo>
                  <a:lnTo>
                    <a:pt x="317" y="1981"/>
                  </a:lnTo>
                  <a:lnTo>
                    <a:pt x="331" y="2014"/>
                  </a:lnTo>
                  <a:lnTo>
                    <a:pt x="346" y="2045"/>
                  </a:lnTo>
                  <a:lnTo>
                    <a:pt x="361" y="2074"/>
                  </a:lnTo>
                  <a:lnTo>
                    <a:pt x="375" y="2103"/>
                  </a:lnTo>
                  <a:lnTo>
                    <a:pt x="388" y="2130"/>
                  </a:lnTo>
                  <a:lnTo>
                    <a:pt x="400" y="2157"/>
                  </a:lnTo>
                  <a:lnTo>
                    <a:pt x="413" y="2180"/>
                  </a:lnTo>
                  <a:lnTo>
                    <a:pt x="425" y="2203"/>
                  </a:lnTo>
                  <a:lnTo>
                    <a:pt x="436" y="2224"/>
                  </a:lnTo>
                  <a:lnTo>
                    <a:pt x="446" y="2242"/>
                  </a:lnTo>
                  <a:lnTo>
                    <a:pt x="457" y="2259"/>
                  </a:lnTo>
                  <a:lnTo>
                    <a:pt x="473" y="2286"/>
                  </a:lnTo>
                  <a:lnTo>
                    <a:pt x="482" y="2297"/>
                  </a:lnTo>
                  <a:lnTo>
                    <a:pt x="490" y="2307"/>
                  </a:lnTo>
                  <a:lnTo>
                    <a:pt x="503" y="2317"/>
                  </a:lnTo>
                  <a:lnTo>
                    <a:pt x="513" y="2328"/>
                  </a:lnTo>
                  <a:lnTo>
                    <a:pt x="525" y="2340"/>
                  </a:lnTo>
                  <a:lnTo>
                    <a:pt x="540" y="2351"/>
                  </a:lnTo>
                  <a:lnTo>
                    <a:pt x="555" y="2361"/>
                  </a:lnTo>
                  <a:lnTo>
                    <a:pt x="571" y="2369"/>
                  </a:lnTo>
                  <a:lnTo>
                    <a:pt x="588" y="2380"/>
                  </a:lnTo>
                  <a:lnTo>
                    <a:pt x="605" y="2390"/>
                  </a:lnTo>
                  <a:lnTo>
                    <a:pt x="624" y="2398"/>
                  </a:lnTo>
                  <a:lnTo>
                    <a:pt x="642" y="2409"/>
                  </a:lnTo>
                  <a:lnTo>
                    <a:pt x="663" y="2417"/>
                  </a:lnTo>
                  <a:lnTo>
                    <a:pt x="684" y="2427"/>
                  </a:lnTo>
                  <a:lnTo>
                    <a:pt x="705" y="2436"/>
                  </a:lnTo>
                  <a:lnTo>
                    <a:pt x="726" y="2444"/>
                  </a:lnTo>
                  <a:lnTo>
                    <a:pt x="749" y="2452"/>
                  </a:lnTo>
                  <a:lnTo>
                    <a:pt x="772" y="2459"/>
                  </a:lnTo>
                  <a:lnTo>
                    <a:pt x="795" y="2467"/>
                  </a:lnTo>
                  <a:lnTo>
                    <a:pt x="818" y="2473"/>
                  </a:lnTo>
                  <a:lnTo>
                    <a:pt x="843" y="2479"/>
                  </a:lnTo>
                  <a:lnTo>
                    <a:pt x="866" y="2486"/>
                  </a:lnTo>
                  <a:lnTo>
                    <a:pt x="916" y="2496"/>
                  </a:lnTo>
                  <a:lnTo>
                    <a:pt x="966" y="2504"/>
                  </a:lnTo>
                  <a:lnTo>
                    <a:pt x="1014" y="2511"/>
                  </a:lnTo>
                  <a:lnTo>
                    <a:pt x="1114" y="2515"/>
                  </a:lnTo>
                  <a:lnTo>
                    <a:pt x="1321" y="2504"/>
                  </a:lnTo>
                  <a:lnTo>
                    <a:pt x="1423" y="2490"/>
                  </a:lnTo>
                  <a:lnTo>
                    <a:pt x="1473" y="2484"/>
                  </a:lnTo>
                  <a:lnTo>
                    <a:pt x="1521" y="2473"/>
                  </a:lnTo>
                  <a:lnTo>
                    <a:pt x="1567" y="2465"/>
                  </a:lnTo>
                  <a:lnTo>
                    <a:pt x="1611" y="2454"/>
                  </a:lnTo>
                  <a:lnTo>
                    <a:pt x="1650" y="2444"/>
                  </a:lnTo>
                  <a:lnTo>
                    <a:pt x="1684" y="2432"/>
                  </a:lnTo>
                  <a:lnTo>
                    <a:pt x="1715" y="2421"/>
                  </a:lnTo>
                  <a:lnTo>
                    <a:pt x="1742" y="2411"/>
                  </a:lnTo>
                  <a:lnTo>
                    <a:pt x="1763" y="2398"/>
                  </a:lnTo>
                  <a:lnTo>
                    <a:pt x="1778" y="2388"/>
                  </a:lnTo>
                  <a:lnTo>
                    <a:pt x="1788" y="2375"/>
                  </a:lnTo>
                  <a:lnTo>
                    <a:pt x="1797" y="2365"/>
                  </a:lnTo>
                  <a:lnTo>
                    <a:pt x="1809" y="2348"/>
                  </a:lnTo>
                  <a:lnTo>
                    <a:pt x="1817" y="2321"/>
                  </a:lnTo>
                  <a:lnTo>
                    <a:pt x="1813" y="2305"/>
                  </a:lnTo>
                  <a:lnTo>
                    <a:pt x="1811" y="2299"/>
                  </a:lnTo>
                  <a:lnTo>
                    <a:pt x="1797" y="2307"/>
                  </a:lnTo>
                  <a:lnTo>
                    <a:pt x="1778" y="2315"/>
                  </a:lnTo>
                  <a:lnTo>
                    <a:pt x="1755" y="2326"/>
                  </a:lnTo>
                  <a:lnTo>
                    <a:pt x="1726" y="2336"/>
                  </a:lnTo>
                  <a:lnTo>
                    <a:pt x="1694" y="2348"/>
                  </a:lnTo>
                  <a:lnTo>
                    <a:pt x="1659" y="2359"/>
                  </a:lnTo>
                  <a:lnTo>
                    <a:pt x="1621" y="2367"/>
                  </a:lnTo>
                  <a:lnTo>
                    <a:pt x="1584" y="2371"/>
                  </a:lnTo>
                  <a:lnTo>
                    <a:pt x="1546" y="2367"/>
                  </a:lnTo>
                  <a:lnTo>
                    <a:pt x="1481" y="2348"/>
                  </a:lnTo>
                  <a:lnTo>
                    <a:pt x="1456" y="2334"/>
                  </a:lnTo>
                  <a:lnTo>
                    <a:pt x="1440" y="2319"/>
                  </a:lnTo>
                  <a:lnTo>
                    <a:pt x="1429" y="2305"/>
                  </a:lnTo>
                  <a:lnTo>
                    <a:pt x="1431" y="2292"/>
                  </a:lnTo>
                  <a:lnTo>
                    <a:pt x="1442" y="2282"/>
                  </a:lnTo>
                  <a:lnTo>
                    <a:pt x="1450" y="2276"/>
                  </a:lnTo>
                  <a:lnTo>
                    <a:pt x="1458" y="2269"/>
                  </a:lnTo>
                  <a:lnTo>
                    <a:pt x="1467" y="2261"/>
                  </a:lnTo>
                  <a:lnTo>
                    <a:pt x="1477" y="2255"/>
                  </a:lnTo>
                  <a:lnTo>
                    <a:pt x="1488" y="2249"/>
                  </a:lnTo>
                  <a:lnTo>
                    <a:pt x="1498" y="2242"/>
                  </a:lnTo>
                  <a:lnTo>
                    <a:pt x="1506" y="2236"/>
                  </a:lnTo>
                  <a:lnTo>
                    <a:pt x="1517" y="2230"/>
                  </a:lnTo>
                  <a:lnTo>
                    <a:pt x="1531" y="2220"/>
                  </a:lnTo>
                  <a:lnTo>
                    <a:pt x="1546" y="2211"/>
                  </a:lnTo>
                  <a:lnTo>
                    <a:pt x="1496" y="2205"/>
                  </a:lnTo>
                  <a:lnTo>
                    <a:pt x="1433" y="2197"/>
                  </a:lnTo>
                  <a:lnTo>
                    <a:pt x="1344" y="2191"/>
                  </a:lnTo>
                  <a:lnTo>
                    <a:pt x="1266" y="2180"/>
                  </a:lnTo>
                  <a:lnTo>
                    <a:pt x="1225" y="2166"/>
                  </a:lnTo>
                  <a:lnTo>
                    <a:pt x="1210" y="2151"/>
                  </a:lnTo>
                  <a:lnTo>
                    <a:pt x="1208" y="2145"/>
                  </a:lnTo>
                  <a:lnTo>
                    <a:pt x="1413" y="2103"/>
                  </a:lnTo>
                  <a:lnTo>
                    <a:pt x="1072" y="2076"/>
                  </a:lnTo>
                  <a:lnTo>
                    <a:pt x="1377" y="1995"/>
                  </a:lnTo>
                  <a:lnTo>
                    <a:pt x="1218" y="1995"/>
                  </a:lnTo>
                  <a:lnTo>
                    <a:pt x="1095" y="1979"/>
                  </a:lnTo>
                  <a:lnTo>
                    <a:pt x="1045" y="1964"/>
                  </a:lnTo>
                  <a:lnTo>
                    <a:pt x="1012" y="1941"/>
                  </a:lnTo>
                  <a:lnTo>
                    <a:pt x="1001" y="1922"/>
                  </a:lnTo>
                  <a:lnTo>
                    <a:pt x="1006" y="1918"/>
                  </a:lnTo>
                  <a:lnTo>
                    <a:pt x="1014" y="1914"/>
                  </a:lnTo>
                  <a:lnTo>
                    <a:pt x="1081" y="1914"/>
                  </a:lnTo>
                  <a:lnTo>
                    <a:pt x="1170" y="1912"/>
                  </a:lnTo>
                  <a:lnTo>
                    <a:pt x="1208" y="1902"/>
                  </a:lnTo>
                  <a:lnTo>
                    <a:pt x="1235" y="1881"/>
                  </a:lnTo>
                  <a:lnTo>
                    <a:pt x="1250" y="1856"/>
                  </a:lnTo>
                  <a:lnTo>
                    <a:pt x="1252" y="1835"/>
                  </a:lnTo>
                  <a:lnTo>
                    <a:pt x="1241" y="1821"/>
                  </a:lnTo>
                  <a:lnTo>
                    <a:pt x="1235" y="1814"/>
                  </a:lnTo>
                  <a:lnTo>
                    <a:pt x="1225" y="1810"/>
                  </a:lnTo>
                  <a:lnTo>
                    <a:pt x="1202" y="1802"/>
                  </a:lnTo>
                  <a:lnTo>
                    <a:pt x="1172" y="1798"/>
                  </a:lnTo>
                  <a:lnTo>
                    <a:pt x="1108" y="1794"/>
                  </a:lnTo>
                  <a:lnTo>
                    <a:pt x="1010" y="1800"/>
                  </a:lnTo>
                  <a:lnTo>
                    <a:pt x="960" y="1796"/>
                  </a:lnTo>
                  <a:lnTo>
                    <a:pt x="878" y="1779"/>
                  </a:lnTo>
                  <a:lnTo>
                    <a:pt x="832" y="1767"/>
                  </a:lnTo>
                  <a:lnTo>
                    <a:pt x="814" y="1760"/>
                  </a:lnTo>
                  <a:lnTo>
                    <a:pt x="797" y="1752"/>
                  </a:lnTo>
                  <a:lnTo>
                    <a:pt x="780" y="1744"/>
                  </a:lnTo>
                  <a:lnTo>
                    <a:pt x="768" y="1737"/>
                  </a:lnTo>
                  <a:lnTo>
                    <a:pt x="751" y="1723"/>
                  </a:lnTo>
                  <a:lnTo>
                    <a:pt x="740" y="1710"/>
                  </a:lnTo>
                  <a:lnTo>
                    <a:pt x="743" y="1700"/>
                  </a:lnTo>
                  <a:lnTo>
                    <a:pt x="755" y="1694"/>
                  </a:lnTo>
                  <a:lnTo>
                    <a:pt x="778" y="1692"/>
                  </a:lnTo>
                  <a:lnTo>
                    <a:pt x="841" y="1688"/>
                  </a:lnTo>
                  <a:lnTo>
                    <a:pt x="903" y="1675"/>
                  </a:lnTo>
                  <a:lnTo>
                    <a:pt x="953" y="1663"/>
                  </a:lnTo>
                  <a:lnTo>
                    <a:pt x="974" y="1658"/>
                  </a:lnTo>
                  <a:lnTo>
                    <a:pt x="682" y="1625"/>
                  </a:lnTo>
                  <a:lnTo>
                    <a:pt x="684" y="1615"/>
                  </a:lnTo>
                  <a:lnTo>
                    <a:pt x="697" y="1594"/>
                  </a:lnTo>
                  <a:lnTo>
                    <a:pt x="703" y="1588"/>
                  </a:lnTo>
                  <a:lnTo>
                    <a:pt x="709" y="1584"/>
                  </a:lnTo>
                  <a:lnTo>
                    <a:pt x="718" y="1577"/>
                  </a:lnTo>
                  <a:lnTo>
                    <a:pt x="728" y="1573"/>
                  </a:lnTo>
                  <a:lnTo>
                    <a:pt x="755" y="1567"/>
                  </a:lnTo>
                  <a:lnTo>
                    <a:pt x="791" y="1565"/>
                  </a:lnTo>
                  <a:lnTo>
                    <a:pt x="868" y="1559"/>
                  </a:lnTo>
                  <a:lnTo>
                    <a:pt x="932" y="1544"/>
                  </a:lnTo>
                  <a:lnTo>
                    <a:pt x="960" y="1536"/>
                  </a:lnTo>
                  <a:lnTo>
                    <a:pt x="978" y="1530"/>
                  </a:lnTo>
                  <a:lnTo>
                    <a:pt x="993" y="1523"/>
                  </a:lnTo>
                  <a:lnTo>
                    <a:pt x="809" y="1511"/>
                  </a:lnTo>
                  <a:lnTo>
                    <a:pt x="678" y="1496"/>
                  </a:lnTo>
                  <a:lnTo>
                    <a:pt x="632" y="1484"/>
                  </a:lnTo>
                  <a:lnTo>
                    <a:pt x="609" y="1469"/>
                  </a:lnTo>
                  <a:lnTo>
                    <a:pt x="611" y="1457"/>
                  </a:lnTo>
                  <a:lnTo>
                    <a:pt x="622" y="1453"/>
                  </a:lnTo>
                  <a:lnTo>
                    <a:pt x="634" y="1449"/>
                  </a:lnTo>
                  <a:lnTo>
                    <a:pt x="667" y="1442"/>
                  </a:lnTo>
                  <a:lnTo>
                    <a:pt x="711" y="1440"/>
                  </a:lnTo>
                  <a:lnTo>
                    <a:pt x="859" y="1442"/>
                  </a:lnTo>
                  <a:lnTo>
                    <a:pt x="895" y="1434"/>
                  </a:lnTo>
                  <a:lnTo>
                    <a:pt x="916" y="1424"/>
                  </a:lnTo>
                  <a:lnTo>
                    <a:pt x="935" y="1413"/>
                  </a:lnTo>
                  <a:lnTo>
                    <a:pt x="953" y="1401"/>
                  </a:lnTo>
                  <a:lnTo>
                    <a:pt x="968" y="1392"/>
                  </a:lnTo>
                  <a:lnTo>
                    <a:pt x="980" y="1382"/>
                  </a:lnTo>
                  <a:lnTo>
                    <a:pt x="830" y="1376"/>
                  </a:lnTo>
                  <a:lnTo>
                    <a:pt x="692" y="1367"/>
                  </a:lnTo>
                  <a:lnTo>
                    <a:pt x="555" y="1355"/>
                  </a:lnTo>
                  <a:lnTo>
                    <a:pt x="503" y="1347"/>
                  </a:lnTo>
                  <a:lnTo>
                    <a:pt x="471" y="1336"/>
                  </a:lnTo>
                  <a:lnTo>
                    <a:pt x="459" y="1326"/>
                  </a:lnTo>
                  <a:lnTo>
                    <a:pt x="465" y="1315"/>
                  </a:lnTo>
                  <a:lnTo>
                    <a:pt x="473" y="1311"/>
                  </a:lnTo>
                  <a:lnTo>
                    <a:pt x="484" y="1307"/>
                  </a:lnTo>
                  <a:lnTo>
                    <a:pt x="519" y="1299"/>
                  </a:lnTo>
                  <a:lnTo>
                    <a:pt x="565" y="1291"/>
                  </a:lnTo>
                  <a:lnTo>
                    <a:pt x="622" y="1286"/>
                  </a:lnTo>
                  <a:lnTo>
                    <a:pt x="788" y="1282"/>
                  </a:lnTo>
                  <a:lnTo>
                    <a:pt x="836" y="1276"/>
                  </a:lnTo>
                  <a:lnTo>
                    <a:pt x="878" y="1259"/>
                  </a:lnTo>
                  <a:lnTo>
                    <a:pt x="895" y="1249"/>
                  </a:lnTo>
                  <a:lnTo>
                    <a:pt x="901" y="1239"/>
                  </a:lnTo>
                  <a:lnTo>
                    <a:pt x="897" y="1230"/>
                  </a:lnTo>
                  <a:lnTo>
                    <a:pt x="893" y="1224"/>
                  </a:lnTo>
                  <a:lnTo>
                    <a:pt x="889" y="1220"/>
                  </a:lnTo>
                  <a:lnTo>
                    <a:pt x="876" y="1212"/>
                  </a:lnTo>
                  <a:lnTo>
                    <a:pt x="866" y="1205"/>
                  </a:lnTo>
                  <a:lnTo>
                    <a:pt x="853" y="1199"/>
                  </a:lnTo>
                  <a:lnTo>
                    <a:pt x="467" y="1172"/>
                  </a:lnTo>
                  <a:lnTo>
                    <a:pt x="507" y="1118"/>
                  </a:lnTo>
                  <a:lnTo>
                    <a:pt x="778" y="1106"/>
                  </a:lnTo>
                  <a:lnTo>
                    <a:pt x="425" y="1058"/>
                  </a:lnTo>
                  <a:lnTo>
                    <a:pt x="432" y="1049"/>
                  </a:lnTo>
                  <a:lnTo>
                    <a:pt x="444" y="1031"/>
                  </a:lnTo>
                  <a:lnTo>
                    <a:pt x="455" y="1020"/>
                  </a:lnTo>
                  <a:lnTo>
                    <a:pt x="465" y="1010"/>
                  </a:lnTo>
                  <a:lnTo>
                    <a:pt x="480" y="1002"/>
                  </a:lnTo>
                  <a:lnTo>
                    <a:pt x="494" y="997"/>
                  </a:lnTo>
                  <a:lnTo>
                    <a:pt x="546" y="991"/>
                  </a:lnTo>
                  <a:lnTo>
                    <a:pt x="624" y="981"/>
                  </a:lnTo>
                  <a:lnTo>
                    <a:pt x="692" y="975"/>
                  </a:lnTo>
                  <a:lnTo>
                    <a:pt x="724" y="970"/>
                  </a:lnTo>
                  <a:lnTo>
                    <a:pt x="695" y="964"/>
                  </a:lnTo>
                  <a:lnTo>
                    <a:pt x="663" y="958"/>
                  </a:lnTo>
                  <a:lnTo>
                    <a:pt x="624" y="950"/>
                  </a:lnTo>
                  <a:lnTo>
                    <a:pt x="582" y="941"/>
                  </a:lnTo>
                  <a:lnTo>
                    <a:pt x="540" y="933"/>
                  </a:lnTo>
                  <a:lnTo>
                    <a:pt x="505" y="927"/>
                  </a:lnTo>
                  <a:lnTo>
                    <a:pt x="473" y="923"/>
                  </a:lnTo>
                  <a:lnTo>
                    <a:pt x="359" y="921"/>
                  </a:lnTo>
                  <a:lnTo>
                    <a:pt x="323" y="914"/>
                  </a:lnTo>
                  <a:lnTo>
                    <a:pt x="321" y="904"/>
                  </a:lnTo>
                  <a:lnTo>
                    <a:pt x="331" y="889"/>
                  </a:lnTo>
                  <a:lnTo>
                    <a:pt x="342" y="881"/>
                  </a:lnTo>
                  <a:lnTo>
                    <a:pt x="352" y="873"/>
                  </a:lnTo>
                  <a:lnTo>
                    <a:pt x="365" y="869"/>
                  </a:lnTo>
                  <a:lnTo>
                    <a:pt x="377" y="862"/>
                  </a:lnTo>
                  <a:lnTo>
                    <a:pt x="409" y="854"/>
                  </a:lnTo>
                  <a:lnTo>
                    <a:pt x="440" y="848"/>
                  </a:lnTo>
                  <a:lnTo>
                    <a:pt x="548" y="835"/>
                  </a:lnTo>
                  <a:lnTo>
                    <a:pt x="561" y="831"/>
                  </a:lnTo>
                  <a:lnTo>
                    <a:pt x="569" y="823"/>
                  </a:lnTo>
                  <a:lnTo>
                    <a:pt x="571" y="810"/>
                  </a:lnTo>
                  <a:lnTo>
                    <a:pt x="569" y="800"/>
                  </a:lnTo>
                  <a:lnTo>
                    <a:pt x="561" y="777"/>
                  </a:lnTo>
                  <a:lnTo>
                    <a:pt x="555" y="769"/>
                  </a:lnTo>
                  <a:lnTo>
                    <a:pt x="475" y="771"/>
                  </a:lnTo>
                  <a:lnTo>
                    <a:pt x="402" y="769"/>
                  </a:lnTo>
                  <a:lnTo>
                    <a:pt x="331" y="754"/>
                  </a:lnTo>
                  <a:lnTo>
                    <a:pt x="300" y="744"/>
                  </a:lnTo>
                  <a:lnTo>
                    <a:pt x="277" y="734"/>
                  </a:lnTo>
                  <a:lnTo>
                    <a:pt x="256" y="721"/>
                  </a:lnTo>
                  <a:lnTo>
                    <a:pt x="242" y="711"/>
                  </a:lnTo>
                  <a:lnTo>
                    <a:pt x="229" y="700"/>
                  </a:lnTo>
                  <a:lnTo>
                    <a:pt x="223" y="694"/>
                  </a:lnTo>
                  <a:lnTo>
                    <a:pt x="217" y="688"/>
                  </a:lnTo>
                  <a:lnTo>
                    <a:pt x="244" y="684"/>
                  </a:lnTo>
                  <a:lnTo>
                    <a:pt x="311" y="677"/>
                  </a:lnTo>
                  <a:lnTo>
                    <a:pt x="386" y="673"/>
                  </a:lnTo>
                  <a:lnTo>
                    <a:pt x="440" y="673"/>
                  </a:lnTo>
                  <a:lnTo>
                    <a:pt x="455" y="673"/>
                  </a:lnTo>
                  <a:lnTo>
                    <a:pt x="467" y="667"/>
                  </a:lnTo>
                  <a:lnTo>
                    <a:pt x="477" y="657"/>
                  </a:lnTo>
                  <a:lnTo>
                    <a:pt x="484" y="646"/>
                  </a:lnTo>
                  <a:lnTo>
                    <a:pt x="494" y="613"/>
                  </a:lnTo>
                  <a:lnTo>
                    <a:pt x="244" y="607"/>
                  </a:lnTo>
                  <a:lnTo>
                    <a:pt x="331" y="553"/>
                  </a:lnTo>
                  <a:lnTo>
                    <a:pt x="440" y="526"/>
                  </a:lnTo>
                  <a:lnTo>
                    <a:pt x="169" y="505"/>
                  </a:lnTo>
                  <a:lnTo>
                    <a:pt x="283" y="472"/>
                  </a:lnTo>
                  <a:lnTo>
                    <a:pt x="141" y="430"/>
                  </a:lnTo>
                  <a:lnTo>
                    <a:pt x="160" y="422"/>
                  </a:lnTo>
                  <a:lnTo>
                    <a:pt x="179" y="409"/>
                  </a:lnTo>
                  <a:lnTo>
                    <a:pt x="189" y="403"/>
                  </a:lnTo>
                  <a:lnTo>
                    <a:pt x="200" y="395"/>
                  </a:lnTo>
                  <a:lnTo>
                    <a:pt x="210" y="386"/>
                  </a:lnTo>
                  <a:lnTo>
                    <a:pt x="221" y="378"/>
                  </a:lnTo>
                  <a:lnTo>
                    <a:pt x="229" y="368"/>
                  </a:lnTo>
                  <a:lnTo>
                    <a:pt x="235" y="357"/>
                  </a:lnTo>
                  <a:lnTo>
                    <a:pt x="246" y="334"/>
                  </a:lnTo>
                  <a:lnTo>
                    <a:pt x="244" y="310"/>
                  </a:lnTo>
                  <a:lnTo>
                    <a:pt x="231" y="289"/>
                  </a:lnTo>
                  <a:lnTo>
                    <a:pt x="223" y="283"/>
                  </a:lnTo>
                  <a:lnTo>
                    <a:pt x="212" y="278"/>
                  </a:lnTo>
                  <a:lnTo>
                    <a:pt x="189" y="272"/>
                  </a:lnTo>
                  <a:lnTo>
                    <a:pt x="164" y="272"/>
                  </a:lnTo>
                  <a:lnTo>
                    <a:pt x="121" y="272"/>
                  </a:lnTo>
                  <a:lnTo>
                    <a:pt x="106" y="266"/>
                  </a:lnTo>
                  <a:lnTo>
                    <a:pt x="102" y="255"/>
                  </a:lnTo>
                  <a:lnTo>
                    <a:pt x="108" y="222"/>
                  </a:lnTo>
                  <a:lnTo>
                    <a:pt x="114" y="204"/>
                  </a:lnTo>
                  <a:lnTo>
                    <a:pt x="121" y="187"/>
                  </a:lnTo>
                  <a:lnTo>
                    <a:pt x="135" y="158"/>
                  </a:lnTo>
                  <a:lnTo>
                    <a:pt x="141" y="147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6"/>
            <p:cNvSpPr/>
            <p:nvPr/>
          </p:nvSpPr>
          <p:spPr>
            <a:xfrm>
              <a:off x="4240800" y="2812320"/>
              <a:ext cx="538200" cy="11955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195560"/>
                <a:gd name="textAreaBottom" fmla="*/ 1195560 h 1195560"/>
              </a:gdLst>
              <a:ahLst/>
              <a:rect l="textAreaLeft" t="textAreaTop" r="textAreaRight" b="textAreaBottom"/>
              <a:pathLst>
                <a:path w="1369" h="3039">
                  <a:moveTo>
                    <a:pt x="194" y="0"/>
                  </a:moveTo>
                  <a:lnTo>
                    <a:pt x="190" y="15"/>
                  </a:lnTo>
                  <a:lnTo>
                    <a:pt x="184" y="31"/>
                  </a:lnTo>
                  <a:lnTo>
                    <a:pt x="174" y="52"/>
                  </a:lnTo>
                  <a:lnTo>
                    <a:pt x="163" y="81"/>
                  </a:lnTo>
                  <a:lnTo>
                    <a:pt x="151" y="114"/>
                  </a:lnTo>
                  <a:lnTo>
                    <a:pt x="144" y="131"/>
                  </a:lnTo>
                  <a:lnTo>
                    <a:pt x="138" y="150"/>
                  </a:lnTo>
                  <a:lnTo>
                    <a:pt x="132" y="170"/>
                  </a:lnTo>
                  <a:lnTo>
                    <a:pt x="123" y="191"/>
                  </a:lnTo>
                  <a:lnTo>
                    <a:pt x="117" y="214"/>
                  </a:lnTo>
                  <a:lnTo>
                    <a:pt x="109" y="237"/>
                  </a:lnTo>
                  <a:lnTo>
                    <a:pt x="94" y="285"/>
                  </a:lnTo>
                  <a:lnTo>
                    <a:pt x="80" y="335"/>
                  </a:lnTo>
                  <a:lnTo>
                    <a:pt x="67" y="387"/>
                  </a:lnTo>
                  <a:lnTo>
                    <a:pt x="52" y="441"/>
                  </a:lnTo>
                  <a:lnTo>
                    <a:pt x="42" y="495"/>
                  </a:lnTo>
                  <a:lnTo>
                    <a:pt x="32" y="551"/>
                  </a:lnTo>
                  <a:lnTo>
                    <a:pt x="21" y="607"/>
                  </a:lnTo>
                  <a:lnTo>
                    <a:pt x="2" y="860"/>
                  </a:lnTo>
                  <a:lnTo>
                    <a:pt x="0" y="1000"/>
                  </a:lnTo>
                  <a:lnTo>
                    <a:pt x="4" y="1137"/>
                  </a:lnTo>
                  <a:lnTo>
                    <a:pt x="11" y="1264"/>
                  </a:lnTo>
                  <a:lnTo>
                    <a:pt x="17" y="1322"/>
                  </a:lnTo>
                  <a:lnTo>
                    <a:pt x="23" y="1374"/>
                  </a:lnTo>
                  <a:lnTo>
                    <a:pt x="32" y="1422"/>
                  </a:lnTo>
                  <a:lnTo>
                    <a:pt x="40" y="1461"/>
                  </a:lnTo>
                  <a:lnTo>
                    <a:pt x="48" y="1492"/>
                  </a:lnTo>
                  <a:lnTo>
                    <a:pt x="59" y="1515"/>
                  </a:lnTo>
                  <a:lnTo>
                    <a:pt x="69" y="1534"/>
                  </a:lnTo>
                  <a:lnTo>
                    <a:pt x="82" y="1555"/>
                  </a:lnTo>
                  <a:lnTo>
                    <a:pt x="94" y="1575"/>
                  </a:lnTo>
                  <a:lnTo>
                    <a:pt x="107" y="1598"/>
                  </a:lnTo>
                  <a:lnTo>
                    <a:pt x="119" y="1621"/>
                  </a:lnTo>
                  <a:lnTo>
                    <a:pt x="132" y="1646"/>
                  </a:lnTo>
                  <a:lnTo>
                    <a:pt x="144" y="1669"/>
                  </a:lnTo>
                  <a:lnTo>
                    <a:pt x="155" y="1692"/>
                  </a:lnTo>
                  <a:lnTo>
                    <a:pt x="167" y="1715"/>
                  </a:lnTo>
                  <a:lnTo>
                    <a:pt x="178" y="1735"/>
                  </a:lnTo>
                  <a:lnTo>
                    <a:pt x="194" y="1773"/>
                  </a:lnTo>
                  <a:lnTo>
                    <a:pt x="207" y="1821"/>
                  </a:lnTo>
                  <a:lnTo>
                    <a:pt x="203" y="1833"/>
                  </a:lnTo>
                  <a:lnTo>
                    <a:pt x="196" y="1846"/>
                  </a:lnTo>
                  <a:lnTo>
                    <a:pt x="180" y="1868"/>
                  </a:lnTo>
                  <a:lnTo>
                    <a:pt x="178" y="1889"/>
                  </a:lnTo>
                  <a:lnTo>
                    <a:pt x="182" y="1893"/>
                  </a:lnTo>
                  <a:lnTo>
                    <a:pt x="190" y="1898"/>
                  </a:lnTo>
                  <a:lnTo>
                    <a:pt x="211" y="1904"/>
                  </a:lnTo>
                  <a:lnTo>
                    <a:pt x="255" y="1918"/>
                  </a:lnTo>
                  <a:lnTo>
                    <a:pt x="276" y="1935"/>
                  </a:lnTo>
                  <a:lnTo>
                    <a:pt x="278" y="1943"/>
                  </a:lnTo>
                  <a:lnTo>
                    <a:pt x="276" y="1952"/>
                  </a:lnTo>
                  <a:lnTo>
                    <a:pt x="270" y="1958"/>
                  </a:lnTo>
                  <a:lnTo>
                    <a:pt x="259" y="1964"/>
                  </a:lnTo>
                  <a:lnTo>
                    <a:pt x="242" y="1977"/>
                  </a:lnTo>
                  <a:lnTo>
                    <a:pt x="234" y="1989"/>
                  </a:lnTo>
                  <a:lnTo>
                    <a:pt x="238" y="2001"/>
                  </a:lnTo>
                  <a:lnTo>
                    <a:pt x="247" y="2008"/>
                  </a:lnTo>
                  <a:lnTo>
                    <a:pt x="259" y="2014"/>
                  </a:lnTo>
                  <a:lnTo>
                    <a:pt x="282" y="2024"/>
                  </a:lnTo>
                  <a:lnTo>
                    <a:pt x="293" y="2037"/>
                  </a:lnTo>
                  <a:lnTo>
                    <a:pt x="290" y="2051"/>
                  </a:lnTo>
                  <a:lnTo>
                    <a:pt x="280" y="2074"/>
                  </a:lnTo>
                  <a:lnTo>
                    <a:pt x="276" y="2087"/>
                  </a:lnTo>
                  <a:lnTo>
                    <a:pt x="280" y="2097"/>
                  </a:lnTo>
                  <a:lnTo>
                    <a:pt x="288" y="2105"/>
                  </a:lnTo>
                  <a:lnTo>
                    <a:pt x="301" y="2114"/>
                  </a:lnTo>
                  <a:lnTo>
                    <a:pt x="313" y="2118"/>
                  </a:lnTo>
                  <a:lnTo>
                    <a:pt x="326" y="2122"/>
                  </a:lnTo>
                  <a:lnTo>
                    <a:pt x="336" y="2126"/>
                  </a:lnTo>
                  <a:lnTo>
                    <a:pt x="311" y="2166"/>
                  </a:lnTo>
                  <a:lnTo>
                    <a:pt x="320" y="2174"/>
                  </a:lnTo>
                  <a:lnTo>
                    <a:pt x="328" y="2184"/>
                  </a:lnTo>
                  <a:lnTo>
                    <a:pt x="332" y="2189"/>
                  </a:lnTo>
                  <a:lnTo>
                    <a:pt x="336" y="2195"/>
                  </a:lnTo>
                  <a:lnTo>
                    <a:pt x="343" y="2203"/>
                  </a:lnTo>
                  <a:lnTo>
                    <a:pt x="349" y="2211"/>
                  </a:lnTo>
                  <a:lnTo>
                    <a:pt x="357" y="2220"/>
                  </a:lnTo>
                  <a:lnTo>
                    <a:pt x="363" y="2228"/>
                  </a:lnTo>
                  <a:lnTo>
                    <a:pt x="372" y="2236"/>
                  </a:lnTo>
                  <a:lnTo>
                    <a:pt x="378" y="2247"/>
                  </a:lnTo>
                  <a:lnTo>
                    <a:pt x="386" y="2257"/>
                  </a:lnTo>
                  <a:lnTo>
                    <a:pt x="395" y="2268"/>
                  </a:lnTo>
                  <a:lnTo>
                    <a:pt x="403" y="2278"/>
                  </a:lnTo>
                  <a:lnTo>
                    <a:pt x="411" y="2288"/>
                  </a:lnTo>
                  <a:lnTo>
                    <a:pt x="418" y="2299"/>
                  </a:lnTo>
                  <a:lnTo>
                    <a:pt x="426" y="2309"/>
                  </a:lnTo>
                  <a:lnTo>
                    <a:pt x="443" y="2330"/>
                  </a:lnTo>
                  <a:lnTo>
                    <a:pt x="457" y="2351"/>
                  </a:lnTo>
                  <a:lnTo>
                    <a:pt x="482" y="2388"/>
                  </a:lnTo>
                  <a:lnTo>
                    <a:pt x="497" y="2419"/>
                  </a:lnTo>
                  <a:lnTo>
                    <a:pt x="510" y="2448"/>
                  </a:lnTo>
                  <a:lnTo>
                    <a:pt x="520" y="2482"/>
                  </a:lnTo>
                  <a:lnTo>
                    <a:pt x="533" y="2517"/>
                  </a:lnTo>
                  <a:lnTo>
                    <a:pt x="539" y="2536"/>
                  </a:lnTo>
                  <a:lnTo>
                    <a:pt x="543" y="2554"/>
                  </a:lnTo>
                  <a:lnTo>
                    <a:pt x="555" y="2588"/>
                  </a:lnTo>
                  <a:lnTo>
                    <a:pt x="566" y="2619"/>
                  </a:lnTo>
                  <a:lnTo>
                    <a:pt x="576" y="2642"/>
                  </a:lnTo>
                  <a:lnTo>
                    <a:pt x="587" y="2656"/>
                  </a:lnTo>
                  <a:lnTo>
                    <a:pt x="599" y="2679"/>
                  </a:lnTo>
                  <a:lnTo>
                    <a:pt x="610" y="2700"/>
                  </a:lnTo>
                  <a:lnTo>
                    <a:pt x="622" y="2725"/>
                  </a:lnTo>
                  <a:lnTo>
                    <a:pt x="637" y="2754"/>
                  </a:lnTo>
                  <a:lnTo>
                    <a:pt x="651" y="2785"/>
                  </a:lnTo>
                  <a:lnTo>
                    <a:pt x="668" y="2818"/>
                  </a:lnTo>
                  <a:lnTo>
                    <a:pt x="687" y="2852"/>
                  </a:lnTo>
                  <a:lnTo>
                    <a:pt x="706" y="2885"/>
                  </a:lnTo>
                  <a:lnTo>
                    <a:pt x="725" y="2918"/>
                  </a:lnTo>
                  <a:lnTo>
                    <a:pt x="743" y="2949"/>
                  </a:lnTo>
                  <a:lnTo>
                    <a:pt x="762" y="2976"/>
                  </a:lnTo>
                  <a:lnTo>
                    <a:pt x="768" y="2983"/>
                  </a:lnTo>
                  <a:lnTo>
                    <a:pt x="773" y="2989"/>
                  </a:lnTo>
                  <a:lnTo>
                    <a:pt x="783" y="3001"/>
                  </a:lnTo>
                  <a:lnTo>
                    <a:pt x="793" y="3010"/>
                  </a:lnTo>
                  <a:lnTo>
                    <a:pt x="802" y="3020"/>
                  </a:lnTo>
                  <a:lnTo>
                    <a:pt x="812" y="3026"/>
                  </a:lnTo>
                  <a:lnTo>
                    <a:pt x="823" y="3032"/>
                  </a:lnTo>
                  <a:lnTo>
                    <a:pt x="841" y="3039"/>
                  </a:lnTo>
                  <a:lnTo>
                    <a:pt x="885" y="3037"/>
                  </a:lnTo>
                  <a:lnTo>
                    <a:pt x="942" y="3028"/>
                  </a:lnTo>
                  <a:lnTo>
                    <a:pt x="973" y="3020"/>
                  </a:lnTo>
                  <a:lnTo>
                    <a:pt x="1006" y="3010"/>
                  </a:lnTo>
                  <a:lnTo>
                    <a:pt x="1040" y="2999"/>
                  </a:lnTo>
                  <a:lnTo>
                    <a:pt x="1073" y="2987"/>
                  </a:lnTo>
                  <a:lnTo>
                    <a:pt x="1090" y="2980"/>
                  </a:lnTo>
                  <a:lnTo>
                    <a:pt x="1109" y="2972"/>
                  </a:lnTo>
                  <a:lnTo>
                    <a:pt x="1125" y="2966"/>
                  </a:lnTo>
                  <a:lnTo>
                    <a:pt x="1140" y="2958"/>
                  </a:lnTo>
                  <a:lnTo>
                    <a:pt x="1157" y="2951"/>
                  </a:lnTo>
                  <a:lnTo>
                    <a:pt x="1173" y="2943"/>
                  </a:lnTo>
                  <a:lnTo>
                    <a:pt x="1188" y="2935"/>
                  </a:lnTo>
                  <a:lnTo>
                    <a:pt x="1202" y="2928"/>
                  </a:lnTo>
                  <a:lnTo>
                    <a:pt x="1217" y="2920"/>
                  </a:lnTo>
                  <a:lnTo>
                    <a:pt x="1230" y="2912"/>
                  </a:lnTo>
                  <a:lnTo>
                    <a:pt x="1242" y="2904"/>
                  </a:lnTo>
                  <a:lnTo>
                    <a:pt x="1255" y="2895"/>
                  </a:lnTo>
                  <a:lnTo>
                    <a:pt x="1265" y="2889"/>
                  </a:lnTo>
                  <a:lnTo>
                    <a:pt x="1276" y="2881"/>
                  </a:lnTo>
                  <a:lnTo>
                    <a:pt x="1284" y="2872"/>
                  </a:lnTo>
                  <a:lnTo>
                    <a:pt x="1292" y="2866"/>
                  </a:lnTo>
                  <a:lnTo>
                    <a:pt x="1298" y="2858"/>
                  </a:lnTo>
                  <a:lnTo>
                    <a:pt x="1307" y="2849"/>
                  </a:lnTo>
                  <a:lnTo>
                    <a:pt x="1313" y="2841"/>
                  </a:lnTo>
                  <a:lnTo>
                    <a:pt x="1319" y="2833"/>
                  </a:lnTo>
                  <a:lnTo>
                    <a:pt x="1342" y="2795"/>
                  </a:lnTo>
                  <a:lnTo>
                    <a:pt x="1359" y="2758"/>
                  </a:lnTo>
                  <a:lnTo>
                    <a:pt x="1369" y="2721"/>
                  </a:lnTo>
                  <a:lnTo>
                    <a:pt x="1369" y="2692"/>
                  </a:lnTo>
                  <a:lnTo>
                    <a:pt x="1365" y="2679"/>
                  </a:lnTo>
                  <a:lnTo>
                    <a:pt x="1363" y="2675"/>
                  </a:lnTo>
                  <a:lnTo>
                    <a:pt x="1359" y="2671"/>
                  </a:lnTo>
                  <a:lnTo>
                    <a:pt x="1349" y="2665"/>
                  </a:lnTo>
                  <a:lnTo>
                    <a:pt x="1334" y="2662"/>
                  </a:lnTo>
                  <a:lnTo>
                    <a:pt x="1296" y="2669"/>
                  </a:lnTo>
                  <a:lnTo>
                    <a:pt x="1273" y="2675"/>
                  </a:lnTo>
                  <a:lnTo>
                    <a:pt x="1248" y="2683"/>
                  </a:lnTo>
                  <a:lnTo>
                    <a:pt x="1228" y="2692"/>
                  </a:lnTo>
                  <a:lnTo>
                    <a:pt x="1205" y="2698"/>
                  </a:lnTo>
                  <a:lnTo>
                    <a:pt x="1184" y="2706"/>
                  </a:lnTo>
                  <a:lnTo>
                    <a:pt x="1163" y="2712"/>
                  </a:lnTo>
                  <a:lnTo>
                    <a:pt x="1142" y="2719"/>
                  </a:lnTo>
                  <a:lnTo>
                    <a:pt x="1123" y="2723"/>
                  </a:lnTo>
                  <a:lnTo>
                    <a:pt x="1090" y="2731"/>
                  </a:lnTo>
                  <a:lnTo>
                    <a:pt x="1063" y="2735"/>
                  </a:lnTo>
                  <a:lnTo>
                    <a:pt x="1042" y="2733"/>
                  </a:lnTo>
                  <a:lnTo>
                    <a:pt x="1029" y="2725"/>
                  </a:lnTo>
                  <a:lnTo>
                    <a:pt x="1013" y="2696"/>
                  </a:lnTo>
                  <a:lnTo>
                    <a:pt x="1021" y="2689"/>
                  </a:lnTo>
                  <a:lnTo>
                    <a:pt x="1042" y="2681"/>
                  </a:lnTo>
                  <a:lnTo>
                    <a:pt x="1063" y="2671"/>
                  </a:lnTo>
                  <a:lnTo>
                    <a:pt x="1079" y="2665"/>
                  </a:lnTo>
                  <a:lnTo>
                    <a:pt x="1096" y="2658"/>
                  </a:lnTo>
                  <a:lnTo>
                    <a:pt x="1115" y="2650"/>
                  </a:lnTo>
                  <a:lnTo>
                    <a:pt x="1134" y="2644"/>
                  </a:lnTo>
                  <a:lnTo>
                    <a:pt x="1154" y="2635"/>
                  </a:lnTo>
                  <a:lnTo>
                    <a:pt x="1173" y="2625"/>
                  </a:lnTo>
                  <a:lnTo>
                    <a:pt x="1194" y="2619"/>
                  </a:lnTo>
                  <a:lnTo>
                    <a:pt x="1213" y="2610"/>
                  </a:lnTo>
                  <a:lnTo>
                    <a:pt x="1230" y="2602"/>
                  </a:lnTo>
                  <a:lnTo>
                    <a:pt x="1244" y="2596"/>
                  </a:lnTo>
                  <a:lnTo>
                    <a:pt x="1267" y="2588"/>
                  </a:lnTo>
                  <a:lnTo>
                    <a:pt x="1276" y="2583"/>
                  </a:lnTo>
                  <a:lnTo>
                    <a:pt x="1223" y="2594"/>
                  </a:lnTo>
                  <a:lnTo>
                    <a:pt x="1171" y="2600"/>
                  </a:lnTo>
                  <a:lnTo>
                    <a:pt x="1111" y="2608"/>
                  </a:lnTo>
                  <a:lnTo>
                    <a:pt x="1050" y="2613"/>
                  </a:lnTo>
                  <a:lnTo>
                    <a:pt x="1000" y="2613"/>
                  </a:lnTo>
                  <a:lnTo>
                    <a:pt x="967" y="2604"/>
                  </a:lnTo>
                  <a:lnTo>
                    <a:pt x="958" y="2588"/>
                  </a:lnTo>
                  <a:lnTo>
                    <a:pt x="973" y="2567"/>
                  </a:lnTo>
                  <a:lnTo>
                    <a:pt x="987" y="2556"/>
                  </a:lnTo>
                  <a:lnTo>
                    <a:pt x="1004" y="2546"/>
                  </a:lnTo>
                  <a:lnTo>
                    <a:pt x="1025" y="2538"/>
                  </a:lnTo>
                  <a:lnTo>
                    <a:pt x="1048" y="2527"/>
                  </a:lnTo>
                  <a:lnTo>
                    <a:pt x="1071" y="2521"/>
                  </a:lnTo>
                  <a:lnTo>
                    <a:pt x="1094" y="2513"/>
                  </a:lnTo>
                  <a:lnTo>
                    <a:pt x="1117" y="2507"/>
                  </a:lnTo>
                  <a:lnTo>
                    <a:pt x="1140" y="2500"/>
                  </a:lnTo>
                  <a:lnTo>
                    <a:pt x="1182" y="2492"/>
                  </a:lnTo>
                  <a:lnTo>
                    <a:pt x="1219" y="2484"/>
                  </a:lnTo>
                  <a:lnTo>
                    <a:pt x="1169" y="2486"/>
                  </a:lnTo>
                  <a:lnTo>
                    <a:pt x="1061" y="2488"/>
                  </a:lnTo>
                  <a:lnTo>
                    <a:pt x="954" y="2480"/>
                  </a:lnTo>
                  <a:lnTo>
                    <a:pt x="921" y="2467"/>
                  </a:lnTo>
                  <a:lnTo>
                    <a:pt x="912" y="2450"/>
                  </a:lnTo>
                  <a:lnTo>
                    <a:pt x="919" y="2442"/>
                  </a:lnTo>
                  <a:lnTo>
                    <a:pt x="927" y="2434"/>
                  </a:lnTo>
                  <a:lnTo>
                    <a:pt x="939" y="2425"/>
                  </a:lnTo>
                  <a:lnTo>
                    <a:pt x="954" y="2419"/>
                  </a:lnTo>
                  <a:lnTo>
                    <a:pt x="973" y="2413"/>
                  </a:lnTo>
                  <a:lnTo>
                    <a:pt x="992" y="2409"/>
                  </a:lnTo>
                  <a:lnTo>
                    <a:pt x="1031" y="2401"/>
                  </a:lnTo>
                  <a:lnTo>
                    <a:pt x="1071" y="2394"/>
                  </a:lnTo>
                  <a:lnTo>
                    <a:pt x="1106" y="2390"/>
                  </a:lnTo>
                  <a:lnTo>
                    <a:pt x="1138" y="2388"/>
                  </a:lnTo>
                  <a:lnTo>
                    <a:pt x="1134" y="2384"/>
                  </a:lnTo>
                  <a:lnTo>
                    <a:pt x="1119" y="2376"/>
                  </a:lnTo>
                  <a:lnTo>
                    <a:pt x="1109" y="2369"/>
                  </a:lnTo>
                  <a:lnTo>
                    <a:pt x="1096" y="2363"/>
                  </a:lnTo>
                  <a:lnTo>
                    <a:pt x="1084" y="2357"/>
                  </a:lnTo>
                  <a:lnTo>
                    <a:pt x="1069" y="2351"/>
                  </a:lnTo>
                  <a:lnTo>
                    <a:pt x="1056" y="2342"/>
                  </a:lnTo>
                  <a:lnTo>
                    <a:pt x="1040" y="2336"/>
                  </a:lnTo>
                  <a:lnTo>
                    <a:pt x="1025" y="2330"/>
                  </a:lnTo>
                  <a:lnTo>
                    <a:pt x="1010" y="2326"/>
                  </a:lnTo>
                  <a:lnTo>
                    <a:pt x="983" y="2319"/>
                  </a:lnTo>
                  <a:lnTo>
                    <a:pt x="962" y="2319"/>
                  </a:lnTo>
                  <a:lnTo>
                    <a:pt x="921" y="2317"/>
                  </a:lnTo>
                  <a:lnTo>
                    <a:pt x="883" y="2301"/>
                  </a:lnTo>
                  <a:lnTo>
                    <a:pt x="862" y="2280"/>
                  </a:lnTo>
                  <a:lnTo>
                    <a:pt x="860" y="2268"/>
                  </a:lnTo>
                  <a:lnTo>
                    <a:pt x="864" y="2255"/>
                  </a:lnTo>
                  <a:lnTo>
                    <a:pt x="871" y="2249"/>
                  </a:lnTo>
                  <a:lnTo>
                    <a:pt x="877" y="2245"/>
                  </a:lnTo>
                  <a:lnTo>
                    <a:pt x="891" y="2236"/>
                  </a:lnTo>
                  <a:lnTo>
                    <a:pt x="910" y="2228"/>
                  </a:lnTo>
                  <a:lnTo>
                    <a:pt x="929" y="2222"/>
                  </a:lnTo>
                  <a:lnTo>
                    <a:pt x="962" y="2203"/>
                  </a:lnTo>
                  <a:lnTo>
                    <a:pt x="971" y="2191"/>
                  </a:lnTo>
                  <a:lnTo>
                    <a:pt x="973" y="2174"/>
                  </a:lnTo>
                  <a:lnTo>
                    <a:pt x="969" y="2162"/>
                  </a:lnTo>
                  <a:lnTo>
                    <a:pt x="956" y="2162"/>
                  </a:lnTo>
                  <a:lnTo>
                    <a:pt x="939" y="2168"/>
                  </a:lnTo>
                  <a:lnTo>
                    <a:pt x="921" y="2178"/>
                  </a:lnTo>
                  <a:lnTo>
                    <a:pt x="902" y="2182"/>
                  </a:lnTo>
                  <a:lnTo>
                    <a:pt x="885" y="2180"/>
                  </a:lnTo>
                  <a:lnTo>
                    <a:pt x="875" y="2164"/>
                  </a:lnTo>
                  <a:lnTo>
                    <a:pt x="869" y="2130"/>
                  </a:lnTo>
                  <a:lnTo>
                    <a:pt x="871" y="2093"/>
                  </a:lnTo>
                  <a:lnTo>
                    <a:pt x="875" y="2068"/>
                  </a:lnTo>
                  <a:lnTo>
                    <a:pt x="883" y="2053"/>
                  </a:lnTo>
                  <a:lnTo>
                    <a:pt x="894" y="2043"/>
                  </a:lnTo>
                  <a:lnTo>
                    <a:pt x="914" y="2024"/>
                  </a:lnTo>
                  <a:lnTo>
                    <a:pt x="925" y="1981"/>
                  </a:lnTo>
                  <a:lnTo>
                    <a:pt x="923" y="1931"/>
                  </a:lnTo>
                  <a:lnTo>
                    <a:pt x="917" y="1914"/>
                  </a:lnTo>
                  <a:lnTo>
                    <a:pt x="910" y="1902"/>
                  </a:lnTo>
                  <a:lnTo>
                    <a:pt x="881" y="1829"/>
                  </a:lnTo>
                  <a:lnTo>
                    <a:pt x="879" y="1802"/>
                  </a:lnTo>
                  <a:lnTo>
                    <a:pt x="885" y="1781"/>
                  </a:lnTo>
                  <a:lnTo>
                    <a:pt x="891" y="1775"/>
                  </a:lnTo>
                  <a:lnTo>
                    <a:pt x="898" y="1767"/>
                  </a:lnTo>
                  <a:lnTo>
                    <a:pt x="904" y="1760"/>
                  </a:lnTo>
                  <a:lnTo>
                    <a:pt x="912" y="1754"/>
                  </a:lnTo>
                  <a:lnTo>
                    <a:pt x="927" y="1744"/>
                  </a:lnTo>
                  <a:lnTo>
                    <a:pt x="939" y="1731"/>
                  </a:lnTo>
                  <a:lnTo>
                    <a:pt x="950" y="1696"/>
                  </a:lnTo>
                  <a:lnTo>
                    <a:pt x="937" y="1650"/>
                  </a:lnTo>
                  <a:lnTo>
                    <a:pt x="925" y="1611"/>
                  </a:lnTo>
                  <a:lnTo>
                    <a:pt x="919" y="1588"/>
                  </a:lnTo>
                  <a:lnTo>
                    <a:pt x="910" y="1563"/>
                  </a:lnTo>
                  <a:lnTo>
                    <a:pt x="902" y="1538"/>
                  </a:lnTo>
                  <a:lnTo>
                    <a:pt x="894" y="1509"/>
                  </a:lnTo>
                  <a:lnTo>
                    <a:pt x="883" y="1480"/>
                  </a:lnTo>
                  <a:lnTo>
                    <a:pt x="873" y="1449"/>
                  </a:lnTo>
                  <a:lnTo>
                    <a:pt x="862" y="1417"/>
                  </a:lnTo>
                  <a:lnTo>
                    <a:pt x="852" y="1384"/>
                  </a:lnTo>
                  <a:lnTo>
                    <a:pt x="839" y="1351"/>
                  </a:lnTo>
                  <a:lnTo>
                    <a:pt x="829" y="1316"/>
                  </a:lnTo>
                  <a:lnTo>
                    <a:pt x="816" y="1282"/>
                  </a:lnTo>
                  <a:lnTo>
                    <a:pt x="806" y="1247"/>
                  </a:lnTo>
                  <a:lnTo>
                    <a:pt x="793" y="1212"/>
                  </a:lnTo>
                  <a:lnTo>
                    <a:pt x="783" y="1178"/>
                  </a:lnTo>
                  <a:lnTo>
                    <a:pt x="770" y="1143"/>
                  </a:lnTo>
                  <a:lnTo>
                    <a:pt x="760" y="1110"/>
                  </a:lnTo>
                  <a:lnTo>
                    <a:pt x="750" y="1075"/>
                  </a:lnTo>
                  <a:lnTo>
                    <a:pt x="739" y="1043"/>
                  </a:lnTo>
                  <a:lnTo>
                    <a:pt x="729" y="1012"/>
                  </a:lnTo>
                  <a:lnTo>
                    <a:pt x="718" y="981"/>
                  </a:lnTo>
                  <a:lnTo>
                    <a:pt x="702" y="925"/>
                  </a:lnTo>
                  <a:lnTo>
                    <a:pt x="687" y="873"/>
                  </a:lnTo>
                  <a:lnTo>
                    <a:pt x="674" y="831"/>
                  </a:lnTo>
                  <a:lnTo>
                    <a:pt x="664" y="796"/>
                  </a:lnTo>
                  <a:lnTo>
                    <a:pt x="654" y="765"/>
                  </a:lnTo>
                  <a:lnTo>
                    <a:pt x="641" y="740"/>
                  </a:lnTo>
                  <a:lnTo>
                    <a:pt x="631" y="717"/>
                  </a:lnTo>
                  <a:lnTo>
                    <a:pt x="616" y="696"/>
                  </a:lnTo>
                  <a:lnTo>
                    <a:pt x="610" y="688"/>
                  </a:lnTo>
                  <a:lnTo>
                    <a:pt x="603" y="680"/>
                  </a:lnTo>
                  <a:lnTo>
                    <a:pt x="597" y="671"/>
                  </a:lnTo>
                  <a:lnTo>
                    <a:pt x="591" y="665"/>
                  </a:lnTo>
                  <a:lnTo>
                    <a:pt x="585" y="659"/>
                  </a:lnTo>
                  <a:lnTo>
                    <a:pt x="578" y="653"/>
                  </a:lnTo>
                  <a:lnTo>
                    <a:pt x="566" y="642"/>
                  </a:lnTo>
                  <a:lnTo>
                    <a:pt x="553" y="632"/>
                  </a:lnTo>
                  <a:lnTo>
                    <a:pt x="541" y="623"/>
                  </a:lnTo>
                  <a:lnTo>
                    <a:pt x="528" y="613"/>
                  </a:lnTo>
                  <a:lnTo>
                    <a:pt x="518" y="605"/>
                  </a:lnTo>
                  <a:lnTo>
                    <a:pt x="507" y="594"/>
                  </a:lnTo>
                  <a:lnTo>
                    <a:pt x="489" y="572"/>
                  </a:lnTo>
                  <a:lnTo>
                    <a:pt x="472" y="545"/>
                  </a:lnTo>
                  <a:lnTo>
                    <a:pt x="466" y="536"/>
                  </a:lnTo>
                  <a:lnTo>
                    <a:pt x="462" y="530"/>
                  </a:lnTo>
                  <a:lnTo>
                    <a:pt x="449" y="517"/>
                  </a:lnTo>
                  <a:lnTo>
                    <a:pt x="443" y="509"/>
                  </a:lnTo>
                  <a:lnTo>
                    <a:pt x="437" y="503"/>
                  </a:lnTo>
                  <a:lnTo>
                    <a:pt x="430" y="497"/>
                  </a:lnTo>
                  <a:lnTo>
                    <a:pt x="424" y="490"/>
                  </a:lnTo>
                  <a:lnTo>
                    <a:pt x="418" y="484"/>
                  </a:lnTo>
                  <a:lnTo>
                    <a:pt x="409" y="476"/>
                  </a:lnTo>
                  <a:lnTo>
                    <a:pt x="403" y="470"/>
                  </a:lnTo>
                  <a:lnTo>
                    <a:pt x="397" y="461"/>
                  </a:lnTo>
                  <a:lnTo>
                    <a:pt x="391" y="455"/>
                  </a:lnTo>
                  <a:lnTo>
                    <a:pt x="382" y="449"/>
                  </a:lnTo>
                  <a:lnTo>
                    <a:pt x="376" y="441"/>
                  </a:lnTo>
                  <a:lnTo>
                    <a:pt x="370" y="434"/>
                  </a:lnTo>
                  <a:lnTo>
                    <a:pt x="357" y="418"/>
                  </a:lnTo>
                  <a:lnTo>
                    <a:pt x="347" y="403"/>
                  </a:lnTo>
                  <a:lnTo>
                    <a:pt x="326" y="370"/>
                  </a:lnTo>
                  <a:lnTo>
                    <a:pt x="311" y="333"/>
                  </a:lnTo>
                  <a:lnTo>
                    <a:pt x="299" y="291"/>
                  </a:lnTo>
                  <a:lnTo>
                    <a:pt x="290" y="266"/>
                  </a:lnTo>
                  <a:lnTo>
                    <a:pt x="282" y="239"/>
                  </a:lnTo>
                  <a:lnTo>
                    <a:pt x="274" y="212"/>
                  </a:lnTo>
                  <a:lnTo>
                    <a:pt x="263" y="183"/>
                  </a:lnTo>
                  <a:lnTo>
                    <a:pt x="253" y="156"/>
                  </a:lnTo>
                  <a:lnTo>
                    <a:pt x="242" y="129"/>
                  </a:lnTo>
                  <a:lnTo>
                    <a:pt x="234" y="104"/>
                  </a:lnTo>
                  <a:lnTo>
                    <a:pt x="226" y="79"/>
                  </a:lnTo>
                  <a:lnTo>
                    <a:pt x="217" y="56"/>
                  </a:lnTo>
                  <a:lnTo>
                    <a:pt x="209" y="37"/>
                  </a:lnTo>
                  <a:lnTo>
                    <a:pt x="199" y="1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7"/>
            <p:cNvSpPr/>
            <p:nvPr/>
          </p:nvSpPr>
          <p:spPr>
            <a:xfrm>
              <a:off x="4424040" y="4001400"/>
              <a:ext cx="1289520" cy="241920"/>
            </a:xfrm>
            <a:custGeom>
              <a:avLst/>
              <a:gdLst>
                <a:gd name="textAreaLeft" fmla="*/ 0 w 1289520"/>
                <a:gd name="textAreaRight" fmla="*/ 1289880 w 128952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279" h="615">
                  <a:moveTo>
                    <a:pt x="624" y="345"/>
                  </a:moveTo>
                  <a:lnTo>
                    <a:pt x="144" y="391"/>
                  </a:lnTo>
                  <a:lnTo>
                    <a:pt x="123" y="399"/>
                  </a:lnTo>
                  <a:lnTo>
                    <a:pt x="104" y="409"/>
                  </a:lnTo>
                  <a:lnTo>
                    <a:pt x="85" y="420"/>
                  </a:lnTo>
                  <a:lnTo>
                    <a:pt x="69" y="430"/>
                  </a:lnTo>
                  <a:lnTo>
                    <a:pt x="52" y="441"/>
                  </a:lnTo>
                  <a:lnTo>
                    <a:pt x="39" y="451"/>
                  </a:lnTo>
                  <a:lnTo>
                    <a:pt x="27" y="461"/>
                  </a:lnTo>
                  <a:lnTo>
                    <a:pt x="16" y="472"/>
                  </a:lnTo>
                  <a:lnTo>
                    <a:pt x="0" y="511"/>
                  </a:lnTo>
                  <a:lnTo>
                    <a:pt x="4" y="528"/>
                  </a:lnTo>
                  <a:lnTo>
                    <a:pt x="10" y="536"/>
                  </a:lnTo>
                  <a:lnTo>
                    <a:pt x="19" y="542"/>
                  </a:lnTo>
                  <a:lnTo>
                    <a:pt x="33" y="549"/>
                  </a:lnTo>
                  <a:lnTo>
                    <a:pt x="52" y="555"/>
                  </a:lnTo>
                  <a:lnTo>
                    <a:pt x="75" y="561"/>
                  </a:lnTo>
                  <a:lnTo>
                    <a:pt x="104" y="565"/>
                  </a:lnTo>
                  <a:lnTo>
                    <a:pt x="137" y="572"/>
                  </a:lnTo>
                  <a:lnTo>
                    <a:pt x="173" y="576"/>
                  </a:lnTo>
                  <a:lnTo>
                    <a:pt x="252" y="586"/>
                  </a:lnTo>
                  <a:lnTo>
                    <a:pt x="344" y="594"/>
                  </a:lnTo>
                  <a:lnTo>
                    <a:pt x="440" y="603"/>
                  </a:lnTo>
                  <a:lnTo>
                    <a:pt x="538" y="609"/>
                  </a:lnTo>
                  <a:lnTo>
                    <a:pt x="634" y="615"/>
                  </a:lnTo>
                  <a:lnTo>
                    <a:pt x="753" y="615"/>
                  </a:lnTo>
                  <a:lnTo>
                    <a:pt x="912" y="605"/>
                  </a:lnTo>
                  <a:lnTo>
                    <a:pt x="999" y="599"/>
                  </a:lnTo>
                  <a:lnTo>
                    <a:pt x="1093" y="588"/>
                  </a:lnTo>
                  <a:lnTo>
                    <a:pt x="1191" y="580"/>
                  </a:lnTo>
                  <a:lnTo>
                    <a:pt x="1290" y="567"/>
                  </a:lnTo>
                  <a:lnTo>
                    <a:pt x="1388" y="557"/>
                  </a:lnTo>
                  <a:lnTo>
                    <a:pt x="1486" y="545"/>
                  </a:lnTo>
                  <a:lnTo>
                    <a:pt x="1580" y="532"/>
                  </a:lnTo>
                  <a:lnTo>
                    <a:pt x="1669" y="520"/>
                  </a:lnTo>
                  <a:lnTo>
                    <a:pt x="1751" y="509"/>
                  </a:lnTo>
                  <a:lnTo>
                    <a:pt x="1828" y="499"/>
                  </a:lnTo>
                  <a:lnTo>
                    <a:pt x="1893" y="488"/>
                  </a:lnTo>
                  <a:lnTo>
                    <a:pt x="1949" y="480"/>
                  </a:lnTo>
                  <a:lnTo>
                    <a:pt x="2005" y="468"/>
                  </a:lnTo>
                  <a:lnTo>
                    <a:pt x="2041" y="459"/>
                  </a:lnTo>
                  <a:lnTo>
                    <a:pt x="2078" y="449"/>
                  </a:lnTo>
                  <a:lnTo>
                    <a:pt x="2120" y="436"/>
                  </a:lnTo>
                  <a:lnTo>
                    <a:pt x="2141" y="430"/>
                  </a:lnTo>
                  <a:lnTo>
                    <a:pt x="2164" y="424"/>
                  </a:lnTo>
                  <a:lnTo>
                    <a:pt x="2187" y="416"/>
                  </a:lnTo>
                  <a:lnTo>
                    <a:pt x="2210" y="409"/>
                  </a:lnTo>
                  <a:lnTo>
                    <a:pt x="2235" y="401"/>
                  </a:lnTo>
                  <a:lnTo>
                    <a:pt x="2258" y="393"/>
                  </a:lnTo>
                  <a:lnTo>
                    <a:pt x="2283" y="385"/>
                  </a:lnTo>
                  <a:lnTo>
                    <a:pt x="2308" y="376"/>
                  </a:lnTo>
                  <a:lnTo>
                    <a:pt x="2335" y="368"/>
                  </a:lnTo>
                  <a:lnTo>
                    <a:pt x="2360" y="360"/>
                  </a:lnTo>
                  <a:lnTo>
                    <a:pt x="2387" y="349"/>
                  </a:lnTo>
                  <a:lnTo>
                    <a:pt x="2412" y="341"/>
                  </a:lnTo>
                  <a:lnTo>
                    <a:pt x="2440" y="333"/>
                  </a:lnTo>
                  <a:lnTo>
                    <a:pt x="2467" y="322"/>
                  </a:lnTo>
                  <a:lnTo>
                    <a:pt x="2494" y="312"/>
                  </a:lnTo>
                  <a:lnTo>
                    <a:pt x="2521" y="303"/>
                  </a:lnTo>
                  <a:lnTo>
                    <a:pt x="2548" y="293"/>
                  </a:lnTo>
                  <a:lnTo>
                    <a:pt x="2575" y="283"/>
                  </a:lnTo>
                  <a:lnTo>
                    <a:pt x="2602" y="274"/>
                  </a:lnTo>
                  <a:lnTo>
                    <a:pt x="2629" y="264"/>
                  </a:lnTo>
                  <a:lnTo>
                    <a:pt x="2657" y="254"/>
                  </a:lnTo>
                  <a:lnTo>
                    <a:pt x="2684" y="245"/>
                  </a:lnTo>
                  <a:lnTo>
                    <a:pt x="2711" y="235"/>
                  </a:lnTo>
                  <a:lnTo>
                    <a:pt x="2738" y="224"/>
                  </a:lnTo>
                  <a:lnTo>
                    <a:pt x="2763" y="214"/>
                  </a:lnTo>
                  <a:lnTo>
                    <a:pt x="2790" y="206"/>
                  </a:lnTo>
                  <a:lnTo>
                    <a:pt x="2815" y="195"/>
                  </a:lnTo>
                  <a:lnTo>
                    <a:pt x="2840" y="187"/>
                  </a:lnTo>
                  <a:lnTo>
                    <a:pt x="2865" y="177"/>
                  </a:lnTo>
                  <a:lnTo>
                    <a:pt x="2888" y="168"/>
                  </a:lnTo>
                  <a:lnTo>
                    <a:pt x="2913" y="160"/>
                  </a:lnTo>
                  <a:lnTo>
                    <a:pt x="2936" y="150"/>
                  </a:lnTo>
                  <a:lnTo>
                    <a:pt x="2957" y="141"/>
                  </a:lnTo>
                  <a:lnTo>
                    <a:pt x="2980" y="133"/>
                  </a:lnTo>
                  <a:lnTo>
                    <a:pt x="3001" y="125"/>
                  </a:lnTo>
                  <a:lnTo>
                    <a:pt x="3022" y="118"/>
                  </a:lnTo>
                  <a:lnTo>
                    <a:pt x="3041" y="110"/>
                  </a:lnTo>
                  <a:lnTo>
                    <a:pt x="3059" y="104"/>
                  </a:lnTo>
                  <a:lnTo>
                    <a:pt x="3078" y="96"/>
                  </a:lnTo>
                  <a:lnTo>
                    <a:pt x="3095" y="89"/>
                  </a:lnTo>
                  <a:lnTo>
                    <a:pt x="3112" y="83"/>
                  </a:lnTo>
                  <a:lnTo>
                    <a:pt x="3128" y="77"/>
                  </a:lnTo>
                  <a:lnTo>
                    <a:pt x="3155" y="67"/>
                  </a:lnTo>
                  <a:lnTo>
                    <a:pt x="3178" y="58"/>
                  </a:lnTo>
                  <a:lnTo>
                    <a:pt x="3197" y="50"/>
                  </a:lnTo>
                  <a:lnTo>
                    <a:pt x="3212" y="46"/>
                  </a:lnTo>
                  <a:lnTo>
                    <a:pt x="3222" y="39"/>
                  </a:lnTo>
                  <a:lnTo>
                    <a:pt x="3279" y="0"/>
                  </a:lnTo>
                  <a:lnTo>
                    <a:pt x="3268" y="4"/>
                  </a:lnTo>
                  <a:lnTo>
                    <a:pt x="3235" y="15"/>
                  </a:lnTo>
                  <a:lnTo>
                    <a:pt x="3212" y="23"/>
                  </a:lnTo>
                  <a:lnTo>
                    <a:pt x="3183" y="31"/>
                  </a:lnTo>
                  <a:lnTo>
                    <a:pt x="3151" y="44"/>
                  </a:lnTo>
                  <a:lnTo>
                    <a:pt x="3116" y="54"/>
                  </a:lnTo>
                  <a:lnTo>
                    <a:pt x="3097" y="60"/>
                  </a:lnTo>
                  <a:lnTo>
                    <a:pt x="3078" y="67"/>
                  </a:lnTo>
                  <a:lnTo>
                    <a:pt x="3057" y="75"/>
                  </a:lnTo>
                  <a:lnTo>
                    <a:pt x="3036" y="81"/>
                  </a:lnTo>
                  <a:lnTo>
                    <a:pt x="3016" y="89"/>
                  </a:lnTo>
                  <a:lnTo>
                    <a:pt x="2993" y="96"/>
                  </a:lnTo>
                  <a:lnTo>
                    <a:pt x="2970" y="104"/>
                  </a:lnTo>
                  <a:lnTo>
                    <a:pt x="2947" y="112"/>
                  </a:lnTo>
                  <a:lnTo>
                    <a:pt x="2922" y="118"/>
                  </a:lnTo>
                  <a:lnTo>
                    <a:pt x="2899" y="127"/>
                  </a:lnTo>
                  <a:lnTo>
                    <a:pt x="2874" y="135"/>
                  </a:lnTo>
                  <a:lnTo>
                    <a:pt x="2849" y="143"/>
                  </a:lnTo>
                  <a:lnTo>
                    <a:pt x="2824" y="152"/>
                  </a:lnTo>
                  <a:lnTo>
                    <a:pt x="2798" y="160"/>
                  </a:lnTo>
                  <a:lnTo>
                    <a:pt x="2771" y="168"/>
                  </a:lnTo>
                  <a:lnTo>
                    <a:pt x="2746" y="179"/>
                  </a:lnTo>
                  <a:lnTo>
                    <a:pt x="2721" y="187"/>
                  </a:lnTo>
                  <a:lnTo>
                    <a:pt x="2694" y="195"/>
                  </a:lnTo>
                  <a:lnTo>
                    <a:pt x="2669" y="204"/>
                  </a:lnTo>
                  <a:lnTo>
                    <a:pt x="2642" y="212"/>
                  </a:lnTo>
                  <a:lnTo>
                    <a:pt x="2617" y="220"/>
                  </a:lnTo>
                  <a:lnTo>
                    <a:pt x="2590" y="229"/>
                  </a:lnTo>
                  <a:lnTo>
                    <a:pt x="2565" y="237"/>
                  </a:lnTo>
                  <a:lnTo>
                    <a:pt x="2540" y="245"/>
                  </a:lnTo>
                  <a:lnTo>
                    <a:pt x="2515" y="254"/>
                  </a:lnTo>
                  <a:lnTo>
                    <a:pt x="2490" y="262"/>
                  </a:lnTo>
                  <a:lnTo>
                    <a:pt x="2465" y="270"/>
                  </a:lnTo>
                  <a:lnTo>
                    <a:pt x="2440" y="279"/>
                  </a:lnTo>
                  <a:lnTo>
                    <a:pt x="2417" y="287"/>
                  </a:lnTo>
                  <a:lnTo>
                    <a:pt x="2392" y="293"/>
                  </a:lnTo>
                  <a:lnTo>
                    <a:pt x="2369" y="301"/>
                  </a:lnTo>
                  <a:lnTo>
                    <a:pt x="2348" y="310"/>
                  </a:lnTo>
                  <a:lnTo>
                    <a:pt x="2325" y="316"/>
                  </a:lnTo>
                  <a:lnTo>
                    <a:pt x="2304" y="322"/>
                  </a:lnTo>
                  <a:lnTo>
                    <a:pt x="2283" y="328"/>
                  </a:lnTo>
                  <a:lnTo>
                    <a:pt x="2262" y="335"/>
                  </a:lnTo>
                  <a:lnTo>
                    <a:pt x="2225" y="347"/>
                  </a:lnTo>
                  <a:lnTo>
                    <a:pt x="2191" y="357"/>
                  </a:lnTo>
                  <a:lnTo>
                    <a:pt x="2160" y="368"/>
                  </a:lnTo>
                  <a:lnTo>
                    <a:pt x="2133" y="374"/>
                  </a:lnTo>
                  <a:lnTo>
                    <a:pt x="2093" y="387"/>
                  </a:lnTo>
                  <a:lnTo>
                    <a:pt x="2058" y="395"/>
                  </a:lnTo>
                  <a:lnTo>
                    <a:pt x="2010" y="405"/>
                  </a:lnTo>
                  <a:lnTo>
                    <a:pt x="1980" y="412"/>
                  </a:lnTo>
                  <a:lnTo>
                    <a:pt x="1951" y="418"/>
                  </a:lnTo>
                  <a:lnTo>
                    <a:pt x="1918" y="424"/>
                  </a:lnTo>
                  <a:lnTo>
                    <a:pt x="1882" y="430"/>
                  </a:lnTo>
                  <a:lnTo>
                    <a:pt x="1847" y="439"/>
                  </a:lnTo>
                  <a:lnTo>
                    <a:pt x="1809" y="445"/>
                  </a:lnTo>
                  <a:lnTo>
                    <a:pt x="1767" y="453"/>
                  </a:lnTo>
                  <a:lnTo>
                    <a:pt x="1730" y="461"/>
                  </a:lnTo>
                  <a:lnTo>
                    <a:pt x="1686" y="468"/>
                  </a:lnTo>
                  <a:lnTo>
                    <a:pt x="1642" y="476"/>
                  </a:lnTo>
                  <a:lnTo>
                    <a:pt x="1598" y="484"/>
                  </a:lnTo>
                  <a:lnTo>
                    <a:pt x="1553" y="491"/>
                  </a:lnTo>
                  <a:lnTo>
                    <a:pt x="1507" y="499"/>
                  </a:lnTo>
                  <a:lnTo>
                    <a:pt x="1459" y="505"/>
                  </a:lnTo>
                  <a:lnTo>
                    <a:pt x="1413" y="513"/>
                  </a:lnTo>
                  <a:lnTo>
                    <a:pt x="1365" y="520"/>
                  </a:lnTo>
                  <a:lnTo>
                    <a:pt x="1317" y="526"/>
                  </a:lnTo>
                  <a:lnTo>
                    <a:pt x="1271" y="532"/>
                  </a:lnTo>
                  <a:lnTo>
                    <a:pt x="1177" y="545"/>
                  </a:lnTo>
                  <a:lnTo>
                    <a:pt x="1085" y="553"/>
                  </a:lnTo>
                  <a:lnTo>
                    <a:pt x="999" y="561"/>
                  </a:lnTo>
                  <a:lnTo>
                    <a:pt x="843" y="567"/>
                  </a:lnTo>
                  <a:lnTo>
                    <a:pt x="574" y="561"/>
                  </a:lnTo>
                  <a:lnTo>
                    <a:pt x="357" y="549"/>
                  </a:lnTo>
                  <a:lnTo>
                    <a:pt x="269" y="540"/>
                  </a:lnTo>
                  <a:lnTo>
                    <a:pt x="200" y="532"/>
                  </a:lnTo>
                  <a:lnTo>
                    <a:pt x="121" y="511"/>
                  </a:lnTo>
                  <a:lnTo>
                    <a:pt x="108" y="499"/>
                  </a:lnTo>
                  <a:lnTo>
                    <a:pt x="104" y="486"/>
                  </a:lnTo>
                  <a:lnTo>
                    <a:pt x="112" y="472"/>
                  </a:lnTo>
                  <a:lnTo>
                    <a:pt x="119" y="463"/>
                  </a:lnTo>
                  <a:lnTo>
                    <a:pt x="127" y="457"/>
                  </a:lnTo>
                  <a:lnTo>
                    <a:pt x="140" y="451"/>
                  </a:lnTo>
                  <a:lnTo>
                    <a:pt x="152" y="443"/>
                  </a:lnTo>
                  <a:lnTo>
                    <a:pt x="167" y="436"/>
                  </a:lnTo>
                  <a:lnTo>
                    <a:pt x="183" y="430"/>
                  </a:lnTo>
                  <a:lnTo>
                    <a:pt x="202" y="424"/>
                  </a:lnTo>
                  <a:lnTo>
                    <a:pt x="221" y="420"/>
                  </a:lnTo>
                  <a:lnTo>
                    <a:pt x="265" y="409"/>
                  </a:lnTo>
                  <a:lnTo>
                    <a:pt x="317" y="403"/>
                  </a:lnTo>
                  <a:lnTo>
                    <a:pt x="375" y="397"/>
                  </a:lnTo>
                  <a:lnTo>
                    <a:pt x="496" y="389"/>
                  </a:lnTo>
                  <a:lnTo>
                    <a:pt x="632" y="382"/>
                  </a:lnTo>
                  <a:lnTo>
                    <a:pt x="624" y="345"/>
                  </a:lnTo>
                  <a:lnTo>
                    <a:pt x="624" y="345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8"/>
            <p:cNvSpPr/>
            <p:nvPr/>
          </p:nvSpPr>
          <p:spPr>
            <a:xfrm>
              <a:off x="4621320" y="4165920"/>
              <a:ext cx="77040" cy="38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" h="97">
                  <a:moveTo>
                    <a:pt x="119" y="12"/>
                  </a:moveTo>
                  <a:lnTo>
                    <a:pt x="104" y="8"/>
                  </a:lnTo>
                  <a:lnTo>
                    <a:pt x="69" y="4"/>
                  </a:lnTo>
                  <a:lnTo>
                    <a:pt x="29" y="2"/>
                  </a:lnTo>
                  <a:lnTo>
                    <a:pt x="2" y="12"/>
                  </a:lnTo>
                  <a:lnTo>
                    <a:pt x="0" y="31"/>
                  </a:lnTo>
                  <a:lnTo>
                    <a:pt x="6" y="39"/>
                  </a:lnTo>
                  <a:lnTo>
                    <a:pt x="14" y="48"/>
                  </a:lnTo>
                  <a:lnTo>
                    <a:pt x="25" y="56"/>
                  </a:lnTo>
                  <a:lnTo>
                    <a:pt x="37" y="60"/>
                  </a:lnTo>
                  <a:lnTo>
                    <a:pt x="58" y="60"/>
                  </a:lnTo>
                  <a:lnTo>
                    <a:pt x="81" y="54"/>
                  </a:lnTo>
                  <a:lnTo>
                    <a:pt x="106" y="50"/>
                  </a:lnTo>
                  <a:lnTo>
                    <a:pt x="135" y="43"/>
                  </a:lnTo>
                  <a:lnTo>
                    <a:pt x="131" y="97"/>
                  </a:lnTo>
                  <a:lnTo>
                    <a:pt x="171" y="87"/>
                  </a:lnTo>
                  <a:lnTo>
                    <a:pt x="187" y="79"/>
                  </a:lnTo>
                  <a:lnTo>
                    <a:pt x="196" y="77"/>
                  </a:lnTo>
                  <a:lnTo>
                    <a:pt x="148" y="0"/>
                  </a:lnTo>
                  <a:lnTo>
                    <a:pt x="119" y="12"/>
                  </a:lnTo>
                  <a:lnTo>
                    <a:pt x="119" y="1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9"/>
            <p:cNvSpPr/>
            <p:nvPr/>
          </p:nvSpPr>
          <p:spPr>
            <a:xfrm>
              <a:off x="4419000" y="4213080"/>
              <a:ext cx="760320" cy="14148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933" h="360">
                  <a:moveTo>
                    <a:pt x="0" y="56"/>
                  </a:moveTo>
                  <a:lnTo>
                    <a:pt x="4" y="61"/>
                  </a:lnTo>
                  <a:lnTo>
                    <a:pt x="11" y="67"/>
                  </a:lnTo>
                  <a:lnTo>
                    <a:pt x="19" y="75"/>
                  </a:lnTo>
                  <a:lnTo>
                    <a:pt x="29" y="86"/>
                  </a:lnTo>
                  <a:lnTo>
                    <a:pt x="40" y="96"/>
                  </a:lnTo>
                  <a:lnTo>
                    <a:pt x="46" y="102"/>
                  </a:lnTo>
                  <a:lnTo>
                    <a:pt x="52" y="108"/>
                  </a:lnTo>
                  <a:lnTo>
                    <a:pt x="59" y="115"/>
                  </a:lnTo>
                  <a:lnTo>
                    <a:pt x="67" y="121"/>
                  </a:lnTo>
                  <a:lnTo>
                    <a:pt x="73" y="129"/>
                  </a:lnTo>
                  <a:lnTo>
                    <a:pt x="82" y="135"/>
                  </a:lnTo>
                  <a:lnTo>
                    <a:pt x="90" y="142"/>
                  </a:lnTo>
                  <a:lnTo>
                    <a:pt x="96" y="150"/>
                  </a:lnTo>
                  <a:lnTo>
                    <a:pt x="105" y="156"/>
                  </a:lnTo>
                  <a:lnTo>
                    <a:pt x="113" y="165"/>
                  </a:lnTo>
                  <a:lnTo>
                    <a:pt x="121" y="171"/>
                  </a:lnTo>
                  <a:lnTo>
                    <a:pt x="130" y="179"/>
                  </a:lnTo>
                  <a:lnTo>
                    <a:pt x="138" y="185"/>
                  </a:lnTo>
                  <a:lnTo>
                    <a:pt x="146" y="192"/>
                  </a:lnTo>
                  <a:lnTo>
                    <a:pt x="155" y="200"/>
                  </a:lnTo>
                  <a:lnTo>
                    <a:pt x="161" y="206"/>
                  </a:lnTo>
                  <a:lnTo>
                    <a:pt x="169" y="212"/>
                  </a:lnTo>
                  <a:lnTo>
                    <a:pt x="178" y="219"/>
                  </a:lnTo>
                  <a:lnTo>
                    <a:pt x="194" y="229"/>
                  </a:lnTo>
                  <a:lnTo>
                    <a:pt x="211" y="241"/>
                  </a:lnTo>
                  <a:lnTo>
                    <a:pt x="219" y="246"/>
                  </a:lnTo>
                  <a:lnTo>
                    <a:pt x="230" y="254"/>
                  </a:lnTo>
                  <a:lnTo>
                    <a:pt x="240" y="260"/>
                  </a:lnTo>
                  <a:lnTo>
                    <a:pt x="251" y="266"/>
                  </a:lnTo>
                  <a:lnTo>
                    <a:pt x="263" y="273"/>
                  </a:lnTo>
                  <a:lnTo>
                    <a:pt x="274" y="281"/>
                  </a:lnTo>
                  <a:lnTo>
                    <a:pt x="286" y="287"/>
                  </a:lnTo>
                  <a:lnTo>
                    <a:pt x="299" y="295"/>
                  </a:lnTo>
                  <a:lnTo>
                    <a:pt x="309" y="302"/>
                  </a:lnTo>
                  <a:lnTo>
                    <a:pt x="322" y="308"/>
                  </a:lnTo>
                  <a:lnTo>
                    <a:pt x="334" y="314"/>
                  </a:lnTo>
                  <a:lnTo>
                    <a:pt x="347" y="320"/>
                  </a:lnTo>
                  <a:lnTo>
                    <a:pt x="359" y="327"/>
                  </a:lnTo>
                  <a:lnTo>
                    <a:pt x="370" y="333"/>
                  </a:lnTo>
                  <a:lnTo>
                    <a:pt x="393" y="343"/>
                  </a:lnTo>
                  <a:lnTo>
                    <a:pt x="413" y="352"/>
                  </a:lnTo>
                  <a:lnTo>
                    <a:pt x="430" y="356"/>
                  </a:lnTo>
                  <a:lnTo>
                    <a:pt x="447" y="360"/>
                  </a:lnTo>
                  <a:lnTo>
                    <a:pt x="466" y="354"/>
                  </a:lnTo>
                  <a:lnTo>
                    <a:pt x="468" y="333"/>
                  </a:lnTo>
                  <a:lnTo>
                    <a:pt x="459" y="306"/>
                  </a:lnTo>
                  <a:lnTo>
                    <a:pt x="449" y="281"/>
                  </a:lnTo>
                  <a:lnTo>
                    <a:pt x="441" y="258"/>
                  </a:lnTo>
                  <a:lnTo>
                    <a:pt x="434" y="241"/>
                  </a:lnTo>
                  <a:lnTo>
                    <a:pt x="424" y="216"/>
                  </a:lnTo>
                  <a:lnTo>
                    <a:pt x="420" y="208"/>
                  </a:lnTo>
                  <a:lnTo>
                    <a:pt x="464" y="208"/>
                  </a:lnTo>
                  <a:lnTo>
                    <a:pt x="472" y="227"/>
                  </a:lnTo>
                  <a:lnTo>
                    <a:pt x="482" y="246"/>
                  </a:lnTo>
                  <a:lnTo>
                    <a:pt x="495" y="268"/>
                  </a:lnTo>
                  <a:lnTo>
                    <a:pt x="507" y="289"/>
                  </a:lnTo>
                  <a:lnTo>
                    <a:pt x="522" y="308"/>
                  </a:lnTo>
                  <a:lnTo>
                    <a:pt x="528" y="314"/>
                  </a:lnTo>
                  <a:lnTo>
                    <a:pt x="534" y="320"/>
                  </a:lnTo>
                  <a:lnTo>
                    <a:pt x="545" y="327"/>
                  </a:lnTo>
                  <a:lnTo>
                    <a:pt x="549" y="325"/>
                  </a:lnTo>
                  <a:lnTo>
                    <a:pt x="549" y="318"/>
                  </a:lnTo>
                  <a:lnTo>
                    <a:pt x="543" y="302"/>
                  </a:lnTo>
                  <a:lnTo>
                    <a:pt x="543" y="285"/>
                  </a:lnTo>
                  <a:lnTo>
                    <a:pt x="549" y="279"/>
                  </a:lnTo>
                  <a:lnTo>
                    <a:pt x="564" y="277"/>
                  </a:lnTo>
                  <a:lnTo>
                    <a:pt x="593" y="285"/>
                  </a:lnTo>
                  <a:lnTo>
                    <a:pt x="610" y="302"/>
                  </a:lnTo>
                  <a:lnTo>
                    <a:pt x="620" y="320"/>
                  </a:lnTo>
                  <a:lnTo>
                    <a:pt x="631" y="327"/>
                  </a:lnTo>
                  <a:lnTo>
                    <a:pt x="641" y="331"/>
                  </a:lnTo>
                  <a:lnTo>
                    <a:pt x="695" y="333"/>
                  </a:lnTo>
                  <a:lnTo>
                    <a:pt x="718" y="327"/>
                  </a:lnTo>
                  <a:lnTo>
                    <a:pt x="731" y="310"/>
                  </a:lnTo>
                  <a:lnTo>
                    <a:pt x="735" y="300"/>
                  </a:lnTo>
                  <a:lnTo>
                    <a:pt x="745" y="293"/>
                  </a:lnTo>
                  <a:lnTo>
                    <a:pt x="775" y="287"/>
                  </a:lnTo>
                  <a:lnTo>
                    <a:pt x="808" y="291"/>
                  </a:lnTo>
                  <a:lnTo>
                    <a:pt x="835" y="302"/>
                  </a:lnTo>
                  <a:lnTo>
                    <a:pt x="845" y="308"/>
                  </a:lnTo>
                  <a:lnTo>
                    <a:pt x="858" y="316"/>
                  </a:lnTo>
                  <a:lnTo>
                    <a:pt x="868" y="325"/>
                  </a:lnTo>
                  <a:lnTo>
                    <a:pt x="881" y="331"/>
                  </a:lnTo>
                  <a:lnTo>
                    <a:pt x="902" y="331"/>
                  </a:lnTo>
                  <a:lnTo>
                    <a:pt x="914" y="310"/>
                  </a:lnTo>
                  <a:lnTo>
                    <a:pt x="921" y="293"/>
                  </a:lnTo>
                  <a:lnTo>
                    <a:pt x="927" y="279"/>
                  </a:lnTo>
                  <a:lnTo>
                    <a:pt x="933" y="268"/>
                  </a:lnTo>
                  <a:lnTo>
                    <a:pt x="941" y="262"/>
                  </a:lnTo>
                  <a:lnTo>
                    <a:pt x="950" y="256"/>
                  </a:lnTo>
                  <a:lnTo>
                    <a:pt x="960" y="256"/>
                  </a:lnTo>
                  <a:lnTo>
                    <a:pt x="979" y="262"/>
                  </a:lnTo>
                  <a:lnTo>
                    <a:pt x="994" y="268"/>
                  </a:lnTo>
                  <a:lnTo>
                    <a:pt x="1017" y="275"/>
                  </a:lnTo>
                  <a:lnTo>
                    <a:pt x="1044" y="283"/>
                  </a:lnTo>
                  <a:lnTo>
                    <a:pt x="1073" y="291"/>
                  </a:lnTo>
                  <a:lnTo>
                    <a:pt x="1104" y="300"/>
                  </a:lnTo>
                  <a:lnTo>
                    <a:pt x="1133" y="304"/>
                  </a:lnTo>
                  <a:lnTo>
                    <a:pt x="1181" y="310"/>
                  </a:lnTo>
                  <a:lnTo>
                    <a:pt x="1196" y="308"/>
                  </a:lnTo>
                  <a:lnTo>
                    <a:pt x="1204" y="302"/>
                  </a:lnTo>
                  <a:lnTo>
                    <a:pt x="1215" y="283"/>
                  </a:lnTo>
                  <a:lnTo>
                    <a:pt x="1219" y="273"/>
                  </a:lnTo>
                  <a:lnTo>
                    <a:pt x="1229" y="266"/>
                  </a:lnTo>
                  <a:lnTo>
                    <a:pt x="1248" y="262"/>
                  </a:lnTo>
                  <a:lnTo>
                    <a:pt x="1273" y="262"/>
                  </a:lnTo>
                  <a:lnTo>
                    <a:pt x="1384" y="266"/>
                  </a:lnTo>
                  <a:lnTo>
                    <a:pt x="1432" y="266"/>
                  </a:lnTo>
                  <a:lnTo>
                    <a:pt x="1442" y="225"/>
                  </a:lnTo>
                  <a:lnTo>
                    <a:pt x="1465" y="229"/>
                  </a:lnTo>
                  <a:lnTo>
                    <a:pt x="1515" y="235"/>
                  </a:lnTo>
                  <a:lnTo>
                    <a:pt x="1572" y="241"/>
                  </a:lnTo>
                  <a:lnTo>
                    <a:pt x="1616" y="246"/>
                  </a:lnTo>
                  <a:lnTo>
                    <a:pt x="1643" y="237"/>
                  </a:lnTo>
                  <a:lnTo>
                    <a:pt x="1659" y="221"/>
                  </a:lnTo>
                  <a:lnTo>
                    <a:pt x="1672" y="198"/>
                  </a:lnTo>
                  <a:lnTo>
                    <a:pt x="1697" y="204"/>
                  </a:lnTo>
                  <a:lnTo>
                    <a:pt x="1720" y="210"/>
                  </a:lnTo>
                  <a:lnTo>
                    <a:pt x="1745" y="214"/>
                  </a:lnTo>
                  <a:lnTo>
                    <a:pt x="1795" y="216"/>
                  </a:lnTo>
                  <a:lnTo>
                    <a:pt x="1812" y="210"/>
                  </a:lnTo>
                  <a:lnTo>
                    <a:pt x="1816" y="198"/>
                  </a:lnTo>
                  <a:lnTo>
                    <a:pt x="1808" y="133"/>
                  </a:lnTo>
                  <a:lnTo>
                    <a:pt x="1851" y="137"/>
                  </a:lnTo>
                  <a:lnTo>
                    <a:pt x="1879" y="133"/>
                  </a:lnTo>
                  <a:lnTo>
                    <a:pt x="1904" y="117"/>
                  </a:lnTo>
                  <a:lnTo>
                    <a:pt x="1922" y="90"/>
                  </a:lnTo>
                  <a:lnTo>
                    <a:pt x="1931" y="65"/>
                  </a:lnTo>
                  <a:lnTo>
                    <a:pt x="1933" y="36"/>
                  </a:lnTo>
                  <a:lnTo>
                    <a:pt x="1799" y="0"/>
                  </a:lnTo>
                  <a:lnTo>
                    <a:pt x="1776" y="7"/>
                  </a:lnTo>
                  <a:lnTo>
                    <a:pt x="1747" y="13"/>
                  </a:lnTo>
                  <a:lnTo>
                    <a:pt x="1710" y="19"/>
                  </a:lnTo>
                  <a:lnTo>
                    <a:pt x="1662" y="29"/>
                  </a:lnTo>
                  <a:lnTo>
                    <a:pt x="1605" y="40"/>
                  </a:lnTo>
                  <a:lnTo>
                    <a:pt x="1540" y="52"/>
                  </a:lnTo>
                  <a:lnTo>
                    <a:pt x="1505" y="56"/>
                  </a:lnTo>
                  <a:lnTo>
                    <a:pt x="1470" y="63"/>
                  </a:lnTo>
                  <a:lnTo>
                    <a:pt x="1434" y="69"/>
                  </a:lnTo>
                  <a:lnTo>
                    <a:pt x="1394" y="75"/>
                  </a:lnTo>
                  <a:lnTo>
                    <a:pt x="1355" y="81"/>
                  </a:lnTo>
                  <a:lnTo>
                    <a:pt x="1315" y="88"/>
                  </a:lnTo>
                  <a:lnTo>
                    <a:pt x="1273" y="94"/>
                  </a:lnTo>
                  <a:lnTo>
                    <a:pt x="1232" y="100"/>
                  </a:lnTo>
                  <a:lnTo>
                    <a:pt x="1148" y="113"/>
                  </a:lnTo>
                  <a:lnTo>
                    <a:pt x="1060" y="123"/>
                  </a:lnTo>
                  <a:lnTo>
                    <a:pt x="973" y="131"/>
                  </a:lnTo>
                  <a:lnTo>
                    <a:pt x="887" y="140"/>
                  </a:lnTo>
                  <a:lnTo>
                    <a:pt x="802" y="146"/>
                  </a:lnTo>
                  <a:lnTo>
                    <a:pt x="637" y="148"/>
                  </a:lnTo>
                  <a:lnTo>
                    <a:pt x="486" y="142"/>
                  </a:lnTo>
                  <a:lnTo>
                    <a:pt x="349" y="127"/>
                  </a:lnTo>
                  <a:lnTo>
                    <a:pt x="288" y="119"/>
                  </a:lnTo>
                  <a:lnTo>
                    <a:pt x="232" y="110"/>
                  </a:lnTo>
                  <a:lnTo>
                    <a:pt x="180" y="100"/>
                  </a:lnTo>
                  <a:lnTo>
                    <a:pt x="136" y="92"/>
                  </a:lnTo>
                  <a:lnTo>
                    <a:pt x="94" y="81"/>
                  </a:lnTo>
                  <a:lnTo>
                    <a:pt x="63" y="73"/>
                  </a:lnTo>
                  <a:lnTo>
                    <a:pt x="17" y="61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0"/>
            <p:cNvSpPr/>
            <p:nvPr/>
          </p:nvSpPr>
          <p:spPr>
            <a:xfrm>
              <a:off x="4720320" y="4071240"/>
              <a:ext cx="397080" cy="536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10" h="137">
                  <a:moveTo>
                    <a:pt x="0" y="137"/>
                  </a:moveTo>
                  <a:lnTo>
                    <a:pt x="13" y="93"/>
                  </a:lnTo>
                  <a:lnTo>
                    <a:pt x="25" y="74"/>
                  </a:lnTo>
                  <a:lnTo>
                    <a:pt x="34" y="66"/>
                  </a:lnTo>
                  <a:lnTo>
                    <a:pt x="44" y="58"/>
                  </a:lnTo>
                  <a:lnTo>
                    <a:pt x="57" y="47"/>
                  </a:lnTo>
                  <a:lnTo>
                    <a:pt x="71" y="41"/>
                  </a:lnTo>
                  <a:lnTo>
                    <a:pt x="86" y="33"/>
                  </a:lnTo>
                  <a:lnTo>
                    <a:pt x="105" y="29"/>
                  </a:lnTo>
                  <a:lnTo>
                    <a:pt x="127" y="23"/>
                  </a:lnTo>
                  <a:lnTo>
                    <a:pt x="155" y="18"/>
                  </a:lnTo>
                  <a:lnTo>
                    <a:pt x="217" y="12"/>
                  </a:lnTo>
                  <a:lnTo>
                    <a:pt x="374" y="8"/>
                  </a:lnTo>
                  <a:lnTo>
                    <a:pt x="649" y="8"/>
                  </a:lnTo>
                  <a:lnTo>
                    <a:pt x="873" y="0"/>
                  </a:lnTo>
                  <a:lnTo>
                    <a:pt x="971" y="0"/>
                  </a:lnTo>
                  <a:lnTo>
                    <a:pt x="998" y="2"/>
                  </a:lnTo>
                  <a:lnTo>
                    <a:pt x="1010" y="8"/>
                  </a:lnTo>
                  <a:lnTo>
                    <a:pt x="1008" y="37"/>
                  </a:lnTo>
                  <a:lnTo>
                    <a:pt x="1002" y="45"/>
                  </a:lnTo>
                  <a:lnTo>
                    <a:pt x="994" y="54"/>
                  </a:lnTo>
                  <a:lnTo>
                    <a:pt x="981" y="62"/>
                  </a:lnTo>
                  <a:lnTo>
                    <a:pt x="969" y="72"/>
                  </a:lnTo>
                  <a:lnTo>
                    <a:pt x="958" y="77"/>
                  </a:lnTo>
                  <a:lnTo>
                    <a:pt x="946" y="81"/>
                  </a:lnTo>
                  <a:lnTo>
                    <a:pt x="916" y="89"/>
                  </a:lnTo>
                  <a:lnTo>
                    <a:pt x="883" y="95"/>
                  </a:lnTo>
                  <a:lnTo>
                    <a:pt x="843" y="99"/>
                  </a:lnTo>
                  <a:lnTo>
                    <a:pt x="760" y="108"/>
                  </a:lnTo>
                  <a:lnTo>
                    <a:pt x="678" y="116"/>
                  </a:lnTo>
                  <a:lnTo>
                    <a:pt x="618" y="120"/>
                  </a:lnTo>
                  <a:lnTo>
                    <a:pt x="528" y="124"/>
                  </a:lnTo>
                  <a:lnTo>
                    <a:pt x="299" y="131"/>
                  </a:lnTo>
                  <a:lnTo>
                    <a:pt x="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1"/>
            <p:cNvSpPr/>
            <p:nvPr/>
          </p:nvSpPr>
          <p:spPr>
            <a:xfrm>
              <a:off x="4779360" y="4156200"/>
              <a:ext cx="39600" cy="331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01" h="85">
                  <a:moveTo>
                    <a:pt x="0" y="58"/>
                  </a:moveTo>
                  <a:lnTo>
                    <a:pt x="0" y="31"/>
                  </a:lnTo>
                  <a:lnTo>
                    <a:pt x="11" y="12"/>
                  </a:lnTo>
                  <a:lnTo>
                    <a:pt x="21" y="4"/>
                  </a:lnTo>
                  <a:lnTo>
                    <a:pt x="36" y="0"/>
                  </a:lnTo>
                  <a:lnTo>
                    <a:pt x="65" y="2"/>
                  </a:lnTo>
                  <a:lnTo>
                    <a:pt x="86" y="12"/>
                  </a:lnTo>
                  <a:lnTo>
                    <a:pt x="99" y="27"/>
                  </a:lnTo>
                  <a:lnTo>
                    <a:pt x="101" y="41"/>
                  </a:lnTo>
                  <a:lnTo>
                    <a:pt x="94" y="58"/>
                  </a:lnTo>
                  <a:lnTo>
                    <a:pt x="88" y="66"/>
                  </a:lnTo>
                  <a:lnTo>
                    <a:pt x="80" y="75"/>
                  </a:lnTo>
                  <a:lnTo>
                    <a:pt x="71" y="81"/>
                  </a:lnTo>
                  <a:lnTo>
                    <a:pt x="63" y="85"/>
                  </a:lnTo>
                  <a:lnTo>
                    <a:pt x="40" y="81"/>
                  </a:lnTo>
                  <a:lnTo>
                    <a:pt x="19" y="70"/>
                  </a:lnTo>
                  <a:lnTo>
                    <a:pt x="7" y="64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2"/>
            <p:cNvSpPr/>
            <p:nvPr/>
          </p:nvSpPr>
          <p:spPr>
            <a:xfrm>
              <a:off x="4853520" y="4150080"/>
              <a:ext cx="41760" cy="324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07" h="83">
                  <a:moveTo>
                    <a:pt x="4" y="19"/>
                  </a:moveTo>
                  <a:lnTo>
                    <a:pt x="9" y="15"/>
                  </a:lnTo>
                  <a:lnTo>
                    <a:pt x="21" y="7"/>
                  </a:lnTo>
                  <a:lnTo>
                    <a:pt x="40" y="0"/>
                  </a:lnTo>
                  <a:lnTo>
                    <a:pt x="65" y="0"/>
                  </a:lnTo>
                  <a:lnTo>
                    <a:pt x="88" y="9"/>
                  </a:lnTo>
                  <a:lnTo>
                    <a:pt x="98" y="21"/>
                  </a:lnTo>
                  <a:lnTo>
                    <a:pt x="107" y="48"/>
                  </a:lnTo>
                  <a:lnTo>
                    <a:pt x="100" y="63"/>
                  </a:lnTo>
                  <a:lnTo>
                    <a:pt x="94" y="69"/>
                  </a:lnTo>
                  <a:lnTo>
                    <a:pt x="88" y="77"/>
                  </a:lnTo>
                  <a:lnTo>
                    <a:pt x="80" y="81"/>
                  </a:lnTo>
                  <a:lnTo>
                    <a:pt x="69" y="83"/>
                  </a:lnTo>
                  <a:lnTo>
                    <a:pt x="50" y="79"/>
                  </a:lnTo>
                  <a:lnTo>
                    <a:pt x="29" y="69"/>
                  </a:lnTo>
                  <a:lnTo>
                    <a:pt x="15" y="58"/>
                  </a:lnTo>
                  <a:lnTo>
                    <a:pt x="0" y="48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3"/>
            <p:cNvSpPr/>
            <p:nvPr/>
          </p:nvSpPr>
          <p:spPr>
            <a:xfrm>
              <a:off x="4937760" y="4137120"/>
              <a:ext cx="48960" cy="349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5" h="89">
                  <a:moveTo>
                    <a:pt x="0" y="37"/>
                  </a:moveTo>
                  <a:lnTo>
                    <a:pt x="9" y="17"/>
                  </a:lnTo>
                  <a:lnTo>
                    <a:pt x="21" y="2"/>
                  </a:lnTo>
                  <a:lnTo>
                    <a:pt x="44" y="0"/>
                  </a:lnTo>
                  <a:lnTo>
                    <a:pt x="71" y="8"/>
                  </a:lnTo>
                  <a:lnTo>
                    <a:pt x="96" y="19"/>
                  </a:lnTo>
                  <a:lnTo>
                    <a:pt x="115" y="29"/>
                  </a:lnTo>
                  <a:lnTo>
                    <a:pt x="125" y="42"/>
                  </a:lnTo>
                  <a:lnTo>
                    <a:pt x="123" y="56"/>
                  </a:lnTo>
                  <a:lnTo>
                    <a:pt x="117" y="71"/>
                  </a:lnTo>
                  <a:lnTo>
                    <a:pt x="109" y="79"/>
                  </a:lnTo>
                  <a:lnTo>
                    <a:pt x="98" y="83"/>
                  </a:lnTo>
                  <a:lnTo>
                    <a:pt x="71" y="89"/>
                  </a:lnTo>
                  <a:lnTo>
                    <a:pt x="44" y="85"/>
                  </a:lnTo>
                  <a:lnTo>
                    <a:pt x="23" y="77"/>
                  </a:lnTo>
                  <a:lnTo>
                    <a:pt x="9" y="64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4"/>
            <p:cNvSpPr/>
            <p:nvPr/>
          </p:nvSpPr>
          <p:spPr>
            <a:xfrm>
              <a:off x="5142600" y="4093200"/>
              <a:ext cx="149400" cy="626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80" h="160">
                  <a:moveTo>
                    <a:pt x="211" y="0"/>
                  </a:moveTo>
                  <a:lnTo>
                    <a:pt x="200" y="6"/>
                  </a:lnTo>
                  <a:lnTo>
                    <a:pt x="188" y="14"/>
                  </a:lnTo>
                  <a:lnTo>
                    <a:pt x="173" y="23"/>
                  </a:lnTo>
                  <a:lnTo>
                    <a:pt x="154" y="33"/>
                  </a:lnTo>
                  <a:lnTo>
                    <a:pt x="146" y="39"/>
                  </a:lnTo>
                  <a:lnTo>
                    <a:pt x="136" y="46"/>
                  </a:lnTo>
                  <a:lnTo>
                    <a:pt x="125" y="52"/>
                  </a:lnTo>
                  <a:lnTo>
                    <a:pt x="115" y="58"/>
                  </a:lnTo>
                  <a:lnTo>
                    <a:pt x="104" y="66"/>
                  </a:lnTo>
                  <a:lnTo>
                    <a:pt x="94" y="73"/>
                  </a:lnTo>
                  <a:lnTo>
                    <a:pt x="81" y="79"/>
                  </a:lnTo>
                  <a:lnTo>
                    <a:pt x="71" y="87"/>
                  </a:lnTo>
                  <a:lnTo>
                    <a:pt x="63" y="93"/>
                  </a:lnTo>
                  <a:lnTo>
                    <a:pt x="52" y="100"/>
                  </a:lnTo>
                  <a:lnTo>
                    <a:pt x="42" y="108"/>
                  </a:lnTo>
                  <a:lnTo>
                    <a:pt x="33" y="114"/>
                  </a:lnTo>
                  <a:lnTo>
                    <a:pt x="19" y="127"/>
                  </a:lnTo>
                  <a:lnTo>
                    <a:pt x="8" y="137"/>
                  </a:lnTo>
                  <a:lnTo>
                    <a:pt x="0" y="145"/>
                  </a:lnTo>
                  <a:lnTo>
                    <a:pt x="2" y="158"/>
                  </a:lnTo>
                  <a:lnTo>
                    <a:pt x="44" y="160"/>
                  </a:lnTo>
                  <a:lnTo>
                    <a:pt x="104" y="149"/>
                  </a:lnTo>
                  <a:lnTo>
                    <a:pt x="136" y="143"/>
                  </a:lnTo>
                  <a:lnTo>
                    <a:pt x="169" y="135"/>
                  </a:lnTo>
                  <a:lnTo>
                    <a:pt x="198" y="129"/>
                  </a:lnTo>
                  <a:lnTo>
                    <a:pt x="223" y="124"/>
                  </a:lnTo>
                  <a:lnTo>
                    <a:pt x="273" y="112"/>
                  </a:lnTo>
                  <a:lnTo>
                    <a:pt x="300" y="102"/>
                  </a:lnTo>
                  <a:lnTo>
                    <a:pt x="323" y="91"/>
                  </a:lnTo>
                  <a:lnTo>
                    <a:pt x="346" y="81"/>
                  </a:lnTo>
                  <a:lnTo>
                    <a:pt x="365" y="73"/>
                  </a:lnTo>
                  <a:lnTo>
                    <a:pt x="380" y="64"/>
                  </a:lnTo>
                  <a:lnTo>
                    <a:pt x="167" y="104"/>
                  </a:lnTo>
                  <a:lnTo>
                    <a:pt x="207" y="60"/>
                  </a:lnTo>
                  <a:lnTo>
                    <a:pt x="361" y="37"/>
                  </a:lnTo>
                  <a:lnTo>
                    <a:pt x="244" y="33"/>
                  </a:lnTo>
                  <a:lnTo>
                    <a:pt x="271" y="12"/>
                  </a:lnTo>
                  <a:lnTo>
                    <a:pt x="211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5"/>
            <p:cNvSpPr/>
            <p:nvPr/>
          </p:nvSpPr>
          <p:spPr>
            <a:xfrm>
              <a:off x="5097960" y="4106160"/>
              <a:ext cx="23760" cy="21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1" h="56">
                  <a:moveTo>
                    <a:pt x="61" y="0"/>
                  </a:moveTo>
                  <a:lnTo>
                    <a:pt x="32" y="6"/>
                  </a:lnTo>
                  <a:lnTo>
                    <a:pt x="13" y="15"/>
                  </a:lnTo>
                  <a:lnTo>
                    <a:pt x="0" y="27"/>
                  </a:lnTo>
                  <a:lnTo>
                    <a:pt x="2" y="42"/>
                  </a:lnTo>
                  <a:lnTo>
                    <a:pt x="6" y="46"/>
                  </a:lnTo>
                  <a:lnTo>
                    <a:pt x="11" y="50"/>
                  </a:lnTo>
                  <a:lnTo>
                    <a:pt x="23" y="56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6"/>
            <p:cNvSpPr/>
            <p:nvPr/>
          </p:nvSpPr>
          <p:spPr>
            <a:xfrm>
              <a:off x="5743440" y="4097160"/>
              <a:ext cx="231120" cy="1922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88" h="489">
                  <a:moveTo>
                    <a:pt x="62" y="46"/>
                  </a:moveTo>
                  <a:lnTo>
                    <a:pt x="69" y="42"/>
                  </a:lnTo>
                  <a:lnTo>
                    <a:pt x="85" y="31"/>
                  </a:lnTo>
                  <a:lnTo>
                    <a:pt x="98" y="25"/>
                  </a:lnTo>
                  <a:lnTo>
                    <a:pt x="112" y="19"/>
                  </a:lnTo>
                  <a:lnTo>
                    <a:pt x="129" y="13"/>
                  </a:lnTo>
                  <a:lnTo>
                    <a:pt x="148" y="6"/>
                  </a:lnTo>
                  <a:lnTo>
                    <a:pt x="192" y="0"/>
                  </a:lnTo>
                  <a:lnTo>
                    <a:pt x="244" y="2"/>
                  </a:lnTo>
                  <a:lnTo>
                    <a:pt x="302" y="15"/>
                  </a:lnTo>
                  <a:lnTo>
                    <a:pt x="334" y="29"/>
                  </a:lnTo>
                  <a:lnTo>
                    <a:pt x="350" y="38"/>
                  </a:lnTo>
                  <a:lnTo>
                    <a:pt x="367" y="46"/>
                  </a:lnTo>
                  <a:lnTo>
                    <a:pt x="384" y="56"/>
                  </a:lnTo>
                  <a:lnTo>
                    <a:pt x="398" y="67"/>
                  </a:lnTo>
                  <a:lnTo>
                    <a:pt x="413" y="75"/>
                  </a:lnTo>
                  <a:lnTo>
                    <a:pt x="428" y="85"/>
                  </a:lnTo>
                  <a:lnTo>
                    <a:pt x="442" y="94"/>
                  </a:lnTo>
                  <a:lnTo>
                    <a:pt x="455" y="104"/>
                  </a:lnTo>
                  <a:lnTo>
                    <a:pt x="467" y="112"/>
                  </a:lnTo>
                  <a:lnTo>
                    <a:pt x="480" y="123"/>
                  </a:lnTo>
                  <a:lnTo>
                    <a:pt x="490" y="131"/>
                  </a:lnTo>
                  <a:lnTo>
                    <a:pt x="501" y="142"/>
                  </a:lnTo>
                  <a:lnTo>
                    <a:pt x="511" y="150"/>
                  </a:lnTo>
                  <a:lnTo>
                    <a:pt x="519" y="158"/>
                  </a:lnTo>
                  <a:lnTo>
                    <a:pt x="528" y="169"/>
                  </a:lnTo>
                  <a:lnTo>
                    <a:pt x="536" y="177"/>
                  </a:lnTo>
                  <a:lnTo>
                    <a:pt x="544" y="185"/>
                  </a:lnTo>
                  <a:lnTo>
                    <a:pt x="551" y="196"/>
                  </a:lnTo>
                  <a:lnTo>
                    <a:pt x="572" y="231"/>
                  </a:lnTo>
                  <a:lnTo>
                    <a:pt x="584" y="268"/>
                  </a:lnTo>
                  <a:lnTo>
                    <a:pt x="588" y="306"/>
                  </a:lnTo>
                  <a:lnTo>
                    <a:pt x="584" y="343"/>
                  </a:lnTo>
                  <a:lnTo>
                    <a:pt x="574" y="383"/>
                  </a:lnTo>
                  <a:lnTo>
                    <a:pt x="565" y="399"/>
                  </a:lnTo>
                  <a:lnTo>
                    <a:pt x="559" y="416"/>
                  </a:lnTo>
                  <a:lnTo>
                    <a:pt x="544" y="443"/>
                  </a:lnTo>
                  <a:lnTo>
                    <a:pt x="528" y="466"/>
                  </a:lnTo>
                  <a:lnTo>
                    <a:pt x="521" y="474"/>
                  </a:lnTo>
                  <a:lnTo>
                    <a:pt x="513" y="480"/>
                  </a:lnTo>
                  <a:lnTo>
                    <a:pt x="501" y="489"/>
                  </a:lnTo>
                  <a:lnTo>
                    <a:pt x="492" y="489"/>
                  </a:lnTo>
                  <a:lnTo>
                    <a:pt x="488" y="478"/>
                  </a:lnTo>
                  <a:lnTo>
                    <a:pt x="482" y="401"/>
                  </a:lnTo>
                  <a:lnTo>
                    <a:pt x="494" y="393"/>
                  </a:lnTo>
                  <a:lnTo>
                    <a:pt x="505" y="383"/>
                  </a:lnTo>
                  <a:lnTo>
                    <a:pt x="521" y="360"/>
                  </a:lnTo>
                  <a:lnTo>
                    <a:pt x="526" y="335"/>
                  </a:lnTo>
                  <a:lnTo>
                    <a:pt x="521" y="320"/>
                  </a:lnTo>
                  <a:lnTo>
                    <a:pt x="511" y="306"/>
                  </a:lnTo>
                  <a:lnTo>
                    <a:pt x="505" y="297"/>
                  </a:lnTo>
                  <a:lnTo>
                    <a:pt x="498" y="291"/>
                  </a:lnTo>
                  <a:lnTo>
                    <a:pt x="492" y="283"/>
                  </a:lnTo>
                  <a:lnTo>
                    <a:pt x="486" y="277"/>
                  </a:lnTo>
                  <a:lnTo>
                    <a:pt x="473" y="266"/>
                  </a:lnTo>
                  <a:lnTo>
                    <a:pt x="463" y="258"/>
                  </a:lnTo>
                  <a:lnTo>
                    <a:pt x="453" y="254"/>
                  </a:lnTo>
                  <a:lnTo>
                    <a:pt x="446" y="252"/>
                  </a:lnTo>
                  <a:lnTo>
                    <a:pt x="438" y="258"/>
                  </a:lnTo>
                  <a:lnTo>
                    <a:pt x="446" y="275"/>
                  </a:lnTo>
                  <a:lnTo>
                    <a:pt x="461" y="297"/>
                  </a:lnTo>
                  <a:lnTo>
                    <a:pt x="478" y="339"/>
                  </a:lnTo>
                  <a:lnTo>
                    <a:pt x="473" y="347"/>
                  </a:lnTo>
                  <a:lnTo>
                    <a:pt x="465" y="349"/>
                  </a:lnTo>
                  <a:lnTo>
                    <a:pt x="442" y="356"/>
                  </a:lnTo>
                  <a:lnTo>
                    <a:pt x="421" y="364"/>
                  </a:lnTo>
                  <a:lnTo>
                    <a:pt x="419" y="393"/>
                  </a:lnTo>
                  <a:lnTo>
                    <a:pt x="425" y="410"/>
                  </a:lnTo>
                  <a:lnTo>
                    <a:pt x="432" y="426"/>
                  </a:lnTo>
                  <a:lnTo>
                    <a:pt x="440" y="449"/>
                  </a:lnTo>
                  <a:lnTo>
                    <a:pt x="440" y="466"/>
                  </a:lnTo>
                  <a:lnTo>
                    <a:pt x="434" y="472"/>
                  </a:lnTo>
                  <a:lnTo>
                    <a:pt x="423" y="478"/>
                  </a:lnTo>
                  <a:lnTo>
                    <a:pt x="398" y="480"/>
                  </a:lnTo>
                  <a:lnTo>
                    <a:pt x="377" y="470"/>
                  </a:lnTo>
                  <a:lnTo>
                    <a:pt x="361" y="449"/>
                  </a:lnTo>
                  <a:lnTo>
                    <a:pt x="357" y="426"/>
                  </a:lnTo>
                  <a:lnTo>
                    <a:pt x="363" y="399"/>
                  </a:lnTo>
                  <a:lnTo>
                    <a:pt x="371" y="372"/>
                  </a:lnTo>
                  <a:lnTo>
                    <a:pt x="377" y="351"/>
                  </a:lnTo>
                  <a:lnTo>
                    <a:pt x="382" y="343"/>
                  </a:lnTo>
                  <a:lnTo>
                    <a:pt x="369" y="351"/>
                  </a:lnTo>
                  <a:lnTo>
                    <a:pt x="357" y="356"/>
                  </a:lnTo>
                  <a:lnTo>
                    <a:pt x="344" y="362"/>
                  </a:lnTo>
                  <a:lnTo>
                    <a:pt x="321" y="362"/>
                  </a:lnTo>
                  <a:lnTo>
                    <a:pt x="313" y="339"/>
                  </a:lnTo>
                  <a:lnTo>
                    <a:pt x="319" y="320"/>
                  </a:lnTo>
                  <a:lnTo>
                    <a:pt x="327" y="306"/>
                  </a:lnTo>
                  <a:lnTo>
                    <a:pt x="336" y="293"/>
                  </a:lnTo>
                  <a:lnTo>
                    <a:pt x="346" y="283"/>
                  </a:lnTo>
                  <a:lnTo>
                    <a:pt x="357" y="277"/>
                  </a:lnTo>
                  <a:lnTo>
                    <a:pt x="363" y="270"/>
                  </a:lnTo>
                  <a:lnTo>
                    <a:pt x="371" y="266"/>
                  </a:lnTo>
                  <a:lnTo>
                    <a:pt x="380" y="241"/>
                  </a:lnTo>
                  <a:lnTo>
                    <a:pt x="380" y="210"/>
                  </a:lnTo>
                  <a:lnTo>
                    <a:pt x="377" y="191"/>
                  </a:lnTo>
                  <a:lnTo>
                    <a:pt x="371" y="171"/>
                  </a:lnTo>
                  <a:lnTo>
                    <a:pt x="363" y="150"/>
                  </a:lnTo>
                  <a:lnTo>
                    <a:pt x="350" y="129"/>
                  </a:lnTo>
                  <a:lnTo>
                    <a:pt x="342" y="121"/>
                  </a:lnTo>
                  <a:lnTo>
                    <a:pt x="336" y="110"/>
                  </a:lnTo>
                  <a:lnTo>
                    <a:pt x="325" y="102"/>
                  </a:lnTo>
                  <a:lnTo>
                    <a:pt x="317" y="94"/>
                  </a:lnTo>
                  <a:lnTo>
                    <a:pt x="306" y="87"/>
                  </a:lnTo>
                  <a:lnTo>
                    <a:pt x="296" y="81"/>
                  </a:lnTo>
                  <a:lnTo>
                    <a:pt x="286" y="75"/>
                  </a:lnTo>
                  <a:lnTo>
                    <a:pt x="273" y="69"/>
                  </a:lnTo>
                  <a:lnTo>
                    <a:pt x="248" y="63"/>
                  </a:lnTo>
                  <a:lnTo>
                    <a:pt x="221" y="60"/>
                  </a:lnTo>
                  <a:lnTo>
                    <a:pt x="169" y="69"/>
                  </a:lnTo>
                  <a:lnTo>
                    <a:pt x="144" y="77"/>
                  </a:lnTo>
                  <a:lnTo>
                    <a:pt x="123" y="87"/>
                  </a:lnTo>
                  <a:lnTo>
                    <a:pt x="104" y="96"/>
                  </a:lnTo>
                  <a:lnTo>
                    <a:pt x="89" y="106"/>
                  </a:lnTo>
                  <a:lnTo>
                    <a:pt x="77" y="114"/>
                  </a:lnTo>
                  <a:lnTo>
                    <a:pt x="198" y="114"/>
                  </a:lnTo>
                  <a:lnTo>
                    <a:pt x="219" y="117"/>
                  </a:lnTo>
                  <a:lnTo>
                    <a:pt x="235" y="125"/>
                  </a:lnTo>
                  <a:lnTo>
                    <a:pt x="248" y="135"/>
                  </a:lnTo>
                  <a:lnTo>
                    <a:pt x="258" y="148"/>
                  </a:lnTo>
                  <a:lnTo>
                    <a:pt x="275" y="181"/>
                  </a:lnTo>
                  <a:lnTo>
                    <a:pt x="269" y="177"/>
                  </a:lnTo>
                  <a:lnTo>
                    <a:pt x="254" y="169"/>
                  </a:lnTo>
                  <a:lnTo>
                    <a:pt x="227" y="160"/>
                  </a:lnTo>
                  <a:lnTo>
                    <a:pt x="187" y="156"/>
                  </a:lnTo>
                  <a:lnTo>
                    <a:pt x="142" y="162"/>
                  </a:lnTo>
                  <a:lnTo>
                    <a:pt x="91" y="173"/>
                  </a:lnTo>
                  <a:lnTo>
                    <a:pt x="54" y="185"/>
                  </a:lnTo>
                  <a:lnTo>
                    <a:pt x="39" y="191"/>
                  </a:lnTo>
                  <a:lnTo>
                    <a:pt x="0" y="127"/>
                  </a:lnTo>
                  <a:lnTo>
                    <a:pt x="62" y="46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7"/>
            <p:cNvSpPr/>
            <p:nvPr/>
          </p:nvSpPr>
          <p:spPr>
            <a:xfrm>
              <a:off x="5753160" y="4174920"/>
              <a:ext cx="105840" cy="561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269" h="143">
                  <a:moveTo>
                    <a:pt x="18" y="20"/>
                  </a:moveTo>
                  <a:lnTo>
                    <a:pt x="37" y="16"/>
                  </a:lnTo>
                  <a:lnTo>
                    <a:pt x="81" y="6"/>
                  </a:lnTo>
                  <a:lnTo>
                    <a:pt x="137" y="0"/>
                  </a:lnTo>
                  <a:lnTo>
                    <a:pt x="188" y="0"/>
                  </a:lnTo>
                  <a:lnTo>
                    <a:pt x="225" y="12"/>
                  </a:lnTo>
                  <a:lnTo>
                    <a:pt x="240" y="22"/>
                  </a:lnTo>
                  <a:lnTo>
                    <a:pt x="250" y="33"/>
                  </a:lnTo>
                  <a:lnTo>
                    <a:pt x="258" y="41"/>
                  </a:lnTo>
                  <a:lnTo>
                    <a:pt x="265" y="50"/>
                  </a:lnTo>
                  <a:lnTo>
                    <a:pt x="269" y="58"/>
                  </a:lnTo>
                  <a:lnTo>
                    <a:pt x="250" y="81"/>
                  </a:lnTo>
                  <a:lnTo>
                    <a:pt x="246" y="79"/>
                  </a:lnTo>
                  <a:lnTo>
                    <a:pt x="233" y="70"/>
                  </a:lnTo>
                  <a:lnTo>
                    <a:pt x="213" y="60"/>
                  </a:lnTo>
                  <a:lnTo>
                    <a:pt x="198" y="54"/>
                  </a:lnTo>
                  <a:lnTo>
                    <a:pt x="183" y="50"/>
                  </a:lnTo>
                  <a:lnTo>
                    <a:pt x="148" y="45"/>
                  </a:lnTo>
                  <a:lnTo>
                    <a:pt x="117" y="47"/>
                  </a:lnTo>
                  <a:lnTo>
                    <a:pt x="83" y="54"/>
                  </a:lnTo>
                  <a:lnTo>
                    <a:pt x="102" y="58"/>
                  </a:lnTo>
                  <a:lnTo>
                    <a:pt x="140" y="66"/>
                  </a:lnTo>
                  <a:lnTo>
                    <a:pt x="183" y="79"/>
                  </a:lnTo>
                  <a:lnTo>
                    <a:pt x="208" y="91"/>
                  </a:lnTo>
                  <a:lnTo>
                    <a:pt x="223" y="112"/>
                  </a:lnTo>
                  <a:lnTo>
                    <a:pt x="223" y="120"/>
                  </a:lnTo>
                  <a:lnTo>
                    <a:pt x="196" y="143"/>
                  </a:lnTo>
                  <a:lnTo>
                    <a:pt x="188" y="139"/>
                  </a:lnTo>
                  <a:lnTo>
                    <a:pt x="162" y="128"/>
                  </a:lnTo>
                  <a:lnTo>
                    <a:pt x="148" y="122"/>
                  </a:lnTo>
                  <a:lnTo>
                    <a:pt x="133" y="118"/>
                  </a:lnTo>
                  <a:lnTo>
                    <a:pt x="102" y="112"/>
                  </a:lnTo>
                  <a:lnTo>
                    <a:pt x="77" y="116"/>
                  </a:lnTo>
                  <a:lnTo>
                    <a:pt x="54" y="126"/>
                  </a:lnTo>
                  <a:lnTo>
                    <a:pt x="37" y="137"/>
                  </a:lnTo>
                  <a:lnTo>
                    <a:pt x="31" y="141"/>
                  </a:lnTo>
                  <a:lnTo>
                    <a:pt x="12" y="110"/>
                  </a:lnTo>
                  <a:lnTo>
                    <a:pt x="48" y="91"/>
                  </a:lnTo>
                  <a:lnTo>
                    <a:pt x="0" y="68"/>
                  </a:lnTo>
                  <a:lnTo>
                    <a:pt x="4" y="54"/>
                  </a:lnTo>
                  <a:lnTo>
                    <a:pt x="10" y="37"/>
                  </a:lnTo>
                  <a:lnTo>
                    <a:pt x="18" y="20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8"/>
            <p:cNvSpPr/>
            <p:nvPr/>
          </p:nvSpPr>
          <p:spPr>
            <a:xfrm>
              <a:off x="5785920" y="4241160"/>
              <a:ext cx="51120" cy="53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0" h="137">
                  <a:moveTo>
                    <a:pt x="0" y="17"/>
                  </a:moveTo>
                  <a:lnTo>
                    <a:pt x="11" y="10"/>
                  </a:lnTo>
                  <a:lnTo>
                    <a:pt x="23" y="6"/>
                  </a:lnTo>
                  <a:lnTo>
                    <a:pt x="38" y="2"/>
                  </a:lnTo>
                  <a:lnTo>
                    <a:pt x="71" y="0"/>
                  </a:lnTo>
                  <a:lnTo>
                    <a:pt x="105" y="12"/>
                  </a:lnTo>
                  <a:lnTo>
                    <a:pt x="117" y="23"/>
                  </a:lnTo>
                  <a:lnTo>
                    <a:pt x="125" y="35"/>
                  </a:lnTo>
                  <a:lnTo>
                    <a:pt x="130" y="54"/>
                  </a:lnTo>
                  <a:lnTo>
                    <a:pt x="127" y="69"/>
                  </a:lnTo>
                  <a:lnTo>
                    <a:pt x="125" y="75"/>
                  </a:lnTo>
                  <a:lnTo>
                    <a:pt x="121" y="85"/>
                  </a:lnTo>
                  <a:lnTo>
                    <a:pt x="109" y="110"/>
                  </a:lnTo>
                  <a:lnTo>
                    <a:pt x="100" y="123"/>
                  </a:lnTo>
                  <a:lnTo>
                    <a:pt x="92" y="131"/>
                  </a:lnTo>
                  <a:lnTo>
                    <a:pt x="82" y="137"/>
                  </a:lnTo>
                  <a:lnTo>
                    <a:pt x="73" y="137"/>
                  </a:lnTo>
                  <a:lnTo>
                    <a:pt x="54" y="123"/>
                  </a:lnTo>
                  <a:lnTo>
                    <a:pt x="67" y="106"/>
                  </a:lnTo>
                  <a:lnTo>
                    <a:pt x="77" y="81"/>
                  </a:lnTo>
                  <a:lnTo>
                    <a:pt x="75" y="75"/>
                  </a:lnTo>
                  <a:lnTo>
                    <a:pt x="71" y="71"/>
                  </a:lnTo>
                  <a:lnTo>
                    <a:pt x="52" y="64"/>
                  </a:lnTo>
                  <a:lnTo>
                    <a:pt x="29" y="62"/>
                  </a:lnTo>
                  <a:lnTo>
                    <a:pt x="15" y="66"/>
                  </a:lnTo>
                  <a:lnTo>
                    <a:pt x="2" y="75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9"/>
            <p:cNvSpPr/>
            <p:nvPr/>
          </p:nvSpPr>
          <p:spPr>
            <a:xfrm>
              <a:off x="5782680" y="4254120"/>
              <a:ext cx="85320" cy="87480"/>
            </a:xfrm>
            <a:custGeom>
              <a:avLst/>
              <a:gdLst>
                <a:gd name="textAreaLeft" fmla="*/ 0 w 85320"/>
                <a:gd name="textAreaRight" fmla="*/ 85320 w 853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17" h="223">
                  <a:moveTo>
                    <a:pt x="161" y="0"/>
                  </a:moveTo>
                  <a:lnTo>
                    <a:pt x="165" y="11"/>
                  </a:lnTo>
                  <a:lnTo>
                    <a:pt x="175" y="38"/>
                  </a:lnTo>
                  <a:lnTo>
                    <a:pt x="179" y="73"/>
                  </a:lnTo>
                  <a:lnTo>
                    <a:pt x="177" y="92"/>
                  </a:lnTo>
                  <a:lnTo>
                    <a:pt x="171" y="108"/>
                  </a:lnTo>
                  <a:lnTo>
                    <a:pt x="158" y="125"/>
                  </a:lnTo>
                  <a:lnTo>
                    <a:pt x="152" y="131"/>
                  </a:lnTo>
                  <a:lnTo>
                    <a:pt x="144" y="137"/>
                  </a:lnTo>
                  <a:lnTo>
                    <a:pt x="135" y="144"/>
                  </a:lnTo>
                  <a:lnTo>
                    <a:pt x="127" y="150"/>
                  </a:lnTo>
                  <a:lnTo>
                    <a:pt x="110" y="160"/>
                  </a:lnTo>
                  <a:lnTo>
                    <a:pt x="92" y="169"/>
                  </a:lnTo>
                  <a:lnTo>
                    <a:pt x="77" y="171"/>
                  </a:lnTo>
                  <a:lnTo>
                    <a:pt x="52" y="167"/>
                  </a:lnTo>
                  <a:lnTo>
                    <a:pt x="31" y="135"/>
                  </a:lnTo>
                  <a:lnTo>
                    <a:pt x="27" y="119"/>
                  </a:lnTo>
                  <a:lnTo>
                    <a:pt x="0" y="142"/>
                  </a:lnTo>
                  <a:lnTo>
                    <a:pt x="4" y="158"/>
                  </a:lnTo>
                  <a:lnTo>
                    <a:pt x="8" y="173"/>
                  </a:lnTo>
                  <a:lnTo>
                    <a:pt x="19" y="189"/>
                  </a:lnTo>
                  <a:lnTo>
                    <a:pt x="25" y="198"/>
                  </a:lnTo>
                  <a:lnTo>
                    <a:pt x="33" y="206"/>
                  </a:lnTo>
                  <a:lnTo>
                    <a:pt x="42" y="212"/>
                  </a:lnTo>
                  <a:lnTo>
                    <a:pt x="54" y="216"/>
                  </a:lnTo>
                  <a:lnTo>
                    <a:pt x="79" y="223"/>
                  </a:lnTo>
                  <a:lnTo>
                    <a:pt x="113" y="218"/>
                  </a:lnTo>
                  <a:lnTo>
                    <a:pt x="146" y="206"/>
                  </a:lnTo>
                  <a:lnTo>
                    <a:pt x="158" y="198"/>
                  </a:lnTo>
                  <a:lnTo>
                    <a:pt x="171" y="189"/>
                  </a:lnTo>
                  <a:lnTo>
                    <a:pt x="204" y="146"/>
                  </a:lnTo>
                  <a:lnTo>
                    <a:pt x="217" y="98"/>
                  </a:lnTo>
                  <a:lnTo>
                    <a:pt x="217" y="61"/>
                  </a:lnTo>
                  <a:lnTo>
                    <a:pt x="211" y="46"/>
                  </a:lnTo>
                  <a:lnTo>
                    <a:pt x="202" y="36"/>
                  </a:lnTo>
                  <a:lnTo>
                    <a:pt x="194" y="25"/>
                  </a:lnTo>
                  <a:lnTo>
                    <a:pt x="186" y="17"/>
                  </a:lnTo>
                  <a:lnTo>
                    <a:pt x="175" y="9"/>
                  </a:lnTo>
                  <a:lnTo>
                    <a:pt x="169" y="4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0"/>
            <p:cNvSpPr/>
            <p:nvPr/>
          </p:nvSpPr>
          <p:spPr>
            <a:xfrm>
              <a:off x="5715720" y="4286880"/>
              <a:ext cx="77040" cy="1094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6" h="279">
                  <a:moveTo>
                    <a:pt x="4" y="119"/>
                  </a:moveTo>
                  <a:lnTo>
                    <a:pt x="0" y="192"/>
                  </a:lnTo>
                  <a:lnTo>
                    <a:pt x="6" y="219"/>
                  </a:lnTo>
                  <a:lnTo>
                    <a:pt x="21" y="244"/>
                  </a:lnTo>
                  <a:lnTo>
                    <a:pt x="25" y="250"/>
                  </a:lnTo>
                  <a:lnTo>
                    <a:pt x="31" y="254"/>
                  </a:lnTo>
                  <a:lnTo>
                    <a:pt x="44" y="264"/>
                  </a:lnTo>
                  <a:lnTo>
                    <a:pt x="58" y="271"/>
                  </a:lnTo>
                  <a:lnTo>
                    <a:pt x="77" y="275"/>
                  </a:lnTo>
                  <a:lnTo>
                    <a:pt x="112" y="279"/>
                  </a:lnTo>
                  <a:lnTo>
                    <a:pt x="140" y="275"/>
                  </a:lnTo>
                  <a:lnTo>
                    <a:pt x="175" y="260"/>
                  </a:lnTo>
                  <a:lnTo>
                    <a:pt x="196" y="231"/>
                  </a:lnTo>
                  <a:lnTo>
                    <a:pt x="190" y="200"/>
                  </a:lnTo>
                  <a:lnTo>
                    <a:pt x="173" y="208"/>
                  </a:lnTo>
                  <a:lnTo>
                    <a:pt x="156" y="214"/>
                  </a:lnTo>
                  <a:lnTo>
                    <a:pt x="135" y="221"/>
                  </a:lnTo>
                  <a:lnTo>
                    <a:pt x="114" y="227"/>
                  </a:lnTo>
                  <a:lnTo>
                    <a:pt x="96" y="227"/>
                  </a:lnTo>
                  <a:lnTo>
                    <a:pt x="79" y="223"/>
                  </a:lnTo>
                  <a:lnTo>
                    <a:pt x="69" y="210"/>
                  </a:lnTo>
                  <a:lnTo>
                    <a:pt x="62" y="181"/>
                  </a:lnTo>
                  <a:lnTo>
                    <a:pt x="64" y="156"/>
                  </a:lnTo>
                  <a:lnTo>
                    <a:pt x="71" y="142"/>
                  </a:lnTo>
                  <a:lnTo>
                    <a:pt x="73" y="135"/>
                  </a:lnTo>
                  <a:lnTo>
                    <a:pt x="85" y="156"/>
                  </a:lnTo>
                  <a:lnTo>
                    <a:pt x="94" y="162"/>
                  </a:lnTo>
                  <a:lnTo>
                    <a:pt x="104" y="167"/>
                  </a:lnTo>
                  <a:lnTo>
                    <a:pt x="133" y="165"/>
                  </a:lnTo>
                  <a:lnTo>
                    <a:pt x="160" y="154"/>
                  </a:lnTo>
                  <a:lnTo>
                    <a:pt x="173" y="142"/>
                  </a:lnTo>
                  <a:lnTo>
                    <a:pt x="177" y="131"/>
                  </a:lnTo>
                  <a:lnTo>
                    <a:pt x="148" y="106"/>
                  </a:lnTo>
                  <a:lnTo>
                    <a:pt x="142" y="111"/>
                  </a:lnTo>
                  <a:lnTo>
                    <a:pt x="127" y="115"/>
                  </a:lnTo>
                  <a:lnTo>
                    <a:pt x="110" y="113"/>
                  </a:lnTo>
                  <a:lnTo>
                    <a:pt x="96" y="98"/>
                  </a:lnTo>
                  <a:lnTo>
                    <a:pt x="96" y="73"/>
                  </a:lnTo>
                  <a:lnTo>
                    <a:pt x="112" y="52"/>
                  </a:lnTo>
                  <a:lnTo>
                    <a:pt x="121" y="44"/>
                  </a:lnTo>
                  <a:lnTo>
                    <a:pt x="131" y="36"/>
                  </a:lnTo>
                  <a:lnTo>
                    <a:pt x="140" y="29"/>
                  </a:lnTo>
                  <a:lnTo>
                    <a:pt x="127" y="0"/>
                  </a:lnTo>
                  <a:lnTo>
                    <a:pt x="121" y="9"/>
                  </a:lnTo>
                  <a:lnTo>
                    <a:pt x="112" y="15"/>
                  </a:lnTo>
                  <a:lnTo>
                    <a:pt x="102" y="23"/>
                  </a:lnTo>
                  <a:lnTo>
                    <a:pt x="92" y="34"/>
                  </a:lnTo>
                  <a:lnTo>
                    <a:pt x="81" y="42"/>
                  </a:lnTo>
                  <a:lnTo>
                    <a:pt x="69" y="52"/>
                  </a:lnTo>
                  <a:lnTo>
                    <a:pt x="56" y="61"/>
                  </a:lnTo>
                  <a:lnTo>
                    <a:pt x="46" y="71"/>
                  </a:lnTo>
                  <a:lnTo>
                    <a:pt x="37" y="79"/>
                  </a:lnTo>
                  <a:lnTo>
                    <a:pt x="27" y="90"/>
                  </a:lnTo>
                  <a:lnTo>
                    <a:pt x="21" y="98"/>
                  </a:lnTo>
                  <a:lnTo>
                    <a:pt x="12" y="106"/>
                  </a:lnTo>
                  <a:lnTo>
                    <a:pt x="8" y="113"/>
                  </a:lnTo>
                  <a:lnTo>
                    <a:pt x="4" y="119"/>
                  </a:lnTo>
                  <a:lnTo>
                    <a:pt x="4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1"/>
            <p:cNvSpPr/>
            <p:nvPr/>
          </p:nvSpPr>
          <p:spPr>
            <a:xfrm>
              <a:off x="5567760" y="4241160"/>
              <a:ext cx="190080" cy="1530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484" h="389">
                  <a:moveTo>
                    <a:pt x="484" y="21"/>
                  </a:moveTo>
                  <a:lnTo>
                    <a:pt x="478" y="25"/>
                  </a:lnTo>
                  <a:lnTo>
                    <a:pt x="465" y="35"/>
                  </a:lnTo>
                  <a:lnTo>
                    <a:pt x="457" y="44"/>
                  </a:lnTo>
                  <a:lnTo>
                    <a:pt x="447" y="52"/>
                  </a:lnTo>
                  <a:lnTo>
                    <a:pt x="434" y="62"/>
                  </a:lnTo>
                  <a:lnTo>
                    <a:pt x="424" y="73"/>
                  </a:lnTo>
                  <a:lnTo>
                    <a:pt x="411" y="83"/>
                  </a:lnTo>
                  <a:lnTo>
                    <a:pt x="399" y="94"/>
                  </a:lnTo>
                  <a:lnTo>
                    <a:pt x="388" y="106"/>
                  </a:lnTo>
                  <a:lnTo>
                    <a:pt x="378" y="116"/>
                  </a:lnTo>
                  <a:lnTo>
                    <a:pt x="349" y="156"/>
                  </a:lnTo>
                  <a:lnTo>
                    <a:pt x="332" y="208"/>
                  </a:lnTo>
                  <a:lnTo>
                    <a:pt x="332" y="229"/>
                  </a:lnTo>
                  <a:lnTo>
                    <a:pt x="238" y="276"/>
                  </a:lnTo>
                  <a:lnTo>
                    <a:pt x="134" y="389"/>
                  </a:lnTo>
                  <a:lnTo>
                    <a:pt x="102" y="370"/>
                  </a:lnTo>
                  <a:lnTo>
                    <a:pt x="106" y="360"/>
                  </a:lnTo>
                  <a:lnTo>
                    <a:pt x="113" y="353"/>
                  </a:lnTo>
                  <a:lnTo>
                    <a:pt x="119" y="345"/>
                  </a:lnTo>
                  <a:lnTo>
                    <a:pt x="125" y="337"/>
                  </a:lnTo>
                  <a:lnTo>
                    <a:pt x="134" y="328"/>
                  </a:lnTo>
                  <a:lnTo>
                    <a:pt x="142" y="320"/>
                  </a:lnTo>
                  <a:lnTo>
                    <a:pt x="152" y="310"/>
                  </a:lnTo>
                  <a:lnTo>
                    <a:pt x="161" y="301"/>
                  </a:lnTo>
                  <a:lnTo>
                    <a:pt x="171" y="293"/>
                  </a:lnTo>
                  <a:lnTo>
                    <a:pt x="180" y="287"/>
                  </a:lnTo>
                  <a:lnTo>
                    <a:pt x="186" y="281"/>
                  </a:lnTo>
                  <a:lnTo>
                    <a:pt x="198" y="270"/>
                  </a:lnTo>
                  <a:lnTo>
                    <a:pt x="202" y="266"/>
                  </a:lnTo>
                  <a:lnTo>
                    <a:pt x="190" y="264"/>
                  </a:lnTo>
                  <a:lnTo>
                    <a:pt x="165" y="272"/>
                  </a:lnTo>
                  <a:lnTo>
                    <a:pt x="146" y="281"/>
                  </a:lnTo>
                  <a:lnTo>
                    <a:pt x="134" y="287"/>
                  </a:lnTo>
                  <a:lnTo>
                    <a:pt x="119" y="295"/>
                  </a:lnTo>
                  <a:lnTo>
                    <a:pt x="106" y="303"/>
                  </a:lnTo>
                  <a:lnTo>
                    <a:pt x="94" y="312"/>
                  </a:lnTo>
                  <a:lnTo>
                    <a:pt x="81" y="318"/>
                  </a:lnTo>
                  <a:lnTo>
                    <a:pt x="71" y="326"/>
                  </a:lnTo>
                  <a:lnTo>
                    <a:pt x="63" y="333"/>
                  </a:lnTo>
                  <a:lnTo>
                    <a:pt x="56" y="339"/>
                  </a:lnTo>
                  <a:lnTo>
                    <a:pt x="42" y="351"/>
                  </a:lnTo>
                  <a:lnTo>
                    <a:pt x="33" y="360"/>
                  </a:lnTo>
                  <a:lnTo>
                    <a:pt x="27" y="368"/>
                  </a:lnTo>
                  <a:lnTo>
                    <a:pt x="23" y="374"/>
                  </a:lnTo>
                  <a:lnTo>
                    <a:pt x="0" y="351"/>
                  </a:lnTo>
                  <a:lnTo>
                    <a:pt x="4" y="345"/>
                  </a:lnTo>
                  <a:lnTo>
                    <a:pt x="8" y="337"/>
                  </a:lnTo>
                  <a:lnTo>
                    <a:pt x="17" y="328"/>
                  </a:lnTo>
                  <a:lnTo>
                    <a:pt x="25" y="318"/>
                  </a:lnTo>
                  <a:lnTo>
                    <a:pt x="29" y="312"/>
                  </a:lnTo>
                  <a:lnTo>
                    <a:pt x="36" y="303"/>
                  </a:lnTo>
                  <a:lnTo>
                    <a:pt x="42" y="297"/>
                  </a:lnTo>
                  <a:lnTo>
                    <a:pt x="48" y="291"/>
                  </a:lnTo>
                  <a:lnTo>
                    <a:pt x="54" y="283"/>
                  </a:lnTo>
                  <a:lnTo>
                    <a:pt x="61" y="274"/>
                  </a:lnTo>
                  <a:lnTo>
                    <a:pt x="69" y="266"/>
                  </a:lnTo>
                  <a:lnTo>
                    <a:pt x="77" y="258"/>
                  </a:lnTo>
                  <a:lnTo>
                    <a:pt x="84" y="249"/>
                  </a:lnTo>
                  <a:lnTo>
                    <a:pt x="92" y="241"/>
                  </a:lnTo>
                  <a:lnTo>
                    <a:pt x="102" y="233"/>
                  </a:lnTo>
                  <a:lnTo>
                    <a:pt x="111" y="224"/>
                  </a:lnTo>
                  <a:lnTo>
                    <a:pt x="119" y="214"/>
                  </a:lnTo>
                  <a:lnTo>
                    <a:pt x="129" y="206"/>
                  </a:lnTo>
                  <a:lnTo>
                    <a:pt x="138" y="197"/>
                  </a:lnTo>
                  <a:lnTo>
                    <a:pt x="148" y="189"/>
                  </a:lnTo>
                  <a:lnTo>
                    <a:pt x="157" y="181"/>
                  </a:lnTo>
                  <a:lnTo>
                    <a:pt x="167" y="172"/>
                  </a:lnTo>
                  <a:lnTo>
                    <a:pt x="177" y="164"/>
                  </a:lnTo>
                  <a:lnTo>
                    <a:pt x="188" y="156"/>
                  </a:lnTo>
                  <a:lnTo>
                    <a:pt x="198" y="150"/>
                  </a:lnTo>
                  <a:lnTo>
                    <a:pt x="209" y="141"/>
                  </a:lnTo>
                  <a:lnTo>
                    <a:pt x="219" y="135"/>
                  </a:lnTo>
                  <a:lnTo>
                    <a:pt x="230" y="127"/>
                  </a:lnTo>
                  <a:lnTo>
                    <a:pt x="240" y="121"/>
                  </a:lnTo>
                  <a:lnTo>
                    <a:pt x="250" y="112"/>
                  </a:lnTo>
                  <a:lnTo>
                    <a:pt x="261" y="106"/>
                  </a:lnTo>
                  <a:lnTo>
                    <a:pt x="271" y="100"/>
                  </a:lnTo>
                  <a:lnTo>
                    <a:pt x="282" y="94"/>
                  </a:lnTo>
                  <a:lnTo>
                    <a:pt x="292" y="87"/>
                  </a:lnTo>
                  <a:lnTo>
                    <a:pt x="301" y="81"/>
                  </a:lnTo>
                  <a:lnTo>
                    <a:pt x="311" y="75"/>
                  </a:lnTo>
                  <a:lnTo>
                    <a:pt x="330" y="62"/>
                  </a:lnTo>
                  <a:lnTo>
                    <a:pt x="346" y="52"/>
                  </a:lnTo>
                  <a:lnTo>
                    <a:pt x="363" y="42"/>
                  </a:lnTo>
                  <a:lnTo>
                    <a:pt x="378" y="33"/>
                  </a:lnTo>
                  <a:lnTo>
                    <a:pt x="392" y="25"/>
                  </a:lnTo>
                  <a:lnTo>
                    <a:pt x="403" y="17"/>
                  </a:lnTo>
                  <a:lnTo>
                    <a:pt x="413" y="10"/>
                  </a:lnTo>
                  <a:lnTo>
                    <a:pt x="428" y="2"/>
                  </a:lnTo>
                  <a:lnTo>
                    <a:pt x="432" y="0"/>
                  </a:lnTo>
                  <a:lnTo>
                    <a:pt x="424" y="29"/>
                  </a:lnTo>
                  <a:lnTo>
                    <a:pt x="353" y="85"/>
                  </a:lnTo>
                  <a:lnTo>
                    <a:pt x="484" y="21"/>
                  </a:lnTo>
                  <a:lnTo>
                    <a:pt x="484" y="21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2"/>
            <p:cNvSpPr/>
            <p:nvPr/>
          </p:nvSpPr>
          <p:spPr>
            <a:xfrm>
              <a:off x="5629320" y="4345560"/>
              <a:ext cx="76320" cy="72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94" h="185">
                  <a:moveTo>
                    <a:pt x="183" y="0"/>
                  </a:moveTo>
                  <a:lnTo>
                    <a:pt x="173" y="4"/>
                  </a:lnTo>
                  <a:lnTo>
                    <a:pt x="144" y="17"/>
                  </a:lnTo>
                  <a:lnTo>
                    <a:pt x="125" y="25"/>
                  </a:lnTo>
                  <a:lnTo>
                    <a:pt x="106" y="35"/>
                  </a:lnTo>
                  <a:lnTo>
                    <a:pt x="87" y="48"/>
                  </a:lnTo>
                  <a:lnTo>
                    <a:pt x="71" y="60"/>
                  </a:lnTo>
                  <a:lnTo>
                    <a:pt x="64" y="67"/>
                  </a:lnTo>
                  <a:lnTo>
                    <a:pt x="56" y="75"/>
                  </a:lnTo>
                  <a:lnTo>
                    <a:pt x="50" y="83"/>
                  </a:lnTo>
                  <a:lnTo>
                    <a:pt x="43" y="91"/>
                  </a:lnTo>
                  <a:lnTo>
                    <a:pt x="20" y="129"/>
                  </a:lnTo>
                  <a:lnTo>
                    <a:pt x="4" y="156"/>
                  </a:lnTo>
                  <a:lnTo>
                    <a:pt x="0" y="168"/>
                  </a:lnTo>
                  <a:lnTo>
                    <a:pt x="20" y="185"/>
                  </a:lnTo>
                  <a:lnTo>
                    <a:pt x="25" y="181"/>
                  </a:lnTo>
                  <a:lnTo>
                    <a:pt x="33" y="170"/>
                  </a:lnTo>
                  <a:lnTo>
                    <a:pt x="39" y="164"/>
                  </a:lnTo>
                  <a:lnTo>
                    <a:pt x="45" y="156"/>
                  </a:lnTo>
                  <a:lnTo>
                    <a:pt x="54" y="148"/>
                  </a:lnTo>
                  <a:lnTo>
                    <a:pt x="62" y="139"/>
                  </a:lnTo>
                  <a:lnTo>
                    <a:pt x="71" y="131"/>
                  </a:lnTo>
                  <a:lnTo>
                    <a:pt x="79" y="123"/>
                  </a:lnTo>
                  <a:lnTo>
                    <a:pt x="87" y="114"/>
                  </a:lnTo>
                  <a:lnTo>
                    <a:pt x="98" y="106"/>
                  </a:lnTo>
                  <a:lnTo>
                    <a:pt x="106" y="100"/>
                  </a:lnTo>
                  <a:lnTo>
                    <a:pt x="114" y="94"/>
                  </a:lnTo>
                  <a:lnTo>
                    <a:pt x="129" y="87"/>
                  </a:lnTo>
                  <a:lnTo>
                    <a:pt x="154" y="85"/>
                  </a:lnTo>
                  <a:lnTo>
                    <a:pt x="175" y="89"/>
                  </a:lnTo>
                  <a:lnTo>
                    <a:pt x="189" y="91"/>
                  </a:lnTo>
                  <a:lnTo>
                    <a:pt x="194" y="79"/>
                  </a:lnTo>
                  <a:lnTo>
                    <a:pt x="189" y="29"/>
                  </a:lnTo>
                  <a:lnTo>
                    <a:pt x="183" y="0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3"/>
            <p:cNvSpPr/>
            <p:nvPr/>
          </p:nvSpPr>
          <p:spPr>
            <a:xfrm>
              <a:off x="5474880" y="4119120"/>
              <a:ext cx="269280" cy="1782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685" h="453">
                  <a:moveTo>
                    <a:pt x="664" y="0"/>
                  </a:moveTo>
                  <a:lnTo>
                    <a:pt x="658" y="4"/>
                  </a:lnTo>
                  <a:lnTo>
                    <a:pt x="637" y="15"/>
                  </a:lnTo>
                  <a:lnTo>
                    <a:pt x="622" y="23"/>
                  </a:lnTo>
                  <a:lnTo>
                    <a:pt x="605" y="31"/>
                  </a:lnTo>
                  <a:lnTo>
                    <a:pt x="587" y="42"/>
                  </a:lnTo>
                  <a:lnTo>
                    <a:pt x="564" y="52"/>
                  </a:lnTo>
                  <a:lnTo>
                    <a:pt x="541" y="63"/>
                  </a:lnTo>
                  <a:lnTo>
                    <a:pt x="514" y="75"/>
                  </a:lnTo>
                  <a:lnTo>
                    <a:pt x="486" y="88"/>
                  </a:lnTo>
                  <a:lnTo>
                    <a:pt x="457" y="98"/>
                  </a:lnTo>
                  <a:lnTo>
                    <a:pt x="428" y="108"/>
                  </a:lnTo>
                  <a:lnTo>
                    <a:pt x="395" y="121"/>
                  </a:lnTo>
                  <a:lnTo>
                    <a:pt x="363" y="129"/>
                  </a:lnTo>
                  <a:lnTo>
                    <a:pt x="330" y="140"/>
                  </a:lnTo>
                  <a:lnTo>
                    <a:pt x="297" y="150"/>
                  </a:lnTo>
                  <a:lnTo>
                    <a:pt x="263" y="162"/>
                  </a:lnTo>
                  <a:lnTo>
                    <a:pt x="246" y="169"/>
                  </a:lnTo>
                  <a:lnTo>
                    <a:pt x="232" y="177"/>
                  </a:lnTo>
                  <a:lnTo>
                    <a:pt x="217" y="185"/>
                  </a:lnTo>
                  <a:lnTo>
                    <a:pt x="201" y="194"/>
                  </a:lnTo>
                  <a:lnTo>
                    <a:pt x="186" y="202"/>
                  </a:lnTo>
                  <a:lnTo>
                    <a:pt x="173" y="212"/>
                  </a:lnTo>
                  <a:lnTo>
                    <a:pt x="159" y="221"/>
                  </a:lnTo>
                  <a:lnTo>
                    <a:pt x="146" y="231"/>
                  </a:lnTo>
                  <a:lnTo>
                    <a:pt x="132" y="239"/>
                  </a:lnTo>
                  <a:lnTo>
                    <a:pt x="119" y="250"/>
                  </a:lnTo>
                  <a:lnTo>
                    <a:pt x="109" y="260"/>
                  </a:lnTo>
                  <a:lnTo>
                    <a:pt x="96" y="268"/>
                  </a:lnTo>
                  <a:lnTo>
                    <a:pt x="86" y="279"/>
                  </a:lnTo>
                  <a:lnTo>
                    <a:pt x="75" y="287"/>
                  </a:lnTo>
                  <a:lnTo>
                    <a:pt x="65" y="298"/>
                  </a:lnTo>
                  <a:lnTo>
                    <a:pt x="57" y="306"/>
                  </a:lnTo>
                  <a:lnTo>
                    <a:pt x="48" y="314"/>
                  </a:lnTo>
                  <a:lnTo>
                    <a:pt x="40" y="322"/>
                  </a:lnTo>
                  <a:lnTo>
                    <a:pt x="31" y="329"/>
                  </a:lnTo>
                  <a:lnTo>
                    <a:pt x="25" y="337"/>
                  </a:lnTo>
                  <a:lnTo>
                    <a:pt x="15" y="347"/>
                  </a:lnTo>
                  <a:lnTo>
                    <a:pt x="6" y="358"/>
                  </a:lnTo>
                  <a:lnTo>
                    <a:pt x="0" y="364"/>
                  </a:lnTo>
                  <a:lnTo>
                    <a:pt x="40" y="406"/>
                  </a:lnTo>
                  <a:lnTo>
                    <a:pt x="44" y="401"/>
                  </a:lnTo>
                  <a:lnTo>
                    <a:pt x="52" y="391"/>
                  </a:lnTo>
                  <a:lnTo>
                    <a:pt x="61" y="383"/>
                  </a:lnTo>
                  <a:lnTo>
                    <a:pt x="67" y="374"/>
                  </a:lnTo>
                  <a:lnTo>
                    <a:pt x="77" y="366"/>
                  </a:lnTo>
                  <a:lnTo>
                    <a:pt x="88" y="356"/>
                  </a:lnTo>
                  <a:lnTo>
                    <a:pt x="98" y="343"/>
                  </a:lnTo>
                  <a:lnTo>
                    <a:pt x="109" y="333"/>
                  </a:lnTo>
                  <a:lnTo>
                    <a:pt x="121" y="320"/>
                  </a:lnTo>
                  <a:lnTo>
                    <a:pt x="134" y="310"/>
                  </a:lnTo>
                  <a:lnTo>
                    <a:pt x="148" y="298"/>
                  </a:lnTo>
                  <a:lnTo>
                    <a:pt x="161" y="287"/>
                  </a:lnTo>
                  <a:lnTo>
                    <a:pt x="175" y="277"/>
                  </a:lnTo>
                  <a:lnTo>
                    <a:pt x="190" y="266"/>
                  </a:lnTo>
                  <a:lnTo>
                    <a:pt x="205" y="256"/>
                  </a:lnTo>
                  <a:lnTo>
                    <a:pt x="224" y="248"/>
                  </a:lnTo>
                  <a:lnTo>
                    <a:pt x="242" y="239"/>
                  </a:lnTo>
                  <a:lnTo>
                    <a:pt x="263" y="229"/>
                  </a:lnTo>
                  <a:lnTo>
                    <a:pt x="284" y="221"/>
                  </a:lnTo>
                  <a:lnTo>
                    <a:pt x="307" y="212"/>
                  </a:lnTo>
                  <a:lnTo>
                    <a:pt x="330" y="206"/>
                  </a:lnTo>
                  <a:lnTo>
                    <a:pt x="351" y="198"/>
                  </a:lnTo>
                  <a:lnTo>
                    <a:pt x="372" y="192"/>
                  </a:lnTo>
                  <a:lnTo>
                    <a:pt x="393" y="185"/>
                  </a:lnTo>
                  <a:lnTo>
                    <a:pt x="426" y="177"/>
                  </a:lnTo>
                  <a:lnTo>
                    <a:pt x="457" y="169"/>
                  </a:lnTo>
                  <a:lnTo>
                    <a:pt x="438" y="177"/>
                  </a:lnTo>
                  <a:lnTo>
                    <a:pt x="418" y="187"/>
                  </a:lnTo>
                  <a:lnTo>
                    <a:pt x="407" y="194"/>
                  </a:lnTo>
                  <a:lnTo>
                    <a:pt x="395" y="200"/>
                  </a:lnTo>
                  <a:lnTo>
                    <a:pt x="382" y="206"/>
                  </a:lnTo>
                  <a:lnTo>
                    <a:pt x="368" y="214"/>
                  </a:lnTo>
                  <a:lnTo>
                    <a:pt x="357" y="221"/>
                  </a:lnTo>
                  <a:lnTo>
                    <a:pt x="345" y="227"/>
                  </a:lnTo>
                  <a:lnTo>
                    <a:pt x="334" y="235"/>
                  </a:lnTo>
                  <a:lnTo>
                    <a:pt x="324" y="241"/>
                  </a:lnTo>
                  <a:lnTo>
                    <a:pt x="307" y="252"/>
                  </a:lnTo>
                  <a:lnTo>
                    <a:pt x="301" y="258"/>
                  </a:lnTo>
                  <a:lnTo>
                    <a:pt x="292" y="264"/>
                  </a:lnTo>
                  <a:lnTo>
                    <a:pt x="282" y="270"/>
                  </a:lnTo>
                  <a:lnTo>
                    <a:pt x="269" y="277"/>
                  </a:lnTo>
                  <a:lnTo>
                    <a:pt x="257" y="285"/>
                  </a:lnTo>
                  <a:lnTo>
                    <a:pt x="242" y="291"/>
                  </a:lnTo>
                  <a:lnTo>
                    <a:pt x="228" y="300"/>
                  </a:lnTo>
                  <a:lnTo>
                    <a:pt x="213" y="308"/>
                  </a:lnTo>
                  <a:lnTo>
                    <a:pt x="201" y="316"/>
                  </a:lnTo>
                  <a:lnTo>
                    <a:pt x="186" y="325"/>
                  </a:lnTo>
                  <a:lnTo>
                    <a:pt x="173" y="333"/>
                  </a:lnTo>
                  <a:lnTo>
                    <a:pt x="161" y="341"/>
                  </a:lnTo>
                  <a:lnTo>
                    <a:pt x="150" y="349"/>
                  </a:lnTo>
                  <a:lnTo>
                    <a:pt x="142" y="358"/>
                  </a:lnTo>
                  <a:lnTo>
                    <a:pt x="130" y="372"/>
                  </a:lnTo>
                  <a:lnTo>
                    <a:pt x="117" y="399"/>
                  </a:lnTo>
                  <a:lnTo>
                    <a:pt x="109" y="426"/>
                  </a:lnTo>
                  <a:lnTo>
                    <a:pt x="102" y="453"/>
                  </a:lnTo>
                  <a:lnTo>
                    <a:pt x="136" y="453"/>
                  </a:lnTo>
                  <a:lnTo>
                    <a:pt x="140" y="449"/>
                  </a:lnTo>
                  <a:lnTo>
                    <a:pt x="146" y="445"/>
                  </a:lnTo>
                  <a:lnTo>
                    <a:pt x="153" y="437"/>
                  </a:lnTo>
                  <a:lnTo>
                    <a:pt x="161" y="428"/>
                  </a:lnTo>
                  <a:lnTo>
                    <a:pt x="169" y="420"/>
                  </a:lnTo>
                  <a:lnTo>
                    <a:pt x="180" y="410"/>
                  </a:lnTo>
                  <a:lnTo>
                    <a:pt x="192" y="399"/>
                  </a:lnTo>
                  <a:lnTo>
                    <a:pt x="205" y="389"/>
                  </a:lnTo>
                  <a:lnTo>
                    <a:pt x="217" y="379"/>
                  </a:lnTo>
                  <a:lnTo>
                    <a:pt x="232" y="368"/>
                  </a:lnTo>
                  <a:lnTo>
                    <a:pt x="246" y="358"/>
                  </a:lnTo>
                  <a:lnTo>
                    <a:pt x="261" y="347"/>
                  </a:lnTo>
                  <a:lnTo>
                    <a:pt x="276" y="339"/>
                  </a:lnTo>
                  <a:lnTo>
                    <a:pt x="290" y="333"/>
                  </a:lnTo>
                  <a:lnTo>
                    <a:pt x="305" y="327"/>
                  </a:lnTo>
                  <a:lnTo>
                    <a:pt x="332" y="316"/>
                  </a:lnTo>
                  <a:lnTo>
                    <a:pt x="357" y="308"/>
                  </a:lnTo>
                  <a:lnTo>
                    <a:pt x="380" y="298"/>
                  </a:lnTo>
                  <a:lnTo>
                    <a:pt x="399" y="287"/>
                  </a:lnTo>
                  <a:lnTo>
                    <a:pt x="418" y="277"/>
                  </a:lnTo>
                  <a:lnTo>
                    <a:pt x="434" y="266"/>
                  </a:lnTo>
                  <a:lnTo>
                    <a:pt x="449" y="254"/>
                  </a:lnTo>
                  <a:lnTo>
                    <a:pt x="457" y="248"/>
                  </a:lnTo>
                  <a:lnTo>
                    <a:pt x="464" y="239"/>
                  </a:lnTo>
                  <a:lnTo>
                    <a:pt x="472" y="233"/>
                  </a:lnTo>
                  <a:lnTo>
                    <a:pt x="484" y="225"/>
                  </a:lnTo>
                  <a:lnTo>
                    <a:pt x="499" y="216"/>
                  </a:lnTo>
                  <a:lnTo>
                    <a:pt x="516" y="208"/>
                  </a:lnTo>
                  <a:lnTo>
                    <a:pt x="532" y="200"/>
                  </a:lnTo>
                  <a:lnTo>
                    <a:pt x="551" y="194"/>
                  </a:lnTo>
                  <a:lnTo>
                    <a:pt x="570" y="185"/>
                  </a:lnTo>
                  <a:lnTo>
                    <a:pt x="589" y="177"/>
                  </a:lnTo>
                  <a:lnTo>
                    <a:pt x="608" y="171"/>
                  </a:lnTo>
                  <a:lnTo>
                    <a:pt x="626" y="164"/>
                  </a:lnTo>
                  <a:lnTo>
                    <a:pt x="658" y="154"/>
                  </a:lnTo>
                  <a:lnTo>
                    <a:pt x="685" y="144"/>
                  </a:lnTo>
                  <a:lnTo>
                    <a:pt x="676" y="113"/>
                  </a:lnTo>
                  <a:lnTo>
                    <a:pt x="530" y="137"/>
                  </a:lnTo>
                  <a:lnTo>
                    <a:pt x="649" y="58"/>
                  </a:lnTo>
                  <a:lnTo>
                    <a:pt x="664" y="0"/>
                  </a:lnTo>
                  <a:lnTo>
                    <a:pt x="664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4"/>
            <p:cNvSpPr/>
            <p:nvPr/>
          </p:nvSpPr>
          <p:spPr>
            <a:xfrm>
              <a:off x="5495400" y="4200120"/>
              <a:ext cx="248760" cy="16272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633" h="414">
                  <a:moveTo>
                    <a:pt x="608" y="0"/>
                  </a:moveTo>
                  <a:lnTo>
                    <a:pt x="578" y="10"/>
                  </a:lnTo>
                  <a:lnTo>
                    <a:pt x="549" y="21"/>
                  </a:lnTo>
                  <a:lnTo>
                    <a:pt x="533" y="27"/>
                  </a:lnTo>
                  <a:lnTo>
                    <a:pt x="516" y="33"/>
                  </a:lnTo>
                  <a:lnTo>
                    <a:pt x="497" y="42"/>
                  </a:lnTo>
                  <a:lnTo>
                    <a:pt x="478" y="48"/>
                  </a:lnTo>
                  <a:lnTo>
                    <a:pt x="462" y="56"/>
                  </a:lnTo>
                  <a:lnTo>
                    <a:pt x="445" y="64"/>
                  </a:lnTo>
                  <a:lnTo>
                    <a:pt x="430" y="71"/>
                  </a:lnTo>
                  <a:lnTo>
                    <a:pt x="418" y="79"/>
                  </a:lnTo>
                  <a:lnTo>
                    <a:pt x="401" y="92"/>
                  </a:lnTo>
                  <a:lnTo>
                    <a:pt x="393" y="98"/>
                  </a:lnTo>
                  <a:lnTo>
                    <a:pt x="384" y="104"/>
                  </a:lnTo>
                  <a:lnTo>
                    <a:pt x="374" y="110"/>
                  </a:lnTo>
                  <a:lnTo>
                    <a:pt x="361" y="119"/>
                  </a:lnTo>
                  <a:lnTo>
                    <a:pt x="349" y="125"/>
                  </a:lnTo>
                  <a:lnTo>
                    <a:pt x="334" y="133"/>
                  </a:lnTo>
                  <a:lnTo>
                    <a:pt x="318" y="141"/>
                  </a:lnTo>
                  <a:lnTo>
                    <a:pt x="303" y="150"/>
                  </a:lnTo>
                  <a:lnTo>
                    <a:pt x="286" y="158"/>
                  </a:lnTo>
                  <a:lnTo>
                    <a:pt x="272" y="166"/>
                  </a:lnTo>
                  <a:lnTo>
                    <a:pt x="255" y="175"/>
                  </a:lnTo>
                  <a:lnTo>
                    <a:pt x="240" y="185"/>
                  </a:lnTo>
                  <a:lnTo>
                    <a:pt x="226" y="193"/>
                  </a:lnTo>
                  <a:lnTo>
                    <a:pt x="213" y="202"/>
                  </a:lnTo>
                  <a:lnTo>
                    <a:pt x="201" y="210"/>
                  </a:lnTo>
                  <a:lnTo>
                    <a:pt x="190" y="218"/>
                  </a:lnTo>
                  <a:lnTo>
                    <a:pt x="182" y="227"/>
                  </a:lnTo>
                  <a:lnTo>
                    <a:pt x="172" y="237"/>
                  </a:lnTo>
                  <a:lnTo>
                    <a:pt x="163" y="245"/>
                  </a:lnTo>
                  <a:lnTo>
                    <a:pt x="155" y="254"/>
                  </a:lnTo>
                  <a:lnTo>
                    <a:pt x="149" y="262"/>
                  </a:lnTo>
                  <a:lnTo>
                    <a:pt x="140" y="270"/>
                  </a:lnTo>
                  <a:lnTo>
                    <a:pt x="132" y="276"/>
                  </a:lnTo>
                  <a:lnTo>
                    <a:pt x="126" y="285"/>
                  </a:lnTo>
                  <a:lnTo>
                    <a:pt x="119" y="291"/>
                  </a:lnTo>
                  <a:lnTo>
                    <a:pt x="113" y="297"/>
                  </a:lnTo>
                  <a:lnTo>
                    <a:pt x="103" y="308"/>
                  </a:lnTo>
                  <a:lnTo>
                    <a:pt x="94" y="316"/>
                  </a:lnTo>
                  <a:lnTo>
                    <a:pt x="86" y="320"/>
                  </a:lnTo>
                  <a:lnTo>
                    <a:pt x="38" y="324"/>
                  </a:lnTo>
                  <a:lnTo>
                    <a:pt x="0" y="326"/>
                  </a:lnTo>
                  <a:lnTo>
                    <a:pt x="5" y="333"/>
                  </a:lnTo>
                  <a:lnTo>
                    <a:pt x="11" y="339"/>
                  </a:lnTo>
                  <a:lnTo>
                    <a:pt x="19" y="347"/>
                  </a:lnTo>
                  <a:lnTo>
                    <a:pt x="30" y="353"/>
                  </a:lnTo>
                  <a:lnTo>
                    <a:pt x="40" y="360"/>
                  </a:lnTo>
                  <a:lnTo>
                    <a:pt x="55" y="364"/>
                  </a:lnTo>
                  <a:lnTo>
                    <a:pt x="67" y="366"/>
                  </a:lnTo>
                  <a:lnTo>
                    <a:pt x="84" y="362"/>
                  </a:lnTo>
                  <a:lnTo>
                    <a:pt x="105" y="349"/>
                  </a:lnTo>
                  <a:lnTo>
                    <a:pt x="115" y="341"/>
                  </a:lnTo>
                  <a:lnTo>
                    <a:pt x="128" y="333"/>
                  </a:lnTo>
                  <a:lnTo>
                    <a:pt x="138" y="322"/>
                  </a:lnTo>
                  <a:lnTo>
                    <a:pt x="151" y="312"/>
                  </a:lnTo>
                  <a:lnTo>
                    <a:pt x="161" y="304"/>
                  </a:lnTo>
                  <a:lnTo>
                    <a:pt x="169" y="293"/>
                  </a:lnTo>
                  <a:lnTo>
                    <a:pt x="180" y="285"/>
                  </a:lnTo>
                  <a:lnTo>
                    <a:pt x="186" y="276"/>
                  </a:lnTo>
                  <a:lnTo>
                    <a:pt x="199" y="264"/>
                  </a:lnTo>
                  <a:lnTo>
                    <a:pt x="203" y="260"/>
                  </a:lnTo>
                  <a:lnTo>
                    <a:pt x="197" y="274"/>
                  </a:lnTo>
                  <a:lnTo>
                    <a:pt x="180" y="306"/>
                  </a:lnTo>
                  <a:lnTo>
                    <a:pt x="169" y="326"/>
                  </a:lnTo>
                  <a:lnTo>
                    <a:pt x="157" y="345"/>
                  </a:lnTo>
                  <a:lnTo>
                    <a:pt x="146" y="362"/>
                  </a:lnTo>
                  <a:lnTo>
                    <a:pt x="136" y="374"/>
                  </a:lnTo>
                  <a:lnTo>
                    <a:pt x="123" y="385"/>
                  </a:lnTo>
                  <a:lnTo>
                    <a:pt x="113" y="393"/>
                  </a:lnTo>
                  <a:lnTo>
                    <a:pt x="103" y="399"/>
                  </a:lnTo>
                  <a:lnTo>
                    <a:pt x="94" y="405"/>
                  </a:lnTo>
                  <a:lnTo>
                    <a:pt x="75" y="414"/>
                  </a:lnTo>
                  <a:lnTo>
                    <a:pt x="109" y="414"/>
                  </a:lnTo>
                  <a:lnTo>
                    <a:pt x="146" y="403"/>
                  </a:lnTo>
                  <a:lnTo>
                    <a:pt x="167" y="391"/>
                  </a:lnTo>
                  <a:lnTo>
                    <a:pt x="180" y="382"/>
                  </a:lnTo>
                  <a:lnTo>
                    <a:pt x="190" y="372"/>
                  </a:lnTo>
                  <a:lnTo>
                    <a:pt x="203" y="362"/>
                  </a:lnTo>
                  <a:lnTo>
                    <a:pt x="213" y="349"/>
                  </a:lnTo>
                  <a:lnTo>
                    <a:pt x="220" y="343"/>
                  </a:lnTo>
                  <a:lnTo>
                    <a:pt x="226" y="335"/>
                  </a:lnTo>
                  <a:lnTo>
                    <a:pt x="236" y="322"/>
                  </a:lnTo>
                  <a:lnTo>
                    <a:pt x="242" y="314"/>
                  </a:lnTo>
                  <a:lnTo>
                    <a:pt x="247" y="306"/>
                  </a:lnTo>
                  <a:lnTo>
                    <a:pt x="259" y="291"/>
                  </a:lnTo>
                  <a:lnTo>
                    <a:pt x="272" y="276"/>
                  </a:lnTo>
                  <a:lnTo>
                    <a:pt x="276" y="268"/>
                  </a:lnTo>
                  <a:lnTo>
                    <a:pt x="282" y="260"/>
                  </a:lnTo>
                  <a:lnTo>
                    <a:pt x="288" y="254"/>
                  </a:lnTo>
                  <a:lnTo>
                    <a:pt x="295" y="245"/>
                  </a:lnTo>
                  <a:lnTo>
                    <a:pt x="301" y="237"/>
                  </a:lnTo>
                  <a:lnTo>
                    <a:pt x="307" y="231"/>
                  </a:lnTo>
                  <a:lnTo>
                    <a:pt x="320" y="216"/>
                  </a:lnTo>
                  <a:lnTo>
                    <a:pt x="326" y="210"/>
                  </a:lnTo>
                  <a:lnTo>
                    <a:pt x="334" y="204"/>
                  </a:lnTo>
                  <a:lnTo>
                    <a:pt x="341" y="198"/>
                  </a:lnTo>
                  <a:lnTo>
                    <a:pt x="347" y="191"/>
                  </a:lnTo>
                  <a:lnTo>
                    <a:pt x="361" y="181"/>
                  </a:lnTo>
                  <a:lnTo>
                    <a:pt x="376" y="173"/>
                  </a:lnTo>
                  <a:lnTo>
                    <a:pt x="393" y="166"/>
                  </a:lnTo>
                  <a:lnTo>
                    <a:pt x="409" y="160"/>
                  </a:lnTo>
                  <a:lnTo>
                    <a:pt x="428" y="152"/>
                  </a:lnTo>
                  <a:lnTo>
                    <a:pt x="447" y="146"/>
                  </a:lnTo>
                  <a:lnTo>
                    <a:pt x="468" y="137"/>
                  </a:lnTo>
                  <a:lnTo>
                    <a:pt x="487" y="129"/>
                  </a:lnTo>
                  <a:lnTo>
                    <a:pt x="508" y="121"/>
                  </a:lnTo>
                  <a:lnTo>
                    <a:pt x="526" y="110"/>
                  </a:lnTo>
                  <a:lnTo>
                    <a:pt x="545" y="102"/>
                  </a:lnTo>
                  <a:lnTo>
                    <a:pt x="564" y="96"/>
                  </a:lnTo>
                  <a:lnTo>
                    <a:pt x="581" y="87"/>
                  </a:lnTo>
                  <a:lnTo>
                    <a:pt x="595" y="81"/>
                  </a:lnTo>
                  <a:lnTo>
                    <a:pt x="608" y="75"/>
                  </a:lnTo>
                  <a:lnTo>
                    <a:pt x="626" y="67"/>
                  </a:lnTo>
                  <a:lnTo>
                    <a:pt x="633" y="62"/>
                  </a:lnTo>
                  <a:lnTo>
                    <a:pt x="629" y="42"/>
                  </a:lnTo>
                  <a:lnTo>
                    <a:pt x="472" y="87"/>
                  </a:lnTo>
                  <a:lnTo>
                    <a:pt x="608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5"/>
            <p:cNvSpPr/>
            <p:nvPr/>
          </p:nvSpPr>
          <p:spPr>
            <a:xfrm>
              <a:off x="4685040" y="4108320"/>
              <a:ext cx="128160" cy="39240"/>
            </a:xfrm>
            <a:custGeom>
              <a:avLst/>
              <a:gdLst>
                <a:gd name="textAreaLeft" fmla="*/ 0 w 128160"/>
                <a:gd name="textAreaRight" fmla="*/ 128160 w 128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26" h="100">
                  <a:moveTo>
                    <a:pt x="0" y="40"/>
                  </a:moveTo>
                  <a:lnTo>
                    <a:pt x="13" y="63"/>
                  </a:lnTo>
                  <a:lnTo>
                    <a:pt x="21" y="71"/>
                  </a:lnTo>
                  <a:lnTo>
                    <a:pt x="30" y="81"/>
                  </a:lnTo>
                  <a:lnTo>
                    <a:pt x="42" y="90"/>
                  </a:lnTo>
                  <a:lnTo>
                    <a:pt x="57" y="96"/>
                  </a:lnTo>
                  <a:lnTo>
                    <a:pt x="80" y="100"/>
                  </a:lnTo>
                  <a:lnTo>
                    <a:pt x="115" y="100"/>
                  </a:lnTo>
                  <a:lnTo>
                    <a:pt x="207" y="92"/>
                  </a:lnTo>
                  <a:lnTo>
                    <a:pt x="291" y="79"/>
                  </a:lnTo>
                  <a:lnTo>
                    <a:pt x="326" y="73"/>
                  </a:lnTo>
                  <a:lnTo>
                    <a:pt x="113" y="85"/>
                  </a:lnTo>
                  <a:lnTo>
                    <a:pt x="51" y="40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6"/>
            <p:cNvSpPr/>
            <p:nvPr/>
          </p:nvSpPr>
          <p:spPr>
            <a:xfrm>
              <a:off x="5456160" y="4097880"/>
              <a:ext cx="79560" cy="1285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03" h="327">
                  <a:moveTo>
                    <a:pt x="203" y="0"/>
                  </a:moveTo>
                  <a:lnTo>
                    <a:pt x="196" y="4"/>
                  </a:lnTo>
                  <a:lnTo>
                    <a:pt x="190" y="13"/>
                  </a:lnTo>
                  <a:lnTo>
                    <a:pt x="182" y="21"/>
                  </a:lnTo>
                  <a:lnTo>
                    <a:pt x="169" y="31"/>
                  </a:lnTo>
                  <a:lnTo>
                    <a:pt x="157" y="44"/>
                  </a:lnTo>
                  <a:lnTo>
                    <a:pt x="150" y="50"/>
                  </a:lnTo>
                  <a:lnTo>
                    <a:pt x="144" y="56"/>
                  </a:lnTo>
                  <a:lnTo>
                    <a:pt x="130" y="71"/>
                  </a:lnTo>
                  <a:lnTo>
                    <a:pt x="123" y="77"/>
                  </a:lnTo>
                  <a:lnTo>
                    <a:pt x="115" y="85"/>
                  </a:lnTo>
                  <a:lnTo>
                    <a:pt x="109" y="92"/>
                  </a:lnTo>
                  <a:lnTo>
                    <a:pt x="100" y="100"/>
                  </a:lnTo>
                  <a:lnTo>
                    <a:pt x="94" y="106"/>
                  </a:lnTo>
                  <a:lnTo>
                    <a:pt x="88" y="115"/>
                  </a:lnTo>
                  <a:lnTo>
                    <a:pt x="82" y="121"/>
                  </a:lnTo>
                  <a:lnTo>
                    <a:pt x="75" y="127"/>
                  </a:lnTo>
                  <a:lnTo>
                    <a:pt x="69" y="135"/>
                  </a:lnTo>
                  <a:lnTo>
                    <a:pt x="63" y="142"/>
                  </a:lnTo>
                  <a:lnTo>
                    <a:pt x="52" y="154"/>
                  </a:lnTo>
                  <a:lnTo>
                    <a:pt x="40" y="175"/>
                  </a:lnTo>
                  <a:lnTo>
                    <a:pt x="23" y="216"/>
                  </a:lnTo>
                  <a:lnTo>
                    <a:pt x="11" y="266"/>
                  </a:lnTo>
                  <a:lnTo>
                    <a:pt x="0" y="327"/>
                  </a:lnTo>
                  <a:lnTo>
                    <a:pt x="50" y="308"/>
                  </a:lnTo>
                  <a:lnTo>
                    <a:pt x="57" y="293"/>
                  </a:lnTo>
                  <a:lnTo>
                    <a:pt x="61" y="275"/>
                  </a:lnTo>
                  <a:lnTo>
                    <a:pt x="69" y="252"/>
                  </a:lnTo>
                  <a:lnTo>
                    <a:pt x="77" y="229"/>
                  </a:lnTo>
                  <a:lnTo>
                    <a:pt x="86" y="204"/>
                  </a:lnTo>
                  <a:lnTo>
                    <a:pt x="96" y="181"/>
                  </a:lnTo>
                  <a:lnTo>
                    <a:pt x="107" y="162"/>
                  </a:lnTo>
                  <a:lnTo>
                    <a:pt x="119" y="144"/>
                  </a:lnTo>
                  <a:lnTo>
                    <a:pt x="134" y="119"/>
                  </a:lnTo>
                  <a:lnTo>
                    <a:pt x="150" y="92"/>
                  </a:lnTo>
                  <a:lnTo>
                    <a:pt x="165" y="65"/>
                  </a:lnTo>
                  <a:lnTo>
                    <a:pt x="180" y="40"/>
                  </a:lnTo>
                  <a:lnTo>
                    <a:pt x="192" y="19"/>
                  </a:lnTo>
                  <a:lnTo>
                    <a:pt x="203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7"/>
            <p:cNvSpPr/>
            <p:nvPr/>
          </p:nvSpPr>
          <p:spPr>
            <a:xfrm>
              <a:off x="5059440" y="4274640"/>
              <a:ext cx="359280" cy="15912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914" h="405">
                  <a:moveTo>
                    <a:pt x="17" y="237"/>
                  </a:moveTo>
                  <a:lnTo>
                    <a:pt x="40" y="239"/>
                  </a:lnTo>
                  <a:lnTo>
                    <a:pt x="96" y="241"/>
                  </a:lnTo>
                  <a:lnTo>
                    <a:pt x="165" y="227"/>
                  </a:lnTo>
                  <a:lnTo>
                    <a:pt x="200" y="210"/>
                  </a:lnTo>
                  <a:lnTo>
                    <a:pt x="215" y="200"/>
                  </a:lnTo>
                  <a:lnTo>
                    <a:pt x="230" y="185"/>
                  </a:lnTo>
                  <a:lnTo>
                    <a:pt x="236" y="179"/>
                  </a:lnTo>
                  <a:lnTo>
                    <a:pt x="244" y="173"/>
                  </a:lnTo>
                  <a:lnTo>
                    <a:pt x="257" y="158"/>
                  </a:lnTo>
                  <a:lnTo>
                    <a:pt x="261" y="152"/>
                  </a:lnTo>
                  <a:lnTo>
                    <a:pt x="267" y="146"/>
                  </a:lnTo>
                  <a:lnTo>
                    <a:pt x="280" y="133"/>
                  </a:lnTo>
                  <a:lnTo>
                    <a:pt x="290" y="121"/>
                  </a:lnTo>
                  <a:lnTo>
                    <a:pt x="299" y="110"/>
                  </a:lnTo>
                  <a:lnTo>
                    <a:pt x="309" y="100"/>
                  </a:lnTo>
                  <a:lnTo>
                    <a:pt x="317" y="92"/>
                  </a:lnTo>
                  <a:lnTo>
                    <a:pt x="324" y="83"/>
                  </a:lnTo>
                  <a:lnTo>
                    <a:pt x="330" y="77"/>
                  </a:lnTo>
                  <a:lnTo>
                    <a:pt x="340" y="67"/>
                  </a:lnTo>
                  <a:lnTo>
                    <a:pt x="349" y="56"/>
                  </a:lnTo>
                  <a:lnTo>
                    <a:pt x="359" y="71"/>
                  </a:lnTo>
                  <a:lnTo>
                    <a:pt x="376" y="77"/>
                  </a:lnTo>
                  <a:lnTo>
                    <a:pt x="403" y="83"/>
                  </a:lnTo>
                  <a:lnTo>
                    <a:pt x="445" y="87"/>
                  </a:lnTo>
                  <a:lnTo>
                    <a:pt x="501" y="90"/>
                  </a:lnTo>
                  <a:lnTo>
                    <a:pt x="566" y="87"/>
                  </a:lnTo>
                  <a:lnTo>
                    <a:pt x="626" y="79"/>
                  </a:lnTo>
                  <a:lnTo>
                    <a:pt x="683" y="65"/>
                  </a:lnTo>
                  <a:lnTo>
                    <a:pt x="708" y="56"/>
                  </a:lnTo>
                  <a:lnTo>
                    <a:pt x="733" y="48"/>
                  </a:lnTo>
                  <a:lnTo>
                    <a:pt x="754" y="40"/>
                  </a:lnTo>
                  <a:lnTo>
                    <a:pt x="774" y="31"/>
                  </a:lnTo>
                  <a:lnTo>
                    <a:pt x="791" y="23"/>
                  </a:lnTo>
                  <a:lnTo>
                    <a:pt x="806" y="15"/>
                  </a:lnTo>
                  <a:lnTo>
                    <a:pt x="827" y="4"/>
                  </a:lnTo>
                  <a:lnTo>
                    <a:pt x="833" y="0"/>
                  </a:lnTo>
                  <a:lnTo>
                    <a:pt x="810" y="63"/>
                  </a:lnTo>
                  <a:lnTo>
                    <a:pt x="804" y="65"/>
                  </a:lnTo>
                  <a:lnTo>
                    <a:pt x="783" y="73"/>
                  </a:lnTo>
                  <a:lnTo>
                    <a:pt x="754" y="83"/>
                  </a:lnTo>
                  <a:lnTo>
                    <a:pt x="737" y="92"/>
                  </a:lnTo>
                  <a:lnTo>
                    <a:pt x="718" y="98"/>
                  </a:lnTo>
                  <a:lnTo>
                    <a:pt x="699" y="104"/>
                  </a:lnTo>
                  <a:lnTo>
                    <a:pt x="681" y="110"/>
                  </a:lnTo>
                  <a:lnTo>
                    <a:pt x="664" y="119"/>
                  </a:lnTo>
                  <a:lnTo>
                    <a:pt x="647" y="125"/>
                  </a:lnTo>
                  <a:lnTo>
                    <a:pt x="616" y="135"/>
                  </a:lnTo>
                  <a:lnTo>
                    <a:pt x="597" y="142"/>
                  </a:lnTo>
                  <a:lnTo>
                    <a:pt x="555" y="148"/>
                  </a:lnTo>
                  <a:lnTo>
                    <a:pt x="503" y="154"/>
                  </a:lnTo>
                  <a:lnTo>
                    <a:pt x="438" y="158"/>
                  </a:lnTo>
                  <a:lnTo>
                    <a:pt x="459" y="164"/>
                  </a:lnTo>
                  <a:lnTo>
                    <a:pt x="480" y="171"/>
                  </a:lnTo>
                  <a:lnTo>
                    <a:pt x="507" y="177"/>
                  </a:lnTo>
                  <a:lnTo>
                    <a:pt x="541" y="183"/>
                  </a:lnTo>
                  <a:lnTo>
                    <a:pt x="574" y="189"/>
                  </a:lnTo>
                  <a:lnTo>
                    <a:pt x="641" y="191"/>
                  </a:lnTo>
                  <a:lnTo>
                    <a:pt x="674" y="187"/>
                  </a:lnTo>
                  <a:lnTo>
                    <a:pt x="703" y="175"/>
                  </a:lnTo>
                  <a:lnTo>
                    <a:pt x="720" y="169"/>
                  </a:lnTo>
                  <a:lnTo>
                    <a:pt x="735" y="160"/>
                  </a:lnTo>
                  <a:lnTo>
                    <a:pt x="747" y="152"/>
                  </a:lnTo>
                  <a:lnTo>
                    <a:pt x="760" y="144"/>
                  </a:lnTo>
                  <a:lnTo>
                    <a:pt x="772" y="137"/>
                  </a:lnTo>
                  <a:lnTo>
                    <a:pt x="783" y="129"/>
                  </a:lnTo>
                  <a:lnTo>
                    <a:pt x="793" y="121"/>
                  </a:lnTo>
                  <a:lnTo>
                    <a:pt x="802" y="115"/>
                  </a:lnTo>
                  <a:lnTo>
                    <a:pt x="812" y="106"/>
                  </a:lnTo>
                  <a:lnTo>
                    <a:pt x="816" y="102"/>
                  </a:lnTo>
                  <a:lnTo>
                    <a:pt x="814" y="121"/>
                  </a:lnTo>
                  <a:lnTo>
                    <a:pt x="810" y="139"/>
                  </a:lnTo>
                  <a:lnTo>
                    <a:pt x="799" y="158"/>
                  </a:lnTo>
                  <a:lnTo>
                    <a:pt x="791" y="166"/>
                  </a:lnTo>
                  <a:lnTo>
                    <a:pt x="777" y="177"/>
                  </a:lnTo>
                  <a:lnTo>
                    <a:pt x="760" y="187"/>
                  </a:lnTo>
                  <a:lnTo>
                    <a:pt x="739" y="198"/>
                  </a:lnTo>
                  <a:lnTo>
                    <a:pt x="714" y="208"/>
                  </a:lnTo>
                  <a:lnTo>
                    <a:pt x="687" y="218"/>
                  </a:lnTo>
                  <a:lnTo>
                    <a:pt x="660" y="225"/>
                  </a:lnTo>
                  <a:lnTo>
                    <a:pt x="630" y="231"/>
                  </a:lnTo>
                  <a:lnTo>
                    <a:pt x="576" y="237"/>
                  </a:lnTo>
                  <a:lnTo>
                    <a:pt x="537" y="241"/>
                  </a:lnTo>
                  <a:lnTo>
                    <a:pt x="501" y="241"/>
                  </a:lnTo>
                  <a:lnTo>
                    <a:pt x="530" y="252"/>
                  </a:lnTo>
                  <a:lnTo>
                    <a:pt x="562" y="258"/>
                  </a:lnTo>
                  <a:lnTo>
                    <a:pt x="603" y="266"/>
                  </a:lnTo>
                  <a:lnTo>
                    <a:pt x="647" y="275"/>
                  </a:lnTo>
                  <a:lnTo>
                    <a:pt x="693" y="279"/>
                  </a:lnTo>
                  <a:lnTo>
                    <a:pt x="777" y="270"/>
                  </a:lnTo>
                  <a:lnTo>
                    <a:pt x="810" y="260"/>
                  </a:lnTo>
                  <a:lnTo>
                    <a:pt x="839" y="250"/>
                  </a:lnTo>
                  <a:lnTo>
                    <a:pt x="862" y="239"/>
                  </a:lnTo>
                  <a:lnTo>
                    <a:pt x="881" y="231"/>
                  </a:lnTo>
                  <a:lnTo>
                    <a:pt x="904" y="218"/>
                  </a:lnTo>
                  <a:lnTo>
                    <a:pt x="912" y="214"/>
                  </a:lnTo>
                  <a:lnTo>
                    <a:pt x="914" y="235"/>
                  </a:lnTo>
                  <a:lnTo>
                    <a:pt x="908" y="258"/>
                  </a:lnTo>
                  <a:lnTo>
                    <a:pt x="904" y="262"/>
                  </a:lnTo>
                  <a:lnTo>
                    <a:pt x="898" y="268"/>
                  </a:lnTo>
                  <a:lnTo>
                    <a:pt x="891" y="275"/>
                  </a:lnTo>
                  <a:lnTo>
                    <a:pt x="885" y="281"/>
                  </a:lnTo>
                  <a:lnTo>
                    <a:pt x="873" y="289"/>
                  </a:lnTo>
                  <a:lnTo>
                    <a:pt x="858" y="295"/>
                  </a:lnTo>
                  <a:lnTo>
                    <a:pt x="837" y="302"/>
                  </a:lnTo>
                  <a:lnTo>
                    <a:pt x="814" y="308"/>
                  </a:lnTo>
                  <a:lnTo>
                    <a:pt x="789" y="314"/>
                  </a:lnTo>
                  <a:lnTo>
                    <a:pt x="760" y="320"/>
                  </a:lnTo>
                  <a:lnTo>
                    <a:pt x="733" y="327"/>
                  </a:lnTo>
                  <a:lnTo>
                    <a:pt x="701" y="331"/>
                  </a:lnTo>
                  <a:lnTo>
                    <a:pt x="645" y="341"/>
                  </a:lnTo>
                  <a:lnTo>
                    <a:pt x="593" y="345"/>
                  </a:lnTo>
                  <a:lnTo>
                    <a:pt x="528" y="343"/>
                  </a:lnTo>
                  <a:lnTo>
                    <a:pt x="514" y="337"/>
                  </a:lnTo>
                  <a:lnTo>
                    <a:pt x="493" y="327"/>
                  </a:lnTo>
                  <a:lnTo>
                    <a:pt x="472" y="316"/>
                  </a:lnTo>
                  <a:lnTo>
                    <a:pt x="449" y="306"/>
                  </a:lnTo>
                  <a:lnTo>
                    <a:pt x="428" y="297"/>
                  </a:lnTo>
                  <a:lnTo>
                    <a:pt x="409" y="289"/>
                  </a:lnTo>
                  <a:lnTo>
                    <a:pt x="392" y="281"/>
                  </a:lnTo>
                  <a:lnTo>
                    <a:pt x="384" y="289"/>
                  </a:lnTo>
                  <a:lnTo>
                    <a:pt x="374" y="297"/>
                  </a:lnTo>
                  <a:lnTo>
                    <a:pt x="359" y="308"/>
                  </a:lnTo>
                  <a:lnTo>
                    <a:pt x="349" y="314"/>
                  </a:lnTo>
                  <a:lnTo>
                    <a:pt x="338" y="320"/>
                  </a:lnTo>
                  <a:lnTo>
                    <a:pt x="328" y="327"/>
                  </a:lnTo>
                  <a:lnTo>
                    <a:pt x="315" y="335"/>
                  </a:lnTo>
                  <a:lnTo>
                    <a:pt x="301" y="341"/>
                  </a:lnTo>
                  <a:lnTo>
                    <a:pt x="286" y="347"/>
                  </a:lnTo>
                  <a:lnTo>
                    <a:pt x="269" y="354"/>
                  </a:lnTo>
                  <a:lnTo>
                    <a:pt x="253" y="360"/>
                  </a:lnTo>
                  <a:lnTo>
                    <a:pt x="234" y="366"/>
                  </a:lnTo>
                  <a:lnTo>
                    <a:pt x="213" y="372"/>
                  </a:lnTo>
                  <a:lnTo>
                    <a:pt x="173" y="383"/>
                  </a:lnTo>
                  <a:lnTo>
                    <a:pt x="130" y="389"/>
                  </a:lnTo>
                  <a:lnTo>
                    <a:pt x="92" y="395"/>
                  </a:lnTo>
                  <a:lnTo>
                    <a:pt x="27" y="403"/>
                  </a:lnTo>
                  <a:lnTo>
                    <a:pt x="0" y="405"/>
                  </a:lnTo>
                  <a:lnTo>
                    <a:pt x="0" y="360"/>
                  </a:lnTo>
                  <a:lnTo>
                    <a:pt x="113" y="356"/>
                  </a:lnTo>
                  <a:lnTo>
                    <a:pt x="203" y="339"/>
                  </a:lnTo>
                  <a:lnTo>
                    <a:pt x="244" y="324"/>
                  </a:lnTo>
                  <a:lnTo>
                    <a:pt x="261" y="314"/>
                  </a:lnTo>
                  <a:lnTo>
                    <a:pt x="276" y="304"/>
                  </a:lnTo>
                  <a:lnTo>
                    <a:pt x="288" y="293"/>
                  </a:lnTo>
                  <a:lnTo>
                    <a:pt x="299" y="283"/>
                  </a:lnTo>
                  <a:lnTo>
                    <a:pt x="309" y="272"/>
                  </a:lnTo>
                  <a:lnTo>
                    <a:pt x="317" y="264"/>
                  </a:lnTo>
                  <a:lnTo>
                    <a:pt x="326" y="256"/>
                  </a:lnTo>
                  <a:lnTo>
                    <a:pt x="334" y="250"/>
                  </a:lnTo>
                  <a:lnTo>
                    <a:pt x="340" y="241"/>
                  </a:lnTo>
                  <a:lnTo>
                    <a:pt x="344" y="235"/>
                  </a:lnTo>
                  <a:lnTo>
                    <a:pt x="355" y="227"/>
                  </a:lnTo>
                  <a:lnTo>
                    <a:pt x="361" y="221"/>
                  </a:lnTo>
                  <a:lnTo>
                    <a:pt x="365" y="214"/>
                  </a:lnTo>
                  <a:lnTo>
                    <a:pt x="347" y="223"/>
                  </a:lnTo>
                  <a:lnTo>
                    <a:pt x="328" y="233"/>
                  </a:lnTo>
                  <a:lnTo>
                    <a:pt x="315" y="239"/>
                  </a:lnTo>
                  <a:lnTo>
                    <a:pt x="303" y="245"/>
                  </a:lnTo>
                  <a:lnTo>
                    <a:pt x="288" y="252"/>
                  </a:lnTo>
                  <a:lnTo>
                    <a:pt x="274" y="258"/>
                  </a:lnTo>
                  <a:lnTo>
                    <a:pt x="259" y="264"/>
                  </a:lnTo>
                  <a:lnTo>
                    <a:pt x="244" y="270"/>
                  </a:lnTo>
                  <a:lnTo>
                    <a:pt x="228" y="277"/>
                  </a:lnTo>
                  <a:lnTo>
                    <a:pt x="213" y="283"/>
                  </a:lnTo>
                  <a:lnTo>
                    <a:pt x="184" y="293"/>
                  </a:lnTo>
                  <a:lnTo>
                    <a:pt x="157" y="299"/>
                  </a:lnTo>
                  <a:lnTo>
                    <a:pt x="130" y="304"/>
                  </a:lnTo>
                  <a:lnTo>
                    <a:pt x="79" y="308"/>
                  </a:lnTo>
                  <a:lnTo>
                    <a:pt x="29" y="304"/>
                  </a:lnTo>
                  <a:lnTo>
                    <a:pt x="17" y="237"/>
                  </a:lnTo>
                  <a:lnTo>
                    <a:pt x="17" y="237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8"/>
            <p:cNvSpPr/>
            <p:nvPr/>
          </p:nvSpPr>
          <p:spPr>
            <a:xfrm>
              <a:off x="5403600" y="4253400"/>
              <a:ext cx="61200" cy="720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56" h="183">
                  <a:moveTo>
                    <a:pt x="4" y="48"/>
                  </a:moveTo>
                  <a:lnTo>
                    <a:pt x="10" y="38"/>
                  </a:lnTo>
                  <a:lnTo>
                    <a:pt x="18" y="27"/>
                  </a:lnTo>
                  <a:lnTo>
                    <a:pt x="25" y="21"/>
                  </a:lnTo>
                  <a:lnTo>
                    <a:pt x="31" y="17"/>
                  </a:lnTo>
                  <a:lnTo>
                    <a:pt x="37" y="11"/>
                  </a:lnTo>
                  <a:lnTo>
                    <a:pt x="46" y="6"/>
                  </a:lnTo>
                  <a:lnTo>
                    <a:pt x="62" y="0"/>
                  </a:lnTo>
                  <a:lnTo>
                    <a:pt x="83" y="0"/>
                  </a:lnTo>
                  <a:lnTo>
                    <a:pt x="108" y="6"/>
                  </a:lnTo>
                  <a:lnTo>
                    <a:pt x="129" y="21"/>
                  </a:lnTo>
                  <a:lnTo>
                    <a:pt x="144" y="35"/>
                  </a:lnTo>
                  <a:lnTo>
                    <a:pt x="156" y="71"/>
                  </a:lnTo>
                  <a:lnTo>
                    <a:pt x="156" y="98"/>
                  </a:lnTo>
                  <a:lnTo>
                    <a:pt x="152" y="110"/>
                  </a:lnTo>
                  <a:lnTo>
                    <a:pt x="135" y="110"/>
                  </a:lnTo>
                  <a:lnTo>
                    <a:pt x="135" y="73"/>
                  </a:lnTo>
                  <a:lnTo>
                    <a:pt x="131" y="60"/>
                  </a:lnTo>
                  <a:lnTo>
                    <a:pt x="125" y="48"/>
                  </a:lnTo>
                  <a:lnTo>
                    <a:pt x="112" y="44"/>
                  </a:lnTo>
                  <a:lnTo>
                    <a:pt x="96" y="44"/>
                  </a:lnTo>
                  <a:lnTo>
                    <a:pt x="66" y="58"/>
                  </a:lnTo>
                  <a:lnTo>
                    <a:pt x="52" y="83"/>
                  </a:lnTo>
                  <a:lnTo>
                    <a:pt x="46" y="114"/>
                  </a:lnTo>
                  <a:lnTo>
                    <a:pt x="58" y="131"/>
                  </a:lnTo>
                  <a:lnTo>
                    <a:pt x="60" y="123"/>
                  </a:lnTo>
                  <a:lnTo>
                    <a:pt x="73" y="106"/>
                  </a:lnTo>
                  <a:lnTo>
                    <a:pt x="79" y="100"/>
                  </a:lnTo>
                  <a:lnTo>
                    <a:pt x="87" y="96"/>
                  </a:lnTo>
                  <a:lnTo>
                    <a:pt x="102" y="102"/>
                  </a:lnTo>
                  <a:lnTo>
                    <a:pt x="112" y="123"/>
                  </a:lnTo>
                  <a:lnTo>
                    <a:pt x="116" y="146"/>
                  </a:lnTo>
                  <a:lnTo>
                    <a:pt x="116" y="171"/>
                  </a:lnTo>
                  <a:lnTo>
                    <a:pt x="83" y="183"/>
                  </a:lnTo>
                  <a:lnTo>
                    <a:pt x="94" y="144"/>
                  </a:lnTo>
                  <a:lnTo>
                    <a:pt x="29" y="181"/>
                  </a:lnTo>
                  <a:lnTo>
                    <a:pt x="25" y="177"/>
                  </a:lnTo>
                  <a:lnTo>
                    <a:pt x="16" y="166"/>
                  </a:lnTo>
                  <a:lnTo>
                    <a:pt x="2" y="133"/>
                  </a:lnTo>
                  <a:lnTo>
                    <a:pt x="0" y="83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9"/>
            <p:cNvSpPr/>
            <p:nvPr/>
          </p:nvSpPr>
          <p:spPr>
            <a:xfrm>
              <a:off x="5424840" y="433368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81">
                  <a:moveTo>
                    <a:pt x="14" y="14"/>
                  </a:moveTo>
                  <a:lnTo>
                    <a:pt x="21" y="10"/>
                  </a:lnTo>
                  <a:lnTo>
                    <a:pt x="33" y="4"/>
                  </a:lnTo>
                  <a:lnTo>
                    <a:pt x="52" y="0"/>
                  </a:lnTo>
                  <a:lnTo>
                    <a:pt x="69" y="6"/>
                  </a:lnTo>
                  <a:lnTo>
                    <a:pt x="79" y="21"/>
                  </a:lnTo>
                  <a:lnTo>
                    <a:pt x="81" y="39"/>
                  </a:lnTo>
                  <a:lnTo>
                    <a:pt x="81" y="64"/>
                  </a:lnTo>
                  <a:lnTo>
                    <a:pt x="42" y="81"/>
                  </a:lnTo>
                  <a:lnTo>
                    <a:pt x="44" y="66"/>
                  </a:lnTo>
                  <a:lnTo>
                    <a:pt x="42" y="41"/>
                  </a:lnTo>
                  <a:lnTo>
                    <a:pt x="33" y="37"/>
                  </a:lnTo>
                  <a:lnTo>
                    <a:pt x="19" y="35"/>
                  </a:lnTo>
                  <a:lnTo>
                    <a:pt x="0" y="39"/>
                  </a:lnTo>
                  <a:lnTo>
                    <a:pt x="14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0"/>
            <p:cNvSpPr/>
            <p:nvPr/>
          </p:nvSpPr>
          <p:spPr>
            <a:xfrm>
              <a:off x="5448600" y="4303080"/>
              <a:ext cx="44280" cy="831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13" h="212">
                  <a:moveTo>
                    <a:pt x="57" y="0"/>
                  </a:moveTo>
                  <a:lnTo>
                    <a:pt x="48" y="19"/>
                  </a:lnTo>
                  <a:lnTo>
                    <a:pt x="50" y="37"/>
                  </a:lnTo>
                  <a:lnTo>
                    <a:pt x="63" y="48"/>
                  </a:lnTo>
                  <a:lnTo>
                    <a:pt x="76" y="71"/>
                  </a:lnTo>
                  <a:lnTo>
                    <a:pt x="82" y="102"/>
                  </a:lnTo>
                  <a:lnTo>
                    <a:pt x="78" y="118"/>
                  </a:lnTo>
                  <a:lnTo>
                    <a:pt x="69" y="133"/>
                  </a:lnTo>
                  <a:lnTo>
                    <a:pt x="59" y="148"/>
                  </a:lnTo>
                  <a:lnTo>
                    <a:pt x="53" y="152"/>
                  </a:lnTo>
                  <a:lnTo>
                    <a:pt x="46" y="158"/>
                  </a:lnTo>
                  <a:lnTo>
                    <a:pt x="34" y="168"/>
                  </a:lnTo>
                  <a:lnTo>
                    <a:pt x="23" y="177"/>
                  </a:lnTo>
                  <a:lnTo>
                    <a:pt x="7" y="185"/>
                  </a:lnTo>
                  <a:lnTo>
                    <a:pt x="0" y="189"/>
                  </a:lnTo>
                  <a:lnTo>
                    <a:pt x="7" y="199"/>
                  </a:lnTo>
                  <a:lnTo>
                    <a:pt x="13" y="208"/>
                  </a:lnTo>
                  <a:lnTo>
                    <a:pt x="21" y="212"/>
                  </a:lnTo>
                  <a:lnTo>
                    <a:pt x="40" y="206"/>
                  </a:lnTo>
                  <a:lnTo>
                    <a:pt x="55" y="197"/>
                  </a:lnTo>
                  <a:lnTo>
                    <a:pt x="69" y="185"/>
                  </a:lnTo>
                  <a:lnTo>
                    <a:pt x="86" y="172"/>
                  </a:lnTo>
                  <a:lnTo>
                    <a:pt x="92" y="164"/>
                  </a:lnTo>
                  <a:lnTo>
                    <a:pt x="98" y="156"/>
                  </a:lnTo>
                  <a:lnTo>
                    <a:pt x="113" y="116"/>
                  </a:lnTo>
                  <a:lnTo>
                    <a:pt x="111" y="93"/>
                  </a:lnTo>
                  <a:lnTo>
                    <a:pt x="105" y="73"/>
                  </a:lnTo>
                  <a:lnTo>
                    <a:pt x="96" y="54"/>
                  </a:lnTo>
                  <a:lnTo>
                    <a:pt x="86" y="35"/>
                  </a:lnTo>
                  <a:lnTo>
                    <a:pt x="73" y="23"/>
                  </a:lnTo>
                  <a:lnTo>
                    <a:pt x="65" y="1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1"/>
            <p:cNvSpPr/>
            <p:nvPr/>
          </p:nvSpPr>
          <p:spPr>
            <a:xfrm>
              <a:off x="5481360" y="4293360"/>
              <a:ext cx="25560" cy="24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5" h="62">
                  <a:moveTo>
                    <a:pt x="0" y="4"/>
                  </a:moveTo>
                  <a:lnTo>
                    <a:pt x="37" y="62"/>
                  </a:lnTo>
                  <a:lnTo>
                    <a:pt x="65" y="46"/>
                  </a:lnTo>
                  <a:lnTo>
                    <a:pt x="3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2"/>
            <p:cNvSpPr/>
            <p:nvPr/>
          </p:nvSpPr>
          <p:spPr>
            <a:xfrm>
              <a:off x="5428080" y="4364640"/>
              <a:ext cx="82080" cy="6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09" h="156">
                  <a:moveTo>
                    <a:pt x="176" y="0"/>
                  </a:moveTo>
                  <a:lnTo>
                    <a:pt x="182" y="46"/>
                  </a:lnTo>
                  <a:lnTo>
                    <a:pt x="178" y="64"/>
                  </a:lnTo>
                  <a:lnTo>
                    <a:pt x="169" y="83"/>
                  </a:lnTo>
                  <a:lnTo>
                    <a:pt x="163" y="89"/>
                  </a:lnTo>
                  <a:lnTo>
                    <a:pt x="153" y="98"/>
                  </a:lnTo>
                  <a:lnTo>
                    <a:pt x="142" y="102"/>
                  </a:lnTo>
                  <a:lnTo>
                    <a:pt x="128" y="106"/>
                  </a:lnTo>
                  <a:lnTo>
                    <a:pt x="98" y="108"/>
                  </a:lnTo>
                  <a:lnTo>
                    <a:pt x="75" y="106"/>
                  </a:lnTo>
                  <a:lnTo>
                    <a:pt x="42" y="87"/>
                  </a:lnTo>
                  <a:lnTo>
                    <a:pt x="32" y="77"/>
                  </a:lnTo>
                  <a:lnTo>
                    <a:pt x="23" y="66"/>
                  </a:lnTo>
                  <a:lnTo>
                    <a:pt x="17" y="56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7"/>
                  </a:lnTo>
                  <a:lnTo>
                    <a:pt x="15" y="93"/>
                  </a:lnTo>
                  <a:lnTo>
                    <a:pt x="23" y="102"/>
                  </a:lnTo>
                  <a:lnTo>
                    <a:pt x="32" y="110"/>
                  </a:lnTo>
                  <a:lnTo>
                    <a:pt x="42" y="118"/>
                  </a:lnTo>
                  <a:lnTo>
                    <a:pt x="52" y="127"/>
                  </a:lnTo>
                  <a:lnTo>
                    <a:pt x="63" y="135"/>
                  </a:lnTo>
                  <a:lnTo>
                    <a:pt x="75" y="143"/>
                  </a:lnTo>
                  <a:lnTo>
                    <a:pt x="88" y="149"/>
                  </a:lnTo>
                  <a:lnTo>
                    <a:pt x="102" y="154"/>
                  </a:lnTo>
                  <a:lnTo>
                    <a:pt x="130" y="156"/>
                  </a:lnTo>
                  <a:lnTo>
                    <a:pt x="155" y="145"/>
                  </a:lnTo>
                  <a:lnTo>
                    <a:pt x="167" y="137"/>
                  </a:lnTo>
                  <a:lnTo>
                    <a:pt x="178" y="129"/>
                  </a:lnTo>
                  <a:lnTo>
                    <a:pt x="186" y="118"/>
                  </a:lnTo>
                  <a:lnTo>
                    <a:pt x="192" y="110"/>
                  </a:lnTo>
                  <a:lnTo>
                    <a:pt x="207" y="70"/>
                  </a:lnTo>
                  <a:lnTo>
                    <a:pt x="209" y="39"/>
                  </a:lnTo>
                  <a:lnTo>
                    <a:pt x="207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3"/>
            <p:cNvSpPr/>
            <p:nvPr/>
          </p:nvSpPr>
          <p:spPr>
            <a:xfrm>
              <a:off x="5441400" y="4381560"/>
              <a:ext cx="103320" cy="842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63" h="215">
                  <a:moveTo>
                    <a:pt x="229" y="0"/>
                  </a:moveTo>
                  <a:lnTo>
                    <a:pt x="227" y="71"/>
                  </a:lnTo>
                  <a:lnTo>
                    <a:pt x="219" y="98"/>
                  </a:lnTo>
                  <a:lnTo>
                    <a:pt x="204" y="125"/>
                  </a:lnTo>
                  <a:lnTo>
                    <a:pt x="200" y="129"/>
                  </a:lnTo>
                  <a:lnTo>
                    <a:pt x="194" y="136"/>
                  </a:lnTo>
                  <a:lnTo>
                    <a:pt x="181" y="146"/>
                  </a:lnTo>
                  <a:lnTo>
                    <a:pt x="167" y="152"/>
                  </a:lnTo>
                  <a:lnTo>
                    <a:pt x="150" y="158"/>
                  </a:lnTo>
                  <a:lnTo>
                    <a:pt x="116" y="163"/>
                  </a:lnTo>
                  <a:lnTo>
                    <a:pt x="87" y="163"/>
                  </a:lnTo>
                  <a:lnTo>
                    <a:pt x="43" y="148"/>
                  </a:lnTo>
                  <a:lnTo>
                    <a:pt x="29" y="140"/>
                  </a:lnTo>
                  <a:lnTo>
                    <a:pt x="20" y="131"/>
                  </a:lnTo>
                  <a:lnTo>
                    <a:pt x="12" y="123"/>
                  </a:lnTo>
                  <a:lnTo>
                    <a:pt x="0" y="148"/>
                  </a:lnTo>
                  <a:lnTo>
                    <a:pt x="4" y="152"/>
                  </a:lnTo>
                  <a:lnTo>
                    <a:pt x="14" y="163"/>
                  </a:lnTo>
                  <a:lnTo>
                    <a:pt x="23" y="169"/>
                  </a:lnTo>
                  <a:lnTo>
                    <a:pt x="31" y="175"/>
                  </a:lnTo>
                  <a:lnTo>
                    <a:pt x="41" y="183"/>
                  </a:lnTo>
                  <a:lnTo>
                    <a:pt x="54" y="190"/>
                  </a:lnTo>
                  <a:lnTo>
                    <a:pt x="66" y="196"/>
                  </a:lnTo>
                  <a:lnTo>
                    <a:pt x="81" y="202"/>
                  </a:lnTo>
                  <a:lnTo>
                    <a:pt x="96" y="208"/>
                  </a:lnTo>
                  <a:lnTo>
                    <a:pt x="112" y="210"/>
                  </a:lnTo>
                  <a:lnTo>
                    <a:pt x="148" y="215"/>
                  </a:lnTo>
                  <a:lnTo>
                    <a:pt x="187" y="206"/>
                  </a:lnTo>
                  <a:lnTo>
                    <a:pt x="221" y="190"/>
                  </a:lnTo>
                  <a:lnTo>
                    <a:pt x="233" y="177"/>
                  </a:lnTo>
                  <a:lnTo>
                    <a:pt x="244" y="165"/>
                  </a:lnTo>
                  <a:lnTo>
                    <a:pt x="256" y="136"/>
                  </a:lnTo>
                  <a:lnTo>
                    <a:pt x="263" y="104"/>
                  </a:lnTo>
                  <a:lnTo>
                    <a:pt x="260" y="52"/>
                  </a:lnTo>
                  <a:lnTo>
                    <a:pt x="256" y="30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4"/>
            <p:cNvSpPr/>
            <p:nvPr/>
          </p:nvSpPr>
          <p:spPr>
            <a:xfrm>
              <a:off x="5529960" y="4396680"/>
              <a:ext cx="57960" cy="78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8" h="199">
                  <a:moveTo>
                    <a:pt x="75" y="0"/>
                  </a:moveTo>
                  <a:lnTo>
                    <a:pt x="77" y="120"/>
                  </a:lnTo>
                  <a:lnTo>
                    <a:pt x="69" y="137"/>
                  </a:lnTo>
                  <a:lnTo>
                    <a:pt x="56" y="154"/>
                  </a:lnTo>
                  <a:lnTo>
                    <a:pt x="50" y="160"/>
                  </a:lnTo>
                  <a:lnTo>
                    <a:pt x="44" y="166"/>
                  </a:lnTo>
                  <a:lnTo>
                    <a:pt x="38" y="172"/>
                  </a:lnTo>
                  <a:lnTo>
                    <a:pt x="31" y="179"/>
                  </a:lnTo>
                  <a:lnTo>
                    <a:pt x="21" y="187"/>
                  </a:lnTo>
                  <a:lnTo>
                    <a:pt x="10" y="193"/>
                  </a:lnTo>
                  <a:lnTo>
                    <a:pt x="0" y="199"/>
                  </a:lnTo>
                  <a:lnTo>
                    <a:pt x="61" y="197"/>
                  </a:lnTo>
                  <a:lnTo>
                    <a:pt x="65" y="193"/>
                  </a:lnTo>
                  <a:lnTo>
                    <a:pt x="73" y="183"/>
                  </a:lnTo>
                  <a:lnTo>
                    <a:pt x="81" y="174"/>
                  </a:lnTo>
                  <a:lnTo>
                    <a:pt x="88" y="166"/>
                  </a:lnTo>
                  <a:lnTo>
                    <a:pt x="96" y="158"/>
                  </a:lnTo>
                  <a:lnTo>
                    <a:pt x="104" y="147"/>
                  </a:lnTo>
                  <a:lnTo>
                    <a:pt x="113" y="137"/>
                  </a:lnTo>
                  <a:lnTo>
                    <a:pt x="121" y="127"/>
                  </a:lnTo>
                  <a:lnTo>
                    <a:pt x="134" y="106"/>
                  </a:lnTo>
                  <a:lnTo>
                    <a:pt x="148" y="71"/>
                  </a:lnTo>
                  <a:lnTo>
                    <a:pt x="142" y="44"/>
                  </a:lnTo>
                  <a:lnTo>
                    <a:pt x="132" y="23"/>
                  </a:lnTo>
                  <a:lnTo>
                    <a:pt x="125" y="14"/>
                  </a:lnTo>
                  <a:lnTo>
                    <a:pt x="119" y="8"/>
                  </a:lnTo>
                  <a:lnTo>
                    <a:pt x="113" y="2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5"/>
            <p:cNvSpPr/>
            <p:nvPr/>
          </p:nvSpPr>
          <p:spPr>
            <a:xfrm>
              <a:off x="5603760" y="4416120"/>
              <a:ext cx="18720" cy="266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8" h="68">
                  <a:moveTo>
                    <a:pt x="12" y="0"/>
                  </a:moveTo>
                  <a:lnTo>
                    <a:pt x="0" y="60"/>
                  </a:lnTo>
                  <a:lnTo>
                    <a:pt x="48" y="68"/>
                  </a:lnTo>
                  <a:lnTo>
                    <a:pt x="35" y="2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6"/>
            <p:cNvSpPr/>
            <p:nvPr/>
          </p:nvSpPr>
          <p:spPr>
            <a:xfrm>
              <a:off x="5585040" y="4443840"/>
              <a:ext cx="16200" cy="165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2" h="42">
                  <a:moveTo>
                    <a:pt x="17" y="0"/>
                  </a:moveTo>
                  <a:lnTo>
                    <a:pt x="0" y="42"/>
                  </a:lnTo>
                  <a:lnTo>
                    <a:pt x="42" y="40"/>
                  </a:lnTo>
                  <a:lnTo>
                    <a:pt x="42" y="2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7"/>
            <p:cNvSpPr/>
            <p:nvPr/>
          </p:nvSpPr>
          <p:spPr>
            <a:xfrm>
              <a:off x="5620320" y="4442760"/>
              <a:ext cx="24120" cy="140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2" h="36">
                  <a:moveTo>
                    <a:pt x="50" y="0"/>
                  </a:moveTo>
                  <a:lnTo>
                    <a:pt x="0" y="27"/>
                  </a:lnTo>
                  <a:lnTo>
                    <a:pt x="23" y="36"/>
                  </a:lnTo>
                  <a:lnTo>
                    <a:pt x="62" y="17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8"/>
            <p:cNvSpPr/>
            <p:nvPr/>
          </p:nvSpPr>
          <p:spPr>
            <a:xfrm>
              <a:off x="5038920" y="4403880"/>
              <a:ext cx="385560" cy="6732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81" h="172">
                  <a:moveTo>
                    <a:pt x="922" y="0"/>
                  </a:moveTo>
                  <a:lnTo>
                    <a:pt x="902" y="10"/>
                  </a:lnTo>
                  <a:lnTo>
                    <a:pt x="877" y="18"/>
                  </a:lnTo>
                  <a:lnTo>
                    <a:pt x="860" y="25"/>
                  </a:lnTo>
                  <a:lnTo>
                    <a:pt x="841" y="31"/>
                  </a:lnTo>
                  <a:lnTo>
                    <a:pt x="820" y="37"/>
                  </a:lnTo>
                  <a:lnTo>
                    <a:pt x="797" y="41"/>
                  </a:lnTo>
                  <a:lnTo>
                    <a:pt x="745" y="52"/>
                  </a:lnTo>
                  <a:lnTo>
                    <a:pt x="687" y="58"/>
                  </a:lnTo>
                  <a:lnTo>
                    <a:pt x="620" y="62"/>
                  </a:lnTo>
                  <a:lnTo>
                    <a:pt x="503" y="62"/>
                  </a:lnTo>
                  <a:lnTo>
                    <a:pt x="424" y="56"/>
                  </a:lnTo>
                  <a:lnTo>
                    <a:pt x="367" y="47"/>
                  </a:lnTo>
                  <a:lnTo>
                    <a:pt x="361" y="52"/>
                  </a:lnTo>
                  <a:lnTo>
                    <a:pt x="346" y="62"/>
                  </a:lnTo>
                  <a:lnTo>
                    <a:pt x="338" y="68"/>
                  </a:lnTo>
                  <a:lnTo>
                    <a:pt x="326" y="74"/>
                  </a:lnTo>
                  <a:lnTo>
                    <a:pt x="313" y="83"/>
                  </a:lnTo>
                  <a:lnTo>
                    <a:pt x="298" y="89"/>
                  </a:lnTo>
                  <a:lnTo>
                    <a:pt x="284" y="97"/>
                  </a:lnTo>
                  <a:lnTo>
                    <a:pt x="267" y="106"/>
                  </a:lnTo>
                  <a:lnTo>
                    <a:pt x="250" y="112"/>
                  </a:lnTo>
                  <a:lnTo>
                    <a:pt x="234" y="120"/>
                  </a:lnTo>
                  <a:lnTo>
                    <a:pt x="215" y="126"/>
                  </a:lnTo>
                  <a:lnTo>
                    <a:pt x="198" y="131"/>
                  </a:lnTo>
                  <a:lnTo>
                    <a:pt x="165" y="135"/>
                  </a:lnTo>
                  <a:lnTo>
                    <a:pt x="48" y="143"/>
                  </a:lnTo>
                  <a:lnTo>
                    <a:pt x="0" y="147"/>
                  </a:lnTo>
                  <a:lnTo>
                    <a:pt x="4" y="164"/>
                  </a:lnTo>
                  <a:lnTo>
                    <a:pt x="31" y="166"/>
                  </a:lnTo>
                  <a:lnTo>
                    <a:pt x="102" y="168"/>
                  </a:lnTo>
                  <a:lnTo>
                    <a:pt x="190" y="168"/>
                  </a:lnTo>
                  <a:lnTo>
                    <a:pt x="284" y="155"/>
                  </a:lnTo>
                  <a:lnTo>
                    <a:pt x="326" y="145"/>
                  </a:lnTo>
                  <a:lnTo>
                    <a:pt x="357" y="137"/>
                  </a:lnTo>
                  <a:lnTo>
                    <a:pt x="399" y="122"/>
                  </a:lnTo>
                  <a:lnTo>
                    <a:pt x="424" y="110"/>
                  </a:lnTo>
                  <a:lnTo>
                    <a:pt x="632" y="110"/>
                  </a:lnTo>
                  <a:lnTo>
                    <a:pt x="480" y="158"/>
                  </a:lnTo>
                  <a:lnTo>
                    <a:pt x="490" y="162"/>
                  </a:lnTo>
                  <a:lnTo>
                    <a:pt x="522" y="168"/>
                  </a:lnTo>
                  <a:lnTo>
                    <a:pt x="568" y="172"/>
                  </a:lnTo>
                  <a:lnTo>
                    <a:pt x="626" y="172"/>
                  </a:lnTo>
                  <a:lnTo>
                    <a:pt x="666" y="164"/>
                  </a:lnTo>
                  <a:lnTo>
                    <a:pt x="691" y="158"/>
                  </a:lnTo>
                  <a:lnTo>
                    <a:pt x="718" y="149"/>
                  </a:lnTo>
                  <a:lnTo>
                    <a:pt x="745" y="139"/>
                  </a:lnTo>
                  <a:lnTo>
                    <a:pt x="776" y="126"/>
                  </a:lnTo>
                  <a:lnTo>
                    <a:pt x="806" y="114"/>
                  </a:lnTo>
                  <a:lnTo>
                    <a:pt x="820" y="108"/>
                  </a:lnTo>
                  <a:lnTo>
                    <a:pt x="835" y="104"/>
                  </a:lnTo>
                  <a:lnTo>
                    <a:pt x="849" y="95"/>
                  </a:lnTo>
                  <a:lnTo>
                    <a:pt x="864" y="89"/>
                  </a:lnTo>
                  <a:lnTo>
                    <a:pt x="891" y="79"/>
                  </a:lnTo>
                  <a:lnTo>
                    <a:pt x="916" y="68"/>
                  </a:lnTo>
                  <a:lnTo>
                    <a:pt x="937" y="58"/>
                  </a:lnTo>
                  <a:lnTo>
                    <a:pt x="956" y="49"/>
                  </a:lnTo>
                  <a:lnTo>
                    <a:pt x="968" y="43"/>
                  </a:lnTo>
                  <a:lnTo>
                    <a:pt x="981" y="37"/>
                  </a:lnTo>
                  <a:lnTo>
                    <a:pt x="922" y="0"/>
                  </a:lnTo>
                  <a:lnTo>
                    <a:pt x="922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9"/>
            <p:cNvSpPr/>
            <p:nvPr/>
          </p:nvSpPr>
          <p:spPr>
            <a:xfrm>
              <a:off x="5257440" y="4441320"/>
              <a:ext cx="214920" cy="6336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47" h="162">
                  <a:moveTo>
                    <a:pt x="409" y="0"/>
                  </a:moveTo>
                  <a:lnTo>
                    <a:pt x="401" y="4"/>
                  </a:lnTo>
                  <a:lnTo>
                    <a:pt x="380" y="13"/>
                  </a:lnTo>
                  <a:lnTo>
                    <a:pt x="365" y="19"/>
                  </a:lnTo>
                  <a:lnTo>
                    <a:pt x="351" y="25"/>
                  </a:lnTo>
                  <a:lnTo>
                    <a:pt x="332" y="33"/>
                  </a:lnTo>
                  <a:lnTo>
                    <a:pt x="313" y="42"/>
                  </a:lnTo>
                  <a:lnTo>
                    <a:pt x="294" y="50"/>
                  </a:lnTo>
                  <a:lnTo>
                    <a:pt x="276" y="58"/>
                  </a:lnTo>
                  <a:lnTo>
                    <a:pt x="255" y="67"/>
                  </a:lnTo>
                  <a:lnTo>
                    <a:pt x="236" y="75"/>
                  </a:lnTo>
                  <a:lnTo>
                    <a:pt x="219" y="83"/>
                  </a:lnTo>
                  <a:lnTo>
                    <a:pt x="203" y="90"/>
                  </a:lnTo>
                  <a:lnTo>
                    <a:pt x="178" y="102"/>
                  </a:lnTo>
                  <a:lnTo>
                    <a:pt x="155" y="112"/>
                  </a:lnTo>
                  <a:lnTo>
                    <a:pt x="127" y="119"/>
                  </a:lnTo>
                  <a:lnTo>
                    <a:pt x="69" y="127"/>
                  </a:lnTo>
                  <a:lnTo>
                    <a:pt x="0" y="131"/>
                  </a:lnTo>
                  <a:lnTo>
                    <a:pt x="25" y="137"/>
                  </a:lnTo>
                  <a:lnTo>
                    <a:pt x="52" y="144"/>
                  </a:lnTo>
                  <a:lnTo>
                    <a:pt x="90" y="152"/>
                  </a:lnTo>
                  <a:lnTo>
                    <a:pt x="136" y="158"/>
                  </a:lnTo>
                  <a:lnTo>
                    <a:pt x="186" y="162"/>
                  </a:lnTo>
                  <a:lnTo>
                    <a:pt x="303" y="158"/>
                  </a:lnTo>
                  <a:lnTo>
                    <a:pt x="359" y="150"/>
                  </a:lnTo>
                  <a:lnTo>
                    <a:pt x="409" y="142"/>
                  </a:lnTo>
                  <a:lnTo>
                    <a:pt x="451" y="131"/>
                  </a:lnTo>
                  <a:lnTo>
                    <a:pt x="486" y="121"/>
                  </a:lnTo>
                  <a:lnTo>
                    <a:pt x="514" y="110"/>
                  </a:lnTo>
                  <a:lnTo>
                    <a:pt x="532" y="104"/>
                  </a:lnTo>
                  <a:lnTo>
                    <a:pt x="547" y="96"/>
                  </a:lnTo>
                  <a:lnTo>
                    <a:pt x="536" y="79"/>
                  </a:lnTo>
                  <a:lnTo>
                    <a:pt x="499" y="90"/>
                  </a:lnTo>
                  <a:lnTo>
                    <a:pt x="461" y="98"/>
                  </a:lnTo>
                  <a:lnTo>
                    <a:pt x="415" y="108"/>
                  </a:lnTo>
                  <a:lnTo>
                    <a:pt x="370" y="119"/>
                  </a:lnTo>
                  <a:lnTo>
                    <a:pt x="330" y="127"/>
                  </a:lnTo>
                  <a:lnTo>
                    <a:pt x="296" y="131"/>
                  </a:lnTo>
                  <a:lnTo>
                    <a:pt x="280" y="131"/>
                  </a:lnTo>
                  <a:lnTo>
                    <a:pt x="276" y="119"/>
                  </a:lnTo>
                  <a:lnTo>
                    <a:pt x="280" y="112"/>
                  </a:lnTo>
                  <a:lnTo>
                    <a:pt x="286" y="104"/>
                  </a:lnTo>
                  <a:lnTo>
                    <a:pt x="294" y="98"/>
                  </a:lnTo>
                  <a:lnTo>
                    <a:pt x="303" y="92"/>
                  </a:lnTo>
                  <a:lnTo>
                    <a:pt x="311" y="85"/>
                  </a:lnTo>
                  <a:lnTo>
                    <a:pt x="426" y="36"/>
                  </a:lnTo>
                  <a:lnTo>
                    <a:pt x="409" y="0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0"/>
            <p:cNvSpPr/>
            <p:nvPr/>
          </p:nvSpPr>
          <p:spPr>
            <a:xfrm>
              <a:off x="5419080" y="4459680"/>
              <a:ext cx="34560" cy="97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8" h="25">
                  <a:moveTo>
                    <a:pt x="67" y="0"/>
                  </a:moveTo>
                  <a:lnTo>
                    <a:pt x="0" y="23"/>
                  </a:lnTo>
                  <a:lnTo>
                    <a:pt x="84" y="25"/>
                  </a:lnTo>
                  <a:lnTo>
                    <a:pt x="88" y="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1"/>
            <p:cNvSpPr/>
            <p:nvPr/>
          </p:nvSpPr>
          <p:spPr>
            <a:xfrm>
              <a:off x="4822200" y="4339800"/>
              <a:ext cx="234720" cy="662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97" h="169">
                  <a:moveTo>
                    <a:pt x="580" y="61"/>
                  </a:moveTo>
                  <a:lnTo>
                    <a:pt x="438" y="0"/>
                  </a:lnTo>
                  <a:lnTo>
                    <a:pt x="434" y="3"/>
                  </a:lnTo>
                  <a:lnTo>
                    <a:pt x="424" y="11"/>
                  </a:lnTo>
                  <a:lnTo>
                    <a:pt x="415" y="17"/>
                  </a:lnTo>
                  <a:lnTo>
                    <a:pt x="407" y="23"/>
                  </a:lnTo>
                  <a:lnTo>
                    <a:pt x="394" y="30"/>
                  </a:lnTo>
                  <a:lnTo>
                    <a:pt x="382" y="36"/>
                  </a:lnTo>
                  <a:lnTo>
                    <a:pt x="369" y="44"/>
                  </a:lnTo>
                  <a:lnTo>
                    <a:pt x="355" y="52"/>
                  </a:lnTo>
                  <a:lnTo>
                    <a:pt x="338" y="59"/>
                  </a:lnTo>
                  <a:lnTo>
                    <a:pt x="321" y="67"/>
                  </a:lnTo>
                  <a:lnTo>
                    <a:pt x="305" y="73"/>
                  </a:lnTo>
                  <a:lnTo>
                    <a:pt x="284" y="79"/>
                  </a:lnTo>
                  <a:lnTo>
                    <a:pt x="244" y="88"/>
                  </a:lnTo>
                  <a:lnTo>
                    <a:pt x="202" y="94"/>
                  </a:lnTo>
                  <a:lnTo>
                    <a:pt x="161" y="96"/>
                  </a:lnTo>
                  <a:lnTo>
                    <a:pt x="81" y="90"/>
                  </a:lnTo>
                  <a:lnTo>
                    <a:pt x="23" y="82"/>
                  </a:lnTo>
                  <a:lnTo>
                    <a:pt x="0" y="77"/>
                  </a:lnTo>
                  <a:lnTo>
                    <a:pt x="15" y="113"/>
                  </a:lnTo>
                  <a:lnTo>
                    <a:pt x="48" y="117"/>
                  </a:lnTo>
                  <a:lnTo>
                    <a:pt x="125" y="125"/>
                  </a:lnTo>
                  <a:lnTo>
                    <a:pt x="217" y="131"/>
                  </a:lnTo>
                  <a:lnTo>
                    <a:pt x="290" y="129"/>
                  </a:lnTo>
                  <a:lnTo>
                    <a:pt x="340" y="111"/>
                  </a:lnTo>
                  <a:lnTo>
                    <a:pt x="361" y="98"/>
                  </a:lnTo>
                  <a:lnTo>
                    <a:pt x="371" y="92"/>
                  </a:lnTo>
                  <a:lnTo>
                    <a:pt x="380" y="84"/>
                  </a:lnTo>
                  <a:lnTo>
                    <a:pt x="386" y="77"/>
                  </a:lnTo>
                  <a:lnTo>
                    <a:pt x="394" y="71"/>
                  </a:lnTo>
                  <a:lnTo>
                    <a:pt x="405" y="59"/>
                  </a:lnTo>
                  <a:lnTo>
                    <a:pt x="415" y="48"/>
                  </a:lnTo>
                  <a:lnTo>
                    <a:pt x="536" y="96"/>
                  </a:lnTo>
                  <a:lnTo>
                    <a:pt x="467" y="129"/>
                  </a:lnTo>
                  <a:lnTo>
                    <a:pt x="580" y="169"/>
                  </a:lnTo>
                  <a:lnTo>
                    <a:pt x="547" y="121"/>
                  </a:lnTo>
                  <a:lnTo>
                    <a:pt x="597" y="113"/>
                  </a:lnTo>
                  <a:lnTo>
                    <a:pt x="580" y="61"/>
                  </a:lnTo>
                  <a:lnTo>
                    <a:pt x="580" y="61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2"/>
            <p:cNvSpPr/>
            <p:nvPr/>
          </p:nvSpPr>
          <p:spPr>
            <a:xfrm>
              <a:off x="4818960" y="4392360"/>
              <a:ext cx="226440" cy="4752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76" h="121">
                  <a:moveTo>
                    <a:pt x="576" y="79"/>
                  </a:moveTo>
                  <a:lnTo>
                    <a:pt x="415" y="0"/>
                  </a:lnTo>
                  <a:lnTo>
                    <a:pt x="394" y="9"/>
                  </a:lnTo>
                  <a:lnTo>
                    <a:pt x="371" y="17"/>
                  </a:lnTo>
                  <a:lnTo>
                    <a:pt x="342" y="28"/>
                  </a:lnTo>
                  <a:lnTo>
                    <a:pt x="308" y="40"/>
                  </a:lnTo>
                  <a:lnTo>
                    <a:pt x="271" y="50"/>
                  </a:lnTo>
                  <a:lnTo>
                    <a:pt x="235" y="61"/>
                  </a:lnTo>
                  <a:lnTo>
                    <a:pt x="200" y="69"/>
                  </a:lnTo>
                  <a:lnTo>
                    <a:pt x="131" y="71"/>
                  </a:lnTo>
                  <a:lnTo>
                    <a:pt x="66" y="61"/>
                  </a:lnTo>
                  <a:lnTo>
                    <a:pt x="39" y="52"/>
                  </a:lnTo>
                  <a:lnTo>
                    <a:pt x="18" y="46"/>
                  </a:lnTo>
                  <a:lnTo>
                    <a:pt x="0" y="40"/>
                  </a:lnTo>
                  <a:lnTo>
                    <a:pt x="0" y="79"/>
                  </a:lnTo>
                  <a:lnTo>
                    <a:pt x="18" y="88"/>
                  </a:lnTo>
                  <a:lnTo>
                    <a:pt x="41" y="96"/>
                  </a:lnTo>
                  <a:lnTo>
                    <a:pt x="68" y="102"/>
                  </a:lnTo>
                  <a:lnTo>
                    <a:pt x="100" y="111"/>
                  </a:lnTo>
                  <a:lnTo>
                    <a:pt x="135" y="115"/>
                  </a:lnTo>
                  <a:lnTo>
                    <a:pt x="204" y="109"/>
                  </a:lnTo>
                  <a:lnTo>
                    <a:pt x="235" y="98"/>
                  </a:lnTo>
                  <a:lnTo>
                    <a:pt x="263" y="90"/>
                  </a:lnTo>
                  <a:lnTo>
                    <a:pt x="286" y="79"/>
                  </a:lnTo>
                  <a:lnTo>
                    <a:pt x="306" y="71"/>
                  </a:lnTo>
                  <a:lnTo>
                    <a:pt x="325" y="65"/>
                  </a:lnTo>
                  <a:lnTo>
                    <a:pt x="340" y="61"/>
                  </a:lnTo>
                  <a:lnTo>
                    <a:pt x="367" y="65"/>
                  </a:lnTo>
                  <a:lnTo>
                    <a:pt x="375" y="71"/>
                  </a:lnTo>
                  <a:lnTo>
                    <a:pt x="377" y="77"/>
                  </a:lnTo>
                  <a:lnTo>
                    <a:pt x="369" y="94"/>
                  </a:lnTo>
                  <a:lnTo>
                    <a:pt x="363" y="117"/>
                  </a:lnTo>
                  <a:lnTo>
                    <a:pt x="392" y="121"/>
                  </a:lnTo>
                  <a:lnTo>
                    <a:pt x="440" y="121"/>
                  </a:lnTo>
                  <a:lnTo>
                    <a:pt x="507" y="121"/>
                  </a:lnTo>
                  <a:lnTo>
                    <a:pt x="484" y="71"/>
                  </a:lnTo>
                  <a:lnTo>
                    <a:pt x="571" y="100"/>
                  </a:lnTo>
                  <a:lnTo>
                    <a:pt x="576" y="79"/>
                  </a:lnTo>
                  <a:lnTo>
                    <a:pt x="576" y="79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3"/>
            <p:cNvSpPr/>
            <p:nvPr/>
          </p:nvSpPr>
          <p:spPr>
            <a:xfrm>
              <a:off x="4816440" y="4448880"/>
              <a:ext cx="191520" cy="446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87" h="114">
                  <a:moveTo>
                    <a:pt x="15" y="4"/>
                  </a:moveTo>
                  <a:lnTo>
                    <a:pt x="38" y="12"/>
                  </a:lnTo>
                  <a:lnTo>
                    <a:pt x="63" y="23"/>
                  </a:lnTo>
                  <a:lnTo>
                    <a:pt x="96" y="31"/>
                  </a:lnTo>
                  <a:lnTo>
                    <a:pt x="130" y="37"/>
                  </a:lnTo>
                  <a:lnTo>
                    <a:pt x="165" y="41"/>
                  </a:lnTo>
                  <a:lnTo>
                    <a:pt x="199" y="41"/>
                  </a:lnTo>
                  <a:lnTo>
                    <a:pt x="228" y="33"/>
                  </a:lnTo>
                  <a:lnTo>
                    <a:pt x="253" y="23"/>
                  </a:lnTo>
                  <a:lnTo>
                    <a:pt x="272" y="14"/>
                  </a:lnTo>
                  <a:lnTo>
                    <a:pt x="303" y="4"/>
                  </a:lnTo>
                  <a:lnTo>
                    <a:pt x="328" y="0"/>
                  </a:lnTo>
                  <a:lnTo>
                    <a:pt x="349" y="56"/>
                  </a:lnTo>
                  <a:lnTo>
                    <a:pt x="457" y="25"/>
                  </a:lnTo>
                  <a:lnTo>
                    <a:pt x="487" y="60"/>
                  </a:lnTo>
                  <a:lnTo>
                    <a:pt x="476" y="68"/>
                  </a:lnTo>
                  <a:lnTo>
                    <a:pt x="466" y="77"/>
                  </a:lnTo>
                  <a:lnTo>
                    <a:pt x="451" y="85"/>
                  </a:lnTo>
                  <a:lnTo>
                    <a:pt x="432" y="96"/>
                  </a:lnTo>
                  <a:lnTo>
                    <a:pt x="412" y="104"/>
                  </a:lnTo>
                  <a:lnTo>
                    <a:pt x="386" y="110"/>
                  </a:lnTo>
                  <a:lnTo>
                    <a:pt x="361" y="114"/>
                  </a:lnTo>
                  <a:lnTo>
                    <a:pt x="315" y="110"/>
                  </a:lnTo>
                  <a:lnTo>
                    <a:pt x="284" y="98"/>
                  </a:lnTo>
                  <a:lnTo>
                    <a:pt x="265" y="87"/>
                  </a:lnTo>
                  <a:lnTo>
                    <a:pt x="259" y="81"/>
                  </a:lnTo>
                  <a:lnTo>
                    <a:pt x="134" y="81"/>
                  </a:lnTo>
                  <a:lnTo>
                    <a:pt x="46" y="77"/>
                  </a:lnTo>
                  <a:lnTo>
                    <a:pt x="15" y="71"/>
                  </a:lnTo>
                  <a:lnTo>
                    <a:pt x="2" y="60"/>
                  </a:lnTo>
                  <a:lnTo>
                    <a:pt x="0" y="39"/>
                  </a:lnTo>
                  <a:lnTo>
                    <a:pt x="5" y="23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4"/>
            <p:cNvSpPr/>
            <p:nvPr/>
          </p:nvSpPr>
          <p:spPr>
            <a:xfrm>
              <a:off x="4999680" y="4477680"/>
              <a:ext cx="68040" cy="21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1600"/>
                <a:gd name="textAreaBottom" fmla="*/ 21600 h 21600"/>
              </a:gdLst>
              <a:ahLst/>
              <a:rect l="textAreaLeft" t="textAreaTop" r="textAreaRight" b="textAreaBottom"/>
              <a:pathLst>
                <a:path w="173" h="56">
                  <a:moveTo>
                    <a:pt x="117" y="0"/>
                  </a:moveTo>
                  <a:lnTo>
                    <a:pt x="0" y="56"/>
                  </a:lnTo>
                  <a:lnTo>
                    <a:pt x="142" y="33"/>
                  </a:lnTo>
                  <a:lnTo>
                    <a:pt x="173" y="8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5"/>
            <p:cNvSpPr/>
            <p:nvPr/>
          </p:nvSpPr>
          <p:spPr>
            <a:xfrm>
              <a:off x="4726440" y="4363920"/>
              <a:ext cx="74520" cy="70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90" h="181">
                  <a:moveTo>
                    <a:pt x="140" y="21"/>
                  </a:moveTo>
                  <a:lnTo>
                    <a:pt x="142" y="14"/>
                  </a:lnTo>
                  <a:lnTo>
                    <a:pt x="152" y="4"/>
                  </a:lnTo>
                  <a:lnTo>
                    <a:pt x="167" y="0"/>
                  </a:lnTo>
                  <a:lnTo>
                    <a:pt x="183" y="12"/>
                  </a:lnTo>
                  <a:lnTo>
                    <a:pt x="190" y="39"/>
                  </a:lnTo>
                  <a:lnTo>
                    <a:pt x="183" y="70"/>
                  </a:lnTo>
                  <a:lnTo>
                    <a:pt x="175" y="93"/>
                  </a:lnTo>
                  <a:lnTo>
                    <a:pt x="171" y="104"/>
                  </a:lnTo>
                  <a:lnTo>
                    <a:pt x="154" y="68"/>
                  </a:lnTo>
                  <a:lnTo>
                    <a:pt x="98" y="75"/>
                  </a:lnTo>
                  <a:lnTo>
                    <a:pt x="58" y="83"/>
                  </a:lnTo>
                  <a:lnTo>
                    <a:pt x="35" y="97"/>
                  </a:lnTo>
                  <a:lnTo>
                    <a:pt x="42" y="116"/>
                  </a:lnTo>
                  <a:lnTo>
                    <a:pt x="50" y="127"/>
                  </a:lnTo>
                  <a:lnTo>
                    <a:pt x="62" y="135"/>
                  </a:lnTo>
                  <a:lnTo>
                    <a:pt x="75" y="143"/>
                  </a:lnTo>
                  <a:lnTo>
                    <a:pt x="87" y="149"/>
                  </a:lnTo>
                  <a:lnTo>
                    <a:pt x="106" y="151"/>
                  </a:lnTo>
                  <a:lnTo>
                    <a:pt x="108" y="143"/>
                  </a:lnTo>
                  <a:lnTo>
                    <a:pt x="102" y="139"/>
                  </a:lnTo>
                  <a:lnTo>
                    <a:pt x="96" y="133"/>
                  </a:lnTo>
                  <a:lnTo>
                    <a:pt x="90" y="127"/>
                  </a:lnTo>
                  <a:lnTo>
                    <a:pt x="81" y="120"/>
                  </a:lnTo>
                  <a:lnTo>
                    <a:pt x="75" y="116"/>
                  </a:lnTo>
                  <a:lnTo>
                    <a:pt x="79" y="112"/>
                  </a:lnTo>
                  <a:lnTo>
                    <a:pt x="92" y="104"/>
                  </a:lnTo>
                  <a:lnTo>
                    <a:pt x="112" y="97"/>
                  </a:lnTo>
                  <a:lnTo>
                    <a:pt x="138" y="104"/>
                  </a:lnTo>
                  <a:lnTo>
                    <a:pt x="158" y="122"/>
                  </a:lnTo>
                  <a:lnTo>
                    <a:pt x="169" y="143"/>
                  </a:lnTo>
                  <a:lnTo>
                    <a:pt x="167" y="166"/>
                  </a:lnTo>
                  <a:lnTo>
                    <a:pt x="163" y="172"/>
                  </a:lnTo>
                  <a:lnTo>
                    <a:pt x="154" y="178"/>
                  </a:lnTo>
                  <a:lnTo>
                    <a:pt x="123" y="181"/>
                  </a:lnTo>
                  <a:lnTo>
                    <a:pt x="79" y="176"/>
                  </a:lnTo>
                  <a:lnTo>
                    <a:pt x="35" y="162"/>
                  </a:lnTo>
                  <a:lnTo>
                    <a:pt x="8" y="143"/>
                  </a:lnTo>
                  <a:lnTo>
                    <a:pt x="0" y="116"/>
                  </a:lnTo>
                  <a:lnTo>
                    <a:pt x="2" y="87"/>
                  </a:lnTo>
                  <a:lnTo>
                    <a:pt x="8" y="75"/>
                  </a:lnTo>
                  <a:lnTo>
                    <a:pt x="16" y="62"/>
                  </a:lnTo>
                  <a:lnTo>
                    <a:pt x="21" y="56"/>
                  </a:lnTo>
                  <a:lnTo>
                    <a:pt x="29" y="50"/>
                  </a:lnTo>
                  <a:lnTo>
                    <a:pt x="44" y="41"/>
                  </a:lnTo>
                  <a:lnTo>
                    <a:pt x="60" y="35"/>
                  </a:lnTo>
                  <a:lnTo>
                    <a:pt x="77" y="33"/>
                  </a:lnTo>
                  <a:lnTo>
                    <a:pt x="102" y="33"/>
                  </a:lnTo>
                  <a:lnTo>
                    <a:pt x="127" y="39"/>
                  </a:lnTo>
                  <a:lnTo>
                    <a:pt x="140" y="21"/>
                  </a:lnTo>
                  <a:lnTo>
                    <a:pt x="14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6"/>
            <p:cNvSpPr/>
            <p:nvPr/>
          </p:nvSpPr>
          <p:spPr>
            <a:xfrm>
              <a:off x="4731120" y="4416840"/>
              <a:ext cx="81000" cy="50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07" h="129">
                  <a:moveTo>
                    <a:pt x="0" y="64"/>
                  </a:moveTo>
                  <a:lnTo>
                    <a:pt x="17" y="71"/>
                  </a:lnTo>
                  <a:lnTo>
                    <a:pt x="36" y="77"/>
                  </a:lnTo>
                  <a:lnTo>
                    <a:pt x="59" y="83"/>
                  </a:lnTo>
                  <a:lnTo>
                    <a:pt x="82" y="89"/>
                  </a:lnTo>
                  <a:lnTo>
                    <a:pt x="105" y="91"/>
                  </a:lnTo>
                  <a:lnTo>
                    <a:pt x="140" y="85"/>
                  </a:lnTo>
                  <a:lnTo>
                    <a:pt x="151" y="75"/>
                  </a:lnTo>
                  <a:lnTo>
                    <a:pt x="161" y="62"/>
                  </a:lnTo>
                  <a:lnTo>
                    <a:pt x="171" y="33"/>
                  </a:lnTo>
                  <a:lnTo>
                    <a:pt x="178" y="0"/>
                  </a:lnTo>
                  <a:lnTo>
                    <a:pt x="201" y="8"/>
                  </a:lnTo>
                  <a:lnTo>
                    <a:pt x="207" y="39"/>
                  </a:lnTo>
                  <a:lnTo>
                    <a:pt x="203" y="68"/>
                  </a:lnTo>
                  <a:lnTo>
                    <a:pt x="196" y="83"/>
                  </a:lnTo>
                  <a:lnTo>
                    <a:pt x="192" y="91"/>
                  </a:lnTo>
                  <a:lnTo>
                    <a:pt x="186" y="98"/>
                  </a:lnTo>
                  <a:lnTo>
                    <a:pt x="178" y="104"/>
                  </a:lnTo>
                  <a:lnTo>
                    <a:pt x="171" y="110"/>
                  </a:lnTo>
                  <a:lnTo>
                    <a:pt x="157" y="118"/>
                  </a:lnTo>
                  <a:lnTo>
                    <a:pt x="144" y="125"/>
                  </a:lnTo>
                  <a:lnTo>
                    <a:pt x="130" y="129"/>
                  </a:lnTo>
                  <a:lnTo>
                    <a:pt x="100" y="129"/>
                  </a:lnTo>
                  <a:lnTo>
                    <a:pt x="67" y="118"/>
                  </a:lnTo>
                  <a:lnTo>
                    <a:pt x="52" y="110"/>
                  </a:lnTo>
                  <a:lnTo>
                    <a:pt x="38" y="102"/>
                  </a:lnTo>
                  <a:lnTo>
                    <a:pt x="25" y="91"/>
                  </a:lnTo>
                  <a:lnTo>
                    <a:pt x="17" y="83"/>
                  </a:lnTo>
                  <a:lnTo>
                    <a:pt x="9" y="75"/>
                  </a:lnTo>
                  <a:lnTo>
                    <a:pt x="4" y="6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7"/>
            <p:cNvSpPr/>
            <p:nvPr/>
          </p:nvSpPr>
          <p:spPr>
            <a:xfrm>
              <a:off x="4731840" y="4469400"/>
              <a:ext cx="74520" cy="248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90" h="64">
                  <a:moveTo>
                    <a:pt x="0" y="4"/>
                  </a:moveTo>
                  <a:lnTo>
                    <a:pt x="17" y="10"/>
                  </a:lnTo>
                  <a:lnTo>
                    <a:pt x="36" y="16"/>
                  </a:lnTo>
                  <a:lnTo>
                    <a:pt x="59" y="23"/>
                  </a:lnTo>
                  <a:lnTo>
                    <a:pt x="84" y="27"/>
                  </a:lnTo>
                  <a:lnTo>
                    <a:pt x="109" y="31"/>
                  </a:lnTo>
                  <a:lnTo>
                    <a:pt x="146" y="29"/>
                  </a:lnTo>
                  <a:lnTo>
                    <a:pt x="182" y="10"/>
                  </a:lnTo>
                  <a:lnTo>
                    <a:pt x="188" y="0"/>
                  </a:lnTo>
                  <a:lnTo>
                    <a:pt x="190" y="33"/>
                  </a:lnTo>
                  <a:lnTo>
                    <a:pt x="186" y="41"/>
                  </a:lnTo>
                  <a:lnTo>
                    <a:pt x="180" y="48"/>
                  </a:lnTo>
                  <a:lnTo>
                    <a:pt x="172" y="52"/>
                  </a:lnTo>
                  <a:lnTo>
                    <a:pt x="161" y="58"/>
                  </a:lnTo>
                  <a:lnTo>
                    <a:pt x="151" y="62"/>
                  </a:lnTo>
                  <a:lnTo>
                    <a:pt x="124" y="64"/>
                  </a:lnTo>
                  <a:lnTo>
                    <a:pt x="86" y="56"/>
                  </a:lnTo>
                  <a:lnTo>
                    <a:pt x="65" y="46"/>
                  </a:lnTo>
                  <a:lnTo>
                    <a:pt x="46" y="35"/>
                  </a:lnTo>
                  <a:lnTo>
                    <a:pt x="28" y="25"/>
                  </a:lnTo>
                  <a:lnTo>
                    <a:pt x="13" y="1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8"/>
            <p:cNvSpPr/>
            <p:nvPr/>
          </p:nvSpPr>
          <p:spPr>
            <a:xfrm>
              <a:off x="4611600" y="4348080"/>
              <a:ext cx="147240" cy="633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75" h="162">
                  <a:moveTo>
                    <a:pt x="334" y="0"/>
                  </a:moveTo>
                  <a:lnTo>
                    <a:pt x="256" y="40"/>
                  </a:lnTo>
                  <a:lnTo>
                    <a:pt x="252" y="65"/>
                  </a:lnTo>
                  <a:lnTo>
                    <a:pt x="240" y="83"/>
                  </a:lnTo>
                  <a:lnTo>
                    <a:pt x="233" y="90"/>
                  </a:lnTo>
                  <a:lnTo>
                    <a:pt x="225" y="94"/>
                  </a:lnTo>
                  <a:lnTo>
                    <a:pt x="215" y="98"/>
                  </a:lnTo>
                  <a:lnTo>
                    <a:pt x="194" y="94"/>
                  </a:lnTo>
                  <a:lnTo>
                    <a:pt x="150" y="85"/>
                  </a:lnTo>
                  <a:lnTo>
                    <a:pt x="100" y="75"/>
                  </a:lnTo>
                  <a:lnTo>
                    <a:pt x="52" y="71"/>
                  </a:lnTo>
                  <a:lnTo>
                    <a:pt x="18" y="83"/>
                  </a:lnTo>
                  <a:lnTo>
                    <a:pt x="0" y="108"/>
                  </a:lnTo>
                  <a:lnTo>
                    <a:pt x="2" y="135"/>
                  </a:lnTo>
                  <a:lnTo>
                    <a:pt x="6" y="142"/>
                  </a:lnTo>
                  <a:lnTo>
                    <a:pt x="12" y="148"/>
                  </a:lnTo>
                  <a:lnTo>
                    <a:pt x="20" y="152"/>
                  </a:lnTo>
                  <a:lnTo>
                    <a:pt x="29" y="156"/>
                  </a:lnTo>
                  <a:lnTo>
                    <a:pt x="52" y="160"/>
                  </a:lnTo>
                  <a:lnTo>
                    <a:pt x="75" y="162"/>
                  </a:lnTo>
                  <a:lnTo>
                    <a:pt x="116" y="162"/>
                  </a:lnTo>
                  <a:lnTo>
                    <a:pt x="162" y="154"/>
                  </a:lnTo>
                  <a:lnTo>
                    <a:pt x="154" y="146"/>
                  </a:lnTo>
                  <a:lnTo>
                    <a:pt x="148" y="140"/>
                  </a:lnTo>
                  <a:lnTo>
                    <a:pt x="142" y="137"/>
                  </a:lnTo>
                  <a:lnTo>
                    <a:pt x="48" y="119"/>
                  </a:lnTo>
                  <a:lnTo>
                    <a:pt x="62" y="112"/>
                  </a:lnTo>
                  <a:lnTo>
                    <a:pt x="81" y="110"/>
                  </a:lnTo>
                  <a:lnTo>
                    <a:pt x="131" y="117"/>
                  </a:lnTo>
                  <a:lnTo>
                    <a:pt x="183" y="123"/>
                  </a:lnTo>
                  <a:lnTo>
                    <a:pt x="223" y="123"/>
                  </a:lnTo>
                  <a:lnTo>
                    <a:pt x="244" y="110"/>
                  </a:lnTo>
                  <a:lnTo>
                    <a:pt x="256" y="92"/>
                  </a:lnTo>
                  <a:lnTo>
                    <a:pt x="265" y="73"/>
                  </a:lnTo>
                  <a:lnTo>
                    <a:pt x="273" y="63"/>
                  </a:lnTo>
                  <a:lnTo>
                    <a:pt x="283" y="54"/>
                  </a:lnTo>
                  <a:lnTo>
                    <a:pt x="298" y="46"/>
                  </a:lnTo>
                  <a:lnTo>
                    <a:pt x="313" y="40"/>
                  </a:lnTo>
                  <a:lnTo>
                    <a:pt x="342" y="36"/>
                  </a:lnTo>
                  <a:lnTo>
                    <a:pt x="375" y="38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9"/>
            <p:cNvSpPr/>
            <p:nvPr/>
          </p:nvSpPr>
          <p:spPr>
            <a:xfrm>
              <a:off x="4585680" y="4400280"/>
              <a:ext cx="136800" cy="572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8" h="146">
                  <a:moveTo>
                    <a:pt x="319" y="46"/>
                  </a:moveTo>
                  <a:lnTo>
                    <a:pt x="323" y="73"/>
                  </a:lnTo>
                  <a:lnTo>
                    <a:pt x="319" y="83"/>
                  </a:lnTo>
                  <a:lnTo>
                    <a:pt x="313" y="88"/>
                  </a:lnTo>
                  <a:lnTo>
                    <a:pt x="307" y="94"/>
                  </a:lnTo>
                  <a:lnTo>
                    <a:pt x="296" y="98"/>
                  </a:lnTo>
                  <a:lnTo>
                    <a:pt x="286" y="102"/>
                  </a:lnTo>
                  <a:lnTo>
                    <a:pt x="255" y="110"/>
                  </a:lnTo>
                  <a:lnTo>
                    <a:pt x="215" y="110"/>
                  </a:lnTo>
                  <a:lnTo>
                    <a:pt x="177" y="102"/>
                  </a:lnTo>
                  <a:lnTo>
                    <a:pt x="142" y="90"/>
                  </a:lnTo>
                  <a:lnTo>
                    <a:pt x="123" y="81"/>
                  </a:lnTo>
                  <a:lnTo>
                    <a:pt x="108" y="73"/>
                  </a:lnTo>
                  <a:lnTo>
                    <a:pt x="92" y="63"/>
                  </a:lnTo>
                  <a:lnTo>
                    <a:pt x="79" y="54"/>
                  </a:lnTo>
                  <a:lnTo>
                    <a:pt x="67" y="44"/>
                  </a:lnTo>
                  <a:lnTo>
                    <a:pt x="56" y="36"/>
                  </a:lnTo>
                  <a:lnTo>
                    <a:pt x="48" y="27"/>
                  </a:lnTo>
                  <a:lnTo>
                    <a:pt x="40" y="19"/>
                  </a:lnTo>
                  <a:lnTo>
                    <a:pt x="33" y="9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7"/>
                  </a:lnTo>
                  <a:lnTo>
                    <a:pt x="0" y="17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9" y="48"/>
                  </a:lnTo>
                  <a:lnTo>
                    <a:pt x="31" y="63"/>
                  </a:lnTo>
                  <a:lnTo>
                    <a:pt x="40" y="69"/>
                  </a:lnTo>
                  <a:lnTo>
                    <a:pt x="50" y="77"/>
                  </a:lnTo>
                  <a:lnTo>
                    <a:pt x="60" y="85"/>
                  </a:lnTo>
                  <a:lnTo>
                    <a:pt x="73" y="92"/>
                  </a:lnTo>
                  <a:lnTo>
                    <a:pt x="85" y="100"/>
                  </a:lnTo>
                  <a:lnTo>
                    <a:pt x="100" y="106"/>
                  </a:lnTo>
                  <a:lnTo>
                    <a:pt x="115" y="115"/>
                  </a:lnTo>
                  <a:lnTo>
                    <a:pt x="131" y="119"/>
                  </a:lnTo>
                  <a:lnTo>
                    <a:pt x="163" y="129"/>
                  </a:lnTo>
                  <a:lnTo>
                    <a:pt x="192" y="137"/>
                  </a:lnTo>
                  <a:lnTo>
                    <a:pt x="217" y="144"/>
                  </a:lnTo>
                  <a:lnTo>
                    <a:pt x="238" y="146"/>
                  </a:lnTo>
                  <a:lnTo>
                    <a:pt x="273" y="146"/>
                  </a:lnTo>
                  <a:lnTo>
                    <a:pt x="298" y="135"/>
                  </a:lnTo>
                  <a:lnTo>
                    <a:pt x="309" y="127"/>
                  </a:lnTo>
                  <a:lnTo>
                    <a:pt x="317" y="117"/>
                  </a:lnTo>
                  <a:lnTo>
                    <a:pt x="334" y="94"/>
                  </a:lnTo>
                  <a:lnTo>
                    <a:pt x="348" y="67"/>
                  </a:lnTo>
                  <a:lnTo>
                    <a:pt x="319" y="46"/>
                  </a:lnTo>
                  <a:lnTo>
                    <a:pt x="319" y="46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0"/>
            <p:cNvSpPr/>
            <p:nvPr/>
          </p:nvSpPr>
          <p:spPr>
            <a:xfrm>
              <a:off x="4659840" y="4403160"/>
              <a:ext cx="43200" cy="31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0" h="81">
                  <a:moveTo>
                    <a:pt x="0" y="56"/>
                  </a:moveTo>
                  <a:lnTo>
                    <a:pt x="27" y="60"/>
                  </a:lnTo>
                  <a:lnTo>
                    <a:pt x="50" y="58"/>
                  </a:lnTo>
                  <a:lnTo>
                    <a:pt x="69" y="43"/>
                  </a:lnTo>
                  <a:lnTo>
                    <a:pt x="77" y="12"/>
                  </a:lnTo>
                  <a:lnTo>
                    <a:pt x="73" y="0"/>
                  </a:lnTo>
                  <a:lnTo>
                    <a:pt x="81" y="6"/>
                  </a:lnTo>
                  <a:lnTo>
                    <a:pt x="89" y="12"/>
                  </a:lnTo>
                  <a:lnTo>
                    <a:pt x="98" y="20"/>
                  </a:lnTo>
                  <a:lnTo>
                    <a:pt x="110" y="39"/>
                  </a:lnTo>
                  <a:lnTo>
                    <a:pt x="106" y="56"/>
                  </a:lnTo>
                  <a:lnTo>
                    <a:pt x="98" y="64"/>
                  </a:lnTo>
                  <a:lnTo>
                    <a:pt x="92" y="70"/>
                  </a:lnTo>
                  <a:lnTo>
                    <a:pt x="77" y="76"/>
                  </a:lnTo>
                  <a:lnTo>
                    <a:pt x="48" y="81"/>
                  </a:lnTo>
                  <a:lnTo>
                    <a:pt x="16" y="68"/>
                  </a:lnTo>
                  <a:lnTo>
                    <a:pt x="4" y="6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1"/>
            <p:cNvSpPr/>
            <p:nvPr/>
          </p:nvSpPr>
          <p:spPr>
            <a:xfrm>
              <a:off x="4580640" y="4438800"/>
              <a:ext cx="168840" cy="734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30" h="187">
                  <a:moveTo>
                    <a:pt x="0" y="0"/>
                  </a:moveTo>
                  <a:lnTo>
                    <a:pt x="7" y="2"/>
                  </a:lnTo>
                  <a:lnTo>
                    <a:pt x="19" y="12"/>
                  </a:lnTo>
                  <a:lnTo>
                    <a:pt x="30" y="19"/>
                  </a:lnTo>
                  <a:lnTo>
                    <a:pt x="42" y="25"/>
                  </a:lnTo>
                  <a:lnTo>
                    <a:pt x="55" y="33"/>
                  </a:lnTo>
                  <a:lnTo>
                    <a:pt x="69" y="42"/>
                  </a:lnTo>
                  <a:lnTo>
                    <a:pt x="86" y="50"/>
                  </a:lnTo>
                  <a:lnTo>
                    <a:pt x="103" y="56"/>
                  </a:lnTo>
                  <a:lnTo>
                    <a:pt x="121" y="64"/>
                  </a:lnTo>
                  <a:lnTo>
                    <a:pt x="140" y="71"/>
                  </a:lnTo>
                  <a:lnTo>
                    <a:pt x="159" y="77"/>
                  </a:lnTo>
                  <a:lnTo>
                    <a:pt x="178" y="81"/>
                  </a:lnTo>
                  <a:lnTo>
                    <a:pt x="215" y="85"/>
                  </a:lnTo>
                  <a:lnTo>
                    <a:pt x="278" y="83"/>
                  </a:lnTo>
                  <a:lnTo>
                    <a:pt x="316" y="73"/>
                  </a:lnTo>
                  <a:lnTo>
                    <a:pt x="332" y="62"/>
                  </a:lnTo>
                  <a:lnTo>
                    <a:pt x="336" y="58"/>
                  </a:lnTo>
                  <a:lnTo>
                    <a:pt x="341" y="104"/>
                  </a:lnTo>
                  <a:lnTo>
                    <a:pt x="336" y="110"/>
                  </a:lnTo>
                  <a:lnTo>
                    <a:pt x="326" y="116"/>
                  </a:lnTo>
                  <a:lnTo>
                    <a:pt x="313" y="123"/>
                  </a:lnTo>
                  <a:lnTo>
                    <a:pt x="297" y="127"/>
                  </a:lnTo>
                  <a:lnTo>
                    <a:pt x="249" y="131"/>
                  </a:lnTo>
                  <a:lnTo>
                    <a:pt x="186" y="125"/>
                  </a:lnTo>
                  <a:lnTo>
                    <a:pt x="126" y="106"/>
                  </a:lnTo>
                  <a:lnTo>
                    <a:pt x="103" y="98"/>
                  </a:lnTo>
                  <a:lnTo>
                    <a:pt x="86" y="87"/>
                  </a:lnTo>
                  <a:lnTo>
                    <a:pt x="73" y="77"/>
                  </a:lnTo>
                  <a:lnTo>
                    <a:pt x="63" y="71"/>
                  </a:lnTo>
                  <a:lnTo>
                    <a:pt x="57" y="64"/>
                  </a:lnTo>
                  <a:lnTo>
                    <a:pt x="63" y="77"/>
                  </a:lnTo>
                  <a:lnTo>
                    <a:pt x="73" y="93"/>
                  </a:lnTo>
                  <a:lnTo>
                    <a:pt x="80" y="102"/>
                  </a:lnTo>
                  <a:lnTo>
                    <a:pt x="88" y="110"/>
                  </a:lnTo>
                  <a:lnTo>
                    <a:pt x="96" y="118"/>
                  </a:lnTo>
                  <a:lnTo>
                    <a:pt x="107" y="127"/>
                  </a:lnTo>
                  <a:lnTo>
                    <a:pt x="119" y="135"/>
                  </a:lnTo>
                  <a:lnTo>
                    <a:pt x="132" y="143"/>
                  </a:lnTo>
                  <a:lnTo>
                    <a:pt x="146" y="150"/>
                  </a:lnTo>
                  <a:lnTo>
                    <a:pt x="163" y="156"/>
                  </a:lnTo>
                  <a:lnTo>
                    <a:pt x="203" y="162"/>
                  </a:lnTo>
                  <a:lnTo>
                    <a:pt x="278" y="158"/>
                  </a:lnTo>
                  <a:lnTo>
                    <a:pt x="336" y="141"/>
                  </a:lnTo>
                  <a:lnTo>
                    <a:pt x="359" y="131"/>
                  </a:lnTo>
                  <a:lnTo>
                    <a:pt x="374" y="123"/>
                  </a:lnTo>
                  <a:lnTo>
                    <a:pt x="389" y="114"/>
                  </a:lnTo>
                  <a:lnTo>
                    <a:pt x="430" y="145"/>
                  </a:lnTo>
                  <a:lnTo>
                    <a:pt x="401" y="154"/>
                  </a:lnTo>
                  <a:lnTo>
                    <a:pt x="370" y="162"/>
                  </a:lnTo>
                  <a:lnTo>
                    <a:pt x="332" y="172"/>
                  </a:lnTo>
                  <a:lnTo>
                    <a:pt x="293" y="181"/>
                  </a:lnTo>
                  <a:lnTo>
                    <a:pt x="253" y="187"/>
                  </a:lnTo>
                  <a:lnTo>
                    <a:pt x="192" y="187"/>
                  </a:lnTo>
                  <a:lnTo>
                    <a:pt x="172" y="179"/>
                  </a:lnTo>
                  <a:lnTo>
                    <a:pt x="151" y="172"/>
                  </a:lnTo>
                  <a:lnTo>
                    <a:pt x="130" y="162"/>
                  </a:lnTo>
                  <a:lnTo>
                    <a:pt x="111" y="152"/>
                  </a:lnTo>
                  <a:lnTo>
                    <a:pt x="94" y="141"/>
                  </a:lnTo>
                  <a:lnTo>
                    <a:pt x="80" y="131"/>
                  </a:lnTo>
                  <a:lnTo>
                    <a:pt x="69" y="121"/>
                  </a:lnTo>
                  <a:lnTo>
                    <a:pt x="59" y="110"/>
                  </a:lnTo>
                  <a:lnTo>
                    <a:pt x="42" y="81"/>
                  </a:lnTo>
                  <a:lnTo>
                    <a:pt x="32" y="62"/>
                  </a:lnTo>
                  <a:lnTo>
                    <a:pt x="23" y="44"/>
                  </a:lnTo>
                  <a:lnTo>
                    <a:pt x="7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2"/>
            <p:cNvSpPr/>
            <p:nvPr/>
          </p:nvSpPr>
          <p:spPr>
            <a:xfrm>
              <a:off x="4305960" y="4317120"/>
              <a:ext cx="250560" cy="720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637" h="183">
                  <a:moveTo>
                    <a:pt x="0" y="73"/>
                  </a:moveTo>
                  <a:lnTo>
                    <a:pt x="4" y="69"/>
                  </a:lnTo>
                  <a:lnTo>
                    <a:pt x="17" y="61"/>
                  </a:lnTo>
                  <a:lnTo>
                    <a:pt x="38" y="50"/>
                  </a:lnTo>
                  <a:lnTo>
                    <a:pt x="50" y="44"/>
                  </a:lnTo>
                  <a:lnTo>
                    <a:pt x="63" y="38"/>
                  </a:lnTo>
                  <a:lnTo>
                    <a:pt x="79" y="31"/>
                  </a:lnTo>
                  <a:lnTo>
                    <a:pt x="96" y="25"/>
                  </a:lnTo>
                  <a:lnTo>
                    <a:pt x="115" y="19"/>
                  </a:lnTo>
                  <a:lnTo>
                    <a:pt x="134" y="13"/>
                  </a:lnTo>
                  <a:lnTo>
                    <a:pt x="176" y="4"/>
                  </a:lnTo>
                  <a:lnTo>
                    <a:pt x="221" y="0"/>
                  </a:lnTo>
                  <a:lnTo>
                    <a:pt x="320" y="9"/>
                  </a:lnTo>
                  <a:lnTo>
                    <a:pt x="368" y="17"/>
                  </a:lnTo>
                  <a:lnTo>
                    <a:pt x="409" y="29"/>
                  </a:lnTo>
                  <a:lnTo>
                    <a:pt x="447" y="40"/>
                  </a:lnTo>
                  <a:lnTo>
                    <a:pt x="476" y="50"/>
                  </a:lnTo>
                  <a:lnTo>
                    <a:pt x="503" y="61"/>
                  </a:lnTo>
                  <a:lnTo>
                    <a:pt x="518" y="113"/>
                  </a:lnTo>
                  <a:lnTo>
                    <a:pt x="503" y="102"/>
                  </a:lnTo>
                  <a:lnTo>
                    <a:pt x="484" y="94"/>
                  </a:lnTo>
                  <a:lnTo>
                    <a:pt x="474" y="88"/>
                  </a:lnTo>
                  <a:lnTo>
                    <a:pt x="461" y="81"/>
                  </a:lnTo>
                  <a:lnTo>
                    <a:pt x="449" y="75"/>
                  </a:lnTo>
                  <a:lnTo>
                    <a:pt x="434" y="69"/>
                  </a:lnTo>
                  <a:lnTo>
                    <a:pt x="422" y="63"/>
                  </a:lnTo>
                  <a:lnTo>
                    <a:pt x="407" y="58"/>
                  </a:lnTo>
                  <a:lnTo>
                    <a:pt x="380" y="50"/>
                  </a:lnTo>
                  <a:lnTo>
                    <a:pt x="353" y="44"/>
                  </a:lnTo>
                  <a:lnTo>
                    <a:pt x="305" y="44"/>
                  </a:lnTo>
                  <a:lnTo>
                    <a:pt x="269" y="48"/>
                  </a:lnTo>
                  <a:lnTo>
                    <a:pt x="244" y="56"/>
                  </a:lnTo>
                  <a:lnTo>
                    <a:pt x="236" y="61"/>
                  </a:lnTo>
                  <a:lnTo>
                    <a:pt x="407" y="83"/>
                  </a:lnTo>
                  <a:lnTo>
                    <a:pt x="432" y="96"/>
                  </a:lnTo>
                  <a:lnTo>
                    <a:pt x="457" y="108"/>
                  </a:lnTo>
                  <a:lnTo>
                    <a:pt x="472" y="113"/>
                  </a:lnTo>
                  <a:lnTo>
                    <a:pt x="484" y="119"/>
                  </a:lnTo>
                  <a:lnTo>
                    <a:pt x="509" y="131"/>
                  </a:lnTo>
                  <a:lnTo>
                    <a:pt x="532" y="142"/>
                  </a:lnTo>
                  <a:lnTo>
                    <a:pt x="553" y="148"/>
                  </a:lnTo>
                  <a:lnTo>
                    <a:pt x="580" y="154"/>
                  </a:lnTo>
                  <a:lnTo>
                    <a:pt x="587" y="152"/>
                  </a:lnTo>
                  <a:lnTo>
                    <a:pt x="591" y="146"/>
                  </a:lnTo>
                  <a:lnTo>
                    <a:pt x="589" y="129"/>
                  </a:lnTo>
                  <a:lnTo>
                    <a:pt x="582" y="115"/>
                  </a:lnTo>
                  <a:lnTo>
                    <a:pt x="578" y="106"/>
                  </a:lnTo>
                  <a:lnTo>
                    <a:pt x="608" y="115"/>
                  </a:lnTo>
                  <a:lnTo>
                    <a:pt x="626" y="125"/>
                  </a:lnTo>
                  <a:lnTo>
                    <a:pt x="637" y="144"/>
                  </a:lnTo>
                  <a:lnTo>
                    <a:pt x="635" y="160"/>
                  </a:lnTo>
                  <a:lnTo>
                    <a:pt x="630" y="169"/>
                  </a:lnTo>
                  <a:lnTo>
                    <a:pt x="624" y="175"/>
                  </a:lnTo>
                  <a:lnTo>
                    <a:pt x="614" y="181"/>
                  </a:lnTo>
                  <a:lnTo>
                    <a:pt x="603" y="183"/>
                  </a:lnTo>
                  <a:lnTo>
                    <a:pt x="574" y="183"/>
                  </a:lnTo>
                  <a:lnTo>
                    <a:pt x="539" y="167"/>
                  </a:lnTo>
                  <a:lnTo>
                    <a:pt x="526" y="162"/>
                  </a:lnTo>
                  <a:lnTo>
                    <a:pt x="516" y="154"/>
                  </a:lnTo>
                  <a:lnTo>
                    <a:pt x="503" y="148"/>
                  </a:lnTo>
                  <a:lnTo>
                    <a:pt x="491" y="142"/>
                  </a:lnTo>
                  <a:lnTo>
                    <a:pt x="476" y="133"/>
                  </a:lnTo>
                  <a:lnTo>
                    <a:pt x="461" y="127"/>
                  </a:lnTo>
                  <a:lnTo>
                    <a:pt x="445" y="121"/>
                  </a:lnTo>
                  <a:lnTo>
                    <a:pt x="428" y="115"/>
                  </a:lnTo>
                  <a:lnTo>
                    <a:pt x="409" y="108"/>
                  </a:lnTo>
                  <a:lnTo>
                    <a:pt x="388" y="104"/>
                  </a:lnTo>
                  <a:lnTo>
                    <a:pt x="345" y="96"/>
                  </a:lnTo>
                  <a:lnTo>
                    <a:pt x="263" y="94"/>
                  </a:lnTo>
                  <a:lnTo>
                    <a:pt x="205" y="102"/>
                  </a:lnTo>
                  <a:lnTo>
                    <a:pt x="169" y="113"/>
                  </a:lnTo>
                  <a:lnTo>
                    <a:pt x="157" y="117"/>
                  </a:lnTo>
                  <a:lnTo>
                    <a:pt x="138" y="104"/>
                  </a:lnTo>
                  <a:lnTo>
                    <a:pt x="228" y="44"/>
                  </a:lnTo>
                  <a:lnTo>
                    <a:pt x="115" y="52"/>
                  </a:lnTo>
                  <a:lnTo>
                    <a:pt x="90" y="63"/>
                  </a:lnTo>
                  <a:lnTo>
                    <a:pt x="65" y="73"/>
                  </a:lnTo>
                  <a:lnTo>
                    <a:pt x="46" y="83"/>
                  </a:lnTo>
                  <a:lnTo>
                    <a:pt x="38" y="85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3"/>
            <p:cNvSpPr/>
            <p:nvPr/>
          </p:nvSpPr>
          <p:spPr>
            <a:xfrm>
              <a:off x="4368240" y="4367880"/>
              <a:ext cx="198360" cy="770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05" h="196">
                  <a:moveTo>
                    <a:pt x="33" y="15"/>
                  </a:moveTo>
                  <a:lnTo>
                    <a:pt x="54" y="11"/>
                  </a:lnTo>
                  <a:lnTo>
                    <a:pt x="104" y="2"/>
                  </a:lnTo>
                  <a:lnTo>
                    <a:pt x="169" y="0"/>
                  </a:lnTo>
                  <a:lnTo>
                    <a:pt x="225" y="13"/>
                  </a:lnTo>
                  <a:lnTo>
                    <a:pt x="248" y="23"/>
                  </a:lnTo>
                  <a:lnTo>
                    <a:pt x="261" y="29"/>
                  </a:lnTo>
                  <a:lnTo>
                    <a:pt x="275" y="35"/>
                  </a:lnTo>
                  <a:lnTo>
                    <a:pt x="288" y="44"/>
                  </a:lnTo>
                  <a:lnTo>
                    <a:pt x="300" y="50"/>
                  </a:lnTo>
                  <a:lnTo>
                    <a:pt x="315" y="56"/>
                  </a:lnTo>
                  <a:lnTo>
                    <a:pt x="327" y="62"/>
                  </a:lnTo>
                  <a:lnTo>
                    <a:pt x="340" y="69"/>
                  </a:lnTo>
                  <a:lnTo>
                    <a:pt x="350" y="75"/>
                  </a:lnTo>
                  <a:lnTo>
                    <a:pt x="373" y="85"/>
                  </a:lnTo>
                  <a:lnTo>
                    <a:pt x="392" y="94"/>
                  </a:lnTo>
                  <a:lnTo>
                    <a:pt x="405" y="98"/>
                  </a:lnTo>
                  <a:lnTo>
                    <a:pt x="430" y="98"/>
                  </a:lnTo>
                  <a:lnTo>
                    <a:pt x="453" y="94"/>
                  </a:lnTo>
                  <a:lnTo>
                    <a:pt x="476" y="83"/>
                  </a:lnTo>
                  <a:lnTo>
                    <a:pt x="476" y="108"/>
                  </a:lnTo>
                  <a:lnTo>
                    <a:pt x="478" y="114"/>
                  </a:lnTo>
                  <a:lnTo>
                    <a:pt x="463" y="121"/>
                  </a:lnTo>
                  <a:lnTo>
                    <a:pt x="426" y="125"/>
                  </a:lnTo>
                  <a:lnTo>
                    <a:pt x="373" y="119"/>
                  </a:lnTo>
                  <a:lnTo>
                    <a:pt x="346" y="110"/>
                  </a:lnTo>
                  <a:lnTo>
                    <a:pt x="323" y="102"/>
                  </a:lnTo>
                  <a:lnTo>
                    <a:pt x="305" y="94"/>
                  </a:lnTo>
                  <a:lnTo>
                    <a:pt x="288" y="85"/>
                  </a:lnTo>
                  <a:lnTo>
                    <a:pt x="275" y="77"/>
                  </a:lnTo>
                  <a:lnTo>
                    <a:pt x="284" y="87"/>
                  </a:lnTo>
                  <a:lnTo>
                    <a:pt x="294" y="96"/>
                  </a:lnTo>
                  <a:lnTo>
                    <a:pt x="300" y="102"/>
                  </a:lnTo>
                  <a:lnTo>
                    <a:pt x="309" y="108"/>
                  </a:lnTo>
                  <a:lnTo>
                    <a:pt x="315" y="114"/>
                  </a:lnTo>
                  <a:lnTo>
                    <a:pt x="325" y="121"/>
                  </a:lnTo>
                  <a:lnTo>
                    <a:pt x="334" y="127"/>
                  </a:lnTo>
                  <a:lnTo>
                    <a:pt x="344" y="131"/>
                  </a:lnTo>
                  <a:lnTo>
                    <a:pt x="365" y="141"/>
                  </a:lnTo>
                  <a:lnTo>
                    <a:pt x="390" y="148"/>
                  </a:lnTo>
                  <a:lnTo>
                    <a:pt x="434" y="154"/>
                  </a:lnTo>
                  <a:lnTo>
                    <a:pt x="465" y="154"/>
                  </a:lnTo>
                  <a:lnTo>
                    <a:pt x="494" y="150"/>
                  </a:lnTo>
                  <a:lnTo>
                    <a:pt x="505" y="175"/>
                  </a:lnTo>
                  <a:lnTo>
                    <a:pt x="494" y="179"/>
                  </a:lnTo>
                  <a:lnTo>
                    <a:pt x="469" y="187"/>
                  </a:lnTo>
                  <a:lnTo>
                    <a:pt x="436" y="193"/>
                  </a:lnTo>
                  <a:lnTo>
                    <a:pt x="398" y="196"/>
                  </a:lnTo>
                  <a:lnTo>
                    <a:pt x="357" y="185"/>
                  </a:lnTo>
                  <a:lnTo>
                    <a:pt x="338" y="177"/>
                  </a:lnTo>
                  <a:lnTo>
                    <a:pt x="319" y="166"/>
                  </a:lnTo>
                  <a:lnTo>
                    <a:pt x="302" y="158"/>
                  </a:lnTo>
                  <a:lnTo>
                    <a:pt x="290" y="152"/>
                  </a:lnTo>
                  <a:lnTo>
                    <a:pt x="279" y="144"/>
                  </a:lnTo>
                  <a:lnTo>
                    <a:pt x="267" y="135"/>
                  </a:lnTo>
                  <a:lnTo>
                    <a:pt x="254" y="127"/>
                  </a:lnTo>
                  <a:lnTo>
                    <a:pt x="238" y="117"/>
                  </a:lnTo>
                  <a:lnTo>
                    <a:pt x="221" y="106"/>
                  </a:lnTo>
                  <a:lnTo>
                    <a:pt x="202" y="98"/>
                  </a:lnTo>
                  <a:lnTo>
                    <a:pt x="186" y="94"/>
                  </a:lnTo>
                  <a:lnTo>
                    <a:pt x="171" y="92"/>
                  </a:lnTo>
                  <a:lnTo>
                    <a:pt x="142" y="98"/>
                  </a:lnTo>
                  <a:lnTo>
                    <a:pt x="117" y="110"/>
                  </a:lnTo>
                  <a:lnTo>
                    <a:pt x="98" y="121"/>
                  </a:lnTo>
                  <a:lnTo>
                    <a:pt x="92" y="125"/>
                  </a:lnTo>
                  <a:lnTo>
                    <a:pt x="60" y="108"/>
                  </a:lnTo>
                  <a:lnTo>
                    <a:pt x="65" y="104"/>
                  </a:lnTo>
                  <a:lnTo>
                    <a:pt x="73" y="96"/>
                  </a:lnTo>
                  <a:lnTo>
                    <a:pt x="81" y="92"/>
                  </a:lnTo>
                  <a:lnTo>
                    <a:pt x="92" y="85"/>
                  </a:lnTo>
                  <a:lnTo>
                    <a:pt x="106" y="79"/>
                  </a:lnTo>
                  <a:lnTo>
                    <a:pt x="121" y="73"/>
                  </a:lnTo>
                  <a:lnTo>
                    <a:pt x="152" y="65"/>
                  </a:lnTo>
                  <a:lnTo>
                    <a:pt x="177" y="60"/>
                  </a:lnTo>
                  <a:lnTo>
                    <a:pt x="198" y="58"/>
                  </a:lnTo>
                  <a:lnTo>
                    <a:pt x="192" y="46"/>
                  </a:lnTo>
                  <a:lnTo>
                    <a:pt x="179" y="40"/>
                  </a:lnTo>
                  <a:lnTo>
                    <a:pt x="154" y="35"/>
                  </a:lnTo>
                  <a:lnTo>
                    <a:pt x="110" y="44"/>
                  </a:lnTo>
                  <a:lnTo>
                    <a:pt x="85" y="50"/>
                  </a:lnTo>
                  <a:lnTo>
                    <a:pt x="60" y="58"/>
                  </a:lnTo>
                  <a:lnTo>
                    <a:pt x="37" y="67"/>
                  </a:lnTo>
                  <a:lnTo>
                    <a:pt x="19" y="75"/>
                  </a:lnTo>
                  <a:lnTo>
                    <a:pt x="0" y="81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44"/>
            <p:cNvSpPr/>
            <p:nvPr/>
          </p:nvSpPr>
          <p:spPr>
            <a:xfrm>
              <a:off x="4412880" y="4419360"/>
              <a:ext cx="166320" cy="94680"/>
            </a:xfrm>
            <a:custGeom>
              <a:avLst/>
              <a:gdLst>
                <a:gd name="textAreaLeft" fmla="*/ 0 w 166320"/>
                <a:gd name="textAreaRight" fmla="*/ 166320 w 1663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423" h="241">
                  <a:moveTo>
                    <a:pt x="0" y="21"/>
                  </a:moveTo>
                  <a:lnTo>
                    <a:pt x="12" y="15"/>
                  </a:lnTo>
                  <a:lnTo>
                    <a:pt x="27" y="8"/>
                  </a:lnTo>
                  <a:lnTo>
                    <a:pt x="45" y="2"/>
                  </a:lnTo>
                  <a:lnTo>
                    <a:pt x="87" y="0"/>
                  </a:lnTo>
                  <a:lnTo>
                    <a:pt x="110" y="6"/>
                  </a:lnTo>
                  <a:lnTo>
                    <a:pt x="129" y="21"/>
                  </a:lnTo>
                  <a:lnTo>
                    <a:pt x="139" y="31"/>
                  </a:lnTo>
                  <a:lnTo>
                    <a:pt x="152" y="40"/>
                  </a:lnTo>
                  <a:lnTo>
                    <a:pt x="164" y="48"/>
                  </a:lnTo>
                  <a:lnTo>
                    <a:pt x="177" y="56"/>
                  </a:lnTo>
                  <a:lnTo>
                    <a:pt x="192" y="62"/>
                  </a:lnTo>
                  <a:lnTo>
                    <a:pt x="206" y="69"/>
                  </a:lnTo>
                  <a:lnTo>
                    <a:pt x="221" y="75"/>
                  </a:lnTo>
                  <a:lnTo>
                    <a:pt x="237" y="81"/>
                  </a:lnTo>
                  <a:lnTo>
                    <a:pt x="267" y="89"/>
                  </a:lnTo>
                  <a:lnTo>
                    <a:pt x="294" y="98"/>
                  </a:lnTo>
                  <a:lnTo>
                    <a:pt x="338" y="102"/>
                  </a:lnTo>
                  <a:lnTo>
                    <a:pt x="388" y="92"/>
                  </a:lnTo>
                  <a:lnTo>
                    <a:pt x="406" y="81"/>
                  </a:lnTo>
                  <a:lnTo>
                    <a:pt x="423" y="114"/>
                  </a:lnTo>
                  <a:lnTo>
                    <a:pt x="413" y="123"/>
                  </a:lnTo>
                  <a:lnTo>
                    <a:pt x="402" y="133"/>
                  </a:lnTo>
                  <a:lnTo>
                    <a:pt x="390" y="146"/>
                  </a:lnTo>
                  <a:lnTo>
                    <a:pt x="384" y="152"/>
                  </a:lnTo>
                  <a:lnTo>
                    <a:pt x="375" y="158"/>
                  </a:lnTo>
                  <a:lnTo>
                    <a:pt x="369" y="164"/>
                  </a:lnTo>
                  <a:lnTo>
                    <a:pt x="363" y="171"/>
                  </a:lnTo>
                  <a:lnTo>
                    <a:pt x="352" y="181"/>
                  </a:lnTo>
                  <a:lnTo>
                    <a:pt x="346" y="189"/>
                  </a:lnTo>
                  <a:lnTo>
                    <a:pt x="331" y="220"/>
                  </a:lnTo>
                  <a:lnTo>
                    <a:pt x="327" y="237"/>
                  </a:lnTo>
                  <a:lnTo>
                    <a:pt x="237" y="241"/>
                  </a:lnTo>
                  <a:lnTo>
                    <a:pt x="288" y="187"/>
                  </a:lnTo>
                  <a:lnTo>
                    <a:pt x="240" y="179"/>
                  </a:lnTo>
                  <a:lnTo>
                    <a:pt x="146" y="200"/>
                  </a:lnTo>
                  <a:lnTo>
                    <a:pt x="246" y="135"/>
                  </a:lnTo>
                  <a:lnTo>
                    <a:pt x="35" y="146"/>
                  </a:lnTo>
                  <a:lnTo>
                    <a:pt x="114" y="108"/>
                  </a:lnTo>
                  <a:lnTo>
                    <a:pt x="50" y="94"/>
                  </a:lnTo>
                  <a:lnTo>
                    <a:pt x="39" y="67"/>
                  </a:lnTo>
                  <a:lnTo>
                    <a:pt x="48" y="65"/>
                  </a:lnTo>
                  <a:lnTo>
                    <a:pt x="66" y="56"/>
                  </a:lnTo>
                  <a:lnTo>
                    <a:pt x="93" y="52"/>
                  </a:lnTo>
                  <a:lnTo>
                    <a:pt x="121" y="60"/>
                  </a:lnTo>
                  <a:lnTo>
                    <a:pt x="141" y="77"/>
                  </a:lnTo>
                  <a:lnTo>
                    <a:pt x="150" y="85"/>
                  </a:lnTo>
                  <a:lnTo>
                    <a:pt x="156" y="94"/>
                  </a:lnTo>
                  <a:lnTo>
                    <a:pt x="162" y="100"/>
                  </a:lnTo>
                  <a:lnTo>
                    <a:pt x="171" y="106"/>
                  </a:lnTo>
                  <a:lnTo>
                    <a:pt x="189" y="110"/>
                  </a:lnTo>
                  <a:lnTo>
                    <a:pt x="221" y="102"/>
                  </a:lnTo>
                  <a:lnTo>
                    <a:pt x="227" y="96"/>
                  </a:lnTo>
                  <a:lnTo>
                    <a:pt x="214" y="92"/>
                  </a:lnTo>
                  <a:lnTo>
                    <a:pt x="189" y="83"/>
                  </a:lnTo>
                  <a:lnTo>
                    <a:pt x="160" y="71"/>
                  </a:lnTo>
                  <a:lnTo>
                    <a:pt x="141" y="58"/>
                  </a:lnTo>
                  <a:lnTo>
                    <a:pt x="135" y="52"/>
                  </a:lnTo>
                  <a:lnTo>
                    <a:pt x="127" y="46"/>
                  </a:lnTo>
                  <a:lnTo>
                    <a:pt x="118" y="40"/>
                  </a:lnTo>
                  <a:lnTo>
                    <a:pt x="108" y="35"/>
                  </a:lnTo>
                  <a:lnTo>
                    <a:pt x="87" y="29"/>
                  </a:lnTo>
                  <a:lnTo>
                    <a:pt x="68" y="27"/>
                  </a:lnTo>
                  <a:lnTo>
                    <a:pt x="39" y="37"/>
                  </a:lnTo>
                  <a:lnTo>
                    <a:pt x="25" y="46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45"/>
            <p:cNvSpPr/>
            <p:nvPr/>
          </p:nvSpPr>
          <p:spPr>
            <a:xfrm>
              <a:off x="4574520" y="4369320"/>
              <a:ext cx="34920" cy="20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9" h="54">
                  <a:moveTo>
                    <a:pt x="89" y="11"/>
                  </a:moveTo>
                  <a:lnTo>
                    <a:pt x="79" y="7"/>
                  </a:lnTo>
                  <a:lnTo>
                    <a:pt x="54" y="0"/>
                  </a:lnTo>
                  <a:lnTo>
                    <a:pt x="27" y="0"/>
                  </a:lnTo>
                  <a:lnTo>
                    <a:pt x="16" y="4"/>
                  </a:lnTo>
                  <a:lnTo>
                    <a:pt x="8" y="13"/>
                  </a:lnTo>
                  <a:lnTo>
                    <a:pt x="0" y="46"/>
                  </a:lnTo>
                  <a:lnTo>
                    <a:pt x="10" y="54"/>
                  </a:lnTo>
                  <a:lnTo>
                    <a:pt x="27" y="46"/>
                  </a:lnTo>
                  <a:lnTo>
                    <a:pt x="35" y="38"/>
                  </a:lnTo>
                  <a:lnTo>
                    <a:pt x="58" y="54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6"/>
            <p:cNvSpPr/>
            <p:nvPr/>
          </p:nvSpPr>
          <p:spPr>
            <a:xfrm>
              <a:off x="5074560" y="3384720"/>
              <a:ext cx="463680" cy="435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1179" h="1108">
                  <a:moveTo>
                    <a:pt x="0" y="0"/>
                  </a:moveTo>
                  <a:lnTo>
                    <a:pt x="14" y="10"/>
                  </a:lnTo>
                  <a:lnTo>
                    <a:pt x="21" y="16"/>
                  </a:lnTo>
                  <a:lnTo>
                    <a:pt x="29" y="25"/>
                  </a:lnTo>
                  <a:lnTo>
                    <a:pt x="39" y="33"/>
                  </a:lnTo>
                  <a:lnTo>
                    <a:pt x="50" y="41"/>
                  </a:lnTo>
                  <a:lnTo>
                    <a:pt x="62" y="54"/>
                  </a:lnTo>
                  <a:lnTo>
                    <a:pt x="77" y="66"/>
                  </a:lnTo>
                  <a:lnTo>
                    <a:pt x="81" y="73"/>
                  </a:lnTo>
                  <a:lnTo>
                    <a:pt x="89" y="79"/>
                  </a:lnTo>
                  <a:lnTo>
                    <a:pt x="98" y="85"/>
                  </a:lnTo>
                  <a:lnTo>
                    <a:pt x="104" y="93"/>
                  </a:lnTo>
                  <a:lnTo>
                    <a:pt x="114" y="100"/>
                  </a:lnTo>
                  <a:lnTo>
                    <a:pt x="123" y="108"/>
                  </a:lnTo>
                  <a:lnTo>
                    <a:pt x="131" y="114"/>
                  </a:lnTo>
                  <a:lnTo>
                    <a:pt x="140" y="122"/>
                  </a:lnTo>
                  <a:lnTo>
                    <a:pt x="150" y="131"/>
                  </a:lnTo>
                  <a:lnTo>
                    <a:pt x="158" y="139"/>
                  </a:lnTo>
                  <a:lnTo>
                    <a:pt x="169" y="147"/>
                  </a:lnTo>
                  <a:lnTo>
                    <a:pt x="179" y="158"/>
                  </a:lnTo>
                  <a:lnTo>
                    <a:pt x="190" y="166"/>
                  </a:lnTo>
                  <a:lnTo>
                    <a:pt x="200" y="174"/>
                  </a:lnTo>
                  <a:lnTo>
                    <a:pt x="210" y="185"/>
                  </a:lnTo>
                  <a:lnTo>
                    <a:pt x="221" y="193"/>
                  </a:lnTo>
                  <a:lnTo>
                    <a:pt x="233" y="204"/>
                  </a:lnTo>
                  <a:lnTo>
                    <a:pt x="244" y="214"/>
                  </a:lnTo>
                  <a:lnTo>
                    <a:pt x="254" y="224"/>
                  </a:lnTo>
                  <a:lnTo>
                    <a:pt x="267" y="235"/>
                  </a:lnTo>
                  <a:lnTo>
                    <a:pt x="277" y="245"/>
                  </a:lnTo>
                  <a:lnTo>
                    <a:pt x="290" y="256"/>
                  </a:lnTo>
                  <a:lnTo>
                    <a:pt x="302" y="266"/>
                  </a:lnTo>
                  <a:lnTo>
                    <a:pt x="315" y="276"/>
                  </a:lnTo>
                  <a:lnTo>
                    <a:pt x="327" y="287"/>
                  </a:lnTo>
                  <a:lnTo>
                    <a:pt x="340" y="297"/>
                  </a:lnTo>
                  <a:lnTo>
                    <a:pt x="352" y="310"/>
                  </a:lnTo>
                  <a:lnTo>
                    <a:pt x="365" y="320"/>
                  </a:lnTo>
                  <a:lnTo>
                    <a:pt x="377" y="330"/>
                  </a:lnTo>
                  <a:lnTo>
                    <a:pt x="390" y="343"/>
                  </a:lnTo>
                  <a:lnTo>
                    <a:pt x="402" y="353"/>
                  </a:lnTo>
                  <a:lnTo>
                    <a:pt x="417" y="366"/>
                  </a:lnTo>
                  <a:lnTo>
                    <a:pt x="430" y="376"/>
                  </a:lnTo>
                  <a:lnTo>
                    <a:pt x="442" y="389"/>
                  </a:lnTo>
                  <a:lnTo>
                    <a:pt x="457" y="401"/>
                  </a:lnTo>
                  <a:lnTo>
                    <a:pt x="469" y="411"/>
                  </a:lnTo>
                  <a:lnTo>
                    <a:pt x="482" y="424"/>
                  </a:lnTo>
                  <a:lnTo>
                    <a:pt x="496" y="436"/>
                  </a:lnTo>
                  <a:lnTo>
                    <a:pt x="509" y="449"/>
                  </a:lnTo>
                  <a:lnTo>
                    <a:pt x="524" y="459"/>
                  </a:lnTo>
                  <a:lnTo>
                    <a:pt x="536" y="472"/>
                  </a:lnTo>
                  <a:lnTo>
                    <a:pt x="551" y="484"/>
                  </a:lnTo>
                  <a:lnTo>
                    <a:pt x="563" y="497"/>
                  </a:lnTo>
                  <a:lnTo>
                    <a:pt x="578" y="507"/>
                  </a:lnTo>
                  <a:lnTo>
                    <a:pt x="592" y="519"/>
                  </a:lnTo>
                  <a:lnTo>
                    <a:pt x="605" y="532"/>
                  </a:lnTo>
                  <a:lnTo>
                    <a:pt x="617" y="544"/>
                  </a:lnTo>
                  <a:lnTo>
                    <a:pt x="632" y="557"/>
                  </a:lnTo>
                  <a:lnTo>
                    <a:pt x="647" y="567"/>
                  </a:lnTo>
                  <a:lnTo>
                    <a:pt x="659" y="580"/>
                  </a:lnTo>
                  <a:lnTo>
                    <a:pt x="672" y="592"/>
                  </a:lnTo>
                  <a:lnTo>
                    <a:pt x="686" y="605"/>
                  </a:lnTo>
                  <a:lnTo>
                    <a:pt x="699" y="615"/>
                  </a:lnTo>
                  <a:lnTo>
                    <a:pt x="713" y="628"/>
                  </a:lnTo>
                  <a:lnTo>
                    <a:pt x="726" y="640"/>
                  </a:lnTo>
                  <a:lnTo>
                    <a:pt x="739" y="652"/>
                  </a:lnTo>
                  <a:lnTo>
                    <a:pt x="753" y="663"/>
                  </a:lnTo>
                  <a:lnTo>
                    <a:pt x="766" y="675"/>
                  </a:lnTo>
                  <a:lnTo>
                    <a:pt x="778" y="686"/>
                  </a:lnTo>
                  <a:lnTo>
                    <a:pt x="791" y="698"/>
                  </a:lnTo>
                  <a:lnTo>
                    <a:pt x="805" y="709"/>
                  </a:lnTo>
                  <a:lnTo>
                    <a:pt x="818" y="721"/>
                  </a:lnTo>
                  <a:lnTo>
                    <a:pt x="830" y="731"/>
                  </a:lnTo>
                  <a:lnTo>
                    <a:pt x="843" y="742"/>
                  </a:lnTo>
                  <a:lnTo>
                    <a:pt x="853" y="754"/>
                  </a:lnTo>
                  <a:lnTo>
                    <a:pt x="866" y="765"/>
                  </a:lnTo>
                  <a:lnTo>
                    <a:pt x="878" y="775"/>
                  </a:lnTo>
                  <a:lnTo>
                    <a:pt x="891" y="786"/>
                  </a:lnTo>
                  <a:lnTo>
                    <a:pt x="901" y="796"/>
                  </a:lnTo>
                  <a:lnTo>
                    <a:pt x="914" y="806"/>
                  </a:lnTo>
                  <a:lnTo>
                    <a:pt x="924" y="817"/>
                  </a:lnTo>
                  <a:lnTo>
                    <a:pt x="937" y="827"/>
                  </a:lnTo>
                  <a:lnTo>
                    <a:pt x="947" y="837"/>
                  </a:lnTo>
                  <a:lnTo>
                    <a:pt x="958" y="848"/>
                  </a:lnTo>
                  <a:lnTo>
                    <a:pt x="968" y="856"/>
                  </a:lnTo>
                  <a:lnTo>
                    <a:pt x="979" y="867"/>
                  </a:lnTo>
                  <a:lnTo>
                    <a:pt x="989" y="875"/>
                  </a:lnTo>
                  <a:lnTo>
                    <a:pt x="999" y="885"/>
                  </a:lnTo>
                  <a:lnTo>
                    <a:pt x="1010" y="894"/>
                  </a:lnTo>
                  <a:lnTo>
                    <a:pt x="1018" y="902"/>
                  </a:lnTo>
                  <a:lnTo>
                    <a:pt x="1029" y="912"/>
                  </a:lnTo>
                  <a:lnTo>
                    <a:pt x="1037" y="921"/>
                  </a:lnTo>
                  <a:lnTo>
                    <a:pt x="1047" y="927"/>
                  </a:lnTo>
                  <a:lnTo>
                    <a:pt x="1056" y="935"/>
                  </a:lnTo>
                  <a:lnTo>
                    <a:pt x="1064" y="943"/>
                  </a:lnTo>
                  <a:lnTo>
                    <a:pt x="1072" y="952"/>
                  </a:lnTo>
                  <a:lnTo>
                    <a:pt x="1079" y="958"/>
                  </a:lnTo>
                  <a:lnTo>
                    <a:pt x="1087" y="966"/>
                  </a:lnTo>
                  <a:lnTo>
                    <a:pt x="1095" y="973"/>
                  </a:lnTo>
                  <a:lnTo>
                    <a:pt x="1102" y="979"/>
                  </a:lnTo>
                  <a:lnTo>
                    <a:pt x="1108" y="985"/>
                  </a:lnTo>
                  <a:lnTo>
                    <a:pt x="1114" y="991"/>
                  </a:lnTo>
                  <a:lnTo>
                    <a:pt x="1127" y="1002"/>
                  </a:lnTo>
                  <a:lnTo>
                    <a:pt x="1137" y="1012"/>
                  </a:lnTo>
                  <a:lnTo>
                    <a:pt x="1145" y="1022"/>
                  </a:lnTo>
                  <a:lnTo>
                    <a:pt x="1154" y="1029"/>
                  </a:lnTo>
                  <a:lnTo>
                    <a:pt x="1164" y="1041"/>
                  </a:lnTo>
                  <a:lnTo>
                    <a:pt x="1171" y="1047"/>
                  </a:lnTo>
                  <a:lnTo>
                    <a:pt x="1179" y="1097"/>
                  </a:lnTo>
                  <a:lnTo>
                    <a:pt x="1173" y="1104"/>
                  </a:lnTo>
                  <a:lnTo>
                    <a:pt x="1164" y="1108"/>
                  </a:lnTo>
                  <a:lnTo>
                    <a:pt x="1135" y="1108"/>
                  </a:lnTo>
                  <a:lnTo>
                    <a:pt x="1116" y="1099"/>
                  </a:lnTo>
                  <a:lnTo>
                    <a:pt x="1106" y="1091"/>
                  </a:lnTo>
                  <a:lnTo>
                    <a:pt x="1095" y="1081"/>
                  </a:lnTo>
                  <a:lnTo>
                    <a:pt x="1085" y="1070"/>
                  </a:lnTo>
                  <a:lnTo>
                    <a:pt x="1075" y="1056"/>
                  </a:lnTo>
                  <a:lnTo>
                    <a:pt x="1054" y="1029"/>
                  </a:lnTo>
                  <a:lnTo>
                    <a:pt x="1033" y="1000"/>
                  </a:lnTo>
                  <a:lnTo>
                    <a:pt x="1027" y="991"/>
                  </a:lnTo>
                  <a:lnTo>
                    <a:pt x="1022" y="985"/>
                  </a:lnTo>
                  <a:lnTo>
                    <a:pt x="1016" y="977"/>
                  </a:lnTo>
                  <a:lnTo>
                    <a:pt x="1010" y="970"/>
                  </a:lnTo>
                  <a:lnTo>
                    <a:pt x="1006" y="964"/>
                  </a:lnTo>
                  <a:lnTo>
                    <a:pt x="999" y="958"/>
                  </a:lnTo>
                  <a:lnTo>
                    <a:pt x="989" y="948"/>
                  </a:lnTo>
                  <a:lnTo>
                    <a:pt x="976" y="937"/>
                  </a:lnTo>
                  <a:lnTo>
                    <a:pt x="966" y="929"/>
                  </a:lnTo>
                  <a:lnTo>
                    <a:pt x="956" y="925"/>
                  </a:lnTo>
                  <a:lnTo>
                    <a:pt x="943" y="921"/>
                  </a:lnTo>
                  <a:lnTo>
                    <a:pt x="920" y="914"/>
                  </a:lnTo>
                  <a:lnTo>
                    <a:pt x="876" y="908"/>
                  </a:lnTo>
                  <a:lnTo>
                    <a:pt x="839" y="894"/>
                  </a:lnTo>
                  <a:lnTo>
                    <a:pt x="814" y="854"/>
                  </a:lnTo>
                  <a:lnTo>
                    <a:pt x="803" y="825"/>
                  </a:lnTo>
                  <a:lnTo>
                    <a:pt x="795" y="800"/>
                  </a:lnTo>
                  <a:lnTo>
                    <a:pt x="787" y="775"/>
                  </a:lnTo>
                  <a:lnTo>
                    <a:pt x="778" y="754"/>
                  </a:lnTo>
                  <a:lnTo>
                    <a:pt x="770" y="736"/>
                  </a:lnTo>
                  <a:lnTo>
                    <a:pt x="759" y="721"/>
                  </a:lnTo>
                  <a:lnTo>
                    <a:pt x="749" y="713"/>
                  </a:lnTo>
                  <a:lnTo>
                    <a:pt x="736" y="711"/>
                  </a:lnTo>
                  <a:lnTo>
                    <a:pt x="709" y="704"/>
                  </a:lnTo>
                  <a:lnTo>
                    <a:pt x="682" y="692"/>
                  </a:lnTo>
                  <a:lnTo>
                    <a:pt x="661" y="682"/>
                  </a:lnTo>
                  <a:lnTo>
                    <a:pt x="651" y="675"/>
                  </a:lnTo>
                  <a:lnTo>
                    <a:pt x="634" y="625"/>
                  </a:lnTo>
                  <a:lnTo>
                    <a:pt x="551" y="601"/>
                  </a:lnTo>
                  <a:lnTo>
                    <a:pt x="542" y="594"/>
                  </a:lnTo>
                  <a:lnTo>
                    <a:pt x="534" y="586"/>
                  </a:lnTo>
                  <a:lnTo>
                    <a:pt x="524" y="576"/>
                  </a:lnTo>
                  <a:lnTo>
                    <a:pt x="511" y="563"/>
                  </a:lnTo>
                  <a:lnTo>
                    <a:pt x="503" y="557"/>
                  </a:lnTo>
                  <a:lnTo>
                    <a:pt x="496" y="551"/>
                  </a:lnTo>
                  <a:lnTo>
                    <a:pt x="488" y="542"/>
                  </a:lnTo>
                  <a:lnTo>
                    <a:pt x="480" y="534"/>
                  </a:lnTo>
                  <a:lnTo>
                    <a:pt x="471" y="528"/>
                  </a:lnTo>
                  <a:lnTo>
                    <a:pt x="463" y="519"/>
                  </a:lnTo>
                  <a:lnTo>
                    <a:pt x="457" y="511"/>
                  </a:lnTo>
                  <a:lnTo>
                    <a:pt x="448" y="503"/>
                  </a:lnTo>
                  <a:lnTo>
                    <a:pt x="440" y="497"/>
                  </a:lnTo>
                  <a:lnTo>
                    <a:pt x="432" y="488"/>
                  </a:lnTo>
                  <a:lnTo>
                    <a:pt x="423" y="480"/>
                  </a:lnTo>
                  <a:lnTo>
                    <a:pt x="417" y="472"/>
                  </a:lnTo>
                  <a:lnTo>
                    <a:pt x="411" y="463"/>
                  </a:lnTo>
                  <a:lnTo>
                    <a:pt x="402" y="457"/>
                  </a:lnTo>
                  <a:lnTo>
                    <a:pt x="371" y="413"/>
                  </a:lnTo>
                  <a:lnTo>
                    <a:pt x="365" y="395"/>
                  </a:lnTo>
                  <a:lnTo>
                    <a:pt x="348" y="370"/>
                  </a:lnTo>
                  <a:lnTo>
                    <a:pt x="327" y="337"/>
                  </a:lnTo>
                  <a:lnTo>
                    <a:pt x="315" y="320"/>
                  </a:lnTo>
                  <a:lnTo>
                    <a:pt x="309" y="310"/>
                  </a:lnTo>
                  <a:lnTo>
                    <a:pt x="300" y="301"/>
                  </a:lnTo>
                  <a:lnTo>
                    <a:pt x="294" y="293"/>
                  </a:lnTo>
                  <a:lnTo>
                    <a:pt x="286" y="285"/>
                  </a:lnTo>
                  <a:lnTo>
                    <a:pt x="279" y="276"/>
                  </a:lnTo>
                  <a:lnTo>
                    <a:pt x="271" y="268"/>
                  </a:lnTo>
                  <a:lnTo>
                    <a:pt x="265" y="260"/>
                  </a:lnTo>
                  <a:lnTo>
                    <a:pt x="256" y="251"/>
                  </a:lnTo>
                  <a:lnTo>
                    <a:pt x="250" y="245"/>
                  </a:lnTo>
                  <a:lnTo>
                    <a:pt x="242" y="237"/>
                  </a:lnTo>
                  <a:lnTo>
                    <a:pt x="233" y="231"/>
                  </a:lnTo>
                  <a:lnTo>
                    <a:pt x="227" y="224"/>
                  </a:lnTo>
                  <a:lnTo>
                    <a:pt x="213" y="214"/>
                  </a:lnTo>
                  <a:lnTo>
                    <a:pt x="198" y="208"/>
                  </a:lnTo>
                  <a:lnTo>
                    <a:pt x="185" y="201"/>
                  </a:lnTo>
                  <a:lnTo>
                    <a:pt x="158" y="193"/>
                  </a:lnTo>
                  <a:lnTo>
                    <a:pt x="146" y="187"/>
                  </a:lnTo>
                  <a:lnTo>
                    <a:pt x="131" y="179"/>
                  </a:lnTo>
                  <a:lnTo>
                    <a:pt x="119" y="170"/>
                  </a:lnTo>
                  <a:lnTo>
                    <a:pt x="104" y="162"/>
                  </a:lnTo>
                  <a:lnTo>
                    <a:pt x="92" y="154"/>
                  </a:lnTo>
                  <a:lnTo>
                    <a:pt x="79" y="145"/>
                  </a:lnTo>
                  <a:lnTo>
                    <a:pt x="69" y="137"/>
                  </a:lnTo>
                  <a:lnTo>
                    <a:pt x="58" y="129"/>
                  </a:lnTo>
                  <a:lnTo>
                    <a:pt x="50" y="120"/>
                  </a:lnTo>
                  <a:lnTo>
                    <a:pt x="41" y="114"/>
                  </a:lnTo>
                  <a:lnTo>
                    <a:pt x="31" y="104"/>
                  </a:lnTo>
                  <a:lnTo>
                    <a:pt x="27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7"/>
            <p:cNvSpPr/>
            <p:nvPr/>
          </p:nvSpPr>
          <p:spPr>
            <a:xfrm>
              <a:off x="5570640" y="3867120"/>
              <a:ext cx="60120" cy="62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53" h="160">
                  <a:moveTo>
                    <a:pt x="0" y="0"/>
                  </a:moveTo>
                  <a:lnTo>
                    <a:pt x="25" y="6"/>
                  </a:lnTo>
                  <a:lnTo>
                    <a:pt x="48" y="13"/>
                  </a:lnTo>
                  <a:lnTo>
                    <a:pt x="78" y="23"/>
                  </a:lnTo>
                  <a:lnTo>
                    <a:pt x="105" y="35"/>
                  </a:lnTo>
                  <a:lnTo>
                    <a:pt x="130" y="50"/>
                  </a:lnTo>
                  <a:lnTo>
                    <a:pt x="153" y="85"/>
                  </a:lnTo>
                  <a:lnTo>
                    <a:pt x="151" y="102"/>
                  </a:lnTo>
                  <a:lnTo>
                    <a:pt x="140" y="119"/>
                  </a:lnTo>
                  <a:lnTo>
                    <a:pt x="132" y="125"/>
                  </a:lnTo>
                  <a:lnTo>
                    <a:pt x="124" y="131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0" y="150"/>
                  </a:lnTo>
                  <a:lnTo>
                    <a:pt x="76" y="156"/>
                  </a:lnTo>
                  <a:lnTo>
                    <a:pt x="61" y="160"/>
                  </a:lnTo>
                  <a:lnTo>
                    <a:pt x="44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8"/>
            <p:cNvSpPr/>
            <p:nvPr/>
          </p:nvSpPr>
          <p:spPr>
            <a:xfrm>
              <a:off x="5014440" y="4094640"/>
              <a:ext cx="64800" cy="126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5" h="33">
                  <a:moveTo>
                    <a:pt x="0" y="33"/>
                  </a:moveTo>
                  <a:lnTo>
                    <a:pt x="146" y="21"/>
                  </a:lnTo>
                  <a:lnTo>
                    <a:pt x="165" y="0"/>
                  </a:lnTo>
                  <a:lnTo>
                    <a:pt x="117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9"/>
            <p:cNvSpPr/>
            <p:nvPr/>
          </p:nvSpPr>
          <p:spPr>
            <a:xfrm>
              <a:off x="4527720" y="4290480"/>
              <a:ext cx="59760" cy="3996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52" h="102">
                  <a:moveTo>
                    <a:pt x="0" y="0"/>
                  </a:moveTo>
                  <a:lnTo>
                    <a:pt x="8" y="8"/>
                  </a:lnTo>
                  <a:lnTo>
                    <a:pt x="14" y="16"/>
                  </a:lnTo>
                  <a:lnTo>
                    <a:pt x="25" y="27"/>
                  </a:lnTo>
                  <a:lnTo>
                    <a:pt x="31" y="31"/>
                  </a:lnTo>
                  <a:lnTo>
                    <a:pt x="37" y="37"/>
                  </a:lnTo>
                  <a:lnTo>
                    <a:pt x="50" y="52"/>
                  </a:lnTo>
                  <a:lnTo>
                    <a:pt x="58" y="58"/>
                  </a:lnTo>
                  <a:lnTo>
                    <a:pt x="64" y="64"/>
                  </a:lnTo>
                  <a:lnTo>
                    <a:pt x="73" y="70"/>
                  </a:lnTo>
                  <a:lnTo>
                    <a:pt x="81" y="77"/>
                  </a:lnTo>
                  <a:lnTo>
                    <a:pt x="98" y="87"/>
                  </a:lnTo>
                  <a:lnTo>
                    <a:pt x="110" y="95"/>
                  </a:lnTo>
                  <a:lnTo>
                    <a:pt x="133" y="102"/>
                  </a:lnTo>
                  <a:lnTo>
                    <a:pt x="152" y="102"/>
                  </a:lnTo>
                  <a:lnTo>
                    <a:pt x="129" y="70"/>
                  </a:lnTo>
                  <a:lnTo>
                    <a:pt x="56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0"/>
            <p:cNvSpPr/>
            <p:nvPr/>
          </p:nvSpPr>
          <p:spPr>
            <a:xfrm>
              <a:off x="5003640" y="4254120"/>
              <a:ext cx="52560" cy="316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4" h="81">
                  <a:moveTo>
                    <a:pt x="34" y="0"/>
                  </a:moveTo>
                  <a:lnTo>
                    <a:pt x="52" y="9"/>
                  </a:lnTo>
                  <a:lnTo>
                    <a:pt x="71" y="17"/>
                  </a:lnTo>
                  <a:lnTo>
                    <a:pt x="90" y="27"/>
                  </a:lnTo>
                  <a:lnTo>
                    <a:pt x="111" y="38"/>
                  </a:lnTo>
                  <a:lnTo>
                    <a:pt x="125" y="50"/>
                  </a:lnTo>
                  <a:lnTo>
                    <a:pt x="134" y="61"/>
                  </a:lnTo>
                  <a:lnTo>
                    <a:pt x="134" y="71"/>
                  </a:lnTo>
                  <a:lnTo>
                    <a:pt x="125" y="77"/>
                  </a:lnTo>
                  <a:lnTo>
                    <a:pt x="117" y="81"/>
                  </a:lnTo>
                  <a:lnTo>
                    <a:pt x="100" y="81"/>
                  </a:lnTo>
                  <a:lnTo>
                    <a:pt x="82" y="77"/>
                  </a:lnTo>
                  <a:lnTo>
                    <a:pt x="0" y="19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1"/>
            <p:cNvSpPr/>
            <p:nvPr/>
          </p:nvSpPr>
          <p:spPr>
            <a:xfrm>
              <a:off x="4956120" y="4267080"/>
              <a:ext cx="50760" cy="27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0" h="69">
                  <a:moveTo>
                    <a:pt x="0" y="0"/>
                  </a:moveTo>
                  <a:lnTo>
                    <a:pt x="61" y="0"/>
                  </a:lnTo>
                  <a:lnTo>
                    <a:pt x="130" y="59"/>
                  </a:lnTo>
                  <a:lnTo>
                    <a:pt x="75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2"/>
            <p:cNvSpPr/>
            <p:nvPr/>
          </p:nvSpPr>
          <p:spPr>
            <a:xfrm>
              <a:off x="4902480" y="4272840"/>
              <a:ext cx="56880" cy="34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45" h="87">
                  <a:moveTo>
                    <a:pt x="42" y="0"/>
                  </a:moveTo>
                  <a:lnTo>
                    <a:pt x="96" y="52"/>
                  </a:lnTo>
                  <a:lnTo>
                    <a:pt x="145" y="58"/>
                  </a:lnTo>
                  <a:lnTo>
                    <a:pt x="134" y="87"/>
                  </a:lnTo>
                  <a:lnTo>
                    <a:pt x="86" y="77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3"/>
            <p:cNvSpPr/>
            <p:nvPr/>
          </p:nvSpPr>
          <p:spPr>
            <a:xfrm>
              <a:off x="5087520" y="4238640"/>
              <a:ext cx="34560" cy="280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88" h="72">
                  <a:moveTo>
                    <a:pt x="0" y="0"/>
                  </a:moveTo>
                  <a:lnTo>
                    <a:pt x="46" y="72"/>
                  </a:lnTo>
                  <a:lnTo>
                    <a:pt x="67" y="72"/>
                  </a:lnTo>
                  <a:lnTo>
                    <a:pt x="81" y="68"/>
                  </a:lnTo>
                  <a:lnTo>
                    <a:pt x="88" y="54"/>
                  </a:lnTo>
                  <a:lnTo>
                    <a:pt x="81" y="35"/>
                  </a:lnTo>
                  <a:lnTo>
                    <a:pt x="69" y="16"/>
                  </a:lnTo>
                  <a:lnTo>
                    <a:pt x="63" y="10"/>
                  </a:lnTo>
                  <a:lnTo>
                    <a:pt x="56" y="4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54"/>
            <p:cNvSpPr/>
            <p:nvPr/>
          </p:nvSpPr>
          <p:spPr>
            <a:xfrm>
              <a:off x="4852440" y="4274640"/>
              <a:ext cx="39960" cy="32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02" h="83">
                  <a:moveTo>
                    <a:pt x="38" y="83"/>
                  </a:moveTo>
                  <a:lnTo>
                    <a:pt x="0" y="25"/>
                  </a:lnTo>
                  <a:lnTo>
                    <a:pt x="29" y="0"/>
                  </a:lnTo>
                  <a:lnTo>
                    <a:pt x="102" y="69"/>
                  </a:lnTo>
                  <a:lnTo>
                    <a:pt x="54" y="63"/>
                  </a:lnTo>
                  <a:lnTo>
                    <a:pt x="38" y="83"/>
                  </a:lnTo>
                  <a:lnTo>
                    <a:pt x="3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5"/>
            <p:cNvSpPr/>
            <p:nvPr/>
          </p:nvSpPr>
          <p:spPr>
            <a:xfrm>
              <a:off x="4285440" y="3065040"/>
              <a:ext cx="172800" cy="5677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67720"/>
                <a:gd name="textAreaBottom" fmla="*/ 568080 h 567720"/>
              </a:gdLst>
              <a:ahLst/>
              <a:rect l="textAreaLeft" t="textAreaTop" r="textAreaRight" b="textAreaBottom"/>
              <a:pathLst>
                <a:path w="440" h="1443">
                  <a:moveTo>
                    <a:pt x="0" y="31"/>
                  </a:moveTo>
                  <a:lnTo>
                    <a:pt x="2" y="139"/>
                  </a:lnTo>
                  <a:lnTo>
                    <a:pt x="6" y="258"/>
                  </a:lnTo>
                  <a:lnTo>
                    <a:pt x="13" y="401"/>
                  </a:lnTo>
                  <a:lnTo>
                    <a:pt x="19" y="478"/>
                  </a:lnTo>
                  <a:lnTo>
                    <a:pt x="25" y="559"/>
                  </a:lnTo>
                  <a:lnTo>
                    <a:pt x="33" y="638"/>
                  </a:lnTo>
                  <a:lnTo>
                    <a:pt x="44" y="715"/>
                  </a:lnTo>
                  <a:lnTo>
                    <a:pt x="54" y="790"/>
                  </a:lnTo>
                  <a:lnTo>
                    <a:pt x="69" y="861"/>
                  </a:lnTo>
                  <a:lnTo>
                    <a:pt x="77" y="894"/>
                  </a:lnTo>
                  <a:lnTo>
                    <a:pt x="86" y="925"/>
                  </a:lnTo>
                  <a:lnTo>
                    <a:pt x="94" y="954"/>
                  </a:lnTo>
                  <a:lnTo>
                    <a:pt x="102" y="981"/>
                  </a:lnTo>
                  <a:lnTo>
                    <a:pt x="113" y="1008"/>
                  </a:lnTo>
                  <a:lnTo>
                    <a:pt x="123" y="1033"/>
                  </a:lnTo>
                  <a:lnTo>
                    <a:pt x="131" y="1058"/>
                  </a:lnTo>
                  <a:lnTo>
                    <a:pt x="142" y="1081"/>
                  </a:lnTo>
                  <a:lnTo>
                    <a:pt x="152" y="1104"/>
                  </a:lnTo>
                  <a:lnTo>
                    <a:pt x="161" y="1127"/>
                  </a:lnTo>
                  <a:lnTo>
                    <a:pt x="171" y="1150"/>
                  </a:lnTo>
                  <a:lnTo>
                    <a:pt x="182" y="1170"/>
                  </a:lnTo>
                  <a:lnTo>
                    <a:pt x="190" y="1191"/>
                  </a:lnTo>
                  <a:lnTo>
                    <a:pt x="200" y="1212"/>
                  </a:lnTo>
                  <a:lnTo>
                    <a:pt x="209" y="1231"/>
                  </a:lnTo>
                  <a:lnTo>
                    <a:pt x="219" y="1249"/>
                  </a:lnTo>
                  <a:lnTo>
                    <a:pt x="238" y="1285"/>
                  </a:lnTo>
                  <a:lnTo>
                    <a:pt x="257" y="1316"/>
                  </a:lnTo>
                  <a:lnTo>
                    <a:pt x="273" y="1345"/>
                  </a:lnTo>
                  <a:lnTo>
                    <a:pt x="290" y="1370"/>
                  </a:lnTo>
                  <a:lnTo>
                    <a:pt x="305" y="1391"/>
                  </a:lnTo>
                  <a:lnTo>
                    <a:pt x="313" y="1401"/>
                  </a:lnTo>
                  <a:lnTo>
                    <a:pt x="319" y="1409"/>
                  </a:lnTo>
                  <a:lnTo>
                    <a:pt x="328" y="1418"/>
                  </a:lnTo>
                  <a:lnTo>
                    <a:pt x="334" y="1424"/>
                  </a:lnTo>
                  <a:lnTo>
                    <a:pt x="346" y="1434"/>
                  </a:lnTo>
                  <a:lnTo>
                    <a:pt x="357" y="1441"/>
                  </a:lnTo>
                  <a:lnTo>
                    <a:pt x="367" y="1443"/>
                  </a:lnTo>
                  <a:lnTo>
                    <a:pt x="399" y="1438"/>
                  </a:lnTo>
                  <a:lnTo>
                    <a:pt x="422" y="1428"/>
                  </a:lnTo>
                  <a:lnTo>
                    <a:pt x="436" y="1418"/>
                  </a:lnTo>
                  <a:lnTo>
                    <a:pt x="440" y="1414"/>
                  </a:lnTo>
                  <a:lnTo>
                    <a:pt x="424" y="1387"/>
                  </a:lnTo>
                  <a:lnTo>
                    <a:pt x="409" y="1359"/>
                  </a:lnTo>
                  <a:lnTo>
                    <a:pt x="388" y="1328"/>
                  </a:lnTo>
                  <a:lnTo>
                    <a:pt x="372" y="1301"/>
                  </a:lnTo>
                  <a:lnTo>
                    <a:pt x="359" y="1278"/>
                  </a:lnTo>
                  <a:lnTo>
                    <a:pt x="344" y="1251"/>
                  </a:lnTo>
                  <a:lnTo>
                    <a:pt x="328" y="1218"/>
                  </a:lnTo>
                  <a:lnTo>
                    <a:pt x="309" y="1181"/>
                  </a:lnTo>
                  <a:lnTo>
                    <a:pt x="298" y="1162"/>
                  </a:lnTo>
                  <a:lnTo>
                    <a:pt x="288" y="1141"/>
                  </a:lnTo>
                  <a:lnTo>
                    <a:pt x="280" y="1118"/>
                  </a:lnTo>
                  <a:lnTo>
                    <a:pt x="269" y="1096"/>
                  </a:lnTo>
                  <a:lnTo>
                    <a:pt x="259" y="1073"/>
                  </a:lnTo>
                  <a:lnTo>
                    <a:pt x="248" y="1050"/>
                  </a:lnTo>
                  <a:lnTo>
                    <a:pt x="238" y="1025"/>
                  </a:lnTo>
                  <a:lnTo>
                    <a:pt x="228" y="1000"/>
                  </a:lnTo>
                  <a:lnTo>
                    <a:pt x="219" y="973"/>
                  </a:lnTo>
                  <a:lnTo>
                    <a:pt x="209" y="948"/>
                  </a:lnTo>
                  <a:lnTo>
                    <a:pt x="200" y="921"/>
                  </a:lnTo>
                  <a:lnTo>
                    <a:pt x="190" y="894"/>
                  </a:lnTo>
                  <a:lnTo>
                    <a:pt x="175" y="840"/>
                  </a:lnTo>
                  <a:lnTo>
                    <a:pt x="161" y="784"/>
                  </a:lnTo>
                  <a:lnTo>
                    <a:pt x="140" y="674"/>
                  </a:lnTo>
                  <a:lnTo>
                    <a:pt x="131" y="622"/>
                  </a:lnTo>
                  <a:lnTo>
                    <a:pt x="123" y="576"/>
                  </a:lnTo>
                  <a:lnTo>
                    <a:pt x="115" y="532"/>
                  </a:lnTo>
                  <a:lnTo>
                    <a:pt x="104" y="495"/>
                  </a:lnTo>
                  <a:lnTo>
                    <a:pt x="94" y="462"/>
                  </a:lnTo>
                  <a:lnTo>
                    <a:pt x="83" y="430"/>
                  </a:lnTo>
                  <a:lnTo>
                    <a:pt x="75" y="403"/>
                  </a:lnTo>
                  <a:lnTo>
                    <a:pt x="65" y="381"/>
                  </a:lnTo>
                  <a:lnTo>
                    <a:pt x="56" y="360"/>
                  </a:lnTo>
                  <a:lnTo>
                    <a:pt x="48" y="341"/>
                  </a:lnTo>
                  <a:lnTo>
                    <a:pt x="35" y="308"/>
                  </a:lnTo>
                  <a:lnTo>
                    <a:pt x="29" y="281"/>
                  </a:lnTo>
                  <a:lnTo>
                    <a:pt x="33" y="254"/>
                  </a:lnTo>
                  <a:lnTo>
                    <a:pt x="42" y="231"/>
                  </a:lnTo>
                  <a:lnTo>
                    <a:pt x="52" y="214"/>
                  </a:lnTo>
                  <a:lnTo>
                    <a:pt x="56" y="208"/>
                  </a:lnTo>
                  <a:lnTo>
                    <a:pt x="61" y="202"/>
                  </a:lnTo>
                  <a:lnTo>
                    <a:pt x="69" y="193"/>
                  </a:lnTo>
                  <a:lnTo>
                    <a:pt x="73" y="179"/>
                  </a:lnTo>
                  <a:lnTo>
                    <a:pt x="58" y="158"/>
                  </a:lnTo>
                  <a:lnTo>
                    <a:pt x="42" y="133"/>
                  </a:lnTo>
                  <a:lnTo>
                    <a:pt x="42" y="117"/>
                  </a:lnTo>
                  <a:lnTo>
                    <a:pt x="52" y="100"/>
                  </a:lnTo>
                  <a:lnTo>
                    <a:pt x="73" y="46"/>
                  </a:lnTo>
                  <a:lnTo>
                    <a:pt x="3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56"/>
            <p:cNvSpPr/>
            <p:nvPr/>
          </p:nvSpPr>
          <p:spPr>
            <a:xfrm>
              <a:off x="4277880" y="2977560"/>
              <a:ext cx="26280" cy="53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7" h="137">
                  <a:moveTo>
                    <a:pt x="27" y="0"/>
                  </a:moveTo>
                  <a:lnTo>
                    <a:pt x="19" y="19"/>
                  </a:lnTo>
                  <a:lnTo>
                    <a:pt x="6" y="62"/>
                  </a:lnTo>
                  <a:lnTo>
                    <a:pt x="0" y="108"/>
                  </a:lnTo>
                  <a:lnTo>
                    <a:pt x="4" y="127"/>
                  </a:lnTo>
                  <a:lnTo>
                    <a:pt x="9" y="131"/>
                  </a:lnTo>
                  <a:lnTo>
                    <a:pt x="15" y="135"/>
                  </a:lnTo>
                  <a:lnTo>
                    <a:pt x="29" y="137"/>
                  </a:lnTo>
                  <a:lnTo>
                    <a:pt x="40" y="133"/>
                  </a:lnTo>
                  <a:lnTo>
                    <a:pt x="57" y="116"/>
                  </a:lnTo>
                  <a:lnTo>
                    <a:pt x="67" y="85"/>
                  </a:lnTo>
                  <a:lnTo>
                    <a:pt x="48" y="52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7"/>
            <p:cNvSpPr/>
            <p:nvPr/>
          </p:nvSpPr>
          <p:spPr>
            <a:xfrm>
              <a:off x="4930560" y="3773880"/>
              <a:ext cx="158400" cy="342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03" h="87">
                  <a:moveTo>
                    <a:pt x="99" y="6"/>
                  </a:moveTo>
                  <a:lnTo>
                    <a:pt x="163" y="0"/>
                  </a:lnTo>
                  <a:lnTo>
                    <a:pt x="276" y="6"/>
                  </a:lnTo>
                  <a:lnTo>
                    <a:pt x="324" y="19"/>
                  </a:lnTo>
                  <a:lnTo>
                    <a:pt x="364" y="31"/>
                  </a:lnTo>
                  <a:lnTo>
                    <a:pt x="393" y="46"/>
                  </a:lnTo>
                  <a:lnTo>
                    <a:pt x="403" y="56"/>
                  </a:lnTo>
                  <a:lnTo>
                    <a:pt x="397" y="69"/>
                  </a:lnTo>
                  <a:lnTo>
                    <a:pt x="389" y="75"/>
                  </a:lnTo>
                  <a:lnTo>
                    <a:pt x="378" y="79"/>
                  </a:lnTo>
                  <a:lnTo>
                    <a:pt x="355" y="87"/>
                  </a:lnTo>
                  <a:lnTo>
                    <a:pt x="334" y="87"/>
                  </a:lnTo>
                  <a:lnTo>
                    <a:pt x="288" y="79"/>
                  </a:lnTo>
                  <a:lnTo>
                    <a:pt x="213" y="71"/>
                  </a:lnTo>
                  <a:lnTo>
                    <a:pt x="142" y="65"/>
                  </a:lnTo>
                  <a:lnTo>
                    <a:pt x="111" y="60"/>
                  </a:lnTo>
                  <a:lnTo>
                    <a:pt x="0" y="31"/>
                  </a:lnTo>
                  <a:lnTo>
                    <a:pt x="99" y="6"/>
                  </a:lnTo>
                  <a:lnTo>
                    <a:pt x="9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8"/>
            <p:cNvSpPr/>
            <p:nvPr/>
          </p:nvSpPr>
          <p:spPr>
            <a:xfrm>
              <a:off x="4504320" y="3882960"/>
              <a:ext cx="106920" cy="331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72" h="85">
                  <a:moveTo>
                    <a:pt x="0" y="22"/>
                  </a:moveTo>
                  <a:lnTo>
                    <a:pt x="7" y="29"/>
                  </a:lnTo>
                  <a:lnTo>
                    <a:pt x="13" y="35"/>
                  </a:lnTo>
                  <a:lnTo>
                    <a:pt x="21" y="43"/>
                  </a:lnTo>
                  <a:lnTo>
                    <a:pt x="32" y="52"/>
                  </a:lnTo>
                  <a:lnTo>
                    <a:pt x="42" y="60"/>
                  </a:lnTo>
                  <a:lnTo>
                    <a:pt x="55" y="66"/>
                  </a:lnTo>
                  <a:lnTo>
                    <a:pt x="67" y="70"/>
                  </a:lnTo>
                  <a:lnTo>
                    <a:pt x="107" y="74"/>
                  </a:lnTo>
                  <a:lnTo>
                    <a:pt x="163" y="83"/>
                  </a:lnTo>
                  <a:lnTo>
                    <a:pt x="219" y="85"/>
                  </a:lnTo>
                  <a:lnTo>
                    <a:pt x="238" y="81"/>
                  </a:lnTo>
                  <a:lnTo>
                    <a:pt x="251" y="72"/>
                  </a:lnTo>
                  <a:lnTo>
                    <a:pt x="267" y="37"/>
                  </a:lnTo>
                  <a:lnTo>
                    <a:pt x="272" y="18"/>
                  </a:lnTo>
                  <a:lnTo>
                    <a:pt x="163" y="27"/>
                  </a:lnTo>
                  <a:lnTo>
                    <a:pt x="67" y="0"/>
                  </a:lnTo>
                  <a:lnTo>
                    <a:pt x="57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9"/>
            <p:cNvSpPr/>
            <p:nvPr/>
          </p:nvSpPr>
          <p:spPr>
            <a:xfrm>
              <a:off x="4528440" y="3822480"/>
              <a:ext cx="70920" cy="331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81" h="85">
                  <a:moveTo>
                    <a:pt x="181" y="37"/>
                  </a:moveTo>
                  <a:lnTo>
                    <a:pt x="179" y="52"/>
                  </a:lnTo>
                  <a:lnTo>
                    <a:pt x="171" y="64"/>
                  </a:lnTo>
                  <a:lnTo>
                    <a:pt x="163" y="70"/>
                  </a:lnTo>
                  <a:lnTo>
                    <a:pt x="152" y="73"/>
                  </a:lnTo>
                  <a:lnTo>
                    <a:pt x="123" y="79"/>
                  </a:lnTo>
                  <a:lnTo>
                    <a:pt x="85" y="85"/>
                  </a:lnTo>
                  <a:lnTo>
                    <a:pt x="50" y="83"/>
                  </a:lnTo>
                  <a:lnTo>
                    <a:pt x="21" y="66"/>
                  </a:lnTo>
                  <a:lnTo>
                    <a:pt x="0" y="29"/>
                  </a:lnTo>
                  <a:lnTo>
                    <a:pt x="8" y="21"/>
                  </a:lnTo>
                  <a:lnTo>
                    <a:pt x="29" y="14"/>
                  </a:lnTo>
                  <a:lnTo>
                    <a:pt x="81" y="6"/>
                  </a:lnTo>
                  <a:lnTo>
                    <a:pt x="117" y="0"/>
                  </a:lnTo>
                  <a:lnTo>
                    <a:pt x="133" y="6"/>
                  </a:lnTo>
                  <a:lnTo>
                    <a:pt x="144" y="12"/>
                  </a:lnTo>
                  <a:lnTo>
                    <a:pt x="154" y="19"/>
                  </a:lnTo>
                  <a:lnTo>
                    <a:pt x="165" y="25"/>
                  </a:lnTo>
                  <a:lnTo>
                    <a:pt x="173" y="31"/>
                  </a:lnTo>
                  <a:lnTo>
                    <a:pt x="181" y="37"/>
                  </a:lnTo>
                  <a:lnTo>
                    <a:pt x="18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60"/>
            <p:cNvSpPr/>
            <p:nvPr/>
          </p:nvSpPr>
          <p:spPr>
            <a:xfrm>
              <a:off x="4958280" y="3697200"/>
              <a:ext cx="27720" cy="266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1" h="68">
                  <a:moveTo>
                    <a:pt x="69" y="23"/>
                  </a:moveTo>
                  <a:lnTo>
                    <a:pt x="57" y="14"/>
                  </a:lnTo>
                  <a:lnTo>
                    <a:pt x="44" y="10"/>
                  </a:lnTo>
                  <a:lnTo>
                    <a:pt x="30" y="4"/>
                  </a:lnTo>
                  <a:lnTo>
                    <a:pt x="7" y="0"/>
                  </a:lnTo>
                  <a:lnTo>
                    <a:pt x="0" y="6"/>
                  </a:lnTo>
                  <a:lnTo>
                    <a:pt x="3" y="19"/>
                  </a:lnTo>
                  <a:lnTo>
                    <a:pt x="13" y="46"/>
                  </a:lnTo>
                  <a:lnTo>
                    <a:pt x="23" y="62"/>
                  </a:lnTo>
                  <a:lnTo>
                    <a:pt x="30" y="66"/>
                  </a:lnTo>
                  <a:lnTo>
                    <a:pt x="36" y="68"/>
                  </a:lnTo>
                  <a:lnTo>
                    <a:pt x="55" y="66"/>
                  </a:lnTo>
                  <a:lnTo>
                    <a:pt x="69" y="54"/>
                  </a:lnTo>
                  <a:lnTo>
                    <a:pt x="71" y="39"/>
                  </a:lnTo>
                  <a:lnTo>
                    <a:pt x="69" y="23"/>
                  </a:lnTo>
                  <a:lnTo>
                    <a:pt x="6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61"/>
            <p:cNvSpPr/>
            <p:nvPr/>
          </p:nvSpPr>
          <p:spPr>
            <a:xfrm>
              <a:off x="4503600" y="3712680"/>
              <a:ext cx="32040" cy="302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82" h="77">
                  <a:moveTo>
                    <a:pt x="0" y="42"/>
                  </a:moveTo>
                  <a:lnTo>
                    <a:pt x="6" y="34"/>
                  </a:lnTo>
                  <a:lnTo>
                    <a:pt x="13" y="25"/>
                  </a:lnTo>
                  <a:lnTo>
                    <a:pt x="19" y="15"/>
                  </a:lnTo>
                  <a:lnTo>
                    <a:pt x="27" y="9"/>
                  </a:lnTo>
                  <a:lnTo>
                    <a:pt x="36" y="2"/>
                  </a:lnTo>
                  <a:lnTo>
                    <a:pt x="50" y="0"/>
                  </a:lnTo>
                  <a:lnTo>
                    <a:pt x="57" y="9"/>
                  </a:lnTo>
                  <a:lnTo>
                    <a:pt x="65" y="17"/>
                  </a:lnTo>
                  <a:lnTo>
                    <a:pt x="77" y="36"/>
                  </a:lnTo>
                  <a:lnTo>
                    <a:pt x="82" y="56"/>
                  </a:lnTo>
                  <a:lnTo>
                    <a:pt x="75" y="67"/>
                  </a:lnTo>
                  <a:lnTo>
                    <a:pt x="65" y="75"/>
                  </a:lnTo>
                  <a:lnTo>
                    <a:pt x="40" y="77"/>
                  </a:lnTo>
                  <a:lnTo>
                    <a:pt x="19" y="65"/>
                  </a:lnTo>
                  <a:lnTo>
                    <a:pt x="11" y="56"/>
                  </a:lnTo>
                  <a:lnTo>
                    <a:pt x="4" y="5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62"/>
            <p:cNvSpPr/>
            <p:nvPr/>
          </p:nvSpPr>
          <p:spPr>
            <a:xfrm>
              <a:off x="4881240" y="3874680"/>
              <a:ext cx="33480" cy="23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6" h="60">
                  <a:moveTo>
                    <a:pt x="0" y="0"/>
                  </a:moveTo>
                  <a:lnTo>
                    <a:pt x="57" y="6"/>
                  </a:lnTo>
                  <a:lnTo>
                    <a:pt x="84" y="16"/>
                  </a:lnTo>
                  <a:lnTo>
                    <a:pt x="86" y="21"/>
                  </a:lnTo>
                  <a:lnTo>
                    <a:pt x="80" y="29"/>
                  </a:lnTo>
                  <a:lnTo>
                    <a:pt x="59" y="37"/>
                  </a:lnTo>
                  <a:lnTo>
                    <a:pt x="46" y="41"/>
                  </a:lnTo>
                  <a:lnTo>
                    <a:pt x="40" y="43"/>
                  </a:lnTo>
                  <a:lnTo>
                    <a:pt x="40" y="50"/>
                  </a:lnTo>
                  <a:lnTo>
                    <a:pt x="34" y="56"/>
                  </a:lnTo>
                  <a:lnTo>
                    <a:pt x="2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63"/>
            <p:cNvSpPr/>
            <p:nvPr/>
          </p:nvSpPr>
          <p:spPr>
            <a:xfrm>
              <a:off x="5001120" y="3956400"/>
              <a:ext cx="30960" cy="15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9" h="41">
                  <a:moveTo>
                    <a:pt x="4" y="0"/>
                  </a:moveTo>
                  <a:lnTo>
                    <a:pt x="77" y="6"/>
                  </a:lnTo>
                  <a:lnTo>
                    <a:pt x="79" y="29"/>
                  </a:lnTo>
                  <a:lnTo>
                    <a:pt x="52" y="35"/>
                  </a:lnTo>
                  <a:lnTo>
                    <a:pt x="19" y="41"/>
                  </a:lnTo>
                  <a:lnTo>
                    <a:pt x="6" y="31"/>
                  </a:lnTo>
                  <a:lnTo>
                    <a:pt x="0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64"/>
            <p:cNvSpPr/>
            <p:nvPr/>
          </p:nvSpPr>
          <p:spPr>
            <a:xfrm>
              <a:off x="5104080" y="3967200"/>
              <a:ext cx="142560" cy="2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63" h="58">
                  <a:moveTo>
                    <a:pt x="39" y="18"/>
                  </a:moveTo>
                  <a:lnTo>
                    <a:pt x="106" y="0"/>
                  </a:lnTo>
                  <a:lnTo>
                    <a:pt x="123" y="4"/>
                  </a:lnTo>
                  <a:lnTo>
                    <a:pt x="163" y="10"/>
                  </a:lnTo>
                  <a:lnTo>
                    <a:pt x="211" y="14"/>
                  </a:lnTo>
                  <a:lnTo>
                    <a:pt x="248" y="16"/>
                  </a:lnTo>
                  <a:lnTo>
                    <a:pt x="307" y="10"/>
                  </a:lnTo>
                  <a:lnTo>
                    <a:pt x="344" y="12"/>
                  </a:lnTo>
                  <a:lnTo>
                    <a:pt x="350" y="20"/>
                  </a:lnTo>
                  <a:lnTo>
                    <a:pt x="357" y="29"/>
                  </a:lnTo>
                  <a:lnTo>
                    <a:pt x="363" y="43"/>
                  </a:lnTo>
                  <a:lnTo>
                    <a:pt x="355" y="48"/>
                  </a:lnTo>
                  <a:lnTo>
                    <a:pt x="325" y="43"/>
                  </a:lnTo>
                  <a:lnTo>
                    <a:pt x="279" y="43"/>
                  </a:lnTo>
                  <a:lnTo>
                    <a:pt x="250" y="50"/>
                  </a:lnTo>
                  <a:lnTo>
                    <a:pt x="194" y="39"/>
                  </a:lnTo>
                  <a:lnTo>
                    <a:pt x="156" y="31"/>
                  </a:lnTo>
                  <a:lnTo>
                    <a:pt x="131" y="33"/>
                  </a:lnTo>
                  <a:lnTo>
                    <a:pt x="121" y="41"/>
                  </a:lnTo>
                  <a:lnTo>
                    <a:pt x="113" y="50"/>
                  </a:lnTo>
                  <a:lnTo>
                    <a:pt x="106" y="58"/>
                  </a:lnTo>
                  <a:lnTo>
                    <a:pt x="100" y="58"/>
                  </a:lnTo>
                  <a:lnTo>
                    <a:pt x="46" y="54"/>
                  </a:lnTo>
                  <a:lnTo>
                    <a:pt x="0" y="52"/>
                  </a:lnTo>
                  <a:lnTo>
                    <a:pt x="39" y="18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65"/>
            <p:cNvSpPr/>
            <p:nvPr/>
          </p:nvSpPr>
          <p:spPr>
            <a:xfrm>
              <a:off x="5217840" y="4177440"/>
              <a:ext cx="124560" cy="363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17" h="93">
                  <a:moveTo>
                    <a:pt x="0" y="71"/>
                  </a:moveTo>
                  <a:lnTo>
                    <a:pt x="19" y="66"/>
                  </a:lnTo>
                  <a:lnTo>
                    <a:pt x="60" y="56"/>
                  </a:lnTo>
                  <a:lnTo>
                    <a:pt x="108" y="48"/>
                  </a:lnTo>
                  <a:lnTo>
                    <a:pt x="142" y="44"/>
                  </a:lnTo>
                  <a:lnTo>
                    <a:pt x="179" y="37"/>
                  </a:lnTo>
                  <a:lnTo>
                    <a:pt x="209" y="29"/>
                  </a:lnTo>
                  <a:lnTo>
                    <a:pt x="240" y="23"/>
                  </a:lnTo>
                  <a:lnTo>
                    <a:pt x="269" y="14"/>
                  </a:lnTo>
                  <a:lnTo>
                    <a:pt x="294" y="8"/>
                  </a:lnTo>
                  <a:lnTo>
                    <a:pt x="317" y="0"/>
                  </a:lnTo>
                  <a:lnTo>
                    <a:pt x="290" y="31"/>
                  </a:lnTo>
                  <a:lnTo>
                    <a:pt x="261" y="41"/>
                  </a:lnTo>
                  <a:lnTo>
                    <a:pt x="234" y="50"/>
                  </a:lnTo>
                  <a:lnTo>
                    <a:pt x="207" y="62"/>
                  </a:lnTo>
                  <a:lnTo>
                    <a:pt x="182" y="71"/>
                  </a:lnTo>
                  <a:lnTo>
                    <a:pt x="156" y="71"/>
                  </a:lnTo>
                  <a:lnTo>
                    <a:pt x="134" y="71"/>
                  </a:lnTo>
                  <a:lnTo>
                    <a:pt x="77" y="71"/>
                  </a:lnTo>
                  <a:lnTo>
                    <a:pt x="42" y="93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6"/>
            <p:cNvSpPr/>
            <p:nvPr/>
          </p:nvSpPr>
          <p:spPr>
            <a:xfrm>
              <a:off x="5187600" y="4243320"/>
              <a:ext cx="28440" cy="21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3" h="56">
                  <a:moveTo>
                    <a:pt x="23" y="0"/>
                  </a:moveTo>
                  <a:lnTo>
                    <a:pt x="31" y="4"/>
                  </a:lnTo>
                  <a:lnTo>
                    <a:pt x="48" y="13"/>
                  </a:lnTo>
                  <a:lnTo>
                    <a:pt x="64" y="27"/>
                  </a:lnTo>
                  <a:lnTo>
                    <a:pt x="73" y="44"/>
                  </a:lnTo>
                  <a:lnTo>
                    <a:pt x="69" y="54"/>
                  </a:lnTo>
                  <a:lnTo>
                    <a:pt x="58" y="56"/>
                  </a:lnTo>
                  <a:lnTo>
                    <a:pt x="41" y="54"/>
                  </a:lnTo>
                  <a:lnTo>
                    <a:pt x="0" y="3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7"/>
            <p:cNvSpPr/>
            <p:nvPr/>
          </p:nvSpPr>
          <p:spPr>
            <a:xfrm>
              <a:off x="5194800" y="4314600"/>
              <a:ext cx="36000" cy="14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2" h="37">
                  <a:moveTo>
                    <a:pt x="13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13" y="27"/>
                  </a:lnTo>
                  <a:lnTo>
                    <a:pt x="28" y="33"/>
                  </a:lnTo>
                  <a:lnTo>
                    <a:pt x="46" y="37"/>
                  </a:lnTo>
                  <a:lnTo>
                    <a:pt x="92" y="2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8"/>
            <p:cNvSpPr/>
            <p:nvPr/>
          </p:nvSpPr>
          <p:spPr>
            <a:xfrm>
              <a:off x="5210640" y="4339800"/>
              <a:ext cx="41760" cy="16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07" h="42">
                  <a:moveTo>
                    <a:pt x="0" y="0"/>
                  </a:moveTo>
                  <a:lnTo>
                    <a:pt x="6" y="36"/>
                  </a:lnTo>
                  <a:lnTo>
                    <a:pt x="48" y="42"/>
                  </a:lnTo>
                  <a:lnTo>
                    <a:pt x="79" y="40"/>
                  </a:lnTo>
                  <a:lnTo>
                    <a:pt x="107" y="36"/>
                  </a:lnTo>
                  <a:lnTo>
                    <a:pt x="69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9"/>
            <p:cNvSpPr/>
            <p:nvPr/>
          </p:nvSpPr>
          <p:spPr>
            <a:xfrm>
              <a:off x="5196600" y="4368600"/>
              <a:ext cx="20880" cy="19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54" h="50">
                  <a:moveTo>
                    <a:pt x="23" y="15"/>
                  </a:moveTo>
                  <a:lnTo>
                    <a:pt x="27" y="13"/>
                  </a:lnTo>
                  <a:lnTo>
                    <a:pt x="37" y="4"/>
                  </a:lnTo>
                  <a:lnTo>
                    <a:pt x="48" y="0"/>
                  </a:lnTo>
                  <a:lnTo>
                    <a:pt x="54" y="4"/>
                  </a:lnTo>
                  <a:lnTo>
                    <a:pt x="54" y="15"/>
                  </a:lnTo>
                  <a:lnTo>
                    <a:pt x="50" y="25"/>
                  </a:lnTo>
                  <a:lnTo>
                    <a:pt x="43" y="31"/>
                  </a:lnTo>
                  <a:lnTo>
                    <a:pt x="41" y="33"/>
                  </a:lnTo>
                  <a:lnTo>
                    <a:pt x="0" y="50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70"/>
            <p:cNvSpPr/>
            <p:nvPr/>
          </p:nvSpPr>
          <p:spPr>
            <a:xfrm>
              <a:off x="5487120" y="4206240"/>
              <a:ext cx="68400" cy="554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74" h="141">
                  <a:moveTo>
                    <a:pt x="0" y="133"/>
                  </a:moveTo>
                  <a:lnTo>
                    <a:pt x="3" y="128"/>
                  </a:lnTo>
                  <a:lnTo>
                    <a:pt x="13" y="118"/>
                  </a:lnTo>
                  <a:lnTo>
                    <a:pt x="19" y="110"/>
                  </a:lnTo>
                  <a:lnTo>
                    <a:pt x="26" y="104"/>
                  </a:lnTo>
                  <a:lnTo>
                    <a:pt x="34" y="93"/>
                  </a:lnTo>
                  <a:lnTo>
                    <a:pt x="42" y="85"/>
                  </a:lnTo>
                  <a:lnTo>
                    <a:pt x="53" y="74"/>
                  </a:lnTo>
                  <a:lnTo>
                    <a:pt x="63" y="66"/>
                  </a:lnTo>
                  <a:lnTo>
                    <a:pt x="71" y="56"/>
                  </a:lnTo>
                  <a:lnTo>
                    <a:pt x="82" y="47"/>
                  </a:lnTo>
                  <a:lnTo>
                    <a:pt x="92" y="39"/>
                  </a:lnTo>
                  <a:lnTo>
                    <a:pt x="101" y="33"/>
                  </a:lnTo>
                  <a:lnTo>
                    <a:pt x="111" y="27"/>
                  </a:lnTo>
                  <a:lnTo>
                    <a:pt x="119" y="22"/>
                  </a:lnTo>
                  <a:lnTo>
                    <a:pt x="134" y="14"/>
                  </a:lnTo>
                  <a:lnTo>
                    <a:pt x="144" y="10"/>
                  </a:lnTo>
                  <a:lnTo>
                    <a:pt x="161" y="4"/>
                  </a:lnTo>
                  <a:lnTo>
                    <a:pt x="174" y="0"/>
                  </a:lnTo>
                  <a:lnTo>
                    <a:pt x="172" y="4"/>
                  </a:lnTo>
                  <a:lnTo>
                    <a:pt x="161" y="12"/>
                  </a:lnTo>
                  <a:lnTo>
                    <a:pt x="151" y="22"/>
                  </a:lnTo>
                  <a:lnTo>
                    <a:pt x="138" y="31"/>
                  </a:lnTo>
                  <a:lnTo>
                    <a:pt x="119" y="43"/>
                  </a:lnTo>
                  <a:lnTo>
                    <a:pt x="107" y="52"/>
                  </a:lnTo>
                  <a:lnTo>
                    <a:pt x="94" y="64"/>
                  </a:lnTo>
                  <a:lnTo>
                    <a:pt x="80" y="74"/>
                  </a:lnTo>
                  <a:lnTo>
                    <a:pt x="69" y="85"/>
                  </a:lnTo>
                  <a:lnTo>
                    <a:pt x="59" y="95"/>
                  </a:lnTo>
                  <a:lnTo>
                    <a:pt x="51" y="104"/>
                  </a:lnTo>
                  <a:lnTo>
                    <a:pt x="32" y="141"/>
                  </a:lnTo>
                  <a:lnTo>
                    <a:pt x="11" y="139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71"/>
            <p:cNvSpPr/>
            <p:nvPr/>
          </p:nvSpPr>
          <p:spPr>
            <a:xfrm>
              <a:off x="5526000" y="4256280"/>
              <a:ext cx="27720" cy="23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1" h="59">
                  <a:moveTo>
                    <a:pt x="0" y="59"/>
                  </a:moveTo>
                  <a:lnTo>
                    <a:pt x="6" y="36"/>
                  </a:lnTo>
                  <a:lnTo>
                    <a:pt x="71" y="0"/>
                  </a:lnTo>
                  <a:lnTo>
                    <a:pt x="56" y="32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2"/>
            <p:cNvSpPr/>
            <p:nvPr/>
          </p:nvSpPr>
          <p:spPr>
            <a:xfrm>
              <a:off x="5640120" y="4288680"/>
              <a:ext cx="59760" cy="396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2" h="101">
                  <a:moveTo>
                    <a:pt x="12" y="72"/>
                  </a:moveTo>
                  <a:lnTo>
                    <a:pt x="18" y="68"/>
                  </a:lnTo>
                  <a:lnTo>
                    <a:pt x="27" y="62"/>
                  </a:lnTo>
                  <a:lnTo>
                    <a:pt x="37" y="54"/>
                  </a:lnTo>
                  <a:lnTo>
                    <a:pt x="48" y="45"/>
                  </a:lnTo>
                  <a:lnTo>
                    <a:pt x="60" y="37"/>
                  </a:lnTo>
                  <a:lnTo>
                    <a:pt x="73" y="29"/>
                  </a:lnTo>
                  <a:lnTo>
                    <a:pt x="83" y="22"/>
                  </a:lnTo>
                  <a:lnTo>
                    <a:pt x="106" y="12"/>
                  </a:lnTo>
                  <a:lnTo>
                    <a:pt x="129" y="4"/>
                  </a:lnTo>
                  <a:lnTo>
                    <a:pt x="152" y="0"/>
                  </a:lnTo>
                  <a:lnTo>
                    <a:pt x="142" y="20"/>
                  </a:lnTo>
                  <a:lnTo>
                    <a:pt x="125" y="27"/>
                  </a:lnTo>
                  <a:lnTo>
                    <a:pt x="96" y="37"/>
                  </a:lnTo>
                  <a:lnTo>
                    <a:pt x="66" y="49"/>
                  </a:lnTo>
                  <a:lnTo>
                    <a:pt x="46" y="66"/>
                  </a:lnTo>
                  <a:lnTo>
                    <a:pt x="39" y="74"/>
                  </a:lnTo>
                  <a:lnTo>
                    <a:pt x="31" y="83"/>
                  </a:lnTo>
                  <a:lnTo>
                    <a:pt x="23" y="89"/>
                  </a:lnTo>
                  <a:lnTo>
                    <a:pt x="16" y="93"/>
                  </a:lnTo>
                  <a:lnTo>
                    <a:pt x="0" y="101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73"/>
            <p:cNvSpPr/>
            <p:nvPr/>
          </p:nvSpPr>
          <p:spPr>
            <a:xfrm>
              <a:off x="5718600" y="4326120"/>
              <a:ext cx="17280" cy="43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4" h="112">
                  <a:moveTo>
                    <a:pt x="44" y="0"/>
                  </a:moveTo>
                  <a:lnTo>
                    <a:pt x="36" y="8"/>
                  </a:lnTo>
                  <a:lnTo>
                    <a:pt x="19" y="31"/>
                  </a:lnTo>
                  <a:lnTo>
                    <a:pt x="4" y="58"/>
                  </a:lnTo>
                  <a:lnTo>
                    <a:pt x="0" y="81"/>
                  </a:lnTo>
                  <a:lnTo>
                    <a:pt x="8" y="98"/>
                  </a:lnTo>
                  <a:lnTo>
                    <a:pt x="13" y="104"/>
                  </a:lnTo>
                  <a:lnTo>
                    <a:pt x="17" y="108"/>
                  </a:lnTo>
                  <a:lnTo>
                    <a:pt x="23" y="112"/>
                  </a:lnTo>
                  <a:lnTo>
                    <a:pt x="25" y="110"/>
                  </a:lnTo>
                  <a:lnTo>
                    <a:pt x="25" y="85"/>
                  </a:lnTo>
                  <a:lnTo>
                    <a:pt x="23" y="52"/>
                  </a:lnTo>
                  <a:lnTo>
                    <a:pt x="42" y="17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74"/>
            <p:cNvSpPr/>
            <p:nvPr/>
          </p:nvSpPr>
          <p:spPr>
            <a:xfrm>
              <a:off x="5885640" y="4126680"/>
              <a:ext cx="31680" cy="45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81" h="116">
                  <a:moveTo>
                    <a:pt x="0" y="0"/>
                  </a:moveTo>
                  <a:lnTo>
                    <a:pt x="12" y="6"/>
                  </a:lnTo>
                  <a:lnTo>
                    <a:pt x="27" y="12"/>
                  </a:lnTo>
                  <a:lnTo>
                    <a:pt x="41" y="23"/>
                  </a:lnTo>
                  <a:lnTo>
                    <a:pt x="56" y="33"/>
                  </a:lnTo>
                  <a:lnTo>
                    <a:pt x="69" y="46"/>
                  </a:lnTo>
                  <a:lnTo>
                    <a:pt x="81" y="73"/>
                  </a:lnTo>
                  <a:lnTo>
                    <a:pt x="79" y="98"/>
                  </a:lnTo>
                  <a:lnTo>
                    <a:pt x="71" y="112"/>
                  </a:lnTo>
                  <a:lnTo>
                    <a:pt x="64" y="116"/>
                  </a:lnTo>
                  <a:lnTo>
                    <a:pt x="60" y="112"/>
                  </a:lnTo>
                  <a:lnTo>
                    <a:pt x="50" y="71"/>
                  </a:lnTo>
                  <a:lnTo>
                    <a:pt x="39" y="52"/>
                  </a:lnTo>
                  <a:lnTo>
                    <a:pt x="33" y="44"/>
                  </a:lnTo>
                  <a:lnTo>
                    <a:pt x="27" y="37"/>
                  </a:lnTo>
                  <a:lnTo>
                    <a:pt x="16" y="29"/>
                  </a:lnTo>
                  <a:lnTo>
                    <a:pt x="1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75"/>
            <p:cNvSpPr/>
            <p:nvPr/>
          </p:nvSpPr>
          <p:spPr>
            <a:xfrm>
              <a:off x="5892840" y="4252320"/>
              <a:ext cx="12600" cy="24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3" h="62">
                  <a:moveTo>
                    <a:pt x="0" y="19"/>
                  </a:moveTo>
                  <a:lnTo>
                    <a:pt x="6" y="42"/>
                  </a:lnTo>
                  <a:lnTo>
                    <a:pt x="14" y="56"/>
                  </a:lnTo>
                  <a:lnTo>
                    <a:pt x="18" y="60"/>
                  </a:lnTo>
                  <a:lnTo>
                    <a:pt x="25" y="62"/>
                  </a:lnTo>
                  <a:lnTo>
                    <a:pt x="33" y="46"/>
                  </a:lnTo>
                  <a:lnTo>
                    <a:pt x="33" y="33"/>
                  </a:lnTo>
                  <a:lnTo>
                    <a:pt x="10" y="23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76"/>
          <p:cNvGrpSpPr/>
          <p:nvPr/>
        </p:nvGrpSpPr>
        <p:grpSpPr>
          <a:xfrm>
            <a:off x="6400800" y="2895480"/>
            <a:ext cx="1252440" cy="1285920"/>
            <a:chOff x="6400800" y="2895480"/>
            <a:chExt cx="1252440" cy="1285920"/>
          </a:xfrm>
        </p:grpSpPr>
        <p:sp>
          <p:nvSpPr>
            <p:cNvPr id="259" name="AutoShape 177"/>
            <p:cNvSpPr/>
            <p:nvPr/>
          </p:nvSpPr>
          <p:spPr>
            <a:xfrm>
              <a:off x="6400800" y="2895480"/>
              <a:ext cx="1252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8"/>
            <p:cNvSpPr/>
            <p:nvPr/>
          </p:nvSpPr>
          <p:spPr>
            <a:xfrm>
              <a:off x="6411960" y="2903760"/>
              <a:ext cx="1229760" cy="1265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1265760"/>
                <a:gd name="textAreaBottom" fmla="*/ 1266120 h 1265760"/>
              </a:gdLst>
              <a:ahLst/>
              <a:rect l="textAreaLeft" t="textAreaTop" r="textAreaRight" b="textAreaBottom"/>
              <a:pathLst>
                <a:path w="4521" h="4651">
                  <a:moveTo>
                    <a:pt x="294" y="0"/>
                  </a:moveTo>
                  <a:lnTo>
                    <a:pt x="164" y="187"/>
                  </a:lnTo>
                  <a:lnTo>
                    <a:pt x="246" y="323"/>
                  </a:lnTo>
                  <a:lnTo>
                    <a:pt x="232" y="344"/>
                  </a:lnTo>
                  <a:lnTo>
                    <a:pt x="213" y="370"/>
                  </a:lnTo>
                  <a:lnTo>
                    <a:pt x="193" y="408"/>
                  </a:lnTo>
                  <a:lnTo>
                    <a:pt x="180" y="428"/>
                  </a:lnTo>
                  <a:lnTo>
                    <a:pt x="168" y="453"/>
                  </a:lnTo>
                  <a:lnTo>
                    <a:pt x="153" y="482"/>
                  </a:lnTo>
                  <a:lnTo>
                    <a:pt x="141" y="510"/>
                  </a:lnTo>
                  <a:lnTo>
                    <a:pt x="126" y="543"/>
                  </a:lnTo>
                  <a:lnTo>
                    <a:pt x="112" y="578"/>
                  </a:lnTo>
                  <a:lnTo>
                    <a:pt x="106" y="597"/>
                  </a:lnTo>
                  <a:lnTo>
                    <a:pt x="100" y="615"/>
                  </a:lnTo>
                  <a:lnTo>
                    <a:pt x="91" y="636"/>
                  </a:lnTo>
                  <a:lnTo>
                    <a:pt x="85" y="657"/>
                  </a:lnTo>
                  <a:lnTo>
                    <a:pt x="73" y="700"/>
                  </a:lnTo>
                  <a:lnTo>
                    <a:pt x="60" y="745"/>
                  </a:lnTo>
                  <a:lnTo>
                    <a:pt x="48" y="793"/>
                  </a:lnTo>
                  <a:lnTo>
                    <a:pt x="38" y="844"/>
                  </a:lnTo>
                  <a:lnTo>
                    <a:pt x="27" y="898"/>
                  </a:lnTo>
                  <a:lnTo>
                    <a:pt x="19" y="953"/>
                  </a:lnTo>
                  <a:lnTo>
                    <a:pt x="7" y="1073"/>
                  </a:lnTo>
                  <a:lnTo>
                    <a:pt x="0" y="1204"/>
                  </a:lnTo>
                  <a:lnTo>
                    <a:pt x="2" y="1344"/>
                  </a:lnTo>
                  <a:lnTo>
                    <a:pt x="7" y="1418"/>
                  </a:lnTo>
                  <a:lnTo>
                    <a:pt x="13" y="1495"/>
                  </a:lnTo>
                  <a:lnTo>
                    <a:pt x="23" y="1575"/>
                  </a:lnTo>
                  <a:lnTo>
                    <a:pt x="35" y="1657"/>
                  </a:lnTo>
                  <a:lnTo>
                    <a:pt x="42" y="1698"/>
                  </a:lnTo>
                  <a:lnTo>
                    <a:pt x="50" y="1740"/>
                  </a:lnTo>
                  <a:lnTo>
                    <a:pt x="58" y="1781"/>
                  </a:lnTo>
                  <a:lnTo>
                    <a:pt x="66" y="1822"/>
                  </a:lnTo>
                  <a:lnTo>
                    <a:pt x="77" y="1863"/>
                  </a:lnTo>
                  <a:lnTo>
                    <a:pt x="87" y="1904"/>
                  </a:lnTo>
                  <a:lnTo>
                    <a:pt x="97" y="1943"/>
                  </a:lnTo>
                  <a:lnTo>
                    <a:pt x="110" y="1985"/>
                  </a:lnTo>
                  <a:lnTo>
                    <a:pt x="120" y="2024"/>
                  </a:lnTo>
                  <a:lnTo>
                    <a:pt x="133" y="2063"/>
                  </a:lnTo>
                  <a:lnTo>
                    <a:pt x="139" y="2083"/>
                  </a:lnTo>
                  <a:lnTo>
                    <a:pt x="145" y="2102"/>
                  </a:lnTo>
                  <a:lnTo>
                    <a:pt x="153" y="2123"/>
                  </a:lnTo>
                  <a:lnTo>
                    <a:pt x="159" y="2141"/>
                  </a:lnTo>
                  <a:lnTo>
                    <a:pt x="166" y="2162"/>
                  </a:lnTo>
                  <a:lnTo>
                    <a:pt x="172" y="2180"/>
                  </a:lnTo>
                  <a:lnTo>
                    <a:pt x="180" y="2199"/>
                  </a:lnTo>
                  <a:lnTo>
                    <a:pt x="186" y="2217"/>
                  </a:lnTo>
                  <a:lnTo>
                    <a:pt x="193" y="2238"/>
                  </a:lnTo>
                  <a:lnTo>
                    <a:pt x="201" y="2256"/>
                  </a:lnTo>
                  <a:lnTo>
                    <a:pt x="207" y="2275"/>
                  </a:lnTo>
                  <a:lnTo>
                    <a:pt x="215" y="2293"/>
                  </a:lnTo>
                  <a:lnTo>
                    <a:pt x="221" y="2312"/>
                  </a:lnTo>
                  <a:lnTo>
                    <a:pt x="230" y="2330"/>
                  </a:lnTo>
                  <a:lnTo>
                    <a:pt x="236" y="2349"/>
                  </a:lnTo>
                  <a:lnTo>
                    <a:pt x="244" y="2368"/>
                  </a:lnTo>
                  <a:lnTo>
                    <a:pt x="250" y="2386"/>
                  </a:lnTo>
                  <a:lnTo>
                    <a:pt x="259" y="2403"/>
                  </a:lnTo>
                  <a:lnTo>
                    <a:pt x="267" y="2421"/>
                  </a:lnTo>
                  <a:lnTo>
                    <a:pt x="275" y="2440"/>
                  </a:lnTo>
                  <a:lnTo>
                    <a:pt x="290" y="2475"/>
                  </a:lnTo>
                  <a:lnTo>
                    <a:pt x="306" y="2510"/>
                  </a:lnTo>
                  <a:lnTo>
                    <a:pt x="321" y="2543"/>
                  </a:lnTo>
                  <a:lnTo>
                    <a:pt x="337" y="2578"/>
                  </a:lnTo>
                  <a:lnTo>
                    <a:pt x="354" y="2610"/>
                  </a:lnTo>
                  <a:lnTo>
                    <a:pt x="370" y="2643"/>
                  </a:lnTo>
                  <a:lnTo>
                    <a:pt x="385" y="2674"/>
                  </a:lnTo>
                  <a:lnTo>
                    <a:pt x="401" y="2707"/>
                  </a:lnTo>
                  <a:lnTo>
                    <a:pt x="418" y="2738"/>
                  </a:lnTo>
                  <a:lnTo>
                    <a:pt x="434" y="2767"/>
                  </a:lnTo>
                  <a:lnTo>
                    <a:pt x="451" y="2798"/>
                  </a:lnTo>
                  <a:lnTo>
                    <a:pt x="465" y="2827"/>
                  </a:lnTo>
                  <a:lnTo>
                    <a:pt x="482" y="2855"/>
                  </a:lnTo>
                  <a:lnTo>
                    <a:pt x="498" y="2882"/>
                  </a:lnTo>
                  <a:lnTo>
                    <a:pt x="513" y="2909"/>
                  </a:lnTo>
                  <a:lnTo>
                    <a:pt x="529" y="2936"/>
                  </a:lnTo>
                  <a:lnTo>
                    <a:pt x="544" y="2963"/>
                  </a:lnTo>
                  <a:lnTo>
                    <a:pt x="558" y="2987"/>
                  </a:lnTo>
                  <a:lnTo>
                    <a:pt x="573" y="3010"/>
                  </a:lnTo>
                  <a:lnTo>
                    <a:pt x="587" y="3035"/>
                  </a:lnTo>
                  <a:lnTo>
                    <a:pt x="602" y="3057"/>
                  </a:lnTo>
                  <a:lnTo>
                    <a:pt x="616" y="3078"/>
                  </a:lnTo>
                  <a:lnTo>
                    <a:pt x="629" y="3100"/>
                  </a:lnTo>
                  <a:lnTo>
                    <a:pt x="641" y="3121"/>
                  </a:lnTo>
                  <a:lnTo>
                    <a:pt x="656" y="3140"/>
                  </a:lnTo>
                  <a:lnTo>
                    <a:pt x="668" y="3158"/>
                  </a:lnTo>
                  <a:lnTo>
                    <a:pt x="691" y="3193"/>
                  </a:lnTo>
                  <a:lnTo>
                    <a:pt x="711" y="3224"/>
                  </a:lnTo>
                  <a:lnTo>
                    <a:pt x="730" y="3251"/>
                  </a:lnTo>
                  <a:lnTo>
                    <a:pt x="746" y="3273"/>
                  </a:lnTo>
                  <a:lnTo>
                    <a:pt x="761" y="3294"/>
                  </a:lnTo>
                  <a:lnTo>
                    <a:pt x="780" y="3319"/>
                  </a:lnTo>
                  <a:lnTo>
                    <a:pt x="786" y="3329"/>
                  </a:lnTo>
                  <a:lnTo>
                    <a:pt x="672" y="3354"/>
                  </a:lnTo>
                  <a:lnTo>
                    <a:pt x="844" y="3500"/>
                  </a:lnTo>
                  <a:lnTo>
                    <a:pt x="1302" y="3492"/>
                  </a:lnTo>
                  <a:lnTo>
                    <a:pt x="1123" y="3566"/>
                  </a:lnTo>
                  <a:lnTo>
                    <a:pt x="1108" y="3646"/>
                  </a:lnTo>
                  <a:lnTo>
                    <a:pt x="1077" y="3640"/>
                  </a:lnTo>
                  <a:lnTo>
                    <a:pt x="1040" y="3634"/>
                  </a:lnTo>
                  <a:lnTo>
                    <a:pt x="990" y="3630"/>
                  </a:lnTo>
                  <a:lnTo>
                    <a:pt x="868" y="3628"/>
                  </a:lnTo>
                  <a:lnTo>
                    <a:pt x="722" y="3646"/>
                  </a:lnTo>
                  <a:lnTo>
                    <a:pt x="684" y="3654"/>
                  </a:lnTo>
                  <a:lnTo>
                    <a:pt x="649" y="3667"/>
                  </a:lnTo>
                  <a:lnTo>
                    <a:pt x="635" y="3673"/>
                  </a:lnTo>
                  <a:lnTo>
                    <a:pt x="618" y="3681"/>
                  </a:lnTo>
                  <a:lnTo>
                    <a:pt x="604" y="3689"/>
                  </a:lnTo>
                  <a:lnTo>
                    <a:pt x="589" y="3698"/>
                  </a:lnTo>
                  <a:lnTo>
                    <a:pt x="575" y="3706"/>
                  </a:lnTo>
                  <a:lnTo>
                    <a:pt x="563" y="3714"/>
                  </a:lnTo>
                  <a:lnTo>
                    <a:pt x="550" y="3724"/>
                  </a:lnTo>
                  <a:lnTo>
                    <a:pt x="538" y="3733"/>
                  </a:lnTo>
                  <a:lnTo>
                    <a:pt x="527" y="3743"/>
                  </a:lnTo>
                  <a:lnTo>
                    <a:pt x="517" y="3753"/>
                  </a:lnTo>
                  <a:lnTo>
                    <a:pt x="507" y="3761"/>
                  </a:lnTo>
                  <a:lnTo>
                    <a:pt x="496" y="3772"/>
                  </a:lnTo>
                  <a:lnTo>
                    <a:pt x="488" y="3782"/>
                  </a:lnTo>
                  <a:lnTo>
                    <a:pt x="480" y="3790"/>
                  </a:lnTo>
                  <a:lnTo>
                    <a:pt x="472" y="3798"/>
                  </a:lnTo>
                  <a:lnTo>
                    <a:pt x="465" y="3809"/>
                  </a:lnTo>
                  <a:lnTo>
                    <a:pt x="445" y="3838"/>
                  </a:lnTo>
                  <a:lnTo>
                    <a:pt x="426" y="3866"/>
                  </a:lnTo>
                  <a:lnTo>
                    <a:pt x="542" y="4097"/>
                  </a:lnTo>
                  <a:lnTo>
                    <a:pt x="507" y="4099"/>
                  </a:lnTo>
                  <a:lnTo>
                    <a:pt x="424" y="4107"/>
                  </a:lnTo>
                  <a:lnTo>
                    <a:pt x="377" y="4115"/>
                  </a:lnTo>
                  <a:lnTo>
                    <a:pt x="327" y="4124"/>
                  </a:lnTo>
                  <a:lnTo>
                    <a:pt x="281" y="4134"/>
                  </a:lnTo>
                  <a:lnTo>
                    <a:pt x="246" y="4144"/>
                  </a:lnTo>
                  <a:lnTo>
                    <a:pt x="219" y="4159"/>
                  </a:lnTo>
                  <a:lnTo>
                    <a:pt x="197" y="4171"/>
                  </a:lnTo>
                  <a:lnTo>
                    <a:pt x="180" y="4185"/>
                  </a:lnTo>
                  <a:lnTo>
                    <a:pt x="166" y="4198"/>
                  </a:lnTo>
                  <a:lnTo>
                    <a:pt x="149" y="4227"/>
                  </a:lnTo>
                  <a:lnTo>
                    <a:pt x="195" y="4231"/>
                  </a:lnTo>
                  <a:lnTo>
                    <a:pt x="240" y="4239"/>
                  </a:lnTo>
                  <a:lnTo>
                    <a:pt x="290" y="4247"/>
                  </a:lnTo>
                  <a:lnTo>
                    <a:pt x="337" y="4262"/>
                  </a:lnTo>
                  <a:lnTo>
                    <a:pt x="372" y="4278"/>
                  </a:lnTo>
                  <a:lnTo>
                    <a:pt x="383" y="4288"/>
                  </a:lnTo>
                  <a:lnTo>
                    <a:pt x="389" y="4299"/>
                  </a:lnTo>
                  <a:lnTo>
                    <a:pt x="387" y="4311"/>
                  </a:lnTo>
                  <a:lnTo>
                    <a:pt x="377" y="4325"/>
                  </a:lnTo>
                  <a:lnTo>
                    <a:pt x="352" y="4367"/>
                  </a:lnTo>
                  <a:lnTo>
                    <a:pt x="356" y="4381"/>
                  </a:lnTo>
                  <a:lnTo>
                    <a:pt x="360" y="4385"/>
                  </a:lnTo>
                  <a:lnTo>
                    <a:pt x="368" y="4389"/>
                  </a:lnTo>
                  <a:lnTo>
                    <a:pt x="387" y="4395"/>
                  </a:lnTo>
                  <a:lnTo>
                    <a:pt x="408" y="4400"/>
                  </a:lnTo>
                  <a:lnTo>
                    <a:pt x="451" y="4406"/>
                  </a:lnTo>
                  <a:lnTo>
                    <a:pt x="488" y="4424"/>
                  </a:lnTo>
                  <a:lnTo>
                    <a:pt x="496" y="4430"/>
                  </a:lnTo>
                  <a:lnTo>
                    <a:pt x="505" y="4439"/>
                  </a:lnTo>
                  <a:lnTo>
                    <a:pt x="511" y="4447"/>
                  </a:lnTo>
                  <a:lnTo>
                    <a:pt x="519" y="4455"/>
                  </a:lnTo>
                  <a:lnTo>
                    <a:pt x="525" y="4461"/>
                  </a:lnTo>
                  <a:lnTo>
                    <a:pt x="532" y="4470"/>
                  </a:lnTo>
                  <a:lnTo>
                    <a:pt x="542" y="4484"/>
                  </a:lnTo>
                  <a:lnTo>
                    <a:pt x="550" y="4496"/>
                  </a:lnTo>
                  <a:lnTo>
                    <a:pt x="484" y="4562"/>
                  </a:lnTo>
                  <a:lnTo>
                    <a:pt x="639" y="4554"/>
                  </a:lnTo>
                  <a:lnTo>
                    <a:pt x="517" y="4626"/>
                  </a:lnTo>
                  <a:lnTo>
                    <a:pt x="746" y="4579"/>
                  </a:lnTo>
                  <a:lnTo>
                    <a:pt x="664" y="4643"/>
                  </a:lnTo>
                  <a:lnTo>
                    <a:pt x="852" y="4643"/>
                  </a:lnTo>
                  <a:lnTo>
                    <a:pt x="864" y="4626"/>
                  </a:lnTo>
                  <a:lnTo>
                    <a:pt x="870" y="4620"/>
                  </a:lnTo>
                  <a:lnTo>
                    <a:pt x="877" y="4610"/>
                  </a:lnTo>
                  <a:lnTo>
                    <a:pt x="885" y="4601"/>
                  </a:lnTo>
                  <a:lnTo>
                    <a:pt x="893" y="4591"/>
                  </a:lnTo>
                  <a:lnTo>
                    <a:pt x="904" y="4583"/>
                  </a:lnTo>
                  <a:lnTo>
                    <a:pt x="912" y="4575"/>
                  </a:lnTo>
                  <a:lnTo>
                    <a:pt x="922" y="4566"/>
                  </a:lnTo>
                  <a:lnTo>
                    <a:pt x="932" y="4560"/>
                  </a:lnTo>
                  <a:lnTo>
                    <a:pt x="949" y="4552"/>
                  </a:lnTo>
                  <a:lnTo>
                    <a:pt x="968" y="4554"/>
                  </a:lnTo>
                  <a:lnTo>
                    <a:pt x="980" y="4562"/>
                  </a:lnTo>
                  <a:lnTo>
                    <a:pt x="990" y="4575"/>
                  </a:lnTo>
                  <a:lnTo>
                    <a:pt x="1013" y="4608"/>
                  </a:lnTo>
                  <a:lnTo>
                    <a:pt x="1021" y="4616"/>
                  </a:lnTo>
                  <a:lnTo>
                    <a:pt x="1030" y="4624"/>
                  </a:lnTo>
                  <a:lnTo>
                    <a:pt x="1040" y="4632"/>
                  </a:lnTo>
                  <a:lnTo>
                    <a:pt x="1054" y="4638"/>
                  </a:lnTo>
                  <a:lnTo>
                    <a:pt x="1069" y="4643"/>
                  </a:lnTo>
                  <a:lnTo>
                    <a:pt x="1088" y="4647"/>
                  </a:lnTo>
                  <a:lnTo>
                    <a:pt x="1133" y="4651"/>
                  </a:lnTo>
                  <a:lnTo>
                    <a:pt x="1255" y="4638"/>
                  </a:lnTo>
                  <a:lnTo>
                    <a:pt x="1323" y="4628"/>
                  </a:lnTo>
                  <a:lnTo>
                    <a:pt x="1356" y="4622"/>
                  </a:lnTo>
                  <a:lnTo>
                    <a:pt x="1389" y="4614"/>
                  </a:lnTo>
                  <a:lnTo>
                    <a:pt x="1418" y="4608"/>
                  </a:lnTo>
                  <a:lnTo>
                    <a:pt x="1447" y="4601"/>
                  </a:lnTo>
                  <a:lnTo>
                    <a:pt x="1497" y="4589"/>
                  </a:lnTo>
                  <a:lnTo>
                    <a:pt x="1528" y="4581"/>
                  </a:lnTo>
                  <a:lnTo>
                    <a:pt x="1540" y="4579"/>
                  </a:lnTo>
                  <a:lnTo>
                    <a:pt x="1941" y="4634"/>
                  </a:lnTo>
                  <a:lnTo>
                    <a:pt x="1962" y="4628"/>
                  </a:lnTo>
                  <a:lnTo>
                    <a:pt x="1987" y="4620"/>
                  </a:lnTo>
                  <a:lnTo>
                    <a:pt x="2018" y="4610"/>
                  </a:lnTo>
                  <a:lnTo>
                    <a:pt x="2055" y="4599"/>
                  </a:lnTo>
                  <a:lnTo>
                    <a:pt x="2075" y="4593"/>
                  </a:lnTo>
                  <a:lnTo>
                    <a:pt x="2098" y="4587"/>
                  </a:lnTo>
                  <a:lnTo>
                    <a:pt x="2121" y="4579"/>
                  </a:lnTo>
                  <a:lnTo>
                    <a:pt x="2146" y="4575"/>
                  </a:lnTo>
                  <a:lnTo>
                    <a:pt x="2171" y="4568"/>
                  </a:lnTo>
                  <a:lnTo>
                    <a:pt x="2195" y="4562"/>
                  </a:lnTo>
                  <a:lnTo>
                    <a:pt x="2247" y="4552"/>
                  </a:lnTo>
                  <a:lnTo>
                    <a:pt x="2297" y="4542"/>
                  </a:lnTo>
                  <a:lnTo>
                    <a:pt x="2346" y="4535"/>
                  </a:lnTo>
                  <a:lnTo>
                    <a:pt x="2396" y="4531"/>
                  </a:lnTo>
                  <a:lnTo>
                    <a:pt x="2481" y="4538"/>
                  </a:lnTo>
                  <a:lnTo>
                    <a:pt x="2516" y="4546"/>
                  </a:lnTo>
                  <a:lnTo>
                    <a:pt x="2545" y="4562"/>
                  </a:lnTo>
                  <a:lnTo>
                    <a:pt x="2557" y="4570"/>
                  </a:lnTo>
                  <a:lnTo>
                    <a:pt x="2572" y="4579"/>
                  </a:lnTo>
                  <a:lnTo>
                    <a:pt x="2588" y="4587"/>
                  </a:lnTo>
                  <a:lnTo>
                    <a:pt x="2607" y="4593"/>
                  </a:lnTo>
                  <a:lnTo>
                    <a:pt x="2625" y="4599"/>
                  </a:lnTo>
                  <a:lnTo>
                    <a:pt x="2644" y="4605"/>
                  </a:lnTo>
                  <a:lnTo>
                    <a:pt x="2667" y="4612"/>
                  </a:lnTo>
                  <a:lnTo>
                    <a:pt x="2687" y="4618"/>
                  </a:lnTo>
                  <a:lnTo>
                    <a:pt x="2735" y="4626"/>
                  </a:lnTo>
                  <a:lnTo>
                    <a:pt x="2784" y="4632"/>
                  </a:lnTo>
                  <a:lnTo>
                    <a:pt x="2890" y="4640"/>
                  </a:lnTo>
                  <a:lnTo>
                    <a:pt x="2995" y="4640"/>
                  </a:lnTo>
                  <a:lnTo>
                    <a:pt x="3099" y="4634"/>
                  </a:lnTo>
                  <a:lnTo>
                    <a:pt x="3194" y="4622"/>
                  </a:lnTo>
                  <a:lnTo>
                    <a:pt x="3233" y="4614"/>
                  </a:lnTo>
                  <a:lnTo>
                    <a:pt x="3270" y="4603"/>
                  </a:lnTo>
                  <a:lnTo>
                    <a:pt x="3305" y="4591"/>
                  </a:lnTo>
                  <a:lnTo>
                    <a:pt x="3340" y="4581"/>
                  </a:lnTo>
                  <a:lnTo>
                    <a:pt x="3376" y="4568"/>
                  </a:lnTo>
                  <a:lnTo>
                    <a:pt x="3413" y="4558"/>
                  </a:lnTo>
                  <a:lnTo>
                    <a:pt x="3448" y="4546"/>
                  </a:lnTo>
                  <a:lnTo>
                    <a:pt x="3483" y="4533"/>
                  </a:lnTo>
                  <a:lnTo>
                    <a:pt x="3516" y="4523"/>
                  </a:lnTo>
                  <a:lnTo>
                    <a:pt x="3549" y="4513"/>
                  </a:lnTo>
                  <a:lnTo>
                    <a:pt x="3578" y="4503"/>
                  </a:lnTo>
                  <a:lnTo>
                    <a:pt x="3605" y="4492"/>
                  </a:lnTo>
                  <a:lnTo>
                    <a:pt x="3630" y="4484"/>
                  </a:lnTo>
                  <a:lnTo>
                    <a:pt x="3650" y="4478"/>
                  </a:lnTo>
                  <a:lnTo>
                    <a:pt x="3679" y="4468"/>
                  </a:lnTo>
                  <a:lnTo>
                    <a:pt x="3692" y="4463"/>
                  </a:lnTo>
                  <a:lnTo>
                    <a:pt x="3665" y="4395"/>
                  </a:lnTo>
                  <a:lnTo>
                    <a:pt x="3679" y="4377"/>
                  </a:lnTo>
                  <a:lnTo>
                    <a:pt x="3688" y="4367"/>
                  </a:lnTo>
                  <a:lnTo>
                    <a:pt x="3696" y="4356"/>
                  </a:lnTo>
                  <a:lnTo>
                    <a:pt x="3706" y="4346"/>
                  </a:lnTo>
                  <a:lnTo>
                    <a:pt x="3717" y="4336"/>
                  </a:lnTo>
                  <a:lnTo>
                    <a:pt x="3729" y="4328"/>
                  </a:lnTo>
                  <a:lnTo>
                    <a:pt x="3741" y="4321"/>
                  </a:lnTo>
                  <a:lnTo>
                    <a:pt x="3756" y="4315"/>
                  </a:lnTo>
                  <a:lnTo>
                    <a:pt x="3770" y="4311"/>
                  </a:lnTo>
                  <a:lnTo>
                    <a:pt x="3799" y="4315"/>
                  </a:lnTo>
                  <a:lnTo>
                    <a:pt x="3830" y="4334"/>
                  </a:lnTo>
                  <a:lnTo>
                    <a:pt x="3839" y="4340"/>
                  </a:lnTo>
                  <a:lnTo>
                    <a:pt x="3847" y="4344"/>
                  </a:lnTo>
                  <a:lnTo>
                    <a:pt x="3861" y="4354"/>
                  </a:lnTo>
                  <a:lnTo>
                    <a:pt x="3878" y="4360"/>
                  </a:lnTo>
                  <a:lnTo>
                    <a:pt x="3894" y="4365"/>
                  </a:lnTo>
                  <a:lnTo>
                    <a:pt x="3925" y="4365"/>
                  </a:lnTo>
                  <a:lnTo>
                    <a:pt x="3954" y="4360"/>
                  </a:lnTo>
                  <a:lnTo>
                    <a:pt x="3981" y="4352"/>
                  </a:lnTo>
                  <a:lnTo>
                    <a:pt x="4000" y="4344"/>
                  </a:lnTo>
                  <a:lnTo>
                    <a:pt x="4018" y="4334"/>
                  </a:lnTo>
                  <a:lnTo>
                    <a:pt x="4027" y="4202"/>
                  </a:lnTo>
                  <a:lnTo>
                    <a:pt x="4126" y="4227"/>
                  </a:lnTo>
                  <a:lnTo>
                    <a:pt x="4223" y="4122"/>
                  </a:lnTo>
                  <a:lnTo>
                    <a:pt x="4392" y="4173"/>
                  </a:lnTo>
                  <a:lnTo>
                    <a:pt x="4401" y="4165"/>
                  </a:lnTo>
                  <a:lnTo>
                    <a:pt x="4411" y="4155"/>
                  </a:lnTo>
                  <a:lnTo>
                    <a:pt x="4417" y="4146"/>
                  </a:lnTo>
                  <a:lnTo>
                    <a:pt x="4423" y="4140"/>
                  </a:lnTo>
                  <a:lnTo>
                    <a:pt x="4430" y="4130"/>
                  </a:lnTo>
                  <a:lnTo>
                    <a:pt x="4438" y="4122"/>
                  </a:lnTo>
                  <a:lnTo>
                    <a:pt x="4452" y="4099"/>
                  </a:lnTo>
                  <a:lnTo>
                    <a:pt x="4469" y="4074"/>
                  </a:lnTo>
                  <a:lnTo>
                    <a:pt x="4483" y="4048"/>
                  </a:lnTo>
                  <a:lnTo>
                    <a:pt x="4496" y="4019"/>
                  </a:lnTo>
                  <a:lnTo>
                    <a:pt x="4508" y="3986"/>
                  </a:lnTo>
                  <a:lnTo>
                    <a:pt x="4521" y="3914"/>
                  </a:lnTo>
                  <a:lnTo>
                    <a:pt x="4516" y="3835"/>
                  </a:lnTo>
                  <a:lnTo>
                    <a:pt x="4506" y="3794"/>
                  </a:lnTo>
                  <a:lnTo>
                    <a:pt x="4498" y="3772"/>
                  </a:lnTo>
                  <a:lnTo>
                    <a:pt x="4488" y="3751"/>
                  </a:lnTo>
                  <a:lnTo>
                    <a:pt x="4477" y="3730"/>
                  </a:lnTo>
                  <a:lnTo>
                    <a:pt x="4465" y="3710"/>
                  </a:lnTo>
                  <a:lnTo>
                    <a:pt x="4450" y="3691"/>
                  </a:lnTo>
                  <a:lnTo>
                    <a:pt x="4442" y="3683"/>
                  </a:lnTo>
                  <a:lnTo>
                    <a:pt x="4436" y="3673"/>
                  </a:lnTo>
                  <a:lnTo>
                    <a:pt x="4428" y="3665"/>
                  </a:lnTo>
                  <a:lnTo>
                    <a:pt x="4419" y="3656"/>
                  </a:lnTo>
                  <a:lnTo>
                    <a:pt x="4411" y="3648"/>
                  </a:lnTo>
                  <a:lnTo>
                    <a:pt x="4401" y="3640"/>
                  </a:lnTo>
                  <a:lnTo>
                    <a:pt x="4392" y="3634"/>
                  </a:lnTo>
                  <a:lnTo>
                    <a:pt x="4384" y="3625"/>
                  </a:lnTo>
                  <a:lnTo>
                    <a:pt x="4374" y="3619"/>
                  </a:lnTo>
                  <a:lnTo>
                    <a:pt x="4366" y="3611"/>
                  </a:lnTo>
                  <a:lnTo>
                    <a:pt x="4355" y="3605"/>
                  </a:lnTo>
                  <a:lnTo>
                    <a:pt x="4345" y="3599"/>
                  </a:lnTo>
                  <a:lnTo>
                    <a:pt x="4337" y="3593"/>
                  </a:lnTo>
                  <a:lnTo>
                    <a:pt x="4326" y="3586"/>
                  </a:lnTo>
                  <a:lnTo>
                    <a:pt x="4306" y="3574"/>
                  </a:lnTo>
                  <a:lnTo>
                    <a:pt x="4285" y="3564"/>
                  </a:lnTo>
                  <a:lnTo>
                    <a:pt x="4262" y="3555"/>
                  </a:lnTo>
                  <a:lnTo>
                    <a:pt x="4242" y="3547"/>
                  </a:lnTo>
                  <a:lnTo>
                    <a:pt x="4219" y="3539"/>
                  </a:lnTo>
                  <a:lnTo>
                    <a:pt x="4196" y="3533"/>
                  </a:lnTo>
                  <a:lnTo>
                    <a:pt x="4173" y="3527"/>
                  </a:lnTo>
                  <a:lnTo>
                    <a:pt x="4151" y="3523"/>
                  </a:lnTo>
                  <a:lnTo>
                    <a:pt x="4107" y="3514"/>
                  </a:lnTo>
                  <a:lnTo>
                    <a:pt x="4020" y="3510"/>
                  </a:lnTo>
                  <a:lnTo>
                    <a:pt x="3944" y="3518"/>
                  </a:lnTo>
                  <a:lnTo>
                    <a:pt x="3909" y="3529"/>
                  </a:lnTo>
                  <a:lnTo>
                    <a:pt x="3880" y="3541"/>
                  </a:lnTo>
                  <a:lnTo>
                    <a:pt x="3865" y="3547"/>
                  </a:lnTo>
                  <a:lnTo>
                    <a:pt x="3849" y="3555"/>
                  </a:lnTo>
                  <a:lnTo>
                    <a:pt x="3830" y="3564"/>
                  </a:lnTo>
                  <a:lnTo>
                    <a:pt x="3812" y="3574"/>
                  </a:lnTo>
                  <a:lnTo>
                    <a:pt x="3791" y="3584"/>
                  </a:lnTo>
                  <a:lnTo>
                    <a:pt x="3768" y="3595"/>
                  </a:lnTo>
                  <a:lnTo>
                    <a:pt x="3746" y="3605"/>
                  </a:lnTo>
                  <a:lnTo>
                    <a:pt x="3723" y="3615"/>
                  </a:lnTo>
                  <a:lnTo>
                    <a:pt x="3698" y="3628"/>
                  </a:lnTo>
                  <a:lnTo>
                    <a:pt x="3673" y="3638"/>
                  </a:lnTo>
                  <a:lnTo>
                    <a:pt x="3648" y="3650"/>
                  </a:lnTo>
                  <a:lnTo>
                    <a:pt x="3624" y="3663"/>
                  </a:lnTo>
                  <a:lnTo>
                    <a:pt x="3597" y="3675"/>
                  </a:lnTo>
                  <a:lnTo>
                    <a:pt x="3572" y="3685"/>
                  </a:lnTo>
                  <a:lnTo>
                    <a:pt x="3547" y="3698"/>
                  </a:lnTo>
                  <a:lnTo>
                    <a:pt x="3522" y="3710"/>
                  </a:lnTo>
                  <a:lnTo>
                    <a:pt x="3497" y="3720"/>
                  </a:lnTo>
                  <a:lnTo>
                    <a:pt x="3473" y="3733"/>
                  </a:lnTo>
                  <a:lnTo>
                    <a:pt x="3450" y="3743"/>
                  </a:lnTo>
                  <a:lnTo>
                    <a:pt x="3427" y="3753"/>
                  </a:lnTo>
                  <a:lnTo>
                    <a:pt x="3404" y="3763"/>
                  </a:lnTo>
                  <a:lnTo>
                    <a:pt x="3386" y="3772"/>
                  </a:lnTo>
                  <a:lnTo>
                    <a:pt x="3365" y="3782"/>
                  </a:lnTo>
                  <a:lnTo>
                    <a:pt x="3349" y="3788"/>
                  </a:lnTo>
                  <a:lnTo>
                    <a:pt x="3332" y="3796"/>
                  </a:lnTo>
                  <a:lnTo>
                    <a:pt x="3318" y="3803"/>
                  </a:lnTo>
                  <a:lnTo>
                    <a:pt x="3295" y="3813"/>
                  </a:lnTo>
                  <a:lnTo>
                    <a:pt x="3274" y="3823"/>
                  </a:lnTo>
                  <a:lnTo>
                    <a:pt x="3280" y="3796"/>
                  </a:lnTo>
                  <a:lnTo>
                    <a:pt x="3291" y="3768"/>
                  </a:lnTo>
                  <a:lnTo>
                    <a:pt x="3297" y="3749"/>
                  </a:lnTo>
                  <a:lnTo>
                    <a:pt x="3307" y="3730"/>
                  </a:lnTo>
                  <a:lnTo>
                    <a:pt x="3320" y="3710"/>
                  </a:lnTo>
                  <a:lnTo>
                    <a:pt x="3334" y="3687"/>
                  </a:lnTo>
                  <a:lnTo>
                    <a:pt x="3351" y="3665"/>
                  </a:lnTo>
                  <a:lnTo>
                    <a:pt x="3359" y="3654"/>
                  </a:lnTo>
                  <a:lnTo>
                    <a:pt x="3369" y="3642"/>
                  </a:lnTo>
                  <a:lnTo>
                    <a:pt x="3382" y="3632"/>
                  </a:lnTo>
                  <a:lnTo>
                    <a:pt x="3392" y="3619"/>
                  </a:lnTo>
                  <a:lnTo>
                    <a:pt x="3404" y="3609"/>
                  </a:lnTo>
                  <a:lnTo>
                    <a:pt x="3419" y="3597"/>
                  </a:lnTo>
                  <a:lnTo>
                    <a:pt x="3433" y="3584"/>
                  </a:lnTo>
                  <a:lnTo>
                    <a:pt x="3448" y="3574"/>
                  </a:lnTo>
                  <a:lnTo>
                    <a:pt x="3464" y="3564"/>
                  </a:lnTo>
                  <a:lnTo>
                    <a:pt x="3481" y="3551"/>
                  </a:lnTo>
                  <a:lnTo>
                    <a:pt x="3500" y="3541"/>
                  </a:lnTo>
                  <a:lnTo>
                    <a:pt x="3518" y="3531"/>
                  </a:lnTo>
                  <a:lnTo>
                    <a:pt x="3535" y="3523"/>
                  </a:lnTo>
                  <a:lnTo>
                    <a:pt x="3551" y="3512"/>
                  </a:lnTo>
                  <a:lnTo>
                    <a:pt x="3570" y="3504"/>
                  </a:lnTo>
                  <a:lnTo>
                    <a:pt x="3586" y="3494"/>
                  </a:lnTo>
                  <a:lnTo>
                    <a:pt x="3603" y="3485"/>
                  </a:lnTo>
                  <a:lnTo>
                    <a:pt x="3619" y="3477"/>
                  </a:lnTo>
                  <a:lnTo>
                    <a:pt x="3636" y="3469"/>
                  </a:lnTo>
                  <a:lnTo>
                    <a:pt x="3653" y="3463"/>
                  </a:lnTo>
                  <a:lnTo>
                    <a:pt x="3669" y="3457"/>
                  </a:lnTo>
                  <a:lnTo>
                    <a:pt x="3684" y="3448"/>
                  </a:lnTo>
                  <a:lnTo>
                    <a:pt x="3698" y="3442"/>
                  </a:lnTo>
                  <a:lnTo>
                    <a:pt x="3712" y="3436"/>
                  </a:lnTo>
                  <a:lnTo>
                    <a:pt x="3739" y="3426"/>
                  </a:lnTo>
                  <a:lnTo>
                    <a:pt x="3766" y="3415"/>
                  </a:lnTo>
                  <a:lnTo>
                    <a:pt x="3789" y="3407"/>
                  </a:lnTo>
                  <a:lnTo>
                    <a:pt x="3808" y="3401"/>
                  </a:lnTo>
                  <a:lnTo>
                    <a:pt x="3824" y="3395"/>
                  </a:lnTo>
                  <a:lnTo>
                    <a:pt x="3857" y="3385"/>
                  </a:lnTo>
                  <a:lnTo>
                    <a:pt x="3839" y="3280"/>
                  </a:lnTo>
                  <a:lnTo>
                    <a:pt x="3192" y="3475"/>
                  </a:lnTo>
                  <a:lnTo>
                    <a:pt x="2619" y="3537"/>
                  </a:lnTo>
                  <a:lnTo>
                    <a:pt x="2495" y="3434"/>
                  </a:lnTo>
                  <a:lnTo>
                    <a:pt x="2609" y="3436"/>
                  </a:lnTo>
                  <a:lnTo>
                    <a:pt x="2873" y="3432"/>
                  </a:lnTo>
                  <a:lnTo>
                    <a:pt x="3028" y="3424"/>
                  </a:lnTo>
                  <a:lnTo>
                    <a:pt x="3179" y="3407"/>
                  </a:lnTo>
                  <a:lnTo>
                    <a:pt x="3249" y="3395"/>
                  </a:lnTo>
                  <a:lnTo>
                    <a:pt x="3316" y="3383"/>
                  </a:lnTo>
                  <a:lnTo>
                    <a:pt x="3345" y="3374"/>
                  </a:lnTo>
                  <a:lnTo>
                    <a:pt x="3373" y="3364"/>
                  </a:lnTo>
                  <a:lnTo>
                    <a:pt x="3398" y="3356"/>
                  </a:lnTo>
                  <a:lnTo>
                    <a:pt x="3421" y="3345"/>
                  </a:lnTo>
                  <a:lnTo>
                    <a:pt x="3442" y="3333"/>
                  </a:lnTo>
                  <a:lnTo>
                    <a:pt x="3462" y="3323"/>
                  </a:lnTo>
                  <a:lnTo>
                    <a:pt x="3483" y="3313"/>
                  </a:lnTo>
                  <a:lnTo>
                    <a:pt x="3504" y="3302"/>
                  </a:lnTo>
                  <a:lnTo>
                    <a:pt x="3522" y="3294"/>
                  </a:lnTo>
                  <a:lnTo>
                    <a:pt x="3541" y="3284"/>
                  </a:lnTo>
                  <a:lnTo>
                    <a:pt x="3559" y="3273"/>
                  </a:lnTo>
                  <a:lnTo>
                    <a:pt x="3578" y="3265"/>
                  </a:lnTo>
                  <a:lnTo>
                    <a:pt x="3595" y="3255"/>
                  </a:lnTo>
                  <a:lnTo>
                    <a:pt x="3611" y="3247"/>
                  </a:lnTo>
                  <a:lnTo>
                    <a:pt x="3628" y="3238"/>
                  </a:lnTo>
                  <a:lnTo>
                    <a:pt x="3644" y="3230"/>
                  </a:lnTo>
                  <a:lnTo>
                    <a:pt x="3659" y="3222"/>
                  </a:lnTo>
                  <a:lnTo>
                    <a:pt x="3673" y="3214"/>
                  </a:lnTo>
                  <a:lnTo>
                    <a:pt x="3686" y="3208"/>
                  </a:lnTo>
                  <a:lnTo>
                    <a:pt x="3700" y="3199"/>
                  </a:lnTo>
                  <a:lnTo>
                    <a:pt x="3712" y="3193"/>
                  </a:lnTo>
                  <a:lnTo>
                    <a:pt x="3723" y="3187"/>
                  </a:lnTo>
                  <a:lnTo>
                    <a:pt x="3743" y="3175"/>
                  </a:lnTo>
                  <a:lnTo>
                    <a:pt x="3762" y="3164"/>
                  </a:lnTo>
                  <a:lnTo>
                    <a:pt x="3779" y="3156"/>
                  </a:lnTo>
                  <a:lnTo>
                    <a:pt x="3799" y="3146"/>
                  </a:lnTo>
                  <a:lnTo>
                    <a:pt x="3805" y="3142"/>
                  </a:lnTo>
                  <a:lnTo>
                    <a:pt x="1228" y="747"/>
                  </a:lnTo>
                  <a:lnTo>
                    <a:pt x="1228" y="1237"/>
                  </a:lnTo>
                  <a:lnTo>
                    <a:pt x="294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9"/>
            <p:cNvSpPr/>
            <p:nvPr/>
          </p:nvSpPr>
          <p:spPr>
            <a:xfrm>
              <a:off x="6466320" y="3069360"/>
              <a:ext cx="171360" cy="461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630" h="1697">
                  <a:moveTo>
                    <a:pt x="54" y="0"/>
                  </a:moveTo>
                  <a:lnTo>
                    <a:pt x="49" y="29"/>
                  </a:lnTo>
                  <a:lnTo>
                    <a:pt x="35" y="107"/>
                  </a:lnTo>
                  <a:lnTo>
                    <a:pt x="18" y="227"/>
                  </a:lnTo>
                  <a:lnTo>
                    <a:pt x="6" y="375"/>
                  </a:lnTo>
                  <a:lnTo>
                    <a:pt x="0" y="546"/>
                  </a:lnTo>
                  <a:lnTo>
                    <a:pt x="6" y="725"/>
                  </a:lnTo>
                  <a:lnTo>
                    <a:pt x="16" y="816"/>
                  </a:lnTo>
                  <a:lnTo>
                    <a:pt x="25" y="861"/>
                  </a:lnTo>
                  <a:lnTo>
                    <a:pt x="33" y="906"/>
                  </a:lnTo>
                  <a:lnTo>
                    <a:pt x="43" y="949"/>
                  </a:lnTo>
                  <a:lnTo>
                    <a:pt x="54" y="993"/>
                  </a:lnTo>
                  <a:lnTo>
                    <a:pt x="66" y="1036"/>
                  </a:lnTo>
                  <a:lnTo>
                    <a:pt x="74" y="1056"/>
                  </a:lnTo>
                  <a:lnTo>
                    <a:pt x="80" y="1077"/>
                  </a:lnTo>
                  <a:lnTo>
                    <a:pt x="89" y="1098"/>
                  </a:lnTo>
                  <a:lnTo>
                    <a:pt x="97" y="1116"/>
                  </a:lnTo>
                  <a:lnTo>
                    <a:pt x="105" y="1137"/>
                  </a:lnTo>
                  <a:lnTo>
                    <a:pt x="114" y="1155"/>
                  </a:lnTo>
                  <a:lnTo>
                    <a:pt x="124" y="1174"/>
                  </a:lnTo>
                  <a:lnTo>
                    <a:pt x="132" y="1192"/>
                  </a:lnTo>
                  <a:lnTo>
                    <a:pt x="142" y="1211"/>
                  </a:lnTo>
                  <a:lnTo>
                    <a:pt x="153" y="1229"/>
                  </a:lnTo>
                  <a:lnTo>
                    <a:pt x="171" y="1262"/>
                  </a:lnTo>
                  <a:lnTo>
                    <a:pt x="192" y="1295"/>
                  </a:lnTo>
                  <a:lnTo>
                    <a:pt x="215" y="1328"/>
                  </a:lnTo>
                  <a:lnTo>
                    <a:pt x="238" y="1357"/>
                  </a:lnTo>
                  <a:lnTo>
                    <a:pt x="242" y="1365"/>
                  </a:lnTo>
                  <a:lnTo>
                    <a:pt x="248" y="1371"/>
                  </a:lnTo>
                  <a:lnTo>
                    <a:pt x="254" y="1380"/>
                  </a:lnTo>
                  <a:lnTo>
                    <a:pt x="258" y="1386"/>
                  </a:lnTo>
                  <a:lnTo>
                    <a:pt x="264" y="1394"/>
                  </a:lnTo>
                  <a:lnTo>
                    <a:pt x="271" y="1400"/>
                  </a:lnTo>
                  <a:lnTo>
                    <a:pt x="277" y="1406"/>
                  </a:lnTo>
                  <a:lnTo>
                    <a:pt x="281" y="1415"/>
                  </a:lnTo>
                  <a:lnTo>
                    <a:pt x="287" y="1421"/>
                  </a:lnTo>
                  <a:lnTo>
                    <a:pt x="293" y="1427"/>
                  </a:lnTo>
                  <a:lnTo>
                    <a:pt x="300" y="1433"/>
                  </a:lnTo>
                  <a:lnTo>
                    <a:pt x="304" y="1439"/>
                  </a:lnTo>
                  <a:lnTo>
                    <a:pt x="310" y="1446"/>
                  </a:lnTo>
                  <a:lnTo>
                    <a:pt x="316" y="1452"/>
                  </a:lnTo>
                  <a:lnTo>
                    <a:pt x="322" y="1458"/>
                  </a:lnTo>
                  <a:lnTo>
                    <a:pt x="328" y="1464"/>
                  </a:lnTo>
                  <a:lnTo>
                    <a:pt x="339" y="1476"/>
                  </a:lnTo>
                  <a:lnTo>
                    <a:pt x="351" y="1489"/>
                  </a:lnTo>
                  <a:lnTo>
                    <a:pt x="362" y="1499"/>
                  </a:lnTo>
                  <a:lnTo>
                    <a:pt x="374" y="1509"/>
                  </a:lnTo>
                  <a:lnTo>
                    <a:pt x="384" y="1520"/>
                  </a:lnTo>
                  <a:lnTo>
                    <a:pt x="395" y="1530"/>
                  </a:lnTo>
                  <a:lnTo>
                    <a:pt x="407" y="1540"/>
                  </a:lnTo>
                  <a:lnTo>
                    <a:pt x="417" y="1551"/>
                  </a:lnTo>
                  <a:lnTo>
                    <a:pt x="428" y="1559"/>
                  </a:lnTo>
                  <a:lnTo>
                    <a:pt x="440" y="1569"/>
                  </a:lnTo>
                  <a:lnTo>
                    <a:pt x="450" y="1577"/>
                  </a:lnTo>
                  <a:lnTo>
                    <a:pt x="461" y="1586"/>
                  </a:lnTo>
                  <a:lnTo>
                    <a:pt x="471" y="1594"/>
                  </a:lnTo>
                  <a:lnTo>
                    <a:pt x="481" y="1602"/>
                  </a:lnTo>
                  <a:lnTo>
                    <a:pt x="490" y="1608"/>
                  </a:lnTo>
                  <a:lnTo>
                    <a:pt x="500" y="1616"/>
                  </a:lnTo>
                  <a:lnTo>
                    <a:pt x="510" y="1623"/>
                  </a:lnTo>
                  <a:lnTo>
                    <a:pt x="519" y="1629"/>
                  </a:lnTo>
                  <a:lnTo>
                    <a:pt x="527" y="1635"/>
                  </a:lnTo>
                  <a:lnTo>
                    <a:pt x="537" y="1641"/>
                  </a:lnTo>
                  <a:lnTo>
                    <a:pt x="552" y="1651"/>
                  </a:lnTo>
                  <a:lnTo>
                    <a:pt x="568" y="1662"/>
                  </a:lnTo>
                  <a:lnTo>
                    <a:pt x="581" y="1670"/>
                  </a:lnTo>
                  <a:lnTo>
                    <a:pt x="593" y="1678"/>
                  </a:lnTo>
                  <a:lnTo>
                    <a:pt x="614" y="1689"/>
                  </a:lnTo>
                  <a:lnTo>
                    <a:pt x="630" y="1697"/>
                  </a:lnTo>
                  <a:lnTo>
                    <a:pt x="630" y="1619"/>
                  </a:lnTo>
                  <a:lnTo>
                    <a:pt x="626" y="1612"/>
                  </a:lnTo>
                  <a:lnTo>
                    <a:pt x="620" y="1608"/>
                  </a:lnTo>
                  <a:lnTo>
                    <a:pt x="614" y="1600"/>
                  </a:lnTo>
                  <a:lnTo>
                    <a:pt x="605" y="1590"/>
                  </a:lnTo>
                  <a:lnTo>
                    <a:pt x="595" y="1577"/>
                  </a:lnTo>
                  <a:lnTo>
                    <a:pt x="589" y="1571"/>
                  </a:lnTo>
                  <a:lnTo>
                    <a:pt x="583" y="1565"/>
                  </a:lnTo>
                  <a:lnTo>
                    <a:pt x="576" y="1557"/>
                  </a:lnTo>
                  <a:lnTo>
                    <a:pt x="568" y="1549"/>
                  </a:lnTo>
                  <a:lnTo>
                    <a:pt x="562" y="1540"/>
                  </a:lnTo>
                  <a:lnTo>
                    <a:pt x="554" y="1532"/>
                  </a:lnTo>
                  <a:lnTo>
                    <a:pt x="545" y="1522"/>
                  </a:lnTo>
                  <a:lnTo>
                    <a:pt x="537" y="1511"/>
                  </a:lnTo>
                  <a:lnTo>
                    <a:pt x="531" y="1503"/>
                  </a:lnTo>
                  <a:lnTo>
                    <a:pt x="521" y="1491"/>
                  </a:lnTo>
                  <a:lnTo>
                    <a:pt x="512" y="1481"/>
                  </a:lnTo>
                  <a:lnTo>
                    <a:pt x="504" y="1470"/>
                  </a:lnTo>
                  <a:lnTo>
                    <a:pt x="494" y="1458"/>
                  </a:lnTo>
                  <a:lnTo>
                    <a:pt x="486" y="1446"/>
                  </a:lnTo>
                  <a:lnTo>
                    <a:pt x="481" y="1439"/>
                  </a:lnTo>
                  <a:lnTo>
                    <a:pt x="475" y="1433"/>
                  </a:lnTo>
                  <a:lnTo>
                    <a:pt x="471" y="1427"/>
                  </a:lnTo>
                  <a:lnTo>
                    <a:pt x="467" y="1421"/>
                  </a:lnTo>
                  <a:lnTo>
                    <a:pt x="446" y="1394"/>
                  </a:lnTo>
                  <a:lnTo>
                    <a:pt x="428" y="1367"/>
                  </a:lnTo>
                  <a:lnTo>
                    <a:pt x="407" y="1339"/>
                  </a:lnTo>
                  <a:lnTo>
                    <a:pt x="386" y="1310"/>
                  </a:lnTo>
                  <a:lnTo>
                    <a:pt x="366" y="1279"/>
                  </a:lnTo>
                  <a:lnTo>
                    <a:pt x="345" y="1246"/>
                  </a:lnTo>
                  <a:lnTo>
                    <a:pt x="324" y="1213"/>
                  </a:lnTo>
                  <a:lnTo>
                    <a:pt x="306" y="1180"/>
                  </a:lnTo>
                  <a:lnTo>
                    <a:pt x="287" y="1147"/>
                  </a:lnTo>
                  <a:lnTo>
                    <a:pt x="266" y="1112"/>
                  </a:lnTo>
                  <a:lnTo>
                    <a:pt x="250" y="1077"/>
                  </a:lnTo>
                  <a:lnTo>
                    <a:pt x="231" y="1040"/>
                  </a:lnTo>
                  <a:lnTo>
                    <a:pt x="217" y="1005"/>
                  </a:lnTo>
                  <a:lnTo>
                    <a:pt x="200" y="968"/>
                  </a:lnTo>
                  <a:lnTo>
                    <a:pt x="188" y="931"/>
                  </a:lnTo>
                  <a:lnTo>
                    <a:pt x="173" y="894"/>
                  </a:lnTo>
                  <a:lnTo>
                    <a:pt x="163" y="857"/>
                  </a:lnTo>
                  <a:lnTo>
                    <a:pt x="153" y="820"/>
                  </a:lnTo>
                  <a:lnTo>
                    <a:pt x="147" y="783"/>
                  </a:lnTo>
                  <a:lnTo>
                    <a:pt x="138" y="746"/>
                  </a:lnTo>
                  <a:lnTo>
                    <a:pt x="126" y="674"/>
                  </a:lnTo>
                  <a:lnTo>
                    <a:pt x="109" y="538"/>
                  </a:lnTo>
                  <a:lnTo>
                    <a:pt x="105" y="412"/>
                  </a:lnTo>
                  <a:lnTo>
                    <a:pt x="105" y="301"/>
                  </a:lnTo>
                  <a:lnTo>
                    <a:pt x="111" y="210"/>
                  </a:lnTo>
                  <a:lnTo>
                    <a:pt x="118" y="140"/>
                  </a:lnTo>
                  <a:lnTo>
                    <a:pt x="128" y="81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80"/>
            <p:cNvSpPr/>
            <p:nvPr/>
          </p:nvSpPr>
          <p:spPr>
            <a:xfrm>
              <a:off x="6477120" y="2953080"/>
              <a:ext cx="258480" cy="374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951" h="1375">
                  <a:moveTo>
                    <a:pt x="54" y="0"/>
                  </a:moveTo>
                  <a:lnTo>
                    <a:pt x="15" y="17"/>
                  </a:lnTo>
                  <a:lnTo>
                    <a:pt x="0" y="45"/>
                  </a:lnTo>
                  <a:lnTo>
                    <a:pt x="4" y="66"/>
                  </a:lnTo>
                  <a:lnTo>
                    <a:pt x="19" y="93"/>
                  </a:lnTo>
                  <a:lnTo>
                    <a:pt x="41" y="124"/>
                  </a:lnTo>
                  <a:lnTo>
                    <a:pt x="62" y="154"/>
                  </a:lnTo>
                  <a:lnTo>
                    <a:pt x="83" y="183"/>
                  </a:lnTo>
                  <a:lnTo>
                    <a:pt x="99" y="214"/>
                  </a:lnTo>
                  <a:lnTo>
                    <a:pt x="116" y="241"/>
                  </a:lnTo>
                  <a:lnTo>
                    <a:pt x="126" y="268"/>
                  </a:lnTo>
                  <a:lnTo>
                    <a:pt x="141" y="313"/>
                  </a:lnTo>
                  <a:lnTo>
                    <a:pt x="147" y="329"/>
                  </a:lnTo>
                  <a:lnTo>
                    <a:pt x="165" y="358"/>
                  </a:lnTo>
                  <a:lnTo>
                    <a:pt x="178" y="375"/>
                  </a:lnTo>
                  <a:lnTo>
                    <a:pt x="190" y="393"/>
                  </a:lnTo>
                  <a:lnTo>
                    <a:pt x="199" y="406"/>
                  </a:lnTo>
                  <a:lnTo>
                    <a:pt x="207" y="416"/>
                  </a:lnTo>
                  <a:lnTo>
                    <a:pt x="217" y="428"/>
                  </a:lnTo>
                  <a:lnTo>
                    <a:pt x="225" y="441"/>
                  </a:lnTo>
                  <a:lnTo>
                    <a:pt x="232" y="447"/>
                  </a:lnTo>
                  <a:lnTo>
                    <a:pt x="236" y="453"/>
                  </a:lnTo>
                  <a:lnTo>
                    <a:pt x="240" y="459"/>
                  </a:lnTo>
                  <a:lnTo>
                    <a:pt x="246" y="465"/>
                  </a:lnTo>
                  <a:lnTo>
                    <a:pt x="250" y="472"/>
                  </a:lnTo>
                  <a:lnTo>
                    <a:pt x="256" y="478"/>
                  </a:lnTo>
                  <a:lnTo>
                    <a:pt x="261" y="486"/>
                  </a:lnTo>
                  <a:lnTo>
                    <a:pt x="267" y="492"/>
                  </a:lnTo>
                  <a:lnTo>
                    <a:pt x="273" y="498"/>
                  </a:lnTo>
                  <a:lnTo>
                    <a:pt x="277" y="507"/>
                  </a:lnTo>
                  <a:lnTo>
                    <a:pt x="283" y="513"/>
                  </a:lnTo>
                  <a:lnTo>
                    <a:pt x="289" y="521"/>
                  </a:lnTo>
                  <a:lnTo>
                    <a:pt x="296" y="527"/>
                  </a:lnTo>
                  <a:lnTo>
                    <a:pt x="302" y="535"/>
                  </a:lnTo>
                  <a:lnTo>
                    <a:pt x="306" y="542"/>
                  </a:lnTo>
                  <a:lnTo>
                    <a:pt x="312" y="550"/>
                  </a:lnTo>
                  <a:lnTo>
                    <a:pt x="318" y="556"/>
                  </a:lnTo>
                  <a:lnTo>
                    <a:pt x="325" y="564"/>
                  </a:lnTo>
                  <a:lnTo>
                    <a:pt x="331" y="572"/>
                  </a:lnTo>
                  <a:lnTo>
                    <a:pt x="337" y="581"/>
                  </a:lnTo>
                  <a:lnTo>
                    <a:pt x="343" y="587"/>
                  </a:lnTo>
                  <a:lnTo>
                    <a:pt x="349" y="595"/>
                  </a:lnTo>
                  <a:lnTo>
                    <a:pt x="356" y="603"/>
                  </a:lnTo>
                  <a:lnTo>
                    <a:pt x="362" y="612"/>
                  </a:lnTo>
                  <a:lnTo>
                    <a:pt x="370" y="618"/>
                  </a:lnTo>
                  <a:lnTo>
                    <a:pt x="376" y="626"/>
                  </a:lnTo>
                  <a:lnTo>
                    <a:pt x="382" y="634"/>
                  </a:lnTo>
                  <a:lnTo>
                    <a:pt x="389" y="642"/>
                  </a:lnTo>
                  <a:lnTo>
                    <a:pt x="395" y="651"/>
                  </a:lnTo>
                  <a:lnTo>
                    <a:pt x="401" y="659"/>
                  </a:lnTo>
                  <a:lnTo>
                    <a:pt x="407" y="667"/>
                  </a:lnTo>
                  <a:lnTo>
                    <a:pt x="416" y="675"/>
                  </a:lnTo>
                  <a:lnTo>
                    <a:pt x="422" y="684"/>
                  </a:lnTo>
                  <a:lnTo>
                    <a:pt x="428" y="690"/>
                  </a:lnTo>
                  <a:lnTo>
                    <a:pt x="434" y="700"/>
                  </a:lnTo>
                  <a:lnTo>
                    <a:pt x="440" y="706"/>
                  </a:lnTo>
                  <a:lnTo>
                    <a:pt x="449" y="714"/>
                  </a:lnTo>
                  <a:lnTo>
                    <a:pt x="455" y="723"/>
                  </a:lnTo>
                  <a:lnTo>
                    <a:pt x="461" y="731"/>
                  </a:lnTo>
                  <a:lnTo>
                    <a:pt x="467" y="739"/>
                  </a:lnTo>
                  <a:lnTo>
                    <a:pt x="475" y="747"/>
                  </a:lnTo>
                  <a:lnTo>
                    <a:pt x="482" y="756"/>
                  </a:lnTo>
                  <a:lnTo>
                    <a:pt x="488" y="764"/>
                  </a:lnTo>
                  <a:lnTo>
                    <a:pt x="494" y="772"/>
                  </a:lnTo>
                  <a:lnTo>
                    <a:pt x="500" y="780"/>
                  </a:lnTo>
                  <a:lnTo>
                    <a:pt x="506" y="789"/>
                  </a:lnTo>
                  <a:lnTo>
                    <a:pt x="515" y="795"/>
                  </a:lnTo>
                  <a:lnTo>
                    <a:pt x="521" y="803"/>
                  </a:lnTo>
                  <a:lnTo>
                    <a:pt x="527" y="811"/>
                  </a:lnTo>
                  <a:lnTo>
                    <a:pt x="533" y="819"/>
                  </a:lnTo>
                  <a:lnTo>
                    <a:pt x="540" y="828"/>
                  </a:lnTo>
                  <a:lnTo>
                    <a:pt x="546" y="836"/>
                  </a:lnTo>
                  <a:lnTo>
                    <a:pt x="552" y="842"/>
                  </a:lnTo>
                  <a:lnTo>
                    <a:pt x="558" y="850"/>
                  </a:lnTo>
                  <a:lnTo>
                    <a:pt x="564" y="859"/>
                  </a:lnTo>
                  <a:lnTo>
                    <a:pt x="571" y="865"/>
                  </a:lnTo>
                  <a:lnTo>
                    <a:pt x="583" y="881"/>
                  </a:lnTo>
                  <a:lnTo>
                    <a:pt x="589" y="887"/>
                  </a:lnTo>
                  <a:lnTo>
                    <a:pt x="595" y="896"/>
                  </a:lnTo>
                  <a:lnTo>
                    <a:pt x="602" y="904"/>
                  </a:lnTo>
                  <a:lnTo>
                    <a:pt x="608" y="910"/>
                  </a:lnTo>
                  <a:lnTo>
                    <a:pt x="614" y="918"/>
                  </a:lnTo>
                  <a:lnTo>
                    <a:pt x="618" y="924"/>
                  </a:lnTo>
                  <a:lnTo>
                    <a:pt x="624" y="931"/>
                  </a:lnTo>
                  <a:lnTo>
                    <a:pt x="630" y="939"/>
                  </a:lnTo>
                  <a:lnTo>
                    <a:pt x="635" y="945"/>
                  </a:lnTo>
                  <a:lnTo>
                    <a:pt x="641" y="951"/>
                  </a:lnTo>
                  <a:lnTo>
                    <a:pt x="647" y="959"/>
                  </a:lnTo>
                  <a:lnTo>
                    <a:pt x="651" y="966"/>
                  </a:lnTo>
                  <a:lnTo>
                    <a:pt x="657" y="972"/>
                  </a:lnTo>
                  <a:lnTo>
                    <a:pt x="661" y="978"/>
                  </a:lnTo>
                  <a:lnTo>
                    <a:pt x="668" y="984"/>
                  </a:lnTo>
                  <a:lnTo>
                    <a:pt x="672" y="990"/>
                  </a:lnTo>
                  <a:lnTo>
                    <a:pt x="676" y="997"/>
                  </a:lnTo>
                  <a:lnTo>
                    <a:pt x="682" y="1003"/>
                  </a:lnTo>
                  <a:lnTo>
                    <a:pt x="690" y="1015"/>
                  </a:lnTo>
                  <a:lnTo>
                    <a:pt x="699" y="1025"/>
                  </a:lnTo>
                  <a:lnTo>
                    <a:pt x="707" y="1036"/>
                  </a:lnTo>
                  <a:lnTo>
                    <a:pt x="715" y="1046"/>
                  </a:lnTo>
                  <a:lnTo>
                    <a:pt x="730" y="1064"/>
                  </a:lnTo>
                  <a:lnTo>
                    <a:pt x="750" y="1095"/>
                  </a:lnTo>
                  <a:lnTo>
                    <a:pt x="767" y="1122"/>
                  </a:lnTo>
                  <a:lnTo>
                    <a:pt x="783" y="1149"/>
                  </a:lnTo>
                  <a:lnTo>
                    <a:pt x="800" y="1176"/>
                  </a:lnTo>
                  <a:lnTo>
                    <a:pt x="817" y="1202"/>
                  </a:lnTo>
                  <a:lnTo>
                    <a:pt x="833" y="1229"/>
                  </a:lnTo>
                  <a:lnTo>
                    <a:pt x="848" y="1256"/>
                  </a:lnTo>
                  <a:lnTo>
                    <a:pt x="864" y="1281"/>
                  </a:lnTo>
                  <a:lnTo>
                    <a:pt x="879" y="1303"/>
                  </a:lnTo>
                  <a:lnTo>
                    <a:pt x="891" y="1324"/>
                  </a:lnTo>
                  <a:lnTo>
                    <a:pt x="903" y="1342"/>
                  </a:lnTo>
                  <a:lnTo>
                    <a:pt x="910" y="1351"/>
                  </a:lnTo>
                  <a:lnTo>
                    <a:pt x="916" y="1357"/>
                  </a:lnTo>
                  <a:lnTo>
                    <a:pt x="926" y="1367"/>
                  </a:lnTo>
                  <a:lnTo>
                    <a:pt x="934" y="1375"/>
                  </a:lnTo>
                  <a:lnTo>
                    <a:pt x="943" y="1375"/>
                  </a:lnTo>
                  <a:lnTo>
                    <a:pt x="951" y="1363"/>
                  </a:lnTo>
                  <a:lnTo>
                    <a:pt x="951" y="1336"/>
                  </a:lnTo>
                  <a:lnTo>
                    <a:pt x="943" y="1307"/>
                  </a:lnTo>
                  <a:lnTo>
                    <a:pt x="936" y="1291"/>
                  </a:lnTo>
                  <a:lnTo>
                    <a:pt x="928" y="1272"/>
                  </a:lnTo>
                  <a:lnTo>
                    <a:pt x="918" y="1254"/>
                  </a:lnTo>
                  <a:lnTo>
                    <a:pt x="907" y="1233"/>
                  </a:lnTo>
                  <a:lnTo>
                    <a:pt x="895" y="1211"/>
                  </a:lnTo>
                  <a:lnTo>
                    <a:pt x="881" y="1186"/>
                  </a:lnTo>
                  <a:lnTo>
                    <a:pt x="866" y="1161"/>
                  </a:lnTo>
                  <a:lnTo>
                    <a:pt x="852" y="1134"/>
                  </a:lnTo>
                  <a:lnTo>
                    <a:pt x="835" y="1104"/>
                  </a:lnTo>
                  <a:lnTo>
                    <a:pt x="819" y="1073"/>
                  </a:lnTo>
                  <a:lnTo>
                    <a:pt x="800" y="1038"/>
                  </a:lnTo>
                  <a:lnTo>
                    <a:pt x="783" y="1003"/>
                  </a:lnTo>
                  <a:lnTo>
                    <a:pt x="773" y="982"/>
                  </a:lnTo>
                  <a:lnTo>
                    <a:pt x="761" y="962"/>
                  </a:lnTo>
                  <a:lnTo>
                    <a:pt x="748" y="939"/>
                  </a:lnTo>
                  <a:lnTo>
                    <a:pt x="732" y="916"/>
                  </a:lnTo>
                  <a:lnTo>
                    <a:pt x="715" y="892"/>
                  </a:lnTo>
                  <a:lnTo>
                    <a:pt x="697" y="867"/>
                  </a:lnTo>
                  <a:lnTo>
                    <a:pt x="678" y="840"/>
                  </a:lnTo>
                  <a:lnTo>
                    <a:pt x="668" y="828"/>
                  </a:lnTo>
                  <a:lnTo>
                    <a:pt x="664" y="819"/>
                  </a:lnTo>
                  <a:lnTo>
                    <a:pt x="657" y="813"/>
                  </a:lnTo>
                  <a:lnTo>
                    <a:pt x="651" y="807"/>
                  </a:lnTo>
                  <a:lnTo>
                    <a:pt x="647" y="801"/>
                  </a:lnTo>
                  <a:lnTo>
                    <a:pt x="637" y="787"/>
                  </a:lnTo>
                  <a:lnTo>
                    <a:pt x="630" y="780"/>
                  </a:lnTo>
                  <a:lnTo>
                    <a:pt x="624" y="772"/>
                  </a:lnTo>
                  <a:lnTo>
                    <a:pt x="620" y="766"/>
                  </a:lnTo>
                  <a:lnTo>
                    <a:pt x="614" y="758"/>
                  </a:lnTo>
                  <a:lnTo>
                    <a:pt x="608" y="752"/>
                  </a:lnTo>
                  <a:lnTo>
                    <a:pt x="602" y="743"/>
                  </a:lnTo>
                  <a:lnTo>
                    <a:pt x="597" y="737"/>
                  </a:lnTo>
                  <a:lnTo>
                    <a:pt x="591" y="731"/>
                  </a:lnTo>
                  <a:lnTo>
                    <a:pt x="585" y="723"/>
                  </a:lnTo>
                  <a:lnTo>
                    <a:pt x="579" y="717"/>
                  </a:lnTo>
                  <a:lnTo>
                    <a:pt x="573" y="708"/>
                  </a:lnTo>
                  <a:lnTo>
                    <a:pt x="566" y="702"/>
                  </a:lnTo>
                  <a:lnTo>
                    <a:pt x="560" y="694"/>
                  </a:lnTo>
                  <a:lnTo>
                    <a:pt x="556" y="688"/>
                  </a:lnTo>
                  <a:lnTo>
                    <a:pt x="550" y="679"/>
                  </a:lnTo>
                  <a:lnTo>
                    <a:pt x="544" y="673"/>
                  </a:lnTo>
                  <a:lnTo>
                    <a:pt x="537" y="665"/>
                  </a:lnTo>
                  <a:lnTo>
                    <a:pt x="531" y="659"/>
                  </a:lnTo>
                  <a:lnTo>
                    <a:pt x="525" y="653"/>
                  </a:lnTo>
                  <a:lnTo>
                    <a:pt x="519" y="644"/>
                  </a:lnTo>
                  <a:lnTo>
                    <a:pt x="513" y="638"/>
                  </a:lnTo>
                  <a:lnTo>
                    <a:pt x="506" y="630"/>
                  </a:lnTo>
                  <a:lnTo>
                    <a:pt x="500" y="624"/>
                  </a:lnTo>
                  <a:lnTo>
                    <a:pt x="494" y="616"/>
                  </a:lnTo>
                  <a:lnTo>
                    <a:pt x="484" y="601"/>
                  </a:lnTo>
                  <a:lnTo>
                    <a:pt x="478" y="595"/>
                  </a:lnTo>
                  <a:lnTo>
                    <a:pt x="471" y="589"/>
                  </a:lnTo>
                  <a:lnTo>
                    <a:pt x="465" y="581"/>
                  </a:lnTo>
                  <a:lnTo>
                    <a:pt x="459" y="574"/>
                  </a:lnTo>
                  <a:lnTo>
                    <a:pt x="453" y="566"/>
                  </a:lnTo>
                  <a:lnTo>
                    <a:pt x="447" y="560"/>
                  </a:lnTo>
                  <a:lnTo>
                    <a:pt x="434" y="546"/>
                  </a:lnTo>
                  <a:lnTo>
                    <a:pt x="430" y="539"/>
                  </a:lnTo>
                  <a:lnTo>
                    <a:pt x="424" y="531"/>
                  </a:lnTo>
                  <a:lnTo>
                    <a:pt x="418" y="525"/>
                  </a:lnTo>
                  <a:lnTo>
                    <a:pt x="411" y="519"/>
                  </a:lnTo>
                  <a:lnTo>
                    <a:pt x="401" y="504"/>
                  </a:lnTo>
                  <a:lnTo>
                    <a:pt x="395" y="498"/>
                  </a:lnTo>
                  <a:lnTo>
                    <a:pt x="389" y="492"/>
                  </a:lnTo>
                  <a:lnTo>
                    <a:pt x="382" y="486"/>
                  </a:lnTo>
                  <a:lnTo>
                    <a:pt x="378" y="478"/>
                  </a:lnTo>
                  <a:lnTo>
                    <a:pt x="372" y="472"/>
                  </a:lnTo>
                  <a:lnTo>
                    <a:pt x="368" y="465"/>
                  </a:lnTo>
                  <a:lnTo>
                    <a:pt x="362" y="459"/>
                  </a:lnTo>
                  <a:lnTo>
                    <a:pt x="356" y="453"/>
                  </a:lnTo>
                  <a:lnTo>
                    <a:pt x="345" y="441"/>
                  </a:lnTo>
                  <a:lnTo>
                    <a:pt x="341" y="434"/>
                  </a:lnTo>
                  <a:lnTo>
                    <a:pt x="335" y="428"/>
                  </a:lnTo>
                  <a:lnTo>
                    <a:pt x="327" y="416"/>
                  </a:lnTo>
                  <a:lnTo>
                    <a:pt x="316" y="404"/>
                  </a:lnTo>
                  <a:lnTo>
                    <a:pt x="306" y="393"/>
                  </a:lnTo>
                  <a:lnTo>
                    <a:pt x="298" y="381"/>
                  </a:lnTo>
                  <a:lnTo>
                    <a:pt x="289" y="371"/>
                  </a:lnTo>
                  <a:lnTo>
                    <a:pt x="281" y="360"/>
                  </a:lnTo>
                  <a:lnTo>
                    <a:pt x="273" y="350"/>
                  </a:lnTo>
                  <a:lnTo>
                    <a:pt x="265" y="340"/>
                  </a:lnTo>
                  <a:lnTo>
                    <a:pt x="240" y="305"/>
                  </a:lnTo>
                  <a:lnTo>
                    <a:pt x="213" y="253"/>
                  </a:lnTo>
                  <a:lnTo>
                    <a:pt x="209" y="235"/>
                  </a:lnTo>
                  <a:lnTo>
                    <a:pt x="201" y="216"/>
                  </a:lnTo>
                  <a:lnTo>
                    <a:pt x="192" y="196"/>
                  </a:lnTo>
                  <a:lnTo>
                    <a:pt x="180" y="175"/>
                  </a:lnTo>
                  <a:lnTo>
                    <a:pt x="168" y="152"/>
                  </a:lnTo>
                  <a:lnTo>
                    <a:pt x="153" y="132"/>
                  </a:lnTo>
                  <a:lnTo>
                    <a:pt x="141" y="111"/>
                  </a:lnTo>
                  <a:lnTo>
                    <a:pt x="126" y="93"/>
                  </a:lnTo>
                  <a:lnTo>
                    <a:pt x="112" y="72"/>
                  </a:lnTo>
                  <a:lnTo>
                    <a:pt x="106" y="64"/>
                  </a:lnTo>
                  <a:lnTo>
                    <a:pt x="99" y="56"/>
                  </a:lnTo>
                  <a:lnTo>
                    <a:pt x="93" y="47"/>
                  </a:lnTo>
                  <a:lnTo>
                    <a:pt x="87" y="39"/>
                  </a:lnTo>
                  <a:lnTo>
                    <a:pt x="81" y="33"/>
                  </a:lnTo>
                  <a:lnTo>
                    <a:pt x="75" y="27"/>
                  </a:lnTo>
                  <a:lnTo>
                    <a:pt x="66" y="14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81"/>
            <p:cNvSpPr/>
            <p:nvPr/>
          </p:nvSpPr>
          <p:spPr>
            <a:xfrm>
              <a:off x="6759360" y="3151440"/>
              <a:ext cx="489600" cy="67788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1800" h="2491">
                  <a:moveTo>
                    <a:pt x="20" y="0"/>
                  </a:moveTo>
                  <a:lnTo>
                    <a:pt x="12" y="169"/>
                  </a:lnTo>
                  <a:lnTo>
                    <a:pt x="0" y="562"/>
                  </a:lnTo>
                  <a:lnTo>
                    <a:pt x="0" y="788"/>
                  </a:lnTo>
                  <a:lnTo>
                    <a:pt x="6" y="1009"/>
                  </a:lnTo>
                  <a:lnTo>
                    <a:pt x="14" y="1108"/>
                  </a:lnTo>
                  <a:lnTo>
                    <a:pt x="22" y="1198"/>
                  </a:lnTo>
                  <a:lnTo>
                    <a:pt x="29" y="1237"/>
                  </a:lnTo>
                  <a:lnTo>
                    <a:pt x="37" y="1274"/>
                  </a:lnTo>
                  <a:lnTo>
                    <a:pt x="45" y="1307"/>
                  </a:lnTo>
                  <a:lnTo>
                    <a:pt x="53" y="1336"/>
                  </a:lnTo>
                  <a:lnTo>
                    <a:pt x="64" y="1363"/>
                  </a:lnTo>
                  <a:lnTo>
                    <a:pt x="74" y="1392"/>
                  </a:lnTo>
                  <a:lnTo>
                    <a:pt x="84" y="1420"/>
                  </a:lnTo>
                  <a:lnTo>
                    <a:pt x="97" y="1451"/>
                  </a:lnTo>
                  <a:lnTo>
                    <a:pt x="109" y="1482"/>
                  </a:lnTo>
                  <a:lnTo>
                    <a:pt x="122" y="1515"/>
                  </a:lnTo>
                  <a:lnTo>
                    <a:pt x="136" y="1548"/>
                  </a:lnTo>
                  <a:lnTo>
                    <a:pt x="148" y="1583"/>
                  </a:lnTo>
                  <a:lnTo>
                    <a:pt x="163" y="1618"/>
                  </a:lnTo>
                  <a:lnTo>
                    <a:pt x="177" y="1653"/>
                  </a:lnTo>
                  <a:lnTo>
                    <a:pt x="192" y="1688"/>
                  </a:lnTo>
                  <a:lnTo>
                    <a:pt x="208" y="1723"/>
                  </a:lnTo>
                  <a:lnTo>
                    <a:pt x="223" y="1758"/>
                  </a:lnTo>
                  <a:lnTo>
                    <a:pt x="237" y="1793"/>
                  </a:lnTo>
                  <a:lnTo>
                    <a:pt x="254" y="1828"/>
                  </a:lnTo>
                  <a:lnTo>
                    <a:pt x="268" y="1863"/>
                  </a:lnTo>
                  <a:lnTo>
                    <a:pt x="283" y="1896"/>
                  </a:lnTo>
                  <a:lnTo>
                    <a:pt x="299" y="1929"/>
                  </a:lnTo>
                  <a:lnTo>
                    <a:pt x="314" y="1962"/>
                  </a:lnTo>
                  <a:lnTo>
                    <a:pt x="328" y="1995"/>
                  </a:lnTo>
                  <a:lnTo>
                    <a:pt x="343" y="2026"/>
                  </a:lnTo>
                  <a:lnTo>
                    <a:pt x="357" y="2055"/>
                  </a:lnTo>
                  <a:lnTo>
                    <a:pt x="372" y="2083"/>
                  </a:lnTo>
                  <a:lnTo>
                    <a:pt x="384" y="2110"/>
                  </a:lnTo>
                  <a:lnTo>
                    <a:pt x="397" y="2137"/>
                  </a:lnTo>
                  <a:lnTo>
                    <a:pt x="409" y="2160"/>
                  </a:lnTo>
                  <a:lnTo>
                    <a:pt x="421" y="2182"/>
                  </a:lnTo>
                  <a:lnTo>
                    <a:pt x="432" y="2203"/>
                  </a:lnTo>
                  <a:lnTo>
                    <a:pt x="442" y="2221"/>
                  </a:lnTo>
                  <a:lnTo>
                    <a:pt x="452" y="2238"/>
                  </a:lnTo>
                  <a:lnTo>
                    <a:pt x="469" y="2265"/>
                  </a:lnTo>
                  <a:lnTo>
                    <a:pt x="477" y="2275"/>
                  </a:lnTo>
                  <a:lnTo>
                    <a:pt x="485" y="2285"/>
                  </a:lnTo>
                  <a:lnTo>
                    <a:pt x="498" y="2295"/>
                  </a:lnTo>
                  <a:lnTo>
                    <a:pt x="508" y="2306"/>
                  </a:lnTo>
                  <a:lnTo>
                    <a:pt x="521" y="2318"/>
                  </a:lnTo>
                  <a:lnTo>
                    <a:pt x="535" y="2328"/>
                  </a:lnTo>
                  <a:lnTo>
                    <a:pt x="549" y="2339"/>
                  </a:lnTo>
                  <a:lnTo>
                    <a:pt x="566" y="2347"/>
                  </a:lnTo>
                  <a:lnTo>
                    <a:pt x="583" y="2357"/>
                  </a:lnTo>
                  <a:lnTo>
                    <a:pt x="599" y="2368"/>
                  </a:lnTo>
                  <a:lnTo>
                    <a:pt x="618" y="2376"/>
                  </a:lnTo>
                  <a:lnTo>
                    <a:pt x="636" y="2386"/>
                  </a:lnTo>
                  <a:lnTo>
                    <a:pt x="657" y="2394"/>
                  </a:lnTo>
                  <a:lnTo>
                    <a:pt x="678" y="2405"/>
                  </a:lnTo>
                  <a:lnTo>
                    <a:pt x="698" y="2413"/>
                  </a:lnTo>
                  <a:lnTo>
                    <a:pt x="719" y="2421"/>
                  </a:lnTo>
                  <a:lnTo>
                    <a:pt x="742" y="2429"/>
                  </a:lnTo>
                  <a:lnTo>
                    <a:pt x="764" y="2435"/>
                  </a:lnTo>
                  <a:lnTo>
                    <a:pt x="787" y="2444"/>
                  </a:lnTo>
                  <a:lnTo>
                    <a:pt x="810" y="2450"/>
                  </a:lnTo>
                  <a:lnTo>
                    <a:pt x="835" y="2456"/>
                  </a:lnTo>
                  <a:lnTo>
                    <a:pt x="857" y="2462"/>
                  </a:lnTo>
                  <a:lnTo>
                    <a:pt x="907" y="2473"/>
                  </a:lnTo>
                  <a:lnTo>
                    <a:pt x="957" y="2481"/>
                  </a:lnTo>
                  <a:lnTo>
                    <a:pt x="1004" y="2487"/>
                  </a:lnTo>
                  <a:lnTo>
                    <a:pt x="1103" y="2491"/>
                  </a:lnTo>
                  <a:lnTo>
                    <a:pt x="1308" y="2481"/>
                  </a:lnTo>
                  <a:lnTo>
                    <a:pt x="1409" y="2466"/>
                  </a:lnTo>
                  <a:lnTo>
                    <a:pt x="1459" y="2460"/>
                  </a:lnTo>
                  <a:lnTo>
                    <a:pt x="1506" y="2450"/>
                  </a:lnTo>
                  <a:lnTo>
                    <a:pt x="1552" y="2442"/>
                  </a:lnTo>
                  <a:lnTo>
                    <a:pt x="1595" y="2431"/>
                  </a:lnTo>
                  <a:lnTo>
                    <a:pt x="1635" y="2421"/>
                  </a:lnTo>
                  <a:lnTo>
                    <a:pt x="1668" y="2409"/>
                  </a:lnTo>
                  <a:lnTo>
                    <a:pt x="1699" y="2398"/>
                  </a:lnTo>
                  <a:lnTo>
                    <a:pt x="1726" y="2388"/>
                  </a:lnTo>
                  <a:lnTo>
                    <a:pt x="1746" y="2376"/>
                  </a:lnTo>
                  <a:lnTo>
                    <a:pt x="1761" y="2365"/>
                  </a:lnTo>
                  <a:lnTo>
                    <a:pt x="1771" y="2353"/>
                  </a:lnTo>
                  <a:lnTo>
                    <a:pt x="1779" y="2343"/>
                  </a:lnTo>
                  <a:lnTo>
                    <a:pt x="1792" y="2326"/>
                  </a:lnTo>
                  <a:lnTo>
                    <a:pt x="1800" y="2300"/>
                  </a:lnTo>
                  <a:lnTo>
                    <a:pt x="1796" y="2283"/>
                  </a:lnTo>
                  <a:lnTo>
                    <a:pt x="1794" y="2277"/>
                  </a:lnTo>
                  <a:lnTo>
                    <a:pt x="1779" y="2285"/>
                  </a:lnTo>
                  <a:lnTo>
                    <a:pt x="1761" y="2293"/>
                  </a:lnTo>
                  <a:lnTo>
                    <a:pt x="1738" y="2304"/>
                  </a:lnTo>
                  <a:lnTo>
                    <a:pt x="1709" y="2314"/>
                  </a:lnTo>
                  <a:lnTo>
                    <a:pt x="1678" y="2326"/>
                  </a:lnTo>
                  <a:lnTo>
                    <a:pt x="1643" y="2337"/>
                  </a:lnTo>
                  <a:lnTo>
                    <a:pt x="1606" y="2345"/>
                  </a:lnTo>
                  <a:lnTo>
                    <a:pt x="1568" y="2349"/>
                  </a:lnTo>
                  <a:lnTo>
                    <a:pt x="1531" y="2345"/>
                  </a:lnTo>
                  <a:lnTo>
                    <a:pt x="1467" y="2326"/>
                  </a:lnTo>
                  <a:lnTo>
                    <a:pt x="1442" y="2312"/>
                  </a:lnTo>
                  <a:lnTo>
                    <a:pt x="1426" y="2298"/>
                  </a:lnTo>
                  <a:lnTo>
                    <a:pt x="1415" y="2283"/>
                  </a:lnTo>
                  <a:lnTo>
                    <a:pt x="1418" y="2271"/>
                  </a:lnTo>
                  <a:lnTo>
                    <a:pt x="1428" y="2260"/>
                  </a:lnTo>
                  <a:lnTo>
                    <a:pt x="1436" y="2254"/>
                  </a:lnTo>
                  <a:lnTo>
                    <a:pt x="1444" y="2248"/>
                  </a:lnTo>
                  <a:lnTo>
                    <a:pt x="1453" y="2240"/>
                  </a:lnTo>
                  <a:lnTo>
                    <a:pt x="1463" y="2234"/>
                  </a:lnTo>
                  <a:lnTo>
                    <a:pt x="1473" y="2228"/>
                  </a:lnTo>
                  <a:lnTo>
                    <a:pt x="1484" y="2221"/>
                  </a:lnTo>
                  <a:lnTo>
                    <a:pt x="1492" y="2215"/>
                  </a:lnTo>
                  <a:lnTo>
                    <a:pt x="1502" y="2209"/>
                  </a:lnTo>
                  <a:lnTo>
                    <a:pt x="1517" y="2199"/>
                  </a:lnTo>
                  <a:lnTo>
                    <a:pt x="1531" y="2190"/>
                  </a:lnTo>
                  <a:lnTo>
                    <a:pt x="1482" y="2184"/>
                  </a:lnTo>
                  <a:lnTo>
                    <a:pt x="1420" y="2176"/>
                  </a:lnTo>
                  <a:lnTo>
                    <a:pt x="1331" y="2170"/>
                  </a:lnTo>
                  <a:lnTo>
                    <a:pt x="1254" y="2160"/>
                  </a:lnTo>
                  <a:lnTo>
                    <a:pt x="1213" y="2145"/>
                  </a:lnTo>
                  <a:lnTo>
                    <a:pt x="1198" y="2131"/>
                  </a:lnTo>
                  <a:lnTo>
                    <a:pt x="1196" y="2125"/>
                  </a:lnTo>
                  <a:lnTo>
                    <a:pt x="1399" y="2083"/>
                  </a:lnTo>
                  <a:lnTo>
                    <a:pt x="1062" y="2057"/>
                  </a:lnTo>
                  <a:lnTo>
                    <a:pt x="1364" y="1976"/>
                  </a:lnTo>
                  <a:lnTo>
                    <a:pt x="1207" y="1976"/>
                  </a:lnTo>
                  <a:lnTo>
                    <a:pt x="1085" y="1960"/>
                  </a:lnTo>
                  <a:lnTo>
                    <a:pt x="1035" y="1945"/>
                  </a:lnTo>
                  <a:lnTo>
                    <a:pt x="1002" y="1923"/>
                  </a:lnTo>
                  <a:lnTo>
                    <a:pt x="992" y="1904"/>
                  </a:lnTo>
                  <a:lnTo>
                    <a:pt x="996" y="1900"/>
                  </a:lnTo>
                  <a:lnTo>
                    <a:pt x="1004" y="1896"/>
                  </a:lnTo>
                  <a:lnTo>
                    <a:pt x="1070" y="1896"/>
                  </a:lnTo>
                  <a:lnTo>
                    <a:pt x="1159" y="1894"/>
                  </a:lnTo>
                  <a:lnTo>
                    <a:pt x="1196" y="1884"/>
                  </a:lnTo>
                  <a:lnTo>
                    <a:pt x="1223" y="1863"/>
                  </a:lnTo>
                  <a:lnTo>
                    <a:pt x="1238" y="1838"/>
                  </a:lnTo>
                  <a:lnTo>
                    <a:pt x="1240" y="1818"/>
                  </a:lnTo>
                  <a:lnTo>
                    <a:pt x="1229" y="1803"/>
                  </a:lnTo>
                  <a:lnTo>
                    <a:pt x="1223" y="1797"/>
                  </a:lnTo>
                  <a:lnTo>
                    <a:pt x="1213" y="1793"/>
                  </a:lnTo>
                  <a:lnTo>
                    <a:pt x="1190" y="1785"/>
                  </a:lnTo>
                  <a:lnTo>
                    <a:pt x="1161" y="1781"/>
                  </a:lnTo>
                  <a:lnTo>
                    <a:pt x="1097" y="1777"/>
                  </a:lnTo>
                  <a:lnTo>
                    <a:pt x="1000" y="1783"/>
                  </a:lnTo>
                  <a:lnTo>
                    <a:pt x="950" y="1779"/>
                  </a:lnTo>
                  <a:lnTo>
                    <a:pt x="870" y="1762"/>
                  </a:lnTo>
                  <a:lnTo>
                    <a:pt x="824" y="1750"/>
                  </a:lnTo>
                  <a:lnTo>
                    <a:pt x="806" y="1744"/>
                  </a:lnTo>
                  <a:lnTo>
                    <a:pt x="789" y="1735"/>
                  </a:lnTo>
                  <a:lnTo>
                    <a:pt x="773" y="1727"/>
                  </a:lnTo>
                  <a:lnTo>
                    <a:pt x="760" y="1721"/>
                  </a:lnTo>
                  <a:lnTo>
                    <a:pt x="744" y="1707"/>
                  </a:lnTo>
                  <a:lnTo>
                    <a:pt x="733" y="1694"/>
                  </a:lnTo>
                  <a:lnTo>
                    <a:pt x="735" y="1684"/>
                  </a:lnTo>
                  <a:lnTo>
                    <a:pt x="748" y="1678"/>
                  </a:lnTo>
                  <a:lnTo>
                    <a:pt x="771" y="1676"/>
                  </a:lnTo>
                  <a:lnTo>
                    <a:pt x="833" y="1672"/>
                  </a:lnTo>
                  <a:lnTo>
                    <a:pt x="895" y="1659"/>
                  </a:lnTo>
                  <a:lnTo>
                    <a:pt x="944" y="1647"/>
                  </a:lnTo>
                  <a:lnTo>
                    <a:pt x="965" y="1643"/>
                  </a:lnTo>
                  <a:lnTo>
                    <a:pt x="676" y="1610"/>
                  </a:lnTo>
                  <a:lnTo>
                    <a:pt x="678" y="1600"/>
                  </a:lnTo>
                  <a:lnTo>
                    <a:pt x="690" y="1579"/>
                  </a:lnTo>
                  <a:lnTo>
                    <a:pt x="696" y="1573"/>
                  </a:lnTo>
                  <a:lnTo>
                    <a:pt x="702" y="1569"/>
                  </a:lnTo>
                  <a:lnTo>
                    <a:pt x="711" y="1563"/>
                  </a:lnTo>
                  <a:lnTo>
                    <a:pt x="721" y="1558"/>
                  </a:lnTo>
                  <a:lnTo>
                    <a:pt x="748" y="1552"/>
                  </a:lnTo>
                  <a:lnTo>
                    <a:pt x="783" y="1550"/>
                  </a:lnTo>
                  <a:lnTo>
                    <a:pt x="859" y="1544"/>
                  </a:lnTo>
                  <a:lnTo>
                    <a:pt x="924" y="1530"/>
                  </a:lnTo>
                  <a:lnTo>
                    <a:pt x="950" y="1521"/>
                  </a:lnTo>
                  <a:lnTo>
                    <a:pt x="969" y="1515"/>
                  </a:lnTo>
                  <a:lnTo>
                    <a:pt x="984" y="1509"/>
                  </a:lnTo>
                  <a:lnTo>
                    <a:pt x="802" y="1497"/>
                  </a:lnTo>
                  <a:lnTo>
                    <a:pt x="671" y="1482"/>
                  </a:lnTo>
                  <a:lnTo>
                    <a:pt x="626" y="1470"/>
                  </a:lnTo>
                  <a:lnTo>
                    <a:pt x="603" y="1455"/>
                  </a:lnTo>
                  <a:lnTo>
                    <a:pt x="605" y="1443"/>
                  </a:lnTo>
                  <a:lnTo>
                    <a:pt x="616" y="1439"/>
                  </a:lnTo>
                  <a:lnTo>
                    <a:pt x="628" y="1435"/>
                  </a:lnTo>
                  <a:lnTo>
                    <a:pt x="661" y="1429"/>
                  </a:lnTo>
                  <a:lnTo>
                    <a:pt x="704" y="1427"/>
                  </a:lnTo>
                  <a:lnTo>
                    <a:pt x="851" y="1429"/>
                  </a:lnTo>
                  <a:lnTo>
                    <a:pt x="886" y="1420"/>
                  </a:lnTo>
                  <a:lnTo>
                    <a:pt x="907" y="1410"/>
                  </a:lnTo>
                  <a:lnTo>
                    <a:pt x="926" y="1400"/>
                  </a:lnTo>
                  <a:lnTo>
                    <a:pt x="944" y="1388"/>
                  </a:lnTo>
                  <a:lnTo>
                    <a:pt x="959" y="1379"/>
                  </a:lnTo>
                  <a:lnTo>
                    <a:pt x="971" y="1369"/>
                  </a:lnTo>
                  <a:lnTo>
                    <a:pt x="822" y="1363"/>
                  </a:lnTo>
                  <a:lnTo>
                    <a:pt x="686" y="1355"/>
                  </a:lnTo>
                  <a:lnTo>
                    <a:pt x="549" y="1342"/>
                  </a:lnTo>
                  <a:lnTo>
                    <a:pt x="498" y="1334"/>
                  </a:lnTo>
                  <a:lnTo>
                    <a:pt x="467" y="1324"/>
                  </a:lnTo>
                  <a:lnTo>
                    <a:pt x="454" y="1313"/>
                  </a:lnTo>
                  <a:lnTo>
                    <a:pt x="461" y="1303"/>
                  </a:lnTo>
                  <a:lnTo>
                    <a:pt x="469" y="1299"/>
                  </a:lnTo>
                  <a:lnTo>
                    <a:pt x="479" y="1295"/>
                  </a:lnTo>
                  <a:lnTo>
                    <a:pt x="514" y="1287"/>
                  </a:lnTo>
                  <a:lnTo>
                    <a:pt x="560" y="1278"/>
                  </a:lnTo>
                  <a:lnTo>
                    <a:pt x="616" y="1274"/>
                  </a:lnTo>
                  <a:lnTo>
                    <a:pt x="781" y="1270"/>
                  </a:lnTo>
                  <a:lnTo>
                    <a:pt x="828" y="1264"/>
                  </a:lnTo>
                  <a:lnTo>
                    <a:pt x="870" y="1248"/>
                  </a:lnTo>
                  <a:lnTo>
                    <a:pt x="886" y="1237"/>
                  </a:lnTo>
                  <a:lnTo>
                    <a:pt x="893" y="1227"/>
                  </a:lnTo>
                  <a:lnTo>
                    <a:pt x="888" y="1219"/>
                  </a:lnTo>
                  <a:lnTo>
                    <a:pt x="884" y="1213"/>
                  </a:lnTo>
                  <a:lnTo>
                    <a:pt x="880" y="1208"/>
                  </a:lnTo>
                  <a:lnTo>
                    <a:pt x="868" y="1200"/>
                  </a:lnTo>
                  <a:lnTo>
                    <a:pt x="857" y="1194"/>
                  </a:lnTo>
                  <a:lnTo>
                    <a:pt x="845" y="1188"/>
                  </a:lnTo>
                  <a:lnTo>
                    <a:pt x="463" y="1161"/>
                  </a:lnTo>
                  <a:lnTo>
                    <a:pt x="502" y="1108"/>
                  </a:lnTo>
                  <a:lnTo>
                    <a:pt x="771" y="1095"/>
                  </a:lnTo>
                  <a:lnTo>
                    <a:pt x="421" y="1048"/>
                  </a:lnTo>
                  <a:lnTo>
                    <a:pt x="428" y="1040"/>
                  </a:lnTo>
                  <a:lnTo>
                    <a:pt x="440" y="1021"/>
                  </a:lnTo>
                  <a:lnTo>
                    <a:pt x="450" y="1011"/>
                  </a:lnTo>
                  <a:lnTo>
                    <a:pt x="461" y="1000"/>
                  </a:lnTo>
                  <a:lnTo>
                    <a:pt x="475" y="992"/>
                  </a:lnTo>
                  <a:lnTo>
                    <a:pt x="490" y="988"/>
                  </a:lnTo>
                  <a:lnTo>
                    <a:pt x="541" y="982"/>
                  </a:lnTo>
                  <a:lnTo>
                    <a:pt x="618" y="972"/>
                  </a:lnTo>
                  <a:lnTo>
                    <a:pt x="686" y="965"/>
                  </a:lnTo>
                  <a:lnTo>
                    <a:pt x="717" y="961"/>
                  </a:lnTo>
                  <a:lnTo>
                    <a:pt x="688" y="955"/>
                  </a:lnTo>
                  <a:lnTo>
                    <a:pt x="657" y="949"/>
                  </a:lnTo>
                  <a:lnTo>
                    <a:pt x="618" y="941"/>
                  </a:lnTo>
                  <a:lnTo>
                    <a:pt x="576" y="933"/>
                  </a:lnTo>
                  <a:lnTo>
                    <a:pt x="535" y="924"/>
                  </a:lnTo>
                  <a:lnTo>
                    <a:pt x="500" y="918"/>
                  </a:lnTo>
                  <a:lnTo>
                    <a:pt x="469" y="914"/>
                  </a:lnTo>
                  <a:lnTo>
                    <a:pt x="355" y="912"/>
                  </a:lnTo>
                  <a:lnTo>
                    <a:pt x="320" y="906"/>
                  </a:lnTo>
                  <a:lnTo>
                    <a:pt x="318" y="895"/>
                  </a:lnTo>
                  <a:lnTo>
                    <a:pt x="328" y="881"/>
                  </a:lnTo>
                  <a:lnTo>
                    <a:pt x="339" y="873"/>
                  </a:lnTo>
                  <a:lnTo>
                    <a:pt x="349" y="865"/>
                  </a:lnTo>
                  <a:lnTo>
                    <a:pt x="361" y="860"/>
                  </a:lnTo>
                  <a:lnTo>
                    <a:pt x="374" y="854"/>
                  </a:lnTo>
                  <a:lnTo>
                    <a:pt x="405" y="846"/>
                  </a:lnTo>
                  <a:lnTo>
                    <a:pt x="436" y="840"/>
                  </a:lnTo>
                  <a:lnTo>
                    <a:pt x="543" y="828"/>
                  </a:lnTo>
                  <a:lnTo>
                    <a:pt x="556" y="823"/>
                  </a:lnTo>
                  <a:lnTo>
                    <a:pt x="564" y="815"/>
                  </a:lnTo>
                  <a:lnTo>
                    <a:pt x="566" y="803"/>
                  </a:lnTo>
                  <a:lnTo>
                    <a:pt x="564" y="793"/>
                  </a:lnTo>
                  <a:lnTo>
                    <a:pt x="556" y="770"/>
                  </a:lnTo>
                  <a:lnTo>
                    <a:pt x="549" y="762"/>
                  </a:lnTo>
                  <a:lnTo>
                    <a:pt x="471" y="764"/>
                  </a:lnTo>
                  <a:lnTo>
                    <a:pt x="399" y="762"/>
                  </a:lnTo>
                  <a:lnTo>
                    <a:pt x="328" y="747"/>
                  </a:lnTo>
                  <a:lnTo>
                    <a:pt x="297" y="737"/>
                  </a:lnTo>
                  <a:lnTo>
                    <a:pt x="275" y="727"/>
                  </a:lnTo>
                  <a:lnTo>
                    <a:pt x="254" y="714"/>
                  </a:lnTo>
                  <a:lnTo>
                    <a:pt x="239" y="704"/>
                  </a:lnTo>
                  <a:lnTo>
                    <a:pt x="227" y="694"/>
                  </a:lnTo>
                  <a:lnTo>
                    <a:pt x="221" y="688"/>
                  </a:lnTo>
                  <a:lnTo>
                    <a:pt x="215" y="681"/>
                  </a:lnTo>
                  <a:lnTo>
                    <a:pt x="241" y="677"/>
                  </a:lnTo>
                  <a:lnTo>
                    <a:pt x="308" y="671"/>
                  </a:lnTo>
                  <a:lnTo>
                    <a:pt x="382" y="667"/>
                  </a:lnTo>
                  <a:lnTo>
                    <a:pt x="436" y="667"/>
                  </a:lnTo>
                  <a:lnTo>
                    <a:pt x="450" y="667"/>
                  </a:lnTo>
                  <a:lnTo>
                    <a:pt x="463" y="661"/>
                  </a:lnTo>
                  <a:lnTo>
                    <a:pt x="473" y="650"/>
                  </a:lnTo>
                  <a:lnTo>
                    <a:pt x="479" y="640"/>
                  </a:lnTo>
                  <a:lnTo>
                    <a:pt x="490" y="607"/>
                  </a:lnTo>
                  <a:lnTo>
                    <a:pt x="241" y="601"/>
                  </a:lnTo>
                  <a:lnTo>
                    <a:pt x="328" y="548"/>
                  </a:lnTo>
                  <a:lnTo>
                    <a:pt x="436" y="521"/>
                  </a:lnTo>
                  <a:lnTo>
                    <a:pt x="167" y="500"/>
                  </a:lnTo>
                  <a:lnTo>
                    <a:pt x="281" y="467"/>
                  </a:lnTo>
                  <a:lnTo>
                    <a:pt x="140" y="426"/>
                  </a:lnTo>
                  <a:lnTo>
                    <a:pt x="159" y="418"/>
                  </a:lnTo>
                  <a:lnTo>
                    <a:pt x="177" y="405"/>
                  </a:lnTo>
                  <a:lnTo>
                    <a:pt x="188" y="399"/>
                  </a:lnTo>
                  <a:lnTo>
                    <a:pt x="198" y="391"/>
                  </a:lnTo>
                  <a:lnTo>
                    <a:pt x="208" y="383"/>
                  </a:lnTo>
                  <a:lnTo>
                    <a:pt x="219" y="375"/>
                  </a:lnTo>
                  <a:lnTo>
                    <a:pt x="227" y="364"/>
                  </a:lnTo>
                  <a:lnTo>
                    <a:pt x="233" y="354"/>
                  </a:lnTo>
                  <a:lnTo>
                    <a:pt x="244" y="331"/>
                  </a:lnTo>
                  <a:lnTo>
                    <a:pt x="241" y="307"/>
                  </a:lnTo>
                  <a:lnTo>
                    <a:pt x="229" y="286"/>
                  </a:lnTo>
                  <a:lnTo>
                    <a:pt x="221" y="280"/>
                  </a:lnTo>
                  <a:lnTo>
                    <a:pt x="210" y="276"/>
                  </a:lnTo>
                  <a:lnTo>
                    <a:pt x="188" y="270"/>
                  </a:lnTo>
                  <a:lnTo>
                    <a:pt x="163" y="270"/>
                  </a:lnTo>
                  <a:lnTo>
                    <a:pt x="120" y="270"/>
                  </a:lnTo>
                  <a:lnTo>
                    <a:pt x="105" y="263"/>
                  </a:lnTo>
                  <a:lnTo>
                    <a:pt x="101" y="253"/>
                  </a:lnTo>
                  <a:lnTo>
                    <a:pt x="107" y="220"/>
                  </a:lnTo>
                  <a:lnTo>
                    <a:pt x="113" y="202"/>
                  </a:lnTo>
                  <a:lnTo>
                    <a:pt x="120" y="185"/>
                  </a:lnTo>
                  <a:lnTo>
                    <a:pt x="134" y="156"/>
                  </a:lnTo>
                  <a:lnTo>
                    <a:pt x="140" y="14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82"/>
            <p:cNvSpPr/>
            <p:nvPr/>
          </p:nvSpPr>
          <p:spPr>
            <a:xfrm>
              <a:off x="6435000" y="2994840"/>
              <a:ext cx="368640" cy="81900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356" h="3010">
                  <a:moveTo>
                    <a:pt x="192" y="0"/>
                  </a:moveTo>
                  <a:lnTo>
                    <a:pt x="188" y="15"/>
                  </a:lnTo>
                  <a:lnTo>
                    <a:pt x="182" y="31"/>
                  </a:lnTo>
                  <a:lnTo>
                    <a:pt x="172" y="52"/>
                  </a:lnTo>
                  <a:lnTo>
                    <a:pt x="161" y="81"/>
                  </a:lnTo>
                  <a:lnTo>
                    <a:pt x="149" y="114"/>
                  </a:lnTo>
                  <a:lnTo>
                    <a:pt x="143" y="130"/>
                  </a:lnTo>
                  <a:lnTo>
                    <a:pt x="136" y="149"/>
                  </a:lnTo>
                  <a:lnTo>
                    <a:pt x="130" y="169"/>
                  </a:lnTo>
                  <a:lnTo>
                    <a:pt x="122" y="190"/>
                  </a:lnTo>
                  <a:lnTo>
                    <a:pt x="116" y="213"/>
                  </a:lnTo>
                  <a:lnTo>
                    <a:pt x="108" y="235"/>
                  </a:lnTo>
                  <a:lnTo>
                    <a:pt x="93" y="283"/>
                  </a:lnTo>
                  <a:lnTo>
                    <a:pt x="79" y="332"/>
                  </a:lnTo>
                  <a:lnTo>
                    <a:pt x="66" y="383"/>
                  </a:lnTo>
                  <a:lnTo>
                    <a:pt x="52" y="437"/>
                  </a:lnTo>
                  <a:lnTo>
                    <a:pt x="41" y="490"/>
                  </a:lnTo>
                  <a:lnTo>
                    <a:pt x="31" y="546"/>
                  </a:lnTo>
                  <a:lnTo>
                    <a:pt x="21" y="602"/>
                  </a:lnTo>
                  <a:lnTo>
                    <a:pt x="2" y="853"/>
                  </a:lnTo>
                  <a:lnTo>
                    <a:pt x="0" y="991"/>
                  </a:lnTo>
                  <a:lnTo>
                    <a:pt x="4" y="1127"/>
                  </a:lnTo>
                  <a:lnTo>
                    <a:pt x="10" y="1252"/>
                  </a:lnTo>
                  <a:lnTo>
                    <a:pt x="17" y="1310"/>
                  </a:lnTo>
                  <a:lnTo>
                    <a:pt x="23" y="1361"/>
                  </a:lnTo>
                  <a:lnTo>
                    <a:pt x="31" y="1409"/>
                  </a:lnTo>
                  <a:lnTo>
                    <a:pt x="39" y="1448"/>
                  </a:lnTo>
                  <a:lnTo>
                    <a:pt x="48" y="1479"/>
                  </a:lnTo>
                  <a:lnTo>
                    <a:pt x="58" y="1501"/>
                  </a:lnTo>
                  <a:lnTo>
                    <a:pt x="68" y="1520"/>
                  </a:lnTo>
                  <a:lnTo>
                    <a:pt x="81" y="1540"/>
                  </a:lnTo>
                  <a:lnTo>
                    <a:pt x="93" y="1561"/>
                  </a:lnTo>
                  <a:lnTo>
                    <a:pt x="105" y="1584"/>
                  </a:lnTo>
                  <a:lnTo>
                    <a:pt x="118" y="1606"/>
                  </a:lnTo>
                  <a:lnTo>
                    <a:pt x="130" y="1631"/>
                  </a:lnTo>
                  <a:lnTo>
                    <a:pt x="143" y="1654"/>
                  </a:lnTo>
                  <a:lnTo>
                    <a:pt x="153" y="1676"/>
                  </a:lnTo>
                  <a:lnTo>
                    <a:pt x="165" y="1699"/>
                  </a:lnTo>
                  <a:lnTo>
                    <a:pt x="176" y="1720"/>
                  </a:lnTo>
                  <a:lnTo>
                    <a:pt x="192" y="1757"/>
                  </a:lnTo>
                  <a:lnTo>
                    <a:pt x="205" y="1804"/>
                  </a:lnTo>
                  <a:lnTo>
                    <a:pt x="201" y="1816"/>
                  </a:lnTo>
                  <a:lnTo>
                    <a:pt x="194" y="1829"/>
                  </a:lnTo>
                  <a:lnTo>
                    <a:pt x="178" y="1851"/>
                  </a:lnTo>
                  <a:lnTo>
                    <a:pt x="176" y="1872"/>
                  </a:lnTo>
                  <a:lnTo>
                    <a:pt x="180" y="1876"/>
                  </a:lnTo>
                  <a:lnTo>
                    <a:pt x="188" y="1880"/>
                  </a:lnTo>
                  <a:lnTo>
                    <a:pt x="209" y="1886"/>
                  </a:lnTo>
                  <a:lnTo>
                    <a:pt x="252" y="1901"/>
                  </a:lnTo>
                  <a:lnTo>
                    <a:pt x="273" y="1917"/>
                  </a:lnTo>
                  <a:lnTo>
                    <a:pt x="275" y="1925"/>
                  </a:lnTo>
                  <a:lnTo>
                    <a:pt x="273" y="1934"/>
                  </a:lnTo>
                  <a:lnTo>
                    <a:pt x="267" y="1940"/>
                  </a:lnTo>
                  <a:lnTo>
                    <a:pt x="256" y="1946"/>
                  </a:lnTo>
                  <a:lnTo>
                    <a:pt x="240" y="1958"/>
                  </a:lnTo>
                  <a:lnTo>
                    <a:pt x="232" y="1971"/>
                  </a:lnTo>
                  <a:lnTo>
                    <a:pt x="236" y="1983"/>
                  </a:lnTo>
                  <a:lnTo>
                    <a:pt x="244" y="1989"/>
                  </a:lnTo>
                  <a:lnTo>
                    <a:pt x="256" y="1995"/>
                  </a:lnTo>
                  <a:lnTo>
                    <a:pt x="279" y="2006"/>
                  </a:lnTo>
                  <a:lnTo>
                    <a:pt x="289" y="2018"/>
                  </a:lnTo>
                  <a:lnTo>
                    <a:pt x="287" y="2033"/>
                  </a:lnTo>
                  <a:lnTo>
                    <a:pt x="277" y="2055"/>
                  </a:lnTo>
                  <a:lnTo>
                    <a:pt x="273" y="2068"/>
                  </a:lnTo>
                  <a:lnTo>
                    <a:pt x="277" y="2078"/>
                  </a:lnTo>
                  <a:lnTo>
                    <a:pt x="285" y="2086"/>
                  </a:lnTo>
                  <a:lnTo>
                    <a:pt x="298" y="2094"/>
                  </a:lnTo>
                  <a:lnTo>
                    <a:pt x="310" y="2098"/>
                  </a:lnTo>
                  <a:lnTo>
                    <a:pt x="323" y="2103"/>
                  </a:lnTo>
                  <a:lnTo>
                    <a:pt x="333" y="2107"/>
                  </a:lnTo>
                  <a:lnTo>
                    <a:pt x="308" y="2146"/>
                  </a:lnTo>
                  <a:lnTo>
                    <a:pt x="316" y="2154"/>
                  </a:lnTo>
                  <a:lnTo>
                    <a:pt x="325" y="2164"/>
                  </a:lnTo>
                  <a:lnTo>
                    <a:pt x="329" y="2168"/>
                  </a:lnTo>
                  <a:lnTo>
                    <a:pt x="333" y="2175"/>
                  </a:lnTo>
                  <a:lnTo>
                    <a:pt x="339" y="2183"/>
                  </a:lnTo>
                  <a:lnTo>
                    <a:pt x="345" y="2191"/>
                  </a:lnTo>
                  <a:lnTo>
                    <a:pt x="354" y="2199"/>
                  </a:lnTo>
                  <a:lnTo>
                    <a:pt x="360" y="2208"/>
                  </a:lnTo>
                  <a:lnTo>
                    <a:pt x="368" y="2216"/>
                  </a:lnTo>
                  <a:lnTo>
                    <a:pt x="374" y="2226"/>
                  </a:lnTo>
                  <a:lnTo>
                    <a:pt x="382" y="2236"/>
                  </a:lnTo>
                  <a:lnTo>
                    <a:pt x="391" y="2247"/>
                  </a:lnTo>
                  <a:lnTo>
                    <a:pt x="399" y="2257"/>
                  </a:lnTo>
                  <a:lnTo>
                    <a:pt x="407" y="2267"/>
                  </a:lnTo>
                  <a:lnTo>
                    <a:pt x="413" y="2278"/>
                  </a:lnTo>
                  <a:lnTo>
                    <a:pt x="422" y="2288"/>
                  </a:lnTo>
                  <a:lnTo>
                    <a:pt x="438" y="2308"/>
                  </a:lnTo>
                  <a:lnTo>
                    <a:pt x="453" y="2329"/>
                  </a:lnTo>
                  <a:lnTo>
                    <a:pt x="478" y="2366"/>
                  </a:lnTo>
                  <a:lnTo>
                    <a:pt x="492" y="2397"/>
                  </a:lnTo>
                  <a:lnTo>
                    <a:pt x="504" y="2426"/>
                  </a:lnTo>
                  <a:lnTo>
                    <a:pt x="515" y="2459"/>
                  </a:lnTo>
                  <a:lnTo>
                    <a:pt x="527" y="2494"/>
                  </a:lnTo>
                  <a:lnTo>
                    <a:pt x="533" y="2512"/>
                  </a:lnTo>
                  <a:lnTo>
                    <a:pt x="537" y="2531"/>
                  </a:lnTo>
                  <a:lnTo>
                    <a:pt x="550" y="2564"/>
                  </a:lnTo>
                  <a:lnTo>
                    <a:pt x="560" y="2595"/>
                  </a:lnTo>
                  <a:lnTo>
                    <a:pt x="571" y="2617"/>
                  </a:lnTo>
                  <a:lnTo>
                    <a:pt x="581" y="2632"/>
                  </a:lnTo>
                  <a:lnTo>
                    <a:pt x="593" y="2654"/>
                  </a:lnTo>
                  <a:lnTo>
                    <a:pt x="604" y="2675"/>
                  </a:lnTo>
                  <a:lnTo>
                    <a:pt x="616" y="2700"/>
                  </a:lnTo>
                  <a:lnTo>
                    <a:pt x="630" y="2728"/>
                  </a:lnTo>
                  <a:lnTo>
                    <a:pt x="645" y="2759"/>
                  </a:lnTo>
                  <a:lnTo>
                    <a:pt x="661" y="2792"/>
                  </a:lnTo>
                  <a:lnTo>
                    <a:pt x="680" y="2825"/>
                  </a:lnTo>
                  <a:lnTo>
                    <a:pt x="699" y="2858"/>
                  </a:lnTo>
                  <a:lnTo>
                    <a:pt x="717" y="2891"/>
                  </a:lnTo>
                  <a:lnTo>
                    <a:pt x="736" y="2922"/>
                  </a:lnTo>
                  <a:lnTo>
                    <a:pt x="754" y="2949"/>
                  </a:lnTo>
                  <a:lnTo>
                    <a:pt x="761" y="2955"/>
                  </a:lnTo>
                  <a:lnTo>
                    <a:pt x="765" y="2961"/>
                  </a:lnTo>
                  <a:lnTo>
                    <a:pt x="775" y="2973"/>
                  </a:lnTo>
                  <a:lnTo>
                    <a:pt x="785" y="2982"/>
                  </a:lnTo>
                  <a:lnTo>
                    <a:pt x="794" y="2992"/>
                  </a:lnTo>
                  <a:lnTo>
                    <a:pt x="804" y="2998"/>
                  </a:lnTo>
                  <a:lnTo>
                    <a:pt x="814" y="3004"/>
                  </a:lnTo>
                  <a:lnTo>
                    <a:pt x="833" y="3010"/>
                  </a:lnTo>
                  <a:lnTo>
                    <a:pt x="876" y="3008"/>
                  </a:lnTo>
                  <a:lnTo>
                    <a:pt x="932" y="3000"/>
                  </a:lnTo>
                  <a:lnTo>
                    <a:pt x="963" y="2992"/>
                  </a:lnTo>
                  <a:lnTo>
                    <a:pt x="996" y="2982"/>
                  </a:lnTo>
                  <a:lnTo>
                    <a:pt x="1029" y="2971"/>
                  </a:lnTo>
                  <a:lnTo>
                    <a:pt x="1062" y="2959"/>
                  </a:lnTo>
                  <a:lnTo>
                    <a:pt x="1079" y="2953"/>
                  </a:lnTo>
                  <a:lnTo>
                    <a:pt x="1098" y="2945"/>
                  </a:lnTo>
                  <a:lnTo>
                    <a:pt x="1114" y="2938"/>
                  </a:lnTo>
                  <a:lnTo>
                    <a:pt x="1129" y="2930"/>
                  </a:lnTo>
                  <a:lnTo>
                    <a:pt x="1145" y="2924"/>
                  </a:lnTo>
                  <a:lnTo>
                    <a:pt x="1162" y="2916"/>
                  </a:lnTo>
                  <a:lnTo>
                    <a:pt x="1176" y="2908"/>
                  </a:lnTo>
                  <a:lnTo>
                    <a:pt x="1191" y="2901"/>
                  </a:lnTo>
                  <a:lnTo>
                    <a:pt x="1205" y="2893"/>
                  </a:lnTo>
                  <a:lnTo>
                    <a:pt x="1217" y="2885"/>
                  </a:lnTo>
                  <a:lnTo>
                    <a:pt x="1230" y="2877"/>
                  </a:lnTo>
                  <a:lnTo>
                    <a:pt x="1242" y="2868"/>
                  </a:lnTo>
                  <a:lnTo>
                    <a:pt x="1253" y="2862"/>
                  </a:lnTo>
                  <a:lnTo>
                    <a:pt x="1263" y="2854"/>
                  </a:lnTo>
                  <a:lnTo>
                    <a:pt x="1271" y="2846"/>
                  </a:lnTo>
                  <a:lnTo>
                    <a:pt x="1279" y="2840"/>
                  </a:lnTo>
                  <a:lnTo>
                    <a:pt x="1286" y="2831"/>
                  </a:lnTo>
                  <a:lnTo>
                    <a:pt x="1294" y="2823"/>
                  </a:lnTo>
                  <a:lnTo>
                    <a:pt x="1300" y="2815"/>
                  </a:lnTo>
                  <a:lnTo>
                    <a:pt x="1306" y="2807"/>
                  </a:lnTo>
                  <a:lnTo>
                    <a:pt x="1329" y="2770"/>
                  </a:lnTo>
                  <a:lnTo>
                    <a:pt x="1346" y="2733"/>
                  </a:lnTo>
                  <a:lnTo>
                    <a:pt x="1356" y="2695"/>
                  </a:lnTo>
                  <a:lnTo>
                    <a:pt x="1356" y="2667"/>
                  </a:lnTo>
                  <a:lnTo>
                    <a:pt x="1352" y="2654"/>
                  </a:lnTo>
                  <a:lnTo>
                    <a:pt x="1350" y="2650"/>
                  </a:lnTo>
                  <a:lnTo>
                    <a:pt x="1346" y="2646"/>
                  </a:lnTo>
                  <a:lnTo>
                    <a:pt x="1335" y="2640"/>
                  </a:lnTo>
                  <a:lnTo>
                    <a:pt x="1321" y="2638"/>
                  </a:lnTo>
                  <a:lnTo>
                    <a:pt x="1284" y="2644"/>
                  </a:lnTo>
                  <a:lnTo>
                    <a:pt x="1261" y="2650"/>
                  </a:lnTo>
                  <a:lnTo>
                    <a:pt x="1236" y="2658"/>
                  </a:lnTo>
                  <a:lnTo>
                    <a:pt x="1215" y="2667"/>
                  </a:lnTo>
                  <a:lnTo>
                    <a:pt x="1193" y="2673"/>
                  </a:lnTo>
                  <a:lnTo>
                    <a:pt x="1172" y="2681"/>
                  </a:lnTo>
                  <a:lnTo>
                    <a:pt x="1151" y="2687"/>
                  </a:lnTo>
                  <a:lnTo>
                    <a:pt x="1131" y="2693"/>
                  </a:lnTo>
                  <a:lnTo>
                    <a:pt x="1112" y="2698"/>
                  </a:lnTo>
                  <a:lnTo>
                    <a:pt x="1079" y="2706"/>
                  </a:lnTo>
                  <a:lnTo>
                    <a:pt x="1052" y="2710"/>
                  </a:lnTo>
                  <a:lnTo>
                    <a:pt x="1031" y="2708"/>
                  </a:lnTo>
                  <a:lnTo>
                    <a:pt x="1019" y="2700"/>
                  </a:lnTo>
                  <a:lnTo>
                    <a:pt x="1003" y="2671"/>
                  </a:lnTo>
                  <a:lnTo>
                    <a:pt x="1011" y="2665"/>
                  </a:lnTo>
                  <a:lnTo>
                    <a:pt x="1031" y="2656"/>
                  </a:lnTo>
                  <a:lnTo>
                    <a:pt x="1052" y="2646"/>
                  </a:lnTo>
                  <a:lnTo>
                    <a:pt x="1069" y="2640"/>
                  </a:lnTo>
                  <a:lnTo>
                    <a:pt x="1085" y="2634"/>
                  </a:lnTo>
                  <a:lnTo>
                    <a:pt x="1104" y="2625"/>
                  </a:lnTo>
                  <a:lnTo>
                    <a:pt x="1122" y="2619"/>
                  </a:lnTo>
                  <a:lnTo>
                    <a:pt x="1143" y="2611"/>
                  </a:lnTo>
                  <a:lnTo>
                    <a:pt x="1162" y="2601"/>
                  </a:lnTo>
                  <a:lnTo>
                    <a:pt x="1182" y="2595"/>
                  </a:lnTo>
                  <a:lnTo>
                    <a:pt x="1201" y="2586"/>
                  </a:lnTo>
                  <a:lnTo>
                    <a:pt x="1217" y="2578"/>
                  </a:lnTo>
                  <a:lnTo>
                    <a:pt x="1232" y="2572"/>
                  </a:lnTo>
                  <a:lnTo>
                    <a:pt x="1255" y="2564"/>
                  </a:lnTo>
                  <a:lnTo>
                    <a:pt x="1263" y="2560"/>
                  </a:lnTo>
                  <a:lnTo>
                    <a:pt x="1211" y="2570"/>
                  </a:lnTo>
                  <a:lnTo>
                    <a:pt x="1160" y="2576"/>
                  </a:lnTo>
                  <a:lnTo>
                    <a:pt x="1100" y="2584"/>
                  </a:lnTo>
                  <a:lnTo>
                    <a:pt x="1040" y="2588"/>
                  </a:lnTo>
                  <a:lnTo>
                    <a:pt x="990" y="2588"/>
                  </a:lnTo>
                  <a:lnTo>
                    <a:pt x="957" y="2580"/>
                  </a:lnTo>
                  <a:lnTo>
                    <a:pt x="949" y="2564"/>
                  </a:lnTo>
                  <a:lnTo>
                    <a:pt x="963" y="2543"/>
                  </a:lnTo>
                  <a:lnTo>
                    <a:pt x="978" y="2533"/>
                  </a:lnTo>
                  <a:lnTo>
                    <a:pt x="994" y="2523"/>
                  </a:lnTo>
                  <a:lnTo>
                    <a:pt x="1015" y="2514"/>
                  </a:lnTo>
                  <a:lnTo>
                    <a:pt x="1038" y="2504"/>
                  </a:lnTo>
                  <a:lnTo>
                    <a:pt x="1060" y="2498"/>
                  </a:lnTo>
                  <a:lnTo>
                    <a:pt x="1083" y="2490"/>
                  </a:lnTo>
                  <a:lnTo>
                    <a:pt x="1106" y="2483"/>
                  </a:lnTo>
                  <a:lnTo>
                    <a:pt x="1129" y="2477"/>
                  </a:lnTo>
                  <a:lnTo>
                    <a:pt x="1170" y="2469"/>
                  </a:lnTo>
                  <a:lnTo>
                    <a:pt x="1207" y="2461"/>
                  </a:lnTo>
                  <a:lnTo>
                    <a:pt x="1158" y="2463"/>
                  </a:lnTo>
                  <a:lnTo>
                    <a:pt x="1050" y="2465"/>
                  </a:lnTo>
                  <a:lnTo>
                    <a:pt x="945" y="2457"/>
                  </a:lnTo>
                  <a:lnTo>
                    <a:pt x="912" y="2444"/>
                  </a:lnTo>
                  <a:lnTo>
                    <a:pt x="903" y="2428"/>
                  </a:lnTo>
                  <a:lnTo>
                    <a:pt x="910" y="2420"/>
                  </a:lnTo>
                  <a:lnTo>
                    <a:pt x="918" y="2411"/>
                  </a:lnTo>
                  <a:lnTo>
                    <a:pt x="930" y="2403"/>
                  </a:lnTo>
                  <a:lnTo>
                    <a:pt x="945" y="2397"/>
                  </a:lnTo>
                  <a:lnTo>
                    <a:pt x="963" y="2391"/>
                  </a:lnTo>
                  <a:lnTo>
                    <a:pt x="982" y="2387"/>
                  </a:lnTo>
                  <a:lnTo>
                    <a:pt x="1021" y="2378"/>
                  </a:lnTo>
                  <a:lnTo>
                    <a:pt x="1060" y="2372"/>
                  </a:lnTo>
                  <a:lnTo>
                    <a:pt x="1096" y="2368"/>
                  </a:lnTo>
                  <a:lnTo>
                    <a:pt x="1127" y="2366"/>
                  </a:lnTo>
                  <a:lnTo>
                    <a:pt x="1122" y="2362"/>
                  </a:lnTo>
                  <a:lnTo>
                    <a:pt x="1108" y="2354"/>
                  </a:lnTo>
                  <a:lnTo>
                    <a:pt x="1098" y="2348"/>
                  </a:lnTo>
                  <a:lnTo>
                    <a:pt x="1085" y="2341"/>
                  </a:lnTo>
                  <a:lnTo>
                    <a:pt x="1073" y="2335"/>
                  </a:lnTo>
                  <a:lnTo>
                    <a:pt x="1058" y="2329"/>
                  </a:lnTo>
                  <a:lnTo>
                    <a:pt x="1046" y="2321"/>
                  </a:lnTo>
                  <a:lnTo>
                    <a:pt x="1029" y="2315"/>
                  </a:lnTo>
                  <a:lnTo>
                    <a:pt x="1015" y="2308"/>
                  </a:lnTo>
                  <a:lnTo>
                    <a:pt x="1000" y="2304"/>
                  </a:lnTo>
                  <a:lnTo>
                    <a:pt x="974" y="2298"/>
                  </a:lnTo>
                  <a:lnTo>
                    <a:pt x="953" y="2298"/>
                  </a:lnTo>
                  <a:lnTo>
                    <a:pt x="912" y="2296"/>
                  </a:lnTo>
                  <a:lnTo>
                    <a:pt x="874" y="2280"/>
                  </a:lnTo>
                  <a:lnTo>
                    <a:pt x="854" y="2259"/>
                  </a:lnTo>
                  <a:lnTo>
                    <a:pt x="852" y="2247"/>
                  </a:lnTo>
                  <a:lnTo>
                    <a:pt x="856" y="2234"/>
                  </a:lnTo>
                  <a:lnTo>
                    <a:pt x="862" y="2228"/>
                  </a:lnTo>
                  <a:lnTo>
                    <a:pt x="868" y="2224"/>
                  </a:lnTo>
                  <a:lnTo>
                    <a:pt x="883" y="2216"/>
                  </a:lnTo>
                  <a:lnTo>
                    <a:pt x="901" y="2208"/>
                  </a:lnTo>
                  <a:lnTo>
                    <a:pt x="920" y="2201"/>
                  </a:lnTo>
                  <a:lnTo>
                    <a:pt x="953" y="2183"/>
                  </a:lnTo>
                  <a:lnTo>
                    <a:pt x="961" y="2170"/>
                  </a:lnTo>
                  <a:lnTo>
                    <a:pt x="963" y="2154"/>
                  </a:lnTo>
                  <a:lnTo>
                    <a:pt x="959" y="2142"/>
                  </a:lnTo>
                  <a:lnTo>
                    <a:pt x="947" y="2142"/>
                  </a:lnTo>
                  <a:lnTo>
                    <a:pt x="930" y="2148"/>
                  </a:lnTo>
                  <a:lnTo>
                    <a:pt x="912" y="2158"/>
                  </a:lnTo>
                  <a:lnTo>
                    <a:pt x="893" y="2162"/>
                  </a:lnTo>
                  <a:lnTo>
                    <a:pt x="876" y="2160"/>
                  </a:lnTo>
                  <a:lnTo>
                    <a:pt x="866" y="2144"/>
                  </a:lnTo>
                  <a:lnTo>
                    <a:pt x="860" y="2111"/>
                  </a:lnTo>
                  <a:lnTo>
                    <a:pt x="862" y="2074"/>
                  </a:lnTo>
                  <a:lnTo>
                    <a:pt x="866" y="2049"/>
                  </a:lnTo>
                  <a:lnTo>
                    <a:pt x="874" y="2035"/>
                  </a:lnTo>
                  <a:lnTo>
                    <a:pt x="885" y="2024"/>
                  </a:lnTo>
                  <a:lnTo>
                    <a:pt x="905" y="2006"/>
                  </a:lnTo>
                  <a:lnTo>
                    <a:pt x="916" y="1963"/>
                  </a:lnTo>
                  <a:lnTo>
                    <a:pt x="914" y="1913"/>
                  </a:lnTo>
                  <a:lnTo>
                    <a:pt x="907" y="1897"/>
                  </a:lnTo>
                  <a:lnTo>
                    <a:pt x="901" y="1884"/>
                  </a:lnTo>
                  <a:lnTo>
                    <a:pt x="872" y="1812"/>
                  </a:lnTo>
                  <a:lnTo>
                    <a:pt x="870" y="1785"/>
                  </a:lnTo>
                  <a:lnTo>
                    <a:pt x="876" y="1765"/>
                  </a:lnTo>
                  <a:lnTo>
                    <a:pt x="883" y="1759"/>
                  </a:lnTo>
                  <a:lnTo>
                    <a:pt x="889" y="1750"/>
                  </a:lnTo>
                  <a:lnTo>
                    <a:pt x="895" y="1744"/>
                  </a:lnTo>
                  <a:lnTo>
                    <a:pt x="903" y="1738"/>
                  </a:lnTo>
                  <a:lnTo>
                    <a:pt x="918" y="1728"/>
                  </a:lnTo>
                  <a:lnTo>
                    <a:pt x="930" y="1715"/>
                  </a:lnTo>
                  <a:lnTo>
                    <a:pt x="941" y="1680"/>
                  </a:lnTo>
                  <a:lnTo>
                    <a:pt x="928" y="1635"/>
                  </a:lnTo>
                  <a:lnTo>
                    <a:pt x="916" y="1596"/>
                  </a:lnTo>
                  <a:lnTo>
                    <a:pt x="910" y="1573"/>
                  </a:lnTo>
                  <a:lnTo>
                    <a:pt x="901" y="1549"/>
                  </a:lnTo>
                  <a:lnTo>
                    <a:pt x="893" y="1524"/>
                  </a:lnTo>
                  <a:lnTo>
                    <a:pt x="885" y="1495"/>
                  </a:lnTo>
                  <a:lnTo>
                    <a:pt x="874" y="1466"/>
                  </a:lnTo>
                  <a:lnTo>
                    <a:pt x="864" y="1435"/>
                  </a:lnTo>
                  <a:lnTo>
                    <a:pt x="854" y="1405"/>
                  </a:lnTo>
                  <a:lnTo>
                    <a:pt x="843" y="1372"/>
                  </a:lnTo>
                  <a:lnTo>
                    <a:pt x="831" y="1339"/>
                  </a:lnTo>
                  <a:lnTo>
                    <a:pt x="821" y="1304"/>
                  </a:lnTo>
                  <a:lnTo>
                    <a:pt x="808" y="1271"/>
                  </a:lnTo>
                  <a:lnTo>
                    <a:pt x="798" y="1236"/>
                  </a:lnTo>
                  <a:lnTo>
                    <a:pt x="785" y="1201"/>
                  </a:lnTo>
                  <a:lnTo>
                    <a:pt x="775" y="1168"/>
                  </a:lnTo>
                  <a:lnTo>
                    <a:pt x="763" y="1133"/>
                  </a:lnTo>
                  <a:lnTo>
                    <a:pt x="752" y="1100"/>
                  </a:lnTo>
                  <a:lnTo>
                    <a:pt x="742" y="1065"/>
                  </a:lnTo>
                  <a:lnTo>
                    <a:pt x="732" y="1034"/>
                  </a:lnTo>
                  <a:lnTo>
                    <a:pt x="721" y="1003"/>
                  </a:lnTo>
                  <a:lnTo>
                    <a:pt x="711" y="972"/>
                  </a:lnTo>
                  <a:lnTo>
                    <a:pt x="695" y="917"/>
                  </a:lnTo>
                  <a:lnTo>
                    <a:pt x="680" y="865"/>
                  </a:lnTo>
                  <a:lnTo>
                    <a:pt x="668" y="824"/>
                  </a:lnTo>
                  <a:lnTo>
                    <a:pt x="657" y="789"/>
                  </a:lnTo>
                  <a:lnTo>
                    <a:pt x="647" y="758"/>
                  </a:lnTo>
                  <a:lnTo>
                    <a:pt x="635" y="733"/>
                  </a:lnTo>
                  <a:lnTo>
                    <a:pt x="624" y="711"/>
                  </a:lnTo>
                  <a:lnTo>
                    <a:pt x="610" y="690"/>
                  </a:lnTo>
                  <a:lnTo>
                    <a:pt x="604" y="682"/>
                  </a:lnTo>
                  <a:lnTo>
                    <a:pt x="597" y="674"/>
                  </a:lnTo>
                  <a:lnTo>
                    <a:pt x="591" y="665"/>
                  </a:lnTo>
                  <a:lnTo>
                    <a:pt x="585" y="659"/>
                  </a:lnTo>
                  <a:lnTo>
                    <a:pt x="579" y="653"/>
                  </a:lnTo>
                  <a:lnTo>
                    <a:pt x="573" y="647"/>
                  </a:lnTo>
                  <a:lnTo>
                    <a:pt x="560" y="637"/>
                  </a:lnTo>
                  <a:lnTo>
                    <a:pt x="548" y="626"/>
                  </a:lnTo>
                  <a:lnTo>
                    <a:pt x="535" y="618"/>
                  </a:lnTo>
                  <a:lnTo>
                    <a:pt x="523" y="608"/>
                  </a:lnTo>
                  <a:lnTo>
                    <a:pt x="513" y="600"/>
                  </a:lnTo>
                  <a:lnTo>
                    <a:pt x="502" y="589"/>
                  </a:lnTo>
                  <a:lnTo>
                    <a:pt x="484" y="567"/>
                  </a:lnTo>
                  <a:lnTo>
                    <a:pt x="467" y="540"/>
                  </a:lnTo>
                  <a:lnTo>
                    <a:pt x="461" y="532"/>
                  </a:lnTo>
                  <a:lnTo>
                    <a:pt x="457" y="525"/>
                  </a:lnTo>
                  <a:lnTo>
                    <a:pt x="444" y="513"/>
                  </a:lnTo>
                  <a:lnTo>
                    <a:pt x="438" y="505"/>
                  </a:lnTo>
                  <a:lnTo>
                    <a:pt x="432" y="499"/>
                  </a:lnTo>
                  <a:lnTo>
                    <a:pt x="426" y="493"/>
                  </a:lnTo>
                  <a:lnTo>
                    <a:pt x="420" y="486"/>
                  </a:lnTo>
                  <a:lnTo>
                    <a:pt x="413" y="480"/>
                  </a:lnTo>
                  <a:lnTo>
                    <a:pt x="405" y="472"/>
                  </a:lnTo>
                  <a:lnTo>
                    <a:pt x="399" y="466"/>
                  </a:lnTo>
                  <a:lnTo>
                    <a:pt x="393" y="458"/>
                  </a:lnTo>
                  <a:lnTo>
                    <a:pt x="387" y="451"/>
                  </a:lnTo>
                  <a:lnTo>
                    <a:pt x="378" y="445"/>
                  </a:lnTo>
                  <a:lnTo>
                    <a:pt x="372" y="437"/>
                  </a:lnTo>
                  <a:lnTo>
                    <a:pt x="366" y="431"/>
                  </a:lnTo>
                  <a:lnTo>
                    <a:pt x="354" y="414"/>
                  </a:lnTo>
                  <a:lnTo>
                    <a:pt x="343" y="400"/>
                  </a:lnTo>
                  <a:lnTo>
                    <a:pt x="323" y="367"/>
                  </a:lnTo>
                  <a:lnTo>
                    <a:pt x="308" y="330"/>
                  </a:lnTo>
                  <a:lnTo>
                    <a:pt x="296" y="289"/>
                  </a:lnTo>
                  <a:lnTo>
                    <a:pt x="287" y="264"/>
                  </a:lnTo>
                  <a:lnTo>
                    <a:pt x="279" y="237"/>
                  </a:lnTo>
                  <a:lnTo>
                    <a:pt x="271" y="210"/>
                  </a:lnTo>
                  <a:lnTo>
                    <a:pt x="261" y="182"/>
                  </a:lnTo>
                  <a:lnTo>
                    <a:pt x="250" y="155"/>
                  </a:lnTo>
                  <a:lnTo>
                    <a:pt x="240" y="128"/>
                  </a:lnTo>
                  <a:lnTo>
                    <a:pt x="232" y="103"/>
                  </a:lnTo>
                  <a:lnTo>
                    <a:pt x="223" y="79"/>
                  </a:lnTo>
                  <a:lnTo>
                    <a:pt x="215" y="56"/>
                  </a:lnTo>
                  <a:lnTo>
                    <a:pt x="207" y="38"/>
                  </a:lnTo>
                  <a:lnTo>
                    <a:pt x="196" y="11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83"/>
            <p:cNvSpPr/>
            <p:nvPr/>
          </p:nvSpPr>
          <p:spPr>
            <a:xfrm>
              <a:off x="6560280" y="3809880"/>
              <a:ext cx="883080" cy="16560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3247" h="609">
                  <a:moveTo>
                    <a:pt x="618" y="342"/>
                  </a:moveTo>
                  <a:lnTo>
                    <a:pt x="143" y="387"/>
                  </a:lnTo>
                  <a:lnTo>
                    <a:pt x="122" y="395"/>
                  </a:lnTo>
                  <a:lnTo>
                    <a:pt x="103" y="406"/>
                  </a:lnTo>
                  <a:lnTo>
                    <a:pt x="85" y="416"/>
                  </a:lnTo>
                  <a:lnTo>
                    <a:pt x="68" y="426"/>
                  </a:lnTo>
                  <a:lnTo>
                    <a:pt x="52" y="436"/>
                  </a:lnTo>
                  <a:lnTo>
                    <a:pt x="39" y="447"/>
                  </a:lnTo>
                  <a:lnTo>
                    <a:pt x="27" y="457"/>
                  </a:lnTo>
                  <a:lnTo>
                    <a:pt x="17" y="467"/>
                  </a:lnTo>
                  <a:lnTo>
                    <a:pt x="0" y="506"/>
                  </a:lnTo>
                  <a:lnTo>
                    <a:pt x="4" y="523"/>
                  </a:lnTo>
                  <a:lnTo>
                    <a:pt x="10" y="531"/>
                  </a:lnTo>
                  <a:lnTo>
                    <a:pt x="19" y="537"/>
                  </a:lnTo>
                  <a:lnTo>
                    <a:pt x="33" y="544"/>
                  </a:lnTo>
                  <a:lnTo>
                    <a:pt x="52" y="550"/>
                  </a:lnTo>
                  <a:lnTo>
                    <a:pt x="74" y="556"/>
                  </a:lnTo>
                  <a:lnTo>
                    <a:pt x="103" y="560"/>
                  </a:lnTo>
                  <a:lnTo>
                    <a:pt x="136" y="566"/>
                  </a:lnTo>
                  <a:lnTo>
                    <a:pt x="172" y="570"/>
                  </a:lnTo>
                  <a:lnTo>
                    <a:pt x="250" y="581"/>
                  </a:lnTo>
                  <a:lnTo>
                    <a:pt x="341" y="589"/>
                  </a:lnTo>
                  <a:lnTo>
                    <a:pt x="436" y="597"/>
                  </a:lnTo>
                  <a:lnTo>
                    <a:pt x="533" y="603"/>
                  </a:lnTo>
                  <a:lnTo>
                    <a:pt x="628" y="609"/>
                  </a:lnTo>
                  <a:lnTo>
                    <a:pt x="746" y="609"/>
                  </a:lnTo>
                  <a:lnTo>
                    <a:pt x="903" y="599"/>
                  </a:lnTo>
                  <a:lnTo>
                    <a:pt x="990" y="593"/>
                  </a:lnTo>
                  <a:lnTo>
                    <a:pt x="1083" y="583"/>
                  </a:lnTo>
                  <a:lnTo>
                    <a:pt x="1180" y="574"/>
                  </a:lnTo>
                  <a:lnTo>
                    <a:pt x="1277" y="562"/>
                  </a:lnTo>
                  <a:lnTo>
                    <a:pt x="1374" y="552"/>
                  </a:lnTo>
                  <a:lnTo>
                    <a:pt x="1472" y="539"/>
                  </a:lnTo>
                  <a:lnTo>
                    <a:pt x="1565" y="527"/>
                  </a:lnTo>
                  <a:lnTo>
                    <a:pt x="1653" y="515"/>
                  </a:lnTo>
                  <a:lnTo>
                    <a:pt x="1734" y="504"/>
                  </a:lnTo>
                  <a:lnTo>
                    <a:pt x="1811" y="494"/>
                  </a:lnTo>
                  <a:lnTo>
                    <a:pt x="1875" y="484"/>
                  </a:lnTo>
                  <a:lnTo>
                    <a:pt x="1930" y="476"/>
                  </a:lnTo>
                  <a:lnTo>
                    <a:pt x="1986" y="463"/>
                  </a:lnTo>
                  <a:lnTo>
                    <a:pt x="2021" y="455"/>
                  </a:lnTo>
                  <a:lnTo>
                    <a:pt x="2059" y="445"/>
                  </a:lnTo>
                  <a:lnTo>
                    <a:pt x="2100" y="432"/>
                  </a:lnTo>
                  <a:lnTo>
                    <a:pt x="2121" y="426"/>
                  </a:lnTo>
                  <a:lnTo>
                    <a:pt x="2143" y="420"/>
                  </a:lnTo>
                  <a:lnTo>
                    <a:pt x="2166" y="412"/>
                  </a:lnTo>
                  <a:lnTo>
                    <a:pt x="2189" y="406"/>
                  </a:lnTo>
                  <a:lnTo>
                    <a:pt x="2214" y="397"/>
                  </a:lnTo>
                  <a:lnTo>
                    <a:pt x="2236" y="389"/>
                  </a:lnTo>
                  <a:lnTo>
                    <a:pt x="2261" y="381"/>
                  </a:lnTo>
                  <a:lnTo>
                    <a:pt x="2286" y="373"/>
                  </a:lnTo>
                  <a:lnTo>
                    <a:pt x="2313" y="364"/>
                  </a:lnTo>
                  <a:lnTo>
                    <a:pt x="2338" y="356"/>
                  </a:lnTo>
                  <a:lnTo>
                    <a:pt x="2364" y="346"/>
                  </a:lnTo>
                  <a:lnTo>
                    <a:pt x="2389" y="338"/>
                  </a:lnTo>
                  <a:lnTo>
                    <a:pt x="2416" y="329"/>
                  </a:lnTo>
                  <a:lnTo>
                    <a:pt x="2443" y="319"/>
                  </a:lnTo>
                  <a:lnTo>
                    <a:pt x="2470" y="309"/>
                  </a:lnTo>
                  <a:lnTo>
                    <a:pt x="2497" y="301"/>
                  </a:lnTo>
                  <a:lnTo>
                    <a:pt x="2524" y="290"/>
                  </a:lnTo>
                  <a:lnTo>
                    <a:pt x="2551" y="280"/>
                  </a:lnTo>
                  <a:lnTo>
                    <a:pt x="2577" y="272"/>
                  </a:lnTo>
                  <a:lnTo>
                    <a:pt x="2604" y="261"/>
                  </a:lnTo>
                  <a:lnTo>
                    <a:pt x="2631" y="251"/>
                  </a:lnTo>
                  <a:lnTo>
                    <a:pt x="2658" y="243"/>
                  </a:lnTo>
                  <a:lnTo>
                    <a:pt x="2685" y="233"/>
                  </a:lnTo>
                  <a:lnTo>
                    <a:pt x="2712" y="222"/>
                  </a:lnTo>
                  <a:lnTo>
                    <a:pt x="2737" y="212"/>
                  </a:lnTo>
                  <a:lnTo>
                    <a:pt x="2763" y="204"/>
                  </a:lnTo>
                  <a:lnTo>
                    <a:pt x="2788" y="194"/>
                  </a:lnTo>
                  <a:lnTo>
                    <a:pt x="2813" y="185"/>
                  </a:lnTo>
                  <a:lnTo>
                    <a:pt x="2838" y="175"/>
                  </a:lnTo>
                  <a:lnTo>
                    <a:pt x="2861" y="167"/>
                  </a:lnTo>
                  <a:lnTo>
                    <a:pt x="2885" y="159"/>
                  </a:lnTo>
                  <a:lnTo>
                    <a:pt x="2908" y="148"/>
                  </a:lnTo>
                  <a:lnTo>
                    <a:pt x="2929" y="140"/>
                  </a:lnTo>
                  <a:lnTo>
                    <a:pt x="2951" y="132"/>
                  </a:lnTo>
                  <a:lnTo>
                    <a:pt x="2972" y="124"/>
                  </a:lnTo>
                  <a:lnTo>
                    <a:pt x="2993" y="117"/>
                  </a:lnTo>
                  <a:lnTo>
                    <a:pt x="3011" y="109"/>
                  </a:lnTo>
                  <a:lnTo>
                    <a:pt x="3030" y="103"/>
                  </a:lnTo>
                  <a:lnTo>
                    <a:pt x="3049" y="95"/>
                  </a:lnTo>
                  <a:lnTo>
                    <a:pt x="3065" y="89"/>
                  </a:lnTo>
                  <a:lnTo>
                    <a:pt x="3082" y="82"/>
                  </a:lnTo>
                  <a:lnTo>
                    <a:pt x="3098" y="76"/>
                  </a:lnTo>
                  <a:lnTo>
                    <a:pt x="3125" y="66"/>
                  </a:lnTo>
                  <a:lnTo>
                    <a:pt x="3148" y="58"/>
                  </a:lnTo>
                  <a:lnTo>
                    <a:pt x="3166" y="49"/>
                  </a:lnTo>
                  <a:lnTo>
                    <a:pt x="3181" y="45"/>
                  </a:lnTo>
                  <a:lnTo>
                    <a:pt x="3191" y="39"/>
                  </a:lnTo>
                  <a:lnTo>
                    <a:pt x="3247" y="0"/>
                  </a:lnTo>
                  <a:lnTo>
                    <a:pt x="3237" y="4"/>
                  </a:lnTo>
                  <a:lnTo>
                    <a:pt x="3204" y="14"/>
                  </a:lnTo>
                  <a:lnTo>
                    <a:pt x="3181" y="23"/>
                  </a:lnTo>
                  <a:lnTo>
                    <a:pt x="3152" y="31"/>
                  </a:lnTo>
                  <a:lnTo>
                    <a:pt x="3121" y="43"/>
                  </a:lnTo>
                  <a:lnTo>
                    <a:pt x="3086" y="54"/>
                  </a:lnTo>
                  <a:lnTo>
                    <a:pt x="3067" y="60"/>
                  </a:lnTo>
                  <a:lnTo>
                    <a:pt x="3049" y="66"/>
                  </a:lnTo>
                  <a:lnTo>
                    <a:pt x="3028" y="74"/>
                  </a:lnTo>
                  <a:lnTo>
                    <a:pt x="3007" y="80"/>
                  </a:lnTo>
                  <a:lnTo>
                    <a:pt x="2987" y="89"/>
                  </a:lnTo>
                  <a:lnTo>
                    <a:pt x="2964" y="95"/>
                  </a:lnTo>
                  <a:lnTo>
                    <a:pt x="2941" y="103"/>
                  </a:lnTo>
                  <a:lnTo>
                    <a:pt x="2918" y="111"/>
                  </a:lnTo>
                  <a:lnTo>
                    <a:pt x="2894" y="117"/>
                  </a:lnTo>
                  <a:lnTo>
                    <a:pt x="2871" y="126"/>
                  </a:lnTo>
                  <a:lnTo>
                    <a:pt x="2846" y="134"/>
                  </a:lnTo>
                  <a:lnTo>
                    <a:pt x="2821" y="142"/>
                  </a:lnTo>
                  <a:lnTo>
                    <a:pt x="2796" y="150"/>
                  </a:lnTo>
                  <a:lnTo>
                    <a:pt x="2772" y="159"/>
                  </a:lnTo>
                  <a:lnTo>
                    <a:pt x="2745" y="167"/>
                  </a:lnTo>
                  <a:lnTo>
                    <a:pt x="2720" y="177"/>
                  </a:lnTo>
                  <a:lnTo>
                    <a:pt x="2695" y="185"/>
                  </a:lnTo>
                  <a:lnTo>
                    <a:pt x="2668" y="194"/>
                  </a:lnTo>
                  <a:lnTo>
                    <a:pt x="2644" y="202"/>
                  </a:lnTo>
                  <a:lnTo>
                    <a:pt x="2617" y="210"/>
                  </a:lnTo>
                  <a:lnTo>
                    <a:pt x="2592" y="218"/>
                  </a:lnTo>
                  <a:lnTo>
                    <a:pt x="2565" y="226"/>
                  </a:lnTo>
                  <a:lnTo>
                    <a:pt x="2540" y="235"/>
                  </a:lnTo>
                  <a:lnTo>
                    <a:pt x="2515" y="243"/>
                  </a:lnTo>
                  <a:lnTo>
                    <a:pt x="2491" y="251"/>
                  </a:lnTo>
                  <a:lnTo>
                    <a:pt x="2466" y="259"/>
                  </a:lnTo>
                  <a:lnTo>
                    <a:pt x="2441" y="268"/>
                  </a:lnTo>
                  <a:lnTo>
                    <a:pt x="2416" y="276"/>
                  </a:lnTo>
                  <a:lnTo>
                    <a:pt x="2393" y="284"/>
                  </a:lnTo>
                  <a:lnTo>
                    <a:pt x="2369" y="290"/>
                  </a:lnTo>
                  <a:lnTo>
                    <a:pt x="2346" y="299"/>
                  </a:lnTo>
                  <a:lnTo>
                    <a:pt x="2325" y="307"/>
                  </a:lnTo>
                  <a:lnTo>
                    <a:pt x="2302" y="313"/>
                  </a:lnTo>
                  <a:lnTo>
                    <a:pt x="2282" y="319"/>
                  </a:lnTo>
                  <a:lnTo>
                    <a:pt x="2261" y="325"/>
                  </a:lnTo>
                  <a:lnTo>
                    <a:pt x="2240" y="331"/>
                  </a:lnTo>
                  <a:lnTo>
                    <a:pt x="2203" y="344"/>
                  </a:lnTo>
                  <a:lnTo>
                    <a:pt x="2170" y="354"/>
                  </a:lnTo>
                  <a:lnTo>
                    <a:pt x="2139" y="364"/>
                  </a:lnTo>
                  <a:lnTo>
                    <a:pt x="2112" y="371"/>
                  </a:lnTo>
                  <a:lnTo>
                    <a:pt x="2073" y="383"/>
                  </a:lnTo>
                  <a:lnTo>
                    <a:pt x="2038" y="391"/>
                  </a:lnTo>
                  <a:lnTo>
                    <a:pt x="1990" y="401"/>
                  </a:lnTo>
                  <a:lnTo>
                    <a:pt x="1961" y="408"/>
                  </a:lnTo>
                  <a:lnTo>
                    <a:pt x="1933" y="414"/>
                  </a:lnTo>
                  <a:lnTo>
                    <a:pt x="1899" y="420"/>
                  </a:lnTo>
                  <a:lnTo>
                    <a:pt x="1864" y="426"/>
                  </a:lnTo>
                  <a:lnTo>
                    <a:pt x="1829" y="434"/>
                  </a:lnTo>
                  <a:lnTo>
                    <a:pt x="1792" y="441"/>
                  </a:lnTo>
                  <a:lnTo>
                    <a:pt x="1751" y="449"/>
                  </a:lnTo>
                  <a:lnTo>
                    <a:pt x="1713" y="457"/>
                  </a:lnTo>
                  <a:lnTo>
                    <a:pt x="1670" y="463"/>
                  </a:lnTo>
                  <a:lnTo>
                    <a:pt x="1627" y="471"/>
                  </a:lnTo>
                  <a:lnTo>
                    <a:pt x="1583" y="480"/>
                  </a:lnTo>
                  <a:lnTo>
                    <a:pt x="1538" y="486"/>
                  </a:lnTo>
                  <a:lnTo>
                    <a:pt x="1492" y="494"/>
                  </a:lnTo>
                  <a:lnTo>
                    <a:pt x="1445" y="500"/>
                  </a:lnTo>
                  <a:lnTo>
                    <a:pt x="1399" y="509"/>
                  </a:lnTo>
                  <a:lnTo>
                    <a:pt x="1352" y="515"/>
                  </a:lnTo>
                  <a:lnTo>
                    <a:pt x="1304" y="521"/>
                  </a:lnTo>
                  <a:lnTo>
                    <a:pt x="1259" y="527"/>
                  </a:lnTo>
                  <a:lnTo>
                    <a:pt x="1166" y="539"/>
                  </a:lnTo>
                  <a:lnTo>
                    <a:pt x="1075" y="548"/>
                  </a:lnTo>
                  <a:lnTo>
                    <a:pt x="990" y="556"/>
                  </a:lnTo>
                  <a:lnTo>
                    <a:pt x="835" y="562"/>
                  </a:lnTo>
                  <a:lnTo>
                    <a:pt x="568" y="556"/>
                  </a:lnTo>
                  <a:lnTo>
                    <a:pt x="353" y="544"/>
                  </a:lnTo>
                  <a:lnTo>
                    <a:pt x="267" y="535"/>
                  </a:lnTo>
                  <a:lnTo>
                    <a:pt x="198" y="527"/>
                  </a:lnTo>
                  <a:lnTo>
                    <a:pt x="120" y="506"/>
                  </a:lnTo>
                  <a:lnTo>
                    <a:pt x="107" y="494"/>
                  </a:lnTo>
                  <a:lnTo>
                    <a:pt x="103" y="482"/>
                  </a:lnTo>
                  <a:lnTo>
                    <a:pt x="112" y="467"/>
                  </a:lnTo>
                  <a:lnTo>
                    <a:pt x="118" y="459"/>
                  </a:lnTo>
                  <a:lnTo>
                    <a:pt x="126" y="453"/>
                  </a:lnTo>
                  <a:lnTo>
                    <a:pt x="138" y="447"/>
                  </a:lnTo>
                  <a:lnTo>
                    <a:pt x="151" y="439"/>
                  </a:lnTo>
                  <a:lnTo>
                    <a:pt x="165" y="432"/>
                  </a:lnTo>
                  <a:lnTo>
                    <a:pt x="182" y="426"/>
                  </a:lnTo>
                  <a:lnTo>
                    <a:pt x="200" y="420"/>
                  </a:lnTo>
                  <a:lnTo>
                    <a:pt x="219" y="416"/>
                  </a:lnTo>
                  <a:lnTo>
                    <a:pt x="262" y="406"/>
                  </a:lnTo>
                  <a:lnTo>
                    <a:pt x="314" y="399"/>
                  </a:lnTo>
                  <a:lnTo>
                    <a:pt x="372" y="393"/>
                  </a:lnTo>
                  <a:lnTo>
                    <a:pt x="492" y="385"/>
                  </a:lnTo>
                  <a:lnTo>
                    <a:pt x="626" y="379"/>
                  </a:lnTo>
                  <a:lnTo>
                    <a:pt x="618" y="342"/>
                  </a:lnTo>
                  <a:lnTo>
                    <a:pt x="618" y="34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84"/>
            <p:cNvSpPr/>
            <p:nvPr/>
          </p:nvSpPr>
          <p:spPr>
            <a:xfrm>
              <a:off x="6695280" y="3922560"/>
              <a:ext cx="52560" cy="262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94" h="97">
                  <a:moveTo>
                    <a:pt x="118" y="12"/>
                  </a:moveTo>
                  <a:lnTo>
                    <a:pt x="103" y="8"/>
                  </a:lnTo>
                  <a:lnTo>
                    <a:pt x="68" y="4"/>
                  </a:lnTo>
                  <a:lnTo>
                    <a:pt x="29" y="2"/>
                  </a:lnTo>
                  <a:lnTo>
                    <a:pt x="2" y="12"/>
                  </a:lnTo>
                  <a:lnTo>
                    <a:pt x="0" y="31"/>
                  </a:lnTo>
                  <a:lnTo>
                    <a:pt x="6" y="39"/>
                  </a:lnTo>
                  <a:lnTo>
                    <a:pt x="15" y="47"/>
                  </a:lnTo>
                  <a:lnTo>
                    <a:pt x="25" y="55"/>
                  </a:lnTo>
                  <a:lnTo>
                    <a:pt x="37" y="60"/>
                  </a:lnTo>
                  <a:lnTo>
                    <a:pt x="58" y="60"/>
                  </a:lnTo>
                  <a:lnTo>
                    <a:pt x="81" y="53"/>
                  </a:lnTo>
                  <a:lnTo>
                    <a:pt x="105" y="49"/>
                  </a:lnTo>
                  <a:lnTo>
                    <a:pt x="134" y="43"/>
                  </a:lnTo>
                  <a:lnTo>
                    <a:pt x="130" y="97"/>
                  </a:lnTo>
                  <a:lnTo>
                    <a:pt x="170" y="86"/>
                  </a:lnTo>
                  <a:lnTo>
                    <a:pt x="186" y="78"/>
                  </a:lnTo>
                  <a:lnTo>
                    <a:pt x="194" y="76"/>
                  </a:lnTo>
                  <a:lnTo>
                    <a:pt x="147" y="0"/>
                  </a:lnTo>
                  <a:lnTo>
                    <a:pt x="118" y="12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5"/>
            <p:cNvSpPr/>
            <p:nvPr/>
          </p:nvSpPr>
          <p:spPr>
            <a:xfrm>
              <a:off x="6557040" y="3954960"/>
              <a:ext cx="520560" cy="9684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914" h="356">
                  <a:moveTo>
                    <a:pt x="0" y="56"/>
                  </a:moveTo>
                  <a:lnTo>
                    <a:pt x="4" y="60"/>
                  </a:lnTo>
                  <a:lnTo>
                    <a:pt x="10" y="66"/>
                  </a:lnTo>
                  <a:lnTo>
                    <a:pt x="18" y="74"/>
                  </a:lnTo>
                  <a:lnTo>
                    <a:pt x="29" y="85"/>
                  </a:lnTo>
                  <a:lnTo>
                    <a:pt x="39" y="95"/>
                  </a:lnTo>
                  <a:lnTo>
                    <a:pt x="45" y="101"/>
                  </a:lnTo>
                  <a:lnTo>
                    <a:pt x="51" y="107"/>
                  </a:lnTo>
                  <a:lnTo>
                    <a:pt x="57" y="113"/>
                  </a:lnTo>
                  <a:lnTo>
                    <a:pt x="66" y="120"/>
                  </a:lnTo>
                  <a:lnTo>
                    <a:pt x="72" y="128"/>
                  </a:lnTo>
                  <a:lnTo>
                    <a:pt x="80" y="134"/>
                  </a:lnTo>
                  <a:lnTo>
                    <a:pt x="88" y="140"/>
                  </a:lnTo>
                  <a:lnTo>
                    <a:pt x="95" y="148"/>
                  </a:lnTo>
                  <a:lnTo>
                    <a:pt x="103" y="155"/>
                  </a:lnTo>
                  <a:lnTo>
                    <a:pt x="111" y="163"/>
                  </a:lnTo>
                  <a:lnTo>
                    <a:pt x="119" y="169"/>
                  </a:lnTo>
                  <a:lnTo>
                    <a:pt x="128" y="177"/>
                  </a:lnTo>
                  <a:lnTo>
                    <a:pt x="136" y="183"/>
                  </a:lnTo>
                  <a:lnTo>
                    <a:pt x="144" y="190"/>
                  </a:lnTo>
                  <a:lnTo>
                    <a:pt x="153" y="198"/>
                  </a:lnTo>
                  <a:lnTo>
                    <a:pt x="159" y="204"/>
                  </a:lnTo>
                  <a:lnTo>
                    <a:pt x="167" y="210"/>
                  </a:lnTo>
                  <a:lnTo>
                    <a:pt x="175" y="216"/>
                  </a:lnTo>
                  <a:lnTo>
                    <a:pt x="192" y="227"/>
                  </a:lnTo>
                  <a:lnTo>
                    <a:pt x="208" y="239"/>
                  </a:lnTo>
                  <a:lnTo>
                    <a:pt x="217" y="243"/>
                  </a:lnTo>
                  <a:lnTo>
                    <a:pt x="227" y="251"/>
                  </a:lnTo>
                  <a:lnTo>
                    <a:pt x="237" y="258"/>
                  </a:lnTo>
                  <a:lnTo>
                    <a:pt x="248" y="264"/>
                  </a:lnTo>
                  <a:lnTo>
                    <a:pt x="260" y="270"/>
                  </a:lnTo>
                  <a:lnTo>
                    <a:pt x="270" y="278"/>
                  </a:lnTo>
                  <a:lnTo>
                    <a:pt x="283" y="284"/>
                  </a:lnTo>
                  <a:lnTo>
                    <a:pt x="295" y="293"/>
                  </a:lnTo>
                  <a:lnTo>
                    <a:pt x="305" y="299"/>
                  </a:lnTo>
                  <a:lnTo>
                    <a:pt x="318" y="305"/>
                  </a:lnTo>
                  <a:lnTo>
                    <a:pt x="330" y="311"/>
                  </a:lnTo>
                  <a:lnTo>
                    <a:pt x="343" y="317"/>
                  </a:lnTo>
                  <a:lnTo>
                    <a:pt x="355" y="323"/>
                  </a:lnTo>
                  <a:lnTo>
                    <a:pt x="365" y="330"/>
                  </a:lnTo>
                  <a:lnTo>
                    <a:pt x="388" y="340"/>
                  </a:lnTo>
                  <a:lnTo>
                    <a:pt x="409" y="348"/>
                  </a:lnTo>
                  <a:lnTo>
                    <a:pt x="425" y="352"/>
                  </a:lnTo>
                  <a:lnTo>
                    <a:pt x="442" y="356"/>
                  </a:lnTo>
                  <a:lnTo>
                    <a:pt x="461" y="350"/>
                  </a:lnTo>
                  <a:lnTo>
                    <a:pt x="463" y="330"/>
                  </a:lnTo>
                  <a:lnTo>
                    <a:pt x="454" y="303"/>
                  </a:lnTo>
                  <a:lnTo>
                    <a:pt x="444" y="278"/>
                  </a:lnTo>
                  <a:lnTo>
                    <a:pt x="436" y="256"/>
                  </a:lnTo>
                  <a:lnTo>
                    <a:pt x="430" y="239"/>
                  </a:lnTo>
                  <a:lnTo>
                    <a:pt x="419" y="214"/>
                  </a:lnTo>
                  <a:lnTo>
                    <a:pt x="415" y="206"/>
                  </a:lnTo>
                  <a:lnTo>
                    <a:pt x="458" y="206"/>
                  </a:lnTo>
                  <a:lnTo>
                    <a:pt x="467" y="225"/>
                  </a:lnTo>
                  <a:lnTo>
                    <a:pt x="477" y="243"/>
                  </a:lnTo>
                  <a:lnTo>
                    <a:pt x="489" y="266"/>
                  </a:lnTo>
                  <a:lnTo>
                    <a:pt x="502" y="286"/>
                  </a:lnTo>
                  <a:lnTo>
                    <a:pt x="516" y="305"/>
                  </a:lnTo>
                  <a:lnTo>
                    <a:pt x="523" y="311"/>
                  </a:lnTo>
                  <a:lnTo>
                    <a:pt x="529" y="317"/>
                  </a:lnTo>
                  <a:lnTo>
                    <a:pt x="539" y="323"/>
                  </a:lnTo>
                  <a:lnTo>
                    <a:pt x="543" y="321"/>
                  </a:lnTo>
                  <a:lnTo>
                    <a:pt x="543" y="315"/>
                  </a:lnTo>
                  <a:lnTo>
                    <a:pt x="537" y="299"/>
                  </a:lnTo>
                  <a:lnTo>
                    <a:pt x="537" y="282"/>
                  </a:lnTo>
                  <a:lnTo>
                    <a:pt x="543" y="276"/>
                  </a:lnTo>
                  <a:lnTo>
                    <a:pt x="558" y="274"/>
                  </a:lnTo>
                  <a:lnTo>
                    <a:pt x="587" y="282"/>
                  </a:lnTo>
                  <a:lnTo>
                    <a:pt x="603" y="299"/>
                  </a:lnTo>
                  <a:lnTo>
                    <a:pt x="613" y="317"/>
                  </a:lnTo>
                  <a:lnTo>
                    <a:pt x="624" y="323"/>
                  </a:lnTo>
                  <a:lnTo>
                    <a:pt x="634" y="328"/>
                  </a:lnTo>
                  <a:lnTo>
                    <a:pt x="688" y="330"/>
                  </a:lnTo>
                  <a:lnTo>
                    <a:pt x="711" y="323"/>
                  </a:lnTo>
                  <a:lnTo>
                    <a:pt x="723" y="307"/>
                  </a:lnTo>
                  <a:lnTo>
                    <a:pt x="727" y="297"/>
                  </a:lnTo>
                  <a:lnTo>
                    <a:pt x="737" y="291"/>
                  </a:lnTo>
                  <a:lnTo>
                    <a:pt x="766" y="284"/>
                  </a:lnTo>
                  <a:lnTo>
                    <a:pt x="799" y="288"/>
                  </a:lnTo>
                  <a:lnTo>
                    <a:pt x="826" y="299"/>
                  </a:lnTo>
                  <a:lnTo>
                    <a:pt x="837" y="305"/>
                  </a:lnTo>
                  <a:lnTo>
                    <a:pt x="849" y="313"/>
                  </a:lnTo>
                  <a:lnTo>
                    <a:pt x="859" y="321"/>
                  </a:lnTo>
                  <a:lnTo>
                    <a:pt x="872" y="328"/>
                  </a:lnTo>
                  <a:lnTo>
                    <a:pt x="892" y="328"/>
                  </a:lnTo>
                  <a:lnTo>
                    <a:pt x="905" y="307"/>
                  </a:lnTo>
                  <a:lnTo>
                    <a:pt x="911" y="291"/>
                  </a:lnTo>
                  <a:lnTo>
                    <a:pt x="917" y="276"/>
                  </a:lnTo>
                  <a:lnTo>
                    <a:pt x="923" y="266"/>
                  </a:lnTo>
                  <a:lnTo>
                    <a:pt x="932" y="260"/>
                  </a:lnTo>
                  <a:lnTo>
                    <a:pt x="940" y="253"/>
                  </a:lnTo>
                  <a:lnTo>
                    <a:pt x="950" y="253"/>
                  </a:lnTo>
                  <a:lnTo>
                    <a:pt x="969" y="260"/>
                  </a:lnTo>
                  <a:lnTo>
                    <a:pt x="983" y="266"/>
                  </a:lnTo>
                  <a:lnTo>
                    <a:pt x="1006" y="272"/>
                  </a:lnTo>
                  <a:lnTo>
                    <a:pt x="1033" y="280"/>
                  </a:lnTo>
                  <a:lnTo>
                    <a:pt x="1062" y="288"/>
                  </a:lnTo>
                  <a:lnTo>
                    <a:pt x="1093" y="297"/>
                  </a:lnTo>
                  <a:lnTo>
                    <a:pt x="1122" y="301"/>
                  </a:lnTo>
                  <a:lnTo>
                    <a:pt x="1169" y="307"/>
                  </a:lnTo>
                  <a:lnTo>
                    <a:pt x="1184" y="305"/>
                  </a:lnTo>
                  <a:lnTo>
                    <a:pt x="1192" y="299"/>
                  </a:lnTo>
                  <a:lnTo>
                    <a:pt x="1203" y="280"/>
                  </a:lnTo>
                  <a:lnTo>
                    <a:pt x="1207" y="270"/>
                  </a:lnTo>
                  <a:lnTo>
                    <a:pt x="1217" y="264"/>
                  </a:lnTo>
                  <a:lnTo>
                    <a:pt x="1236" y="260"/>
                  </a:lnTo>
                  <a:lnTo>
                    <a:pt x="1260" y="260"/>
                  </a:lnTo>
                  <a:lnTo>
                    <a:pt x="1370" y="264"/>
                  </a:lnTo>
                  <a:lnTo>
                    <a:pt x="1417" y="264"/>
                  </a:lnTo>
                  <a:lnTo>
                    <a:pt x="1428" y="223"/>
                  </a:lnTo>
                  <a:lnTo>
                    <a:pt x="1451" y="227"/>
                  </a:lnTo>
                  <a:lnTo>
                    <a:pt x="1500" y="233"/>
                  </a:lnTo>
                  <a:lnTo>
                    <a:pt x="1556" y="239"/>
                  </a:lnTo>
                  <a:lnTo>
                    <a:pt x="1599" y="243"/>
                  </a:lnTo>
                  <a:lnTo>
                    <a:pt x="1626" y="235"/>
                  </a:lnTo>
                  <a:lnTo>
                    <a:pt x="1643" y="218"/>
                  </a:lnTo>
                  <a:lnTo>
                    <a:pt x="1655" y="196"/>
                  </a:lnTo>
                  <a:lnTo>
                    <a:pt x="1680" y="202"/>
                  </a:lnTo>
                  <a:lnTo>
                    <a:pt x="1703" y="208"/>
                  </a:lnTo>
                  <a:lnTo>
                    <a:pt x="1728" y="212"/>
                  </a:lnTo>
                  <a:lnTo>
                    <a:pt x="1777" y="214"/>
                  </a:lnTo>
                  <a:lnTo>
                    <a:pt x="1794" y="208"/>
                  </a:lnTo>
                  <a:lnTo>
                    <a:pt x="1798" y="196"/>
                  </a:lnTo>
                  <a:lnTo>
                    <a:pt x="1790" y="132"/>
                  </a:lnTo>
                  <a:lnTo>
                    <a:pt x="1833" y="136"/>
                  </a:lnTo>
                  <a:lnTo>
                    <a:pt x="1860" y="132"/>
                  </a:lnTo>
                  <a:lnTo>
                    <a:pt x="1885" y="116"/>
                  </a:lnTo>
                  <a:lnTo>
                    <a:pt x="1903" y="89"/>
                  </a:lnTo>
                  <a:lnTo>
                    <a:pt x="1911" y="64"/>
                  </a:lnTo>
                  <a:lnTo>
                    <a:pt x="1914" y="35"/>
                  </a:lnTo>
                  <a:lnTo>
                    <a:pt x="1781" y="0"/>
                  </a:lnTo>
                  <a:lnTo>
                    <a:pt x="1759" y="6"/>
                  </a:lnTo>
                  <a:lnTo>
                    <a:pt x="1730" y="13"/>
                  </a:lnTo>
                  <a:lnTo>
                    <a:pt x="1692" y="19"/>
                  </a:lnTo>
                  <a:lnTo>
                    <a:pt x="1645" y="29"/>
                  </a:lnTo>
                  <a:lnTo>
                    <a:pt x="1589" y="39"/>
                  </a:lnTo>
                  <a:lnTo>
                    <a:pt x="1525" y="52"/>
                  </a:lnTo>
                  <a:lnTo>
                    <a:pt x="1490" y="56"/>
                  </a:lnTo>
                  <a:lnTo>
                    <a:pt x="1455" y="62"/>
                  </a:lnTo>
                  <a:lnTo>
                    <a:pt x="1420" y="68"/>
                  </a:lnTo>
                  <a:lnTo>
                    <a:pt x="1380" y="74"/>
                  </a:lnTo>
                  <a:lnTo>
                    <a:pt x="1341" y="81"/>
                  </a:lnTo>
                  <a:lnTo>
                    <a:pt x="1302" y="87"/>
                  </a:lnTo>
                  <a:lnTo>
                    <a:pt x="1260" y="93"/>
                  </a:lnTo>
                  <a:lnTo>
                    <a:pt x="1219" y="99"/>
                  </a:lnTo>
                  <a:lnTo>
                    <a:pt x="1136" y="111"/>
                  </a:lnTo>
                  <a:lnTo>
                    <a:pt x="1050" y="122"/>
                  </a:lnTo>
                  <a:lnTo>
                    <a:pt x="963" y="130"/>
                  </a:lnTo>
                  <a:lnTo>
                    <a:pt x="878" y="138"/>
                  </a:lnTo>
                  <a:lnTo>
                    <a:pt x="793" y="144"/>
                  </a:lnTo>
                  <a:lnTo>
                    <a:pt x="630" y="146"/>
                  </a:lnTo>
                  <a:lnTo>
                    <a:pt x="481" y="140"/>
                  </a:lnTo>
                  <a:lnTo>
                    <a:pt x="345" y="126"/>
                  </a:lnTo>
                  <a:lnTo>
                    <a:pt x="285" y="118"/>
                  </a:lnTo>
                  <a:lnTo>
                    <a:pt x="229" y="109"/>
                  </a:lnTo>
                  <a:lnTo>
                    <a:pt x="177" y="99"/>
                  </a:lnTo>
                  <a:lnTo>
                    <a:pt x="134" y="91"/>
                  </a:lnTo>
                  <a:lnTo>
                    <a:pt x="93" y="81"/>
                  </a:lnTo>
                  <a:lnTo>
                    <a:pt x="62" y="72"/>
                  </a:lnTo>
                  <a:lnTo>
                    <a:pt x="16" y="6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86"/>
            <p:cNvSpPr/>
            <p:nvPr/>
          </p:nvSpPr>
          <p:spPr>
            <a:xfrm>
              <a:off x="6763320" y="3857400"/>
              <a:ext cx="272160" cy="3672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001" h="136">
                  <a:moveTo>
                    <a:pt x="0" y="136"/>
                  </a:moveTo>
                  <a:lnTo>
                    <a:pt x="13" y="93"/>
                  </a:lnTo>
                  <a:lnTo>
                    <a:pt x="25" y="74"/>
                  </a:lnTo>
                  <a:lnTo>
                    <a:pt x="33" y="66"/>
                  </a:lnTo>
                  <a:lnTo>
                    <a:pt x="44" y="58"/>
                  </a:lnTo>
                  <a:lnTo>
                    <a:pt x="56" y="47"/>
                  </a:lnTo>
                  <a:lnTo>
                    <a:pt x="70" y="41"/>
                  </a:lnTo>
                  <a:lnTo>
                    <a:pt x="85" y="33"/>
                  </a:lnTo>
                  <a:lnTo>
                    <a:pt x="103" y="29"/>
                  </a:lnTo>
                  <a:lnTo>
                    <a:pt x="126" y="23"/>
                  </a:lnTo>
                  <a:lnTo>
                    <a:pt x="153" y="19"/>
                  </a:lnTo>
                  <a:lnTo>
                    <a:pt x="215" y="12"/>
                  </a:lnTo>
                  <a:lnTo>
                    <a:pt x="370" y="8"/>
                  </a:lnTo>
                  <a:lnTo>
                    <a:pt x="643" y="8"/>
                  </a:lnTo>
                  <a:lnTo>
                    <a:pt x="864" y="0"/>
                  </a:lnTo>
                  <a:lnTo>
                    <a:pt x="961" y="0"/>
                  </a:lnTo>
                  <a:lnTo>
                    <a:pt x="988" y="2"/>
                  </a:lnTo>
                  <a:lnTo>
                    <a:pt x="1001" y="8"/>
                  </a:lnTo>
                  <a:lnTo>
                    <a:pt x="998" y="37"/>
                  </a:lnTo>
                  <a:lnTo>
                    <a:pt x="992" y="45"/>
                  </a:lnTo>
                  <a:lnTo>
                    <a:pt x="984" y="54"/>
                  </a:lnTo>
                  <a:lnTo>
                    <a:pt x="972" y="62"/>
                  </a:lnTo>
                  <a:lnTo>
                    <a:pt x="959" y="72"/>
                  </a:lnTo>
                  <a:lnTo>
                    <a:pt x="949" y="76"/>
                  </a:lnTo>
                  <a:lnTo>
                    <a:pt x="936" y="80"/>
                  </a:lnTo>
                  <a:lnTo>
                    <a:pt x="907" y="89"/>
                  </a:lnTo>
                  <a:lnTo>
                    <a:pt x="874" y="95"/>
                  </a:lnTo>
                  <a:lnTo>
                    <a:pt x="835" y="99"/>
                  </a:lnTo>
                  <a:lnTo>
                    <a:pt x="752" y="107"/>
                  </a:lnTo>
                  <a:lnTo>
                    <a:pt x="672" y="115"/>
                  </a:lnTo>
                  <a:lnTo>
                    <a:pt x="612" y="119"/>
                  </a:lnTo>
                  <a:lnTo>
                    <a:pt x="523" y="124"/>
                  </a:lnTo>
                  <a:lnTo>
                    <a:pt x="296" y="13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7"/>
            <p:cNvSpPr/>
            <p:nvPr/>
          </p:nvSpPr>
          <p:spPr>
            <a:xfrm>
              <a:off x="6803640" y="3915720"/>
              <a:ext cx="26640" cy="230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99" h="85">
                  <a:moveTo>
                    <a:pt x="0" y="58"/>
                  </a:moveTo>
                  <a:lnTo>
                    <a:pt x="0" y="31"/>
                  </a:lnTo>
                  <a:lnTo>
                    <a:pt x="10" y="12"/>
                  </a:lnTo>
                  <a:lnTo>
                    <a:pt x="21" y="4"/>
                  </a:lnTo>
                  <a:lnTo>
                    <a:pt x="35" y="0"/>
                  </a:lnTo>
                  <a:lnTo>
                    <a:pt x="64" y="2"/>
                  </a:lnTo>
                  <a:lnTo>
                    <a:pt x="85" y="12"/>
                  </a:lnTo>
                  <a:lnTo>
                    <a:pt x="97" y="27"/>
                  </a:lnTo>
                  <a:lnTo>
                    <a:pt x="99" y="41"/>
                  </a:lnTo>
                  <a:lnTo>
                    <a:pt x="93" y="58"/>
                  </a:lnTo>
                  <a:lnTo>
                    <a:pt x="87" y="66"/>
                  </a:lnTo>
                  <a:lnTo>
                    <a:pt x="78" y="74"/>
                  </a:lnTo>
                  <a:lnTo>
                    <a:pt x="70" y="80"/>
                  </a:lnTo>
                  <a:lnTo>
                    <a:pt x="62" y="85"/>
                  </a:lnTo>
                  <a:lnTo>
                    <a:pt x="39" y="80"/>
                  </a:lnTo>
                  <a:lnTo>
                    <a:pt x="19" y="70"/>
                  </a:lnTo>
                  <a:lnTo>
                    <a:pt x="6" y="64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8"/>
            <p:cNvSpPr/>
            <p:nvPr/>
          </p:nvSpPr>
          <p:spPr>
            <a:xfrm>
              <a:off x="6854400" y="3912120"/>
              <a:ext cx="28440" cy="223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5" h="82">
                  <a:moveTo>
                    <a:pt x="4" y="18"/>
                  </a:moveTo>
                  <a:lnTo>
                    <a:pt x="8" y="14"/>
                  </a:lnTo>
                  <a:lnTo>
                    <a:pt x="21" y="6"/>
                  </a:lnTo>
                  <a:lnTo>
                    <a:pt x="39" y="0"/>
                  </a:lnTo>
                  <a:lnTo>
                    <a:pt x="64" y="0"/>
                  </a:lnTo>
                  <a:lnTo>
                    <a:pt x="87" y="8"/>
                  </a:lnTo>
                  <a:lnTo>
                    <a:pt x="97" y="20"/>
                  </a:lnTo>
                  <a:lnTo>
                    <a:pt x="105" y="47"/>
                  </a:lnTo>
                  <a:lnTo>
                    <a:pt x="99" y="61"/>
                  </a:lnTo>
                  <a:lnTo>
                    <a:pt x="93" y="68"/>
                  </a:lnTo>
                  <a:lnTo>
                    <a:pt x="87" y="76"/>
                  </a:lnTo>
                  <a:lnTo>
                    <a:pt x="79" y="80"/>
                  </a:lnTo>
                  <a:lnTo>
                    <a:pt x="68" y="82"/>
                  </a:lnTo>
                  <a:lnTo>
                    <a:pt x="50" y="78"/>
                  </a:lnTo>
                  <a:lnTo>
                    <a:pt x="29" y="68"/>
                  </a:lnTo>
                  <a:lnTo>
                    <a:pt x="14" y="57"/>
                  </a:lnTo>
                  <a:lnTo>
                    <a:pt x="0" y="47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9"/>
            <p:cNvSpPr/>
            <p:nvPr/>
          </p:nvSpPr>
          <p:spPr>
            <a:xfrm>
              <a:off x="6912360" y="3903120"/>
              <a:ext cx="33480" cy="23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4" h="88">
                  <a:moveTo>
                    <a:pt x="0" y="37"/>
                  </a:moveTo>
                  <a:lnTo>
                    <a:pt x="8" y="16"/>
                  </a:lnTo>
                  <a:lnTo>
                    <a:pt x="21" y="2"/>
                  </a:lnTo>
                  <a:lnTo>
                    <a:pt x="43" y="0"/>
                  </a:lnTo>
                  <a:lnTo>
                    <a:pt x="70" y="8"/>
                  </a:lnTo>
                  <a:lnTo>
                    <a:pt x="95" y="18"/>
                  </a:lnTo>
                  <a:lnTo>
                    <a:pt x="114" y="29"/>
                  </a:lnTo>
                  <a:lnTo>
                    <a:pt x="124" y="41"/>
                  </a:lnTo>
                  <a:lnTo>
                    <a:pt x="122" y="55"/>
                  </a:lnTo>
                  <a:lnTo>
                    <a:pt x="116" y="70"/>
                  </a:lnTo>
                  <a:lnTo>
                    <a:pt x="107" y="78"/>
                  </a:lnTo>
                  <a:lnTo>
                    <a:pt x="97" y="82"/>
                  </a:lnTo>
                  <a:lnTo>
                    <a:pt x="70" y="88"/>
                  </a:lnTo>
                  <a:lnTo>
                    <a:pt x="43" y="84"/>
                  </a:lnTo>
                  <a:lnTo>
                    <a:pt x="23" y="76"/>
                  </a:lnTo>
                  <a:lnTo>
                    <a:pt x="8" y="64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90"/>
            <p:cNvSpPr/>
            <p:nvPr/>
          </p:nvSpPr>
          <p:spPr>
            <a:xfrm>
              <a:off x="7052400" y="3872880"/>
              <a:ext cx="102240" cy="428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76" h="158">
                  <a:moveTo>
                    <a:pt x="208" y="0"/>
                  </a:moveTo>
                  <a:lnTo>
                    <a:pt x="198" y="6"/>
                  </a:lnTo>
                  <a:lnTo>
                    <a:pt x="186" y="14"/>
                  </a:lnTo>
                  <a:lnTo>
                    <a:pt x="171" y="22"/>
                  </a:lnTo>
                  <a:lnTo>
                    <a:pt x="152" y="33"/>
                  </a:lnTo>
                  <a:lnTo>
                    <a:pt x="144" y="39"/>
                  </a:lnTo>
                  <a:lnTo>
                    <a:pt x="134" y="45"/>
                  </a:lnTo>
                  <a:lnTo>
                    <a:pt x="124" y="51"/>
                  </a:lnTo>
                  <a:lnTo>
                    <a:pt x="113" y="57"/>
                  </a:lnTo>
                  <a:lnTo>
                    <a:pt x="103" y="65"/>
                  </a:lnTo>
                  <a:lnTo>
                    <a:pt x="93" y="72"/>
                  </a:lnTo>
                  <a:lnTo>
                    <a:pt x="80" y="78"/>
                  </a:lnTo>
                  <a:lnTo>
                    <a:pt x="70" y="86"/>
                  </a:lnTo>
                  <a:lnTo>
                    <a:pt x="62" y="92"/>
                  </a:lnTo>
                  <a:lnTo>
                    <a:pt x="51" y="98"/>
                  </a:lnTo>
                  <a:lnTo>
                    <a:pt x="41" y="107"/>
                  </a:lnTo>
                  <a:lnTo>
                    <a:pt x="33" y="113"/>
                  </a:lnTo>
                  <a:lnTo>
                    <a:pt x="18" y="125"/>
                  </a:lnTo>
                  <a:lnTo>
                    <a:pt x="8" y="135"/>
                  </a:lnTo>
                  <a:lnTo>
                    <a:pt x="0" y="144"/>
                  </a:lnTo>
                  <a:lnTo>
                    <a:pt x="2" y="156"/>
                  </a:lnTo>
                  <a:lnTo>
                    <a:pt x="43" y="158"/>
                  </a:lnTo>
                  <a:lnTo>
                    <a:pt x="103" y="148"/>
                  </a:lnTo>
                  <a:lnTo>
                    <a:pt x="134" y="142"/>
                  </a:lnTo>
                  <a:lnTo>
                    <a:pt x="167" y="133"/>
                  </a:lnTo>
                  <a:lnTo>
                    <a:pt x="196" y="127"/>
                  </a:lnTo>
                  <a:lnTo>
                    <a:pt x="221" y="123"/>
                  </a:lnTo>
                  <a:lnTo>
                    <a:pt x="270" y="111"/>
                  </a:lnTo>
                  <a:lnTo>
                    <a:pt x="297" y="100"/>
                  </a:lnTo>
                  <a:lnTo>
                    <a:pt x="320" y="90"/>
                  </a:lnTo>
                  <a:lnTo>
                    <a:pt x="343" y="80"/>
                  </a:lnTo>
                  <a:lnTo>
                    <a:pt x="361" y="72"/>
                  </a:lnTo>
                  <a:lnTo>
                    <a:pt x="376" y="63"/>
                  </a:lnTo>
                  <a:lnTo>
                    <a:pt x="165" y="103"/>
                  </a:lnTo>
                  <a:lnTo>
                    <a:pt x="204" y="59"/>
                  </a:lnTo>
                  <a:lnTo>
                    <a:pt x="357" y="37"/>
                  </a:lnTo>
                  <a:lnTo>
                    <a:pt x="241" y="33"/>
                  </a:lnTo>
                  <a:lnTo>
                    <a:pt x="268" y="12"/>
                  </a:lnTo>
                  <a:lnTo>
                    <a:pt x="208" y="0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1"/>
            <p:cNvSpPr/>
            <p:nvPr/>
          </p:nvSpPr>
          <p:spPr>
            <a:xfrm>
              <a:off x="7021800" y="3881880"/>
              <a:ext cx="16200" cy="14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60" h="55">
                  <a:moveTo>
                    <a:pt x="60" y="0"/>
                  </a:moveTo>
                  <a:lnTo>
                    <a:pt x="31" y="6"/>
                  </a:lnTo>
                  <a:lnTo>
                    <a:pt x="12" y="14"/>
                  </a:lnTo>
                  <a:lnTo>
                    <a:pt x="0" y="26"/>
                  </a:lnTo>
                  <a:lnTo>
                    <a:pt x="2" y="41"/>
                  </a:lnTo>
                  <a:lnTo>
                    <a:pt x="6" y="45"/>
                  </a:lnTo>
                  <a:lnTo>
                    <a:pt x="10" y="49"/>
                  </a:lnTo>
                  <a:lnTo>
                    <a:pt x="23" y="55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2"/>
            <p:cNvSpPr/>
            <p:nvPr/>
          </p:nvSpPr>
          <p:spPr>
            <a:xfrm>
              <a:off x="7463880" y="3875400"/>
              <a:ext cx="158400" cy="1317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3" h="484">
                  <a:moveTo>
                    <a:pt x="62" y="45"/>
                  </a:moveTo>
                  <a:lnTo>
                    <a:pt x="69" y="41"/>
                  </a:lnTo>
                  <a:lnTo>
                    <a:pt x="85" y="31"/>
                  </a:lnTo>
                  <a:lnTo>
                    <a:pt x="98" y="25"/>
                  </a:lnTo>
                  <a:lnTo>
                    <a:pt x="112" y="18"/>
                  </a:lnTo>
                  <a:lnTo>
                    <a:pt x="129" y="12"/>
                  </a:lnTo>
                  <a:lnTo>
                    <a:pt x="147" y="6"/>
                  </a:lnTo>
                  <a:lnTo>
                    <a:pt x="191" y="0"/>
                  </a:lnTo>
                  <a:lnTo>
                    <a:pt x="242" y="2"/>
                  </a:lnTo>
                  <a:lnTo>
                    <a:pt x="300" y="14"/>
                  </a:lnTo>
                  <a:lnTo>
                    <a:pt x="331" y="29"/>
                  </a:lnTo>
                  <a:lnTo>
                    <a:pt x="348" y="37"/>
                  </a:lnTo>
                  <a:lnTo>
                    <a:pt x="364" y="45"/>
                  </a:lnTo>
                  <a:lnTo>
                    <a:pt x="381" y="55"/>
                  </a:lnTo>
                  <a:lnTo>
                    <a:pt x="395" y="66"/>
                  </a:lnTo>
                  <a:lnTo>
                    <a:pt x="410" y="74"/>
                  </a:lnTo>
                  <a:lnTo>
                    <a:pt x="424" y="84"/>
                  </a:lnTo>
                  <a:lnTo>
                    <a:pt x="439" y="93"/>
                  </a:lnTo>
                  <a:lnTo>
                    <a:pt x="451" y="103"/>
                  </a:lnTo>
                  <a:lnTo>
                    <a:pt x="463" y="111"/>
                  </a:lnTo>
                  <a:lnTo>
                    <a:pt x="476" y="121"/>
                  </a:lnTo>
                  <a:lnTo>
                    <a:pt x="486" y="130"/>
                  </a:lnTo>
                  <a:lnTo>
                    <a:pt x="497" y="140"/>
                  </a:lnTo>
                  <a:lnTo>
                    <a:pt x="507" y="148"/>
                  </a:lnTo>
                  <a:lnTo>
                    <a:pt x="515" y="156"/>
                  </a:lnTo>
                  <a:lnTo>
                    <a:pt x="523" y="167"/>
                  </a:lnTo>
                  <a:lnTo>
                    <a:pt x="532" y="175"/>
                  </a:lnTo>
                  <a:lnTo>
                    <a:pt x="540" y="183"/>
                  </a:lnTo>
                  <a:lnTo>
                    <a:pt x="546" y="193"/>
                  </a:lnTo>
                  <a:lnTo>
                    <a:pt x="567" y="228"/>
                  </a:lnTo>
                  <a:lnTo>
                    <a:pt x="579" y="265"/>
                  </a:lnTo>
                  <a:lnTo>
                    <a:pt x="583" y="303"/>
                  </a:lnTo>
                  <a:lnTo>
                    <a:pt x="579" y="340"/>
                  </a:lnTo>
                  <a:lnTo>
                    <a:pt x="569" y="379"/>
                  </a:lnTo>
                  <a:lnTo>
                    <a:pt x="561" y="395"/>
                  </a:lnTo>
                  <a:lnTo>
                    <a:pt x="554" y="412"/>
                  </a:lnTo>
                  <a:lnTo>
                    <a:pt x="540" y="438"/>
                  </a:lnTo>
                  <a:lnTo>
                    <a:pt x="523" y="461"/>
                  </a:lnTo>
                  <a:lnTo>
                    <a:pt x="517" y="469"/>
                  </a:lnTo>
                  <a:lnTo>
                    <a:pt x="509" y="475"/>
                  </a:lnTo>
                  <a:lnTo>
                    <a:pt x="497" y="484"/>
                  </a:lnTo>
                  <a:lnTo>
                    <a:pt x="488" y="484"/>
                  </a:lnTo>
                  <a:lnTo>
                    <a:pt x="484" y="473"/>
                  </a:lnTo>
                  <a:lnTo>
                    <a:pt x="478" y="397"/>
                  </a:lnTo>
                  <a:lnTo>
                    <a:pt x="490" y="389"/>
                  </a:lnTo>
                  <a:lnTo>
                    <a:pt x="501" y="379"/>
                  </a:lnTo>
                  <a:lnTo>
                    <a:pt x="517" y="356"/>
                  </a:lnTo>
                  <a:lnTo>
                    <a:pt x="521" y="331"/>
                  </a:lnTo>
                  <a:lnTo>
                    <a:pt x="517" y="317"/>
                  </a:lnTo>
                  <a:lnTo>
                    <a:pt x="507" y="303"/>
                  </a:lnTo>
                  <a:lnTo>
                    <a:pt x="501" y="294"/>
                  </a:lnTo>
                  <a:lnTo>
                    <a:pt x="494" y="288"/>
                  </a:lnTo>
                  <a:lnTo>
                    <a:pt x="488" y="280"/>
                  </a:lnTo>
                  <a:lnTo>
                    <a:pt x="482" y="274"/>
                  </a:lnTo>
                  <a:lnTo>
                    <a:pt x="470" y="263"/>
                  </a:lnTo>
                  <a:lnTo>
                    <a:pt x="459" y="255"/>
                  </a:lnTo>
                  <a:lnTo>
                    <a:pt x="449" y="251"/>
                  </a:lnTo>
                  <a:lnTo>
                    <a:pt x="443" y="249"/>
                  </a:lnTo>
                  <a:lnTo>
                    <a:pt x="435" y="255"/>
                  </a:lnTo>
                  <a:lnTo>
                    <a:pt x="443" y="272"/>
                  </a:lnTo>
                  <a:lnTo>
                    <a:pt x="457" y="294"/>
                  </a:lnTo>
                  <a:lnTo>
                    <a:pt x="474" y="335"/>
                  </a:lnTo>
                  <a:lnTo>
                    <a:pt x="470" y="344"/>
                  </a:lnTo>
                  <a:lnTo>
                    <a:pt x="461" y="346"/>
                  </a:lnTo>
                  <a:lnTo>
                    <a:pt x="439" y="352"/>
                  </a:lnTo>
                  <a:lnTo>
                    <a:pt x="418" y="360"/>
                  </a:lnTo>
                  <a:lnTo>
                    <a:pt x="416" y="389"/>
                  </a:lnTo>
                  <a:lnTo>
                    <a:pt x="422" y="405"/>
                  </a:lnTo>
                  <a:lnTo>
                    <a:pt x="428" y="422"/>
                  </a:lnTo>
                  <a:lnTo>
                    <a:pt x="437" y="445"/>
                  </a:lnTo>
                  <a:lnTo>
                    <a:pt x="437" y="461"/>
                  </a:lnTo>
                  <a:lnTo>
                    <a:pt x="430" y="467"/>
                  </a:lnTo>
                  <a:lnTo>
                    <a:pt x="420" y="473"/>
                  </a:lnTo>
                  <a:lnTo>
                    <a:pt x="395" y="475"/>
                  </a:lnTo>
                  <a:lnTo>
                    <a:pt x="375" y="465"/>
                  </a:lnTo>
                  <a:lnTo>
                    <a:pt x="358" y="445"/>
                  </a:lnTo>
                  <a:lnTo>
                    <a:pt x="354" y="422"/>
                  </a:lnTo>
                  <a:lnTo>
                    <a:pt x="360" y="395"/>
                  </a:lnTo>
                  <a:lnTo>
                    <a:pt x="368" y="368"/>
                  </a:lnTo>
                  <a:lnTo>
                    <a:pt x="375" y="348"/>
                  </a:lnTo>
                  <a:lnTo>
                    <a:pt x="379" y="340"/>
                  </a:lnTo>
                  <a:lnTo>
                    <a:pt x="366" y="348"/>
                  </a:lnTo>
                  <a:lnTo>
                    <a:pt x="354" y="352"/>
                  </a:lnTo>
                  <a:lnTo>
                    <a:pt x="341" y="358"/>
                  </a:lnTo>
                  <a:lnTo>
                    <a:pt x="319" y="358"/>
                  </a:lnTo>
                  <a:lnTo>
                    <a:pt x="310" y="335"/>
                  </a:lnTo>
                  <a:lnTo>
                    <a:pt x="317" y="317"/>
                  </a:lnTo>
                  <a:lnTo>
                    <a:pt x="325" y="303"/>
                  </a:lnTo>
                  <a:lnTo>
                    <a:pt x="333" y="290"/>
                  </a:lnTo>
                  <a:lnTo>
                    <a:pt x="344" y="280"/>
                  </a:lnTo>
                  <a:lnTo>
                    <a:pt x="354" y="274"/>
                  </a:lnTo>
                  <a:lnTo>
                    <a:pt x="360" y="268"/>
                  </a:lnTo>
                  <a:lnTo>
                    <a:pt x="368" y="263"/>
                  </a:lnTo>
                  <a:lnTo>
                    <a:pt x="377" y="239"/>
                  </a:lnTo>
                  <a:lnTo>
                    <a:pt x="377" y="208"/>
                  </a:lnTo>
                  <a:lnTo>
                    <a:pt x="375" y="189"/>
                  </a:lnTo>
                  <a:lnTo>
                    <a:pt x="368" y="169"/>
                  </a:lnTo>
                  <a:lnTo>
                    <a:pt x="360" y="148"/>
                  </a:lnTo>
                  <a:lnTo>
                    <a:pt x="348" y="128"/>
                  </a:lnTo>
                  <a:lnTo>
                    <a:pt x="339" y="119"/>
                  </a:lnTo>
                  <a:lnTo>
                    <a:pt x="333" y="109"/>
                  </a:lnTo>
                  <a:lnTo>
                    <a:pt x="323" y="101"/>
                  </a:lnTo>
                  <a:lnTo>
                    <a:pt x="315" y="93"/>
                  </a:lnTo>
                  <a:lnTo>
                    <a:pt x="304" y="86"/>
                  </a:lnTo>
                  <a:lnTo>
                    <a:pt x="294" y="80"/>
                  </a:lnTo>
                  <a:lnTo>
                    <a:pt x="284" y="74"/>
                  </a:lnTo>
                  <a:lnTo>
                    <a:pt x="271" y="68"/>
                  </a:lnTo>
                  <a:lnTo>
                    <a:pt x="246" y="62"/>
                  </a:lnTo>
                  <a:lnTo>
                    <a:pt x="220" y="60"/>
                  </a:lnTo>
                  <a:lnTo>
                    <a:pt x="168" y="68"/>
                  </a:lnTo>
                  <a:lnTo>
                    <a:pt x="143" y="76"/>
                  </a:lnTo>
                  <a:lnTo>
                    <a:pt x="122" y="86"/>
                  </a:lnTo>
                  <a:lnTo>
                    <a:pt x="104" y="95"/>
                  </a:lnTo>
                  <a:lnTo>
                    <a:pt x="89" y="105"/>
                  </a:lnTo>
                  <a:lnTo>
                    <a:pt x="77" y="113"/>
                  </a:lnTo>
                  <a:lnTo>
                    <a:pt x="197" y="113"/>
                  </a:lnTo>
                  <a:lnTo>
                    <a:pt x="217" y="115"/>
                  </a:lnTo>
                  <a:lnTo>
                    <a:pt x="234" y="123"/>
                  </a:lnTo>
                  <a:lnTo>
                    <a:pt x="246" y="134"/>
                  </a:lnTo>
                  <a:lnTo>
                    <a:pt x="257" y="146"/>
                  </a:lnTo>
                  <a:lnTo>
                    <a:pt x="273" y="179"/>
                  </a:lnTo>
                  <a:lnTo>
                    <a:pt x="267" y="175"/>
                  </a:lnTo>
                  <a:lnTo>
                    <a:pt x="253" y="167"/>
                  </a:lnTo>
                  <a:lnTo>
                    <a:pt x="226" y="158"/>
                  </a:lnTo>
                  <a:lnTo>
                    <a:pt x="186" y="154"/>
                  </a:lnTo>
                  <a:lnTo>
                    <a:pt x="141" y="160"/>
                  </a:lnTo>
                  <a:lnTo>
                    <a:pt x="91" y="171"/>
                  </a:lnTo>
                  <a:lnTo>
                    <a:pt x="54" y="183"/>
                  </a:lnTo>
                  <a:lnTo>
                    <a:pt x="40" y="189"/>
                  </a:lnTo>
                  <a:lnTo>
                    <a:pt x="0" y="125"/>
                  </a:lnTo>
                  <a:lnTo>
                    <a:pt x="62" y="45"/>
                  </a:lnTo>
                  <a:lnTo>
                    <a:pt x="6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3"/>
            <p:cNvSpPr/>
            <p:nvPr/>
          </p:nvSpPr>
          <p:spPr>
            <a:xfrm>
              <a:off x="7470360" y="3928680"/>
              <a:ext cx="72360" cy="388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267" h="143">
                  <a:moveTo>
                    <a:pt x="19" y="21"/>
                  </a:moveTo>
                  <a:lnTo>
                    <a:pt x="37" y="17"/>
                  </a:lnTo>
                  <a:lnTo>
                    <a:pt x="81" y="7"/>
                  </a:lnTo>
                  <a:lnTo>
                    <a:pt x="137" y="0"/>
                  </a:lnTo>
                  <a:lnTo>
                    <a:pt x="186" y="0"/>
                  </a:lnTo>
                  <a:lnTo>
                    <a:pt x="223" y="13"/>
                  </a:lnTo>
                  <a:lnTo>
                    <a:pt x="238" y="23"/>
                  </a:lnTo>
                  <a:lnTo>
                    <a:pt x="248" y="33"/>
                  </a:lnTo>
                  <a:lnTo>
                    <a:pt x="257" y="42"/>
                  </a:lnTo>
                  <a:lnTo>
                    <a:pt x="263" y="50"/>
                  </a:lnTo>
                  <a:lnTo>
                    <a:pt x="267" y="58"/>
                  </a:lnTo>
                  <a:lnTo>
                    <a:pt x="248" y="81"/>
                  </a:lnTo>
                  <a:lnTo>
                    <a:pt x="244" y="79"/>
                  </a:lnTo>
                  <a:lnTo>
                    <a:pt x="232" y="70"/>
                  </a:lnTo>
                  <a:lnTo>
                    <a:pt x="211" y="60"/>
                  </a:lnTo>
                  <a:lnTo>
                    <a:pt x="197" y="54"/>
                  </a:lnTo>
                  <a:lnTo>
                    <a:pt x="182" y="50"/>
                  </a:lnTo>
                  <a:lnTo>
                    <a:pt x="147" y="46"/>
                  </a:lnTo>
                  <a:lnTo>
                    <a:pt x="116" y="48"/>
                  </a:lnTo>
                  <a:lnTo>
                    <a:pt x="83" y="54"/>
                  </a:lnTo>
                  <a:lnTo>
                    <a:pt x="102" y="58"/>
                  </a:lnTo>
                  <a:lnTo>
                    <a:pt x="139" y="66"/>
                  </a:lnTo>
                  <a:lnTo>
                    <a:pt x="182" y="79"/>
                  </a:lnTo>
                  <a:lnTo>
                    <a:pt x="207" y="91"/>
                  </a:lnTo>
                  <a:lnTo>
                    <a:pt x="221" y="112"/>
                  </a:lnTo>
                  <a:lnTo>
                    <a:pt x="221" y="120"/>
                  </a:lnTo>
                  <a:lnTo>
                    <a:pt x="195" y="143"/>
                  </a:lnTo>
                  <a:lnTo>
                    <a:pt x="186" y="138"/>
                  </a:lnTo>
                  <a:lnTo>
                    <a:pt x="161" y="128"/>
                  </a:lnTo>
                  <a:lnTo>
                    <a:pt x="147" y="122"/>
                  </a:lnTo>
                  <a:lnTo>
                    <a:pt x="133" y="118"/>
                  </a:lnTo>
                  <a:lnTo>
                    <a:pt x="102" y="112"/>
                  </a:lnTo>
                  <a:lnTo>
                    <a:pt x="77" y="116"/>
                  </a:lnTo>
                  <a:lnTo>
                    <a:pt x="54" y="126"/>
                  </a:lnTo>
                  <a:lnTo>
                    <a:pt x="37" y="136"/>
                  </a:lnTo>
                  <a:lnTo>
                    <a:pt x="31" y="140"/>
                  </a:lnTo>
                  <a:lnTo>
                    <a:pt x="13" y="110"/>
                  </a:lnTo>
                  <a:lnTo>
                    <a:pt x="48" y="91"/>
                  </a:lnTo>
                  <a:lnTo>
                    <a:pt x="0" y="68"/>
                  </a:lnTo>
                  <a:lnTo>
                    <a:pt x="4" y="54"/>
                  </a:lnTo>
                  <a:lnTo>
                    <a:pt x="11" y="38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94"/>
            <p:cNvSpPr/>
            <p:nvPr/>
          </p:nvSpPr>
          <p:spPr>
            <a:xfrm>
              <a:off x="7493040" y="3974040"/>
              <a:ext cx="34560" cy="367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8" h="136">
                  <a:moveTo>
                    <a:pt x="0" y="17"/>
                  </a:moveTo>
                  <a:lnTo>
                    <a:pt x="10" y="11"/>
                  </a:lnTo>
                  <a:lnTo>
                    <a:pt x="23" y="6"/>
                  </a:lnTo>
                  <a:lnTo>
                    <a:pt x="37" y="2"/>
                  </a:lnTo>
                  <a:lnTo>
                    <a:pt x="70" y="0"/>
                  </a:lnTo>
                  <a:lnTo>
                    <a:pt x="103" y="13"/>
                  </a:lnTo>
                  <a:lnTo>
                    <a:pt x="116" y="23"/>
                  </a:lnTo>
                  <a:lnTo>
                    <a:pt x="124" y="35"/>
                  </a:lnTo>
                  <a:lnTo>
                    <a:pt x="128" y="54"/>
                  </a:lnTo>
                  <a:lnTo>
                    <a:pt x="126" y="68"/>
                  </a:lnTo>
                  <a:lnTo>
                    <a:pt x="124" y="74"/>
                  </a:lnTo>
                  <a:lnTo>
                    <a:pt x="120" y="85"/>
                  </a:lnTo>
                  <a:lnTo>
                    <a:pt x="107" y="109"/>
                  </a:lnTo>
                  <a:lnTo>
                    <a:pt x="99" y="122"/>
                  </a:lnTo>
                  <a:lnTo>
                    <a:pt x="91" y="130"/>
                  </a:lnTo>
                  <a:lnTo>
                    <a:pt x="81" y="136"/>
                  </a:lnTo>
                  <a:lnTo>
                    <a:pt x="72" y="136"/>
                  </a:lnTo>
                  <a:lnTo>
                    <a:pt x="54" y="122"/>
                  </a:lnTo>
                  <a:lnTo>
                    <a:pt x="66" y="105"/>
                  </a:lnTo>
                  <a:lnTo>
                    <a:pt x="76" y="81"/>
                  </a:lnTo>
                  <a:lnTo>
                    <a:pt x="74" y="74"/>
                  </a:lnTo>
                  <a:lnTo>
                    <a:pt x="70" y="70"/>
                  </a:lnTo>
                  <a:lnTo>
                    <a:pt x="52" y="64"/>
                  </a:lnTo>
                  <a:lnTo>
                    <a:pt x="29" y="62"/>
                  </a:lnTo>
                  <a:lnTo>
                    <a:pt x="14" y="66"/>
                  </a:lnTo>
                  <a:lnTo>
                    <a:pt x="2" y="74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95"/>
            <p:cNvSpPr/>
            <p:nvPr/>
          </p:nvSpPr>
          <p:spPr>
            <a:xfrm>
              <a:off x="7490880" y="3983040"/>
              <a:ext cx="58320" cy="597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5" h="220">
                  <a:moveTo>
                    <a:pt x="159" y="0"/>
                  </a:moveTo>
                  <a:lnTo>
                    <a:pt x="163" y="10"/>
                  </a:lnTo>
                  <a:lnTo>
                    <a:pt x="173" y="37"/>
                  </a:lnTo>
                  <a:lnTo>
                    <a:pt x="177" y="72"/>
                  </a:lnTo>
                  <a:lnTo>
                    <a:pt x="175" y="91"/>
                  </a:lnTo>
                  <a:lnTo>
                    <a:pt x="169" y="107"/>
                  </a:lnTo>
                  <a:lnTo>
                    <a:pt x="157" y="124"/>
                  </a:lnTo>
                  <a:lnTo>
                    <a:pt x="151" y="130"/>
                  </a:lnTo>
                  <a:lnTo>
                    <a:pt x="142" y="136"/>
                  </a:lnTo>
                  <a:lnTo>
                    <a:pt x="134" y="142"/>
                  </a:lnTo>
                  <a:lnTo>
                    <a:pt x="126" y="148"/>
                  </a:lnTo>
                  <a:lnTo>
                    <a:pt x="109" y="159"/>
                  </a:lnTo>
                  <a:lnTo>
                    <a:pt x="91" y="167"/>
                  </a:lnTo>
                  <a:lnTo>
                    <a:pt x="76" y="169"/>
                  </a:lnTo>
                  <a:lnTo>
                    <a:pt x="51" y="165"/>
                  </a:lnTo>
                  <a:lnTo>
                    <a:pt x="31" y="134"/>
                  </a:lnTo>
                  <a:lnTo>
                    <a:pt x="27" y="118"/>
                  </a:lnTo>
                  <a:lnTo>
                    <a:pt x="0" y="140"/>
                  </a:lnTo>
                  <a:lnTo>
                    <a:pt x="4" y="157"/>
                  </a:lnTo>
                  <a:lnTo>
                    <a:pt x="8" y="171"/>
                  </a:lnTo>
                  <a:lnTo>
                    <a:pt x="18" y="188"/>
                  </a:lnTo>
                  <a:lnTo>
                    <a:pt x="24" y="196"/>
                  </a:lnTo>
                  <a:lnTo>
                    <a:pt x="33" y="204"/>
                  </a:lnTo>
                  <a:lnTo>
                    <a:pt x="41" y="210"/>
                  </a:lnTo>
                  <a:lnTo>
                    <a:pt x="53" y="214"/>
                  </a:lnTo>
                  <a:lnTo>
                    <a:pt x="78" y="220"/>
                  </a:lnTo>
                  <a:lnTo>
                    <a:pt x="111" y="216"/>
                  </a:lnTo>
                  <a:lnTo>
                    <a:pt x="144" y="204"/>
                  </a:lnTo>
                  <a:lnTo>
                    <a:pt x="157" y="196"/>
                  </a:lnTo>
                  <a:lnTo>
                    <a:pt x="169" y="188"/>
                  </a:lnTo>
                  <a:lnTo>
                    <a:pt x="202" y="144"/>
                  </a:lnTo>
                  <a:lnTo>
                    <a:pt x="215" y="97"/>
                  </a:lnTo>
                  <a:lnTo>
                    <a:pt x="215" y="60"/>
                  </a:lnTo>
                  <a:lnTo>
                    <a:pt x="208" y="45"/>
                  </a:lnTo>
                  <a:lnTo>
                    <a:pt x="200" y="35"/>
                  </a:lnTo>
                  <a:lnTo>
                    <a:pt x="192" y="25"/>
                  </a:lnTo>
                  <a:lnTo>
                    <a:pt x="184" y="17"/>
                  </a:lnTo>
                  <a:lnTo>
                    <a:pt x="173" y="8"/>
                  </a:lnTo>
                  <a:lnTo>
                    <a:pt x="167" y="4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96"/>
            <p:cNvSpPr/>
            <p:nvPr/>
          </p:nvSpPr>
          <p:spPr>
            <a:xfrm>
              <a:off x="7444800" y="4005720"/>
              <a:ext cx="52560" cy="745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94" h="275">
                  <a:moveTo>
                    <a:pt x="4" y="117"/>
                  </a:moveTo>
                  <a:lnTo>
                    <a:pt x="0" y="189"/>
                  </a:lnTo>
                  <a:lnTo>
                    <a:pt x="6" y="216"/>
                  </a:lnTo>
                  <a:lnTo>
                    <a:pt x="21" y="240"/>
                  </a:lnTo>
                  <a:lnTo>
                    <a:pt x="25" y="247"/>
                  </a:lnTo>
                  <a:lnTo>
                    <a:pt x="31" y="251"/>
                  </a:lnTo>
                  <a:lnTo>
                    <a:pt x="44" y="261"/>
                  </a:lnTo>
                  <a:lnTo>
                    <a:pt x="58" y="267"/>
                  </a:lnTo>
                  <a:lnTo>
                    <a:pt x="77" y="271"/>
                  </a:lnTo>
                  <a:lnTo>
                    <a:pt x="112" y="275"/>
                  </a:lnTo>
                  <a:lnTo>
                    <a:pt x="139" y="271"/>
                  </a:lnTo>
                  <a:lnTo>
                    <a:pt x="174" y="257"/>
                  </a:lnTo>
                  <a:lnTo>
                    <a:pt x="194" y="228"/>
                  </a:lnTo>
                  <a:lnTo>
                    <a:pt x="188" y="197"/>
                  </a:lnTo>
                  <a:lnTo>
                    <a:pt x="172" y="205"/>
                  </a:lnTo>
                  <a:lnTo>
                    <a:pt x="155" y="212"/>
                  </a:lnTo>
                  <a:lnTo>
                    <a:pt x="135" y="218"/>
                  </a:lnTo>
                  <a:lnTo>
                    <a:pt x="114" y="224"/>
                  </a:lnTo>
                  <a:lnTo>
                    <a:pt x="95" y="224"/>
                  </a:lnTo>
                  <a:lnTo>
                    <a:pt x="79" y="220"/>
                  </a:lnTo>
                  <a:lnTo>
                    <a:pt x="68" y="207"/>
                  </a:lnTo>
                  <a:lnTo>
                    <a:pt x="62" y="179"/>
                  </a:lnTo>
                  <a:lnTo>
                    <a:pt x="64" y="154"/>
                  </a:lnTo>
                  <a:lnTo>
                    <a:pt x="70" y="140"/>
                  </a:lnTo>
                  <a:lnTo>
                    <a:pt x="73" y="133"/>
                  </a:lnTo>
                  <a:lnTo>
                    <a:pt x="85" y="154"/>
                  </a:lnTo>
                  <a:lnTo>
                    <a:pt x="93" y="160"/>
                  </a:lnTo>
                  <a:lnTo>
                    <a:pt x="104" y="164"/>
                  </a:lnTo>
                  <a:lnTo>
                    <a:pt x="132" y="162"/>
                  </a:lnTo>
                  <a:lnTo>
                    <a:pt x="159" y="152"/>
                  </a:lnTo>
                  <a:lnTo>
                    <a:pt x="172" y="140"/>
                  </a:lnTo>
                  <a:lnTo>
                    <a:pt x="176" y="129"/>
                  </a:lnTo>
                  <a:lnTo>
                    <a:pt x="147" y="105"/>
                  </a:lnTo>
                  <a:lnTo>
                    <a:pt x="141" y="109"/>
                  </a:lnTo>
                  <a:lnTo>
                    <a:pt x="126" y="113"/>
                  </a:lnTo>
                  <a:lnTo>
                    <a:pt x="110" y="111"/>
                  </a:lnTo>
                  <a:lnTo>
                    <a:pt x="95" y="96"/>
                  </a:lnTo>
                  <a:lnTo>
                    <a:pt x="95" y="72"/>
                  </a:lnTo>
                  <a:lnTo>
                    <a:pt x="112" y="51"/>
                  </a:lnTo>
                  <a:lnTo>
                    <a:pt x="120" y="43"/>
                  </a:lnTo>
                  <a:lnTo>
                    <a:pt x="130" y="35"/>
                  </a:lnTo>
                  <a:lnTo>
                    <a:pt x="139" y="28"/>
                  </a:lnTo>
                  <a:lnTo>
                    <a:pt x="126" y="0"/>
                  </a:lnTo>
                  <a:lnTo>
                    <a:pt x="120" y="8"/>
                  </a:lnTo>
                  <a:lnTo>
                    <a:pt x="112" y="14"/>
                  </a:lnTo>
                  <a:lnTo>
                    <a:pt x="101" y="22"/>
                  </a:lnTo>
                  <a:lnTo>
                    <a:pt x="91" y="32"/>
                  </a:lnTo>
                  <a:lnTo>
                    <a:pt x="81" y="41"/>
                  </a:lnTo>
                  <a:lnTo>
                    <a:pt x="68" y="51"/>
                  </a:lnTo>
                  <a:lnTo>
                    <a:pt x="56" y="59"/>
                  </a:lnTo>
                  <a:lnTo>
                    <a:pt x="46" y="70"/>
                  </a:lnTo>
                  <a:lnTo>
                    <a:pt x="37" y="78"/>
                  </a:lnTo>
                  <a:lnTo>
                    <a:pt x="27" y="88"/>
                  </a:lnTo>
                  <a:lnTo>
                    <a:pt x="21" y="96"/>
                  </a:lnTo>
                  <a:lnTo>
                    <a:pt x="13" y="105"/>
                  </a:lnTo>
                  <a:lnTo>
                    <a:pt x="8" y="111"/>
                  </a:lnTo>
                  <a:lnTo>
                    <a:pt x="4" y="117"/>
                  </a:lnTo>
                  <a:lnTo>
                    <a:pt x="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7"/>
            <p:cNvSpPr/>
            <p:nvPr/>
          </p:nvSpPr>
          <p:spPr>
            <a:xfrm>
              <a:off x="7343640" y="3974040"/>
              <a:ext cx="130320" cy="1044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0" h="385">
                  <a:moveTo>
                    <a:pt x="480" y="21"/>
                  </a:moveTo>
                  <a:lnTo>
                    <a:pt x="473" y="25"/>
                  </a:lnTo>
                  <a:lnTo>
                    <a:pt x="461" y="35"/>
                  </a:lnTo>
                  <a:lnTo>
                    <a:pt x="453" y="43"/>
                  </a:lnTo>
                  <a:lnTo>
                    <a:pt x="442" y="52"/>
                  </a:lnTo>
                  <a:lnTo>
                    <a:pt x="430" y="62"/>
                  </a:lnTo>
                  <a:lnTo>
                    <a:pt x="420" y="72"/>
                  </a:lnTo>
                  <a:lnTo>
                    <a:pt x="407" y="83"/>
                  </a:lnTo>
                  <a:lnTo>
                    <a:pt x="395" y="93"/>
                  </a:lnTo>
                  <a:lnTo>
                    <a:pt x="385" y="105"/>
                  </a:lnTo>
                  <a:lnTo>
                    <a:pt x="374" y="116"/>
                  </a:lnTo>
                  <a:lnTo>
                    <a:pt x="345" y="155"/>
                  </a:lnTo>
                  <a:lnTo>
                    <a:pt x="329" y="206"/>
                  </a:lnTo>
                  <a:lnTo>
                    <a:pt x="329" y="227"/>
                  </a:lnTo>
                  <a:lnTo>
                    <a:pt x="236" y="274"/>
                  </a:lnTo>
                  <a:lnTo>
                    <a:pt x="132" y="385"/>
                  </a:lnTo>
                  <a:lnTo>
                    <a:pt x="101" y="367"/>
                  </a:lnTo>
                  <a:lnTo>
                    <a:pt x="106" y="356"/>
                  </a:lnTo>
                  <a:lnTo>
                    <a:pt x="112" y="350"/>
                  </a:lnTo>
                  <a:lnTo>
                    <a:pt x="118" y="342"/>
                  </a:lnTo>
                  <a:lnTo>
                    <a:pt x="124" y="334"/>
                  </a:lnTo>
                  <a:lnTo>
                    <a:pt x="132" y="326"/>
                  </a:lnTo>
                  <a:lnTo>
                    <a:pt x="141" y="317"/>
                  </a:lnTo>
                  <a:lnTo>
                    <a:pt x="151" y="307"/>
                  </a:lnTo>
                  <a:lnTo>
                    <a:pt x="159" y="299"/>
                  </a:lnTo>
                  <a:lnTo>
                    <a:pt x="170" y="291"/>
                  </a:lnTo>
                  <a:lnTo>
                    <a:pt x="178" y="284"/>
                  </a:lnTo>
                  <a:lnTo>
                    <a:pt x="184" y="278"/>
                  </a:lnTo>
                  <a:lnTo>
                    <a:pt x="197" y="268"/>
                  </a:lnTo>
                  <a:lnTo>
                    <a:pt x="201" y="264"/>
                  </a:lnTo>
                  <a:lnTo>
                    <a:pt x="188" y="262"/>
                  </a:lnTo>
                  <a:lnTo>
                    <a:pt x="163" y="270"/>
                  </a:lnTo>
                  <a:lnTo>
                    <a:pt x="145" y="278"/>
                  </a:lnTo>
                  <a:lnTo>
                    <a:pt x="132" y="284"/>
                  </a:lnTo>
                  <a:lnTo>
                    <a:pt x="118" y="293"/>
                  </a:lnTo>
                  <a:lnTo>
                    <a:pt x="106" y="301"/>
                  </a:lnTo>
                  <a:lnTo>
                    <a:pt x="93" y="309"/>
                  </a:lnTo>
                  <a:lnTo>
                    <a:pt x="81" y="315"/>
                  </a:lnTo>
                  <a:lnTo>
                    <a:pt x="70" y="323"/>
                  </a:lnTo>
                  <a:lnTo>
                    <a:pt x="62" y="330"/>
                  </a:lnTo>
                  <a:lnTo>
                    <a:pt x="56" y="336"/>
                  </a:lnTo>
                  <a:lnTo>
                    <a:pt x="41" y="348"/>
                  </a:lnTo>
                  <a:lnTo>
                    <a:pt x="33" y="356"/>
                  </a:lnTo>
                  <a:lnTo>
                    <a:pt x="27" y="365"/>
                  </a:lnTo>
                  <a:lnTo>
                    <a:pt x="23" y="371"/>
                  </a:lnTo>
                  <a:lnTo>
                    <a:pt x="0" y="348"/>
                  </a:lnTo>
                  <a:lnTo>
                    <a:pt x="4" y="342"/>
                  </a:lnTo>
                  <a:lnTo>
                    <a:pt x="8" y="334"/>
                  </a:lnTo>
                  <a:lnTo>
                    <a:pt x="17" y="326"/>
                  </a:lnTo>
                  <a:lnTo>
                    <a:pt x="25" y="315"/>
                  </a:lnTo>
                  <a:lnTo>
                    <a:pt x="29" y="309"/>
                  </a:lnTo>
                  <a:lnTo>
                    <a:pt x="35" y="301"/>
                  </a:lnTo>
                  <a:lnTo>
                    <a:pt x="41" y="295"/>
                  </a:lnTo>
                  <a:lnTo>
                    <a:pt x="48" y="288"/>
                  </a:lnTo>
                  <a:lnTo>
                    <a:pt x="54" y="280"/>
                  </a:lnTo>
                  <a:lnTo>
                    <a:pt x="60" y="272"/>
                  </a:lnTo>
                  <a:lnTo>
                    <a:pt x="68" y="264"/>
                  </a:lnTo>
                  <a:lnTo>
                    <a:pt x="77" y="256"/>
                  </a:lnTo>
                  <a:lnTo>
                    <a:pt x="83" y="247"/>
                  </a:lnTo>
                  <a:lnTo>
                    <a:pt x="91" y="239"/>
                  </a:lnTo>
                  <a:lnTo>
                    <a:pt x="101" y="231"/>
                  </a:lnTo>
                  <a:lnTo>
                    <a:pt x="110" y="223"/>
                  </a:lnTo>
                  <a:lnTo>
                    <a:pt x="118" y="212"/>
                  </a:lnTo>
                  <a:lnTo>
                    <a:pt x="128" y="204"/>
                  </a:lnTo>
                  <a:lnTo>
                    <a:pt x="137" y="196"/>
                  </a:lnTo>
                  <a:lnTo>
                    <a:pt x="147" y="188"/>
                  </a:lnTo>
                  <a:lnTo>
                    <a:pt x="155" y="179"/>
                  </a:lnTo>
                  <a:lnTo>
                    <a:pt x="166" y="171"/>
                  </a:lnTo>
                  <a:lnTo>
                    <a:pt x="176" y="163"/>
                  </a:lnTo>
                  <a:lnTo>
                    <a:pt x="186" y="155"/>
                  </a:lnTo>
                  <a:lnTo>
                    <a:pt x="197" y="148"/>
                  </a:lnTo>
                  <a:lnTo>
                    <a:pt x="207" y="140"/>
                  </a:lnTo>
                  <a:lnTo>
                    <a:pt x="217" y="134"/>
                  </a:lnTo>
                  <a:lnTo>
                    <a:pt x="228" y="126"/>
                  </a:lnTo>
                  <a:lnTo>
                    <a:pt x="238" y="120"/>
                  </a:lnTo>
                  <a:lnTo>
                    <a:pt x="248" y="111"/>
                  </a:lnTo>
                  <a:lnTo>
                    <a:pt x="259" y="105"/>
                  </a:lnTo>
                  <a:lnTo>
                    <a:pt x="269" y="99"/>
                  </a:lnTo>
                  <a:lnTo>
                    <a:pt x="279" y="93"/>
                  </a:lnTo>
                  <a:lnTo>
                    <a:pt x="290" y="87"/>
                  </a:lnTo>
                  <a:lnTo>
                    <a:pt x="298" y="81"/>
                  </a:lnTo>
                  <a:lnTo>
                    <a:pt x="308" y="74"/>
                  </a:lnTo>
                  <a:lnTo>
                    <a:pt x="327" y="62"/>
                  </a:lnTo>
                  <a:lnTo>
                    <a:pt x="343" y="52"/>
                  </a:lnTo>
                  <a:lnTo>
                    <a:pt x="360" y="41"/>
                  </a:lnTo>
                  <a:lnTo>
                    <a:pt x="374" y="33"/>
                  </a:lnTo>
                  <a:lnTo>
                    <a:pt x="389" y="25"/>
                  </a:lnTo>
                  <a:lnTo>
                    <a:pt x="399" y="17"/>
                  </a:lnTo>
                  <a:lnTo>
                    <a:pt x="409" y="11"/>
                  </a:lnTo>
                  <a:lnTo>
                    <a:pt x="424" y="2"/>
                  </a:lnTo>
                  <a:lnTo>
                    <a:pt x="428" y="0"/>
                  </a:lnTo>
                  <a:lnTo>
                    <a:pt x="420" y="29"/>
                  </a:lnTo>
                  <a:lnTo>
                    <a:pt x="349" y="85"/>
                  </a:lnTo>
                  <a:lnTo>
                    <a:pt x="480" y="21"/>
                  </a:lnTo>
                  <a:lnTo>
                    <a:pt x="480" y="21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8"/>
            <p:cNvSpPr/>
            <p:nvPr/>
          </p:nvSpPr>
          <p:spPr>
            <a:xfrm>
              <a:off x="7385760" y="4046040"/>
              <a:ext cx="51840" cy="496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92" h="183">
                  <a:moveTo>
                    <a:pt x="182" y="0"/>
                  </a:moveTo>
                  <a:lnTo>
                    <a:pt x="172" y="4"/>
                  </a:lnTo>
                  <a:lnTo>
                    <a:pt x="143" y="16"/>
                  </a:lnTo>
                  <a:lnTo>
                    <a:pt x="124" y="24"/>
                  </a:lnTo>
                  <a:lnTo>
                    <a:pt x="106" y="35"/>
                  </a:lnTo>
                  <a:lnTo>
                    <a:pt x="87" y="47"/>
                  </a:lnTo>
                  <a:lnTo>
                    <a:pt x="70" y="59"/>
                  </a:lnTo>
                  <a:lnTo>
                    <a:pt x="64" y="66"/>
                  </a:lnTo>
                  <a:lnTo>
                    <a:pt x="56" y="74"/>
                  </a:lnTo>
                  <a:lnTo>
                    <a:pt x="50" y="82"/>
                  </a:lnTo>
                  <a:lnTo>
                    <a:pt x="44" y="90"/>
                  </a:lnTo>
                  <a:lnTo>
                    <a:pt x="21" y="127"/>
                  </a:lnTo>
                  <a:lnTo>
                    <a:pt x="4" y="154"/>
                  </a:lnTo>
                  <a:lnTo>
                    <a:pt x="0" y="167"/>
                  </a:lnTo>
                  <a:lnTo>
                    <a:pt x="21" y="183"/>
                  </a:lnTo>
                  <a:lnTo>
                    <a:pt x="25" y="179"/>
                  </a:lnTo>
                  <a:lnTo>
                    <a:pt x="33" y="169"/>
                  </a:lnTo>
                  <a:lnTo>
                    <a:pt x="39" y="162"/>
                  </a:lnTo>
                  <a:lnTo>
                    <a:pt x="46" y="154"/>
                  </a:lnTo>
                  <a:lnTo>
                    <a:pt x="54" y="146"/>
                  </a:lnTo>
                  <a:lnTo>
                    <a:pt x="62" y="138"/>
                  </a:lnTo>
                  <a:lnTo>
                    <a:pt x="70" y="129"/>
                  </a:lnTo>
                  <a:lnTo>
                    <a:pt x="79" y="121"/>
                  </a:lnTo>
                  <a:lnTo>
                    <a:pt x="87" y="113"/>
                  </a:lnTo>
                  <a:lnTo>
                    <a:pt x="97" y="105"/>
                  </a:lnTo>
                  <a:lnTo>
                    <a:pt x="106" y="99"/>
                  </a:lnTo>
                  <a:lnTo>
                    <a:pt x="114" y="92"/>
                  </a:lnTo>
                  <a:lnTo>
                    <a:pt x="128" y="86"/>
                  </a:lnTo>
                  <a:lnTo>
                    <a:pt x="153" y="84"/>
                  </a:lnTo>
                  <a:lnTo>
                    <a:pt x="174" y="88"/>
                  </a:lnTo>
                  <a:lnTo>
                    <a:pt x="188" y="90"/>
                  </a:lnTo>
                  <a:lnTo>
                    <a:pt x="192" y="78"/>
                  </a:lnTo>
                  <a:lnTo>
                    <a:pt x="188" y="29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9"/>
            <p:cNvSpPr/>
            <p:nvPr/>
          </p:nvSpPr>
          <p:spPr>
            <a:xfrm>
              <a:off x="7280280" y="3890520"/>
              <a:ext cx="184320" cy="1220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78" h="449">
                  <a:moveTo>
                    <a:pt x="657" y="0"/>
                  </a:moveTo>
                  <a:lnTo>
                    <a:pt x="651" y="5"/>
                  </a:lnTo>
                  <a:lnTo>
                    <a:pt x="630" y="15"/>
                  </a:lnTo>
                  <a:lnTo>
                    <a:pt x="616" y="23"/>
                  </a:lnTo>
                  <a:lnTo>
                    <a:pt x="599" y="31"/>
                  </a:lnTo>
                  <a:lnTo>
                    <a:pt x="580" y="42"/>
                  </a:lnTo>
                  <a:lnTo>
                    <a:pt x="558" y="52"/>
                  </a:lnTo>
                  <a:lnTo>
                    <a:pt x="535" y="62"/>
                  </a:lnTo>
                  <a:lnTo>
                    <a:pt x="508" y="75"/>
                  </a:lnTo>
                  <a:lnTo>
                    <a:pt x="481" y="87"/>
                  </a:lnTo>
                  <a:lnTo>
                    <a:pt x="452" y="97"/>
                  </a:lnTo>
                  <a:lnTo>
                    <a:pt x="423" y="108"/>
                  </a:lnTo>
                  <a:lnTo>
                    <a:pt x="390" y="120"/>
                  </a:lnTo>
                  <a:lnTo>
                    <a:pt x="359" y="128"/>
                  </a:lnTo>
                  <a:lnTo>
                    <a:pt x="326" y="138"/>
                  </a:lnTo>
                  <a:lnTo>
                    <a:pt x="293" y="149"/>
                  </a:lnTo>
                  <a:lnTo>
                    <a:pt x="260" y="161"/>
                  </a:lnTo>
                  <a:lnTo>
                    <a:pt x="243" y="167"/>
                  </a:lnTo>
                  <a:lnTo>
                    <a:pt x="229" y="175"/>
                  </a:lnTo>
                  <a:lnTo>
                    <a:pt x="215" y="184"/>
                  </a:lnTo>
                  <a:lnTo>
                    <a:pt x="198" y="192"/>
                  </a:lnTo>
                  <a:lnTo>
                    <a:pt x="184" y="200"/>
                  </a:lnTo>
                  <a:lnTo>
                    <a:pt x="171" y="210"/>
                  </a:lnTo>
                  <a:lnTo>
                    <a:pt x="157" y="219"/>
                  </a:lnTo>
                  <a:lnTo>
                    <a:pt x="144" y="229"/>
                  </a:lnTo>
                  <a:lnTo>
                    <a:pt x="130" y="237"/>
                  </a:lnTo>
                  <a:lnTo>
                    <a:pt x="117" y="248"/>
                  </a:lnTo>
                  <a:lnTo>
                    <a:pt x="107" y="258"/>
                  </a:lnTo>
                  <a:lnTo>
                    <a:pt x="95" y="266"/>
                  </a:lnTo>
                  <a:lnTo>
                    <a:pt x="84" y="276"/>
                  </a:lnTo>
                  <a:lnTo>
                    <a:pt x="74" y="285"/>
                  </a:lnTo>
                  <a:lnTo>
                    <a:pt x="64" y="295"/>
                  </a:lnTo>
                  <a:lnTo>
                    <a:pt x="55" y="303"/>
                  </a:lnTo>
                  <a:lnTo>
                    <a:pt x="47" y="311"/>
                  </a:lnTo>
                  <a:lnTo>
                    <a:pt x="39" y="320"/>
                  </a:lnTo>
                  <a:lnTo>
                    <a:pt x="31" y="326"/>
                  </a:lnTo>
                  <a:lnTo>
                    <a:pt x="24" y="334"/>
                  </a:lnTo>
                  <a:lnTo>
                    <a:pt x="14" y="344"/>
                  </a:lnTo>
                  <a:lnTo>
                    <a:pt x="6" y="355"/>
                  </a:lnTo>
                  <a:lnTo>
                    <a:pt x="0" y="361"/>
                  </a:lnTo>
                  <a:lnTo>
                    <a:pt x="39" y="402"/>
                  </a:lnTo>
                  <a:lnTo>
                    <a:pt x="43" y="398"/>
                  </a:lnTo>
                  <a:lnTo>
                    <a:pt x="51" y="388"/>
                  </a:lnTo>
                  <a:lnTo>
                    <a:pt x="60" y="379"/>
                  </a:lnTo>
                  <a:lnTo>
                    <a:pt x="66" y="371"/>
                  </a:lnTo>
                  <a:lnTo>
                    <a:pt x="76" y="363"/>
                  </a:lnTo>
                  <a:lnTo>
                    <a:pt x="86" y="353"/>
                  </a:lnTo>
                  <a:lnTo>
                    <a:pt x="97" y="340"/>
                  </a:lnTo>
                  <a:lnTo>
                    <a:pt x="107" y="330"/>
                  </a:lnTo>
                  <a:lnTo>
                    <a:pt x="119" y="318"/>
                  </a:lnTo>
                  <a:lnTo>
                    <a:pt x="132" y="307"/>
                  </a:lnTo>
                  <a:lnTo>
                    <a:pt x="146" y="295"/>
                  </a:lnTo>
                  <a:lnTo>
                    <a:pt x="159" y="285"/>
                  </a:lnTo>
                  <a:lnTo>
                    <a:pt x="173" y="274"/>
                  </a:lnTo>
                  <a:lnTo>
                    <a:pt x="188" y="264"/>
                  </a:lnTo>
                  <a:lnTo>
                    <a:pt x="202" y="254"/>
                  </a:lnTo>
                  <a:lnTo>
                    <a:pt x="221" y="245"/>
                  </a:lnTo>
                  <a:lnTo>
                    <a:pt x="239" y="237"/>
                  </a:lnTo>
                  <a:lnTo>
                    <a:pt x="260" y="227"/>
                  </a:lnTo>
                  <a:lnTo>
                    <a:pt x="281" y="219"/>
                  </a:lnTo>
                  <a:lnTo>
                    <a:pt x="303" y="210"/>
                  </a:lnTo>
                  <a:lnTo>
                    <a:pt x="326" y="204"/>
                  </a:lnTo>
                  <a:lnTo>
                    <a:pt x="347" y="196"/>
                  </a:lnTo>
                  <a:lnTo>
                    <a:pt x="367" y="190"/>
                  </a:lnTo>
                  <a:lnTo>
                    <a:pt x="388" y="184"/>
                  </a:lnTo>
                  <a:lnTo>
                    <a:pt x="421" y="175"/>
                  </a:lnTo>
                  <a:lnTo>
                    <a:pt x="452" y="167"/>
                  </a:lnTo>
                  <a:lnTo>
                    <a:pt x="434" y="175"/>
                  </a:lnTo>
                  <a:lnTo>
                    <a:pt x="413" y="186"/>
                  </a:lnTo>
                  <a:lnTo>
                    <a:pt x="403" y="192"/>
                  </a:lnTo>
                  <a:lnTo>
                    <a:pt x="390" y="198"/>
                  </a:lnTo>
                  <a:lnTo>
                    <a:pt x="378" y="204"/>
                  </a:lnTo>
                  <a:lnTo>
                    <a:pt x="363" y="213"/>
                  </a:lnTo>
                  <a:lnTo>
                    <a:pt x="353" y="219"/>
                  </a:lnTo>
                  <a:lnTo>
                    <a:pt x="341" y="225"/>
                  </a:lnTo>
                  <a:lnTo>
                    <a:pt x="330" y="233"/>
                  </a:lnTo>
                  <a:lnTo>
                    <a:pt x="320" y="239"/>
                  </a:lnTo>
                  <a:lnTo>
                    <a:pt x="303" y="250"/>
                  </a:lnTo>
                  <a:lnTo>
                    <a:pt x="297" y="256"/>
                  </a:lnTo>
                  <a:lnTo>
                    <a:pt x="289" y="262"/>
                  </a:lnTo>
                  <a:lnTo>
                    <a:pt x="279" y="268"/>
                  </a:lnTo>
                  <a:lnTo>
                    <a:pt x="266" y="274"/>
                  </a:lnTo>
                  <a:lnTo>
                    <a:pt x="254" y="283"/>
                  </a:lnTo>
                  <a:lnTo>
                    <a:pt x="239" y="289"/>
                  </a:lnTo>
                  <a:lnTo>
                    <a:pt x="225" y="297"/>
                  </a:lnTo>
                  <a:lnTo>
                    <a:pt x="210" y="305"/>
                  </a:lnTo>
                  <a:lnTo>
                    <a:pt x="198" y="313"/>
                  </a:lnTo>
                  <a:lnTo>
                    <a:pt x="184" y="322"/>
                  </a:lnTo>
                  <a:lnTo>
                    <a:pt x="171" y="330"/>
                  </a:lnTo>
                  <a:lnTo>
                    <a:pt x="159" y="338"/>
                  </a:lnTo>
                  <a:lnTo>
                    <a:pt x="148" y="346"/>
                  </a:lnTo>
                  <a:lnTo>
                    <a:pt x="140" y="355"/>
                  </a:lnTo>
                  <a:lnTo>
                    <a:pt x="128" y="369"/>
                  </a:lnTo>
                  <a:lnTo>
                    <a:pt x="115" y="396"/>
                  </a:lnTo>
                  <a:lnTo>
                    <a:pt x="107" y="423"/>
                  </a:lnTo>
                  <a:lnTo>
                    <a:pt x="101" y="449"/>
                  </a:lnTo>
                  <a:lnTo>
                    <a:pt x="134" y="449"/>
                  </a:lnTo>
                  <a:lnTo>
                    <a:pt x="138" y="445"/>
                  </a:lnTo>
                  <a:lnTo>
                    <a:pt x="144" y="441"/>
                  </a:lnTo>
                  <a:lnTo>
                    <a:pt x="150" y="433"/>
                  </a:lnTo>
                  <a:lnTo>
                    <a:pt x="159" y="425"/>
                  </a:lnTo>
                  <a:lnTo>
                    <a:pt x="167" y="416"/>
                  </a:lnTo>
                  <a:lnTo>
                    <a:pt x="177" y="406"/>
                  </a:lnTo>
                  <a:lnTo>
                    <a:pt x="190" y="396"/>
                  </a:lnTo>
                  <a:lnTo>
                    <a:pt x="202" y="385"/>
                  </a:lnTo>
                  <a:lnTo>
                    <a:pt x="215" y="375"/>
                  </a:lnTo>
                  <a:lnTo>
                    <a:pt x="229" y="365"/>
                  </a:lnTo>
                  <a:lnTo>
                    <a:pt x="243" y="355"/>
                  </a:lnTo>
                  <a:lnTo>
                    <a:pt x="258" y="344"/>
                  </a:lnTo>
                  <a:lnTo>
                    <a:pt x="272" y="336"/>
                  </a:lnTo>
                  <a:lnTo>
                    <a:pt x="287" y="330"/>
                  </a:lnTo>
                  <a:lnTo>
                    <a:pt x="301" y="324"/>
                  </a:lnTo>
                  <a:lnTo>
                    <a:pt x="328" y="313"/>
                  </a:lnTo>
                  <a:lnTo>
                    <a:pt x="353" y="305"/>
                  </a:lnTo>
                  <a:lnTo>
                    <a:pt x="376" y="295"/>
                  </a:lnTo>
                  <a:lnTo>
                    <a:pt x="394" y="285"/>
                  </a:lnTo>
                  <a:lnTo>
                    <a:pt x="413" y="274"/>
                  </a:lnTo>
                  <a:lnTo>
                    <a:pt x="430" y="264"/>
                  </a:lnTo>
                  <a:lnTo>
                    <a:pt x="444" y="252"/>
                  </a:lnTo>
                  <a:lnTo>
                    <a:pt x="452" y="245"/>
                  </a:lnTo>
                  <a:lnTo>
                    <a:pt x="458" y="237"/>
                  </a:lnTo>
                  <a:lnTo>
                    <a:pt x="467" y="231"/>
                  </a:lnTo>
                  <a:lnTo>
                    <a:pt x="479" y="223"/>
                  </a:lnTo>
                  <a:lnTo>
                    <a:pt x="494" y="215"/>
                  </a:lnTo>
                  <a:lnTo>
                    <a:pt x="510" y="206"/>
                  </a:lnTo>
                  <a:lnTo>
                    <a:pt x="527" y="198"/>
                  </a:lnTo>
                  <a:lnTo>
                    <a:pt x="545" y="192"/>
                  </a:lnTo>
                  <a:lnTo>
                    <a:pt x="564" y="184"/>
                  </a:lnTo>
                  <a:lnTo>
                    <a:pt x="582" y="175"/>
                  </a:lnTo>
                  <a:lnTo>
                    <a:pt x="601" y="169"/>
                  </a:lnTo>
                  <a:lnTo>
                    <a:pt x="620" y="163"/>
                  </a:lnTo>
                  <a:lnTo>
                    <a:pt x="651" y="153"/>
                  </a:lnTo>
                  <a:lnTo>
                    <a:pt x="678" y="143"/>
                  </a:lnTo>
                  <a:lnTo>
                    <a:pt x="669" y="112"/>
                  </a:lnTo>
                  <a:lnTo>
                    <a:pt x="525" y="136"/>
                  </a:lnTo>
                  <a:lnTo>
                    <a:pt x="642" y="58"/>
                  </a:lnTo>
                  <a:lnTo>
                    <a:pt x="657" y="0"/>
                  </a:lnTo>
                  <a:lnTo>
                    <a:pt x="657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00"/>
            <p:cNvSpPr/>
            <p:nvPr/>
          </p:nvSpPr>
          <p:spPr>
            <a:xfrm>
              <a:off x="7293960" y="3945960"/>
              <a:ext cx="170280" cy="111600"/>
            </a:xfrm>
            <a:custGeom>
              <a:avLst/>
              <a:gdLst>
                <a:gd name="textAreaLeft" fmla="*/ 0 w 170280"/>
                <a:gd name="textAreaRight" fmla="*/ 170280 w 1702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627" h="410">
                  <a:moveTo>
                    <a:pt x="602" y="0"/>
                  </a:moveTo>
                  <a:lnTo>
                    <a:pt x="573" y="11"/>
                  </a:lnTo>
                  <a:lnTo>
                    <a:pt x="544" y="21"/>
                  </a:lnTo>
                  <a:lnTo>
                    <a:pt x="527" y="27"/>
                  </a:lnTo>
                  <a:lnTo>
                    <a:pt x="511" y="33"/>
                  </a:lnTo>
                  <a:lnTo>
                    <a:pt x="492" y="41"/>
                  </a:lnTo>
                  <a:lnTo>
                    <a:pt x="474" y="48"/>
                  </a:lnTo>
                  <a:lnTo>
                    <a:pt x="457" y="56"/>
                  </a:lnTo>
                  <a:lnTo>
                    <a:pt x="441" y="64"/>
                  </a:lnTo>
                  <a:lnTo>
                    <a:pt x="426" y="70"/>
                  </a:lnTo>
                  <a:lnTo>
                    <a:pt x="414" y="79"/>
                  </a:lnTo>
                  <a:lnTo>
                    <a:pt x="397" y="91"/>
                  </a:lnTo>
                  <a:lnTo>
                    <a:pt x="389" y="97"/>
                  </a:lnTo>
                  <a:lnTo>
                    <a:pt x="381" y="103"/>
                  </a:lnTo>
                  <a:lnTo>
                    <a:pt x="370" y="109"/>
                  </a:lnTo>
                  <a:lnTo>
                    <a:pt x="358" y="118"/>
                  </a:lnTo>
                  <a:lnTo>
                    <a:pt x="345" y="124"/>
                  </a:lnTo>
                  <a:lnTo>
                    <a:pt x="331" y="132"/>
                  </a:lnTo>
                  <a:lnTo>
                    <a:pt x="314" y="140"/>
                  </a:lnTo>
                  <a:lnTo>
                    <a:pt x="300" y="149"/>
                  </a:lnTo>
                  <a:lnTo>
                    <a:pt x="283" y="157"/>
                  </a:lnTo>
                  <a:lnTo>
                    <a:pt x="269" y="165"/>
                  </a:lnTo>
                  <a:lnTo>
                    <a:pt x="252" y="173"/>
                  </a:lnTo>
                  <a:lnTo>
                    <a:pt x="238" y="184"/>
                  </a:lnTo>
                  <a:lnTo>
                    <a:pt x="223" y="192"/>
                  </a:lnTo>
                  <a:lnTo>
                    <a:pt x="211" y="200"/>
                  </a:lnTo>
                  <a:lnTo>
                    <a:pt x="199" y="208"/>
                  </a:lnTo>
                  <a:lnTo>
                    <a:pt x="188" y="216"/>
                  </a:lnTo>
                  <a:lnTo>
                    <a:pt x="180" y="225"/>
                  </a:lnTo>
                  <a:lnTo>
                    <a:pt x="170" y="235"/>
                  </a:lnTo>
                  <a:lnTo>
                    <a:pt x="161" y="243"/>
                  </a:lnTo>
                  <a:lnTo>
                    <a:pt x="153" y="251"/>
                  </a:lnTo>
                  <a:lnTo>
                    <a:pt x="147" y="260"/>
                  </a:lnTo>
                  <a:lnTo>
                    <a:pt x="139" y="268"/>
                  </a:lnTo>
                  <a:lnTo>
                    <a:pt x="130" y="274"/>
                  </a:lnTo>
                  <a:lnTo>
                    <a:pt x="124" y="282"/>
                  </a:lnTo>
                  <a:lnTo>
                    <a:pt x="118" y="289"/>
                  </a:lnTo>
                  <a:lnTo>
                    <a:pt x="112" y="295"/>
                  </a:lnTo>
                  <a:lnTo>
                    <a:pt x="102" y="305"/>
                  </a:lnTo>
                  <a:lnTo>
                    <a:pt x="93" y="313"/>
                  </a:lnTo>
                  <a:lnTo>
                    <a:pt x="85" y="317"/>
                  </a:lnTo>
                  <a:lnTo>
                    <a:pt x="37" y="321"/>
                  </a:lnTo>
                  <a:lnTo>
                    <a:pt x="0" y="324"/>
                  </a:lnTo>
                  <a:lnTo>
                    <a:pt x="4" y="330"/>
                  </a:lnTo>
                  <a:lnTo>
                    <a:pt x="11" y="336"/>
                  </a:lnTo>
                  <a:lnTo>
                    <a:pt x="19" y="344"/>
                  </a:lnTo>
                  <a:lnTo>
                    <a:pt x="29" y="350"/>
                  </a:lnTo>
                  <a:lnTo>
                    <a:pt x="40" y="356"/>
                  </a:lnTo>
                  <a:lnTo>
                    <a:pt x="54" y="361"/>
                  </a:lnTo>
                  <a:lnTo>
                    <a:pt x="66" y="363"/>
                  </a:lnTo>
                  <a:lnTo>
                    <a:pt x="83" y="359"/>
                  </a:lnTo>
                  <a:lnTo>
                    <a:pt x="104" y="346"/>
                  </a:lnTo>
                  <a:lnTo>
                    <a:pt x="114" y="338"/>
                  </a:lnTo>
                  <a:lnTo>
                    <a:pt x="126" y="330"/>
                  </a:lnTo>
                  <a:lnTo>
                    <a:pt x="137" y="319"/>
                  </a:lnTo>
                  <a:lnTo>
                    <a:pt x="149" y="309"/>
                  </a:lnTo>
                  <a:lnTo>
                    <a:pt x="159" y="301"/>
                  </a:lnTo>
                  <a:lnTo>
                    <a:pt x="168" y="291"/>
                  </a:lnTo>
                  <a:lnTo>
                    <a:pt x="178" y="282"/>
                  </a:lnTo>
                  <a:lnTo>
                    <a:pt x="184" y="274"/>
                  </a:lnTo>
                  <a:lnTo>
                    <a:pt x="197" y="262"/>
                  </a:lnTo>
                  <a:lnTo>
                    <a:pt x="201" y="258"/>
                  </a:lnTo>
                  <a:lnTo>
                    <a:pt x="195" y="272"/>
                  </a:lnTo>
                  <a:lnTo>
                    <a:pt x="178" y="303"/>
                  </a:lnTo>
                  <a:lnTo>
                    <a:pt x="168" y="324"/>
                  </a:lnTo>
                  <a:lnTo>
                    <a:pt x="155" y="342"/>
                  </a:lnTo>
                  <a:lnTo>
                    <a:pt x="145" y="359"/>
                  </a:lnTo>
                  <a:lnTo>
                    <a:pt x="135" y="371"/>
                  </a:lnTo>
                  <a:lnTo>
                    <a:pt x="122" y="381"/>
                  </a:lnTo>
                  <a:lnTo>
                    <a:pt x="112" y="389"/>
                  </a:lnTo>
                  <a:lnTo>
                    <a:pt x="102" y="396"/>
                  </a:lnTo>
                  <a:lnTo>
                    <a:pt x="93" y="402"/>
                  </a:lnTo>
                  <a:lnTo>
                    <a:pt x="75" y="410"/>
                  </a:lnTo>
                  <a:lnTo>
                    <a:pt x="108" y="410"/>
                  </a:lnTo>
                  <a:lnTo>
                    <a:pt x="145" y="400"/>
                  </a:lnTo>
                  <a:lnTo>
                    <a:pt x="166" y="387"/>
                  </a:lnTo>
                  <a:lnTo>
                    <a:pt x="178" y="379"/>
                  </a:lnTo>
                  <a:lnTo>
                    <a:pt x="188" y="369"/>
                  </a:lnTo>
                  <a:lnTo>
                    <a:pt x="201" y="359"/>
                  </a:lnTo>
                  <a:lnTo>
                    <a:pt x="211" y="346"/>
                  </a:lnTo>
                  <a:lnTo>
                    <a:pt x="217" y="340"/>
                  </a:lnTo>
                  <a:lnTo>
                    <a:pt x="223" y="332"/>
                  </a:lnTo>
                  <a:lnTo>
                    <a:pt x="234" y="319"/>
                  </a:lnTo>
                  <a:lnTo>
                    <a:pt x="240" y="311"/>
                  </a:lnTo>
                  <a:lnTo>
                    <a:pt x="244" y="303"/>
                  </a:lnTo>
                  <a:lnTo>
                    <a:pt x="257" y="289"/>
                  </a:lnTo>
                  <a:lnTo>
                    <a:pt x="269" y="274"/>
                  </a:lnTo>
                  <a:lnTo>
                    <a:pt x="273" y="266"/>
                  </a:lnTo>
                  <a:lnTo>
                    <a:pt x="279" y="258"/>
                  </a:lnTo>
                  <a:lnTo>
                    <a:pt x="285" y="251"/>
                  </a:lnTo>
                  <a:lnTo>
                    <a:pt x="292" y="243"/>
                  </a:lnTo>
                  <a:lnTo>
                    <a:pt x="298" y="235"/>
                  </a:lnTo>
                  <a:lnTo>
                    <a:pt x="304" y="229"/>
                  </a:lnTo>
                  <a:lnTo>
                    <a:pt x="316" y="214"/>
                  </a:lnTo>
                  <a:lnTo>
                    <a:pt x="323" y="208"/>
                  </a:lnTo>
                  <a:lnTo>
                    <a:pt x="331" y="202"/>
                  </a:lnTo>
                  <a:lnTo>
                    <a:pt x="337" y="196"/>
                  </a:lnTo>
                  <a:lnTo>
                    <a:pt x="343" y="190"/>
                  </a:lnTo>
                  <a:lnTo>
                    <a:pt x="358" y="179"/>
                  </a:lnTo>
                  <a:lnTo>
                    <a:pt x="372" y="171"/>
                  </a:lnTo>
                  <a:lnTo>
                    <a:pt x="389" y="165"/>
                  </a:lnTo>
                  <a:lnTo>
                    <a:pt x="405" y="159"/>
                  </a:lnTo>
                  <a:lnTo>
                    <a:pt x="424" y="151"/>
                  </a:lnTo>
                  <a:lnTo>
                    <a:pt x="443" y="144"/>
                  </a:lnTo>
                  <a:lnTo>
                    <a:pt x="463" y="136"/>
                  </a:lnTo>
                  <a:lnTo>
                    <a:pt x="482" y="128"/>
                  </a:lnTo>
                  <a:lnTo>
                    <a:pt x="503" y="120"/>
                  </a:lnTo>
                  <a:lnTo>
                    <a:pt x="521" y="109"/>
                  </a:lnTo>
                  <a:lnTo>
                    <a:pt x="540" y="101"/>
                  </a:lnTo>
                  <a:lnTo>
                    <a:pt x="558" y="95"/>
                  </a:lnTo>
                  <a:lnTo>
                    <a:pt x="575" y="87"/>
                  </a:lnTo>
                  <a:lnTo>
                    <a:pt x="589" y="81"/>
                  </a:lnTo>
                  <a:lnTo>
                    <a:pt x="602" y="74"/>
                  </a:lnTo>
                  <a:lnTo>
                    <a:pt x="620" y="66"/>
                  </a:lnTo>
                  <a:lnTo>
                    <a:pt x="627" y="62"/>
                  </a:lnTo>
                  <a:lnTo>
                    <a:pt x="622" y="41"/>
                  </a:lnTo>
                  <a:lnTo>
                    <a:pt x="467" y="87"/>
                  </a:lnTo>
                  <a:lnTo>
                    <a:pt x="602" y="0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01"/>
            <p:cNvSpPr/>
            <p:nvPr/>
          </p:nvSpPr>
          <p:spPr>
            <a:xfrm>
              <a:off x="6739200" y="3883320"/>
              <a:ext cx="87840" cy="266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3" h="99">
                  <a:moveTo>
                    <a:pt x="0" y="39"/>
                  </a:moveTo>
                  <a:lnTo>
                    <a:pt x="13" y="61"/>
                  </a:lnTo>
                  <a:lnTo>
                    <a:pt x="21" y="70"/>
                  </a:lnTo>
                  <a:lnTo>
                    <a:pt x="29" y="80"/>
                  </a:lnTo>
                  <a:lnTo>
                    <a:pt x="42" y="88"/>
                  </a:lnTo>
                  <a:lnTo>
                    <a:pt x="56" y="94"/>
                  </a:lnTo>
                  <a:lnTo>
                    <a:pt x="79" y="99"/>
                  </a:lnTo>
                  <a:lnTo>
                    <a:pt x="114" y="99"/>
                  </a:lnTo>
                  <a:lnTo>
                    <a:pt x="205" y="90"/>
                  </a:lnTo>
                  <a:lnTo>
                    <a:pt x="288" y="78"/>
                  </a:lnTo>
                  <a:lnTo>
                    <a:pt x="323" y="72"/>
                  </a:lnTo>
                  <a:lnTo>
                    <a:pt x="112" y="84"/>
                  </a:lnTo>
                  <a:lnTo>
                    <a:pt x="50" y="39"/>
                  </a:lnTo>
                  <a:lnTo>
                    <a:pt x="5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2"/>
            <p:cNvSpPr/>
            <p:nvPr/>
          </p:nvSpPr>
          <p:spPr>
            <a:xfrm>
              <a:off x="7266960" y="3876120"/>
              <a:ext cx="54360" cy="878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01" h="323">
                  <a:moveTo>
                    <a:pt x="201" y="0"/>
                  </a:moveTo>
                  <a:lnTo>
                    <a:pt x="194" y="4"/>
                  </a:lnTo>
                  <a:lnTo>
                    <a:pt x="188" y="12"/>
                  </a:lnTo>
                  <a:lnTo>
                    <a:pt x="180" y="21"/>
                  </a:lnTo>
                  <a:lnTo>
                    <a:pt x="167" y="31"/>
                  </a:lnTo>
                  <a:lnTo>
                    <a:pt x="155" y="43"/>
                  </a:lnTo>
                  <a:lnTo>
                    <a:pt x="149" y="49"/>
                  </a:lnTo>
                  <a:lnTo>
                    <a:pt x="143" y="56"/>
                  </a:lnTo>
                  <a:lnTo>
                    <a:pt x="128" y="70"/>
                  </a:lnTo>
                  <a:lnTo>
                    <a:pt x="122" y="76"/>
                  </a:lnTo>
                  <a:lnTo>
                    <a:pt x="114" y="84"/>
                  </a:lnTo>
                  <a:lnTo>
                    <a:pt x="108" y="91"/>
                  </a:lnTo>
                  <a:lnTo>
                    <a:pt x="99" y="99"/>
                  </a:lnTo>
                  <a:lnTo>
                    <a:pt x="93" y="105"/>
                  </a:lnTo>
                  <a:lnTo>
                    <a:pt x="87" y="113"/>
                  </a:lnTo>
                  <a:lnTo>
                    <a:pt x="81" y="119"/>
                  </a:lnTo>
                  <a:lnTo>
                    <a:pt x="74" y="126"/>
                  </a:lnTo>
                  <a:lnTo>
                    <a:pt x="68" y="134"/>
                  </a:lnTo>
                  <a:lnTo>
                    <a:pt x="62" y="140"/>
                  </a:lnTo>
                  <a:lnTo>
                    <a:pt x="52" y="152"/>
                  </a:lnTo>
                  <a:lnTo>
                    <a:pt x="39" y="173"/>
                  </a:lnTo>
                  <a:lnTo>
                    <a:pt x="23" y="214"/>
                  </a:lnTo>
                  <a:lnTo>
                    <a:pt x="10" y="263"/>
                  </a:lnTo>
                  <a:lnTo>
                    <a:pt x="0" y="323"/>
                  </a:lnTo>
                  <a:lnTo>
                    <a:pt x="50" y="305"/>
                  </a:lnTo>
                  <a:lnTo>
                    <a:pt x="56" y="290"/>
                  </a:lnTo>
                  <a:lnTo>
                    <a:pt x="60" y="272"/>
                  </a:lnTo>
                  <a:lnTo>
                    <a:pt x="68" y="249"/>
                  </a:lnTo>
                  <a:lnTo>
                    <a:pt x="77" y="226"/>
                  </a:lnTo>
                  <a:lnTo>
                    <a:pt x="85" y="202"/>
                  </a:lnTo>
                  <a:lnTo>
                    <a:pt x="95" y="179"/>
                  </a:lnTo>
                  <a:lnTo>
                    <a:pt x="105" y="161"/>
                  </a:lnTo>
                  <a:lnTo>
                    <a:pt x="118" y="142"/>
                  </a:lnTo>
                  <a:lnTo>
                    <a:pt x="132" y="117"/>
                  </a:lnTo>
                  <a:lnTo>
                    <a:pt x="149" y="91"/>
                  </a:lnTo>
                  <a:lnTo>
                    <a:pt x="163" y="64"/>
                  </a:lnTo>
                  <a:lnTo>
                    <a:pt x="178" y="39"/>
                  </a:lnTo>
                  <a:lnTo>
                    <a:pt x="190" y="18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3"/>
            <p:cNvSpPr/>
            <p:nvPr/>
          </p:nvSpPr>
          <p:spPr>
            <a:xfrm>
              <a:off x="6995520" y="3997080"/>
              <a:ext cx="245880" cy="1090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905" h="401">
                  <a:moveTo>
                    <a:pt x="16" y="234"/>
                  </a:moveTo>
                  <a:lnTo>
                    <a:pt x="39" y="236"/>
                  </a:lnTo>
                  <a:lnTo>
                    <a:pt x="95" y="238"/>
                  </a:lnTo>
                  <a:lnTo>
                    <a:pt x="163" y="224"/>
                  </a:lnTo>
                  <a:lnTo>
                    <a:pt x="198" y="208"/>
                  </a:lnTo>
                  <a:lnTo>
                    <a:pt x="213" y="197"/>
                  </a:lnTo>
                  <a:lnTo>
                    <a:pt x="227" y="183"/>
                  </a:lnTo>
                  <a:lnTo>
                    <a:pt x="233" y="177"/>
                  </a:lnTo>
                  <a:lnTo>
                    <a:pt x="242" y="171"/>
                  </a:lnTo>
                  <a:lnTo>
                    <a:pt x="254" y="156"/>
                  </a:lnTo>
                  <a:lnTo>
                    <a:pt x="258" y="150"/>
                  </a:lnTo>
                  <a:lnTo>
                    <a:pt x="264" y="144"/>
                  </a:lnTo>
                  <a:lnTo>
                    <a:pt x="277" y="131"/>
                  </a:lnTo>
                  <a:lnTo>
                    <a:pt x="287" y="119"/>
                  </a:lnTo>
                  <a:lnTo>
                    <a:pt x="295" y="109"/>
                  </a:lnTo>
                  <a:lnTo>
                    <a:pt x="306" y="98"/>
                  </a:lnTo>
                  <a:lnTo>
                    <a:pt x="314" y="90"/>
                  </a:lnTo>
                  <a:lnTo>
                    <a:pt x="320" y="82"/>
                  </a:lnTo>
                  <a:lnTo>
                    <a:pt x="326" y="76"/>
                  </a:lnTo>
                  <a:lnTo>
                    <a:pt x="337" y="66"/>
                  </a:lnTo>
                  <a:lnTo>
                    <a:pt x="345" y="55"/>
                  </a:lnTo>
                  <a:lnTo>
                    <a:pt x="355" y="70"/>
                  </a:lnTo>
                  <a:lnTo>
                    <a:pt x="372" y="76"/>
                  </a:lnTo>
                  <a:lnTo>
                    <a:pt x="399" y="82"/>
                  </a:lnTo>
                  <a:lnTo>
                    <a:pt x="440" y="86"/>
                  </a:lnTo>
                  <a:lnTo>
                    <a:pt x="496" y="88"/>
                  </a:lnTo>
                  <a:lnTo>
                    <a:pt x="560" y="86"/>
                  </a:lnTo>
                  <a:lnTo>
                    <a:pt x="620" y="78"/>
                  </a:lnTo>
                  <a:lnTo>
                    <a:pt x="676" y="63"/>
                  </a:lnTo>
                  <a:lnTo>
                    <a:pt x="700" y="55"/>
                  </a:lnTo>
                  <a:lnTo>
                    <a:pt x="725" y="47"/>
                  </a:lnTo>
                  <a:lnTo>
                    <a:pt x="746" y="39"/>
                  </a:lnTo>
                  <a:lnTo>
                    <a:pt x="767" y="31"/>
                  </a:lnTo>
                  <a:lnTo>
                    <a:pt x="783" y="22"/>
                  </a:lnTo>
                  <a:lnTo>
                    <a:pt x="798" y="14"/>
                  </a:lnTo>
                  <a:lnTo>
                    <a:pt x="818" y="4"/>
                  </a:lnTo>
                  <a:lnTo>
                    <a:pt x="824" y="0"/>
                  </a:lnTo>
                  <a:lnTo>
                    <a:pt x="802" y="61"/>
                  </a:lnTo>
                  <a:lnTo>
                    <a:pt x="796" y="63"/>
                  </a:lnTo>
                  <a:lnTo>
                    <a:pt x="775" y="72"/>
                  </a:lnTo>
                  <a:lnTo>
                    <a:pt x="746" y="82"/>
                  </a:lnTo>
                  <a:lnTo>
                    <a:pt x="729" y="90"/>
                  </a:lnTo>
                  <a:lnTo>
                    <a:pt x="711" y="96"/>
                  </a:lnTo>
                  <a:lnTo>
                    <a:pt x="692" y="103"/>
                  </a:lnTo>
                  <a:lnTo>
                    <a:pt x="674" y="109"/>
                  </a:lnTo>
                  <a:lnTo>
                    <a:pt x="657" y="117"/>
                  </a:lnTo>
                  <a:lnTo>
                    <a:pt x="640" y="123"/>
                  </a:lnTo>
                  <a:lnTo>
                    <a:pt x="609" y="133"/>
                  </a:lnTo>
                  <a:lnTo>
                    <a:pt x="591" y="140"/>
                  </a:lnTo>
                  <a:lnTo>
                    <a:pt x="550" y="146"/>
                  </a:lnTo>
                  <a:lnTo>
                    <a:pt x="498" y="152"/>
                  </a:lnTo>
                  <a:lnTo>
                    <a:pt x="434" y="156"/>
                  </a:lnTo>
                  <a:lnTo>
                    <a:pt x="454" y="162"/>
                  </a:lnTo>
                  <a:lnTo>
                    <a:pt x="475" y="168"/>
                  </a:lnTo>
                  <a:lnTo>
                    <a:pt x="502" y="175"/>
                  </a:lnTo>
                  <a:lnTo>
                    <a:pt x="535" y="181"/>
                  </a:lnTo>
                  <a:lnTo>
                    <a:pt x="568" y="187"/>
                  </a:lnTo>
                  <a:lnTo>
                    <a:pt x="634" y="189"/>
                  </a:lnTo>
                  <a:lnTo>
                    <a:pt x="667" y="185"/>
                  </a:lnTo>
                  <a:lnTo>
                    <a:pt x="696" y="173"/>
                  </a:lnTo>
                  <a:lnTo>
                    <a:pt x="713" y="166"/>
                  </a:lnTo>
                  <a:lnTo>
                    <a:pt x="727" y="158"/>
                  </a:lnTo>
                  <a:lnTo>
                    <a:pt x="740" y="150"/>
                  </a:lnTo>
                  <a:lnTo>
                    <a:pt x="752" y="142"/>
                  </a:lnTo>
                  <a:lnTo>
                    <a:pt x="764" y="136"/>
                  </a:lnTo>
                  <a:lnTo>
                    <a:pt x="775" y="127"/>
                  </a:lnTo>
                  <a:lnTo>
                    <a:pt x="785" y="119"/>
                  </a:lnTo>
                  <a:lnTo>
                    <a:pt x="793" y="113"/>
                  </a:lnTo>
                  <a:lnTo>
                    <a:pt x="804" y="105"/>
                  </a:lnTo>
                  <a:lnTo>
                    <a:pt x="808" y="101"/>
                  </a:lnTo>
                  <a:lnTo>
                    <a:pt x="806" y="119"/>
                  </a:lnTo>
                  <a:lnTo>
                    <a:pt x="802" y="138"/>
                  </a:lnTo>
                  <a:lnTo>
                    <a:pt x="791" y="156"/>
                  </a:lnTo>
                  <a:lnTo>
                    <a:pt x="783" y="164"/>
                  </a:lnTo>
                  <a:lnTo>
                    <a:pt x="769" y="175"/>
                  </a:lnTo>
                  <a:lnTo>
                    <a:pt x="752" y="185"/>
                  </a:lnTo>
                  <a:lnTo>
                    <a:pt x="731" y="195"/>
                  </a:lnTo>
                  <a:lnTo>
                    <a:pt x="707" y="206"/>
                  </a:lnTo>
                  <a:lnTo>
                    <a:pt x="680" y="216"/>
                  </a:lnTo>
                  <a:lnTo>
                    <a:pt x="653" y="222"/>
                  </a:lnTo>
                  <a:lnTo>
                    <a:pt x="624" y="228"/>
                  </a:lnTo>
                  <a:lnTo>
                    <a:pt x="570" y="234"/>
                  </a:lnTo>
                  <a:lnTo>
                    <a:pt x="531" y="238"/>
                  </a:lnTo>
                  <a:lnTo>
                    <a:pt x="496" y="238"/>
                  </a:lnTo>
                  <a:lnTo>
                    <a:pt x="525" y="249"/>
                  </a:lnTo>
                  <a:lnTo>
                    <a:pt x="556" y="255"/>
                  </a:lnTo>
                  <a:lnTo>
                    <a:pt x="597" y="263"/>
                  </a:lnTo>
                  <a:lnTo>
                    <a:pt x="640" y="271"/>
                  </a:lnTo>
                  <a:lnTo>
                    <a:pt x="686" y="276"/>
                  </a:lnTo>
                  <a:lnTo>
                    <a:pt x="769" y="267"/>
                  </a:lnTo>
                  <a:lnTo>
                    <a:pt x="802" y="257"/>
                  </a:lnTo>
                  <a:lnTo>
                    <a:pt x="831" y="247"/>
                  </a:lnTo>
                  <a:lnTo>
                    <a:pt x="853" y="236"/>
                  </a:lnTo>
                  <a:lnTo>
                    <a:pt x="872" y="228"/>
                  </a:lnTo>
                  <a:lnTo>
                    <a:pt x="895" y="216"/>
                  </a:lnTo>
                  <a:lnTo>
                    <a:pt x="903" y="212"/>
                  </a:lnTo>
                  <a:lnTo>
                    <a:pt x="905" y="232"/>
                  </a:lnTo>
                  <a:lnTo>
                    <a:pt x="899" y="255"/>
                  </a:lnTo>
                  <a:lnTo>
                    <a:pt x="895" y="259"/>
                  </a:lnTo>
                  <a:lnTo>
                    <a:pt x="889" y="265"/>
                  </a:lnTo>
                  <a:lnTo>
                    <a:pt x="882" y="271"/>
                  </a:lnTo>
                  <a:lnTo>
                    <a:pt x="876" y="278"/>
                  </a:lnTo>
                  <a:lnTo>
                    <a:pt x="864" y="286"/>
                  </a:lnTo>
                  <a:lnTo>
                    <a:pt x="849" y="292"/>
                  </a:lnTo>
                  <a:lnTo>
                    <a:pt x="829" y="298"/>
                  </a:lnTo>
                  <a:lnTo>
                    <a:pt x="806" y="304"/>
                  </a:lnTo>
                  <a:lnTo>
                    <a:pt x="781" y="311"/>
                  </a:lnTo>
                  <a:lnTo>
                    <a:pt x="752" y="317"/>
                  </a:lnTo>
                  <a:lnTo>
                    <a:pt x="725" y="323"/>
                  </a:lnTo>
                  <a:lnTo>
                    <a:pt x="694" y="327"/>
                  </a:lnTo>
                  <a:lnTo>
                    <a:pt x="638" y="337"/>
                  </a:lnTo>
                  <a:lnTo>
                    <a:pt x="587" y="341"/>
                  </a:lnTo>
                  <a:lnTo>
                    <a:pt x="523" y="339"/>
                  </a:lnTo>
                  <a:lnTo>
                    <a:pt x="508" y="333"/>
                  </a:lnTo>
                  <a:lnTo>
                    <a:pt x="488" y="323"/>
                  </a:lnTo>
                  <a:lnTo>
                    <a:pt x="467" y="313"/>
                  </a:lnTo>
                  <a:lnTo>
                    <a:pt x="444" y="302"/>
                  </a:lnTo>
                  <a:lnTo>
                    <a:pt x="423" y="294"/>
                  </a:lnTo>
                  <a:lnTo>
                    <a:pt x="405" y="286"/>
                  </a:lnTo>
                  <a:lnTo>
                    <a:pt x="388" y="278"/>
                  </a:lnTo>
                  <a:lnTo>
                    <a:pt x="380" y="286"/>
                  </a:lnTo>
                  <a:lnTo>
                    <a:pt x="370" y="294"/>
                  </a:lnTo>
                  <a:lnTo>
                    <a:pt x="355" y="304"/>
                  </a:lnTo>
                  <a:lnTo>
                    <a:pt x="345" y="311"/>
                  </a:lnTo>
                  <a:lnTo>
                    <a:pt x="335" y="317"/>
                  </a:lnTo>
                  <a:lnTo>
                    <a:pt x="324" y="323"/>
                  </a:lnTo>
                  <a:lnTo>
                    <a:pt x="312" y="331"/>
                  </a:lnTo>
                  <a:lnTo>
                    <a:pt x="297" y="337"/>
                  </a:lnTo>
                  <a:lnTo>
                    <a:pt x="283" y="343"/>
                  </a:lnTo>
                  <a:lnTo>
                    <a:pt x="266" y="350"/>
                  </a:lnTo>
                  <a:lnTo>
                    <a:pt x="250" y="356"/>
                  </a:lnTo>
                  <a:lnTo>
                    <a:pt x="231" y="362"/>
                  </a:lnTo>
                  <a:lnTo>
                    <a:pt x="211" y="368"/>
                  </a:lnTo>
                  <a:lnTo>
                    <a:pt x="171" y="378"/>
                  </a:lnTo>
                  <a:lnTo>
                    <a:pt x="128" y="385"/>
                  </a:lnTo>
                  <a:lnTo>
                    <a:pt x="91" y="391"/>
                  </a:lnTo>
                  <a:lnTo>
                    <a:pt x="27" y="399"/>
                  </a:lnTo>
                  <a:lnTo>
                    <a:pt x="0" y="401"/>
                  </a:lnTo>
                  <a:lnTo>
                    <a:pt x="0" y="356"/>
                  </a:lnTo>
                  <a:lnTo>
                    <a:pt x="111" y="352"/>
                  </a:lnTo>
                  <a:lnTo>
                    <a:pt x="200" y="335"/>
                  </a:lnTo>
                  <a:lnTo>
                    <a:pt x="242" y="321"/>
                  </a:lnTo>
                  <a:lnTo>
                    <a:pt x="258" y="311"/>
                  </a:lnTo>
                  <a:lnTo>
                    <a:pt x="273" y="300"/>
                  </a:lnTo>
                  <a:lnTo>
                    <a:pt x="285" y="290"/>
                  </a:lnTo>
                  <a:lnTo>
                    <a:pt x="295" y="280"/>
                  </a:lnTo>
                  <a:lnTo>
                    <a:pt x="306" y="269"/>
                  </a:lnTo>
                  <a:lnTo>
                    <a:pt x="314" y="261"/>
                  </a:lnTo>
                  <a:lnTo>
                    <a:pt x="322" y="253"/>
                  </a:lnTo>
                  <a:lnTo>
                    <a:pt x="330" y="247"/>
                  </a:lnTo>
                  <a:lnTo>
                    <a:pt x="337" y="238"/>
                  </a:lnTo>
                  <a:lnTo>
                    <a:pt x="341" y="232"/>
                  </a:lnTo>
                  <a:lnTo>
                    <a:pt x="351" y="224"/>
                  </a:lnTo>
                  <a:lnTo>
                    <a:pt x="357" y="218"/>
                  </a:lnTo>
                  <a:lnTo>
                    <a:pt x="361" y="212"/>
                  </a:lnTo>
                  <a:lnTo>
                    <a:pt x="343" y="220"/>
                  </a:lnTo>
                  <a:lnTo>
                    <a:pt x="324" y="230"/>
                  </a:lnTo>
                  <a:lnTo>
                    <a:pt x="312" y="236"/>
                  </a:lnTo>
                  <a:lnTo>
                    <a:pt x="299" y="243"/>
                  </a:lnTo>
                  <a:lnTo>
                    <a:pt x="285" y="249"/>
                  </a:lnTo>
                  <a:lnTo>
                    <a:pt x="271" y="255"/>
                  </a:lnTo>
                  <a:lnTo>
                    <a:pt x="256" y="261"/>
                  </a:lnTo>
                  <a:lnTo>
                    <a:pt x="242" y="267"/>
                  </a:lnTo>
                  <a:lnTo>
                    <a:pt x="225" y="273"/>
                  </a:lnTo>
                  <a:lnTo>
                    <a:pt x="211" y="280"/>
                  </a:lnTo>
                  <a:lnTo>
                    <a:pt x="182" y="290"/>
                  </a:lnTo>
                  <a:lnTo>
                    <a:pt x="155" y="296"/>
                  </a:lnTo>
                  <a:lnTo>
                    <a:pt x="128" y="300"/>
                  </a:lnTo>
                  <a:lnTo>
                    <a:pt x="78" y="304"/>
                  </a:lnTo>
                  <a:lnTo>
                    <a:pt x="29" y="300"/>
                  </a:lnTo>
                  <a:lnTo>
                    <a:pt x="16" y="234"/>
                  </a:lnTo>
                  <a:lnTo>
                    <a:pt x="16" y="234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04"/>
            <p:cNvSpPr/>
            <p:nvPr/>
          </p:nvSpPr>
          <p:spPr>
            <a:xfrm>
              <a:off x="7231320" y="3982320"/>
              <a:ext cx="42120" cy="49320"/>
            </a:xfrm>
            <a:custGeom>
              <a:avLst/>
              <a:gdLst>
                <a:gd name="textAreaLeft" fmla="*/ 0 w 42120"/>
                <a:gd name="textAreaRight" fmla="*/ 42120 w 421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55" h="181">
                  <a:moveTo>
                    <a:pt x="4" y="47"/>
                  </a:moveTo>
                  <a:lnTo>
                    <a:pt x="10" y="37"/>
                  </a:lnTo>
                  <a:lnTo>
                    <a:pt x="18" y="27"/>
                  </a:lnTo>
                  <a:lnTo>
                    <a:pt x="25" y="21"/>
                  </a:lnTo>
                  <a:lnTo>
                    <a:pt x="31" y="17"/>
                  </a:lnTo>
                  <a:lnTo>
                    <a:pt x="37" y="10"/>
                  </a:lnTo>
                  <a:lnTo>
                    <a:pt x="45" y="6"/>
                  </a:lnTo>
                  <a:lnTo>
                    <a:pt x="62" y="0"/>
                  </a:lnTo>
                  <a:lnTo>
                    <a:pt x="82" y="0"/>
                  </a:lnTo>
                  <a:lnTo>
                    <a:pt x="107" y="6"/>
                  </a:lnTo>
                  <a:lnTo>
                    <a:pt x="128" y="21"/>
                  </a:lnTo>
                  <a:lnTo>
                    <a:pt x="142" y="35"/>
                  </a:lnTo>
                  <a:lnTo>
                    <a:pt x="155" y="70"/>
                  </a:lnTo>
                  <a:lnTo>
                    <a:pt x="155" y="97"/>
                  </a:lnTo>
                  <a:lnTo>
                    <a:pt x="151" y="109"/>
                  </a:lnTo>
                  <a:lnTo>
                    <a:pt x="134" y="109"/>
                  </a:lnTo>
                  <a:lnTo>
                    <a:pt x="134" y="72"/>
                  </a:lnTo>
                  <a:lnTo>
                    <a:pt x="130" y="60"/>
                  </a:lnTo>
                  <a:lnTo>
                    <a:pt x="124" y="47"/>
                  </a:lnTo>
                  <a:lnTo>
                    <a:pt x="111" y="43"/>
                  </a:lnTo>
                  <a:lnTo>
                    <a:pt x="95" y="43"/>
                  </a:lnTo>
                  <a:lnTo>
                    <a:pt x="66" y="58"/>
                  </a:lnTo>
                  <a:lnTo>
                    <a:pt x="51" y="82"/>
                  </a:lnTo>
                  <a:lnTo>
                    <a:pt x="45" y="113"/>
                  </a:lnTo>
                  <a:lnTo>
                    <a:pt x="58" y="130"/>
                  </a:lnTo>
                  <a:lnTo>
                    <a:pt x="60" y="122"/>
                  </a:lnTo>
                  <a:lnTo>
                    <a:pt x="72" y="105"/>
                  </a:lnTo>
                  <a:lnTo>
                    <a:pt x="78" y="99"/>
                  </a:lnTo>
                  <a:lnTo>
                    <a:pt x="87" y="95"/>
                  </a:lnTo>
                  <a:lnTo>
                    <a:pt x="101" y="101"/>
                  </a:lnTo>
                  <a:lnTo>
                    <a:pt x="111" y="122"/>
                  </a:lnTo>
                  <a:lnTo>
                    <a:pt x="116" y="144"/>
                  </a:lnTo>
                  <a:lnTo>
                    <a:pt x="116" y="169"/>
                  </a:lnTo>
                  <a:lnTo>
                    <a:pt x="82" y="181"/>
                  </a:lnTo>
                  <a:lnTo>
                    <a:pt x="93" y="142"/>
                  </a:lnTo>
                  <a:lnTo>
                    <a:pt x="29" y="179"/>
                  </a:lnTo>
                  <a:lnTo>
                    <a:pt x="25" y="175"/>
                  </a:lnTo>
                  <a:lnTo>
                    <a:pt x="16" y="165"/>
                  </a:lnTo>
                  <a:lnTo>
                    <a:pt x="2" y="132"/>
                  </a:lnTo>
                  <a:lnTo>
                    <a:pt x="0" y="82"/>
                  </a:lnTo>
                  <a:lnTo>
                    <a:pt x="4" y="47"/>
                  </a:lnTo>
                  <a:lnTo>
                    <a:pt x="4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5"/>
            <p:cNvSpPr/>
            <p:nvPr/>
          </p:nvSpPr>
          <p:spPr>
            <a:xfrm>
              <a:off x="7245720" y="403740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0" h="80">
                  <a:moveTo>
                    <a:pt x="14" y="14"/>
                  </a:moveTo>
                  <a:lnTo>
                    <a:pt x="20" y="10"/>
                  </a:lnTo>
                  <a:lnTo>
                    <a:pt x="33" y="4"/>
                  </a:lnTo>
                  <a:lnTo>
                    <a:pt x="51" y="0"/>
                  </a:lnTo>
                  <a:lnTo>
                    <a:pt x="68" y="6"/>
                  </a:lnTo>
                  <a:lnTo>
                    <a:pt x="78" y="20"/>
                  </a:lnTo>
                  <a:lnTo>
                    <a:pt x="80" y="39"/>
                  </a:lnTo>
                  <a:lnTo>
                    <a:pt x="80" y="64"/>
                  </a:lnTo>
                  <a:lnTo>
                    <a:pt x="41" y="80"/>
                  </a:lnTo>
                  <a:lnTo>
                    <a:pt x="43" y="66"/>
                  </a:lnTo>
                  <a:lnTo>
                    <a:pt x="41" y="41"/>
                  </a:lnTo>
                  <a:lnTo>
                    <a:pt x="33" y="37"/>
                  </a:lnTo>
                  <a:lnTo>
                    <a:pt x="18" y="35"/>
                  </a:lnTo>
                  <a:lnTo>
                    <a:pt x="0" y="39"/>
                  </a:lnTo>
                  <a:lnTo>
                    <a:pt x="14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6"/>
            <p:cNvSpPr/>
            <p:nvPr/>
          </p:nvSpPr>
          <p:spPr>
            <a:xfrm>
              <a:off x="7261920" y="4016880"/>
              <a:ext cx="30240" cy="568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2" h="210">
                  <a:moveTo>
                    <a:pt x="56" y="0"/>
                  </a:moveTo>
                  <a:lnTo>
                    <a:pt x="48" y="18"/>
                  </a:lnTo>
                  <a:lnTo>
                    <a:pt x="50" y="37"/>
                  </a:lnTo>
                  <a:lnTo>
                    <a:pt x="62" y="47"/>
                  </a:lnTo>
                  <a:lnTo>
                    <a:pt x="75" y="70"/>
                  </a:lnTo>
                  <a:lnTo>
                    <a:pt x="81" y="101"/>
                  </a:lnTo>
                  <a:lnTo>
                    <a:pt x="77" y="117"/>
                  </a:lnTo>
                  <a:lnTo>
                    <a:pt x="69" y="131"/>
                  </a:lnTo>
                  <a:lnTo>
                    <a:pt x="58" y="146"/>
                  </a:lnTo>
                  <a:lnTo>
                    <a:pt x="52" y="150"/>
                  </a:lnTo>
                  <a:lnTo>
                    <a:pt x="46" y="156"/>
                  </a:lnTo>
                  <a:lnTo>
                    <a:pt x="34" y="166"/>
                  </a:lnTo>
                  <a:lnTo>
                    <a:pt x="23" y="175"/>
                  </a:lnTo>
                  <a:lnTo>
                    <a:pt x="7" y="183"/>
                  </a:lnTo>
                  <a:lnTo>
                    <a:pt x="0" y="187"/>
                  </a:lnTo>
                  <a:lnTo>
                    <a:pt x="7" y="197"/>
                  </a:lnTo>
                  <a:lnTo>
                    <a:pt x="13" y="206"/>
                  </a:lnTo>
                  <a:lnTo>
                    <a:pt x="21" y="210"/>
                  </a:lnTo>
                  <a:lnTo>
                    <a:pt x="40" y="204"/>
                  </a:lnTo>
                  <a:lnTo>
                    <a:pt x="54" y="195"/>
                  </a:lnTo>
                  <a:lnTo>
                    <a:pt x="69" y="183"/>
                  </a:lnTo>
                  <a:lnTo>
                    <a:pt x="85" y="171"/>
                  </a:lnTo>
                  <a:lnTo>
                    <a:pt x="91" y="162"/>
                  </a:lnTo>
                  <a:lnTo>
                    <a:pt x="98" y="154"/>
                  </a:lnTo>
                  <a:lnTo>
                    <a:pt x="112" y="115"/>
                  </a:lnTo>
                  <a:lnTo>
                    <a:pt x="110" y="92"/>
                  </a:lnTo>
                  <a:lnTo>
                    <a:pt x="104" y="72"/>
                  </a:lnTo>
                  <a:lnTo>
                    <a:pt x="96" y="53"/>
                  </a:lnTo>
                  <a:lnTo>
                    <a:pt x="85" y="35"/>
                  </a:lnTo>
                  <a:lnTo>
                    <a:pt x="73" y="22"/>
                  </a:lnTo>
                  <a:lnTo>
                    <a:pt x="65" y="1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7"/>
            <p:cNvSpPr/>
            <p:nvPr/>
          </p:nvSpPr>
          <p:spPr>
            <a:xfrm>
              <a:off x="7284600" y="4010040"/>
              <a:ext cx="17280" cy="16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64" h="62">
                  <a:moveTo>
                    <a:pt x="0" y="4"/>
                  </a:moveTo>
                  <a:lnTo>
                    <a:pt x="37" y="62"/>
                  </a:lnTo>
                  <a:lnTo>
                    <a:pt x="64" y="45"/>
                  </a:lnTo>
                  <a:lnTo>
                    <a:pt x="3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8"/>
            <p:cNvSpPr/>
            <p:nvPr/>
          </p:nvSpPr>
          <p:spPr>
            <a:xfrm>
              <a:off x="7247880" y="4058640"/>
              <a:ext cx="55800" cy="42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2120"/>
                <a:gd name="textAreaBottom" fmla="*/ 42120 h 42120"/>
              </a:gdLst>
              <a:ahLst/>
              <a:rect l="textAreaLeft" t="textAreaTop" r="textAreaRight" b="textAreaBottom"/>
              <a:pathLst>
                <a:path w="206" h="155">
                  <a:moveTo>
                    <a:pt x="173" y="0"/>
                  </a:moveTo>
                  <a:lnTo>
                    <a:pt x="180" y="45"/>
                  </a:lnTo>
                  <a:lnTo>
                    <a:pt x="175" y="64"/>
                  </a:lnTo>
                  <a:lnTo>
                    <a:pt x="167" y="82"/>
                  </a:lnTo>
                  <a:lnTo>
                    <a:pt x="161" y="89"/>
                  </a:lnTo>
                  <a:lnTo>
                    <a:pt x="151" y="97"/>
                  </a:lnTo>
                  <a:lnTo>
                    <a:pt x="140" y="101"/>
                  </a:lnTo>
                  <a:lnTo>
                    <a:pt x="126" y="105"/>
                  </a:lnTo>
                  <a:lnTo>
                    <a:pt x="97" y="107"/>
                  </a:lnTo>
                  <a:lnTo>
                    <a:pt x="74" y="105"/>
                  </a:lnTo>
                  <a:lnTo>
                    <a:pt x="41" y="87"/>
                  </a:lnTo>
                  <a:lnTo>
                    <a:pt x="31" y="76"/>
                  </a:lnTo>
                  <a:lnTo>
                    <a:pt x="23" y="66"/>
                  </a:lnTo>
                  <a:lnTo>
                    <a:pt x="16" y="56"/>
                  </a:lnTo>
                  <a:lnTo>
                    <a:pt x="0" y="78"/>
                  </a:lnTo>
                  <a:lnTo>
                    <a:pt x="4" y="82"/>
                  </a:lnTo>
                  <a:lnTo>
                    <a:pt x="8" y="87"/>
                  </a:lnTo>
                  <a:lnTo>
                    <a:pt x="14" y="93"/>
                  </a:lnTo>
                  <a:lnTo>
                    <a:pt x="23" y="101"/>
                  </a:lnTo>
                  <a:lnTo>
                    <a:pt x="31" y="109"/>
                  </a:lnTo>
                  <a:lnTo>
                    <a:pt x="41" y="117"/>
                  </a:lnTo>
                  <a:lnTo>
                    <a:pt x="51" y="126"/>
                  </a:lnTo>
                  <a:lnTo>
                    <a:pt x="62" y="134"/>
                  </a:lnTo>
                  <a:lnTo>
                    <a:pt x="74" y="142"/>
                  </a:lnTo>
                  <a:lnTo>
                    <a:pt x="87" y="148"/>
                  </a:lnTo>
                  <a:lnTo>
                    <a:pt x="101" y="152"/>
                  </a:lnTo>
                  <a:lnTo>
                    <a:pt x="128" y="155"/>
                  </a:lnTo>
                  <a:lnTo>
                    <a:pt x="153" y="144"/>
                  </a:lnTo>
                  <a:lnTo>
                    <a:pt x="165" y="136"/>
                  </a:lnTo>
                  <a:lnTo>
                    <a:pt x="175" y="128"/>
                  </a:lnTo>
                  <a:lnTo>
                    <a:pt x="184" y="117"/>
                  </a:lnTo>
                  <a:lnTo>
                    <a:pt x="190" y="109"/>
                  </a:lnTo>
                  <a:lnTo>
                    <a:pt x="204" y="70"/>
                  </a:lnTo>
                  <a:lnTo>
                    <a:pt x="206" y="39"/>
                  </a:lnTo>
                  <a:lnTo>
                    <a:pt x="204" y="27"/>
                  </a:lnTo>
                  <a:lnTo>
                    <a:pt x="173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9"/>
            <p:cNvSpPr/>
            <p:nvPr/>
          </p:nvSpPr>
          <p:spPr>
            <a:xfrm>
              <a:off x="7256880" y="4070520"/>
              <a:ext cx="70560" cy="576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60" h="212">
                  <a:moveTo>
                    <a:pt x="227" y="0"/>
                  </a:moveTo>
                  <a:lnTo>
                    <a:pt x="225" y="70"/>
                  </a:lnTo>
                  <a:lnTo>
                    <a:pt x="217" y="97"/>
                  </a:lnTo>
                  <a:lnTo>
                    <a:pt x="202" y="124"/>
                  </a:lnTo>
                  <a:lnTo>
                    <a:pt x="198" y="128"/>
                  </a:lnTo>
                  <a:lnTo>
                    <a:pt x="192" y="134"/>
                  </a:lnTo>
                  <a:lnTo>
                    <a:pt x="180" y="144"/>
                  </a:lnTo>
                  <a:lnTo>
                    <a:pt x="165" y="151"/>
                  </a:lnTo>
                  <a:lnTo>
                    <a:pt x="149" y="157"/>
                  </a:lnTo>
                  <a:lnTo>
                    <a:pt x="116" y="161"/>
                  </a:lnTo>
                  <a:lnTo>
                    <a:pt x="87" y="161"/>
                  </a:lnTo>
                  <a:lnTo>
                    <a:pt x="43" y="147"/>
                  </a:lnTo>
                  <a:lnTo>
                    <a:pt x="29" y="138"/>
                  </a:lnTo>
                  <a:lnTo>
                    <a:pt x="21" y="130"/>
                  </a:lnTo>
                  <a:lnTo>
                    <a:pt x="12" y="122"/>
                  </a:lnTo>
                  <a:lnTo>
                    <a:pt x="0" y="147"/>
                  </a:lnTo>
                  <a:lnTo>
                    <a:pt x="4" y="151"/>
                  </a:lnTo>
                  <a:lnTo>
                    <a:pt x="14" y="161"/>
                  </a:lnTo>
                  <a:lnTo>
                    <a:pt x="23" y="167"/>
                  </a:lnTo>
                  <a:lnTo>
                    <a:pt x="31" y="173"/>
                  </a:lnTo>
                  <a:lnTo>
                    <a:pt x="41" y="182"/>
                  </a:lnTo>
                  <a:lnTo>
                    <a:pt x="54" y="188"/>
                  </a:lnTo>
                  <a:lnTo>
                    <a:pt x="66" y="194"/>
                  </a:lnTo>
                  <a:lnTo>
                    <a:pt x="80" y="200"/>
                  </a:lnTo>
                  <a:lnTo>
                    <a:pt x="95" y="206"/>
                  </a:lnTo>
                  <a:lnTo>
                    <a:pt x="111" y="208"/>
                  </a:lnTo>
                  <a:lnTo>
                    <a:pt x="147" y="212"/>
                  </a:lnTo>
                  <a:lnTo>
                    <a:pt x="186" y="204"/>
                  </a:lnTo>
                  <a:lnTo>
                    <a:pt x="219" y="188"/>
                  </a:lnTo>
                  <a:lnTo>
                    <a:pt x="231" y="175"/>
                  </a:lnTo>
                  <a:lnTo>
                    <a:pt x="242" y="163"/>
                  </a:lnTo>
                  <a:lnTo>
                    <a:pt x="254" y="134"/>
                  </a:lnTo>
                  <a:lnTo>
                    <a:pt x="260" y="103"/>
                  </a:lnTo>
                  <a:lnTo>
                    <a:pt x="258" y="52"/>
                  </a:lnTo>
                  <a:lnTo>
                    <a:pt x="254" y="29"/>
                  </a:lnTo>
                  <a:lnTo>
                    <a:pt x="227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10"/>
            <p:cNvSpPr/>
            <p:nvPr/>
          </p:nvSpPr>
          <p:spPr>
            <a:xfrm>
              <a:off x="7317720" y="4080600"/>
              <a:ext cx="39960" cy="536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7" h="198">
                  <a:moveTo>
                    <a:pt x="74" y="0"/>
                  </a:moveTo>
                  <a:lnTo>
                    <a:pt x="77" y="120"/>
                  </a:lnTo>
                  <a:lnTo>
                    <a:pt x="68" y="136"/>
                  </a:lnTo>
                  <a:lnTo>
                    <a:pt x="56" y="153"/>
                  </a:lnTo>
                  <a:lnTo>
                    <a:pt x="50" y="159"/>
                  </a:lnTo>
                  <a:lnTo>
                    <a:pt x="43" y="165"/>
                  </a:lnTo>
                  <a:lnTo>
                    <a:pt x="37" y="171"/>
                  </a:lnTo>
                  <a:lnTo>
                    <a:pt x="31" y="177"/>
                  </a:lnTo>
                  <a:lnTo>
                    <a:pt x="21" y="186"/>
                  </a:lnTo>
                  <a:lnTo>
                    <a:pt x="10" y="192"/>
                  </a:lnTo>
                  <a:lnTo>
                    <a:pt x="0" y="198"/>
                  </a:lnTo>
                  <a:lnTo>
                    <a:pt x="60" y="196"/>
                  </a:lnTo>
                  <a:lnTo>
                    <a:pt x="64" y="192"/>
                  </a:lnTo>
                  <a:lnTo>
                    <a:pt x="72" y="182"/>
                  </a:lnTo>
                  <a:lnTo>
                    <a:pt x="81" y="173"/>
                  </a:lnTo>
                  <a:lnTo>
                    <a:pt x="87" y="165"/>
                  </a:lnTo>
                  <a:lnTo>
                    <a:pt x="95" y="157"/>
                  </a:lnTo>
                  <a:lnTo>
                    <a:pt x="103" y="147"/>
                  </a:lnTo>
                  <a:lnTo>
                    <a:pt x="112" y="136"/>
                  </a:lnTo>
                  <a:lnTo>
                    <a:pt x="120" y="126"/>
                  </a:lnTo>
                  <a:lnTo>
                    <a:pt x="132" y="105"/>
                  </a:lnTo>
                  <a:lnTo>
                    <a:pt x="147" y="70"/>
                  </a:lnTo>
                  <a:lnTo>
                    <a:pt x="141" y="44"/>
                  </a:lnTo>
                  <a:lnTo>
                    <a:pt x="130" y="23"/>
                  </a:lnTo>
                  <a:lnTo>
                    <a:pt x="124" y="15"/>
                  </a:lnTo>
                  <a:lnTo>
                    <a:pt x="118" y="9"/>
                  </a:lnTo>
                  <a:lnTo>
                    <a:pt x="112" y="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11"/>
            <p:cNvSpPr/>
            <p:nvPr/>
          </p:nvSpPr>
          <p:spPr>
            <a:xfrm>
              <a:off x="7368120" y="4094280"/>
              <a:ext cx="12960" cy="18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8" h="68">
                  <a:moveTo>
                    <a:pt x="12" y="0"/>
                  </a:moveTo>
                  <a:lnTo>
                    <a:pt x="0" y="60"/>
                  </a:lnTo>
                  <a:lnTo>
                    <a:pt x="48" y="68"/>
                  </a:lnTo>
                  <a:lnTo>
                    <a:pt x="35" y="2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12"/>
            <p:cNvSpPr/>
            <p:nvPr/>
          </p:nvSpPr>
          <p:spPr>
            <a:xfrm>
              <a:off x="7355520" y="4113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1" h="41">
                  <a:moveTo>
                    <a:pt x="16" y="0"/>
                  </a:moveTo>
                  <a:lnTo>
                    <a:pt x="0" y="41"/>
                  </a:lnTo>
                  <a:lnTo>
                    <a:pt x="41" y="39"/>
                  </a:lnTo>
                  <a:lnTo>
                    <a:pt x="41" y="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13"/>
            <p:cNvSpPr/>
            <p:nvPr/>
          </p:nvSpPr>
          <p:spPr>
            <a:xfrm>
              <a:off x="7379280" y="4112640"/>
              <a:ext cx="16560" cy="9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2" h="35">
                  <a:moveTo>
                    <a:pt x="50" y="0"/>
                  </a:moveTo>
                  <a:lnTo>
                    <a:pt x="0" y="27"/>
                  </a:lnTo>
                  <a:lnTo>
                    <a:pt x="23" y="35"/>
                  </a:lnTo>
                  <a:lnTo>
                    <a:pt x="62" y="1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14"/>
            <p:cNvSpPr/>
            <p:nvPr/>
          </p:nvSpPr>
          <p:spPr>
            <a:xfrm>
              <a:off x="6981480" y="4085640"/>
              <a:ext cx="264240" cy="4644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72" h="171">
                  <a:moveTo>
                    <a:pt x="914" y="0"/>
                  </a:moveTo>
                  <a:lnTo>
                    <a:pt x="893" y="10"/>
                  </a:lnTo>
                  <a:lnTo>
                    <a:pt x="868" y="18"/>
                  </a:lnTo>
                  <a:lnTo>
                    <a:pt x="852" y="25"/>
                  </a:lnTo>
                  <a:lnTo>
                    <a:pt x="833" y="31"/>
                  </a:lnTo>
                  <a:lnTo>
                    <a:pt x="812" y="37"/>
                  </a:lnTo>
                  <a:lnTo>
                    <a:pt x="790" y="41"/>
                  </a:lnTo>
                  <a:lnTo>
                    <a:pt x="738" y="51"/>
                  </a:lnTo>
                  <a:lnTo>
                    <a:pt x="680" y="58"/>
                  </a:lnTo>
                  <a:lnTo>
                    <a:pt x="614" y="62"/>
                  </a:lnTo>
                  <a:lnTo>
                    <a:pt x="498" y="62"/>
                  </a:lnTo>
                  <a:lnTo>
                    <a:pt x="420" y="56"/>
                  </a:lnTo>
                  <a:lnTo>
                    <a:pt x="364" y="47"/>
                  </a:lnTo>
                  <a:lnTo>
                    <a:pt x="358" y="51"/>
                  </a:lnTo>
                  <a:lnTo>
                    <a:pt x="343" y="62"/>
                  </a:lnTo>
                  <a:lnTo>
                    <a:pt x="335" y="68"/>
                  </a:lnTo>
                  <a:lnTo>
                    <a:pt x="323" y="74"/>
                  </a:lnTo>
                  <a:lnTo>
                    <a:pt x="310" y="82"/>
                  </a:lnTo>
                  <a:lnTo>
                    <a:pt x="296" y="88"/>
                  </a:lnTo>
                  <a:lnTo>
                    <a:pt x="281" y="97"/>
                  </a:lnTo>
                  <a:lnTo>
                    <a:pt x="265" y="105"/>
                  </a:lnTo>
                  <a:lnTo>
                    <a:pt x="248" y="111"/>
                  </a:lnTo>
                  <a:lnTo>
                    <a:pt x="232" y="119"/>
                  </a:lnTo>
                  <a:lnTo>
                    <a:pt x="213" y="126"/>
                  </a:lnTo>
                  <a:lnTo>
                    <a:pt x="196" y="130"/>
                  </a:lnTo>
                  <a:lnTo>
                    <a:pt x="163" y="134"/>
                  </a:lnTo>
                  <a:lnTo>
                    <a:pt x="48" y="142"/>
                  </a:lnTo>
                  <a:lnTo>
                    <a:pt x="0" y="146"/>
                  </a:lnTo>
                  <a:lnTo>
                    <a:pt x="4" y="163"/>
                  </a:lnTo>
                  <a:lnTo>
                    <a:pt x="31" y="165"/>
                  </a:lnTo>
                  <a:lnTo>
                    <a:pt x="101" y="167"/>
                  </a:lnTo>
                  <a:lnTo>
                    <a:pt x="188" y="167"/>
                  </a:lnTo>
                  <a:lnTo>
                    <a:pt x="281" y="154"/>
                  </a:lnTo>
                  <a:lnTo>
                    <a:pt x="323" y="144"/>
                  </a:lnTo>
                  <a:lnTo>
                    <a:pt x="354" y="136"/>
                  </a:lnTo>
                  <a:lnTo>
                    <a:pt x="395" y="121"/>
                  </a:lnTo>
                  <a:lnTo>
                    <a:pt x="420" y="109"/>
                  </a:lnTo>
                  <a:lnTo>
                    <a:pt x="626" y="109"/>
                  </a:lnTo>
                  <a:lnTo>
                    <a:pt x="475" y="156"/>
                  </a:lnTo>
                  <a:lnTo>
                    <a:pt x="486" y="161"/>
                  </a:lnTo>
                  <a:lnTo>
                    <a:pt x="517" y="167"/>
                  </a:lnTo>
                  <a:lnTo>
                    <a:pt x="562" y="171"/>
                  </a:lnTo>
                  <a:lnTo>
                    <a:pt x="620" y="171"/>
                  </a:lnTo>
                  <a:lnTo>
                    <a:pt x="659" y="163"/>
                  </a:lnTo>
                  <a:lnTo>
                    <a:pt x="684" y="156"/>
                  </a:lnTo>
                  <a:lnTo>
                    <a:pt x="711" y="148"/>
                  </a:lnTo>
                  <a:lnTo>
                    <a:pt x="738" y="138"/>
                  </a:lnTo>
                  <a:lnTo>
                    <a:pt x="769" y="126"/>
                  </a:lnTo>
                  <a:lnTo>
                    <a:pt x="798" y="113"/>
                  </a:lnTo>
                  <a:lnTo>
                    <a:pt x="812" y="107"/>
                  </a:lnTo>
                  <a:lnTo>
                    <a:pt x="827" y="103"/>
                  </a:lnTo>
                  <a:lnTo>
                    <a:pt x="841" y="95"/>
                  </a:lnTo>
                  <a:lnTo>
                    <a:pt x="856" y="88"/>
                  </a:lnTo>
                  <a:lnTo>
                    <a:pt x="883" y="78"/>
                  </a:lnTo>
                  <a:lnTo>
                    <a:pt x="907" y="68"/>
                  </a:lnTo>
                  <a:lnTo>
                    <a:pt x="928" y="58"/>
                  </a:lnTo>
                  <a:lnTo>
                    <a:pt x="947" y="49"/>
                  </a:lnTo>
                  <a:lnTo>
                    <a:pt x="959" y="43"/>
                  </a:lnTo>
                  <a:lnTo>
                    <a:pt x="972" y="37"/>
                  </a:lnTo>
                  <a:lnTo>
                    <a:pt x="914" y="0"/>
                  </a:lnTo>
                  <a:lnTo>
                    <a:pt x="914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5"/>
            <p:cNvSpPr/>
            <p:nvPr/>
          </p:nvSpPr>
          <p:spPr>
            <a:xfrm>
              <a:off x="7130880" y="4111560"/>
              <a:ext cx="146880" cy="432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41" h="160">
                  <a:moveTo>
                    <a:pt x="405" y="0"/>
                  </a:moveTo>
                  <a:lnTo>
                    <a:pt x="397" y="4"/>
                  </a:lnTo>
                  <a:lnTo>
                    <a:pt x="376" y="12"/>
                  </a:lnTo>
                  <a:lnTo>
                    <a:pt x="362" y="18"/>
                  </a:lnTo>
                  <a:lnTo>
                    <a:pt x="347" y="24"/>
                  </a:lnTo>
                  <a:lnTo>
                    <a:pt x="329" y="33"/>
                  </a:lnTo>
                  <a:lnTo>
                    <a:pt x="310" y="41"/>
                  </a:lnTo>
                  <a:lnTo>
                    <a:pt x="291" y="49"/>
                  </a:lnTo>
                  <a:lnTo>
                    <a:pt x="273" y="57"/>
                  </a:lnTo>
                  <a:lnTo>
                    <a:pt x="252" y="66"/>
                  </a:lnTo>
                  <a:lnTo>
                    <a:pt x="233" y="74"/>
                  </a:lnTo>
                  <a:lnTo>
                    <a:pt x="217" y="82"/>
                  </a:lnTo>
                  <a:lnTo>
                    <a:pt x="200" y="88"/>
                  </a:lnTo>
                  <a:lnTo>
                    <a:pt x="176" y="101"/>
                  </a:lnTo>
                  <a:lnTo>
                    <a:pt x="153" y="111"/>
                  </a:lnTo>
                  <a:lnTo>
                    <a:pt x="126" y="117"/>
                  </a:lnTo>
                  <a:lnTo>
                    <a:pt x="68" y="125"/>
                  </a:lnTo>
                  <a:lnTo>
                    <a:pt x="0" y="129"/>
                  </a:lnTo>
                  <a:lnTo>
                    <a:pt x="25" y="136"/>
                  </a:lnTo>
                  <a:lnTo>
                    <a:pt x="52" y="142"/>
                  </a:lnTo>
                  <a:lnTo>
                    <a:pt x="89" y="150"/>
                  </a:lnTo>
                  <a:lnTo>
                    <a:pt x="134" y="156"/>
                  </a:lnTo>
                  <a:lnTo>
                    <a:pt x="184" y="160"/>
                  </a:lnTo>
                  <a:lnTo>
                    <a:pt x="300" y="156"/>
                  </a:lnTo>
                  <a:lnTo>
                    <a:pt x="355" y="148"/>
                  </a:lnTo>
                  <a:lnTo>
                    <a:pt x="405" y="140"/>
                  </a:lnTo>
                  <a:lnTo>
                    <a:pt x="446" y="129"/>
                  </a:lnTo>
                  <a:lnTo>
                    <a:pt x="481" y="119"/>
                  </a:lnTo>
                  <a:lnTo>
                    <a:pt x="508" y="109"/>
                  </a:lnTo>
                  <a:lnTo>
                    <a:pt x="527" y="103"/>
                  </a:lnTo>
                  <a:lnTo>
                    <a:pt x="541" y="94"/>
                  </a:lnTo>
                  <a:lnTo>
                    <a:pt x="531" y="78"/>
                  </a:lnTo>
                  <a:lnTo>
                    <a:pt x="494" y="88"/>
                  </a:lnTo>
                  <a:lnTo>
                    <a:pt x="457" y="96"/>
                  </a:lnTo>
                  <a:lnTo>
                    <a:pt x="411" y="107"/>
                  </a:lnTo>
                  <a:lnTo>
                    <a:pt x="366" y="117"/>
                  </a:lnTo>
                  <a:lnTo>
                    <a:pt x="326" y="125"/>
                  </a:lnTo>
                  <a:lnTo>
                    <a:pt x="293" y="129"/>
                  </a:lnTo>
                  <a:lnTo>
                    <a:pt x="277" y="129"/>
                  </a:lnTo>
                  <a:lnTo>
                    <a:pt x="273" y="117"/>
                  </a:lnTo>
                  <a:lnTo>
                    <a:pt x="277" y="111"/>
                  </a:lnTo>
                  <a:lnTo>
                    <a:pt x="283" y="103"/>
                  </a:lnTo>
                  <a:lnTo>
                    <a:pt x="291" y="96"/>
                  </a:lnTo>
                  <a:lnTo>
                    <a:pt x="300" y="90"/>
                  </a:lnTo>
                  <a:lnTo>
                    <a:pt x="308" y="84"/>
                  </a:lnTo>
                  <a:lnTo>
                    <a:pt x="422" y="35"/>
                  </a:lnTo>
                  <a:lnTo>
                    <a:pt x="405" y="0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6"/>
            <p:cNvSpPr/>
            <p:nvPr/>
          </p:nvSpPr>
          <p:spPr>
            <a:xfrm>
              <a:off x="7241760" y="4123800"/>
              <a:ext cx="23400" cy="64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7" h="25">
                  <a:moveTo>
                    <a:pt x="66" y="0"/>
                  </a:moveTo>
                  <a:lnTo>
                    <a:pt x="0" y="23"/>
                  </a:lnTo>
                  <a:lnTo>
                    <a:pt x="83" y="25"/>
                  </a:lnTo>
                  <a:lnTo>
                    <a:pt x="87" y="2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7"/>
            <p:cNvSpPr/>
            <p:nvPr/>
          </p:nvSpPr>
          <p:spPr>
            <a:xfrm>
              <a:off x="6832800" y="4041720"/>
              <a:ext cx="160920" cy="453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592" h="167">
                  <a:moveTo>
                    <a:pt x="575" y="60"/>
                  </a:moveTo>
                  <a:lnTo>
                    <a:pt x="434" y="0"/>
                  </a:lnTo>
                  <a:lnTo>
                    <a:pt x="430" y="2"/>
                  </a:lnTo>
                  <a:lnTo>
                    <a:pt x="420" y="11"/>
                  </a:lnTo>
                  <a:lnTo>
                    <a:pt x="412" y="17"/>
                  </a:lnTo>
                  <a:lnTo>
                    <a:pt x="403" y="23"/>
                  </a:lnTo>
                  <a:lnTo>
                    <a:pt x="391" y="29"/>
                  </a:lnTo>
                  <a:lnTo>
                    <a:pt x="379" y="35"/>
                  </a:lnTo>
                  <a:lnTo>
                    <a:pt x="366" y="44"/>
                  </a:lnTo>
                  <a:lnTo>
                    <a:pt x="352" y="52"/>
                  </a:lnTo>
                  <a:lnTo>
                    <a:pt x="335" y="58"/>
                  </a:lnTo>
                  <a:lnTo>
                    <a:pt x="319" y="66"/>
                  </a:lnTo>
                  <a:lnTo>
                    <a:pt x="302" y="72"/>
                  </a:lnTo>
                  <a:lnTo>
                    <a:pt x="282" y="79"/>
                  </a:lnTo>
                  <a:lnTo>
                    <a:pt x="242" y="87"/>
                  </a:lnTo>
                  <a:lnTo>
                    <a:pt x="201" y="93"/>
                  </a:lnTo>
                  <a:lnTo>
                    <a:pt x="160" y="95"/>
                  </a:lnTo>
                  <a:lnTo>
                    <a:pt x="81" y="89"/>
                  </a:lnTo>
                  <a:lnTo>
                    <a:pt x="23" y="81"/>
                  </a:lnTo>
                  <a:lnTo>
                    <a:pt x="0" y="77"/>
                  </a:lnTo>
                  <a:lnTo>
                    <a:pt x="15" y="112"/>
                  </a:lnTo>
                  <a:lnTo>
                    <a:pt x="48" y="116"/>
                  </a:lnTo>
                  <a:lnTo>
                    <a:pt x="124" y="124"/>
                  </a:lnTo>
                  <a:lnTo>
                    <a:pt x="215" y="130"/>
                  </a:lnTo>
                  <a:lnTo>
                    <a:pt x="288" y="128"/>
                  </a:lnTo>
                  <a:lnTo>
                    <a:pt x="337" y="109"/>
                  </a:lnTo>
                  <a:lnTo>
                    <a:pt x="358" y="97"/>
                  </a:lnTo>
                  <a:lnTo>
                    <a:pt x="368" y="91"/>
                  </a:lnTo>
                  <a:lnTo>
                    <a:pt x="377" y="83"/>
                  </a:lnTo>
                  <a:lnTo>
                    <a:pt x="383" y="77"/>
                  </a:lnTo>
                  <a:lnTo>
                    <a:pt x="391" y="70"/>
                  </a:lnTo>
                  <a:lnTo>
                    <a:pt x="401" y="58"/>
                  </a:lnTo>
                  <a:lnTo>
                    <a:pt x="412" y="48"/>
                  </a:lnTo>
                  <a:lnTo>
                    <a:pt x="532" y="95"/>
                  </a:lnTo>
                  <a:lnTo>
                    <a:pt x="463" y="128"/>
                  </a:lnTo>
                  <a:lnTo>
                    <a:pt x="575" y="167"/>
                  </a:lnTo>
                  <a:lnTo>
                    <a:pt x="542" y="120"/>
                  </a:lnTo>
                  <a:lnTo>
                    <a:pt x="592" y="112"/>
                  </a:lnTo>
                  <a:lnTo>
                    <a:pt x="575" y="60"/>
                  </a:lnTo>
                  <a:lnTo>
                    <a:pt x="575" y="6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8"/>
            <p:cNvSpPr/>
            <p:nvPr/>
          </p:nvSpPr>
          <p:spPr>
            <a:xfrm>
              <a:off x="6830640" y="4077720"/>
              <a:ext cx="155160" cy="32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71" h="120">
                  <a:moveTo>
                    <a:pt x="571" y="78"/>
                  </a:moveTo>
                  <a:lnTo>
                    <a:pt x="411" y="0"/>
                  </a:lnTo>
                  <a:lnTo>
                    <a:pt x="391" y="8"/>
                  </a:lnTo>
                  <a:lnTo>
                    <a:pt x="368" y="17"/>
                  </a:lnTo>
                  <a:lnTo>
                    <a:pt x="339" y="27"/>
                  </a:lnTo>
                  <a:lnTo>
                    <a:pt x="306" y="39"/>
                  </a:lnTo>
                  <a:lnTo>
                    <a:pt x="269" y="50"/>
                  </a:lnTo>
                  <a:lnTo>
                    <a:pt x="234" y="60"/>
                  </a:lnTo>
                  <a:lnTo>
                    <a:pt x="199" y="68"/>
                  </a:lnTo>
                  <a:lnTo>
                    <a:pt x="130" y="70"/>
                  </a:lnTo>
                  <a:lnTo>
                    <a:pt x="66" y="60"/>
                  </a:lnTo>
                  <a:lnTo>
                    <a:pt x="39" y="52"/>
                  </a:lnTo>
                  <a:lnTo>
                    <a:pt x="19" y="45"/>
                  </a:lnTo>
                  <a:lnTo>
                    <a:pt x="0" y="39"/>
                  </a:lnTo>
                  <a:lnTo>
                    <a:pt x="0" y="78"/>
                  </a:lnTo>
                  <a:lnTo>
                    <a:pt x="19" y="87"/>
                  </a:lnTo>
                  <a:lnTo>
                    <a:pt x="41" y="95"/>
                  </a:lnTo>
                  <a:lnTo>
                    <a:pt x="68" y="101"/>
                  </a:lnTo>
                  <a:lnTo>
                    <a:pt x="99" y="109"/>
                  </a:lnTo>
                  <a:lnTo>
                    <a:pt x="135" y="113"/>
                  </a:lnTo>
                  <a:lnTo>
                    <a:pt x="203" y="107"/>
                  </a:lnTo>
                  <a:lnTo>
                    <a:pt x="234" y="97"/>
                  </a:lnTo>
                  <a:lnTo>
                    <a:pt x="261" y="89"/>
                  </a:lnTo>
                  <a:lnTo>
                    <a:pt x="283" y="78"/>
                  </a:lnTo>
                  <a:lnTo>
                    <a:pt x="304" y="70"/>
                  </a:lnTo>
                  <a:lnTo>
                    <a:pt x="323" y="64"/>
                  </a:lnTo>
                  <a:lnTo>
                    <a:pt x="337" y="60"/>
                  </a:lnTo>
                  <a:lnTo>
                    <a:pt x="364" y="64"/>
                  </a:lnTo>
                  <a:lnTo>
                    <a:pt x="372" y="70"/>
                  </a:lnTo>
                  <a:lnTo>
                    <a:pt x="374" y="76"/>
                  </a:lnTo>
                  <a:lnTo>
                    <a:pt x="366" y="93"/>
                  </a:lnTo>
                  <a:lnTo>
                    <a:pt x="360" y="115"/>
                  </a:lnTo>
                  <a:lnTo>
                    <a:pt x="389" y="120"/>
                  </a:lnTo>
                  <a:lnTo>
                    <a:pt x="436" y="120"/>
                  </a:lnTo>
                  <a:lnTo>
                    <a:pt x="502" y="120"/>
                  </a:lnTo>
                  <a:lnTo>
                    <a:pt x="480" y="70"/>
                  </a:lnTo>
                  <a:lnTo>
                    <a:pt x="566" y="99"/>
                  </a:lnTo>
                  <a:lnTo>
                    <a:pt x="571" y="78"/>
                  </a:lnTo>
                  <a:lnTo>
                    <a:pt x="571" y="78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9"/>
            <p:cNvSpPr/>
            <p:nvPr/>
          </p:nvSpPr>
          <p:spPr>
            <a:xfrm>
              <a:off x="6829200" y="4116600"/>
              <a:ext cx="131040" cy="306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82" h="113">
                  <a:moveTo>
                    <a:pt x="14" y="4"/>
                  </a:moveTo>
                  <a:lnTo>
                    <a:pt x="37" y="13"/>
                  </a:lnTo>
                  <a:lnTo>
                    <a:pt x="62" y="23"/>
                  </a:lnTo>
                  <a:lnTo>
                    <a:pt x="95" y="31"/>
                  </a:lnTo>
                  <a:lnTo>
                    <a:pt x="128" y="37"/>
                  </a:lnTo>
                  <a:lnTo>
                    <a:pt x="163" y="41"/>
                  </a:lnTo>
                  <a:lnTo>
                    <a:pt x="196" y="41"/>
                  </a:lnTo>
                  <a:lnTo>
                    <a:pt x="225" y="33"/>
                  </a:lnTo>
                  <a:lnTo>
                    <a:pt x="250" y="23"/>
                  </a:lnTo>
                  <a:lnTo>
                    <a:pt x="269" y="15"/>
                  </a:lnTo>
                  <a:lnTo>
                    <a:pt x="300" y="4"/>
                  </a:lnTo>
                  <a:lnTo>
                    <a:pt x="324" y="0"/>
                  </a:lnTo>
                  <a:lnTo>
                    <a:pt x="345" y="56"/>
                  </a:lnTo>
                  <a:lnTo>
                    <a:pt x="453" y="25"/>
                  </a:lnTo>
                  <a:lnTo>
                    <a:pt x="482" y="60"/>
                  </a:lnTo>
                  <a:lnTo>
                    <a:pt x="471" y="68"/>
                  </a:lnTo>
                  <a:lnTo>
                    <a:pt x="461" y="76"/>
                  </a:lnTo>
                  <a:lnTo>
                    <a:pt x="446" y="85"/>
                  </a:lnTo>
                  <a:lnTo>
                    <a:pt x="428" y="95"/>
                  </a:lnTo>
                  <a:lnTo>
                    <a:pt x="407" y="103"/>
                  </a:lnTo>
                  <a:lnTo>
                    <a:pt x="382" y="109"/>
                  </a:lnTo>
                  <a:lnTo>
                    <a:pt x="358" y="113"/>
                  </a:lnTo>
                  <a:lnTo>
                    <a:pt x="312" y="109"/>
                  </a:lnTo>
                  <a:lnTo>
                    <a:pt x="281" y="97"/>
                  </a:lnTo>
                  <a:lnTo>
                    <a:pt x="262" y="87"/>
                  </a:lnTo>
                  <a:lnTo>
                    <a:pt x="256" y="80"/>
                  </a:lnTo>
                  <a:lnTo>
                    <a:pt x="132" y="80"/>
                  </a:lnTo>
                  <a:lnTo>
                    <a:pt x="45" y="76"/>
                  </a:lnTo>
                  <a:lnTo>
                    <a:pt x="14" y="70"/>
                  </a:lnTo>
                  <a:lnTo>
                    <a:pt x="2" y="60"/>
                  </a:lnTo>
                  <a:lnTo>
                    <a:pt x="0" y="39"/>
                  </a:lnTo>
                  <a:lnTo>
                    <a:pt x="4" y="2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20"/>
            <p:cNvSpPr/>
            <p:nvPr/>
          </p:nvSpPr>
          <p:spPr>
            <a:xfrm>
              <a:off x="6954480" y="4136040"/>
              <a:ext cx="46440" cy="15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1" h="56">
                  <a:moveTo>
                    <a:pt x="116" y="0"/>
                  </a:moveTo>
                  <a:lnTo>
                    <a:pt x="0" y="56"/>
                  </a:lnTo>
                  <a:lnTo>
                    <a:pt x="140" y="33"/>
                  </a:lnTo>
                  <a:lnTo>
                    <a:pt x="171" y="8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21"/>
            <p:cNvSpPr/>
            <p:nvPr/>
          </p:nvSpPr>
          <p:spPr>
            <a:xfrm>
              <a:off x="6767280" y="4058280"/>
              <a:ext cx="51120" cy="486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88" h="179">
                  <a:moveTo>
                    <a:pt x="138" y="21"/>
                  </a:moveTo>
                  <a:lnTo>
                    <a:pt x="140" y="14"/>
                  </a:lnTo>
                  <a:lnTo>
                    <a:pt x="150" y="4"/>
                  </a:lnTo>
                  <a:lnTo>
                    <a:pt x="165" y="0"/>
                  </a:lnTo>
                  <a:lnTo>
                    <a:pt x="181" y="12"/>
                  </a:lnTo>
                  <a:lnTo>
                    <a:pt x="188" y="39"/>
                  </a:lnTo>
                  <a:lnTo>
                    <a:pt x="181" y="70"/>
                  </a:lnTo>
                  <a:lnTo>
                    <a:pt x="173" y="93"/>
                  </a:lnTo>
                  <a:lnTo>
                    <a:pt x="169" y="103"/>
                  </a:lnTo>
                  <a:lnTo>
                    <a:pt x="153" y="68"/>
                  </a:lnTo>
                  <a:lnTo>
                    <a:pt x="97" y="74"/>
                  </a:lnTo>
                  <a:lnTo>
                    <a:pt x="57" y="82"/>
                  </a:lnTo>
                  <a:lnTo>
                    <a:pt x="35" y="97"/>
                  </a:lnTo>
                  <a:lnTo>
                    <a:pt x="41" y="115"/>
                  </a:lnTo>
                  <a:lnTo>
                    <a:pt x="49" y="126"/>
                  </a:lnTo>
                  <a:lnTo>
                    <a:pt x="62" y="134"/>
                  </a:lnTo>
                  <a:lnTo>
                    <a:pt x="74" y="142"/>
                  </a:lnTo>
                  <a:lnTo>
                    <a:pt x="86" y="148"/>
                  </a:lnTo>
                  <a:lnTo>
                    <a:pt x="105" y="150"/>
                  </a:lnTo>
                  <a:lnTo>
                    <a:pt x="107" y="142"/>
                  </a:lnTo>
                  <a:lnTo>
                    <a:pt x="101" y="138"/>
                  </a:lnTo>
                  <a:lnTo>
                    <a:pt x="95" y="132"/>
                  </a:lnTo>
                  <a:lnTo>
                    <a:pt x="88" y="126"/>
                  </a:lnTo>
                  <a:lnTo>
                    <a:pt x="80" y="119"/>
                  </a:lnTo>
                  <a:lnTo>
                    <a:pt x="74" y="115"/>
                  </a:lnTo>
                  <a:lnTo>
                    <a:pt x="78" y="111"/>
                  </a:lnTo>
                  <a:lnTo>
                    <a:pt x="91" y="103"/>
                  </a:lnTo>
                  <a:lnTo>
                    <a:pt x="111" y="97"/>
                  </a:lnTo>
                  <a:lnTo>
                    <a:pt x="136" y="103"/>
                  </a:lnTo>
                  <a:lnTo>
                    <a:pt x="157" y="122"/>
                  </a:lnTo>
                  <a:lnTo>
                    <a:pt x="167" y="142"/>
                  </a:lnTo>
                  <a:lnTo>
                    <a:pt x="165" y="165"/>
                  </a:lnTo>
                  <a:lnTo>
                    <a:pt x="161" y="171"/>
                  </a:lnTo>
                  <a:lnTo>
                    <a:pt x="153" y="177"/>
                  </a:lnTo>
                  <a:lnTo>
                    <a:pt x="122" y="179"/>
                  </a:lnTo>
                  <a:lnTo>
                    <a:pt x="78" y="175"/>
                  </a:lnTo>
                  <a:lnTo>
                    <a:pt x="35" y="161"/>
                  </a:lnTo>
                  <a:lnTo>
                    <a:pt x="8" y="142"/>
                  </a:lnTo>
                  <a:lnTo>
                    <a:pt x="0" y="115"/>
                  </a:lnTo>
                  <a:lnTo>
                    <a:pt x="2" y="87"/>
                  </a:lnTo>
                  <a:lnTo>
                    <a:pt x="8" y="74"/>
                  </a:lnTo>
                  <a:lnTo>
                    <a:pt x="16" y="62"/>
                  </a:lnTo>
                  <a:lnTo>
                    <a:pt x="20" y="56"/>
                  </a:lnTo>
                  <a:lnTo>
                    <a:pt x="29" y="49"/>
                  </a:lnTo>
                  <a:lnTo>
                    <a:pt x="43" y="41"/>
                  </a:lnTo>
                  <a:lnTo>
                    <a:pt x="60" y="35"/>
                  </a:lnTo>
                  <a:lnTo>
                    <a:pt x="76" y="33"/>
                  </a:lnTo>
                  <a:lnTo>
                    <a:pt x="101" y="33"/>
                  </a:lnTo>
                  <a:lnTo>
                    <a:pt x="126" y="39"/>
                  </a:lnTo>
                  <a:lnTo>
                    <a:pt x="138" y="21"/>
                  </a:lnTo>
                  <a:lnTo>
                    <a:pt x="13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22"/>
            <p:cNvSpPr/>
            <p:nvPr/>
          </p:nvSpPr>
          <p:spPr>
            <a:xfrm>
              <a:off x="6770520" y="4094640"/>
              <a:ext cx="55440" cy="34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05" h="128">
                  <a:moveTo>
                    <a:pt x="0" y="64"/>
                  </a:moveTo>
                  <a:lnTo>
                    <a:pt x="17" y="70"/>
                  </a:lnTo>
                  <a:lnTo>
                    <a:pt x="35" y="76"/>
                  </a:lnTo>
                  <a:lnTo>
                    <a:pt x="58" y="82"/>
                  </a:lnTo>
                  <a:lnTo>
                    <a:pt x="81" y="88"/>
                  </a:lnTo>
                  <a:lnTo>
                    <a:pt x="103" y="90"/>
                  </a:lnTo>
                  <a:lnTo>
                    <a:pt x="138" y="84"/>
                  </a:lnTo>
                  <a:lnTo>
                    <a:pt x="149" y="74"/>
                  </a:lnTo>
                  <a:lnTo>
                    <a:pt x="159" y="62"/>
                  </a:lnTo>
                  <a:lnTo>
                    <a:pt x="169" y="33"/>
                  </a:lnTo>
                  <a:lnTo>
                    <a:pt x="176" y="0"/>
                  </a:lnTo>
                  <a:lnTo>
                    <a:pt x="198" y="8"/>
                  </a:lnTo>
                  <a:lnTo>
                    <a:pt x="205" y="39"/>
                  </a:lnTo>
                  <a:lnTo>
                    <a:pt x="200" y="68"/>
                  </a:lnTo>
                  <a:lnTo>
                    <a:pt x="194" y="82"/>
                  </a:lnTo>
                  <a:lnTo>
                    <a:pt x="190" y="90"/>
                  </a:lnTo>
                  <a:lnTo>
                    <a:pt x="184" y="97"/>
                  </a:lnTo>
                  <a:lnTo>
                    <a:pt x="176" y="103"/>
                  </a:lnTo>
                  <a:lnTo>
                    <a:pt x="169" y="109"/>
                  </a:lnTo>
                  <a:lnTo>
                    <a:pt x="155" y="117"/>
                  </a:lnTo>
                  <a:lnTo>
                    <a:pt x="143" y="123"/>
                  </a:lnTo>
                  <a:lnTo>
                    <a:pt x="128" y="128"/>
                  </a:lnTo>
                  <a:lnTo>
                    <a:pt x="99" y="128"/>
                  </a:lnTo>
                  <a:lnTo>
                    <a:pt x="66" y="117"/>
                  </a:lnTo>
                  <a:lnTo>
                    <a:pt x="52" y="109"/>
                  </a:lnTo>
                  <a:lnTo>
                    <a:pt x="37" y="101"/>
                  </a:lnTo>
                  <a:lnTo>
                    <a:pt x="25" y="90"/>
                  </a:lnTo>
                  <a:lnTo>
                    <a:pt x="17" y="82"/>
                  </a:lnTo>
                  <a:lnTo>
                    <a:pt x="8" y="74"/>
                  </a:lnTo>
                  <a:lnTo>
                    <a:pt x="4" y="6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3"/>
            <p:cNvSpPr/>
            <p:nvPr/>
          </p:nvSpPr>
          <p:spPr>
            <a:xfrm>
              <a:off x="6771240" y="4130640"/>
              <a:ext cx="51120" cy="169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88" h="63">
                  <a:moveTo>
                    <a:pt x="0" y="4"/>
                  </a:moveTo>
                  <a:lnTo>
                    <a:pt x="17" y="10"/>
                  </a:lnTo>
                  <a:lnTo>
                    <a:pt x="35" y="16"/>
                  </a:lnTo>
                  <a:lnTo>
                    <a:pt x="58" y="22"/>
                  </a:lnTo>
                  <a:lnTo>
                    <a:pt x="83" y="26"/>
                  </a:lnTo>
                  <a:lnTo>
                    <a:pt x="108" y="31"/>
                  </a:lnTo>
                  <a:lnTo>
                    <a:pt x="145" y="28"/>
                  </a:lnTo>
                  <a:lnTo>
                    <a:pt x="180" y="10"/>
                  </a:lnTo>
                  <a:lnTo>
                    <a:pt x="186" y="0"/>
                  </a:lnTo>
                  <a:lnTo>
                    <a:pt x="188" y="33"/>
                  </a:lnTo>
                  <a:lnTo>
                    <a:pt x="184" y="41"/>
                  </a:lnTo>
                  <a:lnTo>
                    <a:pt x="178" y="47"/>
                  </a:lnTo>
                  <a:lnTo>
                    <a:pt x="170" y="51"/>
                  </a:lnTo>
                  <a:lnTo>
                    <a:pt x="159" y="57"/>
                  </a:lnTo>
                  <a:lnTo>
                    <a:pt x="149" y="61"/>
                  </a:lnTo>
                  <a:lnTo>
                    <a:pt x="122" y="63"/>
                  </a:lnTo>
                  <a:lnTo>
                    <a:pt x="85" y="55"/>
                  </a:lnTo>
                  <a:lnTo>
                    <a:pt x="64" y="45"/>
                  </a:lnTo>
                  <a:lnTo>
                    <a:pt x="46" y="35"/>
                  </a:lnTo>
                  <a:lnTo>
                    <a:pt x="27" y="24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24"/>
            <p:cNvSpPr/>
            <p:nvPr/>
          </p:nvSpPr>
          <p:spPr>
            <a:xfrm>
              <a:off x="6688440" y="4047480"/>
              <a:ext cx="101160" cy="435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372" h="161">
                  <a:moveTo>
                    <a:pt x="331" y="0"/>
                  </a:moveTo>
                  <a:lnTo>
                    <a:pt x="254" y="39"/>
                  </a:lnTo>
                  <a:lnTo>
                    <a:pt x="250" y="64"/>
                  </a:lnTo>
                  <a:lnTo>
                    <a:pt x="238" y="82"/>
                  </a:lnTo>
                  <a:lnTo>
                    <a:pt x="232" y="88"/>
                  </a:lnTo>
                  <a:lnTo>
                    <a:pt x="223" y="93"/>
                  </a:lnTo>
                  <a:lnTo>
                    <a:pt x="213" y="97"/>
                  </a:lnTo>
                  <a:lnTo>
                    <a:pt x="192" y="93"/>
                  </a:lnTo>
                  <a:lnTo>
                    <a:pt x="149" y="84"/>
                  </a:lnTo>
                  <a:lnTo>
                    <a:pt x="99" y="74"/>
                  </a:lnTo>
                  <a:lnTo>
                    <a:pt x="52" y="70"/>
                  </a:lnTo>
                  <a:lnTo>
                    <a:pt x="19" y="82"/>
                  </a:lnTo>
                  <a:lnTo>
                    <a:pt x="0" y="107"/>
                  </a:lnTo>
                  <a:lnTo>
                    <a:pt x="2" y="134"/>
                  </a:lnTo>
                  <a:lnTo>
                    <a:pt x="6" y="140"/>
                  </a:lnTo>
                  <a:lnTo>
                    <a:pt x="13" y="146"/>
                  </a:lnTo>
                  <a:lnTo>
                    <a:pt x="21" y="150"/>
                  </a:lnTo>
                  <a:lnTo>
                    <a:pt x="29" y="154"/>
                  </a:lnTo>
                  <a:lnTo>
                    <a:pt x="52" y="158"/>
                  </a:lnTo>
                  <a:lnTo>
                    <a:pt x="75" y="161"/>
                  </a:lnTo>
                  <a:lnTo>
                    <a:pt x="116" y="161"/>
                  </a:lnTo>
                  <a:lnTo>
                    <a:pt x="161" y="152"/>
                  </a:lnTo>
                  <a:lnTo>
                    <a:pt x="153" y="144"/>
                  </a:lnTo>
                  <a:lnTo>
                    <a:pt x="147" y="138"/>
                  </a:lnTo>
                  <a:lnTo>
                    <a:pt x="141" y="136"/>
                  </a:lnTo>
                  <a:lnTo>
                    <a:pt x="48" y="117"/>
                  </a:lnTo>
                  <a:lnTo>
                    <a:pt x="62" y="111"/>
                  </a:lnTo>
                  <a:lnTo>
                    <a:pt x="81" y="109"/>
                  </a:lnTo>
                  <a:lnTo>
                    <a:pt x="130" y="115"/>
                  </a:lnTo>
                  <a:lnTo>
                    <a:pt x="182" y="121"/>
                  </a:lnTo>
                  <a:lnTo>
                    <a:pt x="221" y="121"/>
                  </a:lnTo>
                  <a:lnTo>
                    <a:pt x="242" y="109"/>
                  </a:lnTo>
                  <a:lnTo>
                    <a:pt x="254" y="91"/>
                  </a:lnTo>
                  <a:lnTo>
                    <a:pt x="263" y="72"/>
                  </a:lnTo>
                  <a:lnTo>
                    <a:pt x="271" y="62"/>
                  </a:lnTo>
                  <a:lnTo>
                    <a:pt x="281" y="53"/>
                  </a:lnTo>
                  <a:lnTo>
                    <a:pt x="296" y="45"/>
                  </a:lnTo>
                  <a:lnTo>
                    <a:pt x="310" y="39"/>
                  </a:lnTo>
                  <a:lnTo>
                    <a:pt x="339" y="35"/>
                  </a:lnTo>
                  <a:lnTo>
                    <a:pt x="372" y="37"/>
                  </a:lnTo>
                  <a:lnTo>
                    <a:pt x="331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5"/>
            <p:cNvSpPr/>
            <p:nvPr/>
          </p:nvSpPr>
          <p:spPr>
            <a:xfrm>
              <a:off x="6671160" y="4083480"/>
              <a:ext cx="93600" cy="38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45" h="144">
                  <a:moveTo>
                    <a:pt x="316" y="45"/>
                  </a:moveTo>
                  <a:lnTo>
                    <a:pt x="321" y="72"/>
                  </a:lnTo>
                  <a:lnTo>
                    <a:pt x="316" y="82"/>
                  </a:lnTo>
                  <a:lnTo>
                    <a:pt x="310" y="86"/>
                  </a:lnTo>
                  <a:lnTo>
                    <a:pt x="304" y="92"/>
                  </a:lnTo>
                  <a:lnTo>
                    <a:pt x="294" y="96"/>
                  </a:lnTo>
                  <a:lnTo>
                    <a:pt x="283" y="101"/>
                  </a:lnTo>
                  <a:lnTo>
                    <a:pt x="252" y="109"/>
                  </a:lnTo>
                  <a:lnTo>
                    <a:pt x="213" y="109"/>
                  </a:lnTo>
                  <a:lnTo>
                    <a:pt x="176" y="101"/>
                  </a:lnTo>
                  <a:lnTo>
                    <a:pt x="141" y="88"/>
                  </a:lnTo>
                  <a:lnTo>
                    <a:pt x="122" y="80"/>
                  </a:lnTo>
                  <a:lnTo>
                    <a:pt x="108" y="72"/>
                  </a:lnTo>
                  <a:lnTo>
                    <a:pt x="91" y="61"/>
                  </a:lnTo>
                  <a:lnTo>
                    <a:pt x="79" y="53"/>
                  </a:lnTo>
                  <a:lnTo>
                    <a:pt x="66" y="43"/>
                  </a:lnTo>
                  <a:lnTo>
                    <a:pt x="56" y="35"/>
                  </a:lnTo>
                  <a:lnTo>
                    <a:pt x="48" y="26"/>
                  </a:lnTo>
                  <a:lnTo>
                    <a:pt x="39" y="18"/>
                  </a:lnTo>
                  <a:lnTo>
                    <a:pt x="33" y="8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4" y="6"/>
                  </a:lnTo>
                  <a:lnTo>
                    <a:pt x="0" y="16"/>
                  </a:lnTo>
                  <a:lnTo>
                    <a:pt x="8" y="35"/>
                  </a:lnTo>
                  <a:lnTo>
                    <a:pt x="13" y="39"/>
                  </a:lnTo>
                  <a:lnTo>
                    <a:pt x="19" y="47"/>
                  </a:lnTo>
                  <a:lnTo>
                    <a:pt x="31" y="61"/>
                  </a:lnTo>
                  <a:lnTo>
                    <a:pt x="39" y="68"/>
                  </a:lnTo>
                  <a:lnTo>
                    <a:pt x="50" y="76"/>
                  </a:lnTo>
                  <a:lnTo>
                    <a:pt x="60" y="84"/>
                  </a:lnTo>
                  <a:lnTo>
                    <a:pt x="73" y="90"/>
                  </a:lnTo>
                  <a:lnTo>
                    <a:pt x="85" y="99"/>
                  </a:lnTo>
                  <a:lnTo>
                    <a:pt x="99" y="105"/>
                  </a:lnTo>
                  <a:lnTo>
                    <a:pt x="114" y="113"/>
                  </a:lnTo>
                  <a:lnTo>
                    <a:pt x="130" y="117"/>
                  </a:lnTo>
                  <a:lnTo>
                    <a:pt x="161" y="127"/>
                  </a:lnTo>
                  <a:lnTo>
                    <a:pt x="190" y="136"/>
                  </a:lnTo>
                  <a:lnTo>
                    <a:pt x="215" y="142"/>
                  </a:lnTo>
                  <a:lnTo>
                    <a:pt x="236" y="144"/>
                  </a:lnTo>
                  <a:lnTo>
                    <a:pt x="271" y="144"/>
                  </a:lnTo>
                  <a:lnTo>
                    <a:pt x="296" y="134"/>
                  </a:lnTo>
                  <a:lnTo>
                    <a:pt x="306" y="125"/>
                  </a:lnTo>
                  <a:lnTo>
                    <a:pt x="314" y="115"/>
                  </a:lnTo>
                  <a:lnTo>
                    <a:pt x="331" y="92"/>
                  </a:lnTo>
                  <a:lnTo>
                    <a:pt x="345" y="66"/>
                  </a:lnTo>
                  <a:lnTo>
                    <a:pt x="316" y="45"/>
                  </a:lnTo>
                  <a:lnTo>
                    <a:pt x="316" y="45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6"/>
            <p:cNvSpPr/>
            <p:nvPr/>
          </p:nvSpPr>
          <p:spPr>
            <a:xfrm>
              <a:off x="6721560" y="4085280"/>
              <a:ext cx="29880" cy="21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0" h="80">
                  <a:moveTo>
                    <a:pt x="0" y="55"/>
                  </a:moveTo>
                  <a:lnTo>
                    <a:pt x="27" y="60"/>
                  </a:lnTo>
                  <a:lnTo>
                    <a:pt x="50" y="58"/>
                  </a:lnTo>
                  <a:lnTo>
                    <a:pt x="68" y="43"/>
                  </a:lnTo>
                  <a:lnTo>
                    <a:pt x="77" y="12"/>
                  </a:lnTo>
                  <a:lnTo>
                    <a:pt x="73" y="0"/>
                  </a:lnTo>
                  <a:lnTo>
                    <a:pt x="81" y="6"/>
                  </a:lnTo>
                  <a:lnTo>
                    <a:pt x="89" y="12"/>
                  </a:lnTo>
                  <a:lnTo>
                    <a:pt x="97" y="20"/>
                  </a:lnTo>
                  <a:lnTo>
                    <a:pt x="110" y="39"/>
                  </a:lnTo>
                  <a:lnTo>
                    <a:pt x="106" y="55"/>
                  </a:lnTo>
                  <a:lnTo>
                    <a:pt x="97" y="64"/>
                  </a:lnTo>
                  <a:lnTo>
                    <a:pt x="91" y="70"/>
                  </a:lnTo>
                  <a:lnTo>
                    <a:pt x="77" y="76"/>
                  </a:lnTo>
                  <a:lnTo>
                    <a:pt x="48" y="80"/>
                  </a:lnTo>
                  <a:lnTo>
                    <a:pt x="17" y="68"/>
                  </a:lnTo>
                  <a:lnTo>
                    <a:pt x="4" y="6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7"/>
            <p:cNvSpPr/>
            <p:nvPr/>
          </p:nvSpPr>
          <p:spPr>
            <a:xfrm>
              <a:off x="6667560" y="4109760"/>
              <a:ext cx="115560" cy="504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26" h="186">
                  <a:moveTo>
                    <a:pt x="0" y="0"/>
                  </a:moveTo>
                  <a:lnTo>
                    <a:pt x="6" y="3"/>
                  </a:lnTo>
                  <a:lnTo>
                    <a:pt x="18" y="13"/>
                  </a:lnTo>
                  <a:lnTo>
                    <a:pt x="29" y="19"/>
                  </a:lnTo>
                  <a:lnTo>
                    <a:pt x="41" y="25"/>
                  </a:lnTo>
                  <a:lnTo>
                    <a:pt x="54" y="33"/>
                  </a:lnTo>
                  <a:lnTo>
                    <a:pt x="68" y="42"/>
                  </a:lnTo>
                  <a:lnTo>
                    <a:pt x="85" y="50"/>
                  </a:lnTo>
                  <a:lnTo>
                    <a:pt x="101" y="56"/>
                  </a:lnTo>
                  <a:lnTo>
                    <a:pt x="120" y="64"/>
                  </a:lnTo>
                  <a:lnTo>
                    <a:pt x="138" y="70"/>
                  </a:lnTo>
                  <a:lnTo>
                    <a:pt x="157" y="77"/>
                  </a:lnTo>
                  <a:lnTo>
                    <a:pt x="175" y="81"/>
                  </a:lnTo>
                  <a:lnTo>
                    <a:pt x="213" y="85"/>
                  </a:lnTo>
                  <a:lnTo>
                    <a:pt x="275" y="83"/>
                  </a:lnTo>
                  <a:lnTo>
                    <a:pt x="312" y="73"/>
                  </a:lnTo>
                  <a:lnTo>
                    <a:pt x="328" y="62"/>
                  </a:lnTo>
                  <a:lnTo>
                    <a:pt x="333" y="58"/>
                  </a:lnTo>
                  <a:lnTo>
                    <a:pt x="337" y="103"/>
                  </a:lnTo>
                  <a:lnTo>
                    <a:pt x="333" y="110"/>
                  </a:lnTo>
                  <a:lnTo>
                    <a:pt x="322" y="116"/>
                  </a:lnTo>
                  <a:lnTo>
                    <a:pt x="310" y="122"/>
                  </a:lnTo>
                  <a:lnTo>
                    <a:pt x="293" y="126"/>
                  </a:lnTo>
                  <a:lnTo>
                    <a:pt x="246" y="130"/>
                  </a:lnTo>
                  <a:lnTo>
                    <a:pt x="184" y="124"/>
                  </a:lnTo>
                  <a:lnTo>
                    <a:pt x="124" y="105"/>
                  </a:lnTo>
                  <a:lnTo>
                    <a:pt x="101" y="97"/>
                  </a:lnTo>
                  <a:lnTo>
                    <a:pt x="85" y="87"/>
                  </a:lnTo>
                  <a:lnTo>
                    <a:pt x="72" y="77"/>
                  </a:lnTo>
                  <a:lnTo>
                    <a:pt x="62" y="70"/>
                  </a:lnTo>
                  <a:lnTo>
                    <a:pt x="56" y="64"/>
                  </a:lnTo>
                  <a:lnTo>
                    <a:pt x="62" y="77"/>
                  </a:lnTo>
                  <a:lnTo>
                    <a:pt x="72" y="93"/>
                  </a:lnTo>
                  <a:lnTo>
                    <a:pt x="78" y="101"/>
                  </a:lnTo>
                  <a:lnTo>
                    <a:pt x="87" y="110"/>
                  </a:lnTo>
                  <a:lnTo>
                    <a:pt x="95" y="118"/>
                  </a:lnTo>
                  <a:lnTo>
                    <a:pt x="105" y="126"/>
                  </a:lnTo>
                  <a:lnTo>
                    <a:pt x="118" y="134"/>
                  </a:lnTo>
                  <a:lnTo>
                    <a:pt x="130" y="143"/>
                  </a:lnTo>
                  <a:lnTo>
                    <a:pt x="144" y="149"/>
                  </a:lnTo>
                  <a:lnTo>
                    <a:pt x="161" y="155"/>
                  </a:lnTo>
                  <a:lnTo>
                    <a:pt x="200" y="161"/>
                  </a:lnTo>
                  <a:lnTo>
                    <a:pt x="275" y="157"/>
                  </a:lnTo>
                  <a:lnTo>
                    <a:pt x="333" y="140"/>
                  </a:lnTo>
                  <a:lnTo>
                    <a:pt x="355" y="130"/>
                  </a:lnTo>
                  <a:lnTo>
                    <a:pt x="370" y="122"/>
                  </a:lnTo>
                  <a:lnTo>
                    <a:pt x="384" y="114"/>
                  </a:lnTo>
                  <a:lnTo>
                    <a:pt x="426" y="145"/>
                  </a:lnTo>
                  <a:lnTo>
                    <a:pt x="397" y="153"/>
                  </a:lnTo>
                  <a:lnTo>
                    <a:pt x="366" y="161"/>
                  </a:lnTo>
                  <a:lnTo>
                    <a:pt x="328" y="171"/>
                  </a:lnTo>
                  <a:lnTo>
                    <a:pt x="289" y="180"/>
                  </a:lnTo>
                  <a:lnTo>
                    <a:pt x="250" y="186"/>
                  </a:lnTo>
                  <a:lnTo>
                    <a:pt x="190" y="186"/>
                  </a:lnTo>
                  <a:lnTo>
                    <a:pt x="169" y="178"/>
                  </a:lnTo>
                  <a:lnTo>
                    <a:pt x="149" y="171"/>
                  </a:lnTo>
                  <a:lnTo>
                    <a:pt x="128" y="161"/>
                  </a:lnTo>
                  <a:lnTo>
                    <a:pt x="109" y="151"/>
                  </a:lnTo>
                  <a:lnTo>
                    <a:pt x="93" y="140"/>
                  </a:lnTo>
                  <a:lnTo>
                    <a:pt x="78" y="130"/>
                  </a:lnTo>
                  <a:lnTo>
                    <a:pt x="68" y="120"/>
                  </a:lnTo>
                  <a:lnTo>
                    <a:pt x="58" y="110"/>
                  </a:lnTo>
                  <a:lnTo>
                    <a:pt x="41" y="81"/>
                  </a:lnTo>
                  <a:lnTo>
                    <a:pt x="31" y="62"/>
                  </a:lnTo>
                  <a:lnTo>
                    <a:pt x="23" y="44"/>
                  </a:lnTo>
                  <a:lnTo>
                    <a:pt x="6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8"/>
            <p:cNvSpPr/>
            <p:nvPr/>
          </p:nvSpPr>
          <p:spPr>
            <a:xfrm>
              <a:off x="6479280" y="4026240"/>
              <a:ext cx="171360" cy="493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31" h="181">
                  <a:moveTo>
                    <a:pt x="0" y="72"/>
                  </a:moveTo>
                  <a:lnTo>
                    <a:pt x="4" y="68"/>
                  </a:lnTo>
                  <a:lnTo>
                    <a:pt x="17" y="59"/>
                  </a:lnTo>
                  <a:lnTo>
                    <a:pt x="38" y="49"/>
                  </a:lnTo>
                  <a:lnTo>
                    <a:pt x="50" y="43"/>
                  </a:lnTo>
                  <a:lnTo>
                    <a:pt x="62" y="37"/>
                  </a:lnTo>
                  <a:lnTo>
                    <a:pt x="79" y="31"/>
                  </a:lnTo>
                  <a:lnTo>
                    <a:pt x="95" y="24"/>
                  </a:lnTo>
                  <a:lnTo>
                    <a:pt x="114" y="18"/>
                  </a:lnTo>
                  <a:lnTo>
                    <a:pt x="133" y="12"/>
                  </a:lnTo>
                  <a:lnTo>
                    <a:pt x="174" y="4"/>
                  </a:lnTo>
                  <a:lnTo>
                    <a:pt x="219" y="0"/>
                  </a:lnTo>
                  <a:lnTo>
                    <a:pt x="317" y="8"/>
                  </a:lnTo>
                  <a:lnTo>
                    <a:pt x="364" y="16"/>
                  </a:lnTo>
                  <a:lnTo>
                    <a:pt x="405" y="29"/>
                  </a:lnTo>
                  <a:lnTo>
                    <a:pt x="443" y="39"/>
                  </a:lnTo>
                  <a:lnTo>
                    <a:pt x="472" y="49"/>
                  </a:lnTo>
                  <a:lnTo>
                    <a:pt x="498" y="59"/>
                  </a:lnTo>
                  <a:lnTo>
                    <a:pt x="513" y="111"/>
                  </a:lnTo>
                  <a:lnTo>
                    <a:pt x="498" y="101"/>
                  </a:lnTo>
                  <a:lnTo>
                    <a:pt x="480" y="92"/>
                  </a:lnTo>
                  <a:lnTo>
                    <a:pt x="470" y="86"/>
                  </a:lnTo>
                  <a:lnTo>
                    <a:pt x="457" y="80"/>
                  </a:lnTo>
                  <a:lnTo>
                    <a:pt x="445" y="74"/>
                  </a:lnTo>
                  <a:lnTo>
                    <a:pt x="430" y="68"/>
                  </a:lnTo>
                  <a:lnTo>
                    <a:pt x="418" y="61"/>
                  </a:lnTo>
                  <a:lnTo>
                    <a:pt x="403" y="57"/>
                  </a:lnTo>
                  <a:lnTo>
                    <a:pt x="377" y="49"/>
                  </a:lnTo>
                  <a:lnTo>
                    <a:pt x="350" y="43"/>
                  </a:lnTo>
                  <a:lnTo>
                    <a:pt x="302" y="43"/>
                  </a:lnTo>
                  <a:lnTo>
                    <a:pt x="267" y="47"/>
                  </a:lnTo>
                  <a:lnTo>
                    <a:pt x="242" y="55"/>
                  </a:lnTo>
                  <a:lnTo>
                    <a:pt x="234" y="59"/>
                  </a:lnTo>
                  <a:lnTo>
                    <a:pt x="403" y="82"/>
                  </a:lnTo>
                  <a:lnTo>
                    <a:pt x="428" y="94"/>
                  </a:lnTo>
                  <a:lnTo>
                    <a:pt x="453" y="107"/>
                  </a:lnTo>
                  <a:lnTo>
                    <a:pt x="467" y="111"/>
                  </a:lnTo>
                  <a:lnTo>
                    <a:pt x="480" y="117"/>
                  </a:lnTo>
                  <a:lnTo>
                    <a:pt x="505" y="129"/>
                  </a:lnTo>
                  <a:lnTo>
                    <a:pt x="527" y="140"/>
                  </a:lnTo>
                  <a:lnTo>
                    <a:pt x="548" y="146"/>
                  </a:lnTo>
                  <a:lnTo>
                    <a:pt x="575" y="152"/>
                  </a:lnTo>
                  <a:lnTo>
                    <a:pt x="581" y="150"/>
                  </a:lnTo>
                  <a:lnTo>
                    <a:pt x="585" y="144"/>
                  </a:lnTo>
                  <a:lnTo>
                    <a:pt x="583" y="127"/>
                  </a:lnTo>
                  <a:lnTo>
                    <a:pt x="577" y="113"/>
                  </a:lnTo>
                  <a:lnTo>
                    <a:pt x="573" y="105"/>
                  </a:lnTo>
                  <a:lnTo>
                    <a:pt x="602" y="113"/>
                  </a:lnTo>
                  <a:lnTo>
                    <a:pt x="620" y="123"/>
                  </a:lnTo>
                  <a:lnTo>
                    <a:pt x="631" y="142"/>
                  </a:lnTo>
                  <a:lnTo>
                    <a:pt x="629" y="158"/>
                  </a:lnTo>
                  <a:lnTo>
                    <a:pt x="625" y="166"/>
                  </a:lnTo>
                  <a:lnTo>
                    <a:pt x="618" y="173"/>
                  </a:lnTo>
                  <a:lnTo>
                    <a:pt x="608" y="179"/>
                  </a:lnTo>
                  <a:lnTo>
                    <a:pt x="598" y="181"/>
                  </a:lnTo>
                  <a:lnTo>
                    <a:pt x="569" y="181"/>
                  </a:lnTo>
                  <a:lnTo>
                    <a:pt x="534" y="164"/>
                  </a:lnTo>
                  <a:lnTo>
                    <a:pt x="521" y="160"/>
                  </a:lnTo>
                  <a:lnTo>
                    <a:pt x="511" y="152"/>
                  </a:lnTo>
                  <a:lnTo>
                    <a:pt x="498" y="146"/>
                  </a:lnTo>
                  <a:lnTo>
                    <a:pt x="486" y="140"/>
                  </a:lnTo>
                  <a:lnTo>
                    <a:pt x="472" y="131"/>
                  </a:lnTo>
                  <a:lnTo>
                    <a:pt x="457" y="125"/>
                  </a:lnTo>
                  <a:lnTo>
                    <a:pt x="441" y="119"/>
                  </a:lnTo>
                  <a:lnTo>
                    <a:pt x="424" y="113"/>
                  </a:lnTo>
                  <a:lnTo>
                    <a:pt x="405" y="107"/>
                  </a:lnTo>
                  <a:lnTo>
                    <a:pt x="385" y="103"/>
                  </a:lnTo>
                  <a:lnTo>
                    <a:pt x="341" y="94"/>
                  </a:lnTo>
                  <a:lnTo>
                    <a:pt x="261" y="92"/>
                  </a:lnTo>
                  <a:lnTo>
                    <a:pt x="203" y="101"/>
                  </a:lnTo>
                  <a:lnTo>
                    <a:pt x="168" y="111"/>
                  </a:lnTo>
                  <a:lnTo>
                    <a:pt x="155" y="115"/>
                  </a:lnTo>
                  <a:lnTo>
                    <a:pt x="137" y="103"/>
                  </a:lnTo>
                  <a:lnTo>
                    <a:pt x="226" y="43"/>
                  </a:lnTo>
                  <a:lnTo>
                    <a:pt x="114" y="51"/>
                  </a:lnTo>
                  <a:lnTo>
                    <a:pt x="89" y="61"/>
                  </a:lnTo>
                  <a:lnTo>
                    <a:pt x="64" y="72"/>
                  </a:lnTo>
                  <a:lnTo>
                    <a:pt x="46" y="82"/>
                  </a:lnTo>
                  <a:lnTo>
                    <a:pt x="38" y="84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9"/>
            <p:cNvSpPr/>
            <p:nvPr/>
          </p:nvSpPr>
          <p:spPr>
            <a:xfrm>
              <a:off x="6522120" y="4060800"/>
              <a:ext cx="136080" cy="5256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01" h="194">
                  <a:moveTo>
                    <a:pt x="34" y="15"/>
                  </a:moveTo>
                  <a:lnTo>
                    <a:pt x="54" y="11"/>
                  </a:lnTo>
                  <a:lnTo>
                    <a:pt x="104" y="2"/>
                  </a:lnTo>
                  <a:lnTo>
                    <a:pt x="168" y="0"/>
                  </a:lnTo>
                  <a:lnTo>
                    <a:pt x="224" y="13"/>
                  </a:lnTo>
                  <a:lnTo>
                    <a:pt x="246" y="23"/>
                  </a:lnTo>
                  <a:lnTo>
                    <a:pt x="259" y="29"/>
                  </a:lnTo>
                  <a:lnTo>
                    <a:pt x="273" y="35"/>
                  </a:lnTo>
                  <a:lnTo>
                    <a:pt x="286" y="44"/>
                  </a:lnTo>
                  <a:lnTo>
                    <a:pt x="298" y="50"/>
                  </a:lnTo>
                  <a:lnTo>
                    <a:pt x="313" y="56"/>
                  </a:lnTo>
                  <a:lnTo>
                    <a:pt x="325" y="62"/>
                  </a:lnTo>
                  <a:lnTo>
                    <a:pt x="337" y="68"/>
                  </a:lnTo>
                  <a:lnTo>
                    <a:pt x="348" y="74"/>
                  </a:lnTo>
                  <a:lnTo>
                    <a:pt x="370" y="85"/>
                  </a:lnTo>
                  <a:lnTo>
                    <a:pt x="389" y="93"/>
                  </a:lnTo>
                  <a:lnTo>
                    <a:pt x="401" y="97"/>
                  </a:lnTo>
                  <a:lnTo>
                    <a:pt x="426" y="97"/>
                  </a:lnTo>
                  <a:lnTo>
                    <a:pt x="449" y="93"/>
                  </a:lnTo>
                  <a:lnTo>
                    <a:pt x="472" y="83"/>
                  </a:lnTo>
                  <a:lnTo>
                    <a:pt x="472" y="107"/>
                  </a:lnTo>
                  <a:lnTo>
                    <a:pt x="474" y="114"/>
                  </a:lnTo>
                  <a:lnTo>
                    <a:pt x="459" y="120"/>
                  </a:lnTo>
                  <a:lnTo>
                    <a:pt x="422" y="124"/>
                  </a:lnTo>
                  <a:lnTo>
                    <a:pt x="370" y="118"/>
                  </a:lnTo>
                  <a:lnTo>
                    <a:pt x="344" y="109"/>
                  </a:lnTo>
                  <a:lnTo>
                    <a:pt x="321" y="101"/>
                  </a:lnTo>
                  <a:lnTo>
                    <a:pt x="302" y="93"/>
                  </a:lnTo>
                  <a:lnTo>
                    <a:pt x="286" y="85"/>
                  </a:lnTo>
                  <a:lnTo>
                    <a:pt x="273" y="77"/>
                  </a:lnTo>
                  <a:lnTo>
                    <a:pt x="282" y="87"/>
                  </a:lnTo>
                  <a:lnTo>
                    <a:pt x="292" y="95"/>
                  </a:lnTo>
                  <a:lnTo>
                    <a:pt x="298" y="101"/>
                  </a:lnTo>
                  <a:lnTo>
                    <a:pt x="306" y="107"/>
                  </a:lnTo>
                  <a:lnTo>
                    <a:pt x="313" y="114"/>
                  </a:lnTo>
                  <a:lnTo>
                    <a:pt x="323" y="120"/>
                  </a:lnTo>
                  <a:lnTo>
                    <a:pt x="331" y="126"/>
                  </a:lnTo>
                  <a:lnTo>
                    <a:pt x="341" y="130"/>
                  </a:lnTo>
                  <a:lnTo>
                    <a:pt x="362" y="140"/>
                  </a:lnTo>
                  <a:lnTo>
                    <a:pt x="387" y="147"/>
                  </a:lnTo>
                  <a:lnTo>
                    <a:pt x="430" y="153"/>
                  </a:lnTo>
                  <a:lnTo>
                    <a:pt x="461" y="153"/>
                  </a:lnTo>
                  <a:lnTo>
                    <a:pt x="490" y="149"/>
                  </a:lnTo>
                  <a:lnTo>
                    <a:pt x="501" y="173"/>
                  </a:lnTo>
                  <a:lnTo>
                    <a:pt x="490" y="177"/>
                  </a:lnTo>
                  <a:lnTo>
                    <a:pt x="465" y="186"/>
                  </a:lnTo>
                  <a:lnTo>
                    <a:pt x="432" y="192"/>
                  </a:lnTo>
                  <a:lnTo>
                    <a:pt x="395" y="194"/>
                  </a:lnTo>
                  <a:lnTo>
                    <a:pt x="354" y="184"/>
                  </a:lnTo>
                  <a:lnTo>
                    <a:pt x="335" y="175"/>
                  </a:lnTo>
                  <a:lnTo>
                    <a:pt x="317" y="165"/>
                  </a:lnTo>
                  <a:lnTo>
                    <a:pt x="300" y="157"/>
                  </a:lnTo>
                  <a:lnTo>
                    <a:pt x="288" y="151"/>
                  </a:lnTo>
                  <a:lnTo>
                    <a:pt x="277" y="142"/>
                  </a:lnTo>
                  <a:lnTo>
                    <a:pt x="265" y="134"/>
                  </a:lnTo>
                  <a:lnTo>
                    <a:pt x="253" y="126"/>
                  </a:lnTo>
                  <a:lnTo>
                    <a:pt x="236" y="116"/>
                  </a:lnTo>
                  <a:lnTo>
                    <a:pt x="220" y="105"/>
                  </a:lnTo>
                  <a:lnTo>
                    <a:pt x="201" y="97"/>
                  </a:lnTo>
                  <a:lnTo>
                    <a:pt x="184" y="93"/>
                  </a:lnTo>
                  <a:lnTo>
                    <a:pt x="170" y="91"/>
                  </a:lnTo>
                  <a:lnTo>
                    <a:pt x="141" y="97"/>
                  </a:lnTo>
                  <a:lnTo>
                    <a:pt x="116" y="109"/>
                  </a:lnTo>
                  <a:lnTo>
                    <a:pt x="98" y="120"/>
                  </a:lnTo>
                  <a:lnTo>
                    <a:pt x="91" y="124"/>
                  </a:lnTo>
                  <a:lnTo>
                    <a:pt x="60" y="107"/>
                  </a:lnTo>
                  <a:lnTo>
                    <a:pt x="65" y="103"/>
                  </a:lnTo>
                  <a:lnTo>
                    <a:pt x="73" y="95"/>
                  </a:lnTo>
                  <a:lnTo>
                    <a:pt x="81" y="91"/>
                  </a:lnTo>
                  <a:lnTo>
                    <a:pt x="91" y="85"/>
                  </a:lnTo>
                  <a:lnTo>
                    <a:pt x="106" y="79"/>
                  </a:lnTo>
                  <a:lnTo>
                    <a:pt x="120" y="72"/>
                  </a:lnTo>
                  <a:lnTo>
                    <a:pt x="151" y="64"/>
                  </a:lnTo>
                  <a:lnTo>
                    <a:pt x="176" y="60"/>
                  </a:lnTo>
                  <a:lnTo>
                    <a:pt x="197" y="58"/>
                  </a:lnTo>
                  <a:lnTo>
                    <a:pt x="191" y="46"/>
                  </a:lnTo>
                  <a:lnTo>
                    <a:pt x="178" y="39"/>
                  </a:lnTo>
                  <a:lnTo>
                    <a:pt x="153" y="35"/>
                  </a:lnTo>
                  <a:lnTo>
                    <a:pt x="110" y="44"/>
                  </a:lnTo>
                  <a:lnTo>
                    <a:pt x="85" y="50"/>
                  </a:lnTo>
                  <a:lnTo>
                    <a:pt x="60" y="58"/>
                  </a:lnTo>
                  <a:lnTo>
                    <a:pt x="38" y="66"/>
                  </a:lnTo>
                  <a:lnTo>
                    <a:pt x="19" y="74"/>
                  </a:lnTo>
                  <a:lnTo>
                    <a:pt x="0" y="81"/>
                  </a:lnTo>
                  <a:lnTo>
                    <a:pt x="34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0"/>
            <p:cNvSpPr/>
            <p:nvPr/>
          </p:nvSpPr>
          <p:spPr>
            <a:xfrm>
              <a:off x="6552360" y="4096440"/>
              <a:ext cx="114120" cy="648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239">
                  <a:moveTo>
                    <a:pt x="0" y="21"/>
                  </a:moveTo>
                  <a:lnTo>
                    <a:pt x="12" y="14"/>
                  </a:lnTo>
                  <a:lnTo>
                    <a:pt x="27" y="8"/>
                  </a:lnTo>
                  <a:lnTo>
                    <a:pt x="46" y="2"/>
                  </a:lnTo>
                  <a:lnTo>
                    <a:pt x="87" y="0"/>
                  </a:lnTo>
                  <a:lnTo>
                    <a:pt x="110" y="6"/>
                  </a:lnTo>
                  <a:lnTo>
                    <a:pt x="128" y="21"/>
                  </a:lnTo>
                  <a:lnTo>
                    <a:pt x="139" y="31"/>
                  </a:lnTo>
                  <a:lnTo>
                    <a:pt x="151" y="39"/>
                  </a:lnTo>
                  <a:lnTo>
                    <a:pt x="163" y="47"/>
                  </a:lnTo>
                  <a:lnTo>
                    <a:pt x="176" y="56"/>
                  </a:lnTo>
                  <a:lnTo>
                    <a:pt x="190" y="62"/>
                  </a:lnTo>
                  <a:lnTo>
                    <a:pt x="205" y="68"/>
                  </a:lnTo>
                  <a:lnTo>
                    <a:pt x="219" y="74"/>
                  </a:lnTo>
                  <a:lnTo>
                    <a:pt x="236" y="80"/>
                  </a:lnTo>
                  <a:lnTo>
                    <a:pt x="265" y="89"/>
                  </a:lnTo>
                  <a:lnTo>
                    <a:pt x="291" y="97"/>
                  </a:lnTo>
                  <a:lnTo>
                    <a:pt x="335" y="101"/>
                  </a:lnTo>
                  <a:lnTo>
                    <a:pt x="384" y="91"/>
                  </a:lnTo>
                  <a:lnTo>
                    <a:pt x="403" y="80"/>
                  </a:lnTo>
                  <a:lnTo>
                    <a:pt x="420" y="113"/>
                  </a:lnTo>
                  <a:lnTo>
                    <a:pt x="409" y="122"/>
                  </a:lnTo>
                  <a:lnTo>
                    <a:pt x="399" y="132"/>
                  </a:lnTo>
                  <a:lnTo>
                    <a:pt x="387" y="144"/>
                  </a:lnTo>
                  <a:lnTo>
                    <a:pt x="380" y="150"/>
                  </a:lnTo>
                  <a:lnTo>
                    <a:pt x="372" y="157"/>
                  </a:lnTo>
                  <a:lnTo>
                    <a:pt x="366" y="163"/>
                  </a:lnTo>
                  <a:lnTo>
                    <a:pt x="360" y="169"/>
                  </a:lnTo>
                  <a:lnTo>
                    <a:pt x="349" y="179"/>
                  </a:lnTo>
                  <a:lnTo>
                    <a:pt x="343" y="187"/>
                  </a:lnTo>
                  <a:lnTo>
                    <a:pt x="329" y="218"/>
                  </a:lnTo>
                  <a:lnTo>
                    <a:pt x="325" y="235"/>
                  </a:lnTo>
                  <a:lnTo>
                    <a:pt x="236" y="239"/>
                  </a:lnTo>
                  <a:lnTo>
                    <a:pt x="285" y="185"/>
                  </a:lnTo>
                  <a:lnTo>
                    <a:pt x="238" y="177"/>
                  </a:lnTo>
                  <a:lnTo>
                    <a:pt x="145" y="198"/>
                  </a:lnTo>
                  <a:lnTo>
                    <a:pt x="244" y="134"/>
                  </a:lnTo>
                  <a:lnTo>
                    <a:pt x="35" y="144"/>
                  </a:lnTo>
                  <a:lnTo>
                    <a:pt x="114" y="107"/>
                  </a:lnTo>
                  <a:lnTo>
                    <a:pt x="50" y="93"/>
                  </a:lnTo>
                  <a:lnTo>
                    <a:pt x="39" y="66"/>
                  </a:lnTo>
                  <a:lnTo>
                    <a:pt x="48" y="64"/>
                  </a:lnTo>
                  <a:lnTo>
                    <a:pt x="66" y="56"/>
                  </a:lnTo>
                  <a:lnTo>
                    <a:pt x="93" y="52"/>
                  </a:lnTo>
                  <a:lnTo>
                    <a:pt x="120" y="60"/>
                  </a:lnTo>
                  <a:lnTo>
                    <a:pt x="141" y="76"/>
                  </a:lnTo>
                  <a:lnTo>
                    <a:pt x="149" y="84"/>
                  </a:lnTo>
                  <a:lnTo>
                    <a:pt x="155" y="93"/>
                  </a:lnTo>
                  <a:lnTo>
                    <a:pt x="161" y="99"/>
                  </a:lnTo>
                  <a:lnTo>
                    <a:pt x="170" y="105"/>
                  </a:lnTo>
                  <a:lnTo>
                    <a:pt x="188" y="109"/>
                  </a:lnTo>
                  <a:lnTo>
                    <a:pt x="219" y="101"/>
                  </a:lnTo>
                  <a:lnTo>
                    <a:pt x="225" y="95"/>
                  </a:lnTo>
                  <a:lnTo>
                    <a:pt x="213" y="91"/>
                  </a:lnTo>
                  <a:lnTo>
                    <a:pt x="188" y="82"/>
                  </a:lnTo>
                  <a:lnTo>
                    <a:pt x="159" y="70"/>
                  </a:lnTo>
                  <a:lnTo>
                    <a:pt x="141" y="58"/>
                  </a:lnTo>
                  <a:lnTo>
                    <a:pt x="134" y="52"/>
                  </a:lnTo>
                  <a:lnTo>
                    <a:pt x="126" y="45"/>
                  </a:lnTo>
                  <a:lnTo>
                    <a:pt x="118" y="39"/>
                  </a:lnTo>
                  <a:lnTo>
                    <a:pt x="108" y="35"/>
                  </a:lnTo>
                  <a:lnTo>
                    <a:pt x="87" y="29"/>
                  </a:lnTo>
                  <a:lnTo>
                    <a:pt x="68" y="27"/>
                  </a:lnTo>
                  <a:lnTo>
                    <a:pt x="39" y="37"/>
                  </a:lnTo>
                  <a:lnTo>
                    <a:pt x="25" y="45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31"/>
            <p:cNvSpPr/>
            <p:nvPr/>
          </p:nvSpPr>
          <p:spPr>
            <a:xfrm>
              <a:off x="6663240" y="4061880"/>
              <a:ext cx="24120" cy="144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9" h="54">
                  <a:moveTo>
                    <a:pt x="89" y="11"/>
                  </a:moveTo>
                  <a:lnTo>
                    <a:pt x="79" y="7"/>
                  </a:lnTo>
                  <a:lnTo>
                    <a:pt x="54" y="0"/>
                  </a:lnTo>
                  <a:lnTo>
                    <a:pt x="27" y="0"/>
                  </a:lnTo>
                  <a:lnTo>
                    <a:pt x="17" y="5"/>
                  </a:lnTo>
                  <a:lnTo>
                    <a:pt x="8" y="13"/>
                  </a:lnTo>
                  <a:lnTo>
                    <a:pt x="0" y="46"/>
                  </a:lnTo>
                  <a:lnTo>
                    <a:pt x="11" y="54"/>
                  </a:lnTo>
                  <a:lnTo>
                    <a:pt x="27" y="46"/>
                  </a:lnTo>
                  <a:lnTo>
                    <a:pt x="35" y="38"/>
                  </a:lnTo>
                  <a:lnTo>
                    <a:pt x="58" y="54"/>
                  </a:lnTo>
                  <a:lnTo>
                    <a:pt x="89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32"/>
            <p:cNvSpPr/>
            <p:nvPr/>
          </p:nvSpPr>
          <p:spPr>
            <a:xfrm>
              <a:off x="7005600" y="3387600"/>
              <a:ext cx="317520" cy="2984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168" h="1097">
                  <a:moveTo>
                    <a:pt x="0" y="0"/>
                  </a:moveTo>
                  <a:lnTo>
                    <a:pt x="14" y="10"/>
                  </a:lnTo>
                  <a:lnTo>
                    <a:pt x="21" y="16"/>
                  </a:lnTo>
                  <a:lnTo>
                    <a:pt x="29" y="24"/>
                  </a:lnTo>
                  <a:lnTo>
                    <a:pt x="39" y="33"/>
                  </a:lnTo>
                  <a:lnTo>
                    <a:pt x="50" y="41"/>
                  </a:lnTo>
                  <a:lnTo>
                    <a:pt x="62" y="53"/>
                  </a:lnTo>
                  <a:lnTo>
                    <a:pt x="76" y="66"/>
                  </a:lnTo>
                  <a:lnTo>
                    <a:pt x="81" y="72"/>
                  </a:lnTo>
                  <a:lnTo>
                    <a:pt x="89" y="78"/>
                  </a:lnTo>
                  <a:lnTo>
                    <a:pt x="97" y="84"/>
                  </a:lnTo>
                  <a:lnTo>
                    <a:pt x="103" y="92"/>
                  </a:lnTo>
                  <a:lnTo>
                    <a:pt x="114" y="98"/>
                  </a:lnTo>
                  <a:lnTo>
                    <a:pt x="122" y="107"/>
                  </a:lnTo>
                  <a:lnTo>
                    <a:pt x="130" y="113"/>
                  </a:lnTo>
                  <a:lnTo>
                    <a:pt x="138" y="121"/>
                  </a:lnTo>
                  <a:lnTo>
                    <a:pt x="149" y="129"/>
                  </a:lnTo>
                  <a:lnTo>
                    <a:pt x="157" y="138"/>
                  </a:lnTo>
                  <a:lnTo>
                    <a:pt x="167" y="146"/>
                  </a:lnTo>
                  <a:lnTo>
                    <a:pt x="178" y="156"/>
                  </a:lnTo>
                  <a:lnTo>
                    <a:pt x="188" y="164"/>
                  </a:lnTo>
                  <a:lnTo>
                    <a:pt x="198" y="173"/>
                  </a:lnTo>
                  <a:lnTo>
                    <a:pt x="209" y="183"/>
                  </a:lnTo>
                  <a:lnTo>
                    <a:pt x="219" y="191"/>
                  </a:lnTo>
                  <a:lnTo>
                    <a:pt x="231" y="201"/>
                  </a:lnTo>
                  <a:lnTo>
                    <a:pt x="242" y="212"/>
                  </a:lnTo>
                  <a:lnTo>
                    <a:pt x="252" y="222"/>
                  </a:lnTo>
                  <a:lnTo>
                    <a:pt x="265" y="232"/>
                  </a:lnTo>
                  <a:lnTo>
                    <a:pt x="275" y="243"/>
                  </a:lnTo>
                  <a:lnTo>
                    <a:pt x="287" y="253"/>
                  </a:lnTo>
                  <a:lnTo>
                    <a:pt x="300" y="263"/>
                  </a:lnTo>
                  <a:lnTo>
                    <a:pt x="312" y="273"/>
                  </a:lnTo>
                  <a:lnTo>
                    <a:pt x="324" y="284"/>
                  </a:lnTo>
                  <a:lnTo>
                    <a:pt x="337" y="294"/>
                  </a:lnTo>
                  <a:lnTo>
                    <a:pt x="349" y="306"/>
                  </a:lnTo>
                  <a:lnTo>
                    <a:pt x="362" y="317"/>
                  </a:lnTo>
                  <a:lnTo>
                    <a:pt x="374" y="327"/>
                  </a:lnTo>
                  <a:lnTo>
                    <a:pt x="386" y="339"/>
                  </a:lnTo>
                  <a:lnTo>
                    <a:pt x="399" y="350"/>
                  </a:lnTo>
                  <a:lnTo>
                    <a:pt x="413" y="362"/>
                  </a:lnTo>
                  <a:lnTo>
                    <a:pt x="426" y="372"/>
                  </a:lnTo>
                  <a:lnTo>
                    <a:pt x="438" y="385"/>
                  </a:lnTo>
                  <a:lnTo>
                    <a:pt x="453" y="397"/>
                  </a:lnTo>
                  <a:lnTo>
                    <a:pt x="465" y="407"/>
                  </a:lnTo>
                  <a:lnTo>
                    <a:pt x="477" y="420"/>
                  </a:lnTo>
                  <a:lnTo>
                    <a:pt x="492" y="432"/>
                  </a:lnTo>
                  <a:lnTo>
                    <a:pt x="504" y="444"/>
                  </a:lnTo>
                  <a:lnTo>
                    <a:pt x="519" y="455"/>
                  </a:lnTo>
                  <a:lnTo>
                    <a:pt x="531" y="467"/>
                  </a:lnTo>
                  <a:lnTo>
                    <a:pt x="546" y="479"/>
                  </a:lnTo>
                  <a:lnTo>
                    <a:pt x="558" y="492"/>
                  </a:lnTo>
                  <a:lnTo>
                    <a:pt x="572" y="502"/>
                  </a:lnTo>
                  <a:lnTo>
                    <a:pt x="587" y="514"/>
                  </a:lnTo>
                  <a:lnTo>
                    <a:pt x="599" y="527"/>
                  </a:lnTo>
                  <a:lnTo>
                    <a:pt x="612" y="539"/>
                  </a:lnTo>
                  <a:lnTo>
                    <a:pt x="626" y="551"/>
                  </a:lnTo>
                  <a:lnTo>
                    <a:pt x="641" y="562"/>
                  </a:lnTo>
                  <a:lnTo>
                    <a:pt x="653" y="574"/>
                  </a:lnTo>
                  <a:lnTo>
                    <a:pt x="665" y="586"/>
                  </a:lnTo>
                  <a:lnTo>
                    <a:pt x="680" y="599"/>
                  </a:lnTo>
                  <a:lnTo>
                    <a:pt x="692" y="609"/>
                  </a:lnTo>
                  <a:lnTo>
                    <a:pt x="707" y="621"/>
                  </a:lnTo>
                  <a:lnTo>
                    <a:pt x="719" y="634"/>
                  </a:lnTo>
                  <a:lnTo>
                    <a:pt x="732" y="646"/>
                  </a:lnTo>
                  <a:lnTo>
                    <a:pt x="746" y="656"/>
                  </a:lnTo>
                  <a:lnTo>
                    <a:pt x="759" y="669"/>
                  </a:lnTo>
                  <a:lnTo>
                    <a:pt x="771" y="679"/>
                  </a:lnTo>
                  <a:lnTo>
                    <a:pt x="783" y="691"/>
                  </a:lnTo>
                  <a:lnTo>
                    <a:pt x="798" y="702"/>
                  </a:lnTo>
                  <a:lnTo>
                    <a:pt x="810" y="714"/>
                  </a:lnTo>
                  <a:lnTo>
                    <a:pt x="823" y="724"/>
                  </a:lnTo>
                  <a:lnTo>
                    <a:pt x="835" y="735"/>
                  </a:lnTo>
                  <a:lnTo>
                    <a:pt x="845" y="747"/>
                  </a:lnTo>
                  <a:lnTo>
                    <a:pt x="858" y="757"/>
                  </a:lnTo>
                  <a:lnTo>
                    <a:pt x="870" y="768"/>
                  </a:lnTo>
                  <a:lnTo>
                    <a:pt x="883" y="778"/>
                  </a:lnTo>
                  <a:lnTo>
                    <a:pt x="893" y="788"/>
                  </a:lnTo>
                  <a:lnTo>
                    <a:pt x="905" y="798"/>
                  </a:lnTo>
                  <a:lnTo>
                    <a:pt x="916" y="809"/>
                  </a:lnTo>
                  <a:lnTo>
                    <a:pt x="928" y="819"/>
                  </a:lnTo>
                  <a:lnTo>
                    <a:pt x="938" y="829"/>
                  </a:lnTo>
                  <a:lnTo>
                    <a:pt x="949" y="840"/>
                  </a:lnTo>
                  <a:lnTo>
                    <a:pt x="959" y="848"/>
                  </a:lnTo>
                  <a:lnTo>
                    <a:pt x="969" y="858"/>
                  </a:lnTo>
                  <a:lnTo>
                    <a:pt x="980" y="866"/>
                  </a:lnTo>
                  <a:lnTo>
                    <a:pt x="990" y="877"/>
                  </a:lnTo>
                  <a:lnTo>
                    <a:pt x="1000" y="885"/>
                  </a:lnTo>
                  <a:lnTo>
                    <a:pt x="1009" y="893"/>
                  </a:lnTo>
                  <a:lnTo>
                    <a:pt x="1019" y="903"/>
                  </a:lnTo>
                  <a:lnTo>
                    <a:pt x="1027" y="912"/>
                  </a:lnTo>
                  <a:lnTo>
                    <a:pt x="1038" y="918"/>
                  </a:lnTo>
                  <a:lnTo>
                    <a:pt x="1046" y="926"/>
                  </a:lnTo>
                  <a:lnTo>
                    <a:pt x="1054" y="934"/>
                  </a:lnTo>
                  <a:lnTo>
                    <a:pt x="1062" y="943"/>
                  </a:lnTo>
                  <a:lnTo>
                    <a:pt x="1069" y="949"/>
                  </a:lnTo>
                  <a:lnTo>
                    <a:pt x="1077" y="957"/>
                  </a:lnTo>
                  <a:lnTo>
                    <a:pt x="1085" y="963"/>
                  </a:lnTo>
                  <a:lnTo>
                    <a:pt x="1091" y="969"/>
                  </a:lnTo>
                  <a:lnTo>
                    <a:pt x="1097" y="976"/>
                  </a:lnTo>
                  <a:lnTo>
                    <a:pt x="1104" y="982"/>
                  </a:lnTo>
                  <a:lnTo>
                    <a:pt x="1116" y="992"/>
                  </a:lnTo>
                  <a:lnTo>
                    <a:pt x="1126" y="1002"/>
                  </a:lnTo>
                  <a:lnTo>
                    <a:pt x="1135" y="1013"/>
                  </a:lnTo>
                  <a:lnTo>
                    <a:pt x="1143" y="1019"/>
                  </a:lnTo>
                  <a:lnTo>
                    <a:pt x="1153" y="1031"/>
                  </a:lnTo>
                  <a:lnTo>
                    <a:pt x="1159" y="1037"/>
                  </a:lnTo>
                  <a:lnTo>
                    <a:pt x="1168" y="1087"/>
                  </a:lnTo>
                  <a:lnTo>
                    <a:pt x="1162" y="1093"/>
                  </a:lnTo>
                  <a:lnTo>
                    <a:pt x="1153" y="1097"/>
                  </a:lnTo>
                  <a:lnTo>
                    <a:pt x="1124" y="1097"/>
                  </a:lnTo>
                  <a:lnTo>
                    <a:pt x="1106" y="1089"/>
                  </a:lnTo>
                  <a:lnTo>
                    <a:pt x="1095" y="1081"/>
                  </a:lnTo>
                  <a:lnTo>
                    <a:pt x="1085" y="1070"/>
                  </a:lnTo>
                  <a:lnTo>
                    <a:pt x="1075" y="1060"/>
                  </a:lnTo>
                  <a:lnTo>
                    <a:pt x="1064" y="1046"/>
                  </a:lnTo>
                  <a:lnTo>
                    <a:pt x="1044" y="1019"/>
                  </a:lnTo>
                  <a:lnTo>
                    <a:pt x="1023" y="990"/>
                  </a:lnTo>
                  <a:lnTo>
                    <a:pt x="1017" y="982"/>
                  </a:lnTo>
                  <a:lnTo>
                    <a:pt x="1013" y="976"/>
                  </a:lnTo>
                  <a:lnTo>
                    <a:pt x="1007" y="967"/>
                  </a:lnTo>
                  <a:lnTo>
                    <a:pt x="1000" y="961"/>
                  </a:lnTo>
                  <a:lnTo>
                    <a:pt x="996" y="955"/>
                  </a:lnTo>
                  <a:lnTo>
                    <a:pt x="990" y="949"/>
                  </a:lnTo>
                  <a:lnTo>
                    <a:pt x="980" y="938"/>
                  </a:lnTo>
                  <a:lnTo>
                    <a:pt x="967" y="928"/>
                  </a:lnTo>
                  <a:lnTo>
                    <a:pt x="957" y="920"/>
                  </a:lnTo>
                  <a:lnTo>
                    <a:pt x="947" y="916"/>
                  </a:lnTo>
                  <a:lnTo>
                    <a:pt x="934" y="912"/>
                  </a:lnTo>
                  <a:lnTo>
                    <a:pt x="911" y="906"/>
                  </a:lnTo>
                  <a:lnTo>
                    <a:pt x="868" y="899"/>
                  </a:lnTo>
                  <a:lnTo>
                    <a:pt x="831" y="885"/>
                  </a:lnTo>
                  <a:lnTo>
                    <a:pt x="806" y="846"/>
                  </a:lnTo>
                  <a:lnTo>
                    <a:pt x="796" y="817"/>
                  </a:lnTo>
                  <a:lnTo>
                    <a:pt x="787" y="792"/>
                  </a:lnTo>
                  <a:lnTo>
                    <a:pt x="779" y="768"/>
                  </a:lnTo>
                  <a:lnTo>
                    <a:pt x="771" y="747"/>
                  </a:lnTo>
                  <a:lnTo>
                    <a:pt x="763" y="728"/>
                  </a:lnTo>
                  <a:lnTo>
                    <a:pt x="752" y="714"/>
                  </a:lnTo>
                  <a:lnTo>
                    <a:pt x="742" y="706"/>
                  </a:lnTo>
                  <a:lnTo>
                    <a:pt x="730" y="704"/>
                  </a:lnTo>
                  <a:lnTo>
                    <a:pt x="703" y="698"/>
                  </a:lnTo>
                  <a:lnTo>
                    <a:pt x="676" y="685"/>
                  </a:lnTo>
                  <a:lnTo>
                    <a:pt x="655" y="675"/>
                  </a:lnTo>
                  <a:lnTo>
                    <a:pt x="645" y="669"/>
                  </a:lnTo>
                  <a:lnTo>
                    <a:pt x="628" y="619"/>
                  </a:lnTo>
                  <a:lnTo>
                    <a:pt x="546" y="595"/>
                  </a:lnTo>
                  <a:lnTo>
                    <a:pt x="537" y="588"/>
                  </a:lnTo>
                  <a:lnTo>
                    <a:pt x="529" y="580"/>
                  </a:lnTo>
                  <a:lnTo>
                    <a:pt x="519" y="570"/>
                  </a:lnTo>
                  <a:lnTo>
                    <a:pt x="506" y="558"/>
                  </a:lnTo>
                  <a:lnTo>
                    <a:pt x="498" y="551"/>
                  </a:lnTo>
                  <a:lnTo>
                    <a:pt x="492" y="545"/>
                  </a:lnTo>
                  <a:lnTo>
                    <a:pt x="484" y="537"/>
                  </a:lnTo>
                  <a:lnTo>
                    <a:pt x="475" y="529"/>
                  </a:lnTo>
                  <a:lnTo>
                    <a:pt x="467" y="523"/>
                  </a:lnTo>
                  <a:lnTo>
                    <a:pt x="459" y="514"/>
                  </a:lnTo>
                  <a:lnTo>
                    <a:pt x="453" y="506"/>
                  </a:lnTo>
                  <a:lnTo>
                    <a:pt x="444" y="498"/>
                  </a:lnTo>
                  <a:lnTo>
                    <a:pt x="436" y="492"/>
                  </a:lnTo>
                  <a:lnTo>
                    <a:pt x="428" y="483"/>
                  </a:lnTo>
                  <a:lnTo>
                    <a:pt x="420" y="475"/>
                  </a:lnTo>
                  <a:lnTo>
                    <a:pt x="413" y="467"/>
                  </a:lnTo>
                  <a:lnTo>
                    <a:pt x="407" y="459"/>
                  </a:lnTo>
                  <a:lnTo>
                    <a:pt x="399" y="453"/>
                  </a:lnTo>
                  <a:lnTo>
                    <a:pt x="368" y="409"/>
                  </a:lnTo>
                  <a:lnTo>
                    <a:pt x="362" y="391"/>
                  </a:lnTo>
                  <a:lnTo>
                    <a:pt x="345" y="366"/>
                  </a:lnTo>
                  <a:lnTo>
                    <a:pt x="324" y="333"/>
                  </a:lnTo>
                  <a:lnTo>
                    <a:pt x="312" y="317"/>
                  </a:lnTo>
                  <a:lnTo>
                    <a:pt x="306" y="306"/>
                  </a:lnTo>
                  <a:lnTo>
                    <a:pt x="298" y="298"/>
                  </a:lnTo>
                  <a:lnTo>
                    <a:pt x="291" y="290"/>
                  </a:lnTo>
                  <a:lnTo>
                    <a:pt x="283" y="282"/>
                  </a:lnTo>
                  <a:lnTo>
                    <a:pt x="277" y="273"/>
                  </a:lnTo>
                  <a:lnTo>
                    <a:pt x="269" y="265"/>
                  </a:lnTo>
                  <a:lnTo>
                    <a:pt x="262" y="257"/>
                  </a:lnTo>
                  <a:lnTo>
                    <a:pt x="254" y="249"/>
                  </a:lnTo>
                  <a:lnTo>
                    <a:pt x="248" y="243"/>
                  </a:lnTo>
                  <a:lnTo>
                    <a:pt x="240" y="234"/>
                  </a:lnTo>
                  <a:lnTo>
                    <a:pt x="231" y="228"/>
                  </a:lnTo>
                  <a:lnTo>
                    <a:pt x="225" y="222"/>
                  </a:lnTo>
                  <a:lnTo>
                    <a:pt x="211" y="212"/>
                  </a:lnTo>
                  <a:lnTo>
                    <a:pt x="196" y="206"/>
                  </a:lnTo>
                  <a:lnTo>
                    <a:pt x="184" y="199"/>
                  </a:lnTo>
                  <a:lnTo>
                    <a:pt x="157" y="191"/>
                  </a:lnTo>
                  <a:lnTo>
                    <a:pt x="145" y="185"/>
                  </a:lnTo>
                  <a:lnTo>
                    <a:pt x="130" y="177"/>
                  </a:lnTo>
                  <a:lnTo>
                    <a:pt x="118" y="168"/>
                  </a:lnTo>
                  <a:lnTo>
                    <a:pt x="103" y="160"/>
                  </a:lnTo>
                  <a:lnTo>
                    <a:pt x="91" y="152"/>
                  </a:lnTo>
                  <a:lnTo>
                    <a:pt x="79" y="144"/>
                  </a:lnTo>
                  <a:lnTo>
                    <a:pt x="68" y="136"/>
                  </a:lnTo>
                  <a:lnTo>
                    <a:pt x="58" y="127"/>
                  </a:lnTo>
                  <a:lnTo>
                    <a:pt x="50" y="119"/>
                  </a:lnTo>
                  <a:lnTo>
                    <a:pt x="41" y="113"/>
                  </a:lnTo>
                  <a:lnTo>
                    <a:pt x="31" y="103"/>
                  </a:lnTo>
                  <a:lnTo>
                    <a:pt x="27" y="10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33"/>
            <p:cNvSpPr/>
            <p:nvPr/>
          </p:nvSpPr>
          <p:spPr>
            <a:xfrm>
              <a:off x="7345800" y="3718080"/>
              <a:ext cx="41040" cy="43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51" h="159">
                  <a:moveTo>
                    <a:pt x="0" y="0"/>
                  </a:moveTo>
                  <a:lnTo>
                    <a:pt x="25" y="7"/>
                  </a:lnTo>
                  <a:lnTo>
                    <a:pt x="48" y="13"/>
                  </a:lnTo>
                  <a:lnTo>
                    <a:pt x="77" y="23"/>
                  </a:lnTo>
                  <a:lnTo>
                    <a:pt x="104" y="35"/>
                  </a:lnTo>
                  <a:lnTo>
                    <a:pt x="129" y="50"/>
                  </a:lnTo>
                  <a:lnTo>
                    <a:pt x="151" y="85"/>
                  </a:lnTo>
                  <a:lnTo>
                    <a:pt x="149" y="101"/>
                  </a:lnTo>
                  <a:lnTo>
                    <a:pt x="139" y="118"/>
                  </a:lnTo>
                  <a:lnTo>
                    <a:pt x="131" y="124"/>
                  </a:lnTo>
                  <a:lnTo>
                    <a:pt x="122" y="130"/>
                  </a:lnTo>
                  <a:lnTo>
                    <a:pt x="114" y="136"/>
                  </a:lnTo>
                  <a:lnTo>
                    <a:pt x="106" y="140"/>
                  </a:lnTo>
                  <a:lnTo>
                    <a:pt x="89" y="149"/>
                  </a:lnTo>
                  <a:lnTo>
                    <a:pt x="75" y="155"/>
                  </a:lnTo>
                  <a:lnTo>
                    <a:pt x="60" y="159"/>
                  </a:lnTo>
                  <a:lnTo>
                    <a:pt x="44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34"/>
            <p:cNvSpPr/>
            <p:nvPr/>
          </p:nvSpPr>
          <p:spPr>
            <a:xfrm>
              <a:off x="6964560" y="3873960"/>
              <a:ext cx="44280" cy="8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63" h="33">
                  <a:moveTo>
                    <a:pt x="0" y="33"/>
                  </a:moveTo>
                  <a:lnTo>
                    <a:pt x="145" y="20"/>
                  </a:lnTo>
                  <a:lnTo>
                    <a:pt x="163" y="0"/>
                  </a:lnTo>
                  <a:lnTo>
                    <a:pt x="116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35"/>
            <p:cNvSpPr/>
            <p:nvPr/>
          </p:nvSpPr>
          <p:spPr>
            <a:xfrm>
              <a:off x="6631200" y="4007880"/>
              <a:ext cx="41040" cy="27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51" h="101">
                  <a:moveTo>
                    <a:pt x="0" y="0"/>
                  </a:moveTo>
                  <a:lnTo>
                    <a:pt x="9" y="8"/>
                  </a:lnTo>
                  <a:lnTo>
                    <a:pt x="15" y="16"/>
                  </a:lnTo>
                  <a:lnTo>
                    <a:pt x="25" y="27"/>
                  </a:lnTo>
                  <a:lnTo>
                    <a:pt x="31" y="31"/>
                  </a:lnTo>
                  <a:lnTo>
                    <a:pt x="38" y="37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4" y="64"/>
                  </a:lnTo>
                  <a:lnTo>
                    <a:pt x="73" y="70"/>
                  </a:lnTo>
                  <a:lnTo>
                    <a:pt x="81" y="76"/>
                  </a:lnTo>
                  <a:lnTo>
                    <a:pt x="98" y="86"/>
                  </a:lnTo>
                  <a:lnTo>
                    <a:pt x="110" y="94"/>
                  </a:lnTo>
                  <a:lnTo>
                    <a:pt x="133" y="101"/>
                  </a:lnTo>
                  <a:lnTo>
                    <a:pt x="151" y="101"/>
                  </a:lnTo>
                  <a:lnTo>
                    <a:pt x="129" y="70"/>
                  </a:lnTo>
                  <a:lnTo>
                    <a:pt x="56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36"/>
            <p:cNvSpPr/>
            <p:nvPr/>
          </p:nvSpPr>
          <p:spPr>
            <a:xfrm>
              <a:off x="6957360" y="3983040"/>
              <a:ext cx="35640" cy="216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32" h="80">
                  <a:moveTo>
                    <a:pt x="33" y="0"/>
                  </a:moveTo>
                  <a:lnTo>
                    <a:pt x="52" y="8"/>
                  </a:lnTo>
                  <a:lnTo>
                    <a:pt x="70" y="17"/>
                  </a:lnTo>
                  <a:lnTo>
                    <a:pt x="89" y="27"/>
                  </a:lnTo>
                  <a:lnTo>
                    <a:pt x="110" y="37"/>
                  </a:lnTo>
                  <a:lnTo>
                    <a:pt x="124" y="50"/>
                  </a:lnTo>
                  <a:lnTo>
                    <a:pt x="132" y="60"/>
                  </a:lnTo>
                  <a:lnTo>
                    <a:pt x="132" y="70"/>
                  </a:lnTo>
                  <a:lnTo>
                    <a:pt x="124" y="76"/>
                  </a:lnTo>
                  <a:lnTo>
                    <a:pt x="116" y="80"/>
                  </a:lnTo>
                  <a:lnTo>
                    <a:pt x="99" y="80"/>
                  </a:lnTo>
                  <a:lnTo>
                    <a:pt x="81" y="76"/>
                  </a:lnTo>
                  <a:lnTo>
                    <a:pt x="0" y="19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7"/>
            <p:cNvSpPr/>
            <p:nvPr/>
          </p:nvSpPr>
          <p:spPr>
            <a:xfrm>
              <a:off x="6924600" y="3992040"/>
              <a:ext cx="34560" cy="183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28" h="68">
                  <a:moveTo>
                    <a:pt x="0" y="0"/>
                  </a:moveTo>
                  <a:lnTo>
                    <a:pt x="60" y="0"/>
                  </a:lnTo>
                  <a:lnTo>
                    <a:pt x="128" y="58"/>
                  </a:lnTo>
                  <a:lnTo>
                    <a:pt x="75" y="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38"/>
            <p:cNvSpPr/>
            <p:nvPr/>
          </p:nvSpPr>
          <p:spPr>
            <a:xfrm>
              <a:off x="6888240" y="3996000"/>
              <a:ext cx="38880" cy="2304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3" h="86">
                  <a:moveTo>
                    <a:pt x="41" y="0"/>
                  </a:moveTo>
                  <a:lnTo>
                    <a:pt x="95" y="51"/>
                  </a:lnTo>
                  <a:lnTo>
                    <a:pt x="143" y="57"/>
                  </a:lnTo>
                  <a:lnTo>
                    <a:pt x="132" y="86"/>
                  </a:lnTo>
                  <a:lnTo>
                    <a:pt x="85" y="76"/>
                  </a:lnTo>
                  <a:lnTo>
                    <a:pt x="0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39"/>
            <p:cNvSpPr/>
            <p:nvPr/>
          </p:nvSpPr>
          <p:spPr>
            <a:xfrm>
              <a:off x="7014600" y="3972600"/>
              <a:ext cx="23400" cy="19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7" h="72">
                  <a:moveTo>
                    <a:pt x="0" y="0"/>
                  </a:moveTo>
                  <a:lnTo>
                    <a:pt x="46" y="72"/>
                  </a:lnTo>
                  <a:lnTo>
                    <a:pt x="66" y="72"/>
                  </a:lnTo>
                  <a:lnTo>
                    <a:pt x="81" y="68"/>
                  </a:lnTo>
                  <a:lnTo>
                    <a:pt x="87" y="54"/>
                  </a:lnTo>
                  <a:lnTo>
                    <a:pt x="81" y="35"/>
                  </a:lnTo>
                  <a:lnTo>
                    <a:pt x="68" y="17"/>
                  </a:lnTo>
                  <a:lnTo>
                    <a:pt x="62" y="10"/>
                  </a:lnTo>
                  <a:lnTo>
                    <a:pt x="56" y="4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40"/>
            <p:cNvSpPr/>
            <p:nvPr/>
          </p:nvSpPr>
          <p:spPr>
            <a:xfrm>
              <a:off x="6853680" y="3997080"/>
              <a:ext cx="27360" cy="21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1" h="82">
                  <a:moveTo>
                    <a:pt x="37" y="82"/>
                  </a:moveTo>
                  <a:lnTo>
                    <a:pt x="0" y="24"/>
                  </a:lnTo>
                  <a:lnTo>
                    <a:pt x="29" y="0"/>
                  </a:lnTo>
                  <a:lnTo>
                    <a:pt x="101" y="68"/>
                  </a:lnTo>
                  <a:lnTo>
                    <a:pt x="54" y="61"/>
                  </a:lnTo>
                  <a:lnTo>
                    <a:pt x="37" y="82"/>
                  </a:lnTo>
                  <a:lnTo>
                    <a:pt x="3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41"/>
            <p:cNvSpPr/>
            <p:nvPr/>
          </p:nvSpPr>
          <p:spPr>
            <a:xfrm>
              <a:off x="6465240" y="3168360"/>
              <a:ext cx="118440" cy="388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436" h="1428">
                  <a:moveTo>
                    <a:pt x="0" y="31"/>
                  </a:moveTo>
                  <a:lnTo>
                    <a:pt x="2" y="138"/>
                  </a:lnTo>
                  <a:lnTo>
                    <a:pt x="6" y="255"/>
                  </a:lnTo>
                  <a:lnTo>
                    <a:pt x="12" y="397"/>
                  </a:lnTo>
                  <a:lnTo>
                    <a:pt x="18" y="473"/>
                  </a:lnTo>
                  <a:lnTo>
                    <a:pt x="24" y="553"/>
                  </a:lnTo>
                  <a:lnTo>
                    <a:pt x="33" y="632"/>
                  </a:lnTo>
                  <a:lnTo>
                    <a:pt x="43" y="708"/>
                  </a:lnTo>
                  <a:lnTo>
                    <a:pt x="53" y="782"/>
                  </a:lnTo>
                  <a:lnTo>
                    <a:pt x="68" y="852"/>
                  </a:lnTo>
                  <a:lnTo>
                    <a:pt x="76" y="885"/>
                  </a:lnTo>
                  <a:lnTo>
                    <a:pt x="84" y="916"/>
                  </a:lnTo>
                  <a:lnTo>
                    <a:pt x="93" y="945"/>
                  </a:lnTo>
                  <a:lnTo>
                    <a:pt x="101" y="971"/>
                  </a:lnTo>
                  <a:lnTo>
                    <a:pt x="111" y="998"/>
                  </a:lnTo>
                  <a:lnTo>
                    <a:pt x="122" y="1023"/>
                  </a:lnTo>
                  <a:lnTo>
                    <a:pt x="130" y="1048"/>
                  </a:lnTo>
                  <a:lnTo>
                    <a:pt x="140" y="1070"/>
                  </a:lnTo>
                  <a:lnTo>
                    <a:pt x="151" y="1093"/>
                  </a:lnTo>
                  <a:lnTo>
                    <a:pt x="159" y="1116"/>
                  </a:lnTo>
                  <a:lnTo>
                    <a:pt x="169" y="1138"/>
                  </a:lnTo>
                  <a:lnTo>
                    <a:pt x="180" y="1159"/>
                  </a:lnTo>
                  <a:lnTo>
                    <a:pt x="188" y="1179"/>
                  </a:lnTo>
                  <a:lnTo>
                    <a:pt x="198" y="1200"/>
                  </a:lnTo>
                  <a:lnTo>
                    <a:pt x="206" y="1218"/>
                  </a:lnTo>
                  <a:lnTo>
                    <a:pt x="217" y="1237"/>
                  </a:lnTo>
                  <a:lnTo>
                    <a:pt x="235" y="1272"/>
                  </a:lnTo>
                  <a:lnTo>
                    <a:pt x="254" y="1303"/>
                  </a:lnTo>
                  <a:lnTo>
                    <a:pt x="270" y="1332"/>
                  </a:lnTo>
                  <a:lnTo>
                    <a:pt x="287" y="1356"/>
                  </a:lnTo>
                  <a:lnTo>
                    <a:pt x="301" y="1377"/>
                  </a:lnTo>
                  <a:lnTo>
                    <a:pt x="310" y="1387"/>
                  </a:lnTo>
                  <a:lnTo>
                    <a:pt x="316" y="1396"/>
                  </a:lnTo>
                  <a:lnTo>
                    <a:pt x="324" y="1404"/>
                  </a:lnTo>
                  <a:lnTo>
                    <a:pt x="330" y="1410"/>
                  </a:lnTo>
                  <a:lnTo>
                    <a:pt x="343" y="1420"/>
                  </a:lnTo>
                  <a:lnTo>
                    <a:pt x="353" y="1426"/>
                  </a:lnTo>
                  <a:lnTo>
                    <a:pt x="363" y="1428"/>
                  </a:lnTo>
                  <a:lnTo>
                    <a:pt x="394" y="1424"/>
                  </a:lnTo>
                  <a:lnTo>
                    <a:pt x="417" y="1414"/>
                  </a:lnTo>
                  <a:lnTo>
                    <a:pt x="432" y="1404"/>
                  </a:lnTo>
                  <a:lnTo>
                    <a:pt x="436" y="1400"/>
                  </a:lnTo>
                  <a:lnTo>
                    <a:pt x="419" y="1373"/>
                  </a:lnTo>
                  <a:lnTo>
                    <a:pt x="405" y="1346"/>
                  </a:lnTo>
                  <a:lnTo>
                    <a:pt x="384" y="1315"/>
                  </a:lnTo>
                  <a:lnTo>
                    <a:pt x="368" y="1288"/>
                  </a:lnTo>
                  <a:lnTo>
                    <a:pt x="355" y="1266"/>
                  </a:lnTo>
                  <a:lnTo>
                    <a:pt x="341" y="1239"/>
                  </a:lnTo>
                  <a:lnTo>
                    <a:pt x="324" y="1206"/>
                  </a:lnTo>
                  <a:lnTo>
                    <a:pt x="306" y="1169"/>
                  </a:lnTo>
                  <a:lnTo>
                    <a:pt x="295" y="1151"/>
                  </a:lnTo>
                  <a:lnTo>
                    <a:pt x="285" y="1130"/>
                  </a:lnTo>
                  <a:lnTo>
                    <a:pt x="277" y="1107"/>
                  </a:lnTo>
                  <a:lnTo>
                    <a:pt x="266" y="1085"/>
                  </a:lnTo>
                  <a:lnTo>
                    <a:pt x="256" y="1062"/>
                  </a:lnTo>
                  <a:lnTo>
                    <a:pt x="246" y="1039"/>
                  </a:lnTo>
                  <a:lnTo>
                    <a:pt x="235" y="1015"/>
                  </a:lnTo>
                  <a:lnTo>
                    <a:pt x="225" y="990"/>
                  </a:lnTo>
                  <a:lnTo>
                    <a:pt x="217" y="963"/>
                  </a:lnTo>
                  <a:lnTo>
                    <a:pt x="206" y="938"/>
                  </a:lnTo>
                  <a:lnTo>
                    <a:pt x="198" y="912"/>
                  </a:lnTo>
                  <a:lnTo>
                    <a:pt x="188" y="885"/>
                  </a:lnTo>
                  <a:lnTo>
                    <a:pt x="173" y="831"/>
                  </a:lnTo>
                  <a:lnTo>
                    <a:pt x="159" y="776"/>
                  </a:lnTo>
                  <a:lnTo>
                    <a:pt x="138" y="667"/>
                  </a:lnTo>
                  <a:lnTo>
                    <a:pt x="130" y="615"/>
                  </a:lnTo>
                  <a:lnTo>
                    <a:pt x="122" y="570"/>
                  </a:lnTo>
                  <a:lnTo>
                    <a:pt x="113" y="527"/>
                  </a:lnTo>
                  <a:lnTo>
                    <a:pt x="103" y="490"/>
                  </a:lnTo>
                  <a:lnTo>
                    <a:pt x="93" y="457"/>
                  </a:lnTo>
                  <a:lnTo>
                    <a:pt x="82" y="426"/>
                  </a:lnTo>
                  <a:lnTo>
                    <a:pt x="74" y="399"/>
                  </a:lnTo>
                  <a:lnTo>
                    <a:pt x="64" y="376"/>
                  </a:lnTo>
                  <a:lnTo>
                    <a:pt x="55" y="356"/>
                  </a:lnTo>
                  <a:lnTo>
                    <a:pt x="47" y="337"/>
                  </a:lnTo>
                  <a:lnTo>
                    <a:pt x="35" y="304"/>
                  </a:lnTo>
                  <a:lnTo>
                    <a:pt x="29" y="278"/>
                  </a:lnTo>
                  <a:lnTo>
                    <a:pt x="33" y="251"/>
                  </a:lnTo>
                  <a:lnTo>
                    <a:pt x="41" y="228"/>
                  </a:lnTo>
                  <a:lnTo>
                    <a:pt x="51" y="212"/>
                  </a:lnTo>
                  <a:lnTo>
                    <a:pt x="55" y="206"/>
                  </a:lnTo>
                  <a:lnTo>
                    <a:pt x="60" y="199"/>
                  </a:lnTo>
                  <a:lnTo>
                    <a:pt x="68" y="191"/>
                  </a:lnTo>
                  <a:lnTo>
                    <a:pt x="72" y="177"/>
                  </a:lnTo>
                  <a:lnTo>
                    <a:pt x="58" y="156"/>
                  </a:lnTo>
                  <a:lnTo>
                    <a:pt x="41" y="131"/>
                  </a:lnTo>
                  <a:lnTo>
                    <a:pt x="41" y="115"/>
                  </a:lnTo>
                  <a:lnTo>
                    <a:pt x="51" y="98"/>
                  </a:lnTo>
                  <a:lnTo>
                    <a:pt x="72" y="45"/>
                  </a:lnTo>
                  <a:lnTo>
                    <a:pt x="3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42"/>
            <p:cNvSpPr/>
            <p:nvPr/>
          </p:nvSpPr>
          <p:spPr>
            <a:xfrm>
              <a:off x="6460200" y="3108240"/>
              <a:ext cx="17640" cy="36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6" h="136">
                  <a:moveTo>
                    <a:pt x="27" y="0"/>
                  </a:moveTo>
                  <a:lnTo>
                    <a:pt x="19" y="19"/>
                  </a:lnTo>
                  <a:lnTo>
                    <a:pt x="6" y="62"/>
                  </a:lnTo>
                  <a:lnTo>
                    <a:pt x="0" y="107"/>
                  </a:lnTo>
                  <a:lnTo>
                    <a:pt x="4" y="126"/>
                  </a:lnTo>
                  <a:lnTo>
                    <a:pt x="8" y="130"/>
                  </a:lnTo>
                  <a:lnTo>
                    <a:pt x="15" y="134"/>
                  </a:lnTo>
                  <a:lnTo>
                    <a:pt x="29" y="136"/>
                  </a:lnTo>
                  <a:lnTo>
                    <a:pt x="39" y="132"/>
                  </a:lnTo>
                  <a:lnTo>
                    <a:pt x="56" y="116"/>
                  </a:lnTo>
                  <a:lnTo>
                    <a:pt x="66" y="85"/>
                  </a:lnTo>
                  <a:lnTo>
                    <a:pt x="48" y="52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43"/>
            <p:cNvSpPr/>
            <p:nvPr/>
          </p:nvSpPr>
          <p:spPr>
            <a:xfrm>
              <a:off x="6907320" y="3654360"/>
              <a:ext cx="108360" cy="234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99" h="86">
                  <a:moveTo>
                    <a:pt x="97" y="6"/>
                  </a:moveTo>
                  <a:lnTo>
                    <a:pt x="161" y="0"/>
                  </a:lnTo>
                  <a:lnTo>
                    <a:pt x="273" y="6"/>
                  </a:lnTo>
                  <a:lnTo>
                    <a:pt x="321" y="18"/>
                  </a:lnTo>
                  <a:lnTo>
                    <a:pt x="360" y="31"/>
                  </a:lnTo>
                  <a:lnTo>
                    <a:pt x="389" y="45"/>
                  </a:lnTo>
                  <a:lnTo>
                    <a:pt x="399" y="55"/>
                  </a:lnTo>
                  <a:lnTo>
                    <a:pt x="393" y="68"/>
                  </a:lnTo>
                  <a:lnTo>
                    <a:pt x="385" y="74"/>
                  </a:lnTo>
                  <a:lnTo>
                    <a:pt x="374" y="78"/>
                  </a:lnTo>
                  <a:lnTo>
                    <a:pt x="352" y="86"/>
                  </a:lnTo>
                  <a:lnTo>
                    <a:pt x="331" y="86"/>
                  </a:lnTo>
                  <a:lnTo>
                    <a:pt x="285" y="78"/>
                  </a:lnTo>
                  <a:lnTo>
                    <a:pt x="211" y="70"/>
                  </a:lnTo>
                  <a:lnTo>
                    <a:pt x="141" y="63"/>
                  </a:lnTo>
                  <a:lnTo>
                    <a:pt x="110" y="59"/>
                  </a:lnTo>
                  <a:lnTo>
                    <a:pt x="0" y="31"/>
                  </a:lnTo>
                  <a:lnTo>
                    <a:pt x="97" y="6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44"/>
            <p:cNvSpPr/>
            <p:nvPr/>
          </p:nvSpPr>
          <p:spPr>
            <a:xfrm>
              <a:off x="6615720" y="3728520"/>
              <a:ext cx="72720" cy="23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68" h="85">
                  <a:moveTo>
                    <a:pt x="0" y="23"/>
                  </a:moveTo>
                  <a:lnTo>
                    <a:pt x="6" y="29"/>
                  </a:lnTo>
                  <a:lnTo>
                    <a:pt x="12" y="35"/>
                  </a:lnTo>
                  <a:lnTo>
                    <a:pt x="20" y="44"/>
                  </a:lnTo>
                  <a:lnTo>
                    <a:pt x="31" y="52"/>
                  </a:lnTo>
                  <a:lnTo>
                    <a:pt x="41" y="60"/>
                  </a:lnTo>
                  <a:lnTo>
                    <a:pt x="53" y="66"/>
                  </a:lnTo>
                  <a:lnTo>
                    <a:pt x="66" y="70"/>
                  </a:lnTo>
                  <a:lnTo>
                    <a:pt x="105" y="75"/>
                  </a:lnTo>
                  <a:lnTo>
                    <a:pt x="161" y="83"/>
                  </a:lnTo>
                  <a:lnTo>
                    <a:pt x="217" y="85"/>
                  </a:lnTo>
                  <a:lnTo>
                    <a:pt x="235" y="81"/>
                  </a:lnTo>
                  <a:lnTo>
                    <a:pt x="248" y="73"/>
                  </a:lnTo>
                  <a:lnTo>
                    <a:pt x="264" y="38"/>
                  </a:lnTo>
                  <a:lnTo>
                    <a:pt x="268" y="19"/>
                  </a:lnTo>
                  <a:lnTo>
                    <a:pt x="161" y="27"/>
                  </a:lnTo>
                  <a:lnTo>
                    <a:pt x="66" y="0"/>
                  </a:lnTo>
                  <a:lnTo>
                    <a:pt x="55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45"/>
            <p:cNvSpPr/>
            <p:nvPr/>
          </p:nvSpPr>
          <p:spPr>
            <a:xfrm>
              <a:off x="6631560" y="3687120"/>
              <a:ext cx="48960" cy="23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80" h="85">
                  <a:moveTo>
                    <a:pt x="180" y="37"/>
                  </a:moveTo>
                  <a:lnTo>
                    <a:pt x="178" y="52"/>
                  </a:lnTo>
                  <a:lnTo>
                    <a:pt x="170" y="64"/>
                  </a:lnTo>
                  <a:lnTo>
                    <a:pt x="162" y="70"/>
                  </a:lnTo>
                  <a:lnTo>
                    <a:pt x="151" y="72"/>
                  </a:lnTo>
                  <a:lnTo>
                    <a:pt x="122" y="78"/>
                  </a:lnTo>
                  <a:lnTo>
                    <a:pt x="85" y="85"/>
                  </a:lnTo>
                  <a:lnTo>
                    <a:pt x="50" y="82"/>
                  </a:lnTo>
                  <a:lnTo>
                    <a:pt x="21" y="66"/>
                  </a:lnTo>
                  <a:lnTo>
                    <a:pt x="0" y="29"/>
                  </a:lnTo>
                  <a:lnTo>
                    <a:pt x="9" y="21"/>
                  </a:lnTo>
                  <a:lnTo>
                    <a:pt x="29" y="15"/>
                  </a:lnTo>
                  <a:lnTo>
                    <a:pt x="81" y="6"/>
                  </a:lnTo>
                  <a:lnTo>
                    <a:pt x="116" y="0"/>
                  </a:lnTo>
                  <a:lnTo>
                    <a:pt x="133" y="6"/>
                  </a:lnTo>
                  <a:lnTo>
                    <a:pt x="143" y="12"/>
                  </a:lnTo>
                  <a:lnTo>
                    <a:pt x="153" y="19"/>
                  </a:lnTo>
                  <a:lnTo>
                    <a:pt x="164" y="25"/>
                  </a:lnTo>
                  <a:lnTo>
                    <a:pt x="172" y="31"/>
                  </a:lnTo>
                  <a:lnTo>
                    <a:pt x="180" y="37"/>
                  </a:lnTo>
                  <a:lnTo>
                    <a:pt x="18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46"/>
            <p:cNvSpPr/>
            <p:nvPr/>
          </p:nvSpPr>
          <p:spPr>
            <a:xfrm>
              <a:off x="6926400" y="3601440"/>
              <a:ext cx="18720" cy="18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0" h="68">
                  <a:moveTo>
                    <a:pt x="68" y="23"/>
                  </a:moveTo>
                  <a:lnTo>
                    <a:pt x="55" y="15"/>
                  </a:lnTo>
                  <a:lnTo>
                    <a:pt x="43" y="10"/>
                  </a:lnTo>
                  <a:lnTo>
                    <a:pt x="28" y="4"/>
                  </a:lnTo>
                  <a:lnTo>
                    <a:pt x="6" y="0"/>
                  </a:lnTo>
                  <a:lnTo>
                    <a:pt x="0" y="6"/>
                  </a:lnTo>
                  <a:lnTo>
                    <a:pt x="2" y="19"/>
                  </a:lnTo>
                  <a:lnTo>
                    <a:pt x="12" y="45"/>
                  </a:lnTo>
                  <a:lnTo>
                    <a:pt x="22" y="62"/>
                  </a:lnTo>
                  <a:lnTo>
                    <a:pt x="28" y="66"/>
                  </a:lnTo>
                  <a:lnTo>
                    <a:pt x="35" y="68"/>
                  </a:lnTo>
                  <a:lnTo>
                    <a:pt x="53" y="66"/>
                  </a:lnTo>
                  <a:lnTo>
                    <a:pt x="68" y="54"/>
                  </a:lnTo>
                  <a:lnTo>
                    <a:pt x="70" y="39"/>
                  </a:lnTo>
                  <a:lnTo>
                    <a:pt x="68" y="23"/>
                  </a:lnTo>
                  <a:lnTo>
                    <a:pt x="6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47"/>
            <p:cNvSpPr/>
            <p:nvPr/>
          </p:nvSpPr>
          <p:spPr>
            <a:xfrm>
              <a:off x="6614640" y="3611880"/>
              <a:ext cx="21960" cy="20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81" h="76">
                  <a:moveTo>
                    <a:pt x="0" y="41"/>
                  </a:moveTo>
                  <a:lnTo>
                    <a:pt x="7" y="33"/>
                  </a:lnTo>
                  <a:lnTo>
                    <a:pt x="13" y="25"/>
                  </a:lnTo>
                  <a:lnTo>
                    <a:pt x="19" y="15"/>
                  </a:lnTo>
                  <a:lnTo>
                    <a:pt x="27" y="8"/>
                  </a:lnTo>
                  <a:lnTo>
                    <a:pt x="36" y="2"/>
                  </a:lnTo>
                  <a:lnTo>
                    <a:pt x="50" y="0"/>
                  </a:lnTo>
                  <a:lnTo>
                    <a:pt x="56" y="8"/>
                  </a:lnTo>
                  <a:lnTo>
                    <a:pt x="65" y="17"/>
                  </a:lnTo>
                  <a:lnTo>
                    <a:pt x="77" y="35"/>
                  </a:lnTo>
                  <a:lnTo>
                    <a:pt x="81" y="56"/>
                  </a:lnTo>
                  <a:lnTo>
                    <a:pt x="75" y="66"/>
                  </a:lnTo>
                  <a:lnTo>
                    <a:pt x="65" y="74"/>
                  </a:lnTo>
                  <a:lnTo>
                    <a:pt x="40" y="76"/>
                  </a:lnTo>
                  <a:lnTo>
                    <a:pt x="19" y="64"/>
                  </a:lnTo>
                  <a:lnTo>
                    <a:pt x="11" y="56"/>
                  </a:lnTo>
                  <a:lnTo>
                    <a:pt x="5" y="5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48"/>
            <p:cNvSpPr/>
            <p:nvPr/>
          </p:nvSpPr>
          <p:spPr>
            <a:xfrm>
              <a:off x="6873480" y="3723120"/>
              <a:ext cx="23040" cy="162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85" h="60">
                  <a:moveTo>
                    <a:pt x="0" y="0"/>
                  </a:moveTo>
                  <a:lnTo>
                    <a:pt x="56" y="6"/>
                  </a:lnTo>
                  <a:lnTo>
                    <a:pt x="83" y="16"/>
                  </a:lnTo>
                  <a:lnTo>
                    <a:pt x="85" y="20"/>
                  </a:lnTo>
                  <a:lnTo>
                    <a:pt x="79" y="29"/>
                  </a:lnTo>
                  <a:lnTo>
                    <a:pt x="58" y="37"/>
                  </a:lnTo>
                  <a:lnTo>
                    <a:pt x="46" y="41"/>
                  </a:lnTo>
                  <a:lnTo>
                    <a:pt x="40" y="43"/>
                  </a:lnTo>
                  <a:lnTo>
                    <a:pt x="40" y="49"/>
                  </a:lnTo>
                  <a:lnTo>
                    <a:pt x="33" y="55"/>
                  </a:lnTo>
                  <a:lnTo>
                    <a:pt x="2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49"/>
            <p:cNvSpPr/>
            <p:nvPr/>
          </p:nvSpPr>
          <p:spPr>
            <a:xfrm>
              <a:off x="6955560" y="3779280"/>
              <a:ext cx="21240" cy="111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9" h="41">
                  <a:moveTo>
                    <a:pt x="4" y="0"/>
                  </a:moveTo>
                  <a:lnTo>
                    <a:pt x="76" y="6"/>
                  </a:lnTo>
                  <a:lnTo>
                    <a:pt x="79" y="29"/>
                  </a:lnTo>
                  <a:lnTo>
                    <a:pt x="52" y="35"/>
                  </a:lnTo>
                  <a:lnTo>
                    <a:pt x="19" y="41"/>
                  </a:lnTo>
                  <a:lnTo>
                    <a:pt x="6" y="31"/>
                  </a:lnTo>
                  <a:lnTo>
                    <a:pt x="0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50"/>
            <p:cNvSpPr/>
            <p:nvPr/>
          </p:nvSpPr>
          <p:spPr>
            <a:xfrm>
              <a:off x="7025760" y="3786480"/>
              <a:ext cx="97560" cy="1548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60" h="57">
                  <a:moveTo>
                    <a:pt x="40" y="18"/>
                  </a:moveTo>
                  <a:lnTo>
                    <a:pt x="106" y="0"/>
                  </a:lnTo>
                  <a:lnTo>
                    <a:pt x="122" y="4"/>
                  </a:lnTo>
                  <a:lnTo>
                    <a:pt x="162" y="10"/>
                  </a:lnTo>
                  <a:lnTo>
                    <a:pt x="209" y="14"/>
                  </a:lnTo>
                  <a:lnTo>
                    <a:pt x="246" y="16"/>
                  </a:lnTo>
                  <a:lnTo>
                    <a:pt x="304" y="10"/>
                  </a:lnTo>
                  <a:lnTo>
                    <a:pt x="341" y="12"/>
                  </a:lnTo>
                  <a:lnTo>
                    <a:pt x="348" y="20"/>
                  </a:lnTo>
                  <a:lnTo>
                    <a:pt x="354" y="28"/>
                  </a:lnTo>
                  <a:lnTo>
                    <a:pt x="360" y="43"/>
                  </a:lnTo>
                  <a:lnTo>
                    <a:pt x="352" y="47"/>
                  </a:lnTo>
                  <a:lnTo>
                    <a:pt x="323" y="43"/>
                  </a:lnTo>
                  <a:lnTo>
                    <a:pt x="277" y="43"/>
                  </a:lnTo>
                  <a:lnTo>
                    <a:pt x="248" y="49"/>
                  </a:lnTo>
                  <a:lnTo>
                    <a:pt x="193" y="39"/>
                  </a:lnTo>
                  <a:lnTo>
                    <a:pt x="155" y="30"/>
                  </a:lnTo>
                  <a:lnTo>
                    <a:pt x="131" y="32"/>
                  </a:lnTo>
                  <a:lnTo>
                    <a:pt x="120" y="41"/>
                  </a:lnTo>
                  <a:lnTo>
                    <a:pt x="112" y="49"/>
                  </a:lnTo>
                  <a:lnTo>
                    <a:pt x="106" y="57"/>
                  </a:lnTo>
                  <a:lnTo>
                    <a:pt x="100" y="57"/>
                  </a:lnTo>
                  <a:lnTo>
                    <a:pt x="46" y="53"/>
                  </a:lnTo>
                  <a:lnTo>
                    <a:pt x="0" y="51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51"/>
            <p:cNvSpPr/>
            <p:nvPr/>
          </p:nvSpPr>
          <p:spPr>
            <a:xfrm>
              <a:off x="7104240" y="3930480"/>
              <a:ext cx="85320" cy="248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14" h="92">
                  <a:moveTo>
                    <a:pt x="0" y="70"/>
                  </a:moveTo>
                  <a:lnTo>
                    <a:pt x="18" y="66"/>
                  </a:lnTo>
                  <a:lnTo>
                    <a:pt x="60" y="55"/>
                  </a:lnTo>
                  <a:lnTo>
                    <a:pt x="107" y="47"/>
                  </a:lnTo>
                  <a:lnTo>
                    <a:pt x="140" y="43"/>
                  </a:lnTo>
                  <a:lnTo>
                    <a:pt x="177" y="37"/>
                  </a:lnTo>
                  <a:lnTo>
                    <a:pt x="206" y="28"/>
                  </a:lnTo>
                  <a:lnTo>
                    <a:pt x="237" y="22"/>
                  </a:lnTo>
                  <a:lnTo>
                    <a:pt x="266" y="14"/>
                  </a:lnTo>
                  <a:lnTo>
                    <a:pt x="291" y="8"/>
                  </a:lnTo>
                  <a:lnTo>
                    <a:pt x="314" y="0"/>
                  </a:lnTo>
                  <a:lnTo>
                    <a:pt x="287" y="31"/>
                  </a:lnTo>
                  <a:lnTo>
                    <a:pt x="258" y="41"/>
                  </a:lnTo>
                  <a:lnTo>
                    <a:pt x="231" y="49"/>
                  </a:lnTo>
                  <a:lnTo>
                    <a:pt x="204" y="61"/>
                  </a:lnTo>
                  <a:lnTo>
                    <a:pt x="179" y="70"/>
                  </a:lnTo>
                  <a:lnTo>
                    <a:pt x="155" y="70"/>
                  </a:lnTo>
                  <a:lnTo>
                    <a:pt x="132" y="70"/>
                  </a:lnTo>
                  <a:lnTo>
                    <a:pt x="76" y="70"/>
                  </a:lnTo>
                  <a:lnTo>
                    <a:pt x="41" y="92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52"/>
            <p:cNvSpPr/>
            <p:nvPr/>
          </p:nvSpPr>
          <p:spPr>
            <a:xfrm>
              <a:off x="7083000" y="3975840"/>
              <a:ext cx="19800" cy="1512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73" h="56">
                  <a:moveTo>
                    <a:pt x="23" y="0"/>
                  </a:moveTo>
                  <a:lnTo>
                    <a:pt x="31" y="5"/>
                  </a:lnTo>
                  <a:lnTo>
                    <a:pt x="48" y="13"/>
                  </a:lnTo>
                  <a:lnTo>
                    <a:pt x="64" y="27"/>
                  </a:lnTo>
                  <a:lnTo>
                    <a:pt x="73" y="44"/>
                  </a:lnTo>
                  <a:lnTo>
                    <a:pt x="68" y="54"/>
                  </a:lnTo>
                  <a:lnTo>
                    <a:pt x="58" y="56"/>
                  </a:lnTo>
                  <a:lnTo>
                    <a:pt x="42" y="54"/>
                  </a:lnTo>
                  <a:lnTo>
                    <a:pt x="0" y="3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53"/>
            <p:cNvSpPr/>
            <p:nvPr/>
          </p:nvSpPr>
          <p:spPr>
            <a:xfrm>
              <a:off x="7088400" y="4024800"/>
              <a:ext cx="24480" cy="97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91" h="37">
                  <a:moveTo>
                    <a:pt x="12" y="0"/>
                  </a:moveTo>
                  <a:lnTo>
                    <a:pt x="0" y="18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27" y="32"/>
                  </a:lnTo>
                  <a:lnTo>
                    <a:pt x="45" y="37"/>
                  </a:lnTo>
                  <a:lnTo>
                    <a:pt x="91" y="2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54"/>
            <p:cNvSpPr/>
            <p:nvPr/>
          </p:nvSpPr>
          <p:spPr>
            <a:xfrm>
              <a:off x="7098840" y="404172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05" h="42">
                  <a:moveTo>
                    <a:pt x="0" y="0"/>
                  </a:moveTo>
                  <a:lnTo>
                    <a:pt x="6" y="35"/>
                  </a:lnTo>
                  <a:lnTo>
                    <a:pt x="48" y="42"/>
                  </a:lnTo>
                  <a:lnTo>
                    <a:pt x="79" y="39"/>
                  </a:lnTo>
                  <a:lnTo>
                    <a:pt x="105" y="35"/>
                  </a:lnTo>
                  <a:lnTo>
                    <a:pt x="68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55"/>
            <p:cNvSpPr/>
            <p:nvPr/>
          </p:nvSpPr>
          <p:spPr>
            <a:xfrm>
              <a:off x="7089480" y="4061520"/>
              <a:ext cx="14400" cy="13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54" h="50">
                  <a:moveTo>
                    <a:pt x="23" y="15"/>
                  </a:moveTo>
                  <a:lnTo>
                    <a:pt x="27" y="13"/>
                  </a:lnTo>
                  <a:lnTo>
                    <a:pt x="37" y="5"/>
                  </a:lnTo>
                  <a:lnTo>
                    <a:pt x="47" y="0"/>
                  </a:lnTo>
                  <a:lnTo>
                    <a:pt x="54" y="5"/>
                  </a:lnTo>
                  <a:lnTo>
                    <a:pt x="54" y="15"/>
                  </a:lnTo>
                  <a:lnTo>
                    <a:pt x="50" y="25"/>
                  </a:lnTo>
                  <a:lnTo>
                    <a:pt x="43" y="31"/>
                  </a:lnTo>
                  <a:lnTo>
                    <a:pt x="41" y="33"/>
                  </a:lnTo>
                  <a:lnTo>
                    <a:pt x="0" y="50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56"/>
            <p:cNvSpPr/>
            <p:nvPr/>
          </p:nvSpPr>
          <p:spPr>
            <a:xfrm>
              <a:off x="7288560" y="3950280"/>
              <a:ext cx="46440" cy="378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1" h="140">
                  <a:moveTo>
                    <a:pt x="0" y="131"/>
                  </a:moveTo>
                  <a:lnTo>
                    <a:pt x="2" y="127"/>
                  </a:lnTo>
                  <a:lnTo>
                    <a:pt x="12" y="117"/>
                  </a:lnTo>
                  <a:lnTo>
                    <a:pt x="18" y="109"/>
                  </a:lnTo>
                  <a:lnTo>
                    <a:pt x="24" y="103"/>
                  </a:lnTo>
                  <a:lnTo>
                    <a:pt x="33" y="92"/>
                  </a:lnTo>
                  <a:lnTo>
                    <a:pt x="41" y="84"/>
                  </a:lnTo>
                  <a:lnTo>
                    <a:pt x="51" y="74"/>
                  </a:lnTo>
                  <a:lnTo>
                    <a:pt x="62" y="66"/>
                  </a:lnTo>
                  <a:lnTo>
                    <a:pt x="70" y="55"/>
                  </a:lnTo>
                  <a:lnTo>
                    <a:pt x="80" y="47"/>
                  </a:lnTo>
                  <a:lnTo>
                    <a:pt x="91" y="39"/>
                  </a:lnTo>
                  <a:lnTo>
                    <a:pt x="99" y="33"/>
                  </a:lnTo>
                  <a:lnTo>
                    <a:pt x="109" y="26"/>
                  </a:lnTo>
                  <a:lnTo>
                    <a:pt x="117" y="22"/>
                  </a:lnTo>
                  <a:lnTo>
                    <a:pt x="132" y="14"/>
                  </a:lnTo>
                  <a:lnTo>
                    <a:pt x="142" y="10"/>
                  </a:lnTo>
                  <a:lnTo>
                    <a:pt x="159" y="4"/>
                  </a:lnTo>
                  <a:lnTo>
                    <a:pt x="171" y="0"/>
                  </a:lnTo>
                  <a:lnTo>
                    <a:pt x="169" y="4"/>
                  </a:lnTo>
                  <a:lnTo>
                    <a:pt x="159" y="12"/>
                  </a:lnTo>
                  <a:lnTo>
                    <a:pt x="148" y="22"/>
                  </a:lnTo>
                  <a:lnTo>
                    <a:pt x="136" y="31"/>
                  </a:lnTo>
                  <a:lnTo>
                    <a:pt x="117" y="43"/>
                  </a:lnTo>
                  <a:lnTo>
                    <a:pt x="105" y="51"/>
                  </a:lnTo>
                  <a:lnTo>
                    <a:pt x="93" y="64"/>
                  </a:lnTo>
                  <a:lnTo>
                    <a:pt x="78" y="74"/>
                  </a:lnTo>
                  <a:lnTo>
                    <a:pt x="68" y="84"/>
                  </a:lnTo>
                  <a:lnTo>
                    <a:pt x="57" y="94"/>
                  </a:lnTo>
                  <a:lnTo>
                    <a:pt x="49" y="103"/>
                  </a:lnTo>
                  <a:lnTo>
                    <a:pt x="31" y="140"/>
                  </a:lnTo>
                  <a:lnTo>
                    <a:pt x="10" y="138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7"/>
            <p:cNvSpPr/>
            <p:nvPr/>
          </p:nvSpPr>
          <p:spPr>
            <a:xfrm>
              <a:off x="7314840" y="3984840"/>
              <a:ext cx="18720" cy="15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0" h="58">
                  <a:moveTo>
                    <a:pt x="0" y="58"/>
                  </a:moveTo>
                  <a:lnTo>
                    <a:pt x="6" y="35"/>
                  </a:lnTo>
                  <a:lnTo>
                    <a:pt x="70" y="0"/>
                  </a:lnTo>
                  <a:lnTo>
                    <a:pt x="56" y="31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58"/>
            <p:cNvSpPr/>
            <p:nvPr/>
          </p:nvSpPr>
          <p:spPr>
            <a:xfrm>
              <a:off x="7392960" y="4006800"/>
              <a:ext cx="41040" cy="27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51" h="101">
                  <a:moveTo>
                    <a:pt x="12" y="72"/>
                  </a:moveTo>
                  <a:lnTo>
                    <a:pt x="19" y="68"/>
                  </a:lnTo>
                  <a:lnTo>
                    <a:pt x="27" y="61"/>
                  </a:lnTo>
                  <a:lnTo>
                    <a:pt x="37" y="53"/>
                  </a:lnTo>
                  <a:lnTo>
                    <a:pt x="48" y="45"/>
                  </a:lnTo>
                  <a:lnTo>
                    <a:pt x="60" y="37"/>
                  </a:lnTo>
                  <a:lnTo>
                    <a:pt x="72" y="28"/>
                  </a:lnTo>
                  <a:lnTo>
                    <a:pt x="83" y="22"/>
                  </a:lnTo>
                  <a:lnTo>
                    <a:pt x="105" y="12"/>
                  </a:lnTo>
                  <a:lnTo>
                    <a:pt x="128" y="4"/>
                  </a:lnTo>
                  <a:lnTo>
                    <a:pt x="151" y="0"/>
                  </a:lnTo>
                  <a:lnTo>
                    <a:pt x="141" y="20"/>
                  </a:lnTo>
                  <a:lnTo>
                    <a:pt x="124" y="26"/>
                  </a:lnTo>
                  <a:lnTo>
                    <a:pt x="95" y="37"/>
                  </a:lnTo>
                  <a:lnTo>
                    <a:pt x="66" y="49"/>
                  </a:lnTo>
                  <a:lnTo>
                    <a:pt x="46" y="66"/>
                  </a:lnTo>
                  <a:lnTo>
                    <a:pt x="39" y="74"/>
                  </a:lnTo>
                  <a:lnTo>
                    <a:pt x="31" y="82"/>
                  </a:lnTo>
                  <a:lnTo>
                    <a:pt x="23" y="88"/>
                  </a:lnTo>
                  <a:lnTo>
                    <a:pt x="17" y="92"/>
                  </a:lnTo>
                  <a:lnTo>
                    <a:pt x="0" y="101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59"/>
            <p:cNvSpPr/>
            <p:nvPr/>
          </p:nvSpPr>
          <p:spPr>
            <a:xfrm>
              <a:off x="7446960" y="4032360"/>
              <a:ext cx="11880" cy="302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4" h="112">
                  <a:moveTo>
                    <a:pt x="44" y="0"/>
                  </a:moveTo>
                  <a:lnTo>
                    <a:pt x="36" y="9"/>
                  </a:lnTo>
                  <a:lnTo>
                    <a:pt x="19" y="31"/>
                  </a:lnTo>
                  <a:lnTo>
                    <a:pt x="5" y="58"/>
                  </a:lnTo>
                  <a:lnTo>
                    <a:pt x="0" y="81"/>
                  </a:lnTo>
                  <a:lnTo>
                    <a:pt x="9" y="97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23" y="112"/>
                  </a:lnTo>
                  <a:lnTo>
                    <a:pt x="25" y="109"/>
                  </a:lnTo>
                  <a:lnTo>
                    <a:pt x="25" y="85"/>
                  </a:lnTo>
                  <a:lnTo>
                    <a:pt x="23" y="52"/>
                  </a:lnTo>
                  <a:lnTo>
                    <a:pt x="42" y="17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60"/>
            <p:cNvSpPr/>
            <p:nvPr/>
          </p:nvSpPr>
          <p:spPr>
            <a:xfrm>
              <a:off x="7561080" y="3895560"/>
              <a:ext cx="21960" cy="30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81" h="115">
                  <a:moveTo>
                    <a:pt x="0" y="0"/>
                  </a:moveTo>
                  <a:lnTo>
                    <a:pt x="12" y="6"/>
                  </a:lnTo>
                  <a:lnTo>
                    <a:pt x="27" y="12"/>
                  </a:lnTo>
                  <a:lnTo>
                    <a:pt x="41" y="23"/>
                  </a:lnTo>
                  <a:lnTo>
                    <a:pt x="56" y="33"/>
                  </a:lnTo>
                  <a:lnTo>
                    <a:pt x="68" y="45"/>
                  </a:lnTo>
                  <a:lnTo>
                    <a:pt x="81" y="72"/>
                  </a:lnTo>
                  <a:lnTo>
                    <a:pt x="79" y="97"/>
                  </a:lnTo>
                  <a:lnTo>
                    <a:pt x="70" y="111"/>
                  </a:lnTo>
                  <a:lnTo>
                    <a:pt x="64" y="115"/>
                  </a:lnTo>
                  <a:lnTo>
                    <a:pt x="60" y="111"/>
                  </a:lnTo>
                  <a:lnTo>
                    <a:pt x="50" y="70"/>
                  </a:lnTo>
                  <a:lnTo>
                    <a:pt x="39" y="51"/>
                  </a:lnTo>
                  <a:lnTo>
                    <a:pt x="33" y="43"/>
                  </a:lnTo>
                  <a:lnTo>
                    <a:pt x="27" y="37"/>
                  </a:lnTo>
                  <a:lnTo>
                    <a:pt x="17" y="29"/>
                  </a:lnTo>
                  <a:lnTo>
                    <a:pt x="1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1"/>
            <p:cNvSpPr/>
            <p:nvPr/>
          </p:nvSpPr>
          <p:spPr>
            <a:xfrm>
              <a:off x="7566480" y="3981960"/>
              <a:ext cx="8640" cy="165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3" h="62">
                  <a:moveTo>
                    <a:pt x="0" y="19"/>
                  </a:moveTo>
                  <a:lnTo>
                    <a:pt x="6" y="41"/>
                  </a:lnTo>
                  <a:lnTo>
                    <a:pt x="14" y="56"/>
                  </a:lnTo>
                  <a:lnTo>
                    <a:pt x="18" y="60"/>
                  </a:lnTo>
                  <a:lnTo>
                    <a:pt x="24" y="62"/>
                  </a:lnTo>
                  <a:lnTo>
                    <a:pt x="33" y="45"/>
                  </a:lnTo>
                  <a:lnTo>
                    <a:pt x="33" y="33"/>
                  </a:lnTo>
                  <a:lnTo>
                    <a:pt x="10" y="23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426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Всего доброг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ари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ит. таппа, от лат. таппиз — морской) — один из видов пейзажа, объектом изображения которого является водная стихия,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_65_694b32db_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22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14223856[1]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16212314[1]"/>
          <p:cNvPicPr/>
          <p:nvPr/>
        </p:nvPicPr>
        <p:blipFill>
          <a:blip r:embed="rId4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200404182146060"/>
          <p:cNvPicPr/>
          <p:nvPr/>
        </p:nvPicPr>
        <p:blipFill>
          <a:blip r:embed="rId5"/>
          <a:stretch/>
        </p:blipFill>
        <p:spPr>
          <a:xfrm>
            <a:off x="0" y="-30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9150f6e4bf1d[1]"/>
          <p:cNvPicPr/>
          <p:nvPr/>
        </p:nvPicPr>
        <p:blipFill>
          <a:blip r:embed="rId6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6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19720" y="274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ва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стантинович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йвазовский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1817 - 19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Айвазовский"/>
          <p:cNvPicPr/>
          <p:nvPr/>
        </p:nvPicPr>
        <p:blipFill>
          <a:blip r:embed="rId1"/>
          <a:stretch/>
        </p:blipFill>
        <p:spPr>
          <a:xfrm>
            <a:off x="152280" y="152280"/>
            <a:ext cx="4203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804"/>
          <p:cNvPicPr/>
          <p:nvPr/>
        </p:nvPicPr>
        <p:blipFill>
          <a:blip r:embed="rId1"/>
          <a:stretch/>
        </p:blipFill>
        <p:spPr>
          <a:xfrm>
            <a:off x="4876920" y="3581280"/>
            <a:ext cx="4038480" cy="281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Радуга - 1873 год"/>
          <p:cNvPicPr/>
          <p:nvPr/>
        </p:nvPicPr>
        <p:blipFill>
          <a:blip r:embed="rId2"/>
          <a:stretch/>
        </p:blipFill>
        <p:spPr>
          <a:xfrm>
            <a:off x="380880" y="304920"/>
            <a:ext cx="3733920" cy="285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Буря на Ледовитом океане"/>
          <p:cNvPicPr/>
          <p:nvPr/>
        </p:nvPicPr>
        <p:blipFill>
          <a:blip r:embed="rId3"/>
          <a:stretch/>
        </p:blipFill>
        <p:spPr>
          <a:xfrm>
            <a:off x="6629400" y="228600"/>
            <a:ext cx="2100240" cy="306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Черное море"/>
          <p:cNvPicPr/>
          <p:nvPr/>
        </p:nvPicPr>
        <p:blipFill>
          <a:blip r:embed="rId4"/>
          <a:stretch/>
        </p:blipFill>
        <p:spPr>
          <a:xfrm>
            <a:off x="304920" y="3505320"/>
            <a:ext cx="4114800" cy="2968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1603800" y="649044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ёрн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262120" y="319968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ря на Ледовитом оке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192920" y="2742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174000" y="63237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ятый 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Морской пейзаж"/>
          <p:cNvPicPr/>
          <p:nvPr/>
        </p:nvPicPr>
        <p:blipFill>
          <a:blip r:embed="rId1"/>
          <a:stretch/>
        </p:blipFill>
        <p:spPr>
          <a:xfrm>
            <a:off x="304920" y="228600"/>
            <a:ext cx="7772400" cy="631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Морской вид при луне"/>
          <p:cNvPicPr/>
          <p:nvPr/>
        </p:nvPicPr>
        <p:blipFill>
          <a:blip r:embed="rId2"/>
          <a:stretch/>
        </p:blipFill>
        <p:spPr>
          <a:xfrm>
            <a:off x="2057400" y="0"/>
            <a:ext cx="4361040" cy="651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Марина"/>
          <p:cNvPicPr/>
          <p:nvPr/>
        </p:nvPicPr>
        <p:blipFill>
          <a:blip r:embed="rId3"/>
          <a:stretch/>
        </p:blipFill>
        <p:spPr>
          <a:xfrm>
            <a:off x="152280" y="228600"/>
            <a:ext cx="8305920" cy="631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В бурю"/>
          <p:cNvPicPr/>
          <p:nvPr/>
        </p:nvPicPr>
        <p:blipFill>
          <a:blip r:embed="rId4"/>
          <a:stretch/>
        </p:blipFill>
        <p:spPr>
          <a:xfrm>
            <a:off x="457200" y="0"/>
            <a:ext cx="8381880" cy="6551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Ночь"/>
          <p:cNvPicPr/>
          <p:nvPr/>
        </p:nvPicPr>
        <p:blipFill>
          <a:blip r:embed="rId5"/>
          <a:stretch/>
        </p:blipFill>
        <p:spPr>
          <a:xfrm>
            <a:off x="990720" y="0"/>
            <a:ext cx="6629400" cy="662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Чесменский бой 25-26 июня 1770 года"/>
          <p:cNvPicPr/>
          <p:nvPr/>
        </p:nvPicPr>
        <p:blipFill>
          <a:blip r:embed="rId6"/>
          <a:stretch/>
        </p:blipFill>
        <p:spPr>
          <a:xfrm>
            <a:off x="1295280" y="152280"/>
            <a:ext cx="6072480" cy="647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картина Айвазовского Восход луны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8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650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65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500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Неаполитанский залив"/>
          <p:cNvPicPr/>
          <p:nvPr/>
        </p:nvPicPr>
        <p:blipFill>
          <a:blip r:embed="rId1"/>
          <a:stretch/>
        </p:blipFill>
        <p:spPr>
          <a:xfrm>
            <a:off x="228600" y="152280"/>
            <a:ext cx="4648320" cy="3195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534240" y="358056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политанский залив. Раннее у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515680" y="624780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ктебельская бу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2802"/>
          <p:cNvPicPr/>
          <p:nvPr/>
        </p:nvPicPr>
        <p:blipFill>
          <a:blip r:embed="rId2"/>
          <a:stretch/>
        </p:blipFill>
        <p:spPr>
          <a:xfrm>
            <a:off x="5181480" y="1523880"/>
            <a:ext cx="37972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ческие приёмы Айвазо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ебе и дальних планах наносить краску едва заметным тонким сло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свещенных местах переднего плана и бликах на воде накладывать ее жирным, «вкусным» маз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агать красочный слой очень живо, разнообразно и полностью подчинять форме, через которую раскрывается  содержание  замысла картины.  Большие плоскости, где изображены спокойное небо с легкими прозрачными облаками или штилевая вода, писать широкой ки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гда не переписывать небо, оно всегда выполнялось в один прием. Это сообщает небу большую легкость, прозрачность, а облакам — слитность, вписанность в красочное «тест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зображении воды широко прописывать форму вол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значение придавать детальному окончанию работы. Завершающие живопись мелкие детали: кружево освещенной или затемненной пены, блики света на воде, камни и скалы переднего плана, детальная проработка оснастки парусных кораблей — все это имеет немалое значение в получении правдивости общего впечат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носить существенных изменений в картины в процессе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ариант – «Море сп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ариант – «Море бушу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20T18:39:3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