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7EE-7C95-4030-AA6F-8C9BECE0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891C-F2C9-45DE-9A3A-3EAC015F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B27-35EA-451A-AC22-A600D309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7EB-8394-40AB-83E3-ED6E079D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17E-0AAF-44D1-8EF4-CD375C10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BDA-51FE-4532-9962-7EEF3FCB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0575-9C2D-43FC-87FE-59D3EB42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AF4B-BA62-446B-ACD7-45FC54C4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88C-4ADA-43B5-8C98-61D59D2D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9869-5A2B-48E6-AB37-F00D822B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0474-2130-4254-B6D4-06626F65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BE4-0273-4E3E-8B42-A05D820A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51B8-46AE-42AC-B95B-2229DA0C5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atomia.ucoz.com/_si/0/49057232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914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27f4c"/>
                </a:solidFill>
                <a:latin typeface="Tahoma"/>
              </a:rPr>
              <a:t>ГБОУ СПО «Пятигорский медицинский колледж »</a:t>
            </a:r>
            <a:endParaRPr b="0" lang="en-US" sz="1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14300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исциплина «Анатомия и физиология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еоретическое занятие №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ема: «Биологическая характеристика живого организма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еместр 3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ля  специальности 060501 «Фармация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еподаватель: Кравченко Л.Ю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27f4c"/>
                </a:solidFill>
                <a:latin typeface="Tahoma"/>
              </a:rPr>
              <a:t>Критерии биологического возраста.</a:t>
            </a:r>
            <a:br>
              <a:rPr sz="1600"/>
            </a:br>
            <a:endParaRPr b="0" lang="en-US" sz="1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ми критериями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биологического возраста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являютс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келетная зрелость- порядок и сроки окостенения скелета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убная зрелость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тепень развития вторичных половых признак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Части тела человека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: голова, шея, туловище, две пары конечносте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реди размеров тела выделяют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отальные (от фр.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otal-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целиком ) и парциальные (от лат.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pars-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часть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К тотальным размерам  относят массу, длину тела, обхват груд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К парциальным размерам относят размеры отдельных частей т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азмеры тела определяются при антропометрическом обследован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ипы телосложения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1000"/>
            </a:b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Типы телосложения человека: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а – торакальный (грудной);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б – дигестивный (брюшной);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в – мышечный (атлетический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4" descr="Типы телосложения человека"/>
          <p:cNvPicPr/>
          <p:nvPr/>
        </p:nvPicPr>
        <p:blipFill>
          <a:blip r:embed="rId2"/>
          <a:stretch/>
        </p:blipFill>
        <p:spPr>
          <a:xfrm>
            <a:off x="4114800" y="3809880"/>
            <a:ext cx="32767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7f4c"/>
                </a:solidFill>
                <a:latin typeface="Tahoma"/>
              </a:rPr>
              <a:t>Плоскости тела человека.</a:t>
            </a:r>
            <a:endParaRPr b="0" lang="en-US" sz="1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ля успешного изучения анатомии тела человека следует знать, что его тело условно делится тремя плоскостями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фронтальной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идущей параллельно лбу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рединной или сагитальной -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делит тело человека на две равные части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оходит через пупочное кольцо спереди и позвоночный столб сзади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горизонтальной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– делит тело человека на верхнюю и нижние ча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Рисунок 3" descr="http://anatomia.ucoz.com/_si/0/s4905723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2895480"/>
            <a:ext cx="1981080" cy="31244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3048120" y="3647520"/>
            <a:ext cx="480060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</a:rPr>
              <a:t>1 - вертикальная (продольная) ос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</a:rPr>
              <a:t>2 - лобная (фронтальная) плоскост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</a:rPr>
              <a:t>3 - горизонтальная плоскост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</a:rPr>
              <a:t>4 - лобная (фронтальная) ось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</a:rPr>
              <a:t>5 - стреловая (сагиттальная) ось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30000">
                <a:solidFill>
                  <a:srgbClr val="000000"/>
                </a:solidFill>
                <a:latin typeface="Verdana"/>
              </a:rPr>
              <a:t>6 - стреловая (сагиттальная) плоскос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7f4c"/>
                </a:solidFill>
                <a:latin typeface="Tahoma"/>
              </a:rPr>
              <a:t>Анатомические термины.</a:t>
            </a:r>
            <a:r>
              <a:rPr b="0" lang="en-US" sz="18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827f4c"/>
                </a:solidFill>
                <a:latin typeface="Tahoma"/>
              </a:rPr>
              <a:t>Необходимые латинские и греческие приставки.</a:t>
            </a:r>
            <a:r>
              <a:rPr b="1" lang="en-US" sz="48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Медиальный (от лат.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ediale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расположен ближе к срединной линии, внутренн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Латеральный (от лат.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teris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) – расположен дальше от средней1 лин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Вентральный (от лат.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venter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) – расположен на передней поверхности те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Дорсальный (от лат.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dorsum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) – расположен на задней поверхности те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раниальный (от лат.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cranium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) – расположен ближе к верхнему концу те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удальный (от лат.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cauda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) – расположен ближе к нижнему концу те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роксимальный – расположен ближе к средней лин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Дистальный – расположен дальше от средней лин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,ан- отрицание, отсутстви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Интра- нахождение внутри (интраваскулярный- внутрисосудистый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Энд,эндо- внутренний (эндокард- внутренняя оболочка сердца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Экстра- сверх, вне, снаружи (экстрасистола- внеочередное сокращение сердца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Экто- наружный (эктодерма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уб- расположен под чем-либо (субмукозный- подслизистый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ре – предшествует чему-либо (преморби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ст- позади, следующий зачем- либо (постнатальный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ара- рядом, возле, ошибочное отждествление с чем-либо (парагрипп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ери- вокруг чего-либо (перикар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Мез, мезо – средний (мезодерма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ли – много (поливитамины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Моно- один (моноартрит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Дис – нарушение, расстройство какой-либо функции (диспепсия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27f4c"/>
                </a:solidFill>
                <a:latin typeface="Tahoma"/>
              </a:rPr>
              <a:t>Выводы:</a:t>
            </a:r>
            <a:endParaRPr b="0" lang="en-US" sz="1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натомия человек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(от греч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at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рассекаю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) - фундаментальная медико-биологическая наука, изучающая строение тела человек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Физиология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- фундаментальная медико-биологическая наука, изучающая функции живого организма, его отдельных органов и систем, а также механизмы регуля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Уровни организации живой матер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летка- ткань- орган- система органов- целостный организ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летк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наименьшая, элементарная единица всего живого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кань-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исторически сложившаяся система клеток, их производных, сходных по происхождению, строению и выполняемой функ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Гистогенез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- процесс  исторического развития тканей из эмбриональных зачат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рган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многотканевая структура с преобладанием одной ткани (рабочей), имеющая определенную форму, строение, месторасположение в организме, выполняющая определенную функцию. Различают органы полые, паренхиматозные, смешанные.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истема органов-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группа органов, сходных по строению, происхождению, выполняемой функ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рганизм человека -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то открытая саморегулирующаяся, самовоспроизводящаяся система, состоящая из биополимеров: белков и нуклеиновых кислот. Основными критериями биологического возраста являю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келетная зрелость- порядок и сроки окостенения скелета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убная зрелость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пень развития вторичных половых призна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асти тела человека: голова, шея, туловище, две пары конечност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и размеров тела выделяют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тотальные (от фр.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total-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целиком ) и парциальные (от лат.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ars-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часть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успешного изучения анатомии тела человека следует знать, что его тело условно делится тремя плоскостям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фронтально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идущей параллельно лбу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рединной или сагитальной -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делит тело человека на две равные части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ходит через пупочное кольцо спереди и позвоночный столб сзади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горизонтально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– делит тело человека на верхнюю и нижние ча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Для изучения анатомии применяется анатомическая номенклатура, включающая латинские термины и греческие приставки</a:t>
            </a:r>
            <a:r>
              <a:rPr b="0" i="1" lang="ru-RU" sz="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i="1" lang="ru-RU" sz="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27f4c"/>
                </a:solidFill>
                <a:latin typeface="Tahoma"/>
              </a:rPr>
              <a:t>Домашнее задание:</a:t>
            </a:r>
            <a:endParaRPr b="0" lang="en-US" sz="1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чебник «Анатомия и физиология» Воробьева В.А. и др стр.5-5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Барышников С.Д. Лекции по анатомии и физиологии №1-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дания для самостоятельной работы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ставить глоссарий по тем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рисовать в тетрадь строение животной клетки, строение тканей организм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27f4c"/>
                </a:solidFill>
                <a:latin typeface="Tahoma"/>
              </a:rPr>
              <a:t>План проведения вводного занятия.</a:t>
            </a:r>
            <a:br>
              <a:rPr sz="28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рганизационный моме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зложение нового материал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едмет, задачи, методы анатомии и физиолог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начение  анатомии, физиологии для медицин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иологическая характеристика живого организм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ложение человека в природ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троение тела человека, уровни организации живой матер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сновные этапы онтогенеза челове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ритерии биологического возрас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ипы телослож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опорции те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сновные анатомические ориентиры: плоскости тела, лин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натомическая терминолог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воды, заключ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7f4c"/>
                </a:solidFill>
                <a:latin typeface="Tahoma"/>
              </a:rPr>
              <a:t>Предмет, задачи, методы анатомии и физиологии.</a:t>
            </a:r>
            <a:br>
              <a:rPr sz="24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Анатомия человек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(от греч.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t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е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рассекаю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) - фундаментальная медико-биологическая наука, изучающая строение тела человек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Физиология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- фундаментальная медико-биологическая наука, изучающая функции живого организма, его отдельных органов и систем, а также механизмы регуля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Человек является представителем животного мира, поэтому анатомия человека изучает его строение с учетом  общих биологических закономерностей, присущих всем живым организмам. Традиционно основным методом анатомии является метод рассечения трупов умерших людей- аутопсия. Также для  изучения анатомии живого организма  используются различные методы, разработанные на основе современных достижений физики, химии, биологии, генетики: рентгенологический, эндоскопический, микроскопический, ультрамикроскопический, компьютерной томографии, биопсийный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изиология- наука экспериментальная, ее основными методами являются наблюдение и эксперимент. Эксперименты бывают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стрыми и хроническими.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стрые  эксперименты осуществляются в условиях живосечения (вивисекции). Хронический эксперимент позволяет изучать функции организма в течение длительного времени, при длительном взаимодействии организма с внешней средой. В опытах над животными широко применяются хирургические методы: экстирпации (удаления), пересадки (трансплантации) клеток, тканей, вживления электродов, регистрации биотоков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аким образом, физиология изучает жизненные процессы и широкие возможности для вмешательства в них по медицинским показаниям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7f4c"/>
                </a:solidFill>
                <a:latin typeface="Tahoma"/>
              </a:rPr>
              <a:t>Основные физиологические понятия.</a:t>
            </a:r>
            <a:r>
              <a:rPr b="0" lang="en-US" sz="18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Функция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– это специфическая деятельность клеток, тканей, орган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Различают функции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вегетативные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отвечающие за деятельность внутренних органов, обмен веществ и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соматические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отвечающие за двигательные функции организма, деятельность скелетных мышц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Физиологический акт –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сложный процесс, который осуществляется при участии различных органов и систем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Основные положения современной физиологии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организм- единое целое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единство организма и внешней среды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ринцип нервизм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Нервизм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это физиологическое направление, подразумевающее распространение влияния нервной системы на деятельность живого организма. Первоначально регуляция деятельности живых организмов осуществлялась гуморальным путем с помощью гормонов. С появлением  у животных нервной системы возник механизм нервной регуляции, который позволяет осуществлять быструю перестройку деятельности в соответствии с условиями существования. Нервная регуляция подчиняет себе гуморальную, вместе они позволяют функционировать организму как единому целостному образованию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7f4c"/>
                </a:solidFill>
                <a:latin typeface="Tahoma"/>
              </a:rPr>
              <a:t>Биологическая характеристика живого организма.</a:t>
            </a:r>
            <a:br>
              <a:rPr sz="2400"/>
            </a:br>
            <a:r>
              <a:rPr b="0" lang="en-US" sz="2400" spc="-1" strike="noStrike">
                <a:solidFill>
                  <a:srgbClr val="827f4c"/>
                </a:solidFill>
                <a:latin typeface="Tahoma"/>
              </a:rPr>
              <a:t>Положение человека в природе.</a:t>
            </a:r>
            <a:br>
              <a:rPr sz="24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системе живой природы человек занимает следующее положение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ип Хордовые, подтип Позвоночные, класс Млекопитающие, отряд Приматы, подотряд Человекоподобные или Обезьяны, секция Узконосые, надсемейство Высшие узконосые или  гоминоиды, семейство Гоминиды, род Человек, вид Человек разумны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ровни организации живой матер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летка- ткань- орган- система органов- целостный организ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летка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наименьшая, элементарная единица всего живог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Ткань-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исторически сложившаяся система клеток, их производных, сходных по происхождению, строению и выполняемой функц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Гистогенез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- процесс  исторического развития тканей из эмбриональных зачатк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рган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многотканевая структура с преобладанием одной ткани (рабочей), имеющая определенную форму, строение, месторасположение в организме, выполняющая определенную функцию. Различают органы полые, паренхиматозные, смешанные.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истема органов-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группа органов, сходных по строению, происхождению, выполняемой функц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рганизм человека -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это открытая саморегулирующаяся, самовоспроизводящаяся система, состоящая из биополимеров: белков и нуклеиновых кисло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27f4c"/>
                </a:solidFill>
                <a:latin typeface="Tahoma"/>
              </a:rPr>
              <a:t>Уровни организации живой материи.</a:t>
            </a:r>
            <a:br>
              <a:rPr sz="1600"/>
            </a:br>
            <a:r>
              <a:rPr b="0" lang="ru-RU" sz="16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827f4c"/>
                </a:solidFill>
                <a:latin typeface="Tahoma"/>
              </a:rPr>
              <a:t>Клетка</a:t>
            </a:r>
            <a:r>
              <a:rPr b="0" lang="ru-RU" sz="1200" spc="-1" strike="noStrike">
                <a:solidFill>
                  <a:srgbClr val="827f4c"/>
                </a:solidFill>
                <a:latin typeface="Tahoma"/>
              </a:rPr>
              <a:t> – </a:t>
            </a:r>
            <a:r>
              <a:rPr b="1" lang="ru-RU" sz="1200" spc="-1" strike="noStrike">
                <a:solidFill>
                  <a:srgbClr val="827f4c"/>
                </a:solidFill>
                <a:latin typeface="Tahoma"/>
              </a:rPr>
              <a:t>элементарная единица всего живого, поэтому ей присущи свойства живых организмов: высокоупорядоченное строение, обмен веществ, раздражимость, рост, развитие, размножение,регенерация и другие свойства, на основе которых осуществляется функции целого организма. </a:t>
            </a: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827f4c"/>
                </a:solidFill>
                <a:latin typeface="Tahoma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52" name="Picture 4" descr="Клетка"/>
          <p:cNvPicPr/>
          <p:nvPr/>
        </p:nvPicPr>
        <p:blipFill>
          <a:blip r:embed="rId2"/>
          <a:stretch/>
        </p:blipFill>
        <p:spPr>
          <a:xfrm>
            <a:off x="3200400" y="1828800"/>
            <a:ext cx="28576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gerontology-explorer.narod.ru/Storage/09.11.2007_22-28-01.jpg"/>
          <p:cNvPicPr/>
          <p:nvPr/>
        </p:nvPicPr>
        <p:blipFill>
          <a:blip r:embed="rId2"/>
          <a:stretch/>
        </p:blipFill>
        <p:spPr>
          <a:xfrm>
            <a:off x="1371600" y="304920"/>
            <a:ext cx="6564240" cy="46479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533520" y="4952880"/>
            <a:ext cx="807696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7434"/>
                </a:solidFill>
                <a:latin typeface="Tahoma"/>
              </a:rPr>
              <a:t>Различные формы клеток в связи с выполняемыми функциями. 1 - клетки эпителия кишечника; 2 - бактерии (кокки, кишечная палочка, спириллы со жгутиками на концах тела); 3 - диатомовая водоросль; 4 - мышечная клетка; 5 - нервная клетка; 6 - одноклеточная водоросль ацетабулярия; 7 - клетки печени; 8 - инфузория; 9 - эритроциты человека; 10 - клетки эпидермиса лука; 11 - жгутиконосец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27f4c"/>
                </a:solidFill>
                <a:latin typeface="Tahoma"/>
              </a:rPr>
              <a:t>Ткани, их строение и функции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827f4c"/>
                </a:solidFill>
                <a:latin typeface="Tahoma"/>
              </a:rPr>
              <a:t>В организме взрослого человека различают около 200 типов клеток. Группы клеток, имеющих одинаковое или сходное строение, связанные единством происхождения и приспособленные к выполнению определенных функций, образуют </a:t>
            </a:r>
            <a:r>
              <a:rPr b="1" i="1" lang="ru-RU" sz="1600" spc="-1" strike="noStrike">
                <a:solidFill>
                  <a:srgbClr val="827f4c"/>
                </a:solidFill>
                <a:latin typeface="Tahoma"/>
              </a:rPr>
              <a:t>ткани</a:t>
            </a:r>
            <a:r>
              <a:rPr b="0" lang="ru-RU" sz="1600" spc="-1" strike="noStrike">
                <a:solidFill>
                  <a:srgbClr val="827f4c"/>
                </a:solidFill>
                <a:latin typeface="Tahoma"/>
              </a:rPr>
              <a:t>. </a:t>
            </a:r>
            <a:br>
              <a:rPr sz="1600"/>
            </a:br>
            <a:r>
              <a:rPr b="0" lang="ru-RU" sz="1600" spc="-1" strike="noStrike">
                <a:solidFill>
                  <a:srgbClr val="827f4c"/>
                </a:solidFill>
                <a:latin typeface="Tahoma"/>
              </a:rPr>
              <a:t>Любая ткань представляет собой совокупность клеток и </a:t>
            </a:r>
            <a:r>
              <a:rPr b="1" i="1" lang="ru-RU" sz="1600" spc="-1" strike="noStrike">
                <a:solidFill>
                  <a:srgbClr val="827f4c"/>
                </a:solidFill>
                <a:latin typeface="Tahoma"/>
              </a:rPr>
              <a:t>межклеточного вещества</a:t>
            </a:r>
            <a:r>
              <a:rPr b="0" lang="ru-RU" sz="1600" spc="-1" strike="noStrike">
                <a:solidFill>
                  <a:srgbClr val="827f4c"/>
                </a:solidFill>
                <a:latin typeface="Tahoma"/>
              </a:rPr>
              <a:t>, которого может быть много (кровь, лимфа, рыхлая соединительная ткань). </a:t>
            </a:r>
            <a:br>
              <a:rPr sz="1600"/>
            </a:br>
            <a:r>
              <a:rPr b="0" lang="ru-RU" sz="1600" spc="-1" strike="noStrike">
                <a:solidFill>
                  <a:srgbClr val="827f4c"/>
                </a:solidFill>
                <a:latin typeface="Tahoma"/>
              </a:rPr>
              <a:t>Ткань = клетки + межклеточное вещество</a:t>
            </a:r>
            <a:br>
              <a:rPr sz="1600"/>
            </a:br>
            <a:r>
              <a:rPr b="0" lang="ru-RU" sz="1600" spc="-1" strike="noStrike">
                <a:solidFill>
                  <a:srgbClr val="827f4c"/>
                </a:solidFill>
                <a:latin typeface="Tahoma"/>
              </a:rPr>
              <a:t>В эпителиальных тканях межклеточное вещество отсутствует.</a:t>
            </a:r>
            <a:br>
              <a:rPr sz="1600"/>
            </a:br>
            <a:r>
              <a:rPr b="0" lang="ru-RU" sz="1600" spc="-1" strike="noStrike">
                <a:solidFill>
                  <a:srgbClr val="827f4c"/>
                </a:solidFill>
                <a:latin typeface="Tahoma"/>
              </a:rPr>
              <a:t>Клетки каждой ткани (и некоторых органов) имеют собственное название: клетки нервной ткани называются </a:t>
            </a:r>
            <a:r>
              <a:rPr b="1" i="1" lang="ru-RU" sz="1600" spc="-1" strike="noStrike">
                <a:solidFill>
                  <a:srgbClr val="827f4c"/>
                </a:solidFill>
                <a:latin typeface="Tahoma"/>
              </a:rPr>
              <a:t>нейронами</a:t>
            </a:r>
            <a:r>
              <a:rPr b="0" lang="ru-RU" sz="1600" spc="-1" strike="noStrike">
                <a:solidFill>
                  <a:srgbClr val="827f4c"/>
                </a:solidFill>
                <a:latin typeface="Tahoma"/>
              </a:rPr>
              <a:t>, клетки костной ткани – </a:t>
            </a:r>
            <a:r>
              <a:rPr b="1" i="1" lang="ru-RU" sz="1600" spc="-1" strike="noStrike">
                <a:solidFill>
                  <a:srgbClr val="827f4c"/>
                </a:solidFill>
                <a:latin typeface="Tahoma"/>
              </a:rPr>
              <a:t>остеоцитами</a:t>
            </a:r>
            <a:r>
              <a:rPr b="0" lang="ru-RU" sz="1600" spc="-1" strike="noStrike">
                <a:solidFill>
                  <a:srgbClr val="827f4c"/>
                </a:solidFill>
                <a:latin typeface="Tahoma"/>
              </a:rPr>
              <a:t>, печени – </a:t>
            </a:r>
            <a:r>
              <a:rPr b="1" i="1" lang="ru-RU" sz="1600" spc="-1" strike="noStrike">
                <a:solidFill>
                  <a:srgbClr val="827f4c"/>
                </a:solidFill>
                <a:latin typeface="Tahoma"/>
              </a:rPr>
              <a:t>гепатоцитами</a:t>
            </a:r>
            <a:r>
              <a:rPr b="0" lang="ru-RU" sz="1600" spc="-1" strike="noStrike">
                <a:solidFill>
                  <a:srgbClr val="827f4c"/>
                </a:solidFill>
                <a:latin typeface="Tahoma"/>
              </a:rPr>
              <a:t> и так далее.</a:t>
            </a:r>
            <a:br>
              <a:rPr sz="1600"/>
            </a:br>
            <a:r>
              <a:rPr b="0" lang="ru-RU" sz="1600" spc="-1" strike="noStrike">
                <a:solidFill>
                  <a:srgbClr val="827f4c"/>
                </a:solidFill>
                <a:latin typeface="Tahoma"/>
              </a:rPr>
              <a:t>В настоящее время различают следующие виды тканей:</a:t>
            </a:r>
            <a:br>
              <a:rPr sz="1600"/>
            </a:br>
            <a:r>
              <a:rPr b="0" lang="ru-RU" sz="1600" spc="-1" strike="noStrike">
                <a:solidFill>
                  <a:srgbClr val="827f4c"/>
                </a:solidFill>
                <a:latin typeface="Tahoma"/>
              </a:rPr>
              <a:t>эпителиальные,</a:t>
            </a:r>
            <a:br>
              <a:rPr sz="1600"/>
            </a:br>
            <a:r>
              <a:rPr b="0" lang="ru-RU" sz="1600" spc="-1" strike="noStrike">
                <a:solidFill>
                  <a:srgbClr val="827f4c"/>
                </a:solidFill>
                <a:latin typeface="Tahoma"/>
              </a:rPr>
              <a:t>соединительные,</a:t>
            </a:r>
            <a:br>
              <a:rPr sz="1600"/>
            </a:br>
            <a:r>
              <a:rPr b="0" lang="ru-RU" sz="1600" spc="-1" strike="noStrike">
                <a:solidFill>
                  <a:srgbClr val="827f4c"/>
                </a:solidFill>
                <a:latin typeface="Tahoma"/>
              </a:rPr>
              <a:t>мышечные, </a:t>
            </a:r>
            <a:br>
              <a:rPr sz="1600"/>
            </a:br>
            <a:r>
              <a:rPr b="0" lang="ru-RU" sz="1600" spc="-1" strike="noStrike">
                <a:solidFill>
                  <a:srgbClr val="827f4c"/>
                </a:solidFill>
                <a:latin typeface="Tahoma"/>
              </a:rPr>
              <a:t>нервная, </a:t>
            </a:r>
            <a:br>
              <a:rPr sz="1600"/>
            </a:br>
            <a:r>
              <a:rPr b="0" lang="ru-RU" sz="1600" spc="-1" strike="noStrike">
                <a:solidFill>
                  <a:srgbClr val="827f4c"/>
                </a:solidFill>
                <a:latin typeface="Tahoma"/>
              </a:rPr>
              <a:t>ткани внутренней среды организма (кровь, лимфа, тканевая жидкость)</a:t>
            </a:r>
            <a:endParaRPr b="0" lang="en-US" sz="16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27f4c"/>
                </a:solidFill>
                <a:latin typeface="Tahoma"/>
              </a:rPr>
              <a:t>Основные этапы онтогенеза человека.</a:t>
            </a:r>
            <a:br>
              <a:rPr sz="1800"/>
            </a:br>
            <a:endParaRPr b="0" lang="en-US" sz="1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звитие человеческого организма начинается с оплодотворения. В процессе оплодотворения яйцеклетка и сперматозоид сливаются, образуя диплоидную зиготу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оцесс дробления зиготы совершается в течение 3-4 суток, когда зигота продвигается по маточной трубе к матке. Возникшие бластомеры образуют морулу, а затем однослойный зародыш – бластулу; в ней различают полость – бластоцель и стенку – бластодерму. В результате дробления поверхностно расположенных бластомеров формируется оболочка, участвующая в питании зародыша – трофобласт, а центральные бластомеры образуют эмбриобласт, из него развивается зародыш. Следовательно, образовавшийся зародышевый пузырек включает в себя трофобласт, окружающий полость с жидкостью, и эмбриобласт – зародышевый узелок, лежащий в полости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о вторую неделю происходит гаструляция и трофобласт погружается в стенку матки: у семидневного зародыша эктодерма образует амниотический пузырек. Из зародыша, имеющего форму щитка, в полость бластулы выселяются клетки и заполняют ее. Вместе с трофобластом эти клетки формируют хорион. В дальнейшем развиваются зародышевые оболочки – амнион и желточный мешок. Желточный мешок функционирует как кроветворный орган. Производным желточного мешка является первичный мочевой пузырь – аллантоис. Впоследствии амнион обрастает зародыш и образует водную оболочку плода, защищающую его от повреждений и создающую здесь однородную жидкую среду. Часть хориона, обращенная к стенке матки, имеет ворсинки, врастает в ее ткани и формирует детское место, или плаценту, через которую плод питается. В плаценте переплетаются кровеносные сосуды плода и матери. Из крови материнского организма поглощаются питательные вещества, кислород и выделяются продукты распада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сле рождения ребенка его организм растет и развивается до 20-23 лет. Процесс развития подразделяют на четыре периода: 1) грудной, в течение которого ребенок питается высокоценным продуктом – молоком матери, содержащим все необходимые вещества для развития; 2) ясельный – от одного года до трех лет; 3) дошкольный – от трех до семи лет; 4) школьный – от семи до 17 лет – период формирования основных физических, умственных и нравственных качеств человека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8:35:17Z</dcterms:created>
  <dc:creator>User</dc:creator>
  <dc:description/>
  <dc:language>en-US</dc:language>
  <cp:lastModifiedBy>Кравченко</cp:lastModifiedBy>
  <dcterms:modified xsi:type="dcterms:W3CDTF">2011-12-09T12:16:35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