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gif" ContentType="image/gi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C14F1-3A93-4317-8496-9219C4205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2C748-E31F-4F1C-9CA2-B6D6A22B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78093E-571C-4166-941A-7DCF2C77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C3A865-2094-4E18-953B-B7511437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539CC0-AB42-47AF-B791-100C7375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A402CD-4BBA-4241-AFBE-981FB39A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6D0548-33CA-4A41-A898-714DD388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365ED1-E43D-4614-8E61-65F47FAD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6CEE27-3583-4A30-88DF-34DC893D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2A0EFC-6CE7-4D69-810C-5E8FAFDF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2E6131-735E-40DE-B8D4-EC9F77279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AFFAD-DE1A-4680-90B3-07C08D9D1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F4910-9DCA-4853-976B-76C19E09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BED1D-33CC-4E90-9136-38F81B28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59E4C-3D60-4E12-885C-A92A97BB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EE28B4-DDA4-4EB0-9453-03990E49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268D8-73C7-46BF-AB48-DBB472D4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CCBC40-1E5C-4F2A-85D9-25B428C4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D40F41-7F36-4FE4-A951-38BD4F1B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15CCA5-3754-4A3C-AF28-ABF21648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5D7B4-95DE-4C67-9A01-0C81B84E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73B14-1FAD-4DEA-B498-3466EB7C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85833F-F00B-4816-8728-F726DEDF5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68D09-CCF6-491B-8D1C-0BD3F8FAA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88C944-451C-44F0-91FC-7E6690CAA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593A-519A-4261-9AFE-285A96DDA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84C1-42A5-4EEC-8F08-925B7957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21CA-1FCF-423F-B799-C10C80E0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D9C8-EF74-4ECB-A611-7D9B0C51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F82A-1BD6-46DB-BB74-57C8BD41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C942-5610-4477-A430-4FABB591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3755-B6DC-42E8-8496-CB3DBB6B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FCEB6-3D82-489A-97DB-9A0A9018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5F1A-9F58-4F89-8CEC-EE8EC932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6EF5-553F-4D18-BFE8-E9294DF7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0296-FDA9-47A0-8B68-F9EFF4D2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C6BE-F1E9-4309-A21C-958B5917A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A577-B685-4915-A541-AD32FAC57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F695F-53E9-4BD7-99C0-980CBDF3A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13EFF-C1EC-4399-B790-AE2B3ED3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FF689-9FE2-4282-9EC7-F6C4390B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E6C4E-D711-4377-9902-B46F928C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1B090-35F9-48BB-A49B-3CB6FEB7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17EA5-EEC8-4F56-B4DF-9EFA96CC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64D76-D1B5-437D-89AE-DCB9A6A0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1358E-5968-4BC5-805B-DCD4CC76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F684D-466F-4919-90E8-C0B9069E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D8F5B-388E-4F76-B090-C8AA42F1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97696-B6A2-4932-B3DC-ED798F84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2A3AE-C38F-4040-A915-9F2A0FC9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AC128-06D4-4CD1-BF62-8D75A7D83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798F2-7CCE-43D5-81E8-E5CBD52F4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14F93-77CF-4903-BA3A-CA91BE27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C2FD4-2FFF-4AA8-A8D3-90EC3661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B8A51-6427-4C99-8F39-20240176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5733E-D046-4E94-A034-92900281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F57C8-551F-4D0E-968A-2774131B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4DD51-BE50-4FBE-8ADE-78920105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C0862-B51D-442C-891B-4EB47A42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87706-A72D-4B1C-A2FF-39897CDD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BFBED-EB47-4D44-8B01-D0484317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1C65F-5B64-423F-B855-6DD7C15A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D74E9-8B70-4198-B075-72996DBD7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08A77-8F2E-4FEF-9D98-AF83990D2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06D91-B750-4AE3-8C8A-4429964DB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105CF-DDDA-4D9B-B290-CA1F270C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4C916-E9F7-4A93-A7C5-A215FB78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1D197-F668-449C-933C-18380AD2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69B7D-55F4-46D8-A24E-73F5CAEB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7F95E-8C9E-4E60-B977-5BA668E9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0DC85-86FD-4AA0-B283-17E5844B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A9CF9-92E1-4B7D-97DB-D8AA8E62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AD9E9-ACE5-4839-8F6C-B0531F16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79E45-AF4E-4C61-9262-92EB270A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6D236-8255-4688-A575-DF720045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449E8-E4C4-45A1-8379-2F3158F16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BE636-55A1-464F-AD1A-A0D5A7C2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BC2A9-C532-4042-B5C1-532A4089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5AABC-3081-42C9-8BF2-1E93BC5D4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4EC19-0107-4DC5-92FC-1EDA1C50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8ADF7-F4CF-4E10-8312-6972E2FA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B3CA9-70CB-4185-BEEC-5555CB0F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DD918-51AF-4E3C-B2E2-C289A36D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ACCF7-4D3B-452B-AF10-6AF2F005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263DC-C03D-4818-BD28-2CE58ADB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B7B2B-17D2-4457-AEC6-A919573A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37D54-9F32-4517-9018-AB10CF9A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6E7DD-FA99-4BA9-BA19-76185F9C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C027A-3A27-4D2A-A771-3C327D87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0635F-62DC-4564-8221-6A302C3D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79C98-A3E2-4A2C-848B-6419CEA63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11FA4-867D-4453-82D6-54A390035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48A88-9F83-4121-AADF-86EF932E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8E0C8-BA6B-4156-AA38-3E2CD77C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74C63-5733-4409-BEC9-63A1C2E3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26477-C97B-44B2-9640-02B07EF5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FFC47-FE59-4CB5-9A0D-EED92FA5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5BDA0-2428-4F0A-86F6-C8C23D82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81561-BC91-4885-A7F9-E925D623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D87DE-3EF8-4A8C-B14C-170CF4D9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8C01C-AAE3-423A-A6C9-D74DD698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0EA25-6E2B-4B4E-A2F4-B2302865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02CD1-8896-4B00-ACD3-FDF82A51C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84ACA-0258-45C4-9B00-2C254087A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9301E-405F-43AC-932C-F1E608AB9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9DF00-5239-4866-8405-2DF51F98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A15AD-2318-44D3-9B0B-E3230C77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0D545-7F30-488A-A39C-AE1222F1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73D05-A058-4DAA-9807-1384CDE3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83EBF-26E9-48E7-ABFE-8E3A68CA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C1524-D006-46A9-B534-C729594D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82753-ACDB-4ECE-8867-657223CE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8CF56-447D-458A-8C72-C4718F44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2F680-C1F0-4773-9981-8A2CAB8C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EC1CC-07BB-4442-BDD9-FF55A633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EC2DD-B954-405B-AA61-A5A033C3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24BAA-5125-4020-89D1-19E4DC0E0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DACA80-F167-4F1C-BB2E-9BBA391F0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0748C7-305D-4618-B787-E60C7158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C550CA-FB20-4C6F-8905-9D107CD4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1FF4-83DA-44B1-8B7B-7E11FF44C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4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71F4-D81E-44EC-9C72-E2F41325F73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5503-6B4E-4928-8D99-4E3D7BDB9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14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B025-0335-4ED3-A92F-0CFD94E5B9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63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B67F-86BE-4EAD-97D9-A00224228D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612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13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14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81BF-08AA-4060-A3D0-EE479F70E2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657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dt" idx="16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ftr" idx="17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sldNum" idx="18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94EA-0EB8-4292-BC7B-B9B95CCD03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72ED-837F-4859-8CDC-A6C245A402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7D22-F1E3-4D14-883C-A64076D2D2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8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AE1C-6DA6-494C-B3C8-FB7CDD859D8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_Algerius"/>
              </a:rPr>
              <a:t>«Использование современных технологий на уроках истории»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Актуальность применения информационных технологий на уроке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1371600" y="1523520"/>
            <a:ext cx="738648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ы получаем и обрабатываем информацию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9" name=""/>
          <p:cNvGraphicFramePr/>
          <p:nvPr/>
        </p:nvGraphicFramePr>
        <p:xfrm>
          <a:off x="457200" y="2104920"/>
          <a:ext cx="8277120" cy="475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104920"/>
                    <a:ext cx="8277120" cy="47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12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Особенности восприятия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912" name=""/>
          <p:cNvGraphicFramePr/>
          <p:nvPr/>
        </p:nvGraphicFramePr>
        <p:xfrm>
          <a:off x="533520" y="1828800"/>
          <a:ext cx="8153280" cy="4789440"/>
        </p:xfrm>
        <a:graphic>
          <a:graphicData uri="http://schemas.openxmlformats.org/drawingml/2006/table">
            <a:tbl>
              <a:tblPr/>
              <a:tblGrid>
                <a:gridCol w="3989160"/>
                <a:gridCol w="4164120"/>
              </a:tblGrid>
              <a:tr h="478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евое полушарие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огическо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аботка     только      одного фрагмента информаци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нейная обработка информаци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ледовательные действ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исьмо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нализ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вязь иде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бстракц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ирование категори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огик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меренность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жден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матик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рбальная память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ользование символо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1144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ое полушарие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ворческо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1144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грирование    в    целостное       Воспроизведение множества данных.  Образное мышл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1144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нания без четких определений. Рассмотрение решения в целом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1144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хождение сходств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1144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уиция. Озарени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1144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утренние чувства, эмоци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1144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нтез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1144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зуализац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1144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рительная память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1144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познавание образо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1144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отношение с действительностью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1144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итм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1144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мик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1144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вет, запах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Формы и методы использования информационных технологий на уроках истории и обществознания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1"/>
          <a:stretch/>
        </p:blipFill>
        <p:spPr>
          <a:xfrm>
            <a:off x="5410080" y="3962520"/>
            <a:ext cx="2438640" cy="1904760"/>
          </a:xfrm>
          <a:prstGeom prst="rect">
            <a:avLst/>
          </a:prstGeom>
          <a:ln w="0">
            <a:noFill/>
          </a:ln>
        </p:spPr>
      </p:pic>
      <p:pic>
        <p:nvPicPr>
          <p:cNvPr id="915" name="" descr=""/>
          <p:cNvPicPr/>
          <p:nvPr/>
        </p:nvPicPr>
        <p:blipFill>
          <a:blip r:embed="rId2"/>
          <a:stretch/>
        </p:blipFill>
        <p:spPr>
          <a:xfrm>
            <a:off x="2819520" y="3657600"/>
            <a:ext cx="175248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провождение объяснения нового материала иллюстрациями, картами, содержание которых меняется по мере рассказа учител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читывая психофизические особенности учащихся, после просмотра презентации, можно давать для выполнения альтернативные задан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       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полнить таблицу, схему, графическая основа которой дана на доск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       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делать иллюстрацию к просмотренному сюжет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       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писать отзыв, рецензию на просмотренный сюже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       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ставить пла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9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9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9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9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9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6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формационные технологии могут использоваться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       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факультативных, индивидуальных занятиях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       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ля организации проверочных уроков, тестировани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       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 проведении вводных лекций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       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ходе выполнения домашнего задания, написания рефератов, доклад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Таким образом необходимо отметить следующие моменты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менение информационных технологий на уроке в настоящее время является достаточно актуальн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еющиеся материалы достаточно объёмны и информативны, предполагают комбинации новых форм и подход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зможности практического использования информационных технологий на уроках ограничены исключительно желанием учителя и возможностями учебного завед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Уроки с использованием информационных и игровых технологий учат слушать, анализировать, повышают интерес учащихся к учебной деятельности. Такие уроки способствуют совершенствованию профессионализма педагога, его энтузиазму, творческому подходу к работ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ергей</dc:creator>
  <dc:description/>
  <dc:language>en-US</dc:language>
  <cp:lastModifiedBy>Sergey</cp:lastModifiedBy>
  <dcterms:modified xsi:type="dcterms:W3CDTF">2007-01-17T02:08:5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