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B723-1687-40DA-8E3B-29234960F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0EBC-AD75-48E3-B5DA-29CF638F2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7B36-D324-4960-A54C-1CE1FBB21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2EF3-AC4C-4D48-AEFF-96BC38D9B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F2D1-A75F-4B59-AD21-9A5B9E2FB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F027-D02F-4D8A-888C-6DD1C78DD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89C9-57E1-4573-8615-383DA4836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0284-0A9C-4D3C-BBD6-EBB75FF66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A939-EBFF-403E-9DA1-CDC7F9444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AEF5-9115-4FCB-9BFB-D0995393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4DF7-ADDA-4578-8D08-B34E7B5B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BAFC-DF21-4F29-BF25-F0F33565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F0BC0-5127-4FAE-BB90-182654031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00"/>
                </a:solidFill>
                <a:latin typeface="Arial"/>
              </a:rPr>
              <a:t>Harrow School on the Hil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5905440" cy="3933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ke sure you know the word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Self-confidence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eeling that you can do things well and  that people respect you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Be aware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know about a situation or a fac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Dormito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a large room where a lot of people sleep, for example in a schoo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Bully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behaviour that frightens or hurts someone smaller and weak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Experi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knowledge and skill got through tim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Char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rganization to which you give money to help people who are poor or ill, or who need suppo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Pathw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a way from one place to another that people can walk alo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sten to the first part of the story and answer the question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400" y="2209320"/>
            <a:ext cx="73915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the words ”boarding school” make people think 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coming to Harrow school a good experience for boy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ll in the missing word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ity school for the poor was founded ___ years a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ducation for boys costs 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few than ___ Prime Ministers have been taught in Harrow Scho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has to survive in ___ centu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mes will live with ___ other boys in Harrow School on the Hi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chool is one of ___ public schools which remain exclusively all boys’ and all boar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ck your answe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ity school for the poor was founded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40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ars a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ducation for boys costs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16800£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few than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7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e Ministers have been taught in Harrow Scho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has to survive in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21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u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mes will live with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6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ther boys in Harrow School on the Hi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chool is one of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ublic schools which remain exclusively all boys’ and all boar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2T17:28:34Z</dcterms:created>
  <dc:creator>Татьяна</dc:creator>
  <dc:description/>
  <dc:language>en-US</dc:language>
  <cp:lastModifiedBy>Татьяна</cp:lastModifiedBy>
  <dcterms:modified xsi:type="dcterms:W3CDTF">2011-12-20T19:26:46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