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7108-F2C3-419A-878A-73D489CB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27CE-3E45-48F0-B14A-38E47CB9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D17D-38C8-44BF-8085-5953AFE7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89B-1B88-4DD8-9B25-DFCC674D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F6A1-25A1-4E75-B86C-07A4C4A0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F42A-B295-4C14-A28C-284D3E56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F530-BCB1-4BD4-BC47-FBD6C07A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876-586E-491B-97B2-CF176D27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CA85-C92A-4D49-99C2-3B20C5BC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735-4F25-44B2-9DC1-199F5DF7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DC0-967B-4E93-843E-B9A576B5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F588-64D3-4807-ABB1-4B16B185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354A-66D6-4718-BEB6-FCFD7A4DD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46520" y="4941720"/>
            <a:ext cx="43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рший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ДОУ Детский сад № 45 «Журавл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Фрунзенского района г.Сара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мазанова Оксана Бронислав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920" y="1125360"/>
            <a:ext cx="756144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"Самообразование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                </a:t>
            </a: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педагогов"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250920" y="692280"/>
          <a:ext cx="8642160" cy="3312720"/>
        </p:xfrm>
        <a:graphic>
          <a:graphicData uri="http://schemas.openxmlformats.org/drawingml/2006/table">
            <a:tbl>
              <a:tblPr/>
              <a:tblGrid>
                <a:gridCol w="1800000"/>
                <a:gridCol w="1297080"/>
                <a:gridCol w="2016000"/>
                <a:gridCol w="3529080"/>
              </a:tblGrid>
              <a:tr h="173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дел пл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ктические выходы (рефераты, доклады, открытый просмотр, выставка работ и т.д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вод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684360" y="1052640"/>
          <a:ext cx="7920000" cy="3384360"/>
        </p:xfrm>
        <a:graphic>
          <a:graphicData uri="http://schemas.openxmlformats.org/drawingml/2006/table">
            <a:tbl>
              <a:tblPr/>
              <a:tblGrid>
                <a:gridCol w="502920"/>
                <a:gridCol w="2737080"/>
                <a:gridCol w="3024000"/>
                <a:gridCol w="1656000"/>
              </a:tblGrid>
              <a:tr h="274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амилия, имя, отче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даго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а ­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образ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срок отч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9280" y="189000"/>
            <a:ext cx="3672000" cy="3456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61360"/>
            <a:ext cx="331128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АЖ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чтобы знания по какому-­либо вопросу, приобретаемые из одного источника, дополнялись сведениями из другого документа. Это заставляет занимающегося сравнивать, анализировать, делать выводы и формировать свое собственное мнение по данному вопро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189000"/>
            <a:ext cx="3672000" cy="338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64000" y="405720"/>
            <a:ext cx="324036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АЖ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аучиться пользоваться библиотечными каталогами. Это сократит время поиска нужной литературы, так как многие карточки содержат краткую аннотацию или перечисление основных вопросов, раскрываемых в книг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3789360"/>
            <a:ext cx="3672000" cy="28796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4150080"/>
            <a:ext cx="352872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АЖ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меть собирать, накапливать и хранить сведения, факты, выводы. Они пригодятся для выступления на семинарах, педагогических советах, участия в дискуссиях и т. 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971640" y="189000"/>
            <a:ext cx="748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веты по реализации самообразования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413000"/>
            <a:ext cx="8569080" cy="4752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молодых специалис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знание ценностей личностно-ориентирова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дели воспитания, обучения и разви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основ педагогического мастер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мений и конструктивных способ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971640" y="189000"/>
            <a:ext cx="748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веты по реализации самообразования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413000"/>
            <a:ext cx="8569080" cy="4752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воспитателей, работающих свыше 5 л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ладение способами проектирования воспитатель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тельного процесса с целью повышения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сти и качества в условиях вариатив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мения анализировать науч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ую литературу, применение получ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й на практике,  активизация твор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971640" y="189000"/>
            <a:ext cx="748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веты по реализации самообразования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8964720" cy="4752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опытных, творчески-работающих воспита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пособностей к перепроектирова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ственной деятельности в контексте тенден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я психолого-педагогической науки и социа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аза об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вление творческого потенциала педаго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аганда своих дости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исследователь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971640" y="189000"/>
            <a:ext cx="748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веты по реализации самообразования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052640"/>
            <a:ext cx="8964720" cy="4752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педагогов без специального образ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владение методикой работы с деть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даптация к педагог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250920" y="907920"/>
          <a:ext cx="8748720" cy="5764320"/>
        </p:xfrm>
        <a:graphic>
          <a:graphicData uri="http://schemas.openxmlformats.org/drawingml/2006/table">
            <a:tbl>
              <a:tblPr/>
              <a:tblGrid>
                <a:gridCol w="1020600"/>
                <a:gridCol w="3356280"/>
                <a:gridCol w="437184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апы работы по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образова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ршего воспит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ирование потребности в самообразовании, самооценка подготовленности, осознание необходимости в знаниях, постановка целей и зад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дагогическая диагностика и всесторонний анализ деятельности педагога.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явление желания педагога работать над той или иной проблемой: индивидуальные беседы, анкет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нирование работы по самообразова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сультирование и методические рекомендации по разработке темы: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в определении содержания работы по самообразованию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в выборе вопросов для самостоятельного углублённого изучения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в составлении плана в зависимости от уровня профессионализма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1980720" y="260280"/>
            <a:ext cx="66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держание работы по самообраз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80720" y="260280"/>
            <a:ext cx="66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держание работы по самообраз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4000" y="765000"/>
          <a:ext cx="8534160" cy="5111640"/>
        </p:xfrm>
        <a:graphic>
          <a:graphicData uri="http://schemas.openxmlformats.org/drawingml/2006/table">
            <a:tbl>
              <a:tblPr/>
              <a:tblGrid>
                <a:gridCol w="995040"/>
                <a:gridCol w="3273480"/>
                <a:gridCol w="4265640"/>
              </a:tblGrid>
              <a:tr h="511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оретическое изучение проблемы (знакомство с предметом, выборочное изучение, анализ и самооценка результат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здание условий для работы воспитателя по самообразованию: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тематическая подборка и составление картотеки научной, научно-популярной, методической и художественной литературы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тематическая подборка и составление картотеки газетных и журнальных статей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оформление выставки «В помощь занимающимся самообразованием»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материалы из опыта работы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тематические стенды «Посетите занятие», «Советуем поучиться у коллег», «Лучшее от каждого – коллективу»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80720" y="260280"/>
            <a:ext cx="66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держание работы по самообраз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9280" y="836640"/>
          <a:ext cx="8715600" cy="5803920"/>
        </p:xfrm>
        <a:graphic>
          <a:graphicData uri="http://schemas.openxmlformats.org/drawingml/2006/table">
            <a:tbl>
              <a:tblPr/>
              <a:tblGrid>
                <a:gridCol w="1017000"/>
                <a:gridCol w="3342600"/>
                <a:gridCol w="4356000"/>
              </a:tblGrid>
              <a:tr h="179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ктическая деятельность (применение знаний, навыков и умений на практике: изготовление пособий и атрибутов, организация и проведение практической работы с детьми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ка работы педагога по самообразованию при посещении занятий и других форм воспитательно-образовательного процесса, изучение практических матери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ведение итогов само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влечение к проведению индивидуальной или групповой консультации; выступлению на заседании совета педагогов; проведению открытого просмотра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мощь в оформлении результатов самообразования: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выступление по итогам работы и обмену опытом;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игры и пособия;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советы и рекомендации по проведению воспитательно-образовательной работы;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составление перспективного плана работы с детьми;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организация выставки работ детей или педагога по теме самообразования;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оформление передового педагогического опы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401760"/>
            <a:ext cx="742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ообразов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целенаправленная работа педагога по расширению и углублению своих теоретических знаний, совершенствованию имеющихся и приобретению новых профессиональных навыков и умений в свете современных требований педагогической и психологической на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87640" y="3213000"/>
            <a:ext cx="381636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1403280" y="333360"/>
            <a:ext cx="6337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елаем творчески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спехов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79280" y="260280"/>
            <a:ext cx="86425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Основные направления 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         </a:t>
            </a: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в системе самообразования: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700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знакомление с новыми нормативными документами по вопросам дошкольного воспит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2200" y="251316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учение учебной и научно-методической литера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3068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знакомление с новыми достижениями педагогики, детской психологии, анатомии, физ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3480" y="3808440"/>
            <a:ext cx="67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учение новых программ и педагогических технолог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4320" y="4240080"/>
            <a:ext cx="707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знакомление с передовой практикой дошкольных учрежд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1240" y="4797360"/>
            <a:ext cx="42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ение общекультурного уров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187280" y="260280"/>
            <a:ext cx="705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АПРАВЛЕНИЯ МЕТОДИЧЕСКОЙ РАБОТЫ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1916280"/>
            <a:ext cx="7705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маркетинговое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спроса педагог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формационно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здание единой информационной, организационной, методической, коммуникативной учебно-воспитательной среды в ДОУ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циально-адаптивно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ка педагогов к  успешному  выстраиванию профессиональной карьеры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научно-экспериментально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влечение педагогов в опытно - экспериментальную работу Д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психолого-педагогическо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ая поддержка педаг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управленческое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компетентности педколлекти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39640" y="404640"/>
            <a:ext cx="8353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ФОРМЫ РАБОТЫ ПО САМООБРАЗОВАНИЮ:</a:t>
            </a:r>
            <a:endParaRPr b="1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3040" y="1911240"/>
            <a:ext cx="8462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образовательная  работа над рефератом по т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ение методической, педагогической и предметной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зор в Интернете информации по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ещение семинаров,  конференций, уроков колле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скуссии, совещания, обмен опытом с коллег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атическое прохождение курсов повышения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дение открытых занятий для анализа со стороны колле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учение информационно-компьютерных технолог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щение с коллегами в МДОУ, городе и в Интерн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ие в конкурсах в Интерн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мещение  своих разработок  на сайтах в Интерн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0" y="0"/>
            <a:ext cx="9143640" cy="6856920"/>
            <a:chOff x="0" y="0"/>
            <a:chExt cx="9143640" cy="6856920"/>
          </a:xfrm>
        </p:grpSpPr>
        <p:cxnSp>
          <p:nvCxnSpPr>
            <p:cNvPr id="63" name="_s7173"/>
            <p:cNvCxnSpPr>
              <a:stCxn id="64" idx="0"/>
              <a:endCxn id="65" idx="3"/>
            </p:cNvCxnSpPr>
            <p:nvPr/>
          </p:nvCxnSpPr>
          <p:spPr>
            <a:xfrm flipV="1" rot="16200000">
              <a:off x="5662800" y="1559520"/>
              <a:ext cx="1372320" cy="3736800"/>
            </a:xfrm>
            <a:prstGeom prst="bentConnector3">
              <a:avLst>
                <a:gd name="adj1" fmla="val 14274"/>
              </a:avLst>
            </a:prstGeom>
            <a:ln w="28440">
              <a:solidFill>
                <a:srgbClr val="cccc99"/>
              </a:solidFill>
              <a:miter/>
            </a:ln>
          </p:spPr>
        </p:cxnSp>
        <p:cxnSp>
          <p:nvCxnSpPr>
            <p:cNvPr id="66" name="_s7174"/>
            <p:cNvCxnSpPr>
              <a:stCxn id="67" idx="0"/>
              <a:endCxn id="65" idx="3"/>
            </p:cNvCxnSpPr>
            <p:nvPr/>
          </p:nvCxnSpPr>
          <p:spPr>
            <a:xfrm flipV="1" rot="16200000">
              <a:off x="4478040" y="2745000"/>
              <a:ext cx="1372320" cy="1366200"/>
            </a:xfrm>
            <a:prstGeom prst="bentConnector3">
              <a:avLst>
                <a:gd name="adj1" fmla="val 14274"/>
              </a:avLst>
            </a:prstGeom>
            <a:ln w="28440">
              <a:solidFill>
                <a:srgbClr val="cccc99"/>
              </a:solidFill>
              <a:miter/>
            </a:ln>
          </p:spPr>
        </p:cxnSp>
        <p:cxnSp>
          <p:nvCxnSpPr>
            <p:cNvPr id="68" name="_s7175"/>
            <p:cNvCxnSpPr>
              <a:stCxn id="69" idx="0"/>
              <a:endCxn id="65" idx="3"/>
            </p:cNvCxnSpPr>
            <p:nvPr/>
          </p:nvCxnSpPr>
          <p:spPr>
            <a:xfrm flipH="1" flipV="1" rot="5400000">
              <a:off x="3292200" y="2925720"/>
              <a:ext cx="1372320" cy="1005120"/>
            </a:xfrm>
            <a:prstGeom prst="bentConnector3">
              <a:avLst>
                <a:gd name="adj1" fmla="val 14274"/>
              </a:avLst>
            </a:prstGeom>
            <a:ln w="28440">
              <a:solidFill>
                <a:srgbClr val="cccc99"/>
              </a:solidFill>
              <a:miter/>
            </a:ln>
          </p:spPr>
        </p:cxnSp>
        <p:cxnSp>
          <p:nvCxnSpPr>
            <p:cNvPr id="70" name="_s7176"/>
            <p:cNvCxnSpPr>
              <a:stCxn id="71" idx="0"/>
              <a:endCxn id="65" idx="3"/>
            </p:cNvCxnSpPr>
            <p:nvPr/>
          </p:nvCxnSpPr>
          <p:spPr>
            <a:xfrm flipH="1" flipV="1" rot="5400000">
              <a:off x="2106720" y="1739880"/>
              <a:ext cx="1372320" cy="3376440"/>
            </a:xfrm>
            <a:prstGeom prst="bentConnector3">
              <a:avLst>
                <a:gd name="adj1" fmla="val 14274"/>
              </a:avLst>
            </a:prstGeom>
            <a:ln w="28440">
              <a:solidFill>
                <a:srgbClr val="cccc99"/>
              </a:solidFill>
              <a:miter/>
            </a:ln>
          </p:spPr>
        </p:cxnSp>
        <p:sp>
          <p:nvSpPr>
            <p:cNvPr id="65" name="_s7177"/>
            <p:cNvSpPr/>
            <p:nvPr/>
          </p:nvSpPr>
          <p:spPr>
            <a:xfrm>
              <a:off x="3555360" y="0"/>
              <a:ext cx="2032200" cy="2742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7cd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7c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омпонент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отовности педагога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амообразованию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7178"/>
            <p:cNvSpPr/>
            <p:nvPr/>
          </p:nvSpPr>
          <p:spPr>
            <a:xfrm>
              <a:off x="0" y="4114440"/>
              <a:ext cx="2032200" cy="2742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6e0e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когнитивный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базовая культура личности,  профессиональные знания,  умение их применять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7179"/>
            <p:cNvSpPr/>
            <p:nvPr/>
          </p:nvSpPr>
          <p:spPr>
            <a:xfrm>
              <a:off x="2370600" y="4114440"/>
              <a:ext cx="2032200" cy="2742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6e0e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мотивационный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осознание личной и общественной значимости непрерывного образования)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7180"/>
            <p:cNvSpPr/>
            <p:nvPr/>
          </p:nvSpPr>
          <p:spPr>
            <a:xfrm>
              <a:off x="4741560" y="4114440"/>
              <a:ext cx="2032200" cy="2742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6e0e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организационный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умение выбрать источники познания и формы самообразования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7181"/>
            <p:cNvSpPr/>
            <p:nvPr/>
          </p:nvSpPr>
          <p:spPr>
            <a:xfrm>
              <a:off x="7112520" y="4114440"/>
              <a:ext cx="2031120" cy="2742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6e0e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нравственно-волевой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(любознательность,  критичность, трудоспособность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611280" y="333360"/>
            <a:ext cx="7993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ЫБОР ТЕМЫ ДЛЯ САМООБРАЗОВАНИЯ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198900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учетом индивидуального опыта и профессионального мастерства каждого воспитат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аправлены на достижение качественно новых результатов раб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153180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БИР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8720" y="369108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60440" y="4411800"/>
            <a:ext cx="667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а из годовых задач ДО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блема, которая вызывает у педагога затрудн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полнение знаний по уже имеющемуся опыт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0" y="115920"/>
            <a:ext cx="88930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ЛГОРИТМ СОСТАВЛЕНИЯ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                                </a:t>
            </a: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ЛАНА ПО САМООБРАЗОВАНИЮ: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1630080"/>
            <a:ext cx="89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вание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полагаемый резуль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и выполнения каждого эта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йствия и мероприятия,  проводимые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ссе работы над те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особ демонстрации результата проделан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а отчета по проделан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616680"/>
            <a:ext cx="808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 работы по самообраз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____________группы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ДОУ д\с №___________________________________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_________________________________________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, зада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0:00:11Z</dcterms:created>
  <dc:creator>Дом</dc:creator>
  <dc:description/>
  <dc:language>en-US</dc:language>
  <cp:lastModifiedBy>Дом</cp:lastModifiedBy>
  <dcterms:modified xsi:type="dcterms:W3CDTF">2011-12-20T10:57:51Z</dcterms:modified>
  <cp:revision>3</cp:revision>
  <dc:subject/>
  <dc:title>Слайд 1</dc:title>
</cp:coreProperties>
</file>