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7E6A-7A34-4B46-A6A1-3D28332C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FEBA-D66B-4A9D-8418-E20856A7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267-8C91-46FD-9B65-19E41F95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0AF-AF21-4EF3-A916-6F9AEC04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C7BC-31FB-425F-AE50-FC216B6D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4FAA-6C85-4473-945E-807AD2CF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C946-8AE8-4443-9A5B-CA4EDB27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7ED9-EB52-4CA4-BF06-83B7E948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BB06-CF14-4FF3-B218-EFE594E4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A88E-102B-459A-9349-BB621006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DF4E-B075-4FD8-9CEC-8D60ED20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8C5-5477-4DE5-9BE0-22638D98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0798-E998-46E3-8D77-8CBA78EB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5EC2-080A-4691-B10F-624A7B9C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93AC-7A31-47C1-BDB4-95A040DF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EFD0-4BF6-4605-8590-C350D8FD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9115-F88E-42D9-A131-05EC4568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FA8F-DF31-48F9-9A2C-3B382612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BD1D-5B9B-4EF0-B5F6-62BD93B6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768-41C8-436B-A664-8697F6C7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D5A-A7B3-41E2-8C3A-313BC633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A4E8-A5C5-48F4-9E83-347F8656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74D-4835-4375-9360-E29FD306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96F-EFA0-40FB-A0DB-52CA9D41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01D2-B9E6-4CA8-94F3-B37441C0C9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8820-500F-4017-B5D4-8B80BD46013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905120"/>
            <a:ext cx="83678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Работа над частью С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План работы над сочинением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пишите вступление, отображающее актуальну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блему прочитанного тек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комментируйте сформулированную вами пробле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пирайтесь на текст, процитируйте ключевые понят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формулируйте авторскую позицию в тексте (основну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ысль текста – идею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ветьте на вопрос: «Как аргументирует (доказывает) сво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зицию автор?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разите свое отношение к сформулированной пробл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ргументируйте свою позицию, соотнесите ее с авторской. (Объясните, почему вы согласны или не согласны с автором прочитанного текста). Используйте для объяснения литературный или жизненный матери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ерьте свою работу, пользуясь «Схемой анализ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Вступление сочинения -</a:t>
            </a:r>
            <a:br>
              <a:rPr sz="2400"/>
            </a:br>
            <a:r>
              <a:rPr b="0" lang="en-US" sz="1800" spc="-1" strike="noStrike">
                <a:solidFill>
                  <a:srgbClr val="ffffb7"/>
                </a:solidFill>
                <a:latin typeface="Arial Black"/>
              </a:rPr>
              <a:t>формулирует тему и проблему всей работы, настраивает читателя на восприятие дальнейшего повествования.</a:t>
            </a:r>
            <a:br>
              <a:rPr sz="2000"/>
            </a:br>
            <a:br>
              <a:rPr sz="2000"/>
            </a:br>
            <a:br>
              <a:rPr sz="20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зможные варианты вступл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знаете что-либо об авторе, можно написать несколько слов о нём или о своём знакомстве с его книгами (если автор вам известен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писать о впечатлении, которое произвел текст. Если впечатление  отрицательное, лучше об этом умолчать, чтобы не было снижения баллов за этику. Если текст произвёл впечатление, желательно написать почем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жно обрисовать типичную (аналогичную изображённой в тексте) ситуацию.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Часто бывает так, что…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2697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Основная часть –</a:t>
            </a:r>
            <a:br>
              <a:rPr sz="2400"/>
            </a:br>
            <a:r>
              <a:rPr b="0" lang="en-US" sz="1800" spc="-1" strike="noStrike">
                <a:solidFill>
                  <a:srgbClr val="ffffb7"/>
                </a:solidFill>
                <a:latin typeface="Arial Black"/>
              </a:rPr>
              <a:t>должна отражать понимание исходного текста. Именно в этой части ты должен показать связь своей позиции и проблем, сформулированных автором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856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692d"/>
                </a:solidFill>
                <a:latin typeface="Arial"/>
              </a:rPr>
              <a:t>Проблема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о сложный теоретический или практический вопрос, требующий решения, исслед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блема должна быть обозначена более крупно, чем прос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астный случай, описанный автором (Например: пробл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илосердия, нравственного выбора (между чем и чем), социаль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раведливости, жестокого отношения (к чему или кому?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диночества, экологии, взаимоотношений «отцов и детей»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и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мысла (жизни, писательского труда и т. П.), сложности жизни, ро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книг, музыки, природы и т. п.) в жизни человека и д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Познакомьтесь с комментариями и попробуйте сформулировать проблемы, над которыми размышляли авторы исходных текстов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казывая об этом случае, автор обращает внимание читате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поведение героя. Подтекст помогает понять, как часто за скром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лчанием скрывается равнодушие к окружающим, а несобственн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ямая речь позволяет понять, насколько жесток и лицемерен эт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сонаж. Автор отмечает, что безразличие к судьбе собствен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мьи господствует над героем, превращая его в бездушное существ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лухое к страданиям окружающих, но, с другой стороны, герой и 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ытается меняться к лучшему, хотя и понимает, что душев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ерствость может стать причиной разрыва с самими близкими людь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зиция «моя хата с краю», которую выбрал для себя персона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каза, свойственна многим моим современни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92720" y="53006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( Проблема равнодушия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ьзуя ретроспекцию, автор дал возможность читател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нять, что героя многое связывает с покинутой Родино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тальное описание родного дома, речки, деревенских ж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зволило передать непреходящую боль человека, принявш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прометчивое решение покинуть страну. Но, подчеркива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исатель, такое состояние испытывают многие, оказавшиеся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добной ситуации, и кольцевая композиция создает впечат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мкнутого круга, из которого невозможно вырваться, к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возможно забыть свои истоки, все то, что когда-то наполня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изнь смыслом и радост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4724280"/>
            <a:ext cx="568980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(Проблема ностальгии; любви к Родин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Какие проблемы, исследуемые в текстах, предложенных для анализа на ЕГЭ, поднимают авторы?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юбовь к родин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блема интернационализм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блема памяти о своих истоках, о своем детств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блема исторической памя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 роли родителей в формировании личности ребен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 роли чтения в жизни челове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блема семейных отнош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блема выбора професс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блемы варварского отношения к природ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 влиянии природы на челове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блема социальной ответственности ученых за их изобрет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блемы добра и з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блемы личности и вла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многие друг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692d"/>
                </a:solidFill>
                <a:latin typeface="Arial"/>
              </a:rPr>
              <a:t>Комментарии</a:t>
            </a:r>
            <a:r>
              <a:rPr b="0" i="1" lang="en-US" sz="2000" spc="-1" strike="noStrike">
                <a:solidFill>
                  <a:srgbClr val="ff692d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о «рассуждения, пояснительные замеч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 поводу чего-либ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мментарий проблемы исходного текста предполагает сво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да анализ этого текста, обращение к особенностям 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мпозиции, к использованным автором стилистическим прием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изобразительным средствам: именно здесь ты получаеш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зможность продемонстрировать свое умение поня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собенности как содержания, так и формы исходного текста, 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емы, которые помогают автору обозначить проблему ярко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моционально, подчеркнуть её значимость, а затем – и выраз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ское отношение к н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Синтаксические конструкции, используемые при текстуальном комментарии: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2665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чало коммента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дол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мента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987280" y="1341000"/>
            <a:ext cx="583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блему (чего?) автор раскрывает на пример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от вопрос автор раскрывает, изуча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матривая проблему (чего?) на примере…, автор с (иронией,  тревогой, возмущением и т.д.) рассказывает о том, чт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мментируя данную проблему, хочется отметить ее (типичность; новизну; актуальность и т.д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блема актуальна особенно сегодня, потому чт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 текста обращает внимание читателя на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и одна деталь не остается незамеченной автором, и поэтому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 так воссоздает эту историю, чт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2952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Финальная ча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ментария и перех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 формулиров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вторской пози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47640" y="549000"/>
            <a:ext cx="5545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читателе писатель предполагает единомышленника, и потому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кст привлекает внимание не только композиционным построением, но и глубиной авторской мысли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случайно писатель особо подчеркивает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исатель всем ходом повествования доказывает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 обосновывает справедливость своих суждений, использу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ким образом, авторская позиция по исследуемой проблеме очевидна: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вот авторская позиция по данной пробл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 считает, что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i="1" lang="en-US" sz="2000" spc="-1" strike="noStrike">
                <a:solidFill>
                  <a:srgbClr val="ff692d"/>
                </a:solidFill>
                <a:latin typeface="Arial"/>
              </a:rPr>
              <a:t>Позиция автор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это основная мысль текста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о, что 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выкли называть «идеей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 определить основную мысль текста (позицию автора)? 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жет быть предъявлена в начале текста и затем подтвержд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ими-либо доводами и примерами или в конце текста – к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вод, ответ на проблемный вопрос, поставленный в нача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к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сновную мысль текста следует выразить кратко, одной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умя  фразами; можно привести цитату из текста, но ни в ко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лучае не пересказывая и, тем более, не переписывая его. В эт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асти сочинения также можно указать на те приё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изобразительные средства или синтаксические фигуры), котор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могают автору выразить свою позицию особенно ярко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бедительно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Прочитай задание, в котором излагаются требования к сочинению на ЕГЭ по русскому языку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77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пишите сочинение по прочитанному текст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формулируйте и прокомментируйте одну из проблем, поставленных автором текста (избегайте чрезмерного цитировани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формулируйте позицию автора. Напишите согласны или не согласны вы с точкой зрения автора прочитанного текста. Объясните почему. Свой ответ аргументируйте, опираясь на знания, читательский, жизненный опыт (учитываются первые два аргумента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ъем сочинения – не менее 150 с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а, написанная без опоры на прочитанный текст (не по данному тексту) не оценива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сочинение представляет собой пересказанный или полностью переписанный исходный текст без каких бы то ни было комментариев, то такая работа оценивается 0 бал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чинение пишите аккуратно, разборчивым почерк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Синтаксические «маркеры», используемые при концепционном комментарии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мой взгляд, автор одним их первых привлек внимание читателя к подобным явлени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 мнению автора, подобные явления все чаще и чаще встречаются в нашей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 дает прямые оценки явлениям и событиям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 обосновывает справедливость своих суждений, использу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традиционны и интересны аргументы, используемые автор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визна авторского взгляда на поднятую проблему в то, чт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иллюстрации основного тезиса автор использует яркие приме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 считает, чт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у важно убедить читателя в том, что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 утверждает, чт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Как выстроить аргументацию?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Аргументация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это приведение доказательств, объяснений, примеров для обоснования какой-либо мысли перед слушателями (читателями) или собеседник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тому что (так как)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РГУМЕНТ 1           АРГУМЕНТ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Что следует из вышесказанного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3640" y="2133720"/>
            <a:ext cx="237636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Почему это так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4000" y="22766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40360" y="2276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3500280"/>
            <a:ext cx="289080" cy="976320"/>
          </a:xfrm>
          <a:prstGeom prst="downArrow">
            <a:avLst>
              <a:gd name="adj1" fmla="val 50000"/>
              <a:gd name="adj2" fmla="val 8443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64000" y="3500280"/>
            <a:ext cx="287640" cy="976320"/>
          </a:xfrm>
          <a:prstGeom prst="downArrow">
            <a:avLst>
              <a:gd name="adj1" fmla="val 50000"/>
              <a:gd name="adj2" fmla="val 84856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5013360"/>
            <a:ext cx="3097080" cy="720720"/>
          </a:xfrm>
          <a:prstGeom prst="downArrowCallout">
            <a:avLst>
              <a:gd name="adj1" fmla="val 107440"/>
              <a:gd name="adj2" fmla="val 10743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250920" y="260280"/>
            <a:ext cx="8496720" cy="5878800"/>
            <a:chOff x="250920" y="260280"/>
            <a:chExt cx="8496720" cy="5878800"/>
          </a:xfrm>
        </p:grpSpPr>
        <p:cxnSp>
          <p:nvCxnSpPr>
            <p:cNvPr id="160" name="_s49165"/>
            <p:cNvCxnSpPr>
              <a:stCxn id="161" idx="3"/>
              <a:endCxn id="162" idx="2"/>
            </p:cNvCxnSpPr>
            <p:nvPr/>
          </p:nvCxnSpPr>
          <p:spPr>
            <a:xfrm flipV="1">
              <a:off x="3891960" y="1194480"/>
              <a:ext cx="607320" cy="4144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3" name="_s49164"/>
            <p:cNvCxnSpPr>
              <a:stCxn id="164" idx="1"/>
              <a:endCxn id="162" idx="2"/>
            </p:cNvCxnSpPr>
            <p:nvPr/>
          </p:nvCxnSpPr>
          <p:spPr>
            <a:xfrm rot="10800000">
              <a:off x="4498560" y="1194120"/>
              <a:ext cx="506880" cy="2125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49163"/>
            <p:cNvCxnSpPr>
              <a:stCxn id="166" idx="3"/>
              <a:endCxn id="162" idx="2"/>
            </p:cNvCxnSpPr>
            <p:nvPr/>
          </p:nvCxnSpPr>
          <p:spPr>
            <a:xfrm flipV="1">
              <a:off x="3891960" y="1194480"/>
              <a:ext cx="607320" cy="1769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2" name="_s49159"/>
            <p:cNvSpPr/>
            <p:nvPr/>
          </p:nvSpPr>
          <p:spPr>
            <a:xfrm>
              <a:off x="2678400" y="260280"/>
              <a:ext cx="3641400" cy="934560"/>
            </a:xfrm>
            <a:prstGeom prst="roundRect">
              <a:avLst>
                <a:gd name="adj" fmla="val 16648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b7"/>
                  </a:solidFill>
                  <a:latin typeface="Arial"/>
                </a:rPr>
                <a:t>Виды аргументов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49160"/>
            <p:cNvSpPr/>
            <p:nvPr/>
          </p:nvSpPr>
          <p:spPr>
            <a:xfrm>
              <a:off x="250920" y="2134440"/>
              <a:ext cx="3641400" cy="1652400"/>
            </a:xfrm>
            <a:prstGeom prst="roundRect">
              <a:avLst>
                <a:gd name="adj" fmla="val 18435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Логические – доводы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аппелирующие к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человеческому рассудку, к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разум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49161"/>
            <p:cNvSpPr/>
            <p:nvPr/>
          </p:nvSpPr>
          <p:spPr>
            <a:xfrm>
              <a:off x="5005800" y="1917720"/>
              <a:ext cx="3741840" cy="2804040"/>
            </a:xfrm>
            <a:prstGeom prst="roundRect">
              <a:avLst>
                <a:gd name="adj" fmla="val 18435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Психологические – доводы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которые вызывают 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адресата определен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чувства, эмоции и формирую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определенное отношение к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описываемому человеку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явлению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49162"/>
            <p:cNvSpPr/>
            <p:nvPr/>
          </p:nvSpPr>
          <p:spPr>
            <a:xfrm>
              <a:off x="250920" y="4537440"/>
              <a:ext cx="3641400" cy="1601640"/>
            </a:xfrm>
            <a:prstGeom prst="roundRect">
              <a:avLst>
                <a:gd name="adj" fmla="val 18435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Иллюстративные – примеры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поддерживающие аргумен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4000" y="981000"/>
            <a:ext cx="2376360" cy="19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 логическ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ргумент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нося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43280" y="170028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476280"/>
            <a:ext cx="4753080" cy="28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учные аксио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оны природы, выводы, подтвеж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нные экспериментальн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казания очевидце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ры из жизни или художест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нной литератур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итаты из авторитетных источ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3860640"/>
            <a:ext cx="2664000" cy="19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 психологически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ргумента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нося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0800000">
            <a:off x="4859280" y="465264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3573360"/>
            <a:ext cx="4319640" cy="24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моциональная убежден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ишущег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ры, вызывающие эмоци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льный отклик адреса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казание на положительные и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гативные последствия при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ятия тезиса авт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Обратимся к примеру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1800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ргумент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ллюстр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ргумент 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ллюстр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ыво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339640" y="907560"/>
            <a:ext cx="655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рьезная музыка подобна чудодейственно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екарству?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Почему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Так как…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амом деле, иногда любую душе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авму способна исцелить прекрасная мелод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к духовную музыку, благодаря ее способ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легчает боль, ученые называют анальгетиком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ре зву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Так как)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ту автора подтверждает и опы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удожественной литературы. Во многих произвед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казывается о том, как музыка буквально спас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юдей в труднейших жизненных ситуац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пример, Петрусь, герой повести В.Г.Королен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Слепой музыкант», родился слепым. Он мог всю жиз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увствовать себя неполноценным, однако му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могла ему выжить и стать по-настоящему талантлив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ианис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Что следует из вышесказанного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ким образом, музыка, проникая в сердце челове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живляет его, дает исцеляющую сил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Примеры литературных аргументов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 проблеме истинной и ложной красот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помним ослепительную красавицу Элен Безухову из ром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попеи Л.Н. Толстого «Война и мир», которая, безусловн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вляется самой яркой женщиной в светском обществе. Однако е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упки говорят о том, что она безнравственна, бездухов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ого же плана и образ Ольги Лариной из романа в стихах А.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шкина «Евгений Онегин». Она прекрасна внешне, её красо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евает молодой поэт Владимир Ленский. И толь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мущённый бессмысленностью существования Онегин (а вмес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ним и А.С. Пушкин) замечает, что Ольга пуста, она «как э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упая луна на этом глупом небосклоне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Хряпина 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ученица 11 кл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 проблеме исторической памят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сские писатели первыми стали поднимать проблему памя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воих произведениях. Например, в повести В. Распут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Прощание с Матерой» показано, как гибель деревни, затоплен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юдьми, приводит к гибели духовной, когда жители деревни руша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жигают, уничтожают то, что было для их предков священно,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же к гибели физической, когда люди, не нашедшие в себе си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вать узы, связывающие с их предками, готовы уйти вместе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ным островом под во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кударнова 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ученица 10 кл.)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Различают 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аргументы «за» 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и 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аргументы «против»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Как можно изложить согласие с мнением автора?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ледует отметить, что бесспорность авторской позиции не вызывает сомн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 убедительно доказывает, что…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равоте авторских оценок не приходится сомневать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думаю, что у кого-то вызовет возражение авторское мнение о том, чт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бежденность автора в правильности данных им оценок передается и читателю…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агаю, что вряд ли у автора будут оппоненты и т.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Как можно </a:t>
            </a:r>
            <a:r>
              <a:rPr b="1" lang="en-US" sz="2400" spc="-1" strike="noStrike" u="sng">
                <a:solidFill>
                  <a:srgbClr val="ffffb7"/>
                </a:solidFill>
                <a:uFillTx/>
                <a:latin typeface="Arial Black"/>
              </a:rPr>
              <a:t>этически корректно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возразить автору, излагая свою позицию?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, по-моему, не совсем прав, утверждая, чт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очка зрения автора, конечно, интересна, но я считаю, чт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мой взгляд, автор несколько категоричен в своих сужден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ская точка зрения, как мне кажется, довольна спор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 считаю, что не совсем справедливо утверждение автора о том, чт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умаю, что дискуссионным является утверждение автора о том, чт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-моему, автор не совсем прав, не замечая тот факт, чт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 справедливо осуждает…, однако я не могу согласиться с тем, чт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тверждение, высказанное автором, не вызывает сомнений, но, насколько я знаю, есть и такая точка зрения: 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льзя не согласиться с авторской точкой зрения, но я считаю, чт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Вывод (заключение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2266920"/>
            <a:ext cx="800748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и любое высказывание, текст сочинения должен быть законченным, завершенным, то есть нужно коротко подвести итог: «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Таким образом, нельзя не согласитьс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» или «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ожно бесконечно размышлять на эту тему, но главно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….» и т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5183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Ознакомьтесь с критериями оценки сочинения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1 Сформулирована одна из проблем исходного текста – 1 бал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сформулирована ни одна из проблем исходного текста – 0 бал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2 Проблема прокомментирована – 2 бал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блема прокомментирована, но допущена не более одной фактической ошибки в комментариях – 1 бал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блема не прокомментирована или допущено более одной фактической ошибки – 0 бал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3 Сформулирована верно позиция автора исходного текста – 1 бал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зиция сформулирована не верно или вообще не сформулирована – 0 бал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4 Выражено свое мнение по проблеме, приведено не менее двух аргументов из жизненного опыта и художественной литературы – 3 бал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ражено свое мнение, приведен один аргумент из художественной литературы – 2 бал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ражено свое мнение, приведен один аргумент из жизненного опыта – 1 бал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851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Схема анализа своей работы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147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00360" y="4292640"/>
            <a:ext cx="2089080" cy="2376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203640" y="1341360"/>
            <a:ext cx="3168720" cy="1297080"/>
          </a:xfrm>
          <a:prstGeom prst="cloudCallout">
            <a:avLst>
              <a:gd name="adj1" fmla="val -15078"/>
              <a:gd name="adj2" fmla="val 7227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 написал комментарий к этой пробле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04000" y="765000"/>
            <a:ext cx="2160720" cy="1729080"/>
          </a:xfrm>
          <a:prstGeom prst="cloudCallout">
            <a:avLst>
              <a:gd name="adj1" fmla="val -57569"/>
              <a:gd name="adj2" fmla="val 4761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 объяснил авторскую позицию (идею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10200" y="2997360"/>
            <a:ext cx="4033800" cy="2519280"/>
          </a:xfrm>
          <a:prstGeom prst="cloudCallout">
            <a:avLst>
              <a:gd name="adj1" fmla="val -52203"/>
              <a:gd name="adj2" fmla="val 4867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 высказал собственное мнение по сформулированной проблеме и привел не менее двух своих приме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765000"/>
            <a:ext cx="2355840" cy="1297080"/>
          </a:xfrm>
          <a:prstGeom prst="cloudCallout">
            <a:avLst>
              <a:gd name="adj1" fmla="val 37666"/>
              <a:gd name="adj2" fmla="val 5465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 определил одну пробле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2421000"/>
            <a:ext cx="3168720" cy="2520720"/>
          </a:xfrm>
          <a:prstGeom prst="cloudCallout">
            <a:avLst>
              <a:gd name="adj1" fmla="val 36523"/>
              <a:gd name="adj2" fmla="val 5529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 не забыл разделить текст на абзацы, следя за логичностью рассужд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68360" y="765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24360" y="2781360"/>
            <a:ext cx="1603440" cy="3581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333360"/>
            <a:ext cx="2664000" cy="1582920"/>
          </a:xfrm>
          <a:prstGeom prst="wedgeEllipseCallout">
            <a:avLst>
              <a:gd name="adj1" fmla="val 42370"/>
              <a:gd name="adj2" fmla="val 5019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 следил за точностью выражения моих мыс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907920"/>
            <a:ext cx="2519280" cy="1152720"/>
          </a:xfrm>
          <a:prstGeom prst="wedgeRoundRectCallout">
            <a:avLst>
              <a:gd name="adj1" fmla="val 23157"/>
              <a:gd name="adj2" fmla="val 77824"/>
              <a:gd name="adj3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меня нет орфографических ошиб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27640" y="404640"/>
            <a:ext cx="2643480" cy="1368720"/>
          </a:xfrm>
          <a:prstGeom prst="wedgeEllipseCallout">
            <a:avLst>
              <a:gd name="adj1" fmla="val -50000"/>
              <a:gd name="adj2" fmla="val 5301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меня нет пунктуационных ошиб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2421000"/>
            <a:ext cx="2303280" cy="1439640"/>
          </a:xfrm>
          <a:prstGeom prst="wedgeEllipseCallout">
            <a:avLst>
              <a:gd name="adj1" fmla="val 64953"/>
              <a:gd name="adj2" fmla="val 324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меня нет грамматических ошиб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72360" y="2421000"/>
            <a:ext cx="2447640" cy="1330200"/>
          </a:xfrm>
          <a:prstGeom prst="wedgeEllipseCallout">
            <a:avLst>
              <a:gd name="adj1" fmla="val -61023"/>
              <a:gd name="adj2" fmla="val 44986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меня нет речевых ошиб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4292640"/>
            <a:ext cx="2374920" cy="1441440"/>
          </a:xfrm>
          <a:prstGeom prst="wedgeRoundRectCallout">
            <a:avLst>
              <a:gd name="adj1" fmla="val 69384"/>
              <a:gd name="adj2" fmla="val -49777"/>
              <a:gd name="adj3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бота не содержит некорректных высказы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72360" y="4365720"/>
            <a:ext cx="2520720" cy="1511280"/>
          </a:xfrm>
          <a:prstGeom prst="wedgeRoundRectCallout">
            <a:avLst>
              <a:gd name="adj1" fmla="val -66310"/>
              <a:gd name="adj2" fmla="val -55462"/>
              <a:gd name="adj3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меня отсутствуют фактические ошибки на фоновом уров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594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ражено свое мнение, но не приведены аргументы – 0 бал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5 Работа характеризуется смысловой цельностью, речевой связностью, последовательностью изложения. Нет нарушений абзацного членения – 2 бал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а характеризуется смысловой цельностью, связностью, последовательностью изложения, но допущена одна логическая ошибка, 1 нарушение абзацного членения – 1 бал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работе просматривается коммуникативный замысел, допущено более одной логической ошибки, 2 случая нарушения абзацного членения – 0 бал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6 Работа характеризуется точностью выражения мысли, разнообразием грамматического  строя речи – 2 бал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а характеризуется точностью выражения мысли,  но прослеживается однообразие грамматического  строя речи – 1 бал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а отличается бедностью словаря, однообразием грамматического строя речи – 0 бал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7  Орфографических ошибок нет (или одна негрубая ошибка) – 2    бал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пущена одна ошибка – 1 бал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пущено более одной ошибки – 0 бал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8  Пунктуационных ошибок нет (или одна негрубая ошибка) – 2 бал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пущены одна - две ошибки – 1 бал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пущено более двух ошибок – 0 бал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9  Грамматических ошибок нет – 2 бал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пущены одна - две ошибки – 1 бал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пущено более двух ошибок – 0 бал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10  Допущено не более одной речевой ошибки – 2 бал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пущены две - три ошибки – 1 бал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пущено более трех ошибок – 0 бал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11  Этические нормы отсутствуют – 1 бал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пущены этические нормы – 0 бал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12  Фактические ошибки в фоновом материале отсутствуют – 1 бал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пущены фактические ошибки в фоновом материале – 0 бал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539640" y="260280"/>
            <a:ext cx="8208000" cy="6192360"/>
            <a:chOff x="539640" y="260280"/>
            <a:chExt cx="8208000" cy="6192360"/>
          </a:xfrm>
        </p:grpSpPr>
        <p:cxnSp>
          <p:nvCxnSpPr>
            <p:cNvPr id="106" name="_s3089"/>
            <p:cNvCxnSpPr>
              <a:stCxn id="107" idx="1"/>
              <a:endCxn id="108" idx="2"/>
            </p:cNvCxnSpPr>
            <p:nvPr/>
          </p:nvCxnSpPr>
          <p:spPr>
            <a:xfrm rot="10800000">
              <a:off x="3001320" y="1144080"/>
              <a:ext cx="821520" cy="4866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3087"/>
            <p:cNvCxnSpPr>
              <a:stCxn id="110" idx="1"/>
              <a:endCxn id="108" idx="2"/>
            </p:cNvCxnSpPr>
            <p:nvPr/>
          </p:nvCxnSpPr>
          <p:spPr>
            <a:xfrm rot="10800000">
              <a:off x="3001320" y="1144080"/>
              <a:ext cx="821520" cy="3539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3086"/>
            <p:cNvCxnSpPr>
              <a:stCxn id="112" idx="1"/>
              <a:endCxn id="108" idx="2"/>
            </p:cNvCxnSpPr>
            <p:nvPr/>
          </p:nvCxnSpPr>
          <p:spPr>
            <a:xfrm rot="10800000">
              <a:off x="3001320" y="1144080"/>
              <a:ext cx="821520" cy="22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3085"/>
            <p:cNvCxnSpPr>
              <a:stCxn id="114" idx="1"/>
              <a:endCxn id="108" idx="2"/>
            </p:cNvCxnSpPr>
            <p:nvPr/>
          </p:nvCxnSpPr>
          <p:spPr>
            <a:xfrm rot="10800000">
              <a:off x="3001320" y="1144080"/>
              <a:ext cx="821520" cy="885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8" name="_s3081"/>
            <p:cNvSpPr/>
            <p:nvPr/>
          </p:nvSpPr>
          <p:spPr>
            <a:xfrm>
              <a:off x="539640" y="260280"/>
              <a:ext cx="4924800" cy="8845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Что требуетс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3082"/>
            <p:cNvSpPr/>
            <p:nvPr/>
          </p:nvSpPr>
          <p:spPr>
            <a:xfrm>
              <a:off x="3822840" y="1587240"/>
              <a:ext cx="4924800" cy="8845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выявить и сформулировать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проблему текста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3083"/>
            <p:cNvSpPr/>
            <p:nvPr/>
          </p:nvSpPr>
          <p:spPr>
            <a:xfrm>
              <a:off x="3822840" y="2914200"/>
              <a:ext cx="4924800" cy="8845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прокомментировать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сформулированную проблему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3084"/>
            <p:cNvSpPr/>
            <p:nvPr/>
          </p:nvSpPr>
          <p:spPr>
            <a:xfrm>
              <a:off x="3822840" y="4241160"/>
              <a:ext cx="4924800" cy="8845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сформулировать позицию автор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по выделенной проблеме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3088"/>
            <p:cNvSpPr/>
            <p:nvPr/>
          </p:nvSpPr>
          <p:spPr>
            <a:xfrm>
              <a:off x="3822840" y="5568120"/>
              <a:ext cx="4924800" cy="8845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сформулировать и аргументировать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свою позицию по выделенно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проблем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Алгоритм работы с исходным текстом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нимание содержания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1. Внимательно прочитайте тек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2. Ответьте на вопрос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«О чем текст?»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определите тему текст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обходимо помнить, что определить тему текста помогаю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глав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ючевые сло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вое предложение текста (или первый абзац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3. Ответьте на вопрос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«Что хотел сказать автор?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определи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сновную мысль текста, идею, авторскую позицию). Определить иде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жет помоч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главие (оно часто выражает отношение автора к тому, о чем пойдет речь в текст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ледний абзац текста. Именно в этой части обыч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держатся выводы. Иногда текст строится иначе: снач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сновной тезис, а потом его доказательство или иллюстрация 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му. Тогда подсказкой становится, наоборот, первый абзац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4. Ответьте на вопрос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«Как аргументирует (доказывае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вою позицию автор?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5. Ответьте на вопрос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«Как сказал автор?»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определите стиль, тип текста, языковые особенности текст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Проблематика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1. Определите проблему (проблемы) текста. Ответьте на вопрос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«Какие вопросы поднимает автор, о чем предлагает поразмышлять своему читателю?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2. Вычлените среди них актуальную (актуальны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3. Прокомментируйте ее (их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4. Соотнесите свой комментарий с текс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28335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ипы реч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исание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суж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еств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3203640" y="836280"/>
            <a:ext cx="2735280" cy="1440000"/>
          </a:xfrm>
          <a:custGeom>
            <a:avLst/>
            <a:gdLst>
              <a:gd name="textAreaLeft" fmla="*/ 0 w 2735280"/>
              <a:gd name="textAreaRight" fmla="*/ 2735640 w 27352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3727800">
            <a:off x="875160" y="14374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6343800">
            <a:off x="7067880" y="1508400"/>
            <a:ext cx="1214640" cy="7336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3414000">
            <a:off x="4186800" y="28774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2637000"/>
            <a:ext cx="2664000" cy="40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остряет вним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итателя на наибол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ажных, значим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астях предме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вления, позволя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видеть т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 ва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59280" y="4005360"/>
            <a:ext cx="3168360" cy="20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итатель долж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анализировать после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тельность событи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йти узловые мест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поня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скую позиц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3640" y="2637000"/>
            <a:ext cx="2449440" cy="40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матрив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ну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у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ом-либо частн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мере, ав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двигает тезис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гументирует ег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лает выв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итатель долж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 конкрет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ской мысл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видеть широк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у и сфор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улировать 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15:16:09Z</dcterms:created>
  <dc:creator>Admin</dc:creator>
  <dc:description/>
  <dc:language>en-US</dc:language>
  <cp:lastModifiedBy>Admin</cp:lastModifiedBy>
  <dcterms:modified xsi:type="dcterms:W3CDTF">2011-03-20T08:47:17Z</dcterms:modified>
  <cp:revision>11</cp:revision>
  <dc:subject/>
  <dc:title>Работа над частью С</dc:title>
</cp:coreProperties>
</file>