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54.png" ContentType="image/png"/>
  <Override PartName="/ppt/media/image53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69.wmf" ContentType="image/x-wmf"/>
  <Override PartName="/ppt/media/image22.png" ContentType="image/png"/>
  <Override PartName="/ppt/media/image68.wmf" ContentType="image/x-wmf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28.wmf" ContentType="image/x-wmf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3.png" ContentType="image/png"/>
  <Override PartName="/ppt/media/image26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18.wmf" ContentType="image/x-wmf"/>
  <Override PartName="/ppt/media/image6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5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F1E-7392-4947-8ED9-EB3DF836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7A9-F666-4CFF-AB10-A34C9A9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8AE-D85A-4D46-8B36-D466F627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29A-4B24-4424-B6D0-CC23A7AC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C6DD-F4C2-40F0-BBD3-B34F328C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F52-8AED-416A-87BD-54B9047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10C7-F9E0-4727-9711-6E884B0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AF0D-E974-44F5-BCC3-243BD68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6453-DFED-4CE1-8123-F36DE6F5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3CE-0E03-4A07-9400-9ED20E01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BB38-8968-49EE-915A-4D57B514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DD0-D8D6-4162-A622-6A889477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1CB-6BCC-4C60-B1CA-592FAB4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559-22A6-43EE-ACA5-198AD669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5E74-FDE4-4A68-9C6E-A793DE0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909A-9ACF-4060-8E05-B49C72C2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FB7-BF13-489F-9DFB-6815FCB7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901-D8BD-4120-A517-68959C2D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58C-32A4-40B0-B473-4C7C8759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B98-B04E-4C84-87B4-B90B0EA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E5B-1371-441D-863C-0AE764AD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30F-3CD5-4EF0-A249-421CF2A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366-E570-4CBA-972C-7E00B6C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83D-DCF6-40C9-8D9E-79492D3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A89-5B6A-44BE-A0F8-46FD667FB2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BCF-1C0D-4595-95C6-DDA1F87838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рок-презентация 5 класс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урока «Доли и дроб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ет число под черт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частей (долей) разделили еди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ое разделили на 5 рав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ей (доле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382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бразуются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один предмет или единица измерения делятся на равные ча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ет число под чер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долей разделили единиц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Половин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ая известная доля – это, конечно, половина. Слова с приставкой «пол» можно услышать часто: полчаса, полкилометра… Разделили целое на две части – «половина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лю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половин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417600" cy="1476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1150920" cy="1100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934320" y="3886200"/>
            <a:ext cx="1268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Треть.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вание доли зависит от того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 сколько равных частей раздел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единиц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Разделили на три части – «треть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ю  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тре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1743120" cy="1675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341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твер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целое разделили н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, 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учается     или по другом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воря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четверть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667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азываются другие дол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если разделить на пять частей, то что ли «пятерть», на шесть – «шестерть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х смешных слов в русском языке нет. Чтобы назвать доли пользуются словами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пятая»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шеста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rot="21215400">
            <a:off x="457200" y="2971440"/>
            <a:ext cx="1147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полни зада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по другому можно назвать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верть, тре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57320" y="2438280"/>
            <a:ext cx="54288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56988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542880" cy="866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77920" cy="87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16765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297180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403848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48769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1127160" y="4419720"/>
            <a:ext cx="387360" cy="952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1600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286000" y="441972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2743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3200400" y="4419720"/>
            <a:ext cx="4190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Одолела нас дремо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Шевельнуться неох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Ну-ка делайте со мно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пражнение тако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Раз – поднялись, потя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Два – нагнулись, разог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ри – в ладоши три хлоп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75360" y="685800"/>
            <a:ext cx="1515960" cy="212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1121040" cy="191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134120" y="2895480"/>
            <a:ext cx="1419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гадайте ребус и узнаете с чем мы сейчас познакомимс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Дроб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986040" cy="1957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1218960" cy="1031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ая дроб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писи вида       называ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ыми дробями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и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рта дроби (дробная чер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351000" cy="819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590760" cy="1467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191120" y="3048120"/>
            <a:ext cx="3200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648320" y="457164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650"/>
                            </p:stCondLst>
                            <p:childTnLst>
                              <p:par>
                                <p:cTn id="7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у-ка, проверь друж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на мест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в порядк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аждый хочет получ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олька лишь оценку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219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ждый может за верст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деть дробную чер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 чертой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числит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знайт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чертою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знамена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обь такую, непреме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о звать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ой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азовите числитель и знамена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ждой     дроб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53360" y="31240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133720" y="5410080"/>
            <a:ext cx="574560" cy="962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324480" y="5257800"/>
            <a:ext cx="665280" cy="1238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05520" y="5257800"/>
            <a:ext cx="563400" cy="1247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238880" y="1219320"/>
            <a:ext cx="78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ример:       - одна пятая;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две шест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осемьдесят три 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тьдесят втор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4308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14280" cy="695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ют числитель  и  знаменатель дроб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показывает, на сколько долей делят, а числитель – 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очитайте дроби. Что показывает числитель и знаменатель каждой дроб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755880" y="5410080"/>
            <a:ext cx="54936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68360" cy="81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765760" y="5257800"/>
            <a:ext cx="345960" cy="1038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553080" y="5410080"/>
            <a:ext cx="527040" cy="819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524160" cy="1047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441972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541008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6172200" y="5486400"/>
            <a:ext cx="30492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7162920" y="5562720"/>
            <a:ext cx="304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Запишите в виде обыкновенной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 сед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е дев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на сота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есть вос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двадцать п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561960" cy="866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920" cy="809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4640" cy="76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3733920" y="2971800"/>
            <a:ext cx="55080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76212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3657600" y="4724280"/>
            <a:ext cx="4381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466720" cy="1114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429000" y="4191120"/>
            <a:ext cx="1676520" cy="1361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095560" cy="1209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762120" y="41148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5181480" y="2133720"/>
            <a:ext cx="4287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8001000" y="213372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2286000" y="3886200"/>
            <a:ext cx="343080" cy="885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724280" y="3809880"/>
            <a:ext cx="40968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7772400" y="3962520"/>
            <a:ext cx="371520" cy="904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1752480" y="1981080"/>
            <a:ext cx="360360" cy="8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68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68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задания по тем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ые дроби,п.23, №901, 9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Скорей обо всём рассказ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001960" cy="2063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2257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рок-презентация 5 класс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урока «Доли и дроб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Доли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накомить с понятием доля, половина, треть, четверть, обыкновенная дробь, числитель и знаменатель дроб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вать умение  читать и записывать обыкновенную дробь по числителю и знаменател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спитывать уважительное отношение к окружающим, внимание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опросы к рассмотрению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, треть, четвер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ая дроб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ют числитель и 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истории дроб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ма купила арбу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зрезала его на 6 равных частей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1333800" cy="88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4479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324480" y="3276720"/>
            <a:ext cx="1333800" cy="88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5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бушке, дедушке, папе, дву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ям и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255680" cy="243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241280" cy="207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886200" y="990720"/>
            <a:ext cx="1077840" cy="2412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1146240" cy="2597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5638680" y="1600200"/>
            <a:ext cx="100188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129528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81952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495680" y="19810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571500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723888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2057400" y="4114800"/>
            <a:ext cx="95256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то такое доля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ля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каждая из равных частей единицы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как арбуз разрезали на 6 равных частей, значит его разделили на 6 долей и каждый получил «одну шестую» долю арбуза, или, короче  «одну шестую арбуз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 записывают дол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записи любой доли используют горизонтальную чёрточку. Её называют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робной чер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шут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20192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тематика</cp:lastModifiedBy>
  <dcterms:modified xsi:type="dcterms:W3CDTF">2011-11-09T11:32:55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