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0E56-215C-48E9-AD18-3D7CAE4C6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13DD-348E-43C9-9582-D5070BBFE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D57-1699-4CBC-9E43-20EC86CF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64F-F7C4-4B75-A51D-DE8A2C5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9FD-D8FC-493D-8823-4FF94559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E4B-2BF0-4298-BB11-62DBC10C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C0F-2E84-426D-A8B7-6CA87C95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29E-0D67-49CA-9219-6719FCF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DD2-4FC2-48A2-99CE-EBFFC3F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8C3-FF39-4277-952E-8B95618A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159-C17B-4608-AEC9-B9DF1136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03C-9896-4B06-87A8-4F7A029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E3B-8720-4D07-B5AF-88F88B6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84-3A58-4EE4-B14F-F23A630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208-DC65-41A7-92EB-7568EC865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уществовала некогда послов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Что дети не живут, а жить гото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о вряд ли в жизни преуспеет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Кто жить готовясь, в детстве не жив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03. Белые кораблики.mp3" descr=""/>
          <p:cNvPicPr/>
          <p:nvPr/>
        </p:nvPicPr>
        <p:blipFill>
          <a:blip r:embed="rId1"/>
          <a:stretch/>
        </p:blipFill>
        <p:spPr>
          <a:xfrm>
            <a:off x="64296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Упоминания о жестокостях к детям в различных литературных источниках встречаются до II в.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убивали в ритуальных целях: считалось, что убитый ребенок может помочь бесплодным женщинам справиться с болезнями, обеспечить здоровье и молод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х хоронили под фундаментом здания, чтобы сделать его проч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продавали и покуп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41934889_bit"/>
          <p:cNvPicPr/>
          <p:nvPr/>
        </p:nvPicPr>
        <p:blipFill>
          <a:blip r:embed="rId1"/>
          <a:stretch/>
        </p:blipFill>
        <p:spPr>
          <a:xfrm>
            <a:off x="4932360" y="476280"/>
            <a:ext cx="4108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2008 году от жестокого обращения с детьми погибло 1914 детей, искалечено 2330 детей (по данным из Совета Федера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оло 10 тыс. родителей лишаются судами родительских прав и более 2,5 тыс. детей забираются у родителей без такого лишения, поскольку нахождение ребенка в семье представляет угрозу его жизни и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504_37"/>
          <p:cNvPicPr/>
          <p:nvPr/>
        </p:nvPicPr>
        <p:blipFill>
          <a:blip r:embed="rId1"/>
          <a:stretch/>
        </p:blipFill>
        <p:spPr>
          <a:xfrm>
            <a:off x="4932360" y="404640"/>
            <a:ext cx="4021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157_44_2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24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f446"/>
          <p:cNvPicPr/>
          <p:nvPr/>
        </p:nvPicPr>
        <p:blipFill>
          <a:blip r:embed="rId2"/>
          <a:stretch/>
        </p:blipFill>
        <p:spPr>
          <a:xfrm>
            <a:off x="4356000" y="3597120"/>
            <a:ext cx="4618080" cy="307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716360" y="260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2000 г. зарегистрировано 2557 преступлений (в 1998 г. - 1969, в 1999 г. - 2116), предусмотренных ст. 156 УК РФ (неисполнение обязанностей по воспитанию несовершеннолетних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79280" y="364500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80% случаев дети попадают в приюты и детские дома из-за невыполнения родителями своих прямых обязанностей по воспитанию, что создает реальную угрозу их жизни и здоров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p2008_10_23_571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032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мериканский врач С. Кемп и его сотрудники в 1962 г. описали </a:t>
            </a: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«синдром избиваемого ребен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манные 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сад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иня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345994"/>
          <p:cNvPicPr/>
          <p:nvPr/>
        </p:nvPicPr>
        <p:blipFill>
          <a:blip r:embed="rId1"/>
          <a:stretch/>
        </p:blipFill>
        <p:spPr>
          <a:xfrm>
            <a:off x="179280" y="692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8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еный-психолог Д. Гилл разделил детей - жертв жестокого обращения на несколько возрастных групп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вая - от 1 года до 2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орая - от 3 до 9 лет (число случаев удваивае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тья - с 9 до 15 лет (частота снова понижается, пока не достигается исходный уровень, а после 16 лет постепенно совсем исчез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ildren_sized"/>
          <p:cNvPicPr/>
          <p:nvPr/>
        </p:nvPicPr>
        <p:blipFill>
          <a:blip r:embed="rId1"/>
          <a:stretch/>
        </p:blipFill>
        <p:spPr>
          <a:xfrm>
            <a:off x="4932360" y="549360"/>
            <a:ext cx="4044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Виды насилия над детьми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636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изическ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небре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ксуальн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сихологическое жестокое обра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-4-2"/>
          <p:cNvPicPr/>
          <p:nvPr/>
        </p:nvPicPr>
        <p:blipFill>
          <a:blip r:embed="rId1"/>
          <a:stretch/>
        </p:blipFill>
        <p:spPr>
          <a:xfrm>
            <a:off x="179280" y="1484280"/>
            <a:ext cx="4751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Пренебре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511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небрежение  основными нуждами ребенка (моральная жестокость) -это   отсутствие   со   стороны  родителей  или  лиц,  их  заменяющих, элементарной   заботы  о  нем,  а  также  недобросовестное  выполнение обязанностей  по  воспитанию ребенка, в результате чего его здоровье и развитие нарушаю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lach_1"/>
          <p:cNvPicPr/>
          <p:nvPr/>
        </p:nvPicPr>
        <p:blipFill>
          <a:blip r:embed="rId1"/>
          <a:stretch/>
        </p:blipFill>
        <p:spPr>
          <a:xfrm>
            <a:off x="5292720" y="162864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50920" y="25992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аще  всего  пренебрегают  основными  нуждами  детей родители или лица,  их  заменяющие:  алкоголики,  наркоманы;  лица  с  психическими расстройствами;   юные   родители,   не   имеющие   опыта   и  навыков родительства;  с низким социально-экономическим уровнем жизни; имеющие хронические    заболевания,   инвалидность,   умственную   отсталость; перенесшие жестокое обращение в детстве; социально изолирован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13617112_11111"/>
          <p:cNvPicPr/>
          <p:nvPr/>
        </p:nvPicPr>
        <p:blipFill>
          <a:blip r:embed="rId1"/>
          <a:stretch/>
        </p:blipFill>
        <p:spPr>
          <a:xfrm>
            <a:off x="250920" y="1052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id6"/>
          <p:cNvPicPr/>
          <p:nvPr/>
        </p:nvPicPr>
        <p:blipFill>
          <a:blip r:embed="rId1"/>
          <a:stretch/>
        </p:blipFill>
        <p:spPr>
          <a:xfrm>
            <a:off x="1835280" y="290520"/>
            <a:ext cx="59054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Последствия пренебре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Внешние прояв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мленный сонный вид, бледное лицо, опухшие ве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грудных детей обезвоженность, опрелости, сып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 неряшливая, не соответствует сезону и размеру ребен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чистоплотность, несвежий зап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Физические признак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тавание в весе и росте от сверст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икулез, чесотка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 "несчастные случаи", гнойные и хронические инфекционные заболе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щенный кариес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надлежащих привив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и психического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Особенности поведен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 голод и жажда: может красть пищу, рыться в отбросах и т.п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игра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поиск внимания/учас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пропуски школьных занятий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йности  поведения: инфантилен или принимает роль взрослого и ведет   себя   в  "псевдовзрослой"  манере;  агрессивен  или  замкнут, апатичен;  гиперактивен  или  подавлен; неразборчиво дружелюбен или не желает и не умеет общаться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лонность к поджогам, жестокость к животны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турбация, раскачивание, сосание пальцев и п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Психолог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моциональным (психологическим) насилием является однократное или хроническое  психическое  воздействие на ребенка или его отвержение со стороны  родителей  и  других  взрослых,  вследствие  чего  у  ребенка нарушаются   эмоциональное   развитие,   поведение   и  способность  к социа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40390603_1"/>
          <p:cNvPicPr/>
          <p:nvPr/>
        </p:nvPicPr>
        <p:blipFill>
          <a:blip r:embed="rId1"/>
          <a:stretch/>
        </p:blipFill>
        <p:spPr>
          <a:xfrm>
            <a:off x="4859280" y="1268280"/>
            <a:ext cx="3816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Georgia"/>
              </a:rPr>
              <a:t>К психологическому насилию от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грозы  в  адрес  ребенка,  проявляющиеся в словесной форме без применения  физической  си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корбление и унижение его достои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ытое неприятие и постоянная кри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шение   ребенка  необходимой  стимуляции,  игнорирование  его основных нужд в безопасном окружении, родительской люб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ъявление к  ребенку  чрезмерных требований, не соответствующих его возрасту или возмож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кратное грубое психическое воздействие, вызвавшее у ребенка психическую травм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намеренная   изоляция   ребенка,   лишение  его  социальных контак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влечение   ребенка   или   поощрение  к  антисоциальному  или деструктивному поведению (алкоголизм, наркомания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Georgia"/>
              </a:rPr>
              <a:t>Особенности       детей,       подвергающихся      эмоциональному (психологическому) насил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держка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возможность сконцентрироваться, плохая успеваем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изкая самооц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эмоциональные   нарушения   в   виде   агрессии,  гнева  (часто обращенных против самого себя), подавленное состоя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збыточная потребность во вним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прессия, попытки суицид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умение  общаться  со  сверстниками  (заискивающее  поведение, чрезмерная уступчивость или агрессивность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ожь,  воровство, девиантное (или "отклоняющееся", асоциальное)поведе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рвно-психические  и  психосоматические  заболевания: неврозы, энурез,  тики,  расстройства сна, нарушения аппетита, ожирение, кожные заболевания, астма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Группы риска детей по эмоциональному насили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 от   нежеланной   беременности,   похожие  на  нелюбимых родственников жены или муж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раннего возраст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-инвалиды, дети с наследственными заболеваниями или другими особенност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  с  деспотичным,  авторитарным,  контролирующим стилем воспитания и взаимоотношений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,  где  внутрисемейное  насилие  является стилем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родители  (или  один  из  родителей) которых употребляют алкоголь, наркотики, страдают депрессией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 в   семье   которых   много  социально-экономических  и психологическ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Особенности   поведения   взрослых,   совершающих   эмоциональное насил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утешают ребенка, когда тот в этом нуждаетс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ублично оскорбляют, бранят, унижают, осмеивают ребе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равнивают   с  другими  детьми  не  в  его  пользу,  постоянно сверхкритично относятся к нему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виняют  его  во всех своих неудачах, делают из ребенка "козла отпущения" и п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age004"/>
          <p:cNvPicPr/>
          <p:nvPr/>
        </p:nvPicPr>
        <p:blipFill>
          <a:blip r:embed="rId1"/>
          <a:stretch/>
        </p:blipFill>
        <p:spPr>
          <a:xfrm>
            <a:off x="7236000" y="1989000"/>
            <a:ext cx="1438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Сексуальное насилие над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ксуальное насилие над детьми американские исследователи определяют как любой сексуальный опыт между ребенком до 16 лет (по отдельным источникам - до 18 лет) и человеком, который старше его по крайней мере на 5 лет. Данный вид насилия характеризуется или как вовлечение зависимых, психически и физиологически незрелых детей и подростков в сексуальные действия, нарушающие общественные табу семейных ролей, которые они еще не могут полностью понять и на которые не в состоянии дать осмысленного согласия. Сексуальное насилие рассматривается как вариант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особо жестокого обращения с детьм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ексуальное насилие чаще всего происходит в семьях, где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триархально-авторитарный укла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хие   взаимоотношения   ребенка  с  родителями,  особенно  с матер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ные отношения между родител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ребенка чрезмерно занята на рабо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енок долгое время жил без родного от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место родного отца - отчим или сожитель матер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 имеет  хроническое заболевание или инвалидность и подолгу лежит в боль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в детстве подвергалась сексуальному насилию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Физ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е  насилие  -  это  преднамеренное нанесение травм и/или повреждений ребенку, которые вызывают серьезные (требующие медицинской помощи)  нарушения  физического,  психического  здоровья, отставание в развит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lip-image00151"/>
          <p:cNvPicPr/>
          <p:nvPr/>
        </p:nvPicPr>
        <p:blipFill>
          <a:blip r:embed="rId1"/>
          <a:stretch/>
        </p:blipFill>
        <p:spPr>
          <a:xfrm>
            <a:off x="4643280" y="1268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Чаще всего это происходит в семьях, гд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беждены,  что физическое наказание является методом выбора для воспитания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рушен   эмоционально-психологический  климат  (частые  ссоры, скандалы, отсутствие уважения друг к друг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находятся  в  состоянии  стресса  в  связи со смертью близких, болезнью, потерей работы, экономическим кризисом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 предъявляют   чрезмерные   требования  к  детям,  несоответствующие их возрасту и уровню разви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меют  особенности:  недоношенность  в  анамнезе, наличие соматических    или   психических   заболеваний;   они   гиперактивны, неусидчив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ands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708000" y="260280"/>
            <a:ext cx="511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Физическое насилие проявляется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ары по л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яски, тол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рещ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уш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ин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лючение в запертом помещении, где они удерживаются си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биение ремнем, верев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несение увечий тяжелыми предметами, даже нож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01722"/>
          <p:cNvPicPr/>
          <p:nvPr/>
        </p:nvPicPr>
        <p:blipFill>
          <a:blip r:embed="rId1"/>
          <a:stretch/>
        </p:blipFill>
        <p:spPr>
          <a:xfrm>
            <a:off x="179280" y="476280"/>
            <a:ext cx="331308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052719_1208418460"/>
          <p:cNvPicPr/>
          <p:nvPr/>
        </p:nvPicPr>
        <p:blipFill>
          <a:blip r:embed="rId2"/>
          <a:stretch/>
        </p:blipFill>
        <p:spPr>
          <a:xfrm>
            <a:off x="179280" y="3500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иболее часто физическому насилию в семье подвергаются дети, имеющие физические или психические отклонения, недоношенные, с малым весом при рождении, так как обычно они более раздражительны, больше плачут, менее привлекательны внеш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17"/>
          <p:cNvPicPr/>
          <p:nvPr/>
        </p:nvPicPr>
        <p:blipFill>
          <a:blip r:embed="rId1"/>
          <a:stretch/>
        </p:blipFill>
        <p:spPr>
          <a:xfrm>
            <a:off x="2556000" y="3789360"/>
            <a:ext cx="43066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Georgia"/>
              </a:rPr>
              <a:t>Распознание факта физического насилия над ребен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арактер поврежд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яки,   ссадины,   раны,  следы  от  ударов  ремнем,  укусов, прижигания  горячими  предметами, сигаретами, располагающиеся на лице, теле, конечност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жоги  горячими  жидкостями  кистей  и  ног в виде перчатки или носка (от погружения в горячую воду), а также на ягодиц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 и  переломы  костей,  припухлость  и болезненность суста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битые  и  расшатанные  зубы,  разрывы  или  порезы во рту, на губ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ки облысения, кровоподтеки на голо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внутренних органов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74b52c83e8d4"/>
          <p:cNvPicPr/>
          <p:nvPr/>
        </p:nvPicPr>
        <p:blipFill>
          <a:blip r:embed="rId1"/>
          <a:stretch/>
        </p:blipFill>
        <p:spPr>
          <a:xfrm>
            <a:off x="7164360" y="5157720"/>
            <a:ext cx="1776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обенности психического состояния и поведения ребенка, позволяющие заподозрить физическое насилие, в зависимости от возраст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Возраст 0-6 месяц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алоподвиж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зразличие к окружающему ми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тсутствие или слабая реакция на внешние стиму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дкая улыбка в возрасте 3-6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762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6 месяцев – 1,5 г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физического контакта со взросл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оянная беспричинная насторож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лаксивость, постоянное хныканье, замкнутость, печ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спуг или подавленность при попытке взрослых взять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1,5 – 3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дкие проявления радости, плаксив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кция испуга на плач друг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райности в поведении – от чрезмерной агрессивности до безуча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hild_abuse_2_pre"/>
          <p:cNvPicPr/>
          <p:nvPr/>
        </p:nvPicPr>
        <p:blipFill>
          <a:blip r:embed="rId1"/>
          <a:stretch/>
        </p:blipFill>
        <p:spPr>
          <a:xfrm>
            <a:off x="5076720" y="549360"/>
            <a:ext cx="3857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Возраст 3 года – 6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ирение со случившимся, отсутствие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ссивная реакция на б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зненное отношение к замечаниям, кри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искивающее поведение, чрезмерная уступч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севдовзрослое поведение (внешне копирует поведение взросл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гативизм,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живость, воров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окость по отношению к живот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50711212136_6-koshka3"/>
          <p:cNvPicPr/>
          <p:nvPr/>
        </p:nvPicPr>
        <p:blipFill>
          <a:blip r:embed="rId1"/>
          <a:stretch/>
        </p:blipFill>
        <p:spPr>
          <a:xfrm>
            <a:off x="5364000" y="1557360"/>
            <a:ext cx="3672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Младший школьн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емление скрыть причину повреждений и трав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очество, отсутствие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оязнь идти домой после шк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Подростков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беги из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уицидальные попы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линквентное пове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потребления алкоголя, нарко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6-937"/>
          <p:cNvPicPr/>
          <p:nvPr/>
        </p:nvPicPr>
        <p:blipFill>
          <a:blip r:embed="rId1"/>
          <a:stretch/>
        </p:blipFill>
        <p:spPr>
          <a:xfrm>
            <a:off x="6659640" y="3141720"/>
            <a:ext cx="2165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634920" y="404640"/>
            <a:ext cx="525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сновными  особенностями  поведения  родителей или опекунов, если они избивают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тиворечивые, путаные объяснения причин травм у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винение в травмах само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зднее обращение или не обращение за медицинской помощ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тсутствие  эмоциональной  поддержки  и  ласки  в  обращении  с ребен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спровоцированная агрессия по отношению к персонал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льшее  внимание  собственным  проблемам,  нежели  имеющимся у ребенка поврежд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f51131_jpg"/>
          <p:cNvPicPr/>
          <p:nvPr/>
        </p:nvPicPr>
        <p:blipFill>
          <a:blip r:embed="rId1"/>
          <a:stretch/>
        </p:blipFill>
        <p:spPr>
          <a:xfrm>
            <a:off x="250920" y="620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Последствия жестокого обращения с детьми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ход в религиозные с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динения в неформальные группы с криминальной и фашисткой направлен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вное, преступное поведени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ежавшие из дома дети умирают от голода и холода, становятся жертвами других детей, также сбежавших от домашнего насил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97007"/>
          <p:cNvPicPr/>
          <p:nvPr/>
        </p:nvPicPr>
        <p:blipFill>
          <a:blip r:embed="rId1"/>
          <a:stretch/>
        </p:blipFill>
        <p:spPr>
          <a:xfrm>
            <a:off x="5611680" y="1197000"/>
            <a:ext cx="3110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Защита детей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венция о правах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"Об основах системы профилактики безнадзорности и правонарушений несовершеннолетних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кон "Об основных гарантиях прав ребенка в Российской Федерации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депутатов внесла в Государственную думу законопроект, предусматривающий усиление гарантий прав детей на надлежащее духовно-нравственное воспитание, а также ответственности за жестокое обращение с несовершеннолет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9951fbe0933748cf813f4c908e081d4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оме того, авторы законопроекта обращают внимание на то, что в ныне действующем законодательстве предусмотрено более строгое наказание за жестокое обращение с животными - лишение свободы на срок до двух лет, чем за жестокое обращение с несовершеннолетними - лишь ограничение свободы на срок до т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сенным законопроектом предлагается усилить ответственность родителей и должностных лиц образовательных и воспитательных учреждений за ненадлежащее духовно-нравственное воспитание несовершеннолетних. В частности, предлагается увеличить в таких случаях с двух до трех лет срок лишения должностного лица права занимать определенную должность, либо это лицо может быть наказано исправительными работами, продолжительность которых предлагается увеличить со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180 до 24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 жестокое обращение с несовершеннолетними предлагается ввести уголовную ответственность -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лишение свободы до трех лет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3640" y="115560"/>
            <a:ext cx="532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ти – главный подарок для ми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ними чудесней земная карт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сё понимают, берутся за вс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учшее с ними людское жить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енько слабы, неумелы их ру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некогда думать ребятам о скук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виженьях, заботах их время проход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дача к усердным с годами приход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етские годы мечты расцвета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рослые часто об этом не знаю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о детишкам права объясн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гому надо их обучи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ир станет лучше на нашей плане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счастливыми будут все дет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иктор Пав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87267"/>
          <p:cNvPicPr/>
          <p:nvPr/>
        </p:nvPicPr>
        <p:blipFill>
          <a:blip r:embed="rId1"/>
          <a:stretch/>
        </p:blipFill>
        <p:spPr>
          <a:xfrm>
            <a:off x="179280" y="404640"/>
            <a:ext cx="34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d110834_w300_h200"/>
          <p:cNvPicPr/>
          <p:nvPr/>
        </p:nvPicPr>
        <p:blipFill>
          <a:blip r:embed="rId1"/>
          <a:stretch/>
        </p:blipFill>
        <p:spPr>
          <a:xfrm>
            <a:off x="179280" y="184464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untitled"/>
          <p:cNvPicPr/>
          <p:nvPr/>
        </p:nvPicPr>
        <p:blipFill>
          <a:blip r:embed="rId2"/>
          <a:stretch/>
        </p:blipFill>
        <p:spPr>
          <a:xfrm>
            <a:off x="5076720" y="620640"/>
            <a:ext cx="3811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28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view"/>
          <p:cNvPicPr/>
          <p:nvPr/>
        </p:nvPicPr>
        <p:blipFill>
          <a:blip r:embed="rId1"/>
          <a:stretch/>
        </p:blipFill>
        <p:spPr>
          <a:xfrm>
            <a:off x="0" y="0"/>
            <a:ext cx="4187880" cy="429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89417_fc160020"/>
          <p:cNvPicPr/>
          <p:nvPr/>
        </p:nvPicPr>
        <p:blipFill>
          <a:blip r:embed="rId2"/>
          <a:stretch/>
        </p:blipFill>
        <p:spPr>
          <a:xfrm>
            <a:off x="611280" y="422100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at2"/>
          <p:cNvPicPr/>
          <p:nvPr/>
        </p:nvPicPr>
        <p:blipFill>
          <a:blip r:embed="rId3"/>
          <a:stretch/>
        </p:blipFill>
        <p:spPr>
          <a:xfrm>
            <a:off x="4284720" y="907920"/>
            <a:ext cx="46735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j7266_1231838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7"/>
          <p:cNvPicPr/>
          <p:nvPr/>
        </p:nvPicPr>
        <p:blipFill>
          <a:blip r:embed="rId1"/>
          <a:stretch/>
        </p:blipFill>
        <p:spPr>
          <a:xfrm>
            <a:off x="1692360" y="1197000"/>
            <a:ext cx="64609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16-1-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asilnik-2"/>
          <p:cNvPicPr/>
          <p:nvPr/>
        </p:nvPicPr>
        <p:blipFill>
          <a:blip r:embed="rId1"/>
          <a:stretch/>
        </p:blipFill>
        <p:spPr>
          <a:xfrm>
            <a:off x="2050920" y="33336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4508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Жестокое обращение с ребенком в сем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55:34Z</dcterms:created>
  <dc:creator>Майоровы</dc:creator>
  <dc:description/>
  <dc:language>en-US</dc:language>
  <cp:lastModifiedBy>HP</cp:lastModifiedBy>
  <dcterms:modified xsi:type="dcterms:W3CDTF">2011-11-22T12:03:14Z</dcterms:modified>
  <cp:revision>32</cp:revision>
  <dc:subject/>
  <dc:title>Слайд 1</dc:title>
</cp:coreProperties>
</file>