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1.png" ContentType="image/png"/>
  <Override PartName="/ppt/media/image4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44A-AB67-4D53-B8A5-6217347C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24C-5AB3-4C63-A7B6-26D80412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BAD-93BF-4D3C-A408-778AA2C3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A68-BDD2-40A4-9904-BF7B78B6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7B35-FB4E-470C-8622-E0B7C6AA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0AB0-E652-4C9B-9DC5-4486D09E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6866-10AB-4CD2-9D3D-40AC1A68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2645-24D1-4531-91E8-3BABFEC6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00C7-EA6B-4C9E-87F4-4C550CBF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A707-3D11-44AC-B0A0-DE8CAB02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22E9-243A-4515-B733-ABE387B9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E39-5337-4B04-9607-7BB1737C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E294-D7F1-4C77-9574-7BF09B2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CFA7-B5BE-43F1-AB17-361F377C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9142-1EC4-4A53-9106-10ACB024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06A9-1656-443C-AB83-A25832D8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70B3-275E-49DA-B5BB-BB93191C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D3B-4F75-4D02-942A-8277FD2D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722-A23D-4E7A-88DA-F88C3B9A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7B1-C6ED-4395-9383-D34B2590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309-08AF-4541-83B4-7993DA0D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F42-E1F5-4CDA-91D1-5371318C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EDF-AF20-4F3D-9263-490E2951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DCB-0B84-429F-8913-60B201FC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8922-EF91-4A29-9349-B3E6CD1FA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5760-CA5B-4625-A0CC-E47839854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004.radikal.ru/i208/1002/76/81e05d33be68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езентация на тему  «Австрали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учитель английск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зыка  Лесакова Еле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У СОШ  № 180 с углубленным изучением английского язы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нкт-Петербур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VICTORIA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3524400"/>
            <a:ext cx="8424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07552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MOST PEOPLE LIVE IN THE SOUTH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SHEEP AND WHEAT ARE THE MAIN PRODUC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CITRUS FRUITS, GRAPES, PEACHES ARE GROWN ALONG THE  MURRAY RI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129480" y="0"/>
            <a:ext cx="255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Victo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MELBOURNE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HE CAPITAL OF THE STATE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-244440"/>
            <a:ext cx="9612360" cy="72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16000" y="2060280"/>
            <a:ext cx="662472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NEW SOUTH WALE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1628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116000" y="4508640"/>
            <a:ext cx="6840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ADING INDUSTRIAL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OST PEOPLE LIVE  ALONG THE EAST COAST , AND MOST OF THEM ARE IN SYDNEY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47640" y="-176040"/>
            <a:ext cx="75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New South Wa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Tahoma"/>
              </a:rPr>
              <a:t>SYDNEY </a:t>
            </a:r>
            <a:br>
              <a:rPr sz="8000"/>
            </a:br>
            <a:r>
              <a:rPr b="1" lang="en-US" sz="8000" spc="-1" strike="noStrike">
                <a:solidFill>
                  <a:srgbClr val="ffff66"/>
                </a:solidFill>
                <a:latin typeface="Tahoma"/>
              </a:rPr>
              <a:t>THE CAPITAL OF THE STATE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40000" y="184320"/>
            <a:ext cx="597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Opera Hou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08200" y="0"/>
            <a:ext cx="74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HARBOUR BRI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QUEENSLAND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14720" cy="1562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8209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25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25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66"/>
                </a:solidFill>
                <a:latin typeface="Tahoma"/>
              </a:rPr>
              <a:t>AUSTRALIA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1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1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1471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HE SECOND LARGEST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HAS LONG BEAUTIFUL SANDY BEACH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ROPICAL CORNER OF AUSTRA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OST OF THE LAND IN THE SOUTH IS TOO DRY FOR FARM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-103320"/>
            <a:ext cx="539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QUEENSL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Tahoma"/>
              </a:rPr>
              <a:t>BRISBANE </a:t>
            </a:r>
            <a:br>
              <a:rPr sz="8000"/>
            </a:br>
            <a:r>
              <a:rPr b="1" lang="en-US" sz="8000" spc="-1" strike="noStrike">
                <a:solidFill>
                  <a:srgbClr val="ffff66"/>
                </a:solidFill>
                <a:latin typeface="Tahoma"/>
              </a:rPr>
              <a:t>THE CAPITAL</a:t>
            </a:r>
            <a:br>
              <a:rPr sz="8000"/>
            </a:br>
            <a:r>
              <a:rPr b="1" lang="en-US" sz="8000" spc="-1" strike="noStrike">
                <a:solidFill>
                  <a:srgbClr val="ffff66"/>
                </a:solidFill>
                <a:latin typeface="Tahoma"/>
              </a:rPr>
              <a:t>OF THE STATE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WESTERN AUSTRALIA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1341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82090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30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30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Western Australia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RY AND INHOSPITABLE EXCEPT  THE SOUTHWESTERN PA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ATE’S  FARMS, SHEEP STATIONS, FRUIT GARDENS ARE SITUATED H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REST OF THE STATE IS DRY DESERT  L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PERTH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HE CAPITAL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OF THE STATE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SOUTH AUSTRALIA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32000" cy="1357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973080" y="260280"/>
            <a:ext cx="98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Tahoma"/>
              </a:rPr>
              <a:t>6 states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Tahoma"/>
              </a:rPr>
              <a:t>2 territori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VIC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NEW SOUTH W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QUEEN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WESTER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SOUTH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TASM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NORTHERN TERRI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USTRALIAN CAPITAL TERRI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0"/>
                            </p:stCondLst>
                            <p:childTnLst>
                              <p:par>
                                <p:cTn id="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South Australia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HE THIRD LARGEST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FARMS AND INDUSTRY ARE IN THE SOUTHEASTERN PA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OST OF THE STATE IS TOO DRY FOR FARM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WHEAT AND FRUIT ARE GROWN ALONG THE LOWER PART OF THE MURREY RI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392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5003640" cy="2852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45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076720" y="3573360"/>
            <a:ext cx="4067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ADELAIDE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HE CAPITAL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OF THE STATE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ASMANIA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03280" y="3886200"/>
            <a:ext cx="6369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HE ISLAND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43280" cy="1844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95280" y="4492800"/>
            <a:ext cx="84247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Tasmania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IS CALLED THE APPLE IS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IT PRODUCES MOST OF AUSTRALIA’S APP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HAS ENOUGH RAIN ALL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ARDING PRODUCER OF PEARS AND BERR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HOBART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HE CAPITAL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OF THE STATE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Картинка 15 из 168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NORTHERN TERRITORY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3200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ROCODILES LIVE IN SOME OF THE SWAMPS ALONG THE COAST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HE LEAST POPULATED AND LEAST DEVELOPED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LICE SPRINGS IS THE ONLY TOWN IN THE SOUTH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Tahoma"/>
              </a:rPr>
              <a:t>Northern terri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DARWIN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HE CAPITAL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OF THE STATE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6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92360" cy="1700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92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Tahoma"/>
              </a:rPr>
              <a:t>AUSTRALIAN CAPITAL </a:t>
            </a:r>
            <a:br>
              <a:rPr sz="6000"/>
            </a:br>
            <a:r>
              <a:rPr b="1" lang="en-US" sz="6000" spc="-1" strike="noStrike">
                <a:solidFill>
                  <a:srgbClr val="cc0066"/>
                </a:solidFill>
                <a:latin typeface="Tahoma"/>
              </a:rPr>
              <a:t>TERRITORY</a:t>
            </a:r>
            <a:br>
              <a:rPr sz="6000"/>
            </a:br>
            <a:r>
              <a:rPr b="1" lang="en-US" sz="6000" spc="-1" strike="noStrike">
                <a:solidFill>
                  <a:srgbClr val="cc0066"/>
                </a:solidFill>
                <a:latin typeface="Tahoma"/>
              </a:rPr>
              <a:t>(A.C.T.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272360" cy="5013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A.C.T. CANBERRA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PARLIAMENT HOUS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Tahoma"/>
              </a:rPr>
              <a:t>3 DESERT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743120"/>
            <a:ext cx="82184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dca3"/>
                </a:solidFill>
                <a:latin typeface="Tahoma"/>
              </a:rPr>
              <a:t>THE GREAT SANDY DESE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dca3"/>
                </a:solidFill>
                <a:latin typeface="Tahoma"/>
              </a:rPr>
              <a:t>THE GREAT VICTORIA DESERT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dca3"/>
                </a:solidFill>
                <a:latin typeface="Tahoma"/>
              </a:rPr>
              <a:t>THE GIBSON DESE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THE GREAT SANDY DESERT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Картинка 4 из 1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9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9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6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THE GREAT VICTORIA DESERT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Картинка 2 из 160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0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0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2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THE GIBSON DERSERT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1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1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Tahoma"/>
              </a:rPr>
              <a:t>STATES AND TERRITO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5:22:30Z</dcterms:created>
  <dc:creator>Лесакова Е.Н.</dc:creator>
  <dc:description/>
  <cp:keywords>Рита</cp:keywords>
  <dc:language>en-US</dc:language>
  <cp:lastModifiedBy>Admin</cp:lastModifiedBy>
  <dcterms:modified xsi:type="dcterms:W3CDTF">2011-08-05T14:27:52Z</dcterms:modified>
  <cp:revision>84</cp:revision>
  <dc:subject/>
  <dc:title>Australia</dc:title>
</cp:coreProperties>
</file>