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D87-B870-4B64-9237-C1F336E8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E0E-418B-4E10-ACDF-56FF7F27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C2C-68C0-4486-B1B4-E24EF6F5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65C-0664-442F-A27A-15E93B23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13B9-23E2-4AE9-BA7F-77C3F36A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51B-AE07-4803-8EA6-DC1FC3CF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17FA-49E8-4094-9AF0-76474928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CDCF-F088-4E1D-8E80-A8F795E9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9C66-6E75-4DFF-A2A2-A3BB171B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61EE-B0DD-40F8-9FB7-FAEFB3C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A4BF-561D-4FAC-B485-C19F559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7AA-4B8C-407B-B399-58A2DE32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B1A5-21C0-47C4-9EDA-F846CFD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F3B8-7786-4B7E-8D80-210E8E84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E5C2-2259-4F87-9666-7259D4D8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E06F-34BC-4662-83BA-91E063B2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843C-1D5E-4B78-8DCC-F676D8FA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457-2C3D-45CB-ADE8-6F683FFE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326-F987-494F-8AF0-C88DC14C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285-5C87-4B4C-AD48-392827E7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12F-E475-49DA-9225-DC929068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8E2-B21E-475C-B96D-274DB8F8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D38-83AA-44BB-B080-D42D9B32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FE5-0ABB-4ABD-A4C6-DFF8FD0C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8760-69BE-405E-80B0-B76BB6031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13F7-BBE8-4676-B11B-A521364DE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004.radikal.ru/i208/1002/76/81e05d33be68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езентация на тему  «Австрали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учитель английс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зыка  Лесакова Еле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У СОШ  № 180 с углубленным изучением английского язы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нкт-Петербур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VICTOR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4000" y="3524400"/>
            <a:ext cx="8424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07552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MOST PEOPLE LIVE IN THE SOUTH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SHEEP AND WHEAT ARE THE MAIN PRODUC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CITRUS FRUITS, GRAPES, PEACHES ARE GROWN ALONG THE  MURRAY 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29480" y="0"/>
            <a:ext cx="255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Victo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MELBOURNE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-244440"/>
            <a:ext cx="961236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16000" y="2060280"/>
            <a:ext cx="662472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NEW SOUTH WALE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16000" y="4508640"/>
            <a:ext cx="6840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ADING INDUSTRIAL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OST PEOPLE LIVE  ALONG THE EAST COAST , AND MOST OF THEM ARE IN SYDNEY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47640" y="-176040"/>
            <a:ext cx="75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New South W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SYDNEY </a:t>
            </a:r>
            <a:br>
              <a:rPr sz="8000"/>
            </a:b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THE CAPITAL OF THE STATE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40000" y="184320"/>
            <a:ext cx="597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Opera Hou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08200" y="0"/>
            <a:ext cx="74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ARBOUR 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QUEENSLAND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14720" cy="15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8209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25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25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66"/>
                </a:solidFill>
                <a:latin typeface="Tahoma"/>
              </a:rPr>
              <a:t>AUSTRALIA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1471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SECOND LARGEST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HAS LONG BEAUTIFUL SANDY BEAC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ROPICAL CORNER OF AUSTRA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OST OF THE LAND IN THE SOUTH IS TOO DRY FOR FARM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-103320"/>
            <a:ext cx="53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QUEENS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BRISBANE </a:t>
            </a:r>
            <a:br>
              <a:rPr sz="8000"/>
            </a:b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THE CAPITAL</a:t>
            </a:r>
            <a:br>
              <a:rPr sz="8000"/>
            </a:br>
            <a:r>
              <a:rPr b="1" lang="en-US" sz="80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WESTERN AUSTRAL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134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8209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30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30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Western Australi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RY AND INHOSPITABLE EXCEPT  THE SOUTHWESTERN PA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ATE’S  FARMS, SHEEP STATIONS, FRUIT GARDENS ARE SITUATED 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REST OF THE STATE IS DRY DESERT  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PERTH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SOUTH AUSTRAL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13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973080" y="260280"/>
            <a:ext cx="98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6 states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2 territori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VIC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NEW SOUTH W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QUEENS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WESTER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SOUTH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TASMA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NORTHERN TERR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USTRALIAN CAPITAL TERR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South Australi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THIRD LARGEST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FARMS AND INDUSTRY ARE IN THE SOUTHEASTERN PA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OST OF THE STATE IS TOO DRY FOR FARM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WHEAT AND FRUIT ARE GROWN ALONG THE LOWER PART OF THE MURREY 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392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5003640" cy="2852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45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076720" y="357336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ADELAIDE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ASMANIA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03280" y="3886200"/>
            <a:ext cx="6369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ISLAND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43280" cy="1844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95280" y="4492800"/>
            <a:ext cx="84247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Tahoma"/>
              </a:rPr>
              <a:t>Tasmania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IS CALLED THE APPLE IS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IT PRODUCES MOST OF AUSTRALIA’S APP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HAS ENOUGH RAIN ALL Y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ARDING PRODUCER OF PEARS AND BER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HOBART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Картинка 15 из 168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NORTHERN TERRITORY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ROCODILES LIVE IN SOME OF THE SWAMPS ALONG THE COAST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HE LEAST POPULATED AND LEAST DEVELOPED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LICE SPRINGS IS THE ONLY TOWN IN THE SOUTH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Northern terri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DARWIN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THE CAPITAL </a:t>
            </a:r>
            <a:br>
              <a:rPr sz="7200"/>
            </a:br>
            <a:r>
              <a:rPr b="1" lang="en-US" sz="7200" spc="-1" strike="noStrike">
                <a:solidFill>
                  <a:srgbClr val="ffff66"/>
                </a:solidFill>
                <a:latin typeface="Tahoma"/>
              </a:rPr>
              <a:t>OF THE STATE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6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92360" cy="1700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Tahoma"/>
              </a:rPr>
              <a:t>AUSTRALIAN CAPITAL 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Tahoma"/>
              </a:rPr>
              <a:t>TERRITORY</a:t>
            </a:r>
            <a:br>
              <a:rPr sz="6000"/>
            </a:br>
            <a:r>
              <a:rPr b="1" lang="en-US" sz="6000" spc="-1" strike="noStrike">
                <a:solidFill>
                  <a:srgbClr val="cc0066"/>
                </a:solidFill>
                <a:latin typeface="Tahoma"/>
              </a:rPr>
              <a:t>(A.C.T.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272360" cy="5013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A.C.T. CANBERRA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PARLIAMENT HOUS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3 DESERT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743120"/>
            <a:ext cx="82184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dca3"/>
                </a:solidFill>
                <a:latin typeface="Tahoma"/>
              </a:rPr>
              <a:t>THE GREAT SANDY DESE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dca3"/>
                </a:solidFill>
                <a:latin typeface="Tahoma"/>
              </a:rPr>
              <a:t>THE GREAT VICTORIA DESERT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dca3"/>
                </a:solidFill>
                <a:latin typeface="Tahoma"/>
              </a:rPr>
              <a:t>THE GIBSON DESE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THE GREAT SANDY DESERT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Картинка 4 из 1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9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9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6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THE GREAT VICTORIA DESERT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Картинка 2 из 160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0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0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2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THE GIBSON DERSERT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1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1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Tahoma"/>
              </a:rPr>
              <a:t>STATES AND TERRITO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5:22:30Z</dcterms:created>
  <dc:creator>Лесакова Е.Н.</dc:creator>
  <dc:description/>
  <cp:keywords>Рита</cp:keywords>
  <dc:language>en-US</dc:language>
  <cp:lastModifiedBy>Admin</cp:lastModifiedBy>
  <dcterms:modified xsi:type="dcterms:W3CDTF">2011-08-05T14:27:52Z</dcterms:modified>
  <cp:revision>84</cp:revision>
  <dc:subject/>
  <dc:title>Australia</dc:title>
</cp:coreProperties>
</file>