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9A4-4D6A-4E5D-A0C6-04C68C56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300-E962-4BE7-8C0B-ABF6A0E0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658-9771-4919-BB11-78E5B010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CB2-30E1-4087-89C4-2DB8D9B7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C4F-1B73-45C9-B4F2-1ED52A10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F93-C2FC-4858-A9A1-A83B17AA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47C-94F2-468B-9850-9672A5BA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97C-72C6-4F9B-994A-56956659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CCF-4679-40A0-94BB-1BA26106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C47-4B41-4128-8A75-CA65AD0B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255-2053-4F9B-96D0-6E479548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518-5648-411D-AE6A-2C14C25C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A49A-453C-4EAA-A181-B0258AB7C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акие растения живут на Земле.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Дикорастущие и культурные раст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3032280" cy="278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078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Зона пусты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56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Растения пустын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665440" cy="392904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356000" y="1484280"/>
            <a:ext cx="3692520" cy="38880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35128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4f6228"/>
                </a:solidFill>
                <a:latin typeface="Arial"/>
              </a:rPr>
              <a:t>Охранять природу – значит охранять Родин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Arial"/>
              </a:rPr>
              <a:t>М. Приш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nna\My Documents\урок\5344.jpg"/>
          <p:cNvPicPr/>
          <p:nvPr/>
        </p:nvPicPr>
        <p:blipFill>
          <a:blip r:embed="rId1"/>
          <a:stretch/>
        </p:blipFill>
        <p:spPr>
          <a:xfrm>
            <a:off x="755640" y="189000"/>
            <a:ext cx="20318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юбите  родную  природу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зёра, леса  и  по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ь  это  же  наша  с 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веки -   родная 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 ней  мы  с тобой  род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вём  мы  с  тобою  на 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  будем  же, люди, все 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ы  к  ней  относится  доб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700280"/>
            <a:ext cx="40323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3429000"/>
            <a:ext cx="2376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350028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0720" y="3500280"/>
            <a:ext cx="216072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57336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3500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Кустар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6720" y="3573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843280" y="2852640"/>
            <a:ext cx="50472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2852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00720" y="2852640"/>
            <a:ext cx="5032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1465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7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4797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331640" y="4149720"/>
            <a:ext cx="360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4149720"/>
            <a:ext cx="360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9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Крайний Сев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1600200"/>
          <a:ext cx="77058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00200"/>
                    <a:ext cx="77058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Зона тун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Anna\My Documents\Символы Россииxxx\Рисунки\сканирование0003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57200" y="1557360"/>
            <a:ext cx="82296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504960" cy="3419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3486240" cy="338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3846240" cy="337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3816360" cy="324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Лесная з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Зона степ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Anna\My Documents\Символы Россииxxx\Рисунки\сканирование0006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11280" y="1413000"/>
            <a:ext cx="76708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9:17:42Z</dcterms:created>
  <dc:creator>Варежникова Ирина Анатольевна</dc:creator>
  <dc:description/>
  <dc:language>en-US</dc:language>
  <cp:lastModifiedBy>Варежникова Ирина Анатольевна</cp:lastModifiedBy>
  <dcterms:modified xsi:type="dcterms:W3CDTF">2010-10-11T21:15:02Z</dcterms:modified>
  <cp:revision>3</cp:revision>
  <dc:subject/>
  <dc:title>Природные зоны.</dc:title>
</cp:coreProperties>
</file>