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930-15F7-42A1-91C6-13F9E8C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413-B836-4ADC-B744-8DCFC4E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651-6547-4126-98B1-92DE129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820-B559-48F3-B01C-18283912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66E84-2523-412D-97E3-15B8D265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C1264-C345-4FEC-960B-D7B71D0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D699-87E3-4176-B1D0-D79F2607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03A7E-F3EB-403D-A66B-0B3C459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5177D-CC88-4F0C-93DC-4E588CA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1FDC6-91C3-486F-9D0C-D9843B1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1078-0701-44C7-9530-20A7179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1C3-2A92-4F4D-99D5-D28CE00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A6EED-31E6-4176-9CB1-C3898E73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B6C95-EDA4-44FA-8D6D-3D2784B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ED827-9491-478C-9132-3559E4E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39C9C-2D07-4B2D-AD15-2CB5B0F1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AC68D-8ED5-45A7-B83A-FB1DB63E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D62-188B-4B9A-9872-9FCF4C7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F7B-DB6A-4D00-B6F6-57DF2BD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610-A66D-4D7E-8954-BADC9E2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073-761F-4D88-8887-204AFE2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7CB-5AF9-4C1E-8555-BE09A10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A62-6C99-44EF-BD98-8672D13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B22-C0FE-4924-9CA6-8EF0CA3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9D9-F143-4A20-8E6C-66A4BD52E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38C-ED48-441A-B414-75C713A33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9625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к уроку окружающего мира для  2 класс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Реки  Земли»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лена на основе учебника «Окружающий мир » для 2 класса                                                (О.Т.Поглазова)   Выполнила Бондаренко Екатерина Михайл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 МОУ ЗСОШ №1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. Завет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305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98760" y="2557440"/>
          <a:ext cx="594504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8760" y="2557440"/>
                    <a:ext cx="59450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ка – это естественный поток воды, постоянно текущий в разработанном им углублении – рус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6104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отина – это сооружение , преграждающее реку для подъёма уровня воды. Вода, падая с них , вращает колёса турбин, которые вырабатывают электрический ток. Это  сложное сооружение называют гидроэлектростанц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нал – это сооружение, по которым речные суда переплывают из реки в ре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10896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берегах наиболее опасных рек люди сооружают насыпи – дамбы, которые преграждают путь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</cp:lastModifiedBy>
  <dcterms:modified xsi:type="dcterms:W3CDTF">2011-12-22T18:41:0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