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9DA-1C7B-474E-B5A8-A24B7DD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145-2E60-4B65-8C65-6D43D28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C53-4C59-433B-A79C-A8074FE0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AD5-B2F3-4FCB-93CD-F7CF0A4F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136-A5FF-4E9C-BCD6-41729B8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E8E-6560-4513-8394-0D97143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2F7-0B76-4F46-B8B5-42AF4337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8A1-9F80-4B83-A8AB-3FDE21BB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E09-6905-402C-BDE7-B6C3149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955-07F7-4ED2-B016-562A587B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863-7144-43C2-82DC-C3441213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B7A-3C0F-4992-8D63-0804690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1B0F-7A94-47FE-AB1B-E67C3C8808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5752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98989"/>
                </a:solidFill>
                <a:latin typeface="Calibri"/>
              </a:rPr>
              <a:t>ТЕРЕМ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Сказочные картинки - уют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471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Теремок"/>
          <p:cNvPicPr/>
          <p:nvPr/>
        </p:nvPicPr>
        <p:blipFill>
          <a:blip r:embed="rId2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Сказочные картинки - избушка"/>
          <p:cNvPicPr/>
          <p:nvPr/>
        </p:nvPicPr>
        <p:blipFill>
          <a:blip r:embed="rId2"/>
          <a:stretch/>
        </p:blipFill>
        <p:spPr>
          <a:xfrm>
            <a:off x="35712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Сказочные картинки - волшебник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Теремок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51" name="Содержимое 3" descr="Теремок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53" name="Содержимое 3" descr="Теремок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6143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Теремок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Теремок"/>
          <p:cNvPicPr/>
          <p:nvPr/>
        </p:nvPicPr>
        <p:blipFill>
          <a:blip r:embed="rId2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Теремок"/>
          <p:cNvPicPr/>
          <p:nvPr/>
        </p:nvPicPr>
        <p:blipFill>
          <a:blip r:embed="rId2"/>
          <a:stretch/>
        </p:blipFill>
        <p:spPr>
          <a:xfrm>
            <a:off x="357120" y="285840"/>
            <a:ext cx="857268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1488b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Теремок"/>
          <p:cNvPicPr/>
          <p:nvPr/>
        </p:nvPicPr>
        <p:blipFill>
          <a:blip r:embed="rId2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02:53Z</dcterms:created>
  <dc:creator>User</dc:creator>
  <dc:description/>
  <dc:language>en-US</dc:language>
  <cp:lastModifiedBy>User</cp:lastModifiedBy>
  <dcterms:modified xsi:type="dcterms:W3CDTF">2007-01-01T00:54:26Z</dcterms:modified>
  <cp:revision>22</cp:revision>
  <dc:subject/>
  <dc:title>Слайд 1</dc:title>
</cp:coreProperties>
</file>