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EF0-ADA1-449D-9308-CA8323D0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CB0-0335-46C3-9B02-7F6016D6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AF8-E7B3-40D2-BE56-00C1BD13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DD2-E6B9-4CC4-8B47-795A1EC9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5102-D7E7-4C9C-B4FA-51F35EE0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2464-C46B-40AF-994C-4127D038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246-FBA8-4F63-A712-BA2437A7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9133-77D2-4003-8A6A-51A97C9E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9211-82DD-49B9-A85A-67E6835E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4F2A-05E1-4925-B0C7-1540CEE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71C0-3F5C-4C77-A0D9-B3DD8E0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4CA-30F2-42AB-8BF6-D97627F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82A1-47EE-4FE8-8EA2-47E98E2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0FA6-82AA-48AD-A48C-6E8E393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2D3B-3DC6-483F-ABAB-E14C2855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17C8-B7F4-4640-8B91-03485D0D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87C8-CAFD-4790-8EEE-36657626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CF5-3FD7-4550-BA6D-8E897D8E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E46-6637-48B4-BFCC-5502D3B3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996-08FC-4F3B-9239-EE90E854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4C8-D2F4-4953-9304-EA20A05C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E9A-27D3-4DC0-B405-FB4BCBA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DD1-9F56-4E05-9552-9F9CB33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1D2-ED39-4538-AC99-9AD6E53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1D27-E49A-4681-9406-A318A135FB0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17D-8BA1-458D-AD9C-EF20ECD3A4F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3.wmf"/><Relationship Id="rId3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5.wmf"/><Relationship Id="rId3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8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84.wmf"/><Relationship Id="rId4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рок-презентация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игонометрические функции и их свой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3789360"/>
            <a:ext cx="5651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бобщить свойства тригонометрических функций, закрепить на сложных задача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80536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ГОУСОШ №593 с углубленным изучением английского языка.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Учитель математики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етрова Наталья Васильев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361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3324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, c, 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, b, 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0360" y="404640"/>
            <a:ext cx="43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67280" y="1628640"/>
            <a:ext cx="49687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пределить чётность, нечётн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427640" y="2708280"/>
          <a:ext cx="403200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708280"/>
                    <a:ext cx="4032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800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тн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йдите область определения функци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тетрад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йдите область определения функци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348000" y="1989000"/>
          <a:ext cx="122400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1224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348000" y="2638440"/>
          <a:ext cx="1584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638440"/>
                    <a:ext cx="1584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11280" y="2637000"/>
          <a:ext cx="1871640" cy="64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637000"/>
                    <a:ext cx="18716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39640" y="1844640"/>
          <a:ext cx="208764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1844640"/>
                    <a:ext cx="20876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268360" y="4869000"/>
          <a:ext cx="19432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4869000"/>
                    <a:ext cx="1943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68360" y="4869000"/>
          <a:ext cx="1224000" cy="56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869000"/>
                    <a:ext cx="122400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9640" y="4292640"/>
          <a:ext cx="2521080" cy="5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9640" y="4292640"/>
                    <a:ext cx="2521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771640" y="6308640"/>
          <a:ext cx="215928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1640" y="6308640"/>
                    <a:ext cx="2159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" name=""/>
          <p:cNvGrpSpPr/>
          <p:nvPr/>
        </p:nvGrpSpPr>
        <p:grpSpPr>
          <a:xfrm>
            <a:off x="1619280" y="5805360"/>
            <a:ext cx="5113080" cy="536400"/>
            <a:chOff x="1619280" y="5805360"/>
            <a:chExt cx="5113080" cy="536400"/>
          </a:xfrm>
        </p:grpSpPr>
        <p:sp>
          <p:nvSpPr>
            <p:cNvPr id="233" name=""/>
            <p:cNvSpPr/>
            <p:nvPr/>
          </p:nvSpPr>
          <p:spPr>
            <a:xfrm>
              <a:off x="1619280" y="5876640"/>
              <a:ext cx="48243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0720" y="58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9564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3924360" y="5948280"/>
            <a:ext cx="126720" cy="177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924360" y="5948280"/>
                      <a:ext cx="126720" cy="17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284328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8472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1928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0836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4836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3200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59280" y="5805360"/>
              <a:ext cx="0" cy="142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46" name=""/>
            <p:cNvGraphicFramePr/>
            <p:nvPr/>
          </p:nvGraphicFramePr>
          <p:xfrm>
            <a:off x="4211640" y="5948280"/>
            <a:ext cx="139680" cy="139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211640" y="5948280"/>
                      <a:ext cx="13968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3564000" y="5948280"/>
            <a:ext cx="228600" cy="139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564000" y="5948280"/>
                      <a:ext cx="22860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2916000" y="5948280"/>
            <a:ext cx="368640" cy="393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916000" y="5948280"/>
                      <a:ext cx="3686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"/>
            <p:cNvGraphicFramePr/>
            <p:nvPr/>
          </p:nvGraphicFramePr>
          <p:xfrm>
            <a:off x="2627280" y="5948280"/>
            <a:ext cx="304920" cy="17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627280" y="5948280"/>
                      <a:ext cx="304920" cy="17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4716360" y="5948280"/>
            <a:ext cx="266760" cy="393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716360" y="5948280"/>
                      <a:ext cx="2667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5075280" y="5948280"/>
            <a:ext cx="228600" cy="17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075280" y="5948280"/>
                      <a:ext cx="228600" cy="17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500360" y="5948280"/>
            <a:ext cx="127080" cy="1648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500360" y="5948280"/>
                      <a:ext cx="12708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3276360" y="5948280"/>
            <a:ext cx="203400" cy="1648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276360" y="5948280"/>
                      <a:ext cx="20340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62" name=""/>
          <p:cNvCxnSpPr>
            <a:stCxn id="238" idx="0"/>
            <a:endCxn id="242" idx="0"/>
          </p:cNvCxnSpPr>
          <p:nvPr/>
        </p:nvCxnSpPr>
        <p:spPr>
          <a:xfrm flipH="1" rot="16200000">
            <a:off x="3273840" y="5516280"/>
            <a:ext cx="2520" cy="865800"/>
          </a:xfrm>
          <a:prstGeom prst="curvedConnector5">
            <a:avLst>
              <a:gd name="adj1" fmla="val -22300000"/>
              <a:gd name="adj2" fmla="val 50000"/>
              <a:gd name="adj3" fmla="val -22300000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263" name=""/>
          <p:cNvCxnSpPr>
            <a:stCxn id="241" idx="0"/>
            <a:endCxn id="240" idx="0"/>
          </p:cNvCxnSpPr>
          <p:nvPr/>
        </p:nvCxnSpPr>
        <p:spPr>
          <a:xfrm flipH="1" rot="16200000">
            <a:off x="3994200" y="5229000"/>
            <a:ext cx="2520" cy="1152720"/>
          </a:xfrm>
          <a:prstGeom prst="curvedConnector5">
            <a:avLst>
              <a:gd name="adj1" fmla="val 26500000"/>
              <a:gd name="adj2" fmla="val 49984"/>
              <a:gd name="adj3" fmla="val 26500000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264" name=""/>
          <p:cNvCxnSpPr>
            <a:stCxn id="235" idx="0"/>
            <a:endCxn id="239" idx="0"/>
          </p:cNvCxnSpPr>
          <p:nvPr/>
        </p:nvCxnSpPr>
        <p:spPr>
          <a:xfrm flipH="1" rot="16200000">
            <a:off x="4138560" y="5660640"/>
            <a:ext cx="2520" cy="289440"/>
          </a:xfrm>
          <a:prstGeom prst="curvedConnector5">
            <a:avLst>
              <a:gd name="adj1" fmla="val -9600000"/>
              <a:gd name="adj2" fmla="val 49937"/>
              <a:gd name="adj3" fmla="val -9600000"/>
            </a:avLst>
          </a:prstGeom>
          <a:ln w="9360">
            <a:solidFill>
              <a:srgbClr val="eaeaea"/>
            </a:solidFill>
            <a:miter/>
          </a:ln>
        </p:spPr>
      </p:cxnSp>
      <p:sp>
        <p:nvSpPr>
          <p:cNvPr id="265" name=""/>
          <p:cNvSpPr/>
          <p:nvPr/>
        </p:nvSpPr>
        <p:spPr>
          <a:xfrm flipV="1">
            <a:off x="3995640" y="580500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419640" y="5805000"/>
            <a:ext cx="712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64000" y="5805000"/>
            <a:ext cx="712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492360" y="580500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067280" y="5805000"/>
            <a:ext cx="712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40360" y="5805000"/>
            <a:ext cx="712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211640" y="5805000"/>
            <a:ext cx="712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08000" y="907920"/>
            <a:ext cx="8928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тн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йдите область определения функци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тетрад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йдите область значения функци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11280" y="1989000"/>
          <a:ext cx="201600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20160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11280" y="2492280"/>
          <a:ext cx="15843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492280"/>
                    <a:ext cx="1584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132000" y="1916280"/>
          <a:ext cx="180036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1916280"/>
                    <a:ext cx="18003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132000" y="2492280"/>
          <a:ext cx="1440000" cy="34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492280"/>
                    <a:ext cx="144000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39640" y="3860640"/>
          <a:ext cx="2592360" cy="6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3860640"/>
                    <a:ext cx="25923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95280" y="4653000"/>
          <a:ext cx="4032360" cy="73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465300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5076720" y="4508640"/>
          <a:ext cx="457200" cy="17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6720" y="4508640"/>
                    <a:ext cx="45720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5580000" y="4365720"/>
          <a:ext cx="11556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80000" y="4365720"/>
                    <a:ext cx="1155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5292720" y="4797360"/>
          <a:ext cx="121932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92720" y="4797360"/>
                    <a:ext cx="1219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5364000" y="5229360"/>
          <a:ext cx="135900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64000" y="5229360"/>
                    <a:ext cx="1359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076720" y="5661000"/>
          <a:ext cx="1041480" cy="177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76720" y="5661000"/>
                    <a:ext cx="1041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300720" y="5661000"/>
          <a:ext cx="546120" cy="17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661000"/>
                    <a:ext cx="546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948360" y="5950080"/>
          <a:ext cx="876600" cy="253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948360" y="5950080"/>
                    <a:ext cx="87660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00720" y="3933720"/>
          <a:ext cx="936360" cy="263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00720" y="3933720"/>
                    <a:ext cx="9363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580000" y="3933720"/>
          <a:ext cx="792360" cy="263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80000" y="3933720"/>
                    <a:ext cx="7923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659640" y="3789360"/>
          <a:ext cx="2160360" cy="517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659640" y="3789360"/>
                    <a:ext cx="2160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88567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тн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йдите область значений функци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ите числа в порядке возрастания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989000"/>
          <a:ext cx="187164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1871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211640" y="1844640"/>
          <a:ext cx="16574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844640"/>
                    <a:ext cx="1657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539640" y="3357720"/>
          <a:ext cx="719280" cy="40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357720"/>
                    <a:ext cx="7192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132000" y="3284640"/>
          <a:ext cx="79236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3284640"/>
                    <a:ext cx="7923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692360" y="3357720"/>
          <a:ext cx="720720" cy="40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3357720"/>
                    <a:ext cx="720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539640" y="4149720"/>
          <a:ext cx="863640" cy="30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4149720"/>
                    <a:ext cx="8636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908000" y="4653000"/>
          <a:ext cx="71928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4653000"/>
                    <a:ext cx="7192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11280" y="4653000"/>
          <a:ext cx="720720" cy="40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653000"/>
                    <a:ext cx="720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3059280" y="4581360"/>
          <a:ext cx="792000" cy="54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59280" y="4581360"/>
                    <a:ext cx="7920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716360" y="3789360"/>
            <a:ext cx="1656000" cy="1584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4581360"/>
            <a:ext cx="25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80000" y="3429000"/>
            <a:ext cx="0" cy="22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400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8000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3933720"/>
            <a:ext cx="50328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76720" y="5229360"/>
            <a:ext cx="50328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50920" y="3429000"/>
          <a:ext cx="2696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0920" y="3429000"/>
                    <a:ext cx="269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24000" y="4724280"/>
          <a:ext cx="291960" cy="38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4000" y="4724280"/>
                    <a:ext cx="29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476360" y="3429000"/>
          <a:ext cx="277920" cy="317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76360" y="3429000"/>
                    <a:ext cx="2779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1547640" y="4724280"/>
          <a:ext cx="339840" cy="389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47640" y="4724280"/>
                    <a:ext cx="339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843280" y="3429000"/>
          <a:ext cx="257040" cy="317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843280" y="3429000"/>
                    <a:ext cx="257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771640" y="4724280"/>
          <a:ext cx="314640" cy="389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71640" y="4724280"/>
                    <a:ext cx="314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4788000" y="5157720"/>
          <a:ext cx="220680" cy="28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88000" y="5157720"/>
                    <a:ext cx="220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859280" y="3645000"/>
          <a:ext cx="222480" cy="288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59280" y="3645000"/>
                    <a:ext cx="2224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500720" y="3789360"/>
          <a:ext cx="307800" cy="503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500720" y="3789360"/>
                    <a:ext cx="307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тетради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строить график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8000" y="1916280"/>
          <a:ext cx="2519280" cy="70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916280"/>
                    <a:ext cx="251928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3640" y="2060640"/>
          <a:ext cx="26636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060640"/>
                    <a:ext cx="26636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516720" y="2060640"/>
          <a:ext cx="187164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2060640"/>
                    <a:ext cx="1871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08000" y="549360"/>
          <a:ext cx="504720" cy="20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49360"/>
                    <a:ext cx="50472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684360" y="404640"/>
          <a:ext cx="100800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04640"/>
                    <a:ext cx="10080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763640" y="836640"/>
          <a:ext cx="504720" cy="2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836640"/>
                    <a:ext cx="5047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050920" y="1989000"/>
          <a:ext cx="180036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989000"/>
                    <a:ext cx="180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4643280" y="549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820000" y="342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755640" y="2924280"/>
            <a:ext cx="697248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50920" y="3068640"/>
            <a:ext cx="86421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572000" y="836280"/>
            <a:ext cx="0" cy="504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2637000"/>
            <a:ext cx="770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00720" y="2565360"/>
            <a:ext cx="144360" cy="1429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242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2997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3640" y="2997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219640" y="2997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56000" y="2997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40360" y="2997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2997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43640" y="2565360"/>
            <a:ext cx="144360" cy="1429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2565360"/>
            <a:ext cx="144720" cy="1429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268360" y="3141720"/>
          <a:ext cx="360720" cy="2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141720"/>
                    <a:ext cx="36072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6372360" y="3141720"/>
          <a:ext cx="21564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314172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08000" y="547560"/>
          <a:ext cx="504720" cy="2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547560"/>
                    <a:ext cx="504720" cy="2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84360" y="476280"/>
          <a:ext cx="100800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76280"/>
                    <a:ext cx="10080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755640" y="1413000"/>
          <a:ext cx="647640" cy="52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413000"/>
                    <a:ext cx="6476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732720" y="2205000"/>
          <a:ext cx="1579320" cy="28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2720" y="2205000"/>
                    <a:ext cx="157932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4643280" y="549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748720" y="299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5651640" y="1628640"/>
          <a:ext cx="1504800" cy="3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628640"/>
                    <a:ext cx="150480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108000" y="333360"/>
          <a:ext cx="57636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333360"/>
                    <a:ext cx="576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826920" y="189000"/>
          <a:ext cx="8607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89000"/>
                    <a:ext cx="860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4643280" y="476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820000" y="299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69724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51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амостоятельная работа-тест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) Найдите О.З.Ф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) Найдите корни функции на отрезке и запишите их сумм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3) Исследуйте на чётность, нечётнос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84360" y="1844640"/>
          <a:ext cx="1223640" cy="2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12236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796000" y="1844640"/>
          <a:ext cx="11523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844640"/>
                    <a:ext cx="1152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179280" y="2133720"/>
          <a:ext cx="647640" cy="2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2133720"/>
                    <a:ext cx="64764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833400" y="2133720"/>
          <a:ext cx="70488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3400" y="2133720"/>
                    <a:ext cx="7048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1547640" y="2133720"/>
          <a:ext cx="648000" cy="23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2133720"/>
                    <a:ext cx="648000" cy="2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2182680" y="2133720"/>
          <a:ext cx="675000" cy="22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82680" y="2133720"/>
                    <a:ext cx="67500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8360" y="2133720"/>
            <a:ext cx="2606040" cy="225360"/>
            <a:chOff x="5148360" y="2133720"/>
            <a:chExt cx="2606040" cy="225360"/>
          </a:xfrm>
        </p:grpSpPr>
        <p:graphicFrame>
          <p:nvGraphicFramePr>
            <p:cNvPr id="418" name=""/>
            <p:cNvGraphicFramePr/>
            <p:nvPr/>
          </p:nvGraphicFramePr>
          <p:xfrm>
            <a:off x="5148360" y="2133720"/>
            <a:ext cx="649080" cy="216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48360" y="2133720"/>
                      <a:ext cx="6490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0" name=""/>
            <p:cNvGraphicFramePr/>
            <p:nvPr/>
          </p:nvGraphicFramePr>
          <p:xfrm>
            <a:off x="5802120" y="2133720"/>
            <a:ext cx="632880" cy="216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02120" y="2133720"/>
                      <a:ext cx="6328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6445080" y="2133720"/>
            <a:ext cx="647280" cy="223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45080" y="2133720"/>
                      <a:ext cx="64728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4" name=""/>
            <p:cNvGraphicFramePr/>
            <p:nvPr/>
          </p:nvGraphicFramePr>
          <p:xfrm>
            <a:off x="7078320" y="2133720"/>
            <a:ext cx="676080" cy="225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078320" y="2133720"/>
                      <a:ext cx="676080" cy="22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6" name=""/>
          <p:cNvGraphicFramePr/>
          <p:nvPr/>
        </p:nvGraphicFramePr>
        <p:xfrm>
          <a:off x="5724360" y="3213000"/>
          <a:ext cx="1409760" cy="43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4360" y="3213000"/>
                    <a:ext cx="1409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219640" y="3716280"/>
          <a:ext cx="444600" cy="39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19640" y="3716280"/>
                    <a:ext cx="444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724360" y="3716280"/>
          <a:ext cx="546120" cy="393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24360" y="3716280"/>
                    <a:ext cx="5461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6300720" y="3716280"/>
          <a:ext cx="444600" cy="393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00720" y="3716280"/>
                    <a:ext cx="444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804000" y="3716280"/>
          <a:ext cx="520560" cy="393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804000" y="3716280"/>
                    <a:ext cx="520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684360" y="3213000"/>
          <a:ext cx="1447560" cy="43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84360" y="3213000"/>
                    <a:ext cx="1447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24000" y="3716280"/>
          <a:ext cx="495000" cy="2034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4000" y="3716280"/>
                    <a:ext cx="49500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900000" y="3716280"/>
          <a:ext cx="393840" cy="203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900000" y="3716280"/>
                    <a:ext cx="39384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332000" y="3716280"/>
          <a:ext cx="571320" cy="203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332000" y="3716280"/>
                    <a:ext cx="57132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1979640" y="3716280"/>
          <a:ext cx="571320" cy="2034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79640" y="3716280"/>
                    <a:ext cx="57132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468360" y="4724280"/>
          <a:ext cx="1081080" cy="5670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68360" y="4724280"/>
                    <a:ext cx="10810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5796000" y="4724280"/>
          <a:ext cx="1066680" cy="565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796000" y="4724280"/>
                    <a:ext cx="10666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2843280" y="515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ётна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43280" y="5445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чётна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43280" y="5734080"/>
            <a:ext cx="26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чётная, ни нечётна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1:55:43Z</dcterms:created>
  <dc:creator>Mabis1284</dc:creator>
  <dc:description/>
  <dc:language>en-US</dc:language>
  <cp:lastModifiedBy>Наталья</cp:lastModifiedBy>
  <dcterms:modified xsi:type="dcterms:W3CDTF">2011-12-22T05:48:03Z</dcterms:modified>
  <cp:revision>14</cp:revision>
  <dc:subject/>
  <dc:title>Урок: тригонометрические функции и их свойства</dc:title>
</cp:coreProperties>
</file>