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E49-1DFD-40D3-A1D4-8C8B9DA0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45E-C270-445B-8DF3-2AA0B79A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D4C-4D92-4DCD-81F2-3CAB31AA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E715-5D60-4991-988B-F16086F7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159-8465-4E5C-B803-3DE10FC8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E43-7224-4B9F-9436-5D9CE441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A56-08E8-4C2D-85D1-5C644A1D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94D-9F82-4141-A568-1C75DA56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BB7-B9E6-4E1B-B82B-05594589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410-B95C-4D14-9FBB-CD17CC9C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501-0784-4A35-89CF-40D8853D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051-7438-4B5A-A08F-A322D406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8604-52E6-443E-8F51-EAEECDEC2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ЕНИЕ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каны2"/>
          <p:cNvPicPr/>
          <p:nvPr/>
        </p:nvPicPr>
        <p:blipFill>
          <a:blip r:embed="rId1"/>
          <a:srcRect l="0" t="0" r="0" b="50071"/>
          <a:stretch/>
        </p:blipFill>
        <p:spPr>
          <a:xfrm>
            <a:off x="457200" y="228600"/>
            <a:ext cx="5472000" cy="4054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№ 1948"/>
          <p:cNvPicPr/>
          <p:nvPr/>
        </p:nvPicPr>
        <p:blipFill>
          <a:blip r:embed="rId2"/>
          <a:stretch/>
        </p:blipFill>
        <p:spPr>
          <a:xfrm>
            <a:off x="4267080" y="327672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№ 1942"/>
          <p:cNvPicPr/>
          <p:nvPr/>
        </p:nvPicPr>
        <p:blipFill>
          <a:blip r:embed="rId1"/>
          <a:stretch/>
        </p:blipFill>
        <p:spPr>
          <a:xfrm>
            <a:off x="457200" y="4572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№ 1946"/>
          <p:cNvPicPr/>
          <p:nvPr/>
        </p:nvPicPr>
        <p:blipFill>
          <a:blip r:embed="rId2"/>
          <a:stretch/>
        </p:blipFill>
        <p:spPr>
          <a:xfrm>
            <a:off x="4495680" y="76212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№ 1943"/>
          <p:cNvPicPr/>
          <p:nvPr/>
        </p:nvPicPr>
        <p:blipFill>
          <a:blip r:embed="rId3"/>
          <a:srcRect l="0" t="0" r="0" b="6824"/>
          <a:stretch/>
        </p:blipFill>
        <p:spPr>
          <a:xfrm>
            <a:off x="685800" y="3581280"/>
            <a:ext cx="44658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1-12-23T11:40:1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