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BA7-5AE0-43B3-B308-DE290A57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7EF-56F7-4DD5-8337-68C8E106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0FD-B7DE-4818-A504-126E860F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97C-EE55-4EB5-9524-267ED093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60E-6BE0-4131-9AE7-EFDB70F0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5C7-9B12-40ED-AB2A-F08A5C6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75B-E587-44BE-90A1-24D2018C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446-68E5-4223-9F8F-7A25C29A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913-21A7-4D3C-A86B-4F02C8BD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523-33FB-40B1-A440-60F75F2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AC4-1B3A-44FD-98B0-2640B05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7C0-4B95-412D-9C92-3671338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7E2-05B4-4868-A63D-8FAC9671B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каны2"/>
          <p:cNvPicPr/>
          <p:nvPr/>
        </p:nvPicPr>
        <p:blipFill>
          <a:blip r:embed="rId1"/>
          <a:srcRect l="0" t="0" r="0" b="50071"/>
          <a:stretch/>
        </p:blipFill>
        <p:spPr>
          <a:xfrm>
            <a:off x="457200" y="228600"/>
            <a:ext cx="5472000" cy="4054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№ 1948"/>
          <p:cNvPicPr/>
          <p:nvPr/>
        </p:nvPicPr>
        <p:blipFill>
          <a:blip r:embed="rId2"/>
          <a:stretch/>
        </p:blipFill>
        <p:spPr>
          <a:xfrm>
            <a:off x="4267080" y="32767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№ 1942"/>
          <p:cNvPicPr/>
          <p:nvPr/>
        </p:nvPicPr>
        <p:blipFill>
          <a:blip r:embed="rId1"/>
          <a:stretch/>
        </p:blipFill>
        <p:spPr>
          <a:xfrm>
            <a:off x="457200" y="4572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№ 1946"/>
          <p:cNvPicPr/>
          <p:nvPr/>
        </p:nvPicPr>
        <p:blipFill>
          <a:blip r:embed="rId2"/>
          <a:stretch/>
        </p:blipFill>
        <p:spPr>
          <a:xfrm>
            <a:off x="4495680" y="7621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№ 1943"/>
          <p:cNvPicPr/>
          <p:nvPr/>
        </p:nvPicPr>
        <p:blipFill>
          <a:blip r:embed="rId3"/>
          <a:srcRect l="0" t="0" r="0" b="6824"/>
          <a:stretch/>
        </p:blipFill>
        <p:spPr>
          <a:xfrm>
            <a:off x="685800" y="3581280"/>
            <a:ext cx="44658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0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