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82B-260C-41D2-AF88-E3BDB3B1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DF6-2DCD-47E4-BAD2-3BB398E0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3BE-BBE1-4E32-B5E7-5CFFBB42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4BB-0668-48FF-B1F9-33C34D7D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D0F-6004-454D-A5FD-D1A0A3D0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943-F864-4397-A915-1A37C403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A6D-B64C-43F4-B439-5132FF57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70F-1078-4EB2-AB6A-AB0E934A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26E-CFD0-4E90-AB8A-8EBBDBD5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7FD-908D-4AB8-AEF0-06398EE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9FB-B3CB-46E1-AED3-F45C5671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77D-D059-4B3E-A053-906BEA73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E334-1CDE-49C1-A6DB-B0EA8267C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DSCF0147"/>
          <p:cNvPicPr/>
          <p:nvPr/>
        </p:nvPicPr>
        <p:blipFill>
          <a:blip r:embed="rId1"/>
          <a:stretch/>
        </p:blipFill>
        <p:spPr>
          <a:xfrm>
            <a:off x="5867280" y="304920"/>
            <a:ext cx="2990880" cy="2243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№ 1869"/>
          <p:cNvPicPr/>
          <p:nvPr/>
        </p:nvPicPr>
        <p:blipFill>
          <a:blip r:embed="rId2"/>
          <a:stretch/>
        </p:blipFill>
        <p:spPr>
          <a:xfrm>
            <a:off x="228600" y="2286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DSC00794"/>
          <p:cNvPicPr/>
          <p:nvPr/>
        </p:nvPicPr>
        <p:blipFill>
          <a:blip r:embed="rId3"/>
          <a:stretch/>
        </p:blipFill>
        <p:spPr>
          <a:xfrm>
            <a:off x="6019920" y="45720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MG_4056"/>
          <p:cNvPicPr/>
          <p:nvPr/>
        </p:nvPicPr>
        <p:blipFill>
          <a:blip r:embed="rId4"/>
          <a:srcRect l="5456" t="0" r="0" b="0"/>
          <a:stretch/>
        </p:blipFill>
        <p:spPr>
          <a:xfrm>
            <a:off x="228600" y="3876840"/>
            <a:ext cx="396252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ЗАЛ АЭРОИОНОТЕРАПИИ 1"/>
          <p:cNvPicPr/>
          <p:nvPr/>
        </p:nvPicPr>
        <p:blipFill>
          <a:blip r:embed="rId5"/>
          <a:stretch/>
        </p:blipFill>
        <p:spPr>
          <a:xfrm>
            <a:off x="3505320" y="3581280"/>
            <a:ext cx="2869920" cy="21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№ 1893"/>
          <p:cNvPicPr/>
          <p:nvPr/>
        </p:nvPicPr>
        <p:blipFill>
          <a:blip r:embed="rId6"/>
          <a:stretch/>
        </p:blipFill>
        <p:spPr>
          <a:xfrm>
            <a:off x="2971800" y="114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ЗАЛ АЭРОИОНОТЕРАПИИ 3"/>
          <p:cNvPicPr/>
          <p:nvPr/>
        </p:nvPicPr>
        <p:blipFill>
          <a:blip r:embed="rId7"/>
          <a:stretch/>
        </p:blipFill>
        <p:spPr>
          <a:xfrm>
            <a:off x="3962520" y="320040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 rot="18916800">
            <a:off x="1371600" y="380520"/>
            <a:ext cx="6378480" cy="623736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81280" y="2286000"/>
            <a:ext cx="2232000" cy="2592360"/>
          </a:xfrm>
          <a:prstGeom prst="rect">
            <a:avLst/>
          </a:prstGeom>
          <a:solidFill>
            <a:srgbClr val="d9e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657600" y="2438280"/>
            <a:ext cx="2016000" cy="234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Инстру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по ФИЗ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рдинация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об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5105520"/>
            <a:ext cx="4896000" cy="1523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мулирование интер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физкультуре и спорт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ности в З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838080" y="228600"/>
            <a:ext cx="1441440" cy="2160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Логопед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б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х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132000" y="189000"/>
            <a:ext cx="3384720" cy="1800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Препода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по 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аган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тетики тела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культуры и спо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изо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6877080" y="189000"/>
            <a:ext cx="2016000" cy="1800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Эколог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2666880"/>
            <a:ext cx="1873080" cy="2089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Псих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ровожд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ност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400800" y="2438280"/>
            <a:ext cx="2232000" cy="4032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Хореогра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коорд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й,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ой мо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Музык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енар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ите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с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867280" y="6477120"/>
            <a:ext cx="327672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1-12-23T11:41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