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860-07B2-4215-92B2-2B8FD7F4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887-EF1F-4739-AE5A-C2C9ED8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031-85CE-4DDE-AA5B-DCB83061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E3C-56A1-467A-9C5F-D57A4337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C19-2D32-4FBE-8FDC-354A7633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53F-2C97-4490-A6BA-8EFE4102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38E-83BB-42FE-9959-0DCE4A06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6A0-092C-4F41-8126-CF588F53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F2E-A019-46CE-8657-11D8EE57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735-A044-413E-AA71-D3D1654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4E0-4F72-4431-9A93-40677EB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7BE-97C0-4AE4-9448-32751C71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E3F6-CF11-4E2C-8D46-F7E93BFA0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DSCF0147"/>
          <p:cNvPicPr/>
          <p:nvPr/>
        </p:nvPicPr>
        <p:blipFill>
          <a:blip r:embed="rId1"/>
          <a:stretch/>
        </p:blipFill>
        <p:spPr>
          <a:xfrm>
            <a:off x="5867280" y="30492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№ 1869"/>
          <p:cNvPicPr/>
          <p:nvPr/>
        </p:nvPicPr>
        <p:blipFill>
          <a:blip r:embed="rId2"/>
          <a:stretch/>
        </p:blipFill>
        <p:spPr>
          <a:xfrm>
            <a:off x="228600" y="2286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DSC00794"/>
          <p:cNvPicPr/>
          <p:nvPr/>
        </p:nvPicPr>
        <p:blipFill>
          <a:blip r:embed="rId3"/>
          <a:stretch/>
        </p:blipFill>
        <p:spPr>
          <a:xfrm>
            <a:off x="6019920" y="45720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MG_4056"/>
          <p:cNvPicPr/>
          <p:nvPr/>
        </p:nvPicPr>
        <p:blipFill>
          <a:blip r:embed="rId4"/>
          <a:srcRect l="5456" t="0" r="0" b="0"/>
          <a:stretch/>
        </p:blipFill>
        <p:spPr>
          <a:xfrm>
            <a:off x="228600" y="3876840"/>
            <a:ext cx="396252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ЗАЛ АЭРОИОНОТЕРАПИИ 1"/>
          <p:cNvPicPr/>
          <p:nvPr/>
        </p:nvPicPr>
        <p:blipFill>
          <a:blip r:embed="rId5"/>
          <a:stretch/>
        </p:blipFill>
        <p:spPr>
          <a:xfrm>
            <a:off x="3505320" y="3581280"/>
            <a:ext cx="2869920" cy="21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№ 1893"/>
          <p:cNvPicPr/>
          <p:nvPr/>
        </p:nvPicPr>
        <p:blipFill>
          <a:blip r:embed="rId6"/>
          <a:stretch/>
        </p:blipFill>
        <p:spPr>
          <a:xfrm>
            <a:off x="2971800" y="114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ЗАЛ АЭРОИОНОТЕРАПИИ 3"/>
          <p:cNvPicPr/>
          <p:nvPr/>
        </p:nvPicPr>
        <p:blipFill>
          <a:blip r:embed="rId7"/>
          <a:stretch/>
        </p:blipFill>
        <p:spPr>
          <a:xfrm>
            <a:off x="3962520" y="32004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 rot="18916800">
            <a:off x="1371600" y="380520"/>
            <a:ext cx="6378480" cy="623736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81280" y="2286000"/>
            <a:ext cx="2232000" cy="2592360"/>
          </a:xfrm>
          <a:prstGeom prst="rect">
            <a:avLst/>
          </a:prstGeom>
          <a:solidFill>
            <a:srgbClr val="d9e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657600" y="2438280"/>
            <a:ext cx="2016000" cy="234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Инстру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по ФИ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ция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об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5105520"/>
            <a:ext cx="4896000" cy="1523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мулирование интер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физкультуре и спорт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и в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838080" y="228600"/>
            <a:ext cx="1441440" cy="2160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Логопед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б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х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132000" y="189000"/>
            <a:ext cx="3384720" cy="1800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о 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ага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тетики тела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культуры и спо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изо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877080" y="189000"/>
            <a:ext cx="2016000" cy="1800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Эколог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2666880"/>
            <a:ext cx="1873080" cy="2089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вож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нос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400800" y="2438280"/>
            <a:ext cx="2232000" cy="4032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Хореогра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коорд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й,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ой мо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Музык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а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ит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с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867280" y="6477120"/>
            <a:ext cx="32767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1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