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D46C-DF6A-4EF5-B66D-13DBCE02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14B4-1C64-4905-A730-5ADD2C14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AD8B-F512-47D7-82A8-C101205D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C5B-8696-4CD8-81F1-7C97A8E4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304-1D75-4A69-9798-B86B2E92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02A-08DC-479A-B0D1-7D726F08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5B4-07F8-4E71-91AD-41F8CCAC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1AC-1FFB-452E-B0D0-56C348F6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4CF-6A04-4B2C-9A0E-4E0AC565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1D9-E6BB-4D23-A02E-C2DA7A03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CE0-55A6-4928-A4E1-90C243AB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BF41-AC47-4794-8204-49435EFD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DF37-D958-458E-B627-C87671E95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ОЖЕНИЕ 5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DSC_0003"/>
          <p:cNvPicPr/>
          <p:nvPr/>
        </p:nvPicPr>
        <p:blipFill>
          <a:blip r:embed="rId1"/>
          <a:stretch/>
        </p:blipFill>
        <p:spPr>
          <a:xfrm>
            <a:off x="838080" y="304920"/>
            <a:ext cx="5224680" cy="347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SC_0017"/>
          <p:cNvPicPr/>
          <p:nvPr/>
        </p:nvPicPr>
        <p:blipFill>
          <a:blip r:embed="rId2"/>
          <a:stretch/>
        </p:blipFill>
        <p:spPr>
          <a:xfrm>
            <a:off x="5105520" y="1447920"/>
            <a:ext cx="3376440" cy="507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DSCF0230"/>
          <p:cNvPicPr/>
          <p:nvPr/>
        </p:nvPicPr>
        <p:blipFill>
          <a:blip r:embed="rId3"/>
          <a:srcRect l="0" t="0" r="13206" b="0"/>
          <a:stretch/>
        </p:blipFill>
        <p:spPr>
          <a:xfrm>
            <a:off x="304920" y="3424320"/>
            <a:ext cx="3504960" cy="3029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DSCF0301"/>
          <p:cNvPicPr/>
          <p:nvPr/>
        </p:nvPicPr>
        <p:blipFill>
          <a:blip r:embed="rId4"/>
          <a:stretch/>
        </p:blipFill>
        <p:spPr>
          <a:xfrm>
            <a:off x="6095880" y="4419720"/>
            <a:ext cx="28893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ЕНИЕ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56240" y="3935160"/>
            <a:ext cx="40305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DSC01101"/>
          <p:cNvPicPr/>
          <p:nvPr/>
        </p:nvPicPr>
        <p:blipFill>
          <a:blip r:embed="rId1"/>
          <a:stretch/>
        </p:blipFill>
        <p:spPr>
          <a:xfrm>
            <a:off x="4284720" y="3427560"/>
            <a:ext cx="4573440" cy="3430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DSC01097"/>
          <p:cNvPicPr/>
          <p:nvPr/>
        </p:nvPicPr>
        <p:blipFill>
          <a:blip r:embed="rId2"/>
          <a:stretch/>
        </p:blipFill>
        <p:spPr>
          <a:xfrm>
            <a:off x="971640" y="189000"/>
            <a:ext cx="52560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1-12-23T11:42:1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