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62AE-1F7E-481D-A04F-CDE0D709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7A1E-0C5A-4BF2-AA6A-1F8B7761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1C91-97C3-4058-ADFF-97648FE8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FE10-842E-44F9-A07B-9AF8F867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8659-F1A2-46AD-8A99-B343C8A8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E59F-19AA-40B6-B73A-C4355448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0202-E8C2-4758-B352-B789AD24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BFA5-D38D-4C7D-84F2-8E846178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5765-E4BF-4E55-8619-2A5D0B04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962E-9D31-4205-83CE-08A263BA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45B6-03C9-4F00-BCED-0FA430E8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39B0-72FD-40A0-8A10-5061A191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5CE8-FFC5-4288-9E42-2C139275B8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ОЖЕНИЕ 5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DSC_0003"/>
          <p:cNvPicPr/>
          <p:nvPr/>
        </p:nvPicPr>
        <p:blipFill>
          <a:blip r:embed="rId1"/>
          <a:stretch/>
        </p:blipFill>
        <p:spPr>
          <a:xfrm>
            <a:off x="838080" y="304920"/>
            <a:ext cx="5224680" cy="347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DSC_0017"/>
          <p:cNvPicPr/>
          <p:nvPr/>
        </p:nvPicPr>
        <p:blipFill>
          <a:blip r:embed="rId2"/>
          <a:stretch/>
        </p:blipFill>
        <p:spPr>
          <a:xfrm>
            <a:off x="5105520" y="1447920"/>
            <a:ext cx="3376440" cy="5076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DSCF0230"/>
          <p:cNvPicPr/>
          <p:nvPr/>
        </p:nvPicPr>
        <p:blipFill>
          <a:blip r:embed="rId3"/>
          <a:srcRect l="0" t="0" r="13206" b="0"/>
          <a:stretch/>
        </p:blipFill>
        <p:spPr>
          <a:xfrm>
            <a:off x="304920" y="3424320"/>
            <a:ext cx="3504960" cy="3029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DSCF0301"/>
          <p:cNvPicPr/>
          <p:nvPr/>
        </p:nvPicPr>
        <p:blipFill>
          <a:blip r:embed="rId4"/>
          <a:stretch/>
        </p:blipFill>
        <p:spPr>
          <a:xfrm>
            <a:off x="6095880" y="4419720"/>
            <a:ext cx="28893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ЛОЖЕНИЕ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56240" y="3935160"/>
            <a:ext cx="403056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DSC01101"/>
          <p:cNvPicPr/>
          <p:nvPr/>
        </p:nvPicPr>
        <p:blipFill>
          <a:blip r:embed="rId1"/>
          <a:stretch/>
        </p:blipFill>
        <p:spPr>
          <a:xfrm>
            <a:off x="4284720" y="3427560"/>
            <a:ext cx="4573440" cy="3430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DSC01097"/>
          <p:cNvPicPr/>
          <p:nvPr/>
        </p:nvPicPr>
        <p:blipFill>
          <a:blip r:embed="rId2"/>
          <a:stretch/>
        </p:blipFill>
        <p:spPr>
          <a:xfrm>
            <a:off x="971640" y="189000"/>
            <a:ext cx="52560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-</cp:lastModifiedBy>
  <dcterms:modified xsi:type="dcterms:W3CDTF">2011-12-23T11:42:1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