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0F2-952C-40D9-A719-D4740F11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1EC-251A-45AE-AB7A-FEA51C1F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59F-EAB5-4DA9-B5AD-A58E6992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DE9-60AF-4D95-8EF0-60024746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8EB-7630-4B4C-AA79-E552A6D9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DDB-E6F6-4099-A454-9D8CCDF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B6B-CA4A-4037-AB07-3F3BD679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604-9312-49C4-A843-E656C7A9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0C0-7B21-42B9-AD0B-4F72F6D7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C22-456A-48BA-8FD2-516C46D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833-9CBC-4BFF-8BAA-D4DAB6B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831-2062-44F5-A1C1-7F4428A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335-C125-4C87-80C4-7F773F9D5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У СОШ №1 г. Тал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7600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213372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: «Базаров и Раскольников как «герои нашего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4437000"/>
            <a:ext cx="38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ы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пова Любов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поудина Ольга, 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3600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72072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349360"/>
            <a:ext cx="28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639720"/>
            <a:ext cx="676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ытания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аров                           Рас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844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844640"/>
            <a:ext cx="352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уэль с Павлом Петро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анив Павла П., Базаров вступает в роль врач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юбовь к А.С.Одинц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наруживает «романтика в самом себе»,стремится со-хранить достоинство, «выкор-чёвывает» из души несостоя-вшуюся любов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дино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От копеечной свечи, вы знаете, Москва сгоре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одят от него Аркадий. Кукшина, Си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8446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р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бийство стару-хи-процентщ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ве я старушонку убил? Я себя убил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дино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словам Свидригайло-ва, «у Родиона Романовича две дороги: или пуля в лоб, или по Владимир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юбовь С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еречёркивает диалектику Раскольникова и вынужда-ет его встать на путь покая-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ров и Раскольников как «герои нашего вре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72072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79200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64764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844640"/>
            <a:ext cx="67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1844640"/>
            <a:ext cx="31687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 Базарова представ-ляет собой зрелость лите-ратурного явления «герой нашего времени». Базаров зрел, ответственен, спосо-бен к поступку. В нём нет ни детских иллюзий, ни инфан-тильности. Он близок к тому, чтобы стать положитель-ным героем. Вот тогда –то он умир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огласуется с законами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916280"/>
            <a:ext cx="316872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кольников ещё один «герой своего времени», отрицающий Бога и бес-смертие души. Если Базаров с этим убеждением так и умирает, то Раскольников, пройдя испытания любо-вью, одиночеством и смертью, приходит к Б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 Раскольникова объединяет не столько современников, сколько исключительных одиночек с их жестокими теориями во второй половине 19 в. Поэтому Раскольникова всё-таки можно назвать «героем своего времен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-577440" y="3753720"/>
            <a:ext cx="230508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в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72072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79200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64764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1773360"/>
            <a:ext cx="66978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нова Л.А.Тургенев в школе.М.,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хтин М.М. Проблемы поэтики Достоевского. М.,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в С.В. Роман Ф.М. Достоевского «Преступление и наказание». Комментарий. М., 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потин В.Я. Разочарование и крушение Родиона Раскольникова. М., 19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овойт П.Г. Роман И.С.Тургенева «Отцы и дети». Комментарий. М.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езнёв Ю.И. Достоевский. Серия ЖЗЛ. М.,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рев Д.И. Базаров (сб. «Русская критика»),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авьёв А.Н. Раскольников и другие. М.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Цели рабо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43164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2276640"/>
            <a:ext cx="48243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таких понятий, как герой, авторский герой, «герой нашего времен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оставление Евгения Базарова и Родиона Раскольникова как представителе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ение черт литературного явления «герой нашего времени» в произведениях И.С. Тургенева «Отцы и дети» и Ф.М.Достоевского «Преступление и наказ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7600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2152800"/>
            <a:ext cx="64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обрать материал, необходимый для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следить жизненные пути Базарова и Раскольник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комиться с их жизненными принципами, выявить сходства и различ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казать, что Базаров и Раскольников «герои нашего времен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844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50328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блемны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20606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Можно ли считать Базарова и Раскольникова «героями нашего времени»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>
            <a:lum contrast="-62000"/>
          </a:blip>
          <a:stretch/>
        </p:blipFill>
        <p:spPr>
          <a:xfrm>
            <a:off x="1116000" y="1773360"/>
            <a:ext cx="6912000" cy="41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76360" y="270828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но ли считать Базарова и Раскольникова «героями нашего времени»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9236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24000" y="6237360"/>
            <a:ext cx="576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222408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Герой нашего времени» как авторский г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Герой нашего времени» как тип, как выразитель своей эпо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ты литературного явления «герой нашего времени» в произведениях И.С.Тургенева «Отцы и дети» и Ф.М.Достоевского «Преступление и наказ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вгений Базаров как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вторский г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832360" cy="42991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72072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324000" y="6237360"/>
            <a:ext cx="576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2122560"/>
            <a:ext cx="32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357720"/>
            <a:ext cx="68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арова и Тургенева роднят только ирония и ум, склонный к скепсису и насме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ружающая жизнь в изображении Тургенева показывает несостоятельность убеждений Базарова, но сама позиция Базарова продолжает оставаться для автора очень значительной, серьёзной и авторит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1895760" cy="22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19640" y="1413000"/>
            <a:ext cx="4608360" cy="433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одион Раскольников как авторский 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50292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647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1523880" cy="1955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321300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Раскольникова и Достоевского в личном, биографическом плане почти нет никаких совпа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ко вот что важно: пульсирующая, не замирающая ни на мгновение мысль – это черта самого Достоевского и его гер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аров и Раскольников как выразители своей эпо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844640"/>
            <a:ext cx="6840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1916280"/>
            <a:ext cx="66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865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197000"/>
          <a:ext cx="6481800" cy="4568760"/>
        </p:xfrm>
        <a:graphic>
          <a:graphicData uri="http://schemas.openxmlformats.org/drawingml/2006/table">
            <a:tbl>
              <a:tblPr/>
              <a:tblGrid>
                <a:gridCol w="32418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а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коль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генев рисует в образе Базарова «первых ласточек» революционного движения. Они позитивисты, скептики, люди реального дела, чужда-ющиеся либеральной фразы. Они, разумеется , атеисты. О таких можно сказать, что они сделали себя с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ь существование души и духа, а взамен им предлагать материю как единственную реальность – веяние времени. И Базаров как нельзя лучше отвечает этим веяниям 60-х годов 19 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же в самой фамилии Раскольникова мы видим биение современности: люди перестали быть цельными натурами, они расколоты на две половины, постоянно колеблются между добром и злом, не зная, что выбра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и подобных студентов теряли веру под влиянием позитивизма, модного в 60-е годы 19 века, отрицали Бога и бессмерт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зненная позиция герое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ход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72072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72072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06064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844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з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1916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278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гил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2276640"/>
            <a:ext cx="792360" cy="936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2205000"/>
            <a:ext cx="863640" cy="936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3178800">
            <a:off x="3772080" y="3004560"/>
            <a:ext cx="325440" cy="885960"/>
          </a:xfrm>
          <a:prstGeom prst="downArrow">
            <a:avLst>
              <a:gd name="adj1" fmla="val 50000"/>
              <a:gd name="adj2" fmla="val 680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526800">
            <a:off x="5615280" y="3033000"/>
            <a:ext cx="363600" cy="866880"/>
          </a:xfrm>
          <a:prstGeom prst="downArrow">
            <a:avLst>
              <a:gd name="adj1" fmla="val 50000"/>
              <a:gd name="adj2" fmla="val 5960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386064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кается от рода, от семьи, от Бога. Отвергает сострадание, смирение и жертвен-ность. Выбирает бу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789360"/>
            <a:ext cx="316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ет любовь, природу, поэзию, аристократизм, Бога. С пренебрежением относится к простому народу, считая его тёмным и суеверным. Признаёт одни ощу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6:29:24Z</dcterms:created>
  <dc:creator>111</dc:creator>
  <dc:description/>
  <dc:language>en-US</dc:language>
  <cp:lastModifiedBy>Admin</cp:lastModifiedBy>
  <dcterms:modified xsi:type="dcterms:W3CDTF">2011-12-23T18:02:35Z</dcterms:modified>
  <cp:revision>45</cp:revision>
  <dc:subject/>
  <dc:title>Въ начале было слово…</dc:title>
</cp:coreProperties>
</file>