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4ECE-9B12-4793-90A8-3BD5BFEE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F4B-73F9-4BC5-BE85-E116AD09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70E3-E502-453B-A91F-B8B3407D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2128-8138-4333-87CF-4A898421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6AF7-9B00-4E45-97FA-C51DA9B9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2CC3-1471-476F-9E5A-A858A05C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5960-634F-48AF-8CD2-E50425D9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AD11-E522-4D3B-8B62-8A21822E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411C-A1C1-4522-B7DC-DA59FD47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0E83-3BB0-488E-868D-6F638A12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73F0-CD68-4223-A294-963D2127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8CA1-9252-4284-91F8-7AED1146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0F96-5F19-4FF0-A6DF-46CDEFBE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9DB2-50A5-424A-8794-17E74CC7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FD3B-94BF-4914-8199-BADB51A3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DD83-B37C-40BF-94E8-BBA2FE0E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1E8D-6753-4170-8EED-B73B9D39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383A-DE12-45D8-8CB6-A3A81FCC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A39-750C-4E22-8211-5D742CFB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029-B454-464F-AD08-375309D4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FA5-CB2D-49E7-9055-DC3745D5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F8D4-4460-48E7-AA8D-37B48584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E69C-1A21-49F3-8417-475D991F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3E34-A86B-4EC6-A59D-759D58F7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11D4-9618-472B-9D72-E182DFD962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7180-31F4-4FDE-8AAC-2B48D5EE19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Адаптация студентов групп нового набора к обучению в колледж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тупление на педсове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Аспекты адапт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способлением к н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ам и методам организации учебного процесс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любви к выбранной специальности, постепенное приобретение профессиональных умений и навыков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психологическ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 с трудностями в усвоении новых социальных норм, установлении и поддержании студентом определенного социального статуса в новом коллектив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идактический аспект адапт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ваемость в учебе — один из главных критериев адаптируемости студентов. Помощь педагог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обучению студентов технологии учебной деятель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осмыслению и усвоению теоретического материа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ая организация самостоятельной работы студентов по расширению и углубления своих знаний (научная и исследовательская работ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мы делаем в рамках этого аспек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работка КТП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лечение студентов к участию в научных конференциях, различных мероприятия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электронной библиоте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рофессиональный аспект адапт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выбранная профессия — непременное условие успешной адаптации студент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адаптац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лючается 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студентов интереса к избранной профессии, стремле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овершенстве овладеть ею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усматривает овладение полным объемом знаний, умений и навыков по професс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мы делаем в рамках этого аспек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дение занятий на подготовительном отделен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дение экскурсий на предприятии города и райо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оциально-психологический аспект адапт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обходимо оптимизировать учебный процесс на основе личностно ориентированн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педагогического взаимодействия. В ней преподаватель и студент сотрудничают как равноправные партнеры общения. Одним из возможных вариантов реализации данной идеи может явиться внедрение в практику техноло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ного обучения и рейтинговой сист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ценки знаний студент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мы делаем в рамках этого аспек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ение студентами докладов по предмет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электронных конспе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Некоторые выводы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удности адаптации - это не что иное, как трудности совмещения усилий преподавателя и студента при организации способов уч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окурсника необходимо учить учиться — это бесспорная исти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а из важнейших задач, стоящих перед педагогами, состоит в вооружении студентов методами самостоятельной работ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24T18:40:16Z</dcterms:modified>
  <cp:revision>6</cp:revision>
  <dc:subject/>
  <dc:title>PowerPoint Presentation</dc:title>
</cp:coreProperties>
</file>