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C9C-AD2E-4EBE-9E82-C3726C2D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057-A16A-4073-B13F-C497E1D3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50E-9258-4499-8622-1CC945C7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E5A-1F3B-4C33-89E3-16AA00E3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1856-0784-4853-A3EB-D84A230F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1BB9-F0AC-498D-BB65-CED386FC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2374-9888-4FF0-A2DD-22AE7BCA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FD14-CACD-4AAF-8847-F21176CB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CACC-52F2-4C32-B448-E25315CC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FBDF-A7D6-45A6-8FDC-5E169F6E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DF5E-866C-4259-A3DC-C82256A3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F4C-7D06-475A-8E48-7E4DC2D9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4BEE-C16F-4FD7-9483-7F4A6624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5884-64FE-404D-8848-1ACA7371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61C2-2496-41F8-964F-60C724CB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CD12-CE75-4593-A3B4-C80068AA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6927-9E21-413D-87BE-A4E55C0C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9F8-3A40-42A5-AE5F-05CF8895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F5D-7744-4408-AFB5-3D5628DC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931-2090-4897-A7CA-DAF34651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EE2-CF0F-487E-9AC3-D1127B23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0A8-03AD-41D2-A3E8-F257B767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E42A-969A-438C-A163-C8B50883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0B4-C9E8-47D4-A8BA-EEB13AF3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DBDD-56A3-4863-B146-C92B552A39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34EC-F63E-4359-82A4-9FE54B88BB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Адаптация студентов групп нового набора к обучению в колледж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упление на педсове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Аспекты адапт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способлением к н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ам и методам организации учебного процес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любви к выбранной специальности, постепенное приобретение профессиональных умений и навыков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психологическ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 с трудностями в усвоении новых социальных норм, установлении и поддержании студентом определенного социального статуса в новом коллектив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идактический аспект адапт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ваемость в учебе — один из главных критериев адаптируемости студентов. Помощь педагог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обучению студентов технологии учебн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осмыслению и усвоению теоретического материа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ая организация самостоятельной работы студентов по расширению и углубления своих знаний (научная и исследовательская работ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мы делаем в рамках этого аспек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работка КТП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лечение студентов к участию в научных конференциях, различных мероприят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электронной библиоте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офессиональный аспект адапт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выбранная профессия — непременное условие успешной адаптации студент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адапта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лючается 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студентов интереса к избранной профессии, стремле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вершенстве овладеть ею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усматривает овладение полным объемом знаний, умений и навыков по професс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мы делаем в рамках этого аспек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ие занятий на подготовительном отделе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ие экскурсий на предприятии города и райо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оциально-психологический аспект адапт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обходимо оптимизировать учебный процесс на основе личностно ориентирован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педагогического взаимодействия. В ней преподаватель и студент сотрудничают как равноправные партнеры общения. Одним из возможных вариантов реализации данной идеи может явиться внедрение в практику техно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ного обучения и рейтинговой сист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ценки знаний студент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мы делаем в рамках этого аспек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ение студентами докладов по предмет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электронных консп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екоторые вывод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дности адаптации - это не что иное, как трудности совмещения усилий преподавателя и студента при организации способов у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окурсника необходимо учить учиться — это бесспорная исти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а из важнейших задач, стоящих перед педагогами, состоит в вооружении студентов методами самостоятельной рабо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24T18:40:16Z</dcterms:modified>
  <cp:revision>6</cp:revision>
  <dc:subject/>
  <dc:title>PowerPoint Presentation</dc:title>
</cp:coreProperties>
</file>