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9F2-53CE-4C4C-A2BB-DBB73E3E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49BE-525B-437C-8E14-E0693FD8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0613-CD0F-4E24-9380-BAA71615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65D-3740-4C06-821D-FCF710F7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0CBB-50D3-46D1-9E11-CC38D947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B6EF-20B4-475F-8607-88548D14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40FF-277A-4826-A82C-248A3BA0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BB8E-DAD2-46C3-B637-78A1A9BC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295B-6A1E-473D-9036-6125C479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107-2B50-4105-8755-029D1E11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DB0-40DA-4E75-B2DF-0BC4E81F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3EC-D0AF-450E-BC92-56E79E44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50C4-1217-4D4C-B746-870FC77BBA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762120" y="16002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Чрезвычайные ситуации метеорологического характера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 клас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914400" y="4572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щитные действия во время бедств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85800" y="133668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Услышав сигнал «Внимание всем!» включить радиоприемник и прослушать сообщ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Собрать в одном месте вещи первой необходим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) Подготовить дом или квартиру к встрече со стихи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) Определить наиболее безопасное место в доме (квартире) и укрыться та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) Бывают ситуации, когда человек вынужден оставаться на открытой местности (в поле, в лесу, на дороге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) После прекращения бури не торопитесь возвращаться к обыденной жизни. Соблюдайте осторожност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1" descr="C:\Documents and Settings\DmitriyD\Мои документы\Мои рисунки\2008-02 (фев)\сканирование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ФОТО\IMAGES\SCENES\UL000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ЛАБИРИНТ «ЗНАНИ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280" y="990720"/>
          <a:ext cx="8839440" cy="574668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  <a:gridCol w="2209680"/>
                <a:gridCol w="221004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Ветер – перемещение воздуха параллельно земной поверхности из зоны низкого давления в зону высоког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Ураган – ветер, скорость которого менее 100 км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Смерч – атмосферный вихрь, возникающий в грозовом облак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Ураганы возникают в любое время год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Шкала Бофорта позволяет определить силу ветра в балл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Бриз – ветер, имеющий скорость до 50 км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Беспыльная буря не может превратиться в пыльную или снежну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Пыльные бури сопровождаются переносом большого количества пес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При сигнале «Внимание всем!» необходимо включить телевизор или ради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Смерч практически невозможно увиде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Во время снежных или пыльных бурь лучше всего покинуть помещ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Циклон – область пониженного давления в атмосфер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Бурю или ураган практически невозможно предсказа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 При угрозе урагана, бури или смерча подается сигнал «Внимание всем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 Скорость перемещения циклона составляет от 50 до 200 км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 «Ветер, ветер, ты могуч…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. Есен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914400" y="1143000"/>
            <a:ext cx="74674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пасное метеорологическое явлени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природное явление, возникающее в атмосфере под действием различных природных факторов, способное оказать поражающее воздействие на людей, животных и растений, объекты эконом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4"/>
          <p:cNvSpPr/>
          <p:nvPr/>
        </p:nvSpPr>
        <p:spPr>
          <a:xfrm rot="10800000">
            <a:off x="3885840" y="4495680"/>
            <a:ext cx="1214280" cy="852480"/>
          </a:xfrm>
          <a:custGeom>
            <a:avLst/>
            <a:gdLst>
              <a:gd name="textAreaLeft" fmla="*/ 121320 w 1214280"/>
              <a:gd name="textAreaRight" fmla="*/ 1092960 w 1214280"/>
              <a:gd name="textAreaTop" fmla="*/ 48708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752480" y="4343400"/>
            <a:ext cx="137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Бур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094920" y="5518080"/>
            <a:ext cx="292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Ураган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715000" y="434340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мерч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914400" y="990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09480" y="685800"/>
            <a:ext cx="784872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ете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это горизонтальное перемещение воздуха параллельно земной поверхности, возникающее в результате неравномерного распределения тепла и атмосферного давления и направленное из зоны высокого давления в зону низкого давлен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тер характеризуе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коростью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силой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правлени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3048120" y="914400"/>
            <a:ext cx="373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Monotype Corsiva"/>
              </a:rPr>
              <a:t>Виды вет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472428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>
            <a:off x="1600200" y="2057400"/>
            <a:ext cx="525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1600200" y="2057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990720" y="259092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Бри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2590920" y="2590920"/>
            <a:ext cx="144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Бур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3276720" y="2057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2136960" y="4038480"/>
            <a:ext cx="235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вальны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ыльны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спыльны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неж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3276720" y="3505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4704840" y="2590920"/>
            <a:ext cx="429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Атмосфер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ихр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6858000" y="2057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5565600" y="4749840"/>
            <a:ext cx="299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аган (тайфун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ерч (торнад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6858000" y="4114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1050840" y="1260360"/>
            <a:ext cx="73310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ричин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озникновения бурь, ураганов, смерчей является образование в атмосфере тропических циклонов – атмосферных вихрей, возникающих над океанами в тропических широт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сновной поражающий факто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ростной напор (порыв) вет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Documents and Settings\DmitriyD\Мои документы\Мои рисунки\2008-02 (фев)\сканирование.jpg"/>
          <p:cNvPicPr/>
          <p:nvPr/>
        </p:nvPicPr>
        <p:blipFill>
          <a:blip r:embed="rId1"/>
          <a:stretch/>
        </p:blipFill>
        <p:spPr>
          <a:xfrm>
            <a:off x="685800" y="1066680"/>
            <a:ext cx="3276720" cy="46483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4419720" y="990720"/>
            <a:ext cx="4038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нежные заносы одно из отличительных стихийных бедствий зимы. Застигнутые им люди могут подолгу оставаться во власти непогоды, получить переохлаждение и обморожения, терпеть лишения от отсутствия продук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:\Documents and Settings\DmitriyD\Мои документы\Мои рисунки\2008-02 (фев)\сканирование0002.jpg"/>
          <p:cNvPicPr/>
          <p:nvPr/>
        </p:nvPicPr>
        <p:blipFill>
          <a:blip r:embed="rId1"/>
          <a:stretch/>
        </p:blipFill>
        <p:spPr>
          <a:xfrm>
            <a:off x="762120" y="1143000"/>
            <a:ext cx="3276360" cy="4648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4724280" y="1143000"/>
            <a:ext cx="3657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 декабря 2002 года ураганный с порывами до 40 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при температуре –15-16С обрушился на город Новороссийск и еще ряд населенных пунктов. В результате в них было нарушено электро-, тепло- и водоснабжение, в порту обледенели и затонули несколько су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:\Documents and Settings\DmitriyD\Мои документы\Мои рисунки\2008-02 (фев)\сканирование0003.jpg"/>
          <p:cNvPicPr/>
          <p:nvPr/>
        </p:nvPicPr>
        <p:blipFill>
          <a:blip r:embed="rId1"/>
          <a:stretch/>
        </p:blipFill>
        <p:spPr>
          <a:xfrm>
            <a:off x="5181480" y="3581280"/>
            <a:ext cx="3395880" cy="2913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533520" y="76212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ерчи большой разрушительной силы давно облюбовали Черноморское побережье. 26 сентября 2001 года бешено вращающийся хоботообразный вихрь воздуха возник в районе Адлера. Полчаса своего существования он срывал  срывал и крушил крыши домов, выбивал стекла окон, ломал деревья и опоры линий электропередач, нанося раны люд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09480" y="3505320"/>
            <a:ext cx="435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этом пострадало 39 человек, 11 было госпитализировано, 1 погиб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DmitriyD\Мои документы\Мои рисунки\2008-02 (фев)\сканирование0001.jpg"/>
          <p:cNvPicPr/>
          <p:nvPr/>
        </p:nvPicPr>
        <p:blipFill>
          <a:blip r:embed="rId1"/>
          <a:stretch/>
        </p:blipFill>
        <p:spPr>
          <a:xfrm>
            <a:off x="609480" y="1143000"/>
            <a:ext cx="3124440" cy="4572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4114800" y="457200"/>
            <a:ext cx="4495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снизить ущерб от ЧС в 1994 г. был принят закон «О защите населения и территорий от ЧС природного и техногенного характера», который рекомендует проводить следующие защитные мероприят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благовременные предупредительные (составление прогноза погоды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еративные защитные (оповещение, подготовка укрытий, эвакуац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6:58:03Z</dcterms:created>
  <dc:creator>HomeComp</dc:creator>
  <dc:description/>
  <dc:language>en-US</dc:language>
  <cp:lastModifiedBy>DmitriyD</cp:lastModifiedBy>
  <dcterms:modified xsi:type="dcterms:W3CDTF">2011-12-23T09:23:54Z</dcterms:modified>
  <cp:revision>22</cp:revision>
  <dc:subject/>
  <dc:title>Чрезвычайные ситуации метеорологического характера</dc:title>
</cp:coreProperties>
</file>