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chimes.wav" ContentType="audio/x-wav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ACFD-01AA-4B73-B3B6-660B754DB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E253-2C2A-40E8-AE7D-EAFA1264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7758-F17A-49ED-BFF9-FB2784B67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1EE8-0163-420B-AF83-4FBD0C6E4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04A8-B3DA-4A25-9519-02B4C599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743C-2C5B-4550-83A5-9BAEA990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6A97-4D2D-4A13-AE15-962303D4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48B6-A98A-461F-9087-931528AD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85F7-19AB-489A-8AFD-C10169A6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11B6-9FCD-4E4F-B421-DF92EDC8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5686-79BF-43FA-913B-B383B614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D15F-CB7E-4402-880A-8FBBCD9D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198F-77CB-4A6C-81F7-0A4F58A7B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-24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190760" y="624852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Воспитатель: Пузаркина И. 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80880" y="533520"/>
            <a:ext cx="7620120" cy="380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15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Времена года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24816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Arial"/>
              </a:rPr>
              <a:t>12 месяце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12 братьев друг за другом бродя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Но друг друга не обгоня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Зима           Весна            Лето              Ос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66cc"/>
                </a:solidFill>
                <a:latin typeface="Arial"/>
              </a:rPr>
              <a:t>Декабрь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66cc"/>
                </a:solidFill>
                <a:latin typeface="Arial"/>
              </a:rPr>
              <a:t>Март                       Июнь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66cc"/>
                </a:solidFill>
                <a:latin typeface="Arial"/>
              </a:rPr>
              <a:t>Сентяб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66cc"/>
                </a:solidFill>
                <a:latin typeface="Arial"/>
              </a:rPr>
              <a:t>Январь                Апрель                   Июль                      Октяб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66cc"/>
                </a:solidFill>
                <a:latin typeface="Arial"/>
              </a:rPr>
              <a:t>Февраль              Май                        Август                     Нояб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4267080"/>
            <a:ext cx="1752480" cy="2324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343400" y="4419720"/>
            <a:ext cx="1676520" cy="2324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286000" y="4419720"/>
            <a:ext cx="1741320" cy="2320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629400" y="4343400"/>
            <a:ext cx="1771560" cy="23623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5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Матушка - зи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Здравствуй, в белом сараф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Из серебряной парч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На тебе горят алмаз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Словно яркие луч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Здравствуй, русская молод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Раскрасавица душ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Белоснежная лебёд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Здравствуй, матушка – зим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cc"/>
                </a:solidFill>
                <a:latin typeface="Arial"/>
              </a:rPr>
              <a:t>Снег на полях, лёд на вода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cc"/>
                </a:solidFill>
                <a:latin typeface="Arial"/>
              </a:rPr>
              <a:t>Вьюга гуляет. Когда это бывает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1800" spc="-1" strike="noStrike">
                <a:solidFill>
                  <a:srgbClr val="ff66cc"/>
                </a:solidFill>
                <a:latin typeface="Arial"/>
              </a:rPr>
              <a:t>(Зим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00"/>
                </a:solidFill>
                <a:latin typeface="Arial"/>
              </a:rPr>
              <a:t>Весна - крас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Вскрываются поч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Как рек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Такая стоит трескотн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Тяжёлые сонные ве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Вес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Наконец поднял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Arial"/>
              </a:rPr>
              <a:t>Тает снежок, ожил луж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Arial"/>
              </a:rPr>
              <a:t>День прибывает. Когда это бывае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Arial"/>
              </a:rPr>
              <a:t>                       </a:t>
            </a:r>
            <a:r>
              <a:rPr b="0" lang="en-US" sz="2000" spc="-1" strike="noStrike">
                <a:solidFill>
                  <a:srgbClr val="ff66cc"/>
                </a:solidFill>
                <a:latin typeface="Arial"/>
              </a:rPr>
              <a:t>(Вес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4038480" cy="35118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00"/>
                </a:solidFill>
                <a:latin typeface="Arial"/>
              </a:rPr>
              <a:t>Лето - красно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87692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Ярко солнце свети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В воздухе тепл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И куда ни взглянешь 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Всё кругом свет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По лугу пестре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Яркие цвет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Золотом обл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Тёмные лис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Arial"/>
              </a:rPr>
              <a:t>Солнце печёт, липа цветё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Arial"/>
              </a:rPr>
              <a:t>Рожь поспевает, когда это бывает? (Зим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4648320" cy="34858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00"/>
                </a:solidFill>
                <a:latin typeface="Arial"/>
              </a:rPr>
              <a:t>Золотая - Осен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8320" y="1295280"/>
            <a:ext cx="4038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Миновало лет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Осень наступи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На полях и в рощ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Пусто и уны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Птички улете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Стали дни короч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Солнышка не видн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Темны-темны но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Arial"/>
              </a:rPr>
              <a:t>Несу я урожа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Arial"/>
              </a:rPr>
              <a:t>Поля вновь засева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Arial"/>
              </a:rPr>
              <a:t>Птиц к югу отправля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Arial"/>
              </a:rPr>
              <a:t>Деревья раздева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Arial"/>
              </a:rPr>
              <a:t>Но не касаюсь сосен и ёлочек (осен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4647960" cy="34858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2T17:21:13Z</dcterms:created>
  <dc:creator>марина</dc:creator>
  <dc:description/>
  <dc:language>en-US</dc:language>
  <cp:lastModifiedBy>марина</cp:lastModifiedBy>
  <dcterms:modified xsi:type="dcterms:W3CDTF">2011-12-24T18:57:17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