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28BA-CDD7-4C14-84E3-BC6100FC4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BB51-016A-45DC-BF3E-79C9D98D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FE62-EC46-440D-87D4-0A343E65A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EE1B-5775-40B5-BA2E-64D21FCE3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AB21-0768-4852-870C-E51F1C5F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744F-6D9E-42F2-842B-10CFAEB9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1A6A-EF27-4D73-B90D-386EC7FD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4C4F-828F-4306-A9CF-43B24D4D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0DF7-9385-4F8E-B862-FCCE152A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45E7-8041-45BF-A18D-8209390F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27D6-8B78-4562-8830-050441DC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0E1B-84F1-40D9-B158-78CFB6CE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8C04-1562-4F56-9D6B-807E5155BC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8786880" cy="407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onotype Corsiva"/>
              </a:rPr>
              <a:t>Литература 19 века.  </a:t>
            </a:r>
            <a:r>
              <a:rPr b="1" lang="ru-RU" sz="8800" spc="-1" strike="noStrike">
                <a:solidFill>
                  <a:srgbClr val="000000"/>
                </a:solidFill>
                <a:latin typeface="Monotype Corsiva"/>
              </a:rPr>
              <a:t>ИТОГОВЫЙ УРОК.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43240"/>
            <a:ext cx="640080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8" descr="портрет Пушкина"/>
          <p:cNvPicPr/>
          <p:nvPr/>
        </p:nvPicPr>
        <p:blipFill>
          <a:blip r:embed="rId1"/>
          <a:stretch/>
        </p:blipFill>
        <p:spPr>
          <a:xfrm rot="21138000">
            <a:off x="285840" y="4357440"/>
            <a:ext cx="2143080" cy="2214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 rot="598200">
            <a:off x="6778800" y="4275000"/>
            <a:ext cx="1992240" cy="24289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45" name="Picture 5" descr=""/>
          <p:cNvPicPr/>
          <p:nvPr/>
        </p:nvPicPr>
        <p:blipFill>
          <a:blip r:embed="rId3"/>
          <a:stretch/>
        </p:blipFill>
        <p:spPr>
          <a:xfrm rot="193800">
            <a:off x="4642920" y="4428720"/>
            <a:ext cx="2003760" cy="2286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46" name="Picture 4" descr="111"/>
          <p:cNvPicPr/>
          <p:nvPr/>
        </p:nvPicPr>
        <p:blipFill>
          <a:blip r:embed="rId4"/>
          <a:stretch/>
        </p:blipFill>
        <p:spPr>
          <a:xfrm>
            <a:off x="2500200" y="4286160"/>
            <a:ext cx="1928880" cy="2357640"/>
          </a:xfrm>
          <a:prstGeom prst="rect">
            <a:avLst/>
          </a:prstGeom>
          <a:ln w="7632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715600" cy="1500120"/>
          </a:xfrm>
          <a:prstGeom prst="rect">
            <a:avLst/>
          </a:prstGeom>
          <a:solidFill>
            <a:srgbClr val="b3a2c7"/>
          </a:solidFill>
          <a:ln w="57240">
            <a:solidFill>
              <a:srgbClr val="d6009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Укажите изобразительно-выразительные сред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5840" y="1999800"/>
            <a:ext cx="85723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)Белый, как снег;                                                                             2)весёлые окна;                                                                     3)лазурь ясная , как прекрасный глаз;                          4)колючий мороз;                                                                              5)в саду горит костёр рябины красной;        6)схватил , как проклятый медведь;                                7)волны волос;                                                                 8)мрачные ставн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0093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 rot="20556600">
            <a:off x="142560" y="285480"/>
            <a:ext cx="4143240" cy="635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entury"/>
              </a:rPr>
              <a:t>Спасибо за работу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6" name="Picture 8" descr="99"/>
          <p:cNvPicPr/>
          <p:nvPr/>
        </p:nvPicPr>
        <p:blipFill>
          <a:blip r:embed="rId1"/>
          <a:stretch/>
        </p:blipFill>
        <p:spPr>
          <a:xfrm>
            <a:off x="4357800" y="357120"/>
            <a:ext cx="45720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87868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Garamond"/>
              </a:rPr>
              <a:t>Узнай писателя ,поэ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Picture 8" descr="портрет Пушкина"/>
          <p:cNvPicPr/>
          <p:nvPr/>
        </p:nvPicPr>
        <p:blipFill>
          <a:blip r:embed="rId1"/>
          <a:stretch/>
        </p:blipFill>
        <p:spPr>
          <a:xfrm>
            <a:off x="3357720" y="1428840"/>
            <a:ext cx="2143080" cy="2490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0" name="Picture 4" descr="111"/>
          <p:cNvPicPr/>
          <p:nvPr/>
        </p:nvPicPr>
        <p:blipFill>
          <a:blip r:embed="rId2"/>
          <a:stretch/>
        </p:blipFill>
        <p:spPr>
          <a:xfrm rot="657000">
            <a:off x="5999040" y="1450440"/>
            <a:ext cx="2168640" cy="2500560"/>
          </a:xfrm>
          <a:prstGeom prst="rect">
            <a:avLst/>
          </a:prstGeom>
          <a:ln w="76320">
            <a:solidFill>
              <a:srgbClr val="002060"/>
            </a:solidFill>
            <a:miter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3571920" y="4214880"/>
            <a:ext cx="1992240" cy="24289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2" name="Picture 5" descr=""/>
          <p:cNvPicPr/>
          <p:nvPr/>
        </p:nvPicPr>
        <p:blipFill>
          <a:blip r:embed="rId4"/>
          <a:stretch/>
        </p:blipFill>
        <p:spPr>
          <a:xfrm rot="21388800">
            <a:off x="853560" y="4344840"/>
            <a:ext cx="2000520" cy="2286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3" name="Picture 29" descr="И.Е.Репин. Портрет Льва Толстого, 1887"/>
          <p:cNvPicPr/>
          <p:nvPr/>
        </p:nvPicPr>
        <p:blipFill>
          <a:blip r:embed="rId5"/>
          <a:stretch/>
        </p:blipFill>
        <p:spPr>
          <a:xfrm rot="415200">
            <a:off x="6206760" y="4280040"/>
            <a:ext cx="2046240" cy="2392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4" name="Picture 3" descr=""/>
          <p:cNvPicPr/>
          <p:nvPr/>
        </p:nvPicPr>
        <p:blipFill>
          <a:blip r:embed="rId6"/>
          <a:stretch/>
        </p:blipFill>
        <p:spPr>
          <a:xfrm rot="21111600">
            <a:off x="564840" y="1469880"/>
            <a:ext cx="2270160" cy="2611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8643960" cy="1000080"/>
          </a:xfrm>
          <a:prstGeom prst="rect">
            <a:avLst/>
          </a:prstGeom>
          <a:solidFill>
            <a:srgbClr val="ccc1da"/>
          </a:solidFill>
          <a:ln w="76320">
            <a:solidFill>
              <a:srgbClr val="d6009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Назовите автора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85840" y="1356840"/>
            <a:ext cx="8572320" cy="528660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«МУМУ»                                                                                       2. «ПРОПАВШАЯ ГРАМОТА»                                                    3. «БОРОДИНО»                                                                             4. «СВИНЬЯ ПОД ДУБОМ»                                                        5. «ПАРУС»                                                                                6. «ЗИМНЕЕ УТРО»                                                                7. «ПЕТЯ РОСТОВ»(рассказ)                                                    8. «ВЕСЕННЯЯ ГРОЗ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2920" y="214200"/>
            <a:ext cx="8858160" cy="857520"/>
          </a:xfrm>
          <a:prstGeom prst="rect">
            <a:avLst/>
          </a:prstGeom>
          <a:solidFill>
            <a:srgbClr val="ccc1da"/>
          </a:solidFill>
          <a:ln w="76320">
            <a:solidFill>
              <a:srgbClr val="d6009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Назовите жанр произвед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14200" y="1285560"/>
            <a:ext cx="8715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«МУМУ»                                                                                       2. «НЯНЕ»                                                                                       3. «БОРОДИНО»                                                                             4. «СВИНЬЯ ПОД ДУБОМ»                                                        5. «ПАРУС»                                                                                6.  «ЗИМНЕЕ УТРО»                                                                7. «ПЕТЯ РОСТОВ»(автор Л.Н.Толстой)                                                   8. «ВЕСЕННЯЯ ГРОЗ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2920" y="1600200"/>
            <a:ext cx="885816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"/>
          <p:cNvSpPr/>
          <p:nvPr/>
        </p:nvSpPr>
        <p:spPr>
          <a:xfrm>
            <a:off x="457200" y="274680"/>
            <a:ext cx="8229600" cy="1297080"/>
          </a:xfrm>
          <a:prstGeom prst="rect">
            <a:avLst/>
          </a:prstGeom>
          <a:solidFill>
            <a:srgbClr val="ccc1da"/>
          </a:solidFill>
          <a:ln w="7632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з какого произведения этот отрывок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одержимое 2"/>
          <p:cNvSpPr/>
          <p:nvPr/>
        </p:nvSpPr>
        <p:spPr>
          <a:xfrm>
            <a:off x="285840" y="1571760"/>
            <a:ext cx="857232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Дела давно минувших дней,                             Преданья старины  глуб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толпе могучих сыновей,                                                   С друзьями, в гриднице высокой                    Владимир-солнце пирова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Наконец придумал он весь день оставлять в каморке и только изредка к ней наведываться, а ночью выводит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И.С.Тургенев «Муму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8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5"/>
          <p:cNvSpPr/>
          <p:nvPr/>
        </p:nvSpPr>
        <p:spPr>
          <a:xfrm>
            <a:off x="444240" y="4214880"/>
            <a:ext cx="393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.С.Пушкин «Руслан и Людмила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85840" y="1642680"/>
            <a:ext cx="857232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Да,были люди в наше время ,                            Могучее ,лихое племя :                                           Богатыри – не вы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.Лермонтов «Бородино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Невежда так же в ослепленье                                Бранит науки и ученье,                                                         И все учёности труды ,                                                      Не чувствуя , что он вкушает их пл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.А.Крылов «Свинья под дубом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57200" y="274680"/>
            <a:ext cx="8229600" cy="1297080"/>
          </a:xfrm>
          <a:prstGeom prst="rect">
            <a:avLst/>
          </a:prstGeom>
          <a:solidFill>
            <a:srgbClr val="ccc1da"/>
          </a:solidFill>
          <a:ln w="7632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з какого произведения этот отрывок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одержимое 2"/>
          <p:cNvSpPr/>
          <p:nvPr/>
        </p:nvSpPr>
        <p:spPr>
          <a:xfrm>
            <a:off x="0" y="2857680"/>
            <a:ext cx="85726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4200" y="22143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.Мужчина двенадцати вершков роста , сложенный богатырём… </a:t>
            </a:r>
            <a:br>
              <a:rPr sz="3200"/>
            </a:br>
            <a:br>
              <a:rPr sz="24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6000" y="5886000"/>
            <a:ext cx="64008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357120" y="142920"/>
            <a:ext cx="8572680" cy="825120"/>
          </a:xfrm>
          <a:prstGeom prst="rect">
            <a:avLst/>
          </a:prstGeom>
          <a:solidFill>
            <a:srgbClr val="ccc1da"/>
          </a:solidFill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Чей это портрет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5288040" y="257184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расим («Муму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285840" y="3214800"/>
            <a:ext cx="85723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Подъяв величественно шею,                                                                          Горбатый карлик из дверей :                                                                          Его-то голове обритой ,                                                                              Высоким колпаком покрытой,                                                  Принадлежала борода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3877560" y="5786280"/>
            <a:ext cx="50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номор («Руслан и Людмила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6" name="Заголовок 1"/>
          <p:cNvSpPr/>
          <p:nvPr/>
        </p:nvSpPr>
        <p:spPr>
          <a:xfrm>
            <a:off x="214200" y="214200"/>
            <a:ext cx="8715600" cy="1214640"/>
          </a:xfrm>
          <a:prstGeom prst="rect">
            <a:avLst/>
          </a:prstGeom>
          <a:solidFill>
            <a:srgbClr val="b3a2c7"/>
          </a:solidFill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Узнай произведение                  по риф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одзаголовок 2"/>
          <p:cNvSpPr/>
          <p:nvPr/>
        </p:nvSpPr>
        <p:spPr>
          <a:xfrm>
            <a:off x="0" y="214308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) кроет – крутя – завоет - дит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2) лазури- золотой- бури- пок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К какому произведению –иллюстрац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357120" y="1785960"/>
            <a:ext cx="3857760" cy="4857840"/>
          </a:xfrm>
          <a:prstGeom prst="rect">
            <a:avLst/>
          </a:prstGeom>
          <a:ln w="76320">
            <a:solidFill>
              <a:srgbClr val="4f81bd"/>
            </a:solidFill>
            <a:miter/>
          </a:ln>
        </p:spPr>
      </p:pic>
      <p:pic>
        <p:nvPicPr>
          <p:cNvPr id="81" name="Picture 5" descr="22"/>
          <p:cNvPicPr/>
          <p:nvPr/>
        </p:nvPicPr>
        <p:blipFill>
          <a:blip r:embed="rId2"/>
          <a:stretch/>
        </p:blipFill>
        <p:spPr>
          <a:xfrm>
            <a:off x="4643280" y="1785960"/>
            <a:ext cx="4071960" cy="4786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етрова Л.Н.</cp:lastModifiedBy>
  <dcterms:modified xsi:type="dcterms:W3CDTF">2011-12-11T17:41:42Z</dcterms:modified>
  <cp:revision>20</cp:revision>
  <dc:subject/>
  <dc:title>Литература 19 века.  ИТОГОВЫЙ УРОК.</dc:title>
</cp:coreProperties>
</file>