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71BD-CCA5-4616-A473-B23D31A6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769E-DFCD-49B4-88CA-57BDEE90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6530-CD90-47F7-AAFC-C086956E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CD2-691F-4D1A-9A42-EF056CAB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B0D7-41D5-402C-98F6-80DD693F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3EAD-500A-4B70-B60D-F18A6411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45EA-2507-4520-88EA-A3F9CD62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ACA1-3789-4364-B324-0B08ACAB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2DF2-F594-4C14-AA7C-DA3F6B6E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85F3-1EF4-4BBE-B614-A790374E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3899-BE6A-42F1-B04B-53D9917A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B394-EBB6-4779-B147-13BE3677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718E-8C39-4D68-A917-4ECD3D4D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A881-6203-4900-8540-51997CC1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DB76-709D-4ABC-9BEB-09F3B98C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C034-DE68-47F5-9657-9BEFF921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81F1-AEBB-43AE-926F-0553E44B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DC6D-406F-49B7-ACFB-7143FE43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AB0-F3A6-41CE-8326-183044F4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2B60-0426-4098-AA3A-9D36CE4D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AB33-2F61-4F46-989F-F90D497A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546E-32AE-4C12-9509-5594A316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22DB-548B-4F8D-9A06-CD4CB173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BAA-5AAC-4A05-BDD4-18D91740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E660-3CEB-40F9-8301-F8E61C0663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07BB-30A4-4A0F-A548-8CA75E2888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989840" cy="29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5ffff"/>
                </a:solidFill>
                <a:latin typeface="Tahoma"/>
              </a:rPr>
              <a:t>«Капитанская дочка» А.С. Пушкин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чать Пугачева (Большая государственная печать Петра Третьего, императора и самодержца всероссийского, 1774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059280" y="2500200"/>
            <a:ext cx="324144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105520" y="3499920"/>
            <a:ext cx="40384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ctr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арта губерний Оренбургской, Казанской, Нижегородской и Астраханской (до 1775 г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26920" y="907920"/>
            <a:ext cx="3822840" cy="4754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219640" y="2060640"/>
            <a:ext cx="334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Екатерина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3908520" cy="51148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43280" y="2060640"/>
            <a:ext cx="382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етр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I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619280" y="404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ка Яик. После восстания Емельяна Пугачёва река была переименована в Урал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Иллюстрации к повест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Гринёв и Швабрин у Мироновы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7561440" cy="4608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етр Гринёв и Мария Миронов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258920" y="1484280"/>
            <a:ext cx="6912000" cy="5184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Савельич просит Пугачёва о пощаде «барского дитяти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ария Миронова и Екатерина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908000" y="1628640"/>
            <a:ext cx="50403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Екатерина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I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арует свободу Петру Андреевичу Гринёву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050920" y="1989000"/>
            <a:ext cx="4465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лександр Сергеевич Пушки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ушкин принадлежит к вечно живущим и движущимся  явлениям, не останавливающимся на той точке, на которой их застала смерть,но продолжающим  развиваться в сознании общества. Каждая  эпоха произносит о них своё суждение.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00760" y="1773360"/>
            <a:ext cx="333360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раткая биограф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ушкин родился 26 мая (6 июня) 1799 г. в Москв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rcRect l="-4620" t="1733" r="0" b="267"/>
          <a:stretch/>
        </p:blipFill>
        <p:spPr>
          <a:xfrm>
            <a:off x="5219640" y="1700280"/>
            <a:ext cx="3303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95640" y="1628640"/>
            <a:ext cx="4969080" cy="3424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8920" y="1052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1811 году был определён в Царскосельский лицей, где проучился шесть л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ушкин на лицейском экзамене в Царском селе. Картина И.Репи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тец, Сергей Львович Пушкин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ержант, прапорщик, затем капитан-поручик лейб-гвардии Егерского полка в Петербург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280120" y="1981080"/>
            <a:ext cx="2773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Мать, Надежда Осиповна Пушкин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059280" y="1989000"/>
            <a:ext cx="297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Жена,Наталия Николаевна Пушкина-Ланская (Гончарова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19240" y="1981080"/>
            <a:ext cx="3303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овесть А.С Пушкина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«Капитанская дочк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059280" y="1773360"/>
            <a:ext cx="2681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Емелья́н Ива́нович Пугачё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нской казак, предводитель Крестьянской войны 1773—1775 годов в России. Пользуясь слухами, что император Пётр III жив, Пугачёв назвался им; он был одним из нескольких десятков самозванцев, выдававших себя за Петра, и самым удачливым из н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292720" y="1844640"/>
            <a:ext cx="31082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6:14:12Z</dcterms:created>
  <dc:creator>serg</dc:creator>
  <dc:description/>
  <dc:language>en-US</dc:language>
  <cp:lastModifiedBy>serg</cp:lastModifiedBy>
  <dcterms:modified xsi:type="dcterms:W3CDTF">2011-12-12T19:22:00Z</dcterms:modified>
  <cp:revision>4</cp:revision>
  <dc:subject/>
  <dc:title>«Капитанская дочка» А.С. Пушкин</dc:title>
</cp:coreProperties>
</file>