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FC6C-7366-4E6E-A3E6-32AEFCDF88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C227-90F1-4BF4-8BD5-D835B70FCCB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5F46-2D49-4496-A364-04D043EF685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9752-3DE5-4EAC-845E-F765936B668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86B2-1C9A-458B-A108-58ED549195E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A935-517D-4003-848D-45D0F4F14E8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CDF2-79CE-4A83-9301-7BA4FDB4B9C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44C-81DC-4F99-AD51-51CAB0FE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4F1-7052-4D98-9BAC-2ACB27E5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70B-DF40-4AAC-BB2E-16DB420D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4C82-343C-4334-854E-D5725898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3FC8-C079-4D54-B35B-C95E7300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A2FD-3D61-473E-87CE-C76D8275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347F-46C5-45F4-90A0-07C1B56C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067C-D3DF-4EDC-B9E4-B14E9724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EE07-AE1E-4BDD-872D-104BE5B7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3DA9-5A82-4518-8935-6A489E8A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5D00-BCD0-4F95-B7C5-EC5D601C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B20-AFD4-4547-A044-28CE52E1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D77E-41AA-4EDC-B4AC-3FC1658E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F7F3-D95F-420B-BE3C-0AA08170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92E8-44D2-4D89-8786-752A9A9B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A610-7074-4FA4-9DE7-76D1DA95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A83B-F60F-42BF-AFC1-649D22DD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7562-659B-428D-B969-4043D27B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49A-E42D-4DD9-BE79-3E107034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13CF-3402-4E77-87E3-4CEB2852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AA1F-9FDB-495D-A8A6-32B3EF3D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BE3-9DDD-489A-8A38-44EBC89C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B18-0F5E-432F-97EA-FE78342E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5DD-489E-497F-A60D-7357717C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1EC4-4E54-4271-809E-712B474334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8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1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9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7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98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0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1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2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28" name="Group 3"/>
            <p:cNvGrpSpPr/>
            <p:nvPr/>
          </p:nvGrpSpPr>
          <p:grpSpPr>
            <a:xfrm>
              <a:off x="5404680" y="58680"/>
              <a:ext cx="3626280" cy="6136920"/>
              <a:chOff x="5404680" y="58680"/>
              <a:chExt cx="3626280" cy="6136920"/>
            </a:xfrm>
          </p:grpSpPr>
          <p:sp>
            <p:nvSpPr>
              <p:cNvPr id="129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Freeform 5"/>
              <p:cNvSpPr/>
              <p:nvPr/>
            </p:nvSpPr>
            <p:spPr>
              <a:xfrm flipV="1" rot="11970000">
                <a:off x="7421400" y="19576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 flipV="1" rot="11970000">
                <a:off x="6823440" y="258912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 flipV="1" rot="11970000">
                <a:off x="7250040" y="67068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Freeform 8"/>
              <p:cNvSpPr/>
              <p:nvPr/>
            </p:nvSpPr>
            <p:spPr>
              <a:xfrm flipV="1" rot="11970000">
                <a:off x="7149600" y="26481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 flipV="1" rot="11970000">
                <a:off x="7134840" y="124200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 flipV="1" rot="11970000">
                <a:off x="5935320" y="293364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6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2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3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6" name="Group 21"/>
            <p:cNvGrpSpPr/>
            <p:nvPr/>
          </p:nvGrpSpPr>
          <p:grpSpPr>
            <a:xfrm>
              <a:off x="5646240" y="285480"/>
              <a:ext cx="892440" cy="825840"/>
              <a:chOff x="5646240" y="285480"/>
              <a:chExt cx="892440" cy="825840"/>
            </a:xfrm>
          </p:grpSpPr>
          <p:sp>
            <p:nvSpPr>
              <p:cNvPr id="147" name="Freeform 22"/>
              <p:cNvSpPr/>
              <p:nvPr/>
            </p:nvSpPr>
            <p:spPr>
              <a:xfrm rot="14908200">
                <a:off x="5757840" y="78084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Freeform 23"/>
              <p:cNvSpPr/>
              <p:nvPr/>
            </p:nvSpPr>
            <p:spPr>
              <a:xfrm rot="14908200">
                <a:off x="5706360" y="46044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 rot="14908200">
                <a:off x="6248880" y="38592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25"/>
            <p:cNvGrpSpPr/>
            <p:nvPr/>
          </p:nvGrpSpPr>
          <p:grpSpPr>
            <a:xfrm>
              <a:off x="968760" y="5255280"/>
              <a:ext cx="1059120" cy="830880"/>
              <a:chOff x="968760" y="5255280"/>
              <a:chExt cx="1059120" cy="830880"/>
            </a:xfrm>
          </p:grpSpPr>
          <p:sp>
            <p:nvSpPr>
              <p:cNvPr id="151" name="Freeform 26"/>
              <p:cNvSpPr/>
              <p:nvPr/>
            </p:nvSpPr>
            <p:spPr>
              <a:xfrm rot="8524800">
                <a:off x="1711080" y="552024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 rot="8524800">
                <a:off x="1194120" y="573156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28"/>
              <p:cNvSpPr/>
              <p:nvPr/>
            </p:nvSpPr>
            <p:spPr>
              <a:xfrm rot="8524800">
                <a:off x="960120" y="53798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4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155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8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159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2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E0AD-1F67-442C-8E0F-704D9D12A8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14200" y="1142640"/>
            <a:ext cx="84218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00cc"/>
                </a:solidFill>
                <a:latin typeface="Times New Roman"/>
              </a:rPr>
              <a:t>Классный час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00cc"/>
                </a:solidFill>
                <a:latin typeface="Times New Roman"/>
              </a:rPr>
              <a:t>«Толерантность – это дружба!»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500040" y="785880"/>
            <a:ext cx="82821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английском – готовность быть терпимым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о французском – отношение, когда человек думает и действует иначе, чем ты сам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китайском – быть по отношению к другим великолепным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арабском – милосердие, терпение, сострадание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русском – умение принять другого таким, какой он е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Заголовок 6"/>
          <p:cNvSpPr/>
          <p:nvPr/>
        </p:nvSpPr>
        <p:spPr>
          <a:xfrm>
            <a:off x="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imes New Roman"/>
              </a:rPr>
              <a:t>Слово «толерантность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896472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6600cc"/>
                </a:solidFill>
                <a:latin typeface="Times New Roman"/>
              </a:rPr>
              <a:t>Что же такое толерантность?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79280" y="71388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милосерди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сострадани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уважени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доброта душ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дружб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Крошка Енот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202292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J:\классный час\wwwonlinerws15bl3.jpeg"/>
          <p:cNvPicPr/>
          <p:nvPr/>
        </p:nvPicPr>
        <p:blipFill>
          <a:blip r:embed="rId1"/>
          <a:stretch/>
        </p:blipFill>
        <p:spPr>
          <a:xfrm>
            <a:off x="0" y="0"/>
            <a:ext cx="92934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44000" cy="68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6600ff"/>
                </a:solidFill>
                <a:latin typeface="Monotype Corsiva"/>
              </a:rPr>
              <a:t>Дарите друг </a:t>
            </a:r>
            <a:br>
              <a:rPr sz="9600"/>
            </a:br>
            <a:br>
              <a:rPr sz="9600"/>
            </a:br>
            <a:r>
              <a:rPr b="1" i="1" lang="ru-RU" sz="9600" spc="-1" strike="noStrike">
                <a:solidFill>
                  <a:srgbClr val="6600ff"/>
                </a:solidFill>
                <a:latin typeface="Monotype Corsiva"/>
              </a:rPr>
              <a:t>другу сердца и </a:t>
            </a:r>
            <a:br>
              <a:rPr sz="9600"/>
            </a:br>
            <a:br>
              <a:rPr sz="9600"/>
            </a:br>
            <a:r>
              <a:rPr b="1" i="1" lang="ru-RU" sz="9600" spc="-1" strike="noStrike">
                <a:solidFill>
                  <a:srgbClr val="6600ff"/>
                </a:solidFill>
                <a:latin typeface="Monotype Corsiva"/>
              </a:rPr>
              <a:t>улыбки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J:\классный час\5742c64de29c0fa8960ed1a63542e99f_3.gif"/>
          <p:cNvPicPr/>
          <p:nvPr/>
        </p:nvPicPr>
        <p:blipFill>
          <a:blip r:embed="rId2"/>
          <a:stretch/>
        </p:blipFill>
        <p:spPr>
          <a:xfrm>
            <a:off x="7015320" y="4357800"/>
            <a:ext cx="2128680" cy="2143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:\классный час\5742c64de29c0fa8960ed1a63542e99f_3.gif"/>
          <p:cNvPicPr/>
          <p:nvPr/>
        </p:nvPicPr>
        <p:blipFill>
          <a:blip r:embed="rId3"/>
          <a:stretch/>
        </p:blipFill>
        <p:spPr>
          <a:xfrm>
            <a:off x="0" y="857160"/>
            <a:ext cx="2128680" cy="2143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12:47Z</dcterms:created>
  <dc:creator>Admin</dc:creator>
  <dc:description/>
  <dc:language>en-US</dc:language>
  <cp:lastModifiedBy>Admin</cp:lastModifiedBy>
  <dcterms:modified xsi:type="dcterms:W3CDTF">2009-11-20T18:13:51Z</dcterms:modified>
  <cp:revision>25</cp:revision>
  <dc:subject/>
  <dc:title>Слайд 1</dc:title>
</cp:coreProperties>
</file>