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F8F-6741-420B-A30D-A4F0FB24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9A7-B0DF-4837-917D-854A5068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699-F0E8-4E6A-8DC8-D8E7F953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ADD-E40D-4E3C-8EEF-B4D9CF29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A63E-54FB-4914-925A-24A4DA5D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A988-E9D2-4893-B84E-D2B4D44A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CECA-6CF2-4E95-87F6-A632B6BB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7BE1-0E2C-4D15-8ACC-B9CD942F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7FEC-60FE-458D-B739-DF916121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-1440"/>
            <a:ext cx="8013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9AC6-1FEE-4E6A-BC89-54F06429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43C1-6931-4801-8CCE-3F7F8522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817-A050-401D-93F7-F007DE0D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2A7F-D1AC-4402-A603-F49515B5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5056-D4E2-4C19-B0D8-1E1667BD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B3A3-4FB5-4CE6-AD73-3F0592CE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2F7-A21B-444C-B20D-403647C3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D9E8-22D2-4DC6-B59D-41942802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0B3-F26C-47BD-8ED8-F1A3FABD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893-D2CA-4901-9BE2-508D9E4F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3BD-2621-4D71-BF44-0C38F2DD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-1440"/>
            <a:ext cx="8013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E5F-83BD-410B-A9C7-7BC042A8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DF4-2BBB-46BC-B3F0-73CF568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30E-CB90-4A3B-83E9-4BE5EF2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E0B-3D42-437B-865B-C4653F6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5000" cy="6094080"/>
            <a:chOff x="0" y="152280"/>
            <a:chExt cx="8685000" cy="6094080"/>
          </a:xfrm>
        </p:grpSpPr>
        <p:sp>
          <p:nvSpPr>
            <p:cNvPr id="1" name=""/>
            <p:cNvSpPr/>
            <p:nvPr/>
          </p:nvSpPr>
          <p:spPr>
            <a:xfrm>
              <a:off x="380520" y="53316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3080" cy="12189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8960"/>
              <a:ext cx="807588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46FC66-0A88-44D6-BFE0-B72B633BB66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89920" cy="4493880"/>
            <a:chOff x="0" y="927000"/>
            <a:chExt cx="8989920" cy="4493880"/>
          </a:xfrm>
        </p:grpSpPr>
        <p:sp>
          <p:nvSpPr>
            <p:cNvPr id="46" name=""/>
            <p:cNvSpPr/>
            <p:nvPr/>
          </p:nvSpPr>
          <p:spPr>
            <a:xfrm>
              <a:off x="685440" y="2069280"/>
              <a:ext cx="7389720" cy="335160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240" y="927000"/>
              <a:ext cx="7161480" cy="990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3840"/>
              <a:ext cx="8989920" cy="18277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59640"/>
              <a:ext cx="8304120" cy="1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426680"/>
            <a:ext cx="80755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3720" y="625284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042CFE-B4D6-40E2-AFA8-84303B4C95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шение экономических задач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облемный метод изучения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ап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ентьев А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У ЦО 6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оссия: 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440000"/>
            <a:ext cx="7920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ретьем этапе предлагается учесть и экологические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бы в стоимость продукции, как это предлагают в странах Евросоюза, включалась стоимость ликвидации загрязняющих веществ, образуемых при производстве и транспортировке товара, то стоимость иностранных товаров многократно превосходила б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ечественны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ом из этой работы должно стать понимание необходимости собственног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ст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ИРОВОЕ  ХОЗЯЙСТВ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5000" t="10033" r="5000" b="5017"/>
          <a:stretch/>
        </p:blipFill>
        <p:spPr>
          <a:xfrm>
            <a:off x="539640" y="1440000"/>
            <a:ext cx="792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-47880"/>
            <a:ext cx="8015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ономика мира 10 клас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600200"/>
            <a:ext cx="8459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ка мира, мировое хозяйств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4868" t="0" r="24868" b="0"/>
          <a:stretch/>
        </p:blipFill>
        <p:spPr>
          <a:xfrm>
            <a:off x="6386400" y="2879640"/>
            <a:ext cx="225288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55720" y="2604960"/>
            <a:ext cx="54831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разделе учащимся предлагается ответить на вопрос, почему консервы, произведенные в экологически чистых районах считаются одними из самых экологически грязных 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-47880"/>
            <a:ext cx="8015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фр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00720" y="1774800"/>
            <a:ext cx="4036680" cy="4346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по величине континент по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по величине тропических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по производству и экспорту тропических фруктов в Евро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консервы из этого региона мы и будем рассматр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жунг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опические леса — самый продуктивный биоценоз, может насчитывать до 10 трофических ярусов. Является поставщиком большинства экзотических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ется основным защитником озонового слоя и регулятором парникового эфф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00720" y="1874880"/>
            <a:ext cx="414000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жунг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ращивания ананасов необходимо в первую очередь вырубить эти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70280" y="1599840"/>
            <a:ext cx="3867120" cy="4419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45000" y="1619280"/>
            <a:ext cx="40957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жунг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вратив джунгли в голую, свободную территор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бо вырубая, либо выжиг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40360" y="1440000"/>
            <a:ext cx="43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18120" y="4006800"/>
            <a:ext cx="4319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анас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70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ырубленных, вычищенных и выровненных территориях высаживают ананасы — траву, потребляющие очень малую часть солнечной энер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сбора урожая территория снова культивируется и снова высаживаются травянистые растения — в этот раз это могут быть бан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21320" y="1440000"/>
            <a:ext cx="4017960" cy="234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67160" y="3780000"/>
            <a:ext cx="4632480" cy="30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Бана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0000" y="1440000"/>
            <a:ext cx="3779640" cy="360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96960" y="3419640"/>
            <a:ext cx="398304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-47880"/>
            <a:ext cx="8015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ор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9640" y="1419120"/>
            <a:ext cx="2208240" cy="3260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429920"/>
            <a:ext cx="5940360" cy="23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авки материалов и вывоза продукции необходимо проложить дороги, которые в Африке тоже прокладываются специфически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01720" y="3419640"/>
            <a:ext cx="530208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820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которые из разделов географии достаточно сложны для понимания и для учащихся это простое заучивание цифр и д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лучшения понимания процессов, происходящих в современной экономике, мы предлагаем учащимся решить экономические задачи, а для особо желающих и придумать свои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такие задачи помогают понять связи между географией,  экологическим состоянием и экономико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ранспор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000" y="1339920"/>
            <a:ext cx="521964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 все это надо погрузить, упаковать, вывезти, доставить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80000" y="1282680"/>
            <a:ext cx="2879640" cy="1957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33880" y="3419640"/>
            <a:ext cx="3965760" cy="2620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60360" y="2700360"/>
            <a:ext cx="468000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1312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е надо построить заводы по переработ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добычу сырья для консервных ба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120" y="3600360"/>
            <a:ext cx="5079960" cy="2629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26080" y="3060720"/>
            <a:ext cx="40939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то вкусно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70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на столах появляются деликатесы, а в Африке — бесплодные пусты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95960" y="1260360"/>
            <a:ext cx="3524040" cy="2762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93800" y="3780000"/>
            <a:ext cx="4967280" cy="23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ение проблем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670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расчеты похожи на предыдущую задачу, для учащихся занимающихся экономикой возможны гораздо более точные расчеты, в том числе расчет реальной стоимости тропических фруктов, как экзотики, деликатеса, а не предмета первой необхо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0" y="3284640"/>
            <a:ext cx="454356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5120" y="44280"/>
            <a:ext cx="801540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им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-47880"/>
            <a:ext cx="8015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еография Росс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9640" y="5400720"/>
            <a:ext cx="745776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 и экономически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93720" y="1600200"/>
            <a:ext cx="58816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716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еография Росс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урса географии России: экономическая задача на производственную т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экономическую и экологическую цену для производства и продажи чип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задачи предлагается детям купить в ближайшем магазине или ларьке разных чипсов или просто записать их сто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лассе необходимо будет решить, какие затраты входят в стоимость и определить, насколько какой товар экономически выгод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ретьем этапе предлагается учесть и экологические потери, но это уже для детей заинтересов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ом из этой работы должно стать понимание необходимости собственного местного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-47880"/>
            <a:ext cx="8015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ономика Росс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2160" y="1440000"/>
            <a:ext cx="58467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задачи предлагается детям купить в ближайшем магазине или ларьке разных чипсов или просто записать их сто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лассе необходимо будет решить, какие затраты входят в стоимость и определить, насколько какой товар экономически выгод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80000" y="1619280"/>
            <a:ext cx="19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3959280"/>
            <a:ext cx="3780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5120" y="227160"/>
            <a:ext cx="8445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усская Картошка против Pring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1618920"/>
            <a:ext cx="8389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им примерный упрощенный расч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С = ПС + Из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ем ПС (зарплата администрации + аренда помещения + налоги ) - величиной одинаковой для российского и зарубежного производ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 разница может быть только в переменных величинах, г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С = ЗР + ЦС + ТР + Ц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оминаем, что зарплата рабочих в России составляет в среднем 0,3-0,5 от зарплаты работающего за рубежом коллеги с таким же уровнем квалификации, а производительность труда ниже в 4-10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стальным переменным картина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ономика Росс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40000"/>
            <a:ext cx="864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аковка, энергия и сырье, потребляемые  при транспортировке и производстве чип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490" t="2179" r="1634" b="-126"/>
          <a:stretch/>
        </p:blipFill>
        <p:spPr>
          <a:xfrm>
            <a:off x="720720" y="1979640"/>
            <a:ext cx="75596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-3240"/>
            <a:ext cx="8015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ономика Росс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440000"/>
            <a:ext cx="73803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приведенных расчетов видно, что себестоимость производства чипсов вне территории страны выше, чем в Росс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должно стимулировать рост национального производ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к этим выкладкам добавить стоимость транспортных расходов, то окажется, что разница в цене для однотипных товаров может достигать 50-10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ологические потер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469" t="5883" r="2950" b="3355"/>
          <a:stretch/>
        </p:blipFill>
        <p:spPr>
          <a:xfrm>
            <a:off x="684360" y="1844640"/>
            <a:ext cx="777528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7240" y="1413000"/>
            <a:ext cx="65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ировка от завода до магазина (Санкт- Петербур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9:32:32Z</dcterms:created>
  <dc:creator>Admin</dc:creator>
  <dc:description/>
  <dc:language>en-US</dc:language>
  <cp:lastModifiedBy>Дементьевы</cp:lastModifiedBy>
  <dcterms:modified xsi:type="dcterms:W3CDTF">2011-12-14T10:34:17Z</dcterms:modified>
  <cp:revision>8</cp:revision>
  <dc:subject/>
  <dc:title>Решение экономических задач,</dc:title>
</cp:coreProperties>
</file>