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jpeg" ContentType="image/jpeg"/>
  <Override PartName="/ppt/media/image22.png" ContentType="image/png"/>
  <Override PartName="/ppt/media/image4.png" ContentType="image/png"/>
  <Override PartName="/ppt/media/image5.jpeg" ContentType="image/jpeg"/>
  <Override PartName="/ppt/media/image26.jpeg" ContentType="image/jpeg"/>
  <Override PartName="/ppt/media/image6.png" ContentType="image/png"/>
  <Override PartName="/ppt/media/image29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0.png" ContentType="image/png"/>
  <Override PartName="/ppt/media/image27.jpeg" ContentType="image/jpeg"/>
  <Override PartName="/ppt/media/image13.gif" ContentType="image/gif"/>
  <Override PartName="/ppt/media/image30.png" ContentType="image/png"/>
  <Override PartName="/ppt/media/image3.png" ContentType="image/png"/>
  <Override PartName="/ppt/media/image16.png" ContentType="image/png"/>
  <Override PartName="/ppt/media/image23.gif" ContentType="image/gif"/>
  <Override PartName="/ppt/media/image2.png" ContentType="image/png"/>
  <Override PartName="/ppt/media/image25.png" ContentType="image/png"/>
  <Override PartName="/ppt/media/image1.png" ContentType="image/png"/>
  <Override PartName="/ppt/media/image19.gif" ContentType="image/gif"/>
  <Override PartName="/ppt/media/image11.jpeg" ContentType="image/jpeg"/>
  <Override PartName="/ppt/media/image24.png" ContentType="image/png"/>
  <Override PartName="/ppt/media/image31.jpeg" ContentType="image/jpeg"/>
  <Override PartName="/ppt/media/image14.gif" ContentType="image/gif"/>
  <Override PartName="/ppt/media/image17.png" ContentType="image/png"/>
  <Override PartName="/ppt/media/image15.png" ContentType="image/png"/>
  <Override PartName="/ppt/media/image18.jpeg" ContentType="image/jpeg"/>
  <Override PartName="/ppt/media/image20.gif" ContentType="image/gif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05F9-0529-43F5-B31B-3CF8D6CC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A3E-86DA-44D6-B8D6-9A9E4ADA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5A6F-11DA-42A4-88C9-D2623CC2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848-E0A2-4A66-BE64-B5D54C14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9D3A-7A2B-4A80-8D99-EDED5B79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327E-4AC3-4693-A371-0F5D523B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FFD2-6258-49BB-A442-DF551E60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B7DD-62AE-4C59-9273-D24C97EF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05B1-F101-43C1-8681-B9707344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34B9-7552-4B49-BD49-11BBD3D3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67F9-5EDC-4797-826F-ABE2527E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13B-1987-4FAF-BDED-B1765E8C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AEFE-2744-4413-BB60-88F2503C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E988-67ED-40AE-B0CB-39CF01FD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A760-E954-489F-81E4-ABA4EB17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91FA-FB78-418F-ACA3-676D8919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6B5E-BDBC-40F8-825B-7A284D48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662E6-9A7F-4F70-802D-EE372751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8A95C-6A2D-4943-B1C0-A6422096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C27AF-B605-4E4D-BE4C-5A6B1498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99370-8F37-49F8-B8DE-E9FFD16A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638DC-E538-478B-B661-C9698ED5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7C8-DFC6-41E4-B722-C507AFCC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8B27B-675E-4DFD-ABD8-65E4D971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AE6D2-6699-45ED-864B-53729C67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D04D7-123D-425B-8924-CCAFCBE8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285F2-16FC-476F-BB7D-1800D962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B715E-CB32-48DC-9BBD-A5974B19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395EE-2400-4C81-B78B-F85E4BBD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6A5E0-A42F-4D91-8B95-4316A2FE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B4931-E6AB-493C-953A-735C37C6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34BB0-D1CE-4BC1-A7AB-D4B0767D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FE5B3-D37B-4E74-BD48-8E575117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3D3F-C680-44C6-AB5B-657293DB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6D4E8-5E34-48A3-8C4F-02BC030B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8F709-EF8E-4A43-A43B-EFC9E841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DAB34-5394-4D0C-8A9A-46E07A37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DBB45-C2A6-4B2E-A9D0-123ED4DF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55E18-BF08-4010-9FA7-B8550A4B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DD1E1-0F3A-4D5C-A958-974A0FED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5FEB1-8463-4B5D-817D-EB095182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99E49-FA1D-4735-B939-77ECFD45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21A9B-7BB3-41CC-AD26-35B35A3A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F4A-3DD7-46DB-AB82-2573ADA7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31F2-29FA-482D-A806-E5CCDD95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8CA-D99F-4947-9DB8-A25BF7A0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F88-943A-4E4E-A1F1-4BEC2C54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2B39-E3C0-4C32-A990-EF4EDF4F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6421-5A28-432A-8D07-80CC5BF094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31C3-958B-4BCF-8001-997B913A3A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E31F-AEEE-43DF-ADBF-E50AB9A132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6F87-7C83-4970-9757-C3287EF82E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676160" y="99036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«Формирование внимательного отношения к слов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начальной шко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на основе волшебной сказки)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676520" y="4114800"/>
            <a:ext cx="655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СОШ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ковщук С.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school0410[1]"/>
          <p:cNvPicPr/>
          <p:nvPr/>
        </p:nvPicPr>
        <p:blipFill>
          <a:blip r:embed="rId1"/>
          <a:stretch/>
        </p:blipFill>
        <p:spPr>
          <a:xfrm>
            <a:off x="1219320" y="3809880"/>
            <a:ext cx="2438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Формулы в волшебной сказк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99840" y="1599840"/>
            <a:ext cx="7086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и изображении наружности герое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«Ударился о землю и сделался таким молодцем да красавцем, что ни вздумать, ни взгадать, только в сказке сказать», «Вышел старичок, сам с ноготок, борода с локот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и изображении действий герое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«Сел верхом, рукой махнул, ногой толкнул и понесся; его конь бежит, земля дрожит; горы, долы хвостом застилает, пни, колодцы промеж ног пуска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c6531561a092"/>
          <p:cNvPicPr/>
          <p:nvPr/>
        </p:nvPicPr>
        <p:blipFill>
          <a:blip r:embed="rId1"/>
          <a:stretch/>
        </p:blipFill>
        <p:spPr>
          <a:xfrm>
            <a:off x="-152280" y="3352680"/>
            <a:ext cx="2743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6" descr="2098e813475c"/>
          <p:cNvPicPr/>
          <p:nvPr/>
        </p:nvPicPr>
        <p:blipFill>
          <a:blip r:embed="rId1"/>
          <a:stretch/>
        </p:blipFill>
        <p:spPr>
          <a:xfrm>
            <a:off x="7696080" y="525780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Формулы в волшебной сказк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23520" y="1599840"/>
            <a:ext cx="7162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и описании места действ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«Ехали по долам, по горам, по зеленым лугам, и приехали в дремучий лес», «Вот и сине море – широкое и раздольное перед нею, а вдали как жар горят золотые маковки на высоких теремах белокаменны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и передаче речи персонаж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«Избушка, избушка! Стань по-старому, как мать поставила», «А не сделаешь – то мой меч, твоя голова с плеч!», «Фу-фу-фу! Прежде русского духу слыхом не слыхано, видом не видано, нынче русский дух на ложку садится, сам в рот катитс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dom"/>
          <p:cNvPicPr/>
          <p:nvPr/>
        </p:nvPicPr>
        <p:blipFill>
          <a:blip r:embed="rId2"/>
          <a:stretch/>
        </p:blipFill>
        <p:spPr>
          <a:xfrm>
            <a:off x="-152280" y="4572000"/>
            <a:ext cx="243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Волшебная сказка имеет свои характерные, свойственные ей персонажи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х можно разбить на несколько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и герои, совершающие подвиги, или лица, освобождаемые или добываемые героями, - большей частью женщины (невесты, жены, сестры, матери и п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удесные помощники или добрые советники, облегчающие герою его подви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ивоположными герою явл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го враги и вражеские помощ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dis60"/>
          <p:cNvPicPr/>
          <p:nvPr/>
        </p:nvPicPr>
        <p:blipFill>
          <a:blip r:embed="rId1"/>
          <a:stretch/>
        </p:blipFill>
        <p:spPr>
          <a:xfrm>
            <a:off x="7467480" y="495288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Волшебные предметы и диковины выполняют существенные функции в волшебной сказке.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нь популярны в волшебной сказке образы «неистощимых» чудесных       предметов. Это прежде всего знаменитая «скатерть-самобранка» ,  предметы типа «ковра-самолета», сказочные «сапоги-скороходы» Волшебная сказка часто говорит о волшебном ларчике, ящике, яйце и других предметах, из которых могут появиться и сад, и дворец, и даже целые царства. Немалую роль играет также «шапка-невидимка», дающая возможность носителю ее оставаться невидимым для других 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нь богат в сказке инвентарь сказочных чудесных диковинок: жар-птица, блюдечко серебряное с наливными яблочками, чудесное поющее дерево с золотыми листьями, золотые и серебряные яблоки; «молодящие яблоки», олень – золотые рога и многие друг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c37a1d8f55e273ed49a5c53894d46965"/>
          <p:cNvPicPr/>
          <p:nvPr/>
        </p:nvPicPr>
        <p:blipFill>
          <a:blip r:embed="rId1"/>
          <a:stretch/>
        </p:blipFill>
        <p:spPr>
          <a:xfrm>
            <a:off x="0" y="5029200"/>
            <a:ext cx="1219320" cy="1600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2"/>
          <a:stretch/>
        </p:blipFill>
        <p:spPr>
          <a:xfrm>
            <a:off x="8001000" y="152280"/>
            <a:ext cx="114300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0033"/>
                </a:solidFill>
                <a:uFillTx/>
                <a:latin typeface="Times New Roman"/>
              </a:rPr>
              <a:t>Прием волшебной сказки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арактерной чертой сказочного стиля, и именно сказки волшебной, является прие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тарда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domm"/>
          <p:cNvPicPr/>
          <p:nvPr/>
        </p:nvPicPr>
        <p:blipFill>
          <a:blip r:embed="rId1"/>
          <a:stretch/>
        </p:blipFill>
        <p:spPr>
          <a:xfrm>
            <a:off x="5029200" y="3657600"/>
            <a:ext cx="3733920" cy="3009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bd564546a55a"/>
          <p:cNvPicPr/>
          <p:nvPr/>
        </p:nvPicPr>
        <p:blipFill>
          <a:blip r:embed="rId2"/>
          <a:stretch/>
        </p:blipFill>
        <p:spPr>
          <a:xfrm>
            <a:off x="609480" y="3276720"/>
            <a:ext cx="31244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Задачи подготовительной работ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ширить представления учащихся о явлениях и событиях, изображенных в произведении, сообщить новые сведения и тем самым обеспечить сознательное восприятие тек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знакомить с жизнью писателя, вызвать интерес к писателю как человеку, к его творчеств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ить детей к эмоциональному восприятию произ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крыть лексическое значение слов, без понимания смысла которых усвоение содержания будет затрудн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6da50f71314b"/>
          <p:cNvPicPr/>
          <p:nvPr/>
        </p:nvPicPr>
        <p:blipFill>
          <a:blip r:embed="rId1"/>
          <a:stretch/>
        </p:blipFill>
        <p:spPr>
          <a:xfrm>
            <a:off x="6740640" y="3581280"/>
            <a:ext cx="24033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Формы 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матривание кни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бодные высказывания детей, основанные на их собственных впечатлен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се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каз учите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скур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матривание картин и рисун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монстрация фильм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слушивание музыкальных произвед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кторина по книгам или произведениям авт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суждение этической ситуации, аналогичной той, которая описана в сказке,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dis11"/>
          <p:cNvPicPr/>
          <p:nvPr/>
        </p:nvPicPr>
        <p:blipFill>
          <a:blip r:embed="rId1"/>
          <a:stretch/>
        </p:blipFill>
        <p:spPr>
          <a:xfrm>
            <a:off x="228600" y="-30492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dis9"/>
          <p:cNvPicPr/>
          <p:nvPr/>
        </p:nvPicPr>
        <p:blipFill>
          <a:blip r:embed="rId2"/>
          <a:stretch/>
        </p:blipFill>
        <p:spPr>
          <a:xfrm>
            <a:off x="7010280" y="2514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Первичное восприятие текс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520" y="1599840"/>
            <a:ext cx="5867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ичное восприятие текста, как правило, обеспечивается таким приемом, как чтение (рассказывание сказки) учителем вслу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огда для первичного восприятия может быть использована запись чтения сказки мастером художественного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95ee4ffa495c"/>
          <p:cNvPicPr/>
          <p:nvPr/>
        </p:nvPicPr>
        <p:blipFill>
          <a:blip r:embed="rId1"/>
          <a:stretch/>
        </p:blipFill>
        <p:spPr>
          <a:xfrm>
            <a:off x="533520" y="1752480"/>
            <a:ext cx="2819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Эмоционально-оценочная беседа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й момент сказки вам понравился больше всего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ая часть сказки вам лучше запомнила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ую картинку вы наиболее ярко представили, слушая сказ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то из героев вам особенно понравился? Что вас привлекло в этом челове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1795f9054bf0"/>
          <p:cNvPicPr/>
          <p:nvPr/>
        </p:nvPicPr>
        <p:blipFill>
          <a:blip r:embed="rId1"/>
          <a:stretch/>
        </p:blipFill>
        <p:spPr>
          <a:xfrm>
            <a:off x="6858000" y="1600200"/>
            <a:ext cx="2286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0033"/>
                </a:solidFill>
                <a:uFillTx/>
                <a:latin typeface="Times New Roman"/>
              </a:rPr>
              <a:t>Анализ волшебной сказки на уроке чте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ый распространенный прием анализа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ановка вопрос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 прочитан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ходе анализа могут быть использованы и другие приемы, такие, ка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борочное чт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овесное рисов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в некоторых случаях чтение по ролям, а в старших классах начальной школы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ановка вопросов к текс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амими учащими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dis30"/>
          <p:cNvPicPr/>
          <p:nvPr/>
        </p:nvPicPr>
        <p:blipFill>
          <a:blip r:embed="rId1"/>
          <a:stretch/>
        </p:blipFill>
        <p:spPr>
          <a:xfrm>
            <a:off x="7391520" y="4648320"/>
            <a:ext cx="1752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огда людей станут учить не тому,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они должны думать,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а тому,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как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они должны дума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то тогда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счезнут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всякие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едоразумения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95760" y="658800"/>
            <a:ext cx="37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Г. Лихтенбе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Рисунок16"/>
          <p:cNvPicPr/>
          <p:nvPr/>
        </p:nvPicPr>
        <p:blipFill>
          <a:blip r:embed="rId1"/>
          <a:stretch/>
        </p:blipFill>
        <p:spPr>
          <a:xfrm>
            <a:off x="609480" y="3276720"/>
            <a:ext cx="25909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уществует несколько подходов к анализу литературного произведен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стилистический анализ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проблемный анализ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анализ развития действи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анализ художественных образ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86a03642beee"/>
          <p:cNvPicPr/>
          <p:nvPr/>
        </p:nvPicPr>
        <p:blipFill>
          <a:blip r:embed="rId1"/>
          <a:stretch/>
        </p:blipFill>
        <p:spPr>
          <a:xfrm>
            <a:off x="7086600" y="2362320"/>
            <a:ext cx="2057400" cy="3124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61eebca2db12"/>
          <p:cNvPicPr/>
          <p:nvPr/>
        </p:nvPicPr>
        <p:blipFill>
          <a:blip r:embed="rId2"/>
          <a:stretch/>
        </p:blipFill>
        <p:spPr>
          <a:xfrm>
            <a:off x="2514600" y="0"/>
            <a:ext cx="3886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25a3979f8cca"/>
          <p:cNvPicPr/>
          <p:nvPr/>
        </p:nvPicPr>
        <p:blipFill>
          <a:blip r:embed="rId1"/>
          <a:stretch/>
        </p:blipFill>
        <p:spPr>
          <a:xfrm>
            <a:off x="0" y="380880"/>
            <a:ext cx="2743200" cy="38102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666880" y="-360"/>
            <a:ext cx="6477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листический (языковой) анал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казывает, как в подборе слов-образов проявляется авторское отношение к изображаем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блемный анал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анализ проблемных вопросов и ситуа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ализ  развития действ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едполагает работу над сюжетом литературного произведения и его элем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ализ художественных образ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работа не столько над словом, сколько над образами в их взаимодейств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0033"/>
                </a:solidFill>
                <a:uFillTx/>
                <a:latin typeface="Times New Roman"/>
              </a:rPr>
              <a:t>Организация работы на этапе вторичного синтез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ичный синтез – этап работы, который предполагает обобщение по произведению (волшебной сказке), его перечитывание и выполнение творческих заданий по следам прочитан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чно на этом этапе используются такие приемы работы, как беседа, выборочное чтение, соотнесение идеи сказки с пословицами, заключительное слово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2cfd1ab82717"/>
          <p:cNvPicPr/>
          <p:nvPr/>
        </p:nvPicPr>
        <p:blipFill>
          <a:blip r:embed="rId1"/>
          <a:stretch/>
        </p:blipFill>
        <p:spPr>
          <a:xfrm>
            <a:off x="5257800" y="4038480"/>
            <a:ext cx="3409920" cy="2667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2e8032f159c5"/>
          <p:cNvPicPr/>
          <p:nvPr/>
        </p:nvPicPr>
        <p:blipFill>
          <a:blip r:embed="rId2"/>
          <a:stretch/>
        </p:blipFill>
        <p:spPr>
          <a:xfrm>
            <a:off x="838080" y="4724280"/>
            <a:ext cx="32292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914040" y="990720"/>
            <a:ext cx="52578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з текста волшебной сказки играет важную роль в развитии ребенка, т.к. способствует пониманию красоты и глубины содержания художественного образа, развивает чувство прекрасного, проявляющееся не только в оценке произведений искусства, но и в оценке окружающе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Рисунок5"/>
          <p:cNvPicPr/>
          <p:nvPr/>
        </p:nvPicPr>
        <p:blipFill>
          <a:blip r:embed="rId1"/>
          <a:stretch/>
        </p:blipFill>
        <p:spPr>
          <a:xfrm>
            <a:off x="5867280" y="1828800"/>
            <a:ext cx="30387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 над словом является важной частью урока литературного чтения в начальной школе. Через слово дети узнают и осознают законы языка, убеждаются в его точности, красоте, выразительности, богатстве, сложности. Поэтому работа над словом должна присутствовать на каждом уроке при разборе художественного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Рисунок11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632448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38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8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«Человек в обществе должен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8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расти согласно своей природе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8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быть самим собой и единственным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8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как на дереве каждый лис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8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отличается от другого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8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Но в каждом листике есть нечт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8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общее с другими, и эта общност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8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перебегает по сучкам, сосудам 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8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образует мощь ствола  и единство всего дерева»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181480" y="609480"/>
            <a:ext cx="372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ихаил Приш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8" descr="7a35da76e863"/>
          <p:cNvPicPr/>
          <p:nvPr/>
        </p:nvPicPr>
        <p:blipFill>
          <a:blip r:embed="rId2"/>
          <a:stretch/>
        </p:blipFill>
        <p:spPr>
          <a:xfrm>
            <a:off x="6095880" y="1752480"/>
            <a:ext cx="3048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Четыре основных уровня восприятия и понимания художественной литературы младшими школьниками: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9" name="Picture 4" descr="school0412[1]"/>
          <p:cNvPicPr/>
          <p:nvPr/>
        </p:nvPicPr>
        <p:blipFill>
          <a:blip r:embed="rId1"/>
          <a:stretch/>
        </p:blipFill>
        <p:spPr>
          <a:xfrm>
            <a:off x="6229440" y="4572000"/>
            <a:ext cx="2914560" cy="2286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ровень – репродуктивны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ровень – эмоционально-сюжетн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ровень – интуитивно-художественн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ровень – элементарный осознанно-художеств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 уровни не зависят от возраста школь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Репродуктивный уровен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ражает усвоение содержания сюжетно-событийной стороны произведения без творческой переработки воспринятого и без проникновения в образное обобщение. Дети делают усилие, чтобы запомнить, то о чем читают, усвоить сами события и фак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18d9db60938b"/>
          <p:cNvPicPr/>
          <p:nvPr/>
        </p:nvPicPr>
        <p:blipFill>
          <a:blip r:embed="rId1"/>
          <a:stretch/>
        </p:blipFill>
        <p:spPr>
          <a:xfrm>
            <a:off x="5181480" y="4343400"/>
            <a:ext cx="3810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Эмоционально-сюжетный уровень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6019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риятие н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оционально-сюжетн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ровне отличается ярко выраженной эмоциональностью, личностным отношением к героям и событиям, сопереживаниями с героями, участием в их действ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09acd2f2b355"/>
          <p:cNvPicPr/>
          <p:nvPr/>
        </p:nvPicPr>
        <p:blipFill>
          <a:blip r:embed="rId1"/>
          <a:stretch/>
        </p:blipFill>
        <p:spPr>
          <a:xfrm>
            <a:off x="5410080" y="3352680"/>
            <a:ext cx="37339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Интуитивно-художественный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уровен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239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арактеризуется не только полнотой и самостоятельностью восприятия произведения, но и проявлением интуитивно-художественного чувства при выборе понравившегося произведения. Внимание учащихся направлено на то, чтобы высказать свое отношение к нем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ь оценку поступ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только главны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и других геро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cherepaha"/>
          <p:cNvPicPr/>
          <p:nvPr/>
        </p:nvPicPr>
        <p:blipFill>
          <a:blip r:embed="rId1"/>
          <a:stretch/>
        </p:blipFill>
        <p:spPr>
          <a:xfrm>
            <a:off x="5181480" y="4267080"/>
            <a:ext cx="3962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сознанно-художественный уровень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248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но назвать целостно аналитическ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этом уровне учащиеся не только безошибочно во всех случаях отдают предпочтение более художественному произведению, но и делают шаг в более глубоком понимании его образной сторо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c6531561a092"/>
          <p:cNvPicPr/>
          <p:nvPr/>
        </p:nvPicPr>
        <p:blipFill>
          <a:blip r:embed="rId1"/>
          <a:stretch/>
        </p:blipFill>
        <p:spPr>
          <a:xfrm>
            <a:off x="0" y="3200400"/>
            <a:ext cx="3124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49532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ин из интереснейших жанров устной поэзии. Их познавательное и воспитательное значение неоспоримо. Сказки тесно связаны с жизнью народа, его бытом и мировоззр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6b167cc2c382"/>
          <p:cNvPicPr/>
          <p:nvPr/>
        </p:nvPicPr>
        <p:blipFill>
          <a:blip r:embed="rId1"/>
          <a:stretch/>
        </p:blipFill>
        <p:spPr>
          <a:xfrm>
            <a:off x="762120" y="1523880"/>
            <a:ext cx="3852720" cy="5334120"/>
          </a:xfrm>
          <a:prstGeom prst="rect">
            <a:avLst/>
          </a:prstGeom>
          <a:ln w="0">
            <a:noFill/>
          </a:ln>
        </p:spPr>
      </p:pic>
      <p:sp>
        <p:nvSpPr>
          <p:cNvPr id="205" name="WordArt 6"/>
          <p:cNvSpPr txBox="1"/>
          <p:nvPr/>
        </p:nvSpPr>
        <p:spPr>
          <a:xfrm>
            <a:off x="2286000" y="0"/>
            <a:ext cx="5105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казки –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В волшебной сказке можно выделить следующие основные части: присказку, зачин, концовку.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Цель присказ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осредоточить внимание слушател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Зачи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ляет традиционную формулу, указывающую не место действия сказки, на героев повествования, 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В некотором царстве, в некотором государстве жил-был грозный царь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нцовка сказ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традиционная формула, заключающая повествов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обна присказке она ритмич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отличается юмо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6934320" y="5248440"/>
            <a:ext cx="1828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22:31:41Z</dcterms:created>
  <dc:creator>света</dc:creator>
  <dc:description/>
  <dc:language>en-US</dc:language>
  <cp:lastModifiedBy>света</cp:lastModifiedBy>
  <dcterms:modified xsi:type="dcterms:W3CDTF">2011-12-25T07:38:4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