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845-AABE-4581-BE09-1782C25E6703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0EB7B2-6007-43CD-AB9D-4D7D06AF415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952B-C973-4090-85AE-3C07034112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6318-814A-4916-B461-26967D2FEEE8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8A2-F4C9-4DEC-867B-8F27FEC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274-0663-4B06-85C1-9BEB14E3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09E-7BD4-4E54-8F2B-F531A11A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F6A-5E59-45F8-9E12-7854215F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691-AF04-4A51-8B4F-B827F6D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BAA-C3ED-4B7B-A38F-5E2EC0D2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9C8-AF18-4581-8E2D-A2AA52E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92D-587D-4BC4-9496-29113B3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57E-A555-43DF-8A1A-351444D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125-44D2-45D3-A53D-7E43746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F7B-12E7-4835-80E0-946DB8D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A90-26F4-408E-AAB9-347EF54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FC1-1800-4F07-B9D4-99058B303CD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28C3-BA79-47EF-B392-B4B029250E0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" TargetMode="External"/><Relationship Id="rId2" Type="http://schemas.openxmlformats.org/officeDocument/2006/relationships/hyperlink" Target="http://ru.wikipedia.org/wiki" TargetMode="External"/><Relationship Id="rId3" Type="http://schemas.openxmlformats.org/officeDocument/2006/relationships/hyperlink" Target="http://www.peoples.ru/art/literature/prose/fairytale/anderse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786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Ганс Христиан Андерсен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357280" y="714240"/>
            <a:ext cx="409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9C20-FA5F-4FCC-BFF9-61351B0BAA1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DF3-AFDD-456B-95E0-ABF4D8E6CAC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Picture 10" descr="novoe"/>
          <p:cNvPicPr/>
          <p:nvPr/>
        </p:nvPicPr>
        <p:blipFill>
          <a:blip r:embed="rId1"/>
          <a:stretch/>
        </p:blipFill>
        <p:spPr>
          <a:xfrm>
            <a:off x="179280" y="765000"/>
            <a:ext cx="403236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4500720" y="692280"/>
            <a:ext cx="439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И если обыденная жизнь превращалась у писателя в волшебный мир, то волшебное царство превращалось в живой, понятный мир. Проблемы, которые решали герои сказок, вовсе не сказочные и не мелкие. Любовь, верность раскрываются в сказках «Пастушка и трубочист», «Снежная королева», «Стойкий оловянный солдатик», жадность порицается в сказках «Свинья-копилка», «Маленький Клаус и Большой Клаус», глупость и чванство — в сказках «Гадкий утенок», «Принцесса на горошине», «Новое платье короля»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622A-1031-44DB-B906-DFCEA094150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002-8499-4B90-A087-B7436F74F71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Picture 4" descr="im1g"/>
          <p:cNvPicPr/>
          <p:nvPr/>
        </p:nvPicPr>
        <p:blipFill>
          <a:blip r:embed="rId1"/>
          <a:stretch/>
        </p:blipFill>
        <p:spPr>
          <a:xfrm>
            <a:off x="324000" y="907920"/>
            <a:ext cx="4032000" cy="504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643280" y="765000"/>
            <a:ext cx="432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Сказки Андерсена быстро «разбежались» по свету, их перевели на разные языки. В России они появились в середине XIX века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716360" y="2421000"/>
            <a:ext cx="42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В 1</a:t>
            </a:r>
            <a:r>
              <a:rPr b="1" lang="en-US" sz="2000" spc="-1" strike="noStrike">
                <a:solidFill>
                  <a:srgbClr val="800000"/>
                </a:solidFill>
                <a:latin typeface="Lucida Console"/>
              </a:rPr>
              <a:t>9</a:t>
            </a: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65 году была организована премия имени Г. Х. Андерсена - литературная премия, которой награждаются лучшие детские писатели и художники-иллюстраторы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Она присуждается один раз в два года. Премия вручается второго апреля - в день рождения Ганса Христиана Андерсен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Lucida Console"/>
              </a:rPr>
              <a:t>Андерсен стал всемирно знаменит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626-51E5-4C31-BE1D-2D141A5E724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6858-C3CF-41E5-8957-BA4999DFFB5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4859280" y="2060640"/>
            <a:ext cx="331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Во всех европейских столицах готовы были без конца принимать и чествовать «великого сказочника». Самые знаменитые люди того времени становились друзьями Андерсена, и даже короли считали за честь пожать ему рук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Picture 4" descr="07"/>
          <p:cNvPicPr/>
          <p:nvPr/>
        </p:nvPicPr>
        <p:blipFill>
          <a:blip r:embed="rId1"/>
          <a:stretch/>
        </p:blipFill>
        <p:spPr>
          <a:xfrm>
            <a:off x="539640" y="2133720"/>
            <a:ext cx="3311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002-5BA1-4934-949D-CAA810E1381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9E5-09F8-4D9C-BB16-A64199B4FC5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286000" y="1341360"/>
            <a:ext cx="523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Захарова Людмила Ивановна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У «Ключевская СОШ им. А.П. Бирюкова» Курганской области Шадринского района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2011 год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208D-5DF8-4C6D-81B3-9CDF3B9165E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D569-9E6B-419C-A867-1011585A798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1258920" y="184464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tex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258920" y="2781360"/>
            <a:ext cx="55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ru.wikipedia.org/wiki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332000" y="1125360"/>
            <a:ext cx="55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ТОЧНИКИ 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1187280" y="3573360"/>
            <a:ext cx="56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peoples.ru/art/literature/prose/fairytale/andersen/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42D-8821-45C0-9914-1D3714A6795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B86A-78C7-4288-A232-C32E7A154E5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Picture 2" descr="01"/>
          <p:cNvPicPr/>
          <p:nvPr/>
        </p:nvPicPr>
        <p:blipFill>
          <a:blip r:embed="rId1"/>
          <a:stretch/>
        </p:blipFill>
        <p:spPr>
          <a:xfrm>
            <a:off x="1547640" y="620640"/>
            <a:ext cx="5328000" cy="5832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6372360" y="324468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02.04.1805 – 04.08.1875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5201-F4BE-411A-A114-7747A37D272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717-11C0-4F5C-A9EB-2BD6544A7E8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635280" y="907920"/>
            <a:ext cx="511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Ганс Христиан Андерсен</a:t>
            </a: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 написал </a:t>
            </a: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156</a:t>
            </a: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 сказок. Совершенно невозможно поверить, что обыкновенный человек мог сочинить такие прекрасные истории. Да, Оле-Лукойе мог бы сочинить все эти сказки, но просто человек — нет. Человек не может знать, о чем думает штопальная игла, не слышит, о чем беседуют розовый куст и семейство серых воробьев, он не может разглядеть, какого цвета платье у принцессы эльфов, которую с некоторых пор зовут Дюймовочкой..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" name="Picture 7" descr="post-56628-1237733291"/>
          <p:cNvPicPr/>
          <p:nvPr/>
        </p:nvPicPr>
        <p:blipFill>
          <a:blip r:embed="rId1"/>
          <a:stretch/>
        </p:blipFill>
        <p:spPr>
          <a:xfrm>
            <a:off x="250920" y="981000"/>
            <a:ext cx="324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8D6-5DFF-4FD4-99C2-73F6C6A70F8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051-4657-46E8-8FF9-381FD2C80E4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067280" y="765000"/>
            <a:ext cx="4608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И если вы думаете, что сказки Андерсена родились на бархатных подушках, между кружевных манжет и золотых подсвечников, то вы глубоко ошибаетесь..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Console"/>
              </a:rPr>
              <a:t>«Милый, добрый, чудаковатый человек», — так говорили о знаменитом датском писателе-сказочнике современники. Жизнь Андерсена была полна тягот и разочарований, но он никогда не утрачивал веры в людей, в добро и красоту. Он учил этому и своих читател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Picture 3" descr="A_Weger-1876-HC_Andersen_from_1835_painting"/>
          <p:cNvPicPr/>
          <p:nvPr/>
        </p:nvPicPr>
        <p:blipFill>
          <a:blip r:embed="rId1"/>
          <a:stretch/>
        </p:blipFill>
        <p:spPr>
          <a:xfrm>
            <a:off x="250920" y="907920"/>
            <a:ext cx="3744720" cy="5042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60D6-1583-4879-916A-AE1C3A05451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119-8A0A-4091-A3A1-67B6688728C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Picture 3" descr="HansChristianAndersen_House"/>
          <p:cNvPicPr/>
          <p:nvPr/>
        </p:nvPicPr>
        <p:blipFill>
          <a:blip r:embed="rId1"/>
          <a:stretch/>
        </p:blipFill>
        <p:spPr>
          <a:xfrm>
            <a:off x="250920" y="3500280"/>
            <a:ext cx="3744720" cy="299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P6105015"/>
          <p:cNvPicPr/>
          <p:nvPr/>
        </p:nvPicPr>
        <p:blipFill>
          <a:blip r:embed="rId2"/>
          <a:stretch/>
        </p:blipFill>
        <p:spPr>
          <a:xfrm>
            <a:off x="250920" y="692280"/>
            <a:ext cx="3744720" cy="27367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4356000" y="836640"/>
            <a:ext cx="460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В Дании есть маленький остров </a:t>
            </a: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Фюн</a:t>
            </a: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, а на нем город </a:t>
            </a: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Оденсе</a:t>
            </a: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. Здесь в 1805 году и родился будущий знаменитый сказочник. Назвали мальчика Ганс Христиан, и его отца — сапожника — тоже звали Ганс Христиан. Сапожники бывают разные — бедные и богатые. Андерсен-отец был бедным. Он вовсе не хотел быть сапожником, он мечтал учиться и путешествовать. А так как ни то, ни другое не удалось, он читал сыну сказки и водил его гулять в окрестности города Оденсе. Он ходил с сыном в театр, который был в их маленьком город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EAA8-FA67-42A2-83E6-70C86BA6C81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770A-7C35-4D7F-A025-D66DA78B0FB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Picture 5" descr="im2g"/>
          <p:cNvPicPr/>
          <p:nvPr/>
        </p:nvPicPr>
        <p:blipFill>
          <a:blip r:embed="rId1"/>
          <a:stretch/>
        </p:blipFill>
        <p:spPr>
          <a:xfrm>
            <a:off x="250920" y="3357720"/>
            <a:ext cx="3349440" cy="29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g"/>
          <p:cNvPicPr/>
          <p:nvPr/>
        </p:nvPicPr>
        <p:blipFill>
          <a:blip r:embed="rId2"/>
          <a:stretch/>
        </p:blipFill>
        <p:spPr>
          <a:xfrm>
            <a:off x="250920" y="692280"/>
            <a:ext cx="295272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708360" y="1125360"/>
            <a:ext cx="504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В четырнадцать лет Андерсен покинул родной дом и отправился в Копенгаген искать счастья на подмостках сцены, но упорные попытки стать актером, танцором, певцом не привели к успеху. Андерсен не унывал и решил писать пьесы. К слову сказать, он был почти неграмотным, пришлось пойти учиться в школу. В 17 лет он сел за школьную парту вместе с второклассниками, в 22 года — стал студентом университет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2649-6995-4463-A965-75FE647524E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8CEF-9EE3-4A18-951F-C14D533B862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4211640" y="1052640"/>
            <a:ext cx="41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В домах своих знакомых Андерсен всегда рассказывал детям сказки, сочиняя их на ходу. Стоило ему войти в дом, где были дети, они тут же требовали новую сказк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И сказка никогда не заставляла себя ждать. Ее героями становились синий дракон, нарисованный на китайской вазе, пролетевший за окном воробей, старая перчатка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5" name="Picture 3" descr="03"/>
          <p:cNvPicPr/>
          <p:nvPr/>
        </p:nvPicPr>
        <p:blipFill>
          <a:blip r:embed="rId1"/>
          <a:stretch/>
        </p:blipFill>
        <p:spPr>
          <a:xfrm>
            <a:off x="250920" y="981000"/>
            <a:ext cx="345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C1C-42B6-4EFE-82EF-E24EC887107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94E3-25D1-463C-A535-E1D6DC13785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788000" y="177336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С детства Андерсен умел вырезать из бумаги всякие фигуры. И когда лист бумаги превращался у него в старую ведьму на помеле, изящную балерину, аиста, стоящего на одной ноге в гнезде, сразу же рождались и сказки об этих фигурках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9" name="Picture 5" descr="16865m"/>
          <p:cNvPicPr/>
          <p:nvPr/>
        </p:nvPicPr>
        <p:blipFill>
          <a:blip r:embed="rId1"/>
          <a:stretch/>
        </p:blipFill>
        <p:spPr>
          <a:xfrm>
            <a:off x="250920" y="90792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6851m"/>
          <p:cNvPicPr/>
          <p:nvPr/>
        </p:nvPicPr>
        <p:blipFill>
          <a:blip r:embed="rId2"/>
          <a:stretch/>
        </p:blipFill>
        <p:spPr>
          <a:xfrm>
            <a:off x="250920" y="4149720"/>
            <a:ext cx="183672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7298m"/>
          <p:cNvPicPr/>
          <p:nvPr/>
        </p:nvPicPr>
        <p:blipFill>
          <a:blip r:embed="rId3"/>
          <a:stretch/>
        </p:blipFill>
        <p:spPr>
          <a:xfrm>
            <a:off x="2268360" y="3933720"/>
            <a:ext cx="1872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CF16-2780-4DF9-A5D3-E4491C70839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2AE8-CBB5-4DD3-A885-139F21FC72B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284720" y="907920"/>
            <a:ext cx="439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Lucida Sans Unicode"/>
                <a:ea typeface="Lucida Sans Unicode"/>
              </a:rPr>
              <a:t>В 30 лет еще бедный и почти безвестный, Андерсен написал на листе бумаги: «Шел солдат по дороге: раз-два! раз-два! Ранец за спиной, сабля на боку, он шел домой с войны...». Так появилась история про бывшего солдата-храбреца. Важные господа смотрели на него как на пустое место, ведь у него не было ни гроша. Но старое огниво помогло храброму солдату стать королем. Это была сказка «Огниво». И это было начало новой жизн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5" name="Picture 3" descr="2"/>
          <p:cNvPicPr/>
          <p:nvPr/>
        </p:nvPicPr>
        <p:blipFill>
          <a:blip r:embed="rId1"/>
          <a:stretch/>
        </p:blipFill>
        <p:spPr>
          <a:xfrm>
            <a:off x="324000" y="907920"/>
            <a:ext cx="3311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8:59:53Z</dcterms:created>
  <dc:creator>.</dc:creator>
  <dc:description>http://aida.ucoz.ru</dc:description>
  <dc:language>en-US</dc:language>
  <cp:lastModifiedBy>.</cp:lastModifiedBy>
  <dcterms:modified xsi:type="dcterms:W3CDTF">2011-11-24T00:15:44Z</dcterms:modified>
  <cp:revision>6</cp:revision>
  <dc:subject/>
  <dc:title>Ганс Христиан Андерсен</dc:title>
</cp:coreProperties>
</file>