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7.wmf" ContentType="image/x-wmf"/>
  <Override PartName="/ppt/media/image55.wmf" ContentType="image/x-wmf"/>
  <Override PartName="/ppt/media/image49.wmf" ContentType="image/x-wmf"/>
  <Override PartName="/ppt/media/image48.wmf" ContentType="image/x-wmf"/>
  <Override PartName="/ppt/media/image47.wmf" ContentType="image/x-wmf"/>
  <Override PartName="/ppt/media/image46.wmf" ContentType="image/x-wmf"/>
  <Override PartName="/ppt/media/image45.png" ContentType="image/png"/>
  <Override PartName="/ppt/media/image44.wmf" ContentType="image/x-wmf"/>
  <Override PartName="/ppt/media/image43.wmf" ContentType="image/x-wmf"/>
  <Override PartName="/ppt/media/image9.png" ContentType="image/png"/>
  <Override PartName="/ppt/media/image41.jpeg" ContentType="image/jpeg"/>
  <Override PartName="/ppt/media/image66.png" ContentType="image/png"/>
  <Override PartName="/ppt/media/image40.jpeg" ContentType="image/jpeg"/>
  <Override PartName="/ppt/media/image31.png" ContentType="image/png"/>
  <Override PartName="/ppt/media/image30.png" ContentType="image/png"/>
  <Override PartName="/ppt/media/image39.png" ContentType="image/png"/>
  <Override PartName="/ppt/media/image61.wmf" ContentType="image/x-wmf"/>
  <Override PartName="/ppt/media/image10.png" ContentType="image/png"/>
  <Override PartName="/ppt/media/image1.jpeg" ContentType="image/jpeg"/>
  <Override PartName="/ppt/media/image16.jpeg" ContentType="image/jpeg"/>
  <Override PartName="/ppt/media/image74.png" ContentType="image/png"/>
  <Override PartName="/ppt/media/image58.wmf" ContentType="image/x-wmf"/>
  <Override PartName="/ppt/media/image20.png" ContentType="image/png"/>
  <Override PartName="/ppt/media/image71.png" ContentType="image/png"/>
  <Override PartName="/ppt/media/image5.png" ContentType="image/png"/>
  <Override PartName="/ppt/media/image35.png" ContentType="image/png"/>
  <Override PartName="/ppt/media/image59.wmf" ContentType="image/x-wmf"/>
  <Override PartName="/ppt/media/image21.jpeg" ContentType="image/jpeg"/>
  <Override PartName="/ppt/media/image65.png" ContentType="image/png"/>
  <Override PartName="/ppt/media/image22.wmf" ContentType="image/x-wmf"/>
  <Override PartName="/ppt/media/image76.gif" ContentType="image/gif"/>
  <Override PartName="/ppt/media/image69.png" ContentType="image/png"/>
  <Override PartName="/ppt/media/image32.png" ContentType="image/png"/>
  <Override PartName="/ppt/media/image67.png" ContentType="image/png"/>
  <Override PartName="/ppt/media/image73.png" ContentType="image/png"/>
  <Override PartName="/ppt/media/image26.jpeg" ContentType="image/jpeg"/>
  <Override PartName="/ppt/media/image42.png" ContentType="image/png"/>
  <Override PartName="/ppt/media/image72.png" ContentType="image/png"/>
  <Override PartName="/ppt/media/image68.png" ContentType="image/png"/>
  <Override PartName="/ppt/media/image75.gif" ContentType="image/gif"/>
  <Override PartName="/ppt/media/image70.png" ContentType="image/png"/>
  <Override PartName="/ppt/media/image50.wmf" ContentType="image/x-wmf"/>
  <Override PartName="/ppt/media/image25.gif" ContentType="image/gif"/>
  <Override PartName="/ppt/media/image28.png" ContentType="image/png"/>
  <Override PartName="/ppt/media/image54.wmf" ContentType="image/x-wmf"/>
  <Override PartName="/ppt/media/image2.png" ContentType="image/png"/>
  <Override PartName="/ppt/media/image14.png" ContentType="image/png"/>
  <Override PartName="/ppt/media/image64.png" ContentType="image/png"/>
  <Override PartName="/ppt/media/image15.jpeg" ContentType="image/jpeg"/>
  <Override PartName="/ppt/media/image63.wmf" ContentType="image/x-wmf"/>
  <Override PartName="/ppt/media/image62.wmf" ContentType="image/x-wmf"/>
  <Override PartName="/ppt/media/image23.gif" ContentType="image/gif"/>
  <Override PartName="/ppt/media/image56.wmf" ContentType="image/x-wmf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29.png" ContentType="image/png"/>
  <Override PartName="/ppt/media/image51.wmf" ContentType="image/x-wmf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24.jpeg" ContentType="image/jpeg"/>
  <Override PartName="/ppt/media/image52.wmf" ContentType="image/x-wmf"/>
  <Override PartName="/ppt/media/image8.png" ContentType="image/png"/>
  <Override PartName="/ppt/media/image60.wmf" ContentType="image/x-wmf"/>
  <Override PartName="/ppt/media/image38.png" ContentType="image/png"/>
  <Override PartName="/ppt/media/image13.png" ContentType="image/png"/>
  <Override PartName="/ppt/media/image5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2505-1E82-4CF0-B199-1AB50481F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DDDC-918B-4102-A384-A92DD0EF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A7D3-E2C1-4706-8072-50CEF4E4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8314-F27B-44DE-B6D1-F213D059F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4835-8832-43CA-A4BF-A78CE1F4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9496-7AA9-408D-82A6-0A50650D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1C8F-7D35-43F9-9DF5-D516F942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2D16-1AE9-43D7-9054-468EB2AB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8F2D-9178-42C9-B9F0-8C4A7CF3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7539-B2E6-4577-B507-D8461CCE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8C4F-7A44-43F9-BA46-6AFD8504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8022-608E-4FE6-B3C4-34D7A83B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5699-6DE7-4B22-A0A1-9DB902807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2.png"/><Relationship Id="rId10" Type="http://schemas.openxmlformats.org/officeDocument/2006/relationships/image" Target="../media/image43.wmf"/><Relationship Id="rId11" Type="http://schemas.openxmlformats.org/officeDocument/2006/relationships/image" Target="../media/image44.wmf"/><Relationship Id="rId12" Type="http://schemas.openxmlformats.org/officeDocument/2006/relationships/slide" Target="slide2.xml"/><Relationship Id="rId13" Type="http://schemas.openxmlformats.org/officeDocument/2006/relationships/image" Target="../media/image45.png"/><Relationship Id="rId14" Type="http://schemas.openxmlformats.org/officeDocument/2006/relationships/image" Target="../media/image46.wmf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image" Target="../media/image53.wmf"/><Relationship Id="rId8" Type="http://schemas.openxmlformats.org/officeDocument/2006/relationships/image" Target="../media/image54.wmf"/><Relationship Id="rId9" Type="http://schemas.openxmlformats.org/officeDocument/2006/relationships/image" Target="../media/image55.wmf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slide" Target="slide2.xml"/><Relationship Id="rId5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" Target="slide2.xml"/><Relationship Id="rId5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slide" Target="slide2.xml"/><Relationship Id="rId5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wmf"/><Relationship Id="rId3" Type="http://schemas.openxmlformats.org/officeDocument/2006/relationships/image" Target="../media/image63.wmf"/><Relationship Id="rId4" Type="http://schemas.openxmlformats.org/officeDocument/2006/relationships/slide" Target="slide2.xml"/><Relationship Id="rId5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image" Target="../media/image64.png"/><Relationship Id="rId4" Type="http://schemas.openxmlformats.org/officeDocument/2006/relationships/image" Target="../media/image64.png"/><Relationship Id="rId5" Type="http://schemas.openxmlformats.org/officeDocument/2006/relationships/image" Target="../media/image64.png"/><Relationship Id="rId6" Type="http://schemas.openxmlformats.org/officeDocument/2006/relationships/image" Target="../media/image6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png"/><Relationship Id="rId3" Type="http://schemas.openxmlformats.org/officeDocument/2006/relationships/image" Target="../media/image67.png"/><Relationship Id="rId4" Type="http://schemas.openxmlformats.org/officeDocument/2006/relationships/image" Target="../media/image67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png"/><Relationship Id="rId3" Type="http://schemas.openxmlformats.org/officeDocument/2006/relationships/image" Target="../media/image69.png"/><Relationship Id="rId4" Type="http://schemas.openxmlformats.org/officeDocument/2006/relationships/image" Target="../media/image69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5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image" Target="../media/image76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apalrain.files.wordpress.com/2009/12/81.jpg?w=357&amp;h=500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image" Target="../media/image22.wmf"/><Relationship Id="rId8" Type="http://schemas.openxmlformats.org/officeDocument/2006/relationships/image" Target="../media/image23.gif"/><Relationship Id="rId9" Type="http://schemas.openxmlformats.org/officeDocument/2006/relationships/image" Target="../media/image24.jpeg"/><Relationship Id="rId10" Type="http://schemas.openxmlformats.org/officeDocument/2006/relationships/image" Target="../media/image25.gif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Овал 3"/>
          <p:cNvSpPr/>
          <p:nvPr/>
        </p:nvSpPr>
        <p:spPr>
          <a:xfrm>
            <a:off x="4405320" y="4777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Овал 4"/>
          <p:cNvSpPr/>
          <p:nvPr/>
        </p:nvSpPr>
        <p:spPr>
          <a:xfrm>
            <a:off x="4429080" y="114300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5"/>
          <p:cNvSpPr/>
          <p:nvPr/>
        </p:nvSpPr>
        <p:spPr>
          <a:xfrm>
            <a:off x="3714840" y="1143000"/>
            <a:ext cx="42840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вал 6"/>
          <p:cNvSpPr/>
          <p:nvPr/>
        </p:nvSpPr>
        <p:spPr>
          <a:xfrm>
            <a:off x="3714840" y="42876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7"/>
          <p:cNvSpPr/>
          <p:nvPr/>
        </p:nvSpPr>
        <p:spPr>
          <a:xfrm>
            <a:off x="4524480" y="78588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8"/>
          <p:cNvSpPr/>
          <p:nvPr/>
        </p:nvSpPr>
        <p:spPr>
          <a:xfrm>
            <a:off x="3571920" y="785880"/>
            <a:ext cx="42876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9"/>
          <p:cNvSpPr/>
          <p:nvPr/>
        </p:nvSpPr>
        <p:spPr>
          <a:xfrm>
            <a:off x="4071960" y="12859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10"/>
          <p:cNvSpPr/>
          <p:nvPr/>
        </p:nvSpPr>
        <p:spPr>
          <a:xfrm>
            <a:off x="4071960" y="3571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Овал 11"/>
          <p:cNvGrpSpPr/>
          <p:nvPr/>
        </p:nvGrpSpPr>
        <p:grpSpPr>
          <a:xfrm>
            <a:off x="3708360" y="476280"/>
            <a:ext cx="1195560" cy="1023840"/>
            <a:chOff x="3708360" y="476280"/>
            <a:chExt cx="1195560" cy="1023840"/>
          </a:xfrm>
        </p:grpSpPr>
        <p:pic>
          <p:nvPicPr>
            <p:cNvPr id="50" name="Овал 11" descr=""/>
            <p:cNvPicPr/>
            <p:nvPr/>
          </p:nvPicPr>
          <p:blipFill>
            <a:blip r:embed="rId2"/>
            <a:stretch/>
          </p:blipFill>
          <p:spPr>
            <a:xfrm>
              <a:off x="3708360" y="476280"/>
              <a:ext cx="11955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011840" y="743040"/>
              <a:ext cx="5554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Calibri"/>
                </a:rPr>
                <a:t>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Овал 12"/>
          <p:cNvSpPr/>
          <p:nvPr/>
        </p:nvSpPr>
        <p:spPr>
          <a:xfrm>
            <a:off x="1690560" y="835200"/>
            <a:ext cx="428760" cy="4284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13"/>
          <p:cNvSpPr/>
          <p:nvPr/>
        </p:nvSpPr>
        <p:spPr>
          <a:xfrm>
            <a:off x="1714680" y="1500120"/>
            <a:ext cx="42840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14"/>
          <p:cNvSpPr/>
          <p:nvPr/>
        </p:nvSpPr>
        <p:spPr>
          <a:xfrm>
            <a:off x="1000080" y="150012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15"/>
          <p:cNvSpPr/>
          <p:nvPr/>
        </p:nvSpPr>
        <p:spPr>
          <a:xfrm>
            <a:off x="1000080" y="785880"/>
            <a:ext cx="428760" cy="4284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16"/>
          <p:cNvSpPr/>
          <p:nvPr/>
        </p:nvSpPr>
        <p:spPr>
          <a:xfrm>
            <a:off x="1785960" y="114300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7"/>
          <p:cNvSpPr/>
          <p:nvPr/>
        </p:nvSpPr>
        <p:spPr>
          <a:xfrm>
            <a:off x="857160" y="114300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8"/>
          <p:cNvSpPr/>
          <p:nvPr/>
        </p:nvSpPr>
        <p:spPr>
          <a:xfrm>
            <a:off x="1357200" y="164304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9"/>
          <p:cNvSpPr/>
          <p:nvPr/>
        </p:nvSpPr>
        <p:spPr>
          <a:xfrm>
            <a:off x="1357200" y="64296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Овал 20"/>
          <p:cNvGrpSpPr/>
          <p:nvPr/>
        </p:nvGrpSpPr>
        <p:grpSpPr>
          <a:xfrm>
            <a:off x="1006560" y="817560"/>
            <a:ext cx="1146240" cy="1017720"/>
            <a:chOff x="1006560" y="817560"/>
            <a:chExt cx="1146240" cy="1017720"/>
          </a:xfrm>
        </p:grpSpPr>
        <p:pic>
          <p:nvPicPr>
            <p:cNvPr id="61" name="Овал 20" descr=""/>
            <p:cNvPicPr/>
            <p:nvPr/>
          </p:nvPicPr>
          <p:blipFill>
            <a:blip r:embed="rId3"/>
            <a:stretch/>
          </p:blipFill>
          <p:spPr>
            <a:xfrm>
              <a:off x="1006560" y="817560"/>
              <a:ext cx="114624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1282680" y="1081080"/>
              <a:ext cx="5554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Calibri"/>
                </a:rPr>
                <a:t>Р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Овал 21"/>
          <p:cNvSpPr/>
          <p:nvPr/>
        </p:nvSpPr>
        <p:spPr>
          <a:xfrm>
            <a:off x="8405640" y="140652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2"/>
          <p:cNvSpPr/>
          <p:nvPr/>
        </p:nvSpPr>
        <p:spPr>
          <a:xfrm>
            <a:off x="8429760" y="2071800"/>
            <a:ext cx="42840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3"/>
          <p:cNvSpPr/>
          <p:nvPr/>
        </p:nvSpPr>
        <p:spPr>
          <a:xfrm>
            <a:off x="7715160" y="207180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4"/>
          <p:cNvSpPr/>
          <p:nvPr/>
        </p:nvSpPr>
        <p:spPr>
          <a:xfrm>
            <a:off x="7715160" y="135720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25"/>
          <p:cNvSpPr/>
          <p:nvPr/>
        </p:nvSpPr>
        <p:spPr>
          <a:xfrm>
            <a:off x="85010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26"/>
          <p:cNvSpPr/>
          <p:nvPr/>
        </p:nvSpPr>
        <p:spPr>
          <a:xfrm>
            <a:off x="75722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27"/>
          <p:cNvSpPr/>
          <p:nvPr/>
        </p:nvSpPr>
        <p:spPr>
          <a:xfrm>
            <a:off x="8072280" y="221472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28"/>
          <p:cNvSpPr/>
          <p:nvPr/>
        </p:nvSpPr>
        <p:spPr>
          <a:xfrm>
            <a:off x="8072280" y="121428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Овал 29"/>
          <p:cNvGrpSpPr/>
          <p:nvPr/>
        </p:nvGrpSpPr>
        <p:grpSpPr>
          <a:xfrm>
            <a:off x="7589880" y="1420920"/>
            <a:ext cx="1359000" cy="1023840"/>
            <a:chOff x="7589880" y="1420920"/>
            <a:chExt cx="1359000" cy="1023840"/>
          </a:xfrm>
        </p:grpSpPr>
        <p:pic>
          <p:nvPicPr>
            <p:cNvPr id="72" name="Овал 29" descr=""/>
            <p:cNvPicPr/>
            <p:nvPr/>
          </p:nvPicPr>
          <p:blipFill>
            <a:blip r:embed="rId4"/>
            <a:stretch/>
          </p:blipFill>
          <p:spPr>
            <a:xfrm>
              <a:off x="7589880" y="1420920"/>
              <a:ext cx="13590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7974000" y="1685880"/>
              <a:ext cx="5554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Calibri"/>
                </a:rPr>
                <a:t>Ю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Овал 30"/>
          <p:cNvSpPr/>
          <p:nvPr/>
        </p:nvSpPr>
        <p:spPr>
          <a:xfrm rot="2585400">
            <a:off x="6339960" y="1196640"/>
            <a:ext cx="169920" cy="46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31"/>
          <p:cNvSpPr/>
          <p:nvPr/>
        </p:nvSpPr>
        <p:spPr>
          <a:xfrm>
            <a:off x="6357960" y="1357200"/>
            <a:ext cx="46080" cy="2476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32"/>
          <p:cNvSpPr/>
          <p:nvPr/>
        </p:nvSpPr>
        <p:spPr>
          <a:xfrm rot="19933200">
            <a:off x="6692400" y="1198440"/>
            <a:ext cx="46080" cy="3304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33"/>
          <p:cNvSpPr/>
          <p:nvPr/>
        </p:nvSpPr>
        <p:spPr>
          <a:xfrm flipH="1" rot="19222200">
            <a:off x="5401800" y="1706040"/>
            <a:ext cx="455760" cy="87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34"/>
          <p:cNvSpPr/>
          <p:nvPr/>
        </p:nvSpPr>
        <p:spPr>
          <a:xfrm flipH="1" rot="2353200">
            <a:off x="5319720" y="1398600"/>
            <a:ext cx="453960" cy="61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35"/>
          <p:cNvSpPr/>
          <p:nvPr/>
        </p:nvSpPr>
        <p:spPr>
          <a:xfrm>
            <a:off x="578628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36"/>
          <p:cNvSpPr/>
          <p:nvPr/>
        </p:nvSpPr>
        <p:spPr>
          <a:xfrm>
            <a:off x="5715000" y="17859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37"/>
          <p:cNvSpPr/>
          <p:nvPr/>
        </p:nvSpPr>
        <p:spPr>
          <a:xfrm>
            <a:off x="5715000" y="128592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38"/>
          <p:cNvSpPr/>
          <p:nvPr/>
        </p:nvSpPr>
        <p:spPr>
          <a:xfrm>
            <a:off x="528624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39"/>
          <p:cNvSpPr/>
          <p:nvPr/>
        </p:nvSpPr>
        <p:spPr>
          <a:xfrm rot="2585400">
            <a:off x="2957040" y="485640"/>
            <a:ext cx="169920" cy="4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40"/>
          <p:cNvSpPr/>
          <p:nvPr/>
        </p:nvSpPr>
        <p:spPr>
          <a:xfrm>
            <a:off x="2975040" y="646200"/>
            <a:ext cx="46080" cy="24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41"/>
          <p:cNvSpPr/>
          <p:nvPr/>
        </p:nvSpPr>
        <p:spPr>
          <a:xfrm rot="19933200">
            <a:off x="3311280" y="485640"/>
            <a:ext cx="44280" cy="331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42"/>
          <p:cNvSpPr/>
          <p:nvPr/>
        </p:nvSpPr>
        <p:spPr>
          <a:xfrm rot="2585400">
            <a:off x="205920" y="1766520"/>
            <a:ext cx="169920" cy="442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43"/>
          <p:cNvSpPr/>
          <p:nvPr/>
        </p:nvSpPr>
        <p:spPr>
          <a:xfrm>
            <a:off x="223920" y="1927080"/>
            <a:ext cx="46080" cy="246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44"/>
          <p:cNvSpPr/>
          <p:nvPr/>
        </p:nvSpPr>
        <p:spPr>
          <a:xfrm rot="19933200">
            <a:off x="560160" y="1766880"/>
            <a:ext cx="44280" cy="3319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45"/>
          <p:cNvSpPr/>
          <p:nvPr/>
        </p:nvSpPr>
        <p:spPr>
          <a:xfrm rot="2585400">
            <a:off x="8670600" y="1338120"/>
            <a:ext cx="169920" cy="4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46"/>
          <p:cNvSpPr/>
          <p:nvPr/>
        </p:nvSpPr>
        <p:spPr>
          <a:xfrm>
            <a:off x="8929800" y="1071720"/>
            <a:ext cx="46080" cy="24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47"/>
          <p:cNvSpPr/>
          <p:nvPr/>
        </p:nvSpPr>
        <p:spPr>
          <a:xfrm rot="19933200">
            <a:off x="9023400" y="1338120"/>
            <a:ext cx="46080" cy="331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48"/>
          <p:cNvSpPr/>
          <p:nvPr/>
        </p:nvSpPr>
        <p:spPr>
          <a:xfrm rot="2585400">
            <a:off x="2991960" y="1838160"/>
            <a:ext cx="169920" cy="44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49"/>
          <p:cNvSpPr/>
          <p:nvPr/>
        </p:nvSpPr>
        <p:spPr>
          <a:xfrm>
            <a:off x="3009960" y="1998720"/>
            <a:ext cx="46080" cy="245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50"/>
          <p:cNvSpPr/>
          <p:nvPr/>
        </p:nvSpPr>
        <p:spPr>
          <a:xfrm rot="19933200">
            <a:off x="3346200" y="1838160"/>
            <a:ext cx="44280" cy="33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51"/>
          <p:cNvSpPr/>
          <p:nvPr/>
        </p:nvSpPr>
        <p:spPr>
          <a:xfrm flipH="1" rot="19222200">
            <a:off x="7979400" y="873000"/>
            <a:ext cx="455400" cy="87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52"/>
          <p:cNvSpPr/>
          <p:nvPr/>
        </p:nvSpPr>
        <p:spPr>
          <a:xfrm flipH="1" rot="2353200">
            <a:off x="7897320" y="564840"/>
            <a:ext cx="454320" cy="615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53"/>
          <p:cNvSpPr/>
          <p:nvPr/>
        </p:nvSpPr>
        <p:spPr>
          <a:xfrm>
            <a:off x="8364600" y="73836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54"/>
          <p:cNvSpPr/>
          <p:nvPr/>
        </p:nvSpPr>
        <p:spPr>
          <a:xfrm>
            <a:off x="8292960" y="95256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55"/>
          <p:cNvSpPr/>
          <p:nvPr/>
        </p:nvSpPr>
        <p:spPr>
          <a:xfrm>
            <a:off x="8292960" y="45252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56"/>
          <p:cNvSpPr/>
          <p:nvPr/>
        </p:nvSpPr>
        <p:spPr>
          <a:xfrm>
            <a:off x="7864560" y="73836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57"/>
          <p:cNvSpPr/>
          <p:nvPr/>
        </p:nvSpPr>
        <p:spPr>
          <a:xfrm flipH="1" rot="19222200">
            <a:off x="115560" y="658440"/>
            <a:ext cx="455760" cy="87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58"/>
          <p:cNvSpPr/>
          <p:nvPr/>
        </p:nvSpPr>
        <p:spPr>
          <a:xfrm flipH="1" rot="2353200">
            <a:off x="33480" y="35100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59"/>
          <p:cNvSpPr/>
          <p:nvPr/>
        </p:nvSpPr>
        <p:spPr>
          <a:xfrm>
            <a:off x="500040" y="523800"/>
            <a:ext cx="285840" cy="716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60"/>
          <p:cNvSpPr/>
          <p:nvPr/>
        </p:nvSpPr>
        <p:spPr>
          <a:xfrm>
            <a:off x="428760" y="738360"/>
            <a:ext cx="71280" cy="285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61"/>
          <p:cNvSpPr/>
          <p:nvPr/>
        </p:nvSpPr>
        <p:spPr>
          <a:xfrm>
            <a:off x="428760" y="2379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62"/>
          <p:cNvSpPr/>
          <p:nvPr/>
        </p:nvSpPr>
        <p:spPr>
          <a:xfrm>
            <a:off x="0" y="523800"/>
            <a:ext cx="285840" cy="716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63"/>
          <p:cNvSpPr/>
          <p:nvPr/>
        </p:nvSpPr>
        <p:spPr>
          <a:xfrm flipH="1" rot="19222200">
            <a:off x="2479680" y="1587240"/>
            <a:ext cx="455760" cy="87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64"/>
          <p:cNvSpPr/>
          <p:nvPr/>
        </p:nvSpPr>
        <p:spPr>
          <a:xfrm flipH="1" rot="2353200">
            <a:off x="2397240" y="127944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65"/>
          <p:cNvSpPr/>
          <p:nvPr/>
        </p:nvSpPr>
        <p:spPr>
          <a:xfrm>
            <a:off x="286380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66"/>
          <p:cNvSpPr/>
          <p:nvPr/>
        </p:nvSpPr>
        <p:spPr>
          <a:xfrm>
            <a:off x="2792520" y="166680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67"/>
          <p:cNvSpPr/>
          <p:nvPr/>
        </p:nvSpPr>
        <p:spPr>
          <a:xfrm>
            <a:off x="2792520" y="11667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68"/>
          <p:cNvSpPr/>
          <p:nvPr/>
        </p:nvSpPr>
        <p:spPr>
          <a:xfrm>
            <a:off x="236376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69"/>
          <p:cNvSpPr/>
          <p:nvPr/>
        </p:nvSpPr>
        <p:spPr>
          <a:xfrm flipH="1" rot="19222200">
            <a:off x="4979880" y="704520"/>
            <a:ext cx="455760" cy="8712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70"/>
          <p:cNvSpPr/>
          <p:nvPr/>
        </p:nvSpPr>
        <p:spPr>
          <a:xfrm flipH="1" rot="3744600">
            <a:off x="4965480" y="380520"/>
            <a:ext cx="453960" cy="6336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71"/>
          <p:cNvSpPr/>
          <p:nvPr/>
        </p:nvSpPr>
        <p:spPr>
          <a:xfrm>
            <a:off x="5364000" y="569880"/>
            <a:ext cx="285840" cy="716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72"/>
          <p:cNvSpPr/>
          <p:nvPr/>
        </p:nvSpPr>
        <p:spPr>
          <a:xfrm>
            <a:off x="5292720" y="784080"/>
            <a:ext cx="71280" cy="2858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73"/>
          <p:cNvSpPr/>
          <p:nvPr/>
        </p:nvSpPr>
        <p:spPr>
          <a:xfrm>
            <a:off x="5292720" y="284040"/>
            <a:ext cx="71280" cy="2858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74"/>
          <p:cNvSpPr/>
          <p:nvPr/>
        </p:nvSpPr>
        <p:spPr>
          <a:xfrm rot="1390800">
            <a:off x="4932000" y="554040"/>
            <a:ext cx="285840" cy="7128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75"/>
          <p:cNvSpPr/>
          <p:nvPr/>
        </p:nvSpPr>
        <p:spPr>
          <a:xfrm>
            <a:off x="6620040" y="47772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76"/>
          <p:cNvSpPr/>
          <p:nvPr/>
        </p:nvSpPr>
        <p:spPr>
          <a:xfrm>
            <a:off x="6643800" y="114300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77"/>
          <p:cNvSpPr/>
          <p:nvPr/>
        </p:nvSpPr>
        <p:spPr>
          <a:xfrm>
            <a:off x="5929200" y="1143000"/>
            <a:ext cx="42876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78"/>
          <p:cNvSpPr/>
          <p:nvPr/>
        </p:nvSpPr>
        <p:spPr>
          <a:xfrm>
            <a:off x="5929200" y="42876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79"/>
          <p:cNvSpPr/>
          <p:nvPr/>
        </p:nvSpPr>
        <p:spPr>
          <a:xfrm>
            <a:off x="6715080" y="78588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80"/>
          <p:cNvSpPr/>
          <p:nvPr/>
        </p:nvSpPr>
        <p:spPr>
          <a:xfrm>
            <a:off x="5786280" y="78588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81"/>
          <p:cNvSpPr/>
          <p:nvPr/>
        </p:nvSpPr>
        <p:spPr>
          <a:xfrm>
            <a:off x="6286680" y="128592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82"/>
          <p:cNvSpPr/>
          <p:nvPr/>
        </p:nvSpPr>
        <p:spPr>
          <a:xfrm>
            <a:off x="6286680" y="285840"/>
            <a:ext cx="42840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Овал 83"/>
          <p:cNvGrpSpPr/>
          <p:nvPr/>
        </p:nvGrpSpPr>
        <p:grpSpPr>
          <a:xfrm>
            <a:off x="5810400" y="493560"/>
            <a:ext cx="1352520" cy="1017720"/>
            <a:chOff x="5810400" y="493560"/>
            <a:chExt cx="1352520" cy="1017720"/>
          </a:xfrm>
        </p:grpSpPr>
        <p:pic>
          <p:nvPicPr>
            <p:cNvPr id="128" name="Овал 83" descr=""/>
            <p:cNvPicPr/>
            <p:nvPr/>
          </p:nvPicPr>
          <p:blipFill>
            <a:blip r:embed="rId5"/>
            <a:stretch/>
          </p:blipFill>
          <p:spPr>
            <a:xfrm>
              <a:off x="5810400" y="493560"/>
              <a:ext cx="135252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186600" y="757080"/>
              <a:ext cx="55548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Calibri"/>
                </a:rPr>
                <a:t>Ш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Овал 84"/>
          <p:cNvSpPr/>
          <p:nvPr/>
        </p:nvSpPr>
        <p:spPr>
          <a:xfrm>
            <a:off x="7143840" y="1500120"/>
            <a:ext cx="46080" cy="2476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85"/>
          <p:cNvSpPr/>
          <p:nvPr/>
        </p:nvSpPr>
        <p:spPr>
          <a:xfrm>
            <a:off x="833400" y="219240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86"/>
          <p:cNvSpPr/>
          <p:nvPr/>
        </p:nvSpPr>
        <p:spPr>
          <a:xfrm>
            <a:off x="85716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87"/>
          <p:cNvSpPr/>
          <p:nvPr/>
        </p:nvSpPr>
        <p:spPr>
          <a:xfrm>
            <a:off x="14292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88"/>
          <p:cNvSpPr/>
          <p:nvPr/>
        </p:nvSpPr>
        <p:spPr>
          <a:xfrm>
            <a:off x="142920" y="214308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89"/>
          <p:cNvSpPr/>
          <p:nvPr/>
        </p:nvSpPr>
        <p:spPr>
          <a:xfrm>
            <a:off x="928800" y="2500200"/>
            <a:ext cx="42840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90"/>
          <p:cNvSpPr/>
          <p:nvPr/>
        </p:nvSpPr>
        <p:spPr>
          <a:xfrm>
            <a:off x="0" y="250020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91"/>
          <p:cNvSpPr/>
          <p:nvPr/>
        </p:nvSpPr>
        <p:spPr>
          <a:xfrm>
            <a:off x="500040" y="300024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92"/>
          <p:cNvSpPr/>
          <p:nvPr/>
        </p:nvSpPr>
        <p:spPr>
          <a:xfrm>
            <a:off x="500040" y="200016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Овал 93"/>
          <p:cNvGrpSpPr/>
          <p:nvPr/>
        </p:nvGrpSpPr>
        <p:grpSpPr>
          <a:xfrm>
            <a:off x="66600" y="2206800"/>
            <a:ext cx="1262160" cy="1023840"/>
            <a:chOff x="66600" y="2206800"/>
            <a:chExt cx="1262160" cy="1023840"/>
          </a:xfrm>
        </p:grpSpPr>
        <p:pic>
          <p:nvPicPr>
            <p:cNvPr id="140" name="Овал 93" descr=""/>
            <p:cNvPicPr/>
            <p:nvPr/>
          </p:nvPicPr>
          <p:blipFill>
            <a:blip r:embed="rId6"/>
            <a:stretch/>
          </p:blipFill>
          <p:spPr>
            <a:xfrm>
              <a:off x="66600" y="2206800"/>
              <a:ext cx="12621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99960" y="2471760"/>
              <a:ext cx="5558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Calibri"/>
                </a:rPr>
                <a:t>Ф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Овал 94"/>
          <p:cNvSpPr/>
          <p:nvPr/>
        </p:nvSpPr>
        <p:spPr>
          <a:xfrm>
            <a:off x="1116000" y="2141640"/>
            <a:ext cx="46080" cy="2458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95"/>
          <p:cNvSpPr/>
          <p:nvPr/>
        </p:nvSpPr>
        <p:spPr>
          <a:xfrm flipH="1" rot="19222200">
            <a:off x="1478520" y="2516040"/>
            <a:ext cx="455400" cy="87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96"/>
          <p:cNvSpPr/>
          <p:nvPr/>
        </p:nvSpPr>
        <p:spPr>
          <a:xfrm flipH="1" rot="2353200">
            <a:off x="1397160" y="2208240"/>
            <a:ext cx="453960" cy="61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97"/>
          <p:cNvSpPr/>
          <p:nvPr/>
        </p:nvSpPr>
        <p:spPr>
          <a:xfrm>
            <a:off x="186372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Овал 98"/>
          <p:cNvSpPr/>
          <p:nvPr/>
        </p:nvSpPr>
        <p:spPr>
          <a:xfrm>
            <a:off x="1792440" y="259560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Овал 99"/>
          <p:cNvSpPr/>
          <p:nvPr/>
        </p:nvSpPr>
        <p:spPr>
          <a:xfrm>
            <a:off x="1792440" y="20955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100"/>
          <p:cNvSpPr/>
          <p:nvPr/>
        </p:nvSpPr>
        <p:spPr>
          <a:xfrm>
            <a:off x="136368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101"/>
          <p:cNvSpPr/>
          <p:nvPr/>
        </p:nvSpPr>
        <p:spPr>
          <a:xfrm flipH="1" rot="19222200">
            <a:off x="7051680" y="2587320"/>
            <a:ext cx="455760" cy="871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 102"/>
          <p:cNvSpPr/>
          <p:nvPr/>
        </p:nvSpPr>
        <p:spPr>
          <a:xfrm flipH="1" rot="2353200">
            <a:off x="6969240" y="2279520"/>
            <a:ext cx="453960" cy="619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103"/>
          <p:cNvSpPr/>
          <p:nvPr/>
        </p:nvSpPr>
        <p:spPr>
          <a:xfrm>
            <a:off x="743580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104"/>
          <p:cNvSpPr/>
          <p:nvPr/>
        </p:nvSpPr>
        <p:spPr>
          <a:xfrm>
            <a:off x="7364520" y="266688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Овал 105"/>
          <p:cNvSpPr/>
          <p:nvPr/>
        </p:nvSpPr>
        <p:spPr>
          <a:xfrm>
            <a:off x="7364520" y="216684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106"/>
          <p:cNvSpPr/>
          <p:nvPr/>
        </p:nvSpPr>
        <p:spPr>
          <a:xfrm>
            <a:off x="693576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107"/>
          <p:cNvSpPr/>
          <p:nvPr/>
        </p:nvSpPr>
        <p:spPr>
          <a:xfrm rot="18305400">
            <a:off x="5200560" y="2385720"/>
            <a:ext cx="16992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108"/>
          <p:cNvSpPr/>
          <p:nvPr/>
        </p:nvSpPr>
        <p:spPr>
          <a:xfrm rot="15720000">
            <a:off x="5217120" y="2545560"/>
            <a:ext cx="46080" cy="247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109"/>
          <p:cNvSpPr/>
          <p:nvPr/>
        </p:nvSpPr>
        <p:spPr>
          <a:xfrm rot="14053200">
            <a:off x="5552640" y="2385720"/>
            <a:ext cx="46080" cy="33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110"/>
          <p:cNvSpPr/>
          <p:nvPr/>
        </p:nvSpPr>
        <p:spPr>
          <a:xfrm flipH="1" rot="13342200">
            <a:off x="4686840" y="2134800"/>
            <a:ext cx="455760" cy="87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111"/>
          <p:cNvSpPr/>
          <p:nvPr/>
        </p:nvSpPr>
        <p:spPr>
          <a:xfrm flipH="1" rot="18073200">
            <a:off x="4603680" y="182772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12"/>
          <p:cNvSpPr/>
          <p:nvPr/>
        </p:nvSpPr>
        <p:spPr>
          <a:xfrm rot="15720000">
            <a:off x="507240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13"/>
          <p:cNvSpPr/>
          <p:nvPr/>
        </p:nvSpPr>
        <p:spPr>
          <a:xfrm rot="15720000">
            <a:off x="5001480" y="221328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4"/>
          <p:cNvSpPr/>
          <p:nvPr/>
        </p:nvSpPr>
        <p:spPr>
          <a:xfrm rot="15720000">
            <a:off x="5001480" y="171324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115"/>
          <p:cNvSpPr/>
          <p:nvPr/>
        </p:nvSpPr>
        <p:spPr>
          <a:xfrm rot="15720000">
            <a:off x="457236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116"/>
          <p:cNvSpPr/>
          <p:nvPr/>
        </p:nvSpPr>
        <p:spPr>
          <a:xfrm flipH="1" rot="2151600">
            <a:off x="1869120" y="704520"/>
            <a:ext cx="455400" cy="871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117"/>
          <p:cNvSpPr/>
          <p:nvPr/>
        </p:nvSpPr>
        <p:spPr>
          <a:xfrm flipH="1" rot="6882600">
            <a:off x="2109960" y="544680"/>
            <a:ext cx="453960" cy="615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118"/>
          <p:cNvSpPr/>
          <p:nvPr/>
        </p:nvSpPr>
        <p:spPr>
          <a:xfrm rot="4529400">
            <a:off x="2577600" y="71820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119"/>
          <p:cNvSpPr/>
          <p:nvPr/>
        </p:nvSpPr>
        <p:spPr>
          <a:xfrm>
            <a:off x="2471760" y="67140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120"/>
          <p:cNvSpPr/>
          <p:nvPr/>
        </p:nvSpPr>
        <p:spPr>
          <a:xfrm rot="4529400">
            <a:off x="2505960" y="432360"/>
            <a:ext cx="7164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 121"/>
          <p:cNvSpPr/>
          <p:nvPr/>
        </p:nvSpPr>
        <p:spPr>
          <a:xfrm rot="4529400">
            <a:off x="2077560" y="71820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Овал 122"/>
          <p:cNvGrpSpPr/>
          <p:nvPr/>
        </p:nvGrpSpPr>
        <p:grpSpPr>
          <a:xfrm>
            <a:off x="2484360" y="404640"/>
            <a:ext cx="542880" cy="554040"/>
            <a:chOff x="2484360" y="404640"/>
            <a:chExt cx="542880" cy="554040"/>
          </a:xfrm>
        </p:grpSpPr>
        <p:pic>
          <p:nvPicPr>
            <p:cNvPr id="171" name="Овал 122" descr=""/>
            <p:cNvPicPr/>
            <p:nvPr/>
          </p:nvPicPr>
          <p:blipFill>
            <a:blip r:embed="rId7"/>
            <a:stretch/>
          </p:blipFill>
          <p:spPr>
            <a:xfrm>
              <a:off x="2484360" y="404640"/>
              <a:ext cx="54288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2608200" y="50616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Овал 123"/>
          <p:cNvGrpSpPr/>
          <p:nvPr/>
        </p:nvGrpSpPr>
        <p:grpSpPr>
          <a:xfrm>
            <a:off x="5076720" y="1197000"/>
            <a:ext cx="541440" cy="549360"/>
            <a:chOff x="5076720" y="1197000"/>
            <a:chExt cx="541440" cy="549360"/>
          </a:xfrm>
        </p:grpSpPr>
        <p:pic>
          <p:nvPicPr>
            <p:cNvPr id="174" name="Овал 123" descr=""/>
            <p:cNvPicPr/>
            <p:nvPr/>
          </p:nvPicPr>
          <p:blipFill>
            <a:blip r:embed="rId8"/>
            <a:stretch/>
          </p:blipFill>
          <p:spPr>
            <a:xfrm>
              <a:off x="5076720" y="1197000"/>
              <a:ext cx="5414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199120" y="12970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Овал 124"/>
          <p:cNvGrpSpPr/>
          <p:nvPr/>
        </p:nvGrpSpPr>
        <p:grpSpPr>
          <a:xfrm>
            <a:off x="152280" y="1249200"/>
            <a:ext cx="542880" cy="549360"/>
            <a:chOff x="152280" y="1249200"/>
            <a:chExt cx="542880" cy="549360"/>
          </a:xfrm>
        </p:grpSpPr>
        <p:pic>
          <p:nvPicPr>
            <p:cNvPr id="177" name="Овал 124" descr=""/>
            <p:cNvPicPr/>
            <p:nvPr/>
          </p:nvPicPr>
          <p:blipFill>
            <a:blip r:embed="rId9"/>
            <a:stretch/>
          </p:blipFill>
          <p:spPr>
            <a:xfrm>
              <a:off x="152280" y="1249200"/>
              <a:ext cx="5428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77920" y="13492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Овал 125"/>
          <p:cNvGrpSpPr/>
          <p:nvPr/>
        </p:nvGrpSpPr>
        <p:grpSpPr>
          <a:xfrm>
            <a:off x="8510760" y="390600"/>
            <a:ext cx="547560" cy="554040"/>
            <a:chOff x="8510760" y="390600"/>
            <a:chExt cx="547560" cy="554040"/>
          </a:xfrm>
        </p:grpSpPr>
        <p:pic>
          <p:nvPicPr>
            <p:cNvPr id="180" name="Овал 125" descr=""/>
            <p:cNvPicPr/>
            <p:nvPr/>
          </p:nvPicPr>
          <p:blipFill>
            <a:blip r:embed="rId10"/>
            <a:stretch/>
          </p:blipFill>
          <p:spPr>
            <a:xfrm>
              <a:off x="8510760" y="390600"/>
              <a:ext cx="5475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8636040" y="4921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Овал 126"/>
          <p:cNvGrpSpPr/>
          <p:nvPr/>
        </p:nvGrpSpPr>
        <p:grpSpPr>
          <a:xfrm>
            <a:off x="7156440" y="1036800"/>
            <a:ext cx="542880" cy="547560"/>
            <a:chOff x="7156440" y="1036800"/>
            <a:chExt cx="542880" cy="547560"/>
          </a:xfrm>
        </p:grpSpPr>
        <p:pic>
          <p:nvPicPr>
            <p:cNvPr id="183" name="Овал 126" descr=""/>
            <p:cNvPicPr/>
            <p:nvPr/>
          </p:nvPicPr>
          <p:blipFill>
            <a:blip r:embed="rId11"/>
            <a:stretch/>
          </p:blipFill>
          <p:spPr>
            <a:xfrm>
              <a:off x="7156440" y="1036800"/>
              <a:ext cx="54288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7278840" y="1135080"/>
              <a:ext cx="301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Овал 127"/>
          <p:cNvGrpSpPr/>
          <p:nvPr/>
        </p:nvGrpSpPr>
        <p:grpSpPr>
          <a:xfrm>
            <a:off x="3651120" y="1749600"/>
            <a:ext cx="549360" cy="549000"/>
            <a:chOff x="3651120" y="1749600"/>
            <a:chExt cx="549360" cy="549000"/>
          </a:xfrm>
        </p:grpSpPr>
        <p:pic>
          <p:nvPicPr>
            <p:cNvPr id="186" name="Овал 127" descr=""/>
            <p:cNvPicPr/>
            <p:nvPr/>
          </p:nvPicPr>
          <p:blipFill>
            <a:blip r:embed="rId12"/>
            <a:stretch/>
          </p:blipFill>
          <p:spPr>
            <a:xfrm>
              <a:off x="3651120" y="1749600"/>
              <a:ext cx="54936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3778200" y="18493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Прямоугольник 128"/>
          <p:cNvSpPr/>
          <p:nvPr/>
        </p:nvSpPr>
        <p:spPr>
          <a:xfrm rot="2149800">
            <a:off x="4642920" y="2000160"/>
            <a:ext cx="357480" cy="3571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29"/>
          <p:cNvSpPr/>
          <p:nvPr/>
        </p:nvSpPr>
        <p:spPr>
          <a:xfrm rot="17448000">
            <a:off x="6571800" y="1928880"/>
            <a:ext cx="357120" cy="35712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30"/>
          <p:cNvSpPr/>
          <p:nvPr/>
        </p:nvSpPr>
        <p:spPr>
          <a:xfrm rot="1816800">
            <a:off x="3214440" y="1357200"/>
            <a:ext cx="357120" cy="35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31"/>
          <p:cNvSpPr/>
          <p:nvPr/>
        </p:nvSpPr>
        <p:spPr>
          <a:xfrm rot="1279200">
            <a:off x="928440" y="357120"/>
            <a:ext cx="357120" cy="35712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32"/>
          <p:cNvSpPr/>
          <p:nvPr/>
        </p:nvSpPr>
        <p:spPr>
          <a:xfrm rot="19653600">
            <a:off x="3071520" y="2071440"/>
            <a:ext cx="357120" cy="357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33"/>
          <p:cNvSpPr/>
          <p:nvPr/>
        </p:nvSpPr>
        <p:spPr>
          <a:xfrm>
            <a:off x="2428920" y="4929120"/>
            <a:ext cx="471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ставила: учитель – логоп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лойденко О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/с «Солнышк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476360" y="2060640"/>
            <a:ext cx="6696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вук и буква 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050920" y="4365720"/>
            <a:ext cx="523872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огопедическое занят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6" name="Picture 9" descr=""/>
          <p:cNvPicPr/>
          <p:nvPr/>
        </p:nvPicPr>
        <p:blipFill>
          <a:blip r:embed="rId13"/>
          <a:stretch/>
        </p:blipFill>
        <p:spPr>
          <a:xfrm>
            <a:off x="7074000" y="3716280"/>
            <a:ext cx="2070000" cy="29656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"/>
          <p:cNvPicPr/>
          <p:nvPr/>
        </p:nvPicPr>
        <p:blipFill>
          <a:blip r:embed="rId14"/>
          <a:stretch/>
        </p:blipFill>
        <p:spPr>
          <a:xfrm>
            <a:off x="0" y="3429000"/>
            <a:ext cx="2050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892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йди недостающую фигур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979640" y="549360"/>
          <a:ext cx="5184720" cy="4608000"/>
        </p:xfrm>
        <a:graphic>
          <a:graphicData uri="http://schemas.openxmlformats.org/drawingml/2006/table">
            <a:tbl>
              <a:tblPr/>
              <a:tblGrid>
                <a:gridCol w="1728360"/>
                <a:gridCol w="1728000"/>
                <a:gridCol w="1728360"/>
              </a:tblGrid>
              <a:tr h="157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3995640" y="692280"/>
            <a:ext cx="1235160" cy="12967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5580000" y="692280"/>
            <a:ext cx="1278000" cy="13683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rcRect l="4628" t="5641" r="4628" b="9402"/>
          <a:stretch/>
        </p:blipFill>
        <p:spPr>
          <a:xfrm>
            <a:off x="3995640" y="5300640"/>
            <a:ext cx="1389240" cy="13143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rcRect l="0" t="10161" r="0" b="20321"/>
          <a:stretch/>
        </p:blipFill>
        <p:spPr>
          <a:xfrm>
            <a:off x="6084720" y="5445000"/>
            <a:ext cx="1584360" cy="11638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rcRect l="10850" t="15684" r="10850" b="25094"/>
          <a:stretch/>
        </p:blipFill>
        <p:spPr>
          <a:xfrm>
            <a:off x="539640" y="5445000"/>
            <a:ext cx="1295640" cy="1214640"/>
          </a:xfrm>
          <a:prstGeom prst="rect">
            <a:avLst/>
          </a:prstGeom>
          <a:ln w="0">
            <a:noFill/>
          </a:ln>
        </p:spPr>
      </p:pic>
      <p:grpSp>
        <p:nvGrpSpPr>
          <p:cNvPr id="266" name=""/>
          <p:cNvGrpSpPr/>
          <p:nvPr/>
        </p:nvGrpSpPr>
        <p:grpSpPr>
          <a:xfrm>
            <a:off x="5508720" y="2060640"/>
            <a:ext cx="1511280" cy="1584360"/>
            <a:chOff x="5508720" y="2060640"/>
            <a:chExt cx="1511280" cy="1584360"/>
          </a:xfrm>
        </p:grpSpPr>
        <p:pic>
          <p:nvPicPr>
            <p:cNvPr id="267" name="" descr=""/>
            <p:cNvPicPr/>
            <p:nvPr/>
          </p:nvPicPr>
          <p:blipFill>
            <a:blip r:embed="rId7"/>
            <a:stretch/>
          </p:blipFill>
          <p:spPr>
            <a:xfrm>
              <a:off x="5580000" y="2276640"/>
              <a:ext cx="14400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5508720" y="2060640"/>
              <a:ext cx="143964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050920" y="2060640"/>
            <a:ext cx="1512720" cy="1512720"/>
            <a:chOff x="2050920" y="2060640"/>
            <a:chExt cx="1512720" cy="1512720"/>
          </a:xfrm>
        </p:grpSpPr>
        <p:pic>
          <p:nvPicPr>
            <p:cNvPr id="270" name="" descr=""/>
            <p:cNvPicPr/>
            <p:nvPr/>
          </p:nvPicPr>
          <p:blipFill>
            <a:blip r:embed="rId8"/>
            <a:stretch/>
          </p:blipFill>
          <p:spPr>
            <a:xfrm>
              <a:off x="2202480" y="2198160"/>
              <a:ext cx="135972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2050920" y="2060640"/>
              <a:ext cx="151272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124000" y="3645000"/>
            <a:ext cx="1368360" cy="1442880"/>
            <a:chOff x="2124000" y="3645000"/>
            <a:chExt cx="1368360" cy="1442880"/>
          </a:xfrm>
        </p:grpSpPr>
        <p:sp>
          <p:nvSpPr>
            <p:cNvPr id="273" name=""/>
            <p:cNvSpPr/>
            <p:nvPr/>
          </p:nvSpPr>
          <p:spPr>
            <a:xfrm>
              <a:off x="2124000" y="3645000"/>
              <a:ext cx="136836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" descr=""/>
            <p:cNvPicPr/>
            <p:nvPr/>
          </p:nvPicPr>
          <p:blipFill>
            <a:blip r:embed="rId9"/>
            <a:stretch/>
          </p:blipFill>
          <p:spPr>
            <a:xfrm>
              <a:off x="2192040" y="3733200"/>
              <a:ext cx="1299960" cy="1246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5" name=""/>
          <p:cNvGrpSpPr/>
          <p:nvPr/>
        </p:nvGrpSpPr>
        <p:grpSpPr>
          <a:xfrm>
            <a:off x="3851280" y="3573360"/>
            <a:ext cx="1409760" cy="1514520"/>
            <a:chOff x="3851280" y="3573360"/>
            <a:chExt cx="1409760" cy="1514520"/>
          </a:xfrm>
        </p:grpSpPr>
        <p:pic>
          <p:nvPicPr>
            <p:cNvPr id="276" name="" descr=""/>
            <p:cNvPicPr/>
            <p:nvPr/>
          </p:nvPicPr>
          <p:blipFill>
            <a:blip r:embed="rId10"/>
            <a:stretch/>
          </p:blipFill>
          <p:spPr>
            <a:xfrm>
              <a:off x="3920760" y="3779280"/>
              <a:ext cx="1268280" cy="109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3851280" y="3573360"/>
              <a:ext cx="1409760" cy="15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435640" y="3645000"/>
            <a:ext cx="1553760" cy="1514520"/>
            <a:chOff x="5435640" y="3645000"/>
            <a:chExt cx="1553760" cy="1514520"/>
          </a:xfrm>
        </p:grpSpPr>
        <p:pic>
          <p:nvPicPr>
            <p:cNvPr id="279" name="" descr=""/>
            <p:cNvPicPr/>
            <p:nvPr/>
          </p:nvPicPr>
          <p:blipFill>
            <a:blip r:embed="rId11"/>
            <a:stretch/>
          </p:blipFill>
          <p:spPr>
            <a:xfrm>
              <a:off x="5591160" y="3713040"/>
              <a:ext cx="1252800" cy="13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5435640" y="3645000"/>
              <a:ext cx="1553760" cy="15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>
            <a:hlinkClick r:id="rId12" action="ppaction://hlinksldjump"/>
          </p:cNvPr>
          <p:cNvSpPr/>
          <p:nvPr/>
        </p:nvSpPr>
        <p:spPr>
          <a:xfrm>
            <a:off x="8317080" y="6021360"/>
            <a:ext cx="539640" cy="61128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611280"/>
              <a:gd name="textAreaBottom" fmla="*/ 576360 h 611280"/>
            </a:gdLst>
            <a:ahLst/>
            <a:rect l="textAreaLeft" t="textAreaTop" r="textAreaRight" b="textAreaBottom"/>
            <a:pathLst>
              <a:path w="21600" h="24466">
                <a:moveTo>
                  <a:pt x="0" y="0"/>
                </a:moveTo>
                <a:lnTo>
                  <a:pt x="21600" y="0"/>
                </a:lnTo>
                <a:lnTo>
                  <a:pt x="21600" y="24466"/>
                </a:lnTo>
                <a:lnTo>
                  <a:pt x="0" y="24466"/>
                </a:lnTo>
                <a:close/>
              </a:path>
              <a:path fill="lightenLess" w="21600" h="244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66">
                <a:moveTo>
                  <a:pt x="21600" y="0"/>
                </a:moveTo>
                <a:lnTo>
                  <a:pt x="21600" y="24466"/>
                </a:lnTo>
                <a:lnTo>
                  <a:pt x="20200" y="23066"/>
                </a:lnTo>
                <a:lnTo>
                  <a:pt x="20200" y="1400"/>
                </a:lnTo>
                <a:close/>
              </a:path>
              <a:path fill="darkenLess" w="21600" h="24466">
                <a:moveTo>
                  <a:pt x="21600" y="24466"/>
                </a:moveTo>
                <a:lnTo>
                  <a:pt x="0" y="24466"/>
                </a:lnTo>
                <a:lnTo>
                  <a:pt x="1400" y="23066"/>
                </a:lnTo>
                <a:lnTo>
                  <a:pt x="20200" y="23066"/>
                </a:lnTo>
                <a:close/>
              </a:path>
              <a:path fill="lighten" w="21600" h="24466">
                <a:moveTo>
                  <a:pt x="0" y="244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66"/>
                </a:lnTo>
                <a:close/>
              </a:path>
              <a:path fill="darken" w="21600" h="24466">
                <a:moveTo>
                  <a:pt x="10800" y="5270"/>
                </a:moveTo>
                <a:lnTo>
                  <a:pt x="13376" y="7881"/>
                </a:lnTo>
                <a:lnTo>
                  <a:pt x="13376" y="6140"/>
                </a:lnTo>
                <a:lnTo>
                  <a:pt x="15152" y="6140"/>
                </a:lnTo>
                <a:lnTo>
                  <a:pt x="15152" y="9657"/>
                </a:lnTo>
                <a:lnTo>
                  <a:pt x="17763" y="12233"/>
                </a:lnTo>
                <a:lnTo>
                  <a:pt x="16109" y="12233"/>
                </a:lnTo>
                <a:lnTo>
                  <a:pt x="16109" y="19422"/>
                </a:lnTo>
                <a:lnTo>
                  <a:pt x="5491" y="19422"/>
                </a:lnTo>
                <a:lnTo>
                  <a:pt x="5491" y="12233"/>
                </a:lnTo>
                <a:lnTo>
                  <a:pt x="3837" y="12233"/>
                </a:lnTo>
                <a:close/>
              </a:path>
              <a:path fill="darkenLess" w="21600" h="24466">
                <a:moveTo>
                  <a:pt x="13376" y="7881"/>
                </a:moveTo>
                <a:lnTo>
                  <a:pt x="13376" y="6140"/>
                </a:lnTo>
                <a:lnTo>
                  <a:pt x="15152" y="6140"/>
                </a:lnTo>
                <a:lnTo>
                  <a:pt x="15152" y="9657"/>
                </a:lnTo>
                <a:close/>
              </a:path>
              <a:path fill="darkenLess" w="21600" h="24466">
                <a:moveTo>
                  <a:pt x="9877" y="15732"/>
                </a:moveTo>
                <a:lnTo>
                  <a:pt x="11723" y="15732"/>
                </a:lnTo>
                <a:lnTo>
                  <a:pt x="11723" y="19422"/>
                </a:lnTo>
                <a:lnTo>
                  <a:pt x="16109" y="19422"/>
                </a:lnTo>
                <a:lnTo>
                  <a:pt x="16109" y="12233"/>
                </a:lnTo>
                <a:lnTo>
                  <a:pt x="5491" y="12233"/>
                </a:lnTo>
                <a:lnTo>
                  <a:pt x="5491" y="19422"/>
                </a:lnTo>
                <a:lnTo>
                  <a:pt x="9877" y="1942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3"/>
          <a:stretch/>
        </p:blipFill>
        <p:spPr>
          <a:xfrm>
            <a:off x="3780000" y="2276640"/>
            <a:ext cx="1512720" cy="1253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14"/>
          <a:stretch/>
        </p:blipFill>
        <p:spPr>
          <a:xfrm>
            <a:off x="2195640" y="5445000"/>
            <a:ext cx="1296720" cy="12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68 -0.03264 L -0.19393 -0.67315 E">
                                      <p:cBhvr>
                                        <p:cTn id="190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ведёт поез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светит днё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называется человек, который пасёт стад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 покрыто тело кошки, соба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м другим словом можно назвать маленькие баран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и прослушали рассказ и рассмеялись. Какой был рассказ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называются маленькие крапинки на лиц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называется дорога, по которой едут машин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7236000" y="5300640"/>
            <a:ext cx="1630080" cy="12636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611280" y="0"/>
            <a:ext cx="777708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тветьте на вопрос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пределите налич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 место звуков в слова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5580000" y="1197000"/>
            <a:ext cx="2962440" cy="14842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4427640" y="2637000"/>
            <a:ext cx="1512720" cy="16556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250920" y="4581360"/>
            <a:ext cx="1538280" cy="18259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5"/>
          <a:stretch/>
        </p:blipFill>
        <p:spPr>
          <a:xfrm>
            <a:off x="755640" y="1125360"/>
            <a:ext cx="1806480" cy="15782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6"/>
          <a:stretch/>
        </p:blipFill>
        <p:spPr>
          <a:xfrm>
            <a:off x="1979640" y="2781360"/>
            <a:ext cx="1152360" cy="14414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7"/>
          <a:stretch/>
        </p:blipFill>
        <p:spPr>
          <a:xfrm>
            <a:off x="3492360" y="1197000"/>
            <a:ext cx="1251000" cy="11811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8"/>
          <a:stretch/>
        </p:blipFill>
        <p:spPr>
          <a:xfrm>
            <a:off x="5651640" y="4076640"/>
            <a:ext cx="3198600" cy="23767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9"/>
          <a:stretch/>
        </p:blipFill>
        <p:spPr>
          <a:xfrm>
            <a:off x="3203640" y="4437000"/>
            <a:ext cx="2071800" cy="18925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826920" y="0"/>
            <a:ext cx="763272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Назовите картинки 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Найдите звук «с» в словах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4572000" y="1125000"/>
            <a:ext cx="4038480" cy="60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олс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уд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4932360" y="1628640"/>
            <a:ext cx="2943360" cy="41022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1547640" y="1628640"/>
            <a:ext cx="1630440" cy="4227480"/>
          </a:xfrm>
          <a:prstGeom prst="rect">
            <a:avLst/>
          </a:prstGeom>
          <a:ln w="0">
            <a:noFill/>
          </a:ln>
        </p:spPr>
      </p:pic>
      <p:sp>
        <p:nvSpPr>
          <p:cNvPr id="300" name="">
            <a:hlinkClick r:id="rId4" action="ppaction://hlinksldjump"/>
          </p:cNvPr>
          <p:cNvSpPr/>
          <p:nvPr/>
        </p:nvSpPr>
        <p:spPr>
          <a:xfrm>
            <a:off x="8459640" y="6021360"/>
            <a:ext cx="540000" cy="61128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611280"/>
              <a:gd name="textAreaBottom" fmla="*/ 576360 h 611280"/>
            </a:gdLst>
            <a:ahLst/>
            <a:rect l="textAreaLeft" t="textAreaTop" r="textAreaRight" b="textAreaBottom"/>
            <a:pathLst>
              <a:path w="21600" h="24449">
                <a:moveTo>
                  <a:pt x="0" y="0"/>
                </a:moveTo>
                <a:lnTo>
                  <a:pt x="21600" y="0"/>
                </a:lnTo>
                <a:lnTo>
                  <a:pt x="21600" y="24449"/>
                </a:lnTo>
                <a:lnTo>
                  <a:pt x="0" y="24449"/>
                </a:lnTo>
                <a:close/>
              </a:path>
              <a:path fill="lightenLess" w="21600" h="244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49">
                <a:moveTo>
                  <a:pt x="21600" y="0"/>
                </a:moveTo>
                <a:lnTo>
                  <a:pt x="21600" y="24449"/>
                </a:lnTo>
                <a:lnTo>
                  <a:pt x="20200" y="23049"/>
                </a:lnTo>
                <a:lnTo>
                  <a:pt x="20200" y="1400"/>
                </a:lnTo>
                <a:close/>
              </a:path>
              <a:path fill="darkenLess" w="21600" h="24449">
                <a:moveTo>
                  <a:pt x="21600" y="24449"/>
                </a:moveTo>
                <a:lnTo>
                  <a:pt x="0" y="24449"/>
                </a:lnTo>
                <a:lnTo>
                  <a:pt x="1400" y="23049"/>
                </a:lnTo>
                <a:lnTo>
                  <a:pt x="20200" y="23049"/>
                </a:lnTo>
                <a:close/>
              </a:path>
              <a:path fill="lighten" w="21600" h="24449">
                <a:moveTo>
                  <a:pt x="0" y="244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49"/>
                </a:lnTo>
                <a:close/>
              </a:path>
              <a:path fill="darken" w="21600" h="24449">
                <a:moveTo>
                  <a:pt x="10800" y="5262"/>
                </a:moveTo>
                <a:lnTo>
                  <a:pt x="13376" y="7873"/>
                </a:lnTo>
                <a:lnTo>
                  <a:pt x="13376" y="6132"/>
                </a:lnTo>
                <a:lnTo>
                  <a:pt x="15152" y="6132"/>
                </a:lnTo>
                <a:lnTo>
                  <a:pt x="15152" y="9648"/>
                </a:lnTo>
                <a:lnTo>
                  <a:pt x="17763" y="12225"/>
                </a:lnTo>
                <a:lnTo>
                  <a:pt x="16109" y="12225"/>
                </a:lnTo>
                <a:lnTo>
                  <a:pt x="16109" y="19414"/>
                </a:lnTo>
                <a:lnTo>
                  <a:pt x="5491" y="19414"/>
                </a:lnTo>
                <a:lnTo>
                  <a:pt x="5491" y="12225"/>
                </a:lnTo>
                <a:lnTo>
                  <a:pt x="3837" y="12225"/>
                </a:lnTo>
                <a:close/>
              </a:path>
              <a:path fill="darkenLess" w="21600" h="24449">
                <a:moveTo>
                  <a:pt x="13376" y="7873"/>
                </a:moveTo>
                <a:lnTo>
                  <a:pt x="13376" y="6132"/>
                </a:lnTo>
                <a:lnTo>
                  <a:pt x="15152" y="6132"/>
                </a:lnTo>
                <a:lnTo>
                  <a:pt x="15152" y="9648"/>
                </a:lnTo>
                <a:close/>
              </a:path>
              <a:path fill="darkenLess" w="21600" h="24449">
                <a:moveTo>
                  <a:pt x="9877" y="15724"/>
                </a:moveTo>
                <a:lnTo>
                  <a:pt x="11723" y="15724"/>
                </a:lnTo>
                <a:lnTo>
                  <a:pt x="11723" y="19414"/>
                </a:lnTo>
                <a:lnTo>
                  <a:pt x="16109" y="19414"/>
                </a:lnTo>
                <a:lnTo>
                  <a:pt x="16109" y="12225"/>
                </a:lnTo>
                <a:lnTo>
                  <a:pt x="5491" y="12225"/>
                </a:lnTo>
                <a:lnTo>
                  <a:pt x="5491" y="19414"/>
                </a:lnTo>
                <a:lnTo>
                  <a:pt x="9877" y="1941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268360" y="0"/>
            <a:ext cx="482472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кажи наоборо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4038480" cy="56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ме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42920" y="549360"/>
            <a:ext cx="403884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усли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5219640" y="2638440"/>
            <a:ext cx="3924360" cy="25876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179280" y="2492280"/>
            <a:ext cx="4897440" cy="3005280"/>
          </a:xfrm>
          <a:prstGeom prst="rect">
            <a:avLst/>
          </a:prstGeom>
          <a:ln w="0">
            <a:noFill/>
          </a:ln>
        </p:spPr>
      </p:pic>
      <p:sp>
        <p:nvSpPr>
          <p:cNvPr id="306" name="">
            <a:hlinkClick r:id="rId4" action="ppaction://hlinksldjump"/>
          </p:cNvPr>
          <p:cNvSpPr/>
          <p:nvPr/>
        </p:nvSpPr>
        <p:spPr>
          <a:xfrm>
            <a:off x="8244000" y="6021360"/>
            <a:ext cx="539640" cy="61128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611280"/>
              <a:gd name="textAreaBottom" fmla="*/ 576360 h 611280"/>
            </a:gdLst>
            <a:ahLst/>
            <a:rect l="textAreaLeft" t="textAreaTop" r="textAreaRight" b="textAreaBottom"/>
            <a:pathLst>
              <a:path w="21600" h="24466">
                <a:moveTo>
                  <a:pt x="0" y="0"/>
                </a:moveTo>
                <a:lnTo>
                  <a:pt x="21600" y="0"/>
                </a:lnTo>
                <a:lnTo>
                  <a:pt x="21600" y="24466"/>
                </a:lnTo>
                <a:lnTo>
                  <a:pt x="0" y="24466"/>
                </a:lnTo>
                <a:close/>
              </a:path>
              <a:path fill="lightenLess" w="21600" h="244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66">
                <a:moveTo>
                  <a:pt x="21600" y="0"/>
                </a:moveTo>
                <a:lnTo>
                  <a:pt x="21600" y="24466"/>
                </a:lnTo>
                <a:lnTo>
                  <a:pt x="20200" y="23066"/>
                </a:lnTo>
                <a:lnTo>
                  <a:pt x="20200" y="1400"/>
                </a:lnTo>
                <a:close/>
              </a:path>
              <a:path fill="darkenLess" w="21600" h="24466">
                <a:moveTo>
                  <a:pt x="21600" y="24466"/>
                </a:moveTo>
                <a:lnTo>
                  <a:pt x="0" y="24466"/>
                </a:lnTo>
                <a:lnTo>
                  <a:pt x="1400" y="23066"/>
                </a:lnTo>
                <a:lnTo>
                  <a:pt x="20200" y="23066"/>
                </a:lnTo>
                <a:close/>
              </a:path>
              <a:path fill="lighten" w="21600" h="24466">
                <a:moveTo>
                  <a:pt x="0" y="244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66"/>
                </a:lnTo>
                <a:close/>
              </a:path>
              <a:path fill="darken" w="21600" h="24466">
                <a:moveTo>
                  <a:pt x="10800" y="5270"/>
                </a:moveTo>
                <a:lnTo>
                  <a:pt x="13376" y="7881"/>
                </a:lnTo>
                <a:lnTo>
                  <a:pt x="13376" y="6140"/>
                </a:lnTo>
                <a:lnTo>
                  <a:pt x="15152" y="6140"/>
                </a:lnTo>
                <a:lnTo>
                  <a:pt x="15152" y="9657"/>
                </a:lnTo>
                <a:lnTo>
                  <a:pt x="17763" y="12233"/>
                </a:lnTo>
                <a:lnTo>
                  <a:pt x="16109" y="12233"/>
                </a:lnTo>
                <a:lnTo>
                  <a:pt x="16109" y="19422"/>
                </a:lnTo>
                <a:lnTo>
                  <a:pt x="5491" y="19422"/>
                </a:lnTo>
                <a:lnTo>
                  <a:pt x="5491" y="12233"/>
                </a:lnTo>
                <a:lnTo>
                  <a:pt x="3837" y="12233"/>
                </a:lnTo>
                <a:close/>
              </a:path>
              <a:path fill="darkenLess" w="21600" h="24466">
                <a:moveTo>
                  <a:pt x="13376" y="7881"/>
                </a:moveTo>
                <a:lnTo>
                  <a:pt x="13376" y="6140"/>
                </a:lnTo>
                <a:lnTo>
                  <a:pt x="15152" y="6140"/>
                </a:lnTo>
                <a:lnTo>
                  <a:pt x="15152" y="9657"/>
                </a:lnTo>
                <a:close/>
              </a:path>
              <a:path fill="darkenLess" w="21600" h="24466">
                <a:moveTo>
                  <a:pt x="9877" y="15732"/>
                </a:moveTo>
                <a:lnTo>
                  <a:pt x="11723" y="15732"/>
                </a:lnTo>
                <a:lnTo>
                  <a:pt x="11723" y="19422"/>
                </a:lnTo>
                <a:lnTo>
                  <a:pt x="16109" y="19422"/>
                </a:lnTo>
                <a:lnTo>
                  <a:pt x="16109" y="12233"/>
                </a:lnTo>
                <a:lnTo>
                  <a:pt x="5491" y="12233"/>
                </a:lnTo>
                <a:lnTo>
                  <a:pt x="5491" y="19422"/>
                </a:lnTo>
                <a:lnTo>
                  <a:pt x="9877" y="1942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1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ряз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ис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2854440" cy="37004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5580000" y="1773360"/>
            <a:ext cx="3073320" cy="4039920"/>
          </a:xfrm>
          <a:prstGeom prst="rect">
            <a:avLst/>
          </a:prstGeom>
          <a:ln w="0">
            <a:noFill/>
          </a:ln>
        </p:spPr>
      </p:pic>
      <p:sp>
        <p:nvSpPr>
          <p:cNvPr id="311" name="">
            <a:hlinkClick r:id="rId4" action="ppaction://hlinksldjump"/>
          </p:cNvPr>
          <p:cNvSpPr/>
          <p:nvPr/>
        </p:nvSpPr>
        <p:spPr>
          <a:xfrm>
            <a:off x="8388360" y="6165720"/>
            <a:ext cx="431640" cy="4669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920"/>
              <a:gd name="textAreaBottom" fmla="*/ 439200 h 466920"/>
            </a:gdLst>
            <a:ahLst/>
            <a:rect l="textAreaLeft" t="textAreaTop" r="textAreaRight" b="textAreaBottom"/>
            <a:pathLst>
              <a:path w="21600" h="23364">
                <a:moveTo>
                  <a:pt x="0" y="0"/>
                </a:moveTo>
                <a:lnTo>
                  <a:pt x="21600" y="0"/>
                </a:lnTo>
                <a:lnTo>
                  <a:pt x="21600" y="23364"/>
                </a:lnTo>
                <a:lnTo>
                  <a:pt x="0" y="23364"/>
                </a:lnTo>
                <a:close/>
              </a:path>
              <a:path fill="lightenLess" w="21600" h="233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64">
                <a:moveTo>
                  <a:pt x="21600" y="0"/>
                </a:moveTo>
                <a:lnTo>
                  <a:pt x="21600" y="23364"/>
                </a:lnTo>
                <a:lnTo>
                  <a:pt x="20200" y="21964"/>
                </a:lnTo>
                <a:lnTo>
                  <a:pt x="20200" y="1400"/>
                </a:lnTo>
                <a:close/>
              </a:path>
              <a:path fill="darkenLess" w="21600" h="23364">
                <a:moveTo>
                  <a:pt x="21600" y="23364"/>
                </a:moveTo>
                <a:lnTo>
                  <a:pt x="0" y="23364"/>
                </a:lnTo>
                <a:lnTo>
                  <a:pt x="1400" y="21964"/>
                </a:lnTo>
                <a:lnTo>
                  <a:pt x="20200" y="21964"/>
                </a:lnTo>
                <a:close/>
              </a:path>
              <a:path fill="lighten" w="21600" h="23364">
                <a:moveTo>
                  <a:pt x="0" y="233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64"/>
                </a:lnTo>
                <a:close/>
              </a:path>
              <a:path fill="darken" w="21600" h="23364">
                <a:moveTo>
                  <a:pt x="10800" y="4719"/>
                </a:moveTo>
                <a:lnTo>
                  <a:pt x="13376" y="7330"/>
                </a:lnTo>
                <a:lnTo>
                  <a:pt x="13376" y="5589"/>
                </a:lnTo>
                <a:lnTo>
                  <a:pt x="15152" y="5589"/>
                </a:lnTo>
                <a:lnTo>
                  <a:pt x="15152" y="9106"/>
                </a:lnTo>
                <a:lnTo>
                  <a:pt x="17763" y="11682"/>
                </a:lnTo>
                <a:lnTo>
                  <a:pt x="16109" y="11682"/>
                </a:lnTo>
                <a:lnTo>
                  <a:pt x="16109" y="18871"/>
                </a:lnTo>
                <a:lnTo>
                  <a:pt x="5491" y="18871"/>
                </a:lnTo>
                <a:lnTo>
                  <a:pt x="5491" y="11682"/>
                </a:lnTo>
                <a:lnTo>
                  <a:pt x="3837" y="11682"/>
                </a:lnTo>
                <a:close/>
              </a:path>
              <a:path fill="darkenLess" w="21600" h="23364">
                <a:moveTo>
                  <a:pt x="13376" y="7330"/>
                </a:moveTo>
                <a:lnTo>
                  <a:pt x="13376" y="5589"/>
                </a:lnTo>
                <a:lnTo>
                  <a:pt x="15152" y="5589"/>
                </a:lnTo>
                <a:lnTo>
                  <a:pt x="15152" y="9106"/>
                </a:lnTo>
                <a:close/>
              </a:path>
              <a:path fill="darkenLess" w="21600" h="23364">
                <a:moveTo>
                  <a:pt x="9877" y="15181"/>
                </a:moveTo>
                <a:lnTo>
                  <a:pt x="11723" y="15181"/>
                </a:lnTo>
                <a:lnTo>
                  <a:pt x="11723" y="18871"/>
                </a:lnTo>
                <a:lnTo>
                  <a:pt x="16109" y="18871"/>
                </a:lnTo>
                <a:lnTo>
                  <a:pt x="16109" y="11682"/>
                </a:lnTo>
                <a:lnTo>
                  <a:pt x="5491" y="11682"/>
                </a:lnTo>
                <a:lnTo>
                  <a:pt x="5491" y="18871"/>
                </a:lnTo>
                <a:lnTo>
                  <a:pt x="9877" y="1887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окр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ух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4032360" cy="37623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5940360" y="1700280"/>
            <a:ext cx="2097000" cy="388764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rId4" action="ppaction://hlinksldjump"/>
          </p:cNvPr>
          <p:cNvSpPr/>
          <p:nvPr/>
        </p:nvSpPr>
        <p:spPr>
          <a:xfrm>
            <a:off x="8317080" y="6021360"/>
            <a:ext cx="539640" cy="61128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611280"/>
              <a:gd name="textAreaBottom" fmla="*/ 576360 h 611280"/>
            </a:gdLst>
            <a:ahLst/>
            <a:rect l="textAreaLeft" t="textAreaTop" r="textAreaRight" b="textAreaBottom"/>
            <a:pathLst>
              <a:path w="21600" h="24466">
                <a:moveTo>
                  <a:pt x="0" y="0"/>
                </a:moveTo>
                <a:lnTo>
                  <a:pt x="21600" y="0"/>
                </a:lnTo>
                <a:lnTo>
                  <a:pt x="21600" y="24466"/>
                </a:lnTo>
                <a:lnTo>
                  <a:pt x="0" y="24466"/>
                </a:lnTo>
                <a:close/>
              </a:path>
              <a:path fill="lightenLess" w="21600" h="244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66">
                <a:moveTo>
                  <a:pt x="21600" y="0"/>
                </a:moveTo>
                <a:lnTo>
                  <a:pt x="21600" y="24466"/>
                </a:lnTo>
                <a:lnTo>
                  <a:pt x="20200" y="23066"/>
                </a:lnTo>
                <a:lnTo>
                  <a:pt x="20200" y="1400"/>
                </a:lnTo>
                <a:close/>
              </a:path>
              <a:path fill="darkenLess" w="21600" h="24466">
                <a:moveTo>
                  <a:pt x="21600" y="24466"/>
                </a:moveTo>
                <a:lnTo>
                  <a:pt x="0" y="24466"/>
                </a:lnTo>
                <a:lnTo>
                  <a:pt x="1400" y="23066"/>
                </a:lnTo>
                <a:lnTo>
                  <a:pt x="20200" y="23066"/>
                </a:lnTo>
                <a:close/>
              </a:path>
              <a:path fill="lighten" w="21600" h="24466">
                <a:moveTo>
                  <a:pt x="0" y="244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66"/>
                </a:lnTo>
                <a:close/>
              </a:path>
              <a:path fill="darken" w="21600" h="24466">
                <a:moveTo>
                  <a:pt x="10800" y="5270"/>
                </a:moveTo>
                <a:lnTo>
                  <a:pt x="13376" y="7881"/>
                </a:lnTo>
                <a:lnTo>
                  <a:pt x="13376" y="6140"/>
                </a:lnTo>
                <a:lnTo>
                  <a:pt x="15152" y="6140"/>
                </a:lnTo>
                <a:lnTo>
                  <a:pt x="15152" y="9657"/>
                </a:lnTo>
                <a:lnTo>
                  <a:pt x="17763" y="12233"/>
                </a:lnTo>
                <a:lnTo>
                  <a:pt x="16109" y="12233"/>
                </a:lnTo>
                <a:lnTo>
                  <a:pt x="16109" y="19422"/>
                </a:lnTo>
                <a:lnTo>
                  <a:pt x="5491" y="19422"/>
                </a:lnTo>
                <a:lnTo>
                  <a:pt x="5491" y="12233"/>
                </a:lnTo>
                <a:lnTo>
                  <a:pt x="3837" y="12233"/>
                </a:lnTo>
                <a:close/>
              </a:path>
              <a:path fill="darkenLess" w="21600" h="24466">
                <a:moveTo>
                  <a:pt x="13376" y="7881"/>
                </a:moveTo>
                <a:lnTo>
                  <a:pt x="13376" y="6140"/>
                </a:lnTo>
                <a:lnTo>
                  <a:pt x="15152" y="6140"/>
                </a:lnTo>
                <a:lnTo>
                  <a:pt x="15152" y="9657"/>
                </a:lnTo>
                <a:close/>
              </a:path>
              <a:path fill="darkenLess" w="21600" h="24466">
                <a:moveTo>
                  <a:pt x="9877" y="15732"/>
                </a:moveTo>
                <a:lnTo>
                  <a:pt x="11723" y="15732"/>
                </a:lnTo>
                <a:lnTo>
                  <a:pt x="11723" y="19422"/>
                </a:lnTo>
                <a:lnTo>
                  <a:pt x="16109" y="19422"/>
                </a:lnTo>
                <a:lnTo>
                  <a:pt x="16109" y="12233"/>
                </a:lnTo>
                <a:lnTo>
                  <a:pt x="5491" y="12233"/>
                </a:lnTo>
                <a:lnTo>
                  <a:pt x="5491" y="19422"/>
                </a:lnTo>
                <a:lnTo>
                  <a:pt x="9877" y="1942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D:\Каталог картинок\С\BIT04~17 G.gif"/>
          <p:cNvPicPr/>
          <p:nvPr/>
        </p:nvPicPr>
        <p:blipFill>
          <a:blip r:embed="rId2"/>
          <a:stretch/>
        </p:blipFill>
        <p:spPr>
          <a:xfrm>
            <a:off x="142920" y="242892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D:\Каталог картинок\С\BIT04~17 G.gif"/>
          <p:cNvPicPr/>
          <p:nvPr/>
        </p:nvPicPr>
        <p:blipFill>
          <a:blip r:embed="rId3"/>
          <a:stretch/>
        </p:blipFill>
        <p:spPr>
          <a:xfrm>
            <a:off x="6500880" y="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D:\Каталог картинок\С\BIT04~17 G.gif"/>
          <p:cNvPicPr/>
          <p:nvPr/>
        </p:nvPicPr>
        <p:blipFill>
          <a:blip r:embed="rId4"/>
          <a:stretch/>
        </p:blipFill>
        <p:spPr>
          <a:xfrm>
            <a:off x="6643800" y="2857680"/>
            <a:ext cx="2500200" cy="25002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D:\Каталог картинок\С\BIT04~17 G.gif"/>
          <p:cNvPicPr/>
          <p:nvPr/>
        </p:nvPicPr>
        <p:blipFill>
          <a:blip r:embed="rId5"/>
          <a:stretch/>
        </p:blipFill>
        <p:spPr>
          <a:xfrm>
            <a:off x="4286160" y="1571760"/>
            <a:ext cx="2571840" cy="25714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D:\Каталог картинок\С\BIT04~17 G.gif"/>
          <p:cNvPicPr/>
          <p:nvPr/>
        </p:nvPicPr>
        <p:blipFill>
          <a:blip r:embed="rId6"/>
          <a:stretch/>
        </p:blipFill>
        <p:spPr>
          <a:xfrm>
            <a:off x="4357800" y="4000680"/>
            <a:ext cx="2571480" cy="25714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1763640" y="404640"/>
            <a:ext cx="475308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дин-м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D:\Каталог картинок\Н\CLTH015 п 1.gif"/>
          <p:cNvPicPr/>
          <p:nvPr/>
        </p:nvPicPr>
        <p:blipFill>
          <a:blip r:embed="rId2"/>
          <a:stretch/>
        </p:blipFill>
        <p:spPr>
          <a:xfrm>
            <a:off x="428760" y="2286000"/>
            <a:ext cx="2928960" cy="28576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D:\Каталог картинок\Н\CLTH015 п.gif"/>
          <p:cNvPicPr/>
          <p:nvPr/>
        </p:nvPicPr>
        <p:blipFill>
          <a:blip r:embed="rId3"/>
          <a:stretch/>
        </p:blipFill>
        <p:spPr>
          <a:xfrm>
            <a:off x="5786280" y="35712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D:\Каталог картинок\Н\CLTH015 п.gif"/>
          <p:cNvPicPr/>
          <p:nvPr/>
        </p:nvPicPr>
        <p:blipFill>
          <a:blip r:embed="rId4"/>
          <a:stretch/>
        </p:blipFill>
        <p:spPr>
          <a:xfrm>
            <a:off x="5643720" y="364320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D:\Каталог картинок\Л\WETH0017 G.gif"/>
          <p:cNvPicPr/>
          <p:nvPr/>
        </p:nvPicPr>
        <p:blipFill>
          <a:blip r:embed="rId2"/>
          <a:stretch/>
        </p:blipFill>
        <p:spPr>
          <a:xfrm>
            <a:off x="5929200" y="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" descr="D:\Каталог картинок\Л\WETH0017 G.gif"/>
          <p:cNvPicPr/>
          <p:nvPr/>
        </p:nvPicPr>
        <p:blipFill>
          <a:blip r:embed="rId3"/>
          <a:stretch/>
        </p:blipFill>
        <p:spPr>
          <a:xfrm>
            <a:off x="3929040" y="10717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D:\Каталог картинок\Л\WETH0017 G.gif"/>
          <p:cNvPicPr/>
          <p:nvPr/>
        </p:nvPicPr>
        <p:blipFill>
          <a:blip r:embed="rId4"/>
          <a:stretch/>
        </p:blipFill>
        <p:spPr>
          <a:xfrm>
            <a:off x="6286680" y="335772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D:\Каталог картинок\Л\WETH0017 G.gif"/>
          <p:cNvPicPr/>
          <p:nvPr/>
        </p:nvPicPr>
        <p:blipFill>
          <a:blip r:embed="rId5"/>
          <a:stretch/>
        </p:blipFill>
        <p:spPr>
          <a:xfrm>
            <a:off x="4000680" y="400068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D:\Каталог картинок\Л\WETH0017 G.gif"/>
          <p:cNvPicPr/>
          <p:nvPr/>
        </p:nvPicPr>
        <p:blipFill>
          <a:blip r:embed="rId6"/>
          <a:stretch/>
        </p:blipFill>
        <p:spPr>
          <a:xfrm>
            <a:off x="357120" y="2000160"/>
            <a:ext cx="29289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"На занятии наши глаза смотрят и все видят, уши слушают и все слышат, руки не мешают, а только помогают,  голова – думает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Итак: чтобы начать наше занятие, давайте отгадаем загад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С кем Мороз играет в прят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В белой шубке, в белой шап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Знают все его дочурк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И зовут ее … «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Снегурка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16000" y="260280"/>
            <a:ext cx="6696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рганизационный моме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D:\Каталог картинок\С\OBJ239 п.gif"/>
          <p:cNvPicPr/>
          <p:nvPr/>
        </p:nvPicPr>
        <p:blipFill>
          <a:blip r:embed="rId2"/>
          <a:stretch/>
        </p:blipFill>
        <p:spPr>
          <a:xfrm>
            <a:off x="6072120" y="28584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D:\Каталог картинок\С\OBJ239 п.gif"/>
          <p:cNvPicPr/>
          <p:nvPr/>
        </p:nvPicPr>
        <p:blipFill>
          <a:blip r:embed="rId3"/>
          <a:stretch/>
        </p:blipFill>
        <p:spPr>
          <a:xfrm>
            <a:off x="3571920" y="92880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D:\Каталог картинок\С\OBJ239 п.gif"/>
          <p:cNvPicPr/>
          <p:nvPr/>
        </p:nvPicPr>
        <p:blipFill>
          <a:blip r:embed="rId4"/>
          <a:stretch/>
        </p:blipFill>
        <p:spPr>
          <a:xfrm>
            <a:off x="6072120" y="314316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D:\Каталог картинок\С\OBJ239 п.gif"/>
          <p:cNvPicPr/>
          <p:nvPr/>
        </p:nvPicPr>
        <p:blipFill>
          <a:blip r:embed="rId5"/>
          <a:stretch/>
        </p:blipFill>
        <p:spPr>
          <a:xfrm>
            <a:off x="3643200" y="40006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6" descr="D:\Каталог картинок\С\OBJ239 п.gif"/>
          <p:cNvPicPr/>
          <p:nvPr/>
        </p:nvPicPr>
        <p:blipFill>
          <a:blip r:embed="rId6"/>
          <a:stretch/>
        </p:blipFill>
        <p:spPr>
          <a:xfrm>
            <a:off x="214200" y="2000160"/>
            <a:ext cx="27147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D:\Каталог картинок\С\TABLE002 п.gif"/>
          <p:cNvPicPr/>
          <p:nvPr/>
        </p:nvPicPr>
        <p:blipFill>
          <a:blip r:embed="rId2"/>
          <a:stretch/>
        </p:blipFill>
        <p:spPr>
          <a:xfrm>
            <a:off x="1332000" y="189000"/>
            <a:ext cx="6286320" cy="6286320"/>
          </a:xfrm>
          <a:prstGeom prst="rect">
            <a:avLst/>
          </a:prstGeom>
          <a:ln w="0">
            <a:noFill/>
          </a:ln>
        </p:spPr>
      </p:pic>
      <p:pic>
        <p:nvPicPr>
          <p:cNvPr id="337" name="Прямоугольник 2" descr=""/>
          <p:cNvPicPr/>
          <p:nvPr/>
        </p:nvPicPr>
        <p:blipFill>
          <a:blip r:embed="rId3"/>
          <a:stretch/>
        </p:blipFill>
        <p:spPr>
          <a:xfrm>
            <a:off x="5962680" y="6267600"/>
            <a:ext cx="3303720" cy="925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755640" y="0"/>
            <a:ext cx="748836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тветь полным предложени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D:\Каталог картинок\Семья (2)\BOSAI004 п.gif"/>
          <p:cNvPicPr/>
          <p:nvPr/>
        </p:nvPicPr>
        <p:blipFill>
          <a:blip r:embed="rId2"/>
          <a:stretch/>
        </p:blipFill>
        <p:spPr>
          <a:xfrm>
            <a:off x="1500120" y="500040"/>
            <a:ext cx="5786640" cy="5786640"/>
          </a:xfrm>
          <a:prstGeom prst="rect">
            <a:avLst/>
          </a:prstGeom>
          <a:ln w="0">
            <a:noFill/>
          </a:ln>
        </p:spPr>
      </p:pic>
      <p:pic>
        <p:nvPicPr>
          <p:cNvPr id="340" name="Прямоугольник 2" descr=""/>
          <p:cNvPicPr/>
          <p:nvPr/>
        </p:nvPicPr>
        <p:blipFill>
          <a:blip r:embed="rId3"/>
          <a:stretch/>
        </p:blipFill>
        <p:spPr>
          <a:xfrm>
            <a:off x="4565520" y="6267600"/>
            <a:ext cx="4694400" cy="92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0" descr="OWL1A"/>
          <p:cNvPicPr/>
          <p:nvPr/>
        </p:nvPicPr>
        <p:blipFill>
          <a:blip r:embed="rId2"/>
          <a:stretch/>
        </p:blipFill>
        <p:spPr>
          <a:xfrm>
            <a:off x="2340000" y="836640"/>
            <a:ext cx="4103640" cy="43927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067280" y="5734080"/>
            <a:ext cx="4066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чем сидит сова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Cloud"/>
          <p:cNvSpPr/>
          <p:nvPr/>
        </p:nvSpPr>
        <p:spPr>
          <a:xfrm>
            <a:off x="324000" y="1197000"/>
            <a:ext cx="2531880" cy="1838160"/>
          </a:xfrm>
          <a:prstGeom prst="pie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4000" spc="-1" strike="noStrike">
                <a:solidFill>
                  <a:srgbClr val="333399"/>
                </a:solidFill>
                <a:latin typeface="Times New Roman"/>
              </a:rPr>
              <a:t>С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Cloud"/>
          <p:cNvSpPr/>
          <p:nvPr/>
        </p:nvSpPr>
        <p:spPr>
          <a:xfrm>
            <a:off x="5580000" y="1197000"/>
            <a:ext cx="2532240" cy="1838160"/>
          </a:xfrm>
          <a:prstGeom prst="pie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кс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Cloud"/>
          <p:cNvSpPr/>
          <p:nvPr/>
        </p:nvSpPr>
        <p:spPr>
          <a:xfrm>
            <a:off x="324000" y="4149720"/>
            <a:ext cx="2531880" cy="1838160"/>
          </a:xfrm>
          <a:prstGeom prst="pie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4000" spc="-1" strike="noStrike">
                <a:solidFill>
                  <a:srgbClr val="333399"/>
                </a:solidFill>
                <a:latin typeface="Times New Roman"/>
              </a:rPr>
              <a:t>С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14400" y="3429000"/>
            <a:ext cx="189864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93920" y="2435400"/>
            <a:ext cx="730440" cy="57600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219560" y="623880"/>
            <a:ext cx="0" cy="144792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4713120" y="852480"/>
            <a:ext cx="773280" cy="129528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5486400" y="2681280"/>
            <a:ext cx="1125360" cy="30492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5697360" y="3443400"/>
            <a:ext cx="182880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16560" y="4235400"/>
            <a:ext cx="531720" cy="36036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59280" y="2421000"/>
            <a:ext cx="2460600" cy="244800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438360" y="2811600"/>
            <a:ext cx="703440" cy="6886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51280" y="3573360"/>
            <a:ext cx="798480" cy="5763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3988440" y="3939120"/>
            <a:ext cx="358560" cy="1065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340" y="1629"/>
                  <a:pt x="9079" y="5080"/>
                  <a:pt x="9079" y="10800"/>
                </a:cubicBezTo>
                <a:cubicBezTo>
                  <a:pt x="9079" y="16520"/>
                  <a:pt x="15340" y="1997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rot="523200">
            <a:off x="3708360" y="2997000"/>
            <a:ext cx="331920" cy="438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2093400" y="4724280"/>
            <a:ext cx="1395720" cy="158436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890440" y="4941720"/>
            <a:ext cx="731880" cy="165600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095480" y="2722680"/>
            <a:ext cx="1728720" cy="43344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2757600" y="4508280"/>
            <a:ext cx="398520" cy="36036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2425680" y="4005000"/>
            <a:ext cx="465120" cy="21564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896760" y="3715920"/>
            <a:ext cx="1994040" cy="28908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24040" y="2219400"/>
            <a:ext cx="532080" cy="57636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492280" y="922320"/>
            <a:ext cx="863640" cy="165744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687840" y="851040"/>
            <a:ext cx="333360" cy="136836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90960" y="995400"/>
            <a:ext cx="596880" cy="144000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4419720" y="850680"/>
            <a:ext cx="266760" cy="136836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4951440" y="1929960"/>
            <a:ext cx="398520" cy="50508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5349960" y="2506680"/>
            <a:ext cx="333360" cy="28908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5616720" y="2937960"/>
            <a:ext cx="1793880" cy="28908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83320" y="3730680"/>
            <a:ext cx="1727280" cy="14436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549760" y="3948120"/>
            <a:ext cx="1729080" cy="43164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820680" y="5084640"/>
            <a:ext cx="133560" cy="122400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4427280" y="5229000"/>
            <a:ext cx="266760" cy="115236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4752720" y="4941360"/>
            <a:ext cx="796680" cy="129564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951440" y="4653000"/>
            <a:ext cx="333360" cy="36036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5216400" y="4437000"/>
            <a:ext cx="200160" cy="21600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368960" y="2830680"/>
            <a:ext cx="703080" cy="6886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rot="523200">
            <a:off x="4500360" y="2997000"/>
            <a:ext cx="331560" cy="438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Cloud"/>
          <p:cNvSpPr/>
          <p:nvPr/>
        </p:nvSpPr>
        <p:spPr>
          <a:xfrm>
            <a:off x="5508720" y="4005360"/>
            <a:ext cx="2531880" cy="1838160"/>
          </a:xfrm>
          <a:prstGeom prst="pie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ст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2050920" y="0"/>
            <a:ext cx="4681800" cy="103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РОЧИТАЙ СЛОГ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3" descr="2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71640" y="2492280"/>
            <a:ext cx="3168720" cy="31687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1619280" y="620640"/>
            <a:ext cx="5977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МОЛОДЦЫ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77058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ая первая буква в слове «Снегурка»? – правильно С, и Вы уже наверное догадались, что на этом занятии мы будем говорить о букве и звуке 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Картинка 6 из 96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0360" y="3716280"/>
            <a:ext cx="2067120" cy="2873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826920" y="3789360"/>
            <a:ext cx="460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 как свистит свисток                 : с – с – 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Уклад органов артикуляции с опорой на профиль артикуляции и зеркал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бы в улыбке, зубы сближены,  кончик широкого языка опущен вниз и упирается в нижние резцы, холодный воздух плавно выходит через рот, звук произносится твёрдо, «голосовой моторчик» не работает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img096" descr=""/>
          <p:cNvPicPr/>
          <p:nvPr/>
        </p:nvPicPr>
        <p:blipFill>
          <a:blip r:embed="rId2"/>
          <a:stretch/>
        </p:blipFill>
        <p:spPr>
          <a:xfrm>
            <a:off x="5003640" y="1197000"/>
            <a:ext cx="1656000" cy="1558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1187280" y="260280"/>
            <a:ext cx="6913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Артикуляция зву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755640" y="549360"/>
            <a:ext cx="2860560" cy="38433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900000" y="4724280"/>
            <a:ext cx="39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аспластай язык пошир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Кончик к нижним зубкам бли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осредине язы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труйку воздуха пуска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Улыбнись и просви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«ССС» произнес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427640" y="404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Характеристика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звука 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40360" y="1197000"/>
            <a:ext cx="3176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огласный, свистящий, твердый, глухой зв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476360" y="1628640"/>
            <a:ext cx="194472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вук</a:t>
            </a:r>
            <a:endParaRPr b="0" lang="en-US" sz="2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796000" y="1628640"/>
            <a:ext cx="1657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уква </a:t>
            </a:r>
            <a:endParaRPr b="0" lang="en-US" sz="2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979640" y="2852640"/>
            <a:ext cx="20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ыши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908000" y="4149720"/>
            <a:ext cx="24480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износи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948360" y="2852640"/>
            <a:ext cx="194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дим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7093080" y="5157720"/>
            <a:ext cx="1800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итаем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4932360" y="3735360"/>
            <a:ext cx="1800360" cy="9669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7"/>
          <a:stretch/>
        </p:blipFill>
        <p:spPr>
          <a:xfrm>
            <a:off x="4788000" y="5022720"/>
            <a:ext cx="1757160" cy="8557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4859280" y="2924280"/>
            <a:ext cx="1585800" cy="495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9"/>
          <a:stretch/>
        </p:blipFill>
        <p:spPr>
          <a:xfrm>
            <a:off x="468360" y="2781360"/>
            <a:ext cx="717480" cy="7999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0"/>
          <a:stretch/>
        </p:blipFill>
        <p:spPr>
          <a:xfrm>
            <a:off x="250920" y="4149720"/>
            <a:ext cx="1257120" cy="6667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7164360" y="4005360"/>
            <a:ext cx="1438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иши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419640" y="1557360"/>
            <a:ext cx="2193840" cy="287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35800" y="3500280"/>
            <a:ext cx="3190680" cy="273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7520" y="3429000"/>
            <a:ext cx="3190680" cy="27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774960" y="5086440"/>
            <a:ext cx="1662120" cy="1439640"/>
          </a:xfrm>
          <a:custGeom>
            <a:avLst/>
            <a:gdLst>
              <a:gd name="textAreaLeft" fmla="*/ 379440 w 1662120"/>
              <a:gd name="textAreaRight" fmla="*/ 1282680 w 166212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307040" y="5589720"/>
            <a:ext cx="531720" cy="503280"/>
          </a:xfrm>
          <a:custGeom>
            <a:avLst/>
            <a:gdLst>
              <a:gd name="textAreaLeft" fmla="*/ 121320 w 531720"/>
              <a:gd name="textAreaRight" fmla="*/ 410400 w 53172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443640" y="1484280"/>
            <a:ext cx="1662120" cy="1440000"/>
          </a:xfrm>
          <a:custGeom>
            <a:avLst/>
            <a:gdLst>
              <a:gd name="textAreaLeft" fmla="*/ 379440 w 1662120"/>
              <a:gd name="textAreaRight" fmla="*/ 1282680 w 166212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964200" y="1989000"/>
            <a:ext cx="532080" cy="503280"/>
          </a:xfrm>
          <a:custGeom>
            <a:avLst/>
            <a:gdLst>
              <a:gd name="textAreaLeft" fmla="*/ 121320 w 532080"/>
              <a:gd name="textAreaRight" fmla="*/ 410760 w 53208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00000" y="1413000"/>
            <a:ext cx="1662120" cy="1439640"/>
          </a:xfrm>
          <a:custGeom>
            <a:avLst/>
            <a:gdLst>
              <a:gd name="textAreaLeft" fmla="*/ 379440 w 1662120"/>
              <a:gd name="textAreaRight" fmla="*/ 1282680 w 166212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447920" y="1916280"/>
            <a:ext cx="531720" cy="502920"/>
          </a:xfrm>
          <a:custGeom>
            <a:avLst/>
            <a:gdLst>
              <a:gd name="textAreaLeft" fmla="*/ 121320 w 531720"/>
              <a:gd name="textAreaRight" fmla="*/ 410400 w 531720"/>
              <a:gd name="textAreaTop" fmla="*/ 114840 h 502920"/>
              <a:gd name="textAreaBottom" fmla="*/ 388080 h 50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0" y="1197000"/>
            <a:ext cx="1662120" cy="1440000"/>
          </a:xfrm>
          <a:custGeom>
            <a:avLst/>
            <a:gdLst>
              <a:gd name="textAreaLeft" fmla="*/ 379440 w 1662120"/>
              <a:gd name="textAreaRight" fmla="*/ 1282680 w 166212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81880" y="981000"/>
            <a:ext cx="1662120" cy="1440000"/>
          </a:xfrm>
          <a:custGeom>
            <a:avLst/>
            <a:gdLst>
              <a:gd name="textAreaLeft" fmla="*/ 379440 w 1662120"/>
              <a:gd name="textAreaRight" fmla="*/ 1282680 w 166212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8360" y="5877000"/>
            <a:ext cx="531720" cy="503280"/>
          </a:xfrm>
          <a:custGeom>
            <a:avLst/>
            <a:gdLst>
              <a:gd name="textAreaLeft" fmla="*/ 121320 w 531720"/>
              <a:gd name="textAreaRight" fmla="*/ 410400 w 53172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5418000"/>
            <a:ext cx="1662120" cy="1440000"/>
          </a:xfrm>
          <a:custGeom>
            <a:avLst/>
            <a:gdLst>
              <a:gd name="textAreaLeft" fmla="*/ 379440 w 1662120"/>
              <a:gd name="textAreaRight" fmla="*/ 1282680 w 166212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454200">
            <a:off x="539640" y="1628640"/>
            <a:ext cx="532080" cy="503280"/>
          </a:xfrm>
          <a:custGeom>
            <a:avLst/>
            <a:gdLst>
              <a:gd name="textAreaLeft" fmla="*/ 121320 w 532080"/>
              <a:gd name="textAreaRight" fmla="*/ 410760 w 53208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101080" y="1413000"/>
            <a:ext cx="531720" cy="503280"/>
          </a:xfrm>
          <a:custGeom>
            <a:avLst/>
            <a:gdLst>
              <a:gd name="textAreaLeft" fmla="*/ 121320 w 531720"/>
              <a:gd name="textAreaRight" fmla="*/ 410400 w 53172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9640" y="5877000"/>
            <a:ext cx="532080" cy="503280"/>
          </a:xfrm>
          <a:custGeom>
            <a:avLst/>
            <a:gdLst>
              <a:gd name="textAreaLeft" fmla="*/ 121320 w 532080"/>
              <a:gd name="textAreaRight" fmla="*/ 410760 w 53208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028000" y="5877000"/>
            <a:ext cx="531720" cy="503280"/>
          </a:xfrm>
          <a:custGeom>
            <a:avLst/>
            <a:gdLst>
              <a:gd name="textAreaLeft" fmla="*/ 121320 w 531720"/>
              <a:gd name="textAreaRight" fmla="*/ 410400 w 53172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481880" y="5418000"/>
            <a:ext cx="1662120" cy="1440000"/>
          </a:xfrm>
          <a:custGeom>
            <a:avLst/>
            <a:gdLst>
              <a:gd name="textAreaLeft" fmla="*/ 379440 w 1662120"/>
              <a:gd name="textAreaRight" fmla="*/ 1282680 w 166212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028000" y="5877000"/>
            <a:ext cx="531720" cy="503280"/>
          </a:xfrm>
          <a:custGeom>
            <a:avLst/>
            <a:gdLst>
              <a:gd name="textAreaLeft" fmla="*/ 121320 w 531720"/>
              <a:gd name="textAreaRight" fmla="*/ 410400 w 53172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68360" y="0"/>
            <a:ext cx="828036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акой звук повторяется в этих словах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500"/>
                            </p:stCondLst>
                            <p:childTnLst>
                              <p:par>
                                <p:cTn id="18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1151280" cy="15130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2484360" y="1557360"/>
            <a:ext cx="1798560" cy="15397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6877080" y="1700280"/>
            <a:ext cx="1373040" cy="15127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4788000" y="1628640"/>
            <a:ext cx="1728720" cy="1467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2340000" y="260280"/>
            <a:ext cx="45370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Что лишнее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684360" y="2205000"/>
            <a:ext cx="1584000" cy="8985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2916360" y="2205000"/>
            <a:ext cx="1584360" cy="8175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6804000" y="2205000"/>
            <a:ext cx="1779480" cy="8780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4643280" y="2060640"/>
            <a:ext cx="2087640" cy="1150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12:36:50Z</dcterms:created>
  <dc:creator>1</dc:creator>
  <dc:description/>
  <dc:language>en-US</dc:language>
  <cp:lastModifiedBy>1</cp:lastModifiedBy>
  <dcterms:modified xsi:type="dcterms:W3CDTF">2011-05-02T14:28:41Z</dcterms:modified>
  <cp:revision>15</cp:revision>
  <dc:subject/>
  <dc:title>Артикуляция звуков</dc:title>
</cp:coreProperties>
</file>