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952E-44A0-4B2B-A232-616B7A94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5A72-234C-490C-B4A1-FF1AD48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D547-881D-48A5-95A9-D0383E7F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A331-B6D7-4433-8460-BB52EF83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8D9-CC3B-49A8-AFDA-10958699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2F5B-5D9B-4040-AC98-F5A98320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8E0B-5C34-4216-8E7A-887573A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6FC7-4B26-44B4-9BA2-148B036A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055F-0306-4384-910E-3DEE4524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8093-8E83-41B1-80BA-0945B1D4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EF1-F85D-470F-93E6-A570078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14D4-80A7-4193-A1C4-D7F8C963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2D7A-1664-43F1-8C0F-6969B5D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30F0-4928-4D22-8A4F-09FF84F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F39-99D7-48B5-8509-767C3D5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5DF9-0C7D-496D-A261-DC768E80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4208-18D5-4D16-BCFB-AD1E3CC1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5249-2C87-43B2-A324-9F7E8B7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D2C3-D7F6-4911-A381-CDDDF68F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202D-FD72-4CEA-9FA2-A702A88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4687-1DC5-4E70-A4F6-39532810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E189-07BC-4103-B37B-CE8B4DC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9406-1AA2-4390-8483-7EF854A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D6B5-9328-4842-87A0-893A2BD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388E-705C-468A-AA5E-D775B6949D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47A5-0686-45AA-AF2F-2EFCC8FDBF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53.radikal.ru/i139/0903/89/9e6096f39f3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52360" y="1600200"/>
            <a:ext cx="871056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Arial Black"/>
              </a:rPr>
              <a:t>Очень просто </a:t>
            </a: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Arial Black"/>
              </a:rPr>
              <a:t>добрым быть…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Картинка 99 из 639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95760" y="38862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i-main-pic" descr="Картинка 1 из 337"/>
          <p:cNvPicPr/>
          <p:nvPr/>
        </p:nvPicPr>
        <p:blipFill>
          <a:blip r:embed="rId1"/>
          <a:stretch/>
        </p:blipFill>
        <p:spPr>
          <a:xfrm>
            <a:off x="250920" y="11592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155" name="14 - Track 14.mp3" descr=""/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383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i-main-pic" descr="Картинка 30 из 2548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i-main-pic" descr="Картинка 88 из 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Урааааа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Картинка 7 из 3644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7863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8"/>
          <p:cNvSpPr/>
          <p:nvPr/>
        </p:nvSpPr>
        <p:spPr>
          <a:xfrm rot="532200">
            <a:off x="4066920" y="259920"/>
            <a:ext cx="3819600" cy="2305080"/>
          </a:xfrm>
          <a:prstGeom prst="wedgeEllipseCallout">
            <a:avLst>
              <a:gd name="adj1" fmla="val -15046"/>
              <a:gd name="adj2" fmla="val 50875"/>
            </a:avLst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1"/>
          <p:cNvSpPr/>
          <p:nvPr/>
        </p:nvSpPr>
        <p:spPr>
          <a:xfrm rot="591600">
            <a:off x="4603320" y="9032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Урааа!!! Каникулы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i?id=147949842-14"/>
          <p:cNvPicPr/>
          <p:nvPr/>
        </p:nvPicPr>
        <p:blipFill>
          <a:blip r:embed="rId1"/>
          <a:stretch/>
        </p:blipFill>
        <p:spPr>
          <a:xfrm>
            <a:off x="0" y="0"/>
            <a:ext cx="9144000" cy="71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25916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брота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сегда приносит радость окружающим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брота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– отзывчивость, сочувствие, дружеское расположение к людям.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бры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человек – готовый помочь людям, отзывчивый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бро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– стремление человека дать полное счастье всем людям.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375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Картинка 123 из 63978"/>
          <p:cNvPicPr/>
          <p:nvPr/>
        </p:nvPicPr>
        <p:blipFill>
          <a:blip r:embed="rId1"/>
          <a:stretch/>
        </p:blipFill>
        <p:spPr>
          <a:xfrm>
            <a:off x="179280" y="404640"/>
            <a:ext cx="4084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99512"/>
          <p:cNvPicPr/>
          <p:nvPr/>
        </p:nvPicPr>
        <p:blipFill>
          <a:blip r:embed="rId1"/>
          <a:stretch/>
        </p:blipFill>
        <p:spPr>
          <a:xfrm>
            <a:off x="539640" y="333360"/>
            <a:ext cx="7921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i-main-pic" descr="Картинка 1 из 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6" name="01 - Track 1.mp3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725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Картинка 9 из 1711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Картинка 13 из 34421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5" descr="Картинка 20 из 1711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9480"/>
          </a:xfrm>
          <a:prstGeom prst="rect">
            <a:avLst/>
          </a:prstGeom>
          <a:ln w="0">
            <a:noFill/>
          </a:ln>
        </p:spPr>
      </p:pic>
      <p:pic>
        <p:nvPicPr>
          <p:cNvPr id="145" name="01 - Track 1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725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i-main-pic" descr="Картинка 88 из 2235"/>
          <p:cNvPicPr/>
          <p:nvPr/>
        </p:nvPicPr>
        <p:blipFill>
          <a:blip r:embed="rId1"/>
          <a:stretch/>
        </p:blipFill>
        <p:spPr>
          <a:xfrm>
            <a:off x="0" y="0"/>
            <a:ext cx="987588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Картинка 27 из 1510"/>
          <p:cNvPicPr/>
          <p:nvPr/>
        </p:nvPicPr>
        <p:blipFill>
          <a:blip r:embed="rId1"/>
          <a:stretch/>
        </p:blipFill>
        <p:spPr>
          <a:xfrm>
            <a:off x="155520" y="46080"/>
            <a:ext cx="9817200" cy="6630840"/>
          </a:xfrm>
          <a:prstGeom prst="rect">
            <a:avLst/>
          </a:prstGeom>
          <a:ln w="0">
            <a:noFill/>
          </a:ln>
        </p:spPr>
      </p:pic>
      <p:pic>
        <p:nvPicPr>
          <p:cNvPr id="152" name="raskaty_groma_i_tihii_shum_dozhdya.mp3" descr=""/>
          <p:cNvPicPr/>
          <p:nvPr/>
        </p:nvPicPr>
        <p:blipFill>
          <a:blip r:embed="rId2"/>
          <a:stretch/>
        </p:blipFill>
        <p:spPr>
          <a:xfrm>
            <a:off x="8991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8:53:26Z</dcterms:created>
  <dc:creator>Администратор</dc:creator>
  <dc:description/>
  <dc:language>en-US</dc:language>
  <cp:lastModifiedBy>Шарыпова Елена Викторовна</cp:lastModifiedBy>
  <dcterms:modified xsi:type="dcterms:W3CDTF">2011-05-24T09:58:52Z</dcterms:modified>
  <cp:revision>9</cp:revision>
  <dc:subject/>
  <dc:title>Очень просто  добрым быть…</dc:title>
</cp:coreProperties>
</file>