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223-5E4F-4F42-9CA6-49B4D9F1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B33-C22E-4A2B-AFCB-6BDBCCCF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7D0-1A5F-4431-B9F1-B8AD47DA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6F5-2064-4547-ABE6-FF6985D3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40E9-28BB-4076-AF9C-03EB249A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A69B-D054-4912-9B80-1723F66C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6CEE-C68A-493D-AF8E-F8A08C3A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4E13-64DB-4F6E-A9BF-7AE7F055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932F-3C1E-421A-996A-100157C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3910-3C51-42B2-ADEB-DD98930D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F1BB-EB1A-402C-AF21-3384D49F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6A1-C809-472A-B54C-7AFE8A25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E472-53F7-4B9F-87DE-C25302E6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3EDB-F0ED-4C12-B5AD-956881B0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626A-7961-4269-88BC-8ED6220A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94C2-EF23-4CCD-A8AE-F0007293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EAF2-A0D2-4814-8B7F-7FA3C377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539-4799-49C1-9F80-B144E374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EF2-6FB6-4598-A00F-8C61D5C4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570-1692-49DE-9ACD-56102435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E48-1AA7-4CC9-A6DB-1F11371B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CBE-50FA-4304-8FE7-B0028326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B80-FE34-4360-AAAF-AC8B37DB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985-091F-445B-AD72-F398233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BB22-642A-4829-A10B-C0938C2DB1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7332-AE3F-4E3D-802F-FD287E3F87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8.xml"/><Relationship Id="rId8" Type="http://schemas.openxmlformats.org/officeDocument/2006/relationships/slide" Target="slide21.xml"/><Relationship Id="rId9" Type="http://schemas.openxmlformats.org/officeDocument/2006/relationships/slide" Target="slide25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Команда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«Плюсики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У «СОШ № 100 им. С.Е.Цветк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. Новокузнец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3(б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VmDXIV – CCLXX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VmCCXXX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5514      -  275         = 11052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924680" y="6324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№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в римской нумерации пример, используя разделитель разрядов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8102 – 502039 + 1258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решите его. Ответ также дайте в обозначениях римской нум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810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50203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58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=  7186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CVIIImCII – DIImXXXIX + XIImDLXXXII = DCCXVIIImDCX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924680" y="6324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дача № 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спичек сложено число 110. Не изменяя количества спичек, увеличьте это число в 9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5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110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•9 = 990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26668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876560" y="26668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324480" y="26668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63868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133720" y="205704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24680" y="6324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дача № 6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– VI = 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 переложить одну спичку, чтобы получился правильный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– VI = 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как переложить две спички, чтобы получился правильный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6 (а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209680"/>
            <a:ext cx="43434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 – VI = X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 + VI =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809520" y="2971800"/>
            <a:ext cx="1600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61722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6 (б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 – VI = X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 + V = 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343040" y="28195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562720" y="28954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6324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№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7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– V = VI – 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ожите две спички, чтобы получилось верное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+ III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ожите две спички, чтобы получилось верное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7 (а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 – V = VI – 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 – VI = V – 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  - V  = VI  - 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580920" y="2133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572000" y="213372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504960" y="2133720"/>
            <a:ext cx="289548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6095880"/>
            <a:ext cx="1295280" cy="304920"/>
          </a:xfrm>
          <a:prstGeom prst="leftArrow">
            <a:avLst>
              <a:gd name="adj1" fmla="val 50000"/>
              <a:gd name="adj2" fmla="val 1061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 зада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Задача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Задача №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Задача №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Задача №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Задача №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Задача №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Задача №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9" action="ppaction://hlinksldjump"/>
              </a:rPr>
              <a:t>Задача №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7 (б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 + III =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 + I = X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213372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05740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6324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№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5410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+ X + X = 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+ X + X = 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те                    Получ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енство,                   равен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ожив                   перелож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у спичку                  две сп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X + X = 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ен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ожив три сп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8 (а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 + X + X = 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 + X- XI = 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25909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6172200"/>
            <a:ext cx="1218960" cy="380880"/>
          </a:xfrm>
          <a:prstGeom prst="leftArrow">
            <a:avLst>
              <a:gd name="adj1" fmla="val 50000"/>
              <a:gd name="adj2" fmla="val 8000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8 (б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 + X + X = 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 + X- IX = X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2743200"/>
            <a:ext cx="1526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6172200"/>
            <a:ext cx="1295640" cy="304920"/>
          </a:xfrm>
          <a:prstGeom prst="leftArrow">
            <a:avLst>
              <a:gd name="adj1" fmla="val 50000"/>
              <a:gd name="adj2" fmla="val 10622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8 (в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 + X + X = 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6324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а №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 – IV = 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равьте допущенную ошибку, переложив только одну спи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 – IV = 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 + IV = 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343400" y="213372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24680" y="6324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адача № 1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Расшифруйте запись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шкин А.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ился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CCXC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у, а умер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CCCXXXV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Гоголь Н.В. Родился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CCC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, а умер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CCCL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1(а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шкин А.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одился в 1799 го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00    700        90      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умер в 183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C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00    800      30    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304920" y="632448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924680" y="6324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1(б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голь Н.В. родился в  1809 го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C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00     800   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умер в 1852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C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00        800        50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590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304920" y="632448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7924680" y="6324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дача №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анкт – Петербурге стоит памятник Петр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гранитном постаменте памятника надпис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RO PRIMO CATERINA SECUND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CCLXXX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значает выделенная зап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         DCC     LXXX     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       700         80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7924680" y="6324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адача № 3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осчитайте: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XIV + XC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VmDXIV – CCLXX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шение задачи № 3(а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XIV + XCV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C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4    +  97     =  71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609480" y="6324480"/>
            <a:ext cx="1295640" cy="228600"/>
          </a:xfrm>
          <a:prstGeom prst="leftArrow">
            <a:avLst>
              <a:gd name="adj1" fmla="val 50000"/>
              <a:gd name="adj2" fmla="val 14169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toria</cp:lastModifiedBy>
  <dcterms:modified xsi:type="dcterms:W3CDTF">2010-02-14T10:37:02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