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807-897D-4897-96F9-31410989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E96-EC19-4838-ACD0-8EEB02D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E8A-C256-4842-A4AD-EF3C5A7D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FDE-8FB8-4575-94EA-E9990254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775AD-0E9B-40ED-97B3-C6FA0C68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6B886-1CA3-40F4-A455-8A2B5F8E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4E0E-4E1B-41E8-BC68-5C2CC0DE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1FAD-B264-4FAC-8E16-4F9AD8D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80D74-9B73-4DF6-9617-A629C689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09231-C772-4E4F-B8DC-15B6D19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EB4B-3D82-4188-AE07-736FC64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CC9-B695-4B9B-934D-221EBA27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3F2C-CFC3-4085-9D47-50EB95E9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51C7A-4B10-442B-9266-97914796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BEF95-1EF6-4BEA-B13B-C4D3D58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31787-8974-49D4-99EE-AB8168B9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730E9-71A4-468E-B983-4825D32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A92-8F90-4D35-85B7-2FEE4ED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2CE-5394-4D43-A75F-F17E979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1D6-11F9-439C-9F57-A4AF35BA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CE5-B51D-4D49-8CBF-55C27794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BD7-0BFB-458E-93D9-00E4CCA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1F7-66FE-4FC2-B4D5-CED718B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D3B-19C1-48FB-B9AB-9AE8600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A124-6116-4E45-BAF0-4A50D40D1A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C8B2-2DD3-4F74-9204-6F7A7A7F2C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6000" spc="-1" strike="noStrike">
                <a:solidFill>
                  <a:srgbClr val="e3e3ff"/>
                </a:solidFill>
                <a:latin typeface="Times New Roman"/>
              </a:rPr>
              <a:t>Җөмләләрне тиңдәш ияләр белән тулыландырып яз.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55640" y="2492280"/>
            <a:ext cx="7561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1)Төзелештә ташчылар эш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2)Яз көне шомыртлар ап-ак чәчәк а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3)Әниләргә багышланган кичәне Таһир әзерләд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3e3ff"/>
                </a:solidFill>
                <a:latin typeface="Arial"/>
              </a:rPr>
              <a:t>Рәсемгә карап җөмлә төзе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3732120" cy="26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1855800" cy="138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1800360" cy="158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987640" y="4076640"/>
            <a:ext cx="18288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 u="sng">
                <a:solidFill>
                  <a:srgbClr val="e3e3ff"/>
                </a:solidFill>
                <a:uFillTx/>
                <a:latin typeface="Arial"/>
              </a:rPr>
              <a:t>Кагыйдә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Җөмләнең баш кисәкләре генә түгел, иярчен кисәкләре дә тиңдәшләнеп килә ала: </a:t>
            </a:r>
            <a:r>
              <a:rPr b="0" i="1" lang="tt-RU" sz="4800" spc="-1" strike="noStrike">
                <a:solidFill>
                  <a:srgbClr val="ffffff"/>
                </a:solidFill>
                <a:latin typeface="Arial"/>
              </a:rPr>
              <a:t>Бакчада ак, кызыл, зәңгәр чәчәкләр үсә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 u="sng">
                <a:solidFill>
                  <a:srgbClr val="e3e3ff"/>
                </a:solidFill>
                <a:uFillTx/>
                <a:latin typeface="Arial"/>
              </a:rPr>
              <a:t>Кагыйдә</a:t>
            </a:r>
            <a:r>
              <a:rPr b="0" lang="tt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Җөмләдә иярчен кисәкләр, бер үк ияне яки бер үк хәбәрне ачыклап, бер сорауга җавап булып килә. Андый  иярчен кисәкләр тиңдәш иярчен кисәкләр дип атала.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3e3ff"/>
                </a:solidFill>
                <a:latin typeface="Arial"/>
              </a:rPr>
              <a:t>Тикшерәбез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1)көчеңне, кыюлыгыңны, тырышлыгың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2)укый алу гына түгел, яза башларсың, менәрсең,очарсың, төшәрсе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9:24:03Z</dcterms:created>
  <dc:creator>ильдар</dc:creator>
  <dc:description/>
  <dc:language>en-US</dc:language>
  <cp:lastModifiedBy>ильдар</cp:lastModifiedBy>
  <dcterms:modified xsi:type="dcterms:W3CDTF">2010-03-22T16:44:05Z</dcterms:modified>
  <cp:revision>4</cp:revision>
  <dc:subject/>
  <dc:title>Җөмләләрне тиңдәш ияләр белән тулыландырып яз</dc:title>
</cp:coreProperties>
</file>