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FCA-A3DC-44EA-803D-442FEDE2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E28-0D15-4A0B-90BA-5C84EE8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777-F9B5-4D73-92F6-F842DBF2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D3E-A5E4-4FD6-B45A-9CAFE5C2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D2CFF-C324-406B-8437-F2485E3F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3CB14-D446-43AC-AF5A-4E059416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BF90E-CC28-4EBB-896C-A6ACB95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17E22-FB46-4100-A33B-5AA2C0CC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09A37-B613-4414-8A97-8141DFE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AB6CC-0B5D-42A5-8B53-104B2A4F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89B5E-42A6-449E-8134-5CBD9DA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7BA-1FAF-412D-BDB5-045F2E3A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3C8FE-43F7-4122-9F66-3571FFF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7EB33-A3F3-4EEE-BBB0-40B99B8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4D91-CFA6-4C13-A7F0-805970C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1C6A6-C6F3-4972-87A2-2F357FB3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96404-DED6-4E10-B85A-008EA505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B20-871E-4DAA-96BE-0642F5E8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C26-E544-4777-9A7A-4418006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B6D-5922-4AB2-9E61-F10550DE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6BB-1695-4357-BFA0-BEFD862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1D0-E754-4433-B493-1186396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CED-5342-4DBF-8DF6-F2196C7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D79-8A9E-4AF1-B9E2-D965B6C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09CD-D4DA-4E82-BF72-69781B001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6FDA-77F4-4ADF-8093-7BAF7926D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6000" spc="-1" strike="noStrike">
                <a:solidFill>
                  <a:srgbClr val="e3e3ff"/>
                </a:solidFill>
                <a:latin typeface="Times New Roman"/>
              </a:rPr>
              <a:t>Җөмләләрне тиңдәш ияләр белән тулыландырып яз.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561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1)Төзелештә ташчылар эш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2)Яз көне шомыртлар ап-ак чәчәк а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3)Әниләргә багышланган кичәне Таһир әзерләд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3e3ff"/>
                </a:solidFill>
                <a:latin typeface="Arial"/>
              </a:rPr>
              <a:t>Рәсемгә карап җөмлә төзе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3732120" cy="26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1855800" cy="138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1800360" cy="158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987640" y="4076640"/>
            <a:ext cx="18288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 u="sng">
                <a:solidFill>
                  <a:srgbClr val="e3e3ff"/>
                </a:solidFill>
                <a:uFillTx/>
                <a:latin typeface="Arial"/>
              </a:rPr>
              <a:t>Кагыйдә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Җөмләнең баш кисәкләре генә түгел, иярчен кисәкләре дә тиңдәшләнеп килә ала: </a:t>
            </a:r>
            <a:r>
              <a:rPr b="0" i="1" lang="tt-RU" sz="4800" spc="-1" strike="noStrike">
                <a:solidFill>
                  <a:srgbClr val="ffffff"/>
                </a:solidFill>
                <a:latin typeface="Arial"/>
              </a:rPr>
              <a:t>Бакчада ак, кызыл, зәңгәр чәчәкләр үсә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 u="sng">
                <a:solidFill>
                  <a:srgbClr val="e3e3ff"/>
                </a:solidFill>
                <a:uFillTx/>
                <a:latin typeface="Arial"/>
              </a:rPr>
              <a:t>Кагыйдә</a:t>
            </a:r>
            <a:r>
              <a:rPr b="0" lang="tt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Җөмләдә иярчен кисәкләр, бер үк ияне яки бер үк хәбәрне ачыклап, бер сорауга җавап булып килә. Андый  иярчен кисәкләр тиңдәш иярчен кисәкләр дип атала.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3e3ff"/>
                </a:solidFill>
                <a:latin typeface="Arial"/>
              </a:rPr>
              <a:t>Тикшерәбез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1)көчеңне, кыюлыгыңны, тырышлыгың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2)укый алу гына түгел, яза башларсың, менәрсең,очарсың, төшәрсе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9:24:03Z</dcterms:created>
  <dc:creator>ильдар</dc:creator>
  <dc:description/>
  <dc:language>en-US</dc:language>
  <cp:lastModifiedBy>ильдар</cp:lastModifiedBy>
  <dcterms:modified xsi:type="dcterms:W3CDTF">2010-03-22T16:44:05Z</dcterms:modified>
  <cp:revision>4</cp:revision>
  <dc:subject/>
  <dc:title>Җөмләләрне тиңдәш ияләр белән тулыландырып яз</dc:title>
</cp:coreProperties>
</file>