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FD75-6AFC-4377-9B62-6EC8498A4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3D9F-E05D-492C-9EAB-5F59D9B605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E796-7938-4CA0-8403-0F063C94DD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2BBC-8240-4FA3-A62B-A72861BAB8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6544-F178-4391-ABAF-86073E377D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A64E-A16B-428D-98AD-10E7F2305B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794A-315D-4E33-A8AE-5CDE74FBA4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6EC5-7636-4D51-80B1-DB827A1CC9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FDF7-8F8F-4A2F-B01F-0AE2315387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49E1-E13D-471E-BE14-A1AE799D4A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152F-F152-4301-9DF0-E814BD184A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B712-A80C-44B5-BB0C-E01814A58E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811F-6D87-4340-81C0-3FFC61C3BA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B6AC-E6DE-4EFC-AFCF-71832CC05A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5BEB-E906-4DC1-94C0-DF53DFACC6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86C8-2FDF-4907-B900-7C7A456CB2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5423-E4D3-4220-B065-9FCA51228F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8DE1-FE3D-4A8D-9603-A9978FFBC3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9A8-1E50-49FF-A9E7-5C948433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091-E469-4526-8768-E8268082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677-46F5-4C64-A112-7AA475DD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0D5-8D3F-4D94-AE91-666333C4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2D5-8848-49C8-B1A3-1D4D1950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55B-8EAF-45D0-8E4A-1321C938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E3F-E019-48C4-9BE8-B6B18EF2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8AA-6E86-4CA6-9047-02BE337D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C05-CDED-47DD-927A-2CA16313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430-2F80-4F70-B2CD-405A733F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4B2-53E2-4F73-9341-B49111CB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E6D-ADF1-44AD-99C1-56C4D031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48CA-B45D-4DB7-98C7-0631797C94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b7e7ff"/>
                </a:solidFill>
                <a:latin typeface="Arial"/>
              </a:rPr>
              <a:t>Предмет стереометрии. Аксиомы стереометрии</a:t>
            </a:r>
            <a:br>
              <a:rPr sz="5000"/>
            </a:br>
            <a:br>
              <a:rPr sz="5000"/>
            </a:br>
            <a:r>
              <a:rPr b="1" i="1" lang="en-US" sz="2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b7e7ff"/>
                </a:solidFill>
                <a:latin typeface="Arial"/>
              </a:rPr>
              <a:t>Наряду с точкой, прямой и плоскостью в стереометрии рассматривают геометрические тела, изучают их свойства, вычисляют их площади и объемы. Представление о геометрических телах дают окружающие нас предметы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Что такое аксиома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ксиом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утверждение о свойствах геометрических фигур, принимается в качестве исходных положений, на основе которых доказываются далее теоремы и вообще строится вся геометри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Аксиомы планиметрии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через любые две точки можно провести прямую, и притом только одн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з трех точек прямой одна, и только одна, лежит между двумя други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834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сновные свойства точек, прямых и плоскостей, касающиеся их взаимного расположения, выражены в </a:t>
            </a: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аксиомах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28600" y="2619360"/>
            <a:ext cx="86868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7e7ff"/>
                </a:solidFill>
                <a:latin typeface="Arial"/>
              </a:rPr>
              <a:t>А</a:t>
            </a:r>
            <a:r>
              <a:rPr b="1" lang="ru-RU" sz="4800" spc="-1" strike="noStrike" baseline="-25000">
                <a:solidFill>
                  <a:srgbClr val="b7e7ff"/>
                </a:solidFill>
                <a:latin typeface="Arial"/>
              </a:rPr>
              <a:t>1</a:t>
            </a:r>
            <a:r>
              <a:rPr b="1" lang="ru-RU" sz="4800" spc="-1" strike="noStrike">
                <a:solidFill>
                  <a:srgbClr val="b7e7ff"/>
                </a:solidFill>
                <a:latin typeface="Arial"/>
              </a:rPr>
              <a:t>. Через любые 3 точки, не лежащие на одной прямой, проходит плоскость и притом только одна.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7e7ff"/>
                </a:solidFill>
                <a:latin typeface="Arial"/>
              </a:rPr>
              <a:t>А</a:t>
            </a:r>
            <a:r>
              <a:rPr b="1" lang="ru-RU" sz="4800" spc="-1" strike="noStrike" baseline="-25000">
                <a:solidFill>
                  <a:srgbClr val="b7e7ff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b7e7ff"/>
                </a:solidFill>
                <a:latin typeface="Arial"/>
              </a:rPr>
              <a:t>. Если 2 точки прямой лежат в плоскости, то все точки прямой лежат в этой плоскости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7e7ff"/>
                </a:solidFill>
                <a:latin typeface="Arial"/>
              </a:rPr>
              <a:t>А</a:t>
            </a:r>
            <a:r>
              <a:rPr b="1" lang="ru-RU" sz="4800" spc="-1" strike="noStrike" baseline="-25000">
                <a:solidFill>
                  <a:srgbClr val="b7e7ff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b7e7ff"/>
                </a:solidFill>
                <a:latin typeface="Arial"/>
              </a:rPr>
              <a:t>. Если 2 плоскости имеют общую точку, то они имеют общую прямую, на которой лежат все общие точки этих плоскостей.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ометрия 10-11 класс Л. С. Атанасян и др. М.: Просвещение, 2009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7e7ff"/>
                </a:solidFill>
                <a:latin typeface="Arial"/>
              </a:rPr>
              <a:t>Что такое </a:t>
            </a:r>
            <a:r>
              <a:rPr b="0" lang="ru-RU" sz="5400" spc="-1" strike="noStrike" u="sng">
                <a:solidFill>
                  <a:srgbClr val="b7e7ff"/>
                </a:solidFill>
                <a:uFillTx/>
                <a:latin typeface="Arial"/>
              </a:rPr>
              <a:t>геометрия</a:t>
            </a:r>
            <a:r>
              <a:rPr b="0" lang="ru-RU" sz="5400" spc="-1" strike="noStrike">
                <a:solidFill>
                  <a:srgbClr val="b7e7ff"/>
                </a:solidFill>
                <a:latin typeface="Arial"/>
              </a:rPr>
              <a:t>?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b7e7ff"/>
                </a:solidFill>
                <a:uFillTx/>
                <a:latin typeface="Arial"/>
              </a:rPr>
              <a:t>Геометрия</a:t>
            </a:r>
            <a:r>
              <a:rPr b="0" i="1" lang="ru-RU" sz="4800" spc="-1" strike="noStrike" u="sng">
                <a:solidFill>
                  <a:srgbClr val="b7e7ff"/>
                </a:solidFill>
                <a:uFillTx/>
                <a:latin typeface="Arial"/>
              </a:rPr>
              <a:t> — </a:t>
            </a:r>
            <a:r>
              <a:rPr b="0" i="1" lang="ru-RU" sz="4800" spc="-1" strike="noStrike">
                <a:solidFill>
                  <a:srgbClr val="b7e7ff"/>
                </a:solidFill>
                <a:latin typeface="Arial"/>
              </a:rPr>
              <a:t>наука о свойствах геометрических фигур. Слово «геометрия» — греческое, в переводе — «землемерие»</a:t>
            </a: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Что такое </a:t>
            </a:r>
            <a:r>
              <a:rPr b="0" lang="ru-RU" sz="4800" spc="-1" strike="noStrike" u="sng">
                <a:solidFill>
                  <a:srgbClr val="b7e7ff"/>
                </a:solidFill>
                <a:uFillTx/>
                <a:latin typeface="Arial"/>
              </a:rPr>
              <a:t>планиметрия</a:t>
            </a: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?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b7e7ff"/>
                </a:solidFill>
                <a:uFillTx/>
                <a:latin typeface="Arial"/>
              </a:rPr>
              <a:t>Планиметрия</a:t>
            </a:r>
            <a:r>
              <a:rPr b="0" i="1" lang="ru-RU" sz="4800" spc="-1" strike="noStrike" u="sng">
                <a:solidFill>
                  <a:srgbClr val="b7e7ff"/>
                </a:solidFill>
                <a:uFillTx/>
                <a:latin typeface="Arial"/>
              </a:rPr>
              <a:t> — </a:t>
            </a:r>
            <a:r>
              <a:rPr b="0" i="1" lang="ru-RU" sz="4800" spc="-1" strike="noStrike">
                <a:solidFill>
                  <a:srgbClr val="b7e7ff"/>
                </a:solidFill>
                <a:latin typeface="Arial"/>
              </a:rPr>
              <a:t>раздел геометрии, в котором изучаются свойства фигур на плоскости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28600" y="363600"/>
            <a:ext cx="853452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b7e7ff"/>
                </a:solidFill>
                <a:uFillTx/>
                <a:latin typeface="Arial"/>
              </a:rPr>
              <a:t>Стереометрия — </a:t>
            </a:r>
            <a:r>
              <a:rPr b="0" i="1" lang="ru-RU" sz="4800" spc="-1" strike="noStrike" u="sng">
                <a:solidFill>
                  <a:srgbClr val="b7e7ff"/>
                </a:solidFill>
                <a:uFillTx/>
                <a:latin typeface="Arial"/>
              </a:rPr>
              <a:t>раздел геометрии, в котором изучается свойства фигур в пространстве</a:t>
            </a: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Основные фигуры в пространстве: </a:t>
            </a:r>
            <a:r>
              <a:rPr b="0" i="1" lang="ru-RU" sz="4400" spc="-1" strike="noStrike" u="sng">
                <a:solidFill>
                  <a:srgbClr val="b7e7ff"/>
                </a:solidFill>
                <a:uFillTx/>
                <a:latin typeface="Arial"/>
              </a:rPr>
              <a:t>точка, прямая и плоскость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редставление плоск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09480" y="2252520"/>
            <a:ext cx="830592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26T00:00:0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