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989-32D0-4BCC-91F1-61B899F7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6FF-CCB7-40BC-A27E-B557B80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E96-398A-4117-9CB5-BA522F8A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993-96DD-4B7D-B658-EB4B67FD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86C2-6F94-4D7E-AFDF-D8961E8A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394F-9645-4605-B04D-AA39556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4205-9CEC-42EB-9341-CDE91A1F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49BE-F64B-4AEB-8F97-63F13A25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5DED-90BD-4584-A9DC-4B8904E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1A46-E91B-442E-9CF6-5F900916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7019-A078-46B9-9814-3C36FE3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F52-2BCC-4E1B-BEE0-25F55C1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B4E-9BC6-4543-B27F-C49F63BE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A64D-16E6-4A00-A817-C7C750E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B46-16AC-4FA4-BB06-987E4C65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4F29-1F5B-4EEC-8A24-879B7E8E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7188-A260-4F4D-AD83-88A2142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9A4-D6E5-46BD-A18E-FB57A9A7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760-1A23-4BE3-8C91-D61AC403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C10-4EB4-445E-9CEE-661B649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822-33A9-403F-84B6-A9CEEC7C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9C1-A1CC-469A-99A9-226D090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F29-EBB0-40F9-A32E-AE29115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244-FFE5-4B41-84FB-4C2BCA7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AEF6-51A9-4070-8B13-0E7AA0156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57D0-202A-4FAC-99F5-889F3D7C4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video" Target="file:///tmp/home/.config/libreoffice/4/user/gallery/&#1047;&#1072;&#1076;&#1072;&#1085;&#1080;&#1077;%204" TargetMode="External"/><Relationship Id="rId7" Type="http://schemas.microsoft.com/office/2007/relationships/media" Target="file:///tmp/home/.config/libreoffice/4/user/gallery/&#1047;&#1072;&#1076;&#1072;&#1085;&#1080;&#1077;%204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video" Target="file:///tmp/home/.config/libreoffice/4/user/gallery/&#1047;&#1072;&#1076;&#1072;&#1085;&#1080;&#1077;" TargetMode="External"/><Relationship Id="rId4" Type="http://schemas.microsoft.com/office/2007/relationships/media" Target="file:///tmp/home/.config/libreoffice/4/user/gallery/&#1047;&#1072;&#1076;&#1072;&#1085;&#1080;&#1077;" TargetMode="External"/><Relationship Id="rId5" Type="http://schemas.openxmlformats.org/officeDocument/2006/relationships/image" Target="../media/image2.png"/><Relationship Id="rId6" Type="http://schemas.openxmlformats.org/officeDocument/2006/relationships/video" Target="file:///tmp/home/.config/libreoffice/4/user/gallery/&#1047;&#1072;&#1076;&#1072;&#1072;&#1085;&#1080;&#1077;" TargetMode="External"/><Relationship Id="rId7" Type="http://schemas.microsoft.com/office/2007/relationships/media" Target="file:///tmp/home/.config/libreoffice/4/user/gallery/&#1047;&#1072;&#1076;&#1072;&#1072;&#1085;&#1080;&#1077;" TargetMode="External"/><Relationship Id="rId8" Type="http://schemas.openxmlformats.org/officeDocument/2006/relationships/image" Target="../media/image2.png"/><Relationship Id="rId9" Type="http://schemas.openxmlformats.org/officeDocument/2006/relationships/video" Target="file:///tmp/home/.config/libreoffice/4/user/gallery/&#1047;&#1072;&#1076;&#1072;&#1085;&#1080;&#1077;" TargetMode="External"/><Relationship Id="rId10" Type="http://schemas.microsoft.com/office/2007/relationships/media" Target="file:///tmp/home/.config/libreoffice/4/user/gallery/&#1047;&#1072;&#1076;&#1072;&#1085;&#1080;&#1077;" TargetMode="External"/><Relationship Id="rId11" Type="http://schemas.openxmlformats.org/officeDocument/2006/relationships/image" Target="../media/image2.png"/><Relationship Id="rId12" Type="http://schemas.openxmlformats.org/officeDocument/2006/relationships/video" Target="file:///tmp/home/.config/libreoffice/4/user/gallery/&#1047;&#1072;&#1076;&#1072;&#1085;&#1080;&#1077;" TargetMode="External"/><Relationship Id="rId13" Type="http://schemas.microsoft.com/office/2007/relationships/media" Target="file:///tmp/home/.config/libreoffice/4/user/gallery/&#1047;&#1072;&#1076;&#1072;&#1085;&#1080;&#1077;" TargetMode="External"/><Relationship Id="rId14" Type="http://schemas.openxmlformats.org/officeDocument/2006/relationships/image" Target="../media/image2.png"/><Relationship Id="rId15" Type="http://schemas.openxmlformats.org/officeDocument/2006/relationships/video" Target="file:///tmp/home/.config/libreoffice/4/user/gallery/&#1047;&#1072;&#1076;&#1072;&#1072;&#1085;&#1080;&#1077;" TargetMode="External"/><Relationship Id="rId16" Type="http://schemas.microsoft.com/office/2007/relationships/media" Target="file:///tmp/home/.config/libreoffice/4/user/gallery/&#1047;&#1072;&#1076;&#1072;&#1072;&#1085;&#1080;&#1077;" TargetMode="External"/><Relationship Id="rId17" Type="http://schemas.openxmlformats.org/officeDocument/2006/relationships/image" Target="../media/image2.png"/><Relationship Id="rId18" Type="http://schemas.openxmlformats.org/officeDocument/2006/relationships/video" Target="file:///tmp/home/.config/libreoffice/4/user/gallery/&#1088;&#1072;&#1089;&#1089;&#1082;&#1072;&#1078;&#1080;" TargetMode="External"/><Relationship Id="rId19" Type="http://schemas.microsoft.com/office/2007/relationships/media" Target="file:///tmp/home/.config/libreoffice/4/user/gallery/&#1088;&#1072;&#1089;&#1089;&#1082;&#1072;&#1078;&#1080;" TargetMode="External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047;&#1072;&#1076;&#1072;&#1072;&#1085;&#1080;&#1077;" TargetMode="External"/><Relationship Id="rId3" Type="http://schemas.microsoft.com/office/2007/relationships/media" Target="file:///tmp/home/.config/libreoffice/4/user/gallery/&#1047;&#1072;&#1076;&#1072;&#1072;&#1085;&#1080;&#1077;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&#1047;&#1072;&#1076;&#1072;&#1085;&#1080;&#1077;" TargetMode="External"/><Relationship Id="rId9" Type="http://schemas.microsoft.com/office/2007/relationships/media" Target="file:///tmp/home/.config/libreoffice/4/user/gallery/&#1047;&#1072;&#1076;&#1072;&#1085;&#1080;&#1077;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video" Target="file:///tmp/home/.config/libreoffice/4/user/gallery/&#1082;&#1091;&#1088;&#1080;&#1094;&#1072;" TargetMode="External"/><Relationship Id="rId4" Type="http://schemas.microsoft.com/office/2007/relationships/media" Target="file:///tmp/home/.config/libreoffice/4/user/gallery/&#1082;&#1091;&#1088;&#1080;&#1094;&#1072;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video" Target="file:///tmp/home/.config/libreoffice/4/user/gallery/&#1055;&#1045;&#1058;&#1059;&#1061;" TargetMode="External"/><Relationship Id="rId4" Type="http://schemas.microsoft.com/office/2007/relationships/media" Target="file:///tmp/home/.config/libreoffice/4/user/gallery/&#1055;&#1045;&#1058;&#1059;&#1061;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video" Target="file:///tmp/home/.config/libreoffice/4/user/gallery/&#1075;&#1091;&#1089;&#1100;" TargetMode="External"/><Relationship Id="rId4" Type="http://schemas.microsoft.com/office/2007/relationships/media" Target="file:///tmp/home/.config/libreoffice/4/user/gallery/&#1075;&#1091;&#1089;&#1100;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video" Target="file:///tmp/home/.config/libreoffice/4/user/gallery/&#1091;&#1090;&#1082;&#1072;" TargetMode="External"/><Relationship Id="rId4" Type="http://schemas.microsoft.com/office/2007/relationships/media" Target="file:///tmp/home/.config/libreoffice/4/user/gallery/&#1091;&#1090;&#1082;&#1072;" TargetMode="External"/><Relationship Id="rId5" Type="http://schemas.openxmlformats.org/officeDocument/2006/relationships/image" Target="../media/image2.png"/><Relationship Id="rId6" Type="http://schemas.openxmlformats.org/officeDocument/2006/relationships/video" Target="file:///tmp/home/.config/libreoffice/4/user/gallery/&#1091;&#1090;&#1082;&#1072;" TargetMode="External"/><Relationship Id="rId7" Type="http://schemas.microsoft.com/office/2007/relationships/media" Target="file:///tmp/home/.config/libreoffice/4/user/gallery/&#1091;&#1090;&#1082;&#1072;" TargetMode="External"/><Relationship Id="rId8" Type="http://schemas.openxmlformats.org/officeDocument/2006/relationships/image" Target="../media/image2.png"/><Relationship Id="rId9" Type="http://schemas.openxmlformats.org/officeDocument/2006/relationships/video" Target="file:///tmp/home/.config/libreoffice/4/user/gallery/&#1091;&#1090;&#1082;&#1072;" TargetMode="External"/><Relationship Id="rId10" Type="http://schemas.microsoft.com/office/2007/relationships/media" Target="file:///tmp/home/.config/libreoffice/4/user/gallery/&#1091;&#1090;&#1082;&#1072;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file:///tmp/home/.config/libreoffice/4/user/gallery/~PP2361.WAV" TargetMode="External"/><Relationship Id="rId4" Type="http://schemas.microsoft.com/office/2007/relationships/media" Target="file:///tmp/home/.config/libreoffice/4/user/gallery/~PP2361.WAV" TargetMode="External"/><Relationship Id="rId5" Type="http://schemas.openxmlformats.org/officeDocument/2006/relationships/image" Target="../media/image2.png"/><Relationship Id="rId6" Type="http://schemas.openxmlformats.org/officeDocument/2006/relationships/audio" Target="file:///tmp/home/.config/libreoffice/4/user/gallery/~PP3213.WAV" TargetMode="External"/><Relationship Id="rId7" Type="http://schemas.microsoft.com/office/2007/relationships/media" Target="file:///tmp/home/.config/libreoffice/4/user/gallery/~PP3213.WAV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video" Target="file:///tmp/home/.config/libreoffice/4/user/gallery/&#1047;&#1072;&#1076;&#1072;&#1085;&#1080;&#1077;%202" TargetMode="External"/><Relationship Id="rId7" Type="http://schemas.microsoft.com/office/2007/relationships/media" Target="file:///tmp/home/.config/libreoffice/4/user/gallery/&#1047;&#1072;&#1076;&#1072;&#1085;&#1080;&#1077;%202" TargetMode="External"/><Relationship Id="rId8" Type="http://schemas.openxmlformats.org/officeDocument/2006/relationships/image" Target="../media/image2.png"/><Relationship Id="rId9" Type="http://schemas.openxmlformats.org/officeDocument/2006/relationships/video" Target="file:///tmp/home/.config/libreoffice/4/user/gallery/&#1047;&#1072;&#1076;&#1072;&#1085;&#1080;&#1077;%202" TargetMode="External"/><Relationship Id="rId10" Type="http://schemas.microsoft.com/office/2007/relationships/media" Target="file:///tmp/home/.config/libreoffice/4/user/gallery/&#1047;&#1072;&#1076;&#1072;&#1085;&#1080;&#1077;%202" TargetMode="External"/><Relationship Id="rId11" Type="http://schemas.openxmlformats.org/officeDocument/2006/relationships/image" Target="../media/image2.png"/><Relationship Id="rId12" Type="http://schemas.openxmlformats.org/officeDocument/2006/relationships/video" Target="file:///tmp/home/.config/libreoffice/4/user/gallery/&#1047;&#1072;&#1076;&#1072;&#1072;&#1085;&#1080;&#1077;%202" TargetMode="External"/><Relationship Id="rId13" Type="http://schemas.microsoft.com/office/2007/relationships/media" Target="file:///tmp/home/.config/libreoffice/4/user/gallery/&#1047;&#1072;&#1076;&#1072;&#1072;&#1085;&#1080;&#1077;%202" TargetMode="External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video" Target="file:///tmp/home/.config/libreoffice/4/user/gallery/&#1047;&#1072;&#1076;&#1072;&#1085;&#1080;&#1077;%203" TargetMode="External"/><Relationship Id="rId6" Type="http://schemas.microsoft.com/office/2007/relationships/media" Target="file:///tmp/home/.config/libreoffice/4/user/gallery/&#1047;&#1072;&#1076;&#1072;&#1085;&#1080;&#1077;%203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2a04"/>
                </a:solidFill>
                <a:latin typeface="Arial Black"/>
              </a:rPr>
              <a:t>ДОМАШНИЕ ПТИЦ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логопеда ГДОУ д/с «Кудесница» Вдовенко М.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a04"/>
                </a:solidFill>
                <a:latin typeface="Arial Black"/>
              </a:rPr>
              <a:t>НАЗОВИ, КАКАЯ КАРТИНКА ЛИШНЯЯ? 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2087640" cy="2017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2305080" cy="208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23200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58920" y="414972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7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a04"/>
                </a:solidFill>
                <a:latin typeface="Arial Black"/>
              </a:rPr>
              <a:t>Составь рассказ о птицах по плану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0600" y="2413080"/>
            <a:ext cx="4762800" cy="324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media"/>
          </p:cNvPr>
          <p:cNvPicPr/>
          <p:nvPr>
            <a:videoFile r:link="rId15"/>
            <p:extLst>
              <p:ext uri="{DAA4B4D4-6D71-4841-9C94-3DE7FCFB9230}">
                <p14:media r:link="rId16"/>
              </p:ext>
            </p:extLst>
          </p:nvPr>
        </p:nvPicPr>
        <p:blipFill>
          <a:blip r:embed="rId1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6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2a04"/>
                </a:solidFill>
                <a:latin typeface="Arial Black"/>
              </a:rPr>
              <a:t>ЗАДАНИЕ 1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a04"/>
                </a:solidFill>
                <a:latin typeface="Tahoma"/>
              </a:rPr>
              <a:t>НАЗОВИ ДОМАШНИХ ПТИЦ НА КАРТИН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2a04"/>
                </a:solidFill>
                <a:latin typeface="Arial Black"/>
              </a:rPr>
              <a:t>КУРИЦ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0600" y="2595600"/>
            <a:ext cx="4762800" cy="2884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2a04"/>
                </a:solidFill>
                <a:latin typeface="Arial Black"/>
              </a:rPr>
              <a:t>ПЕТУХ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43280" y="2727360"/>
            <a:ext cx="3384360" cy="314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2a04"/>
                </a:solidFill>
                <a:latin typeface="Arial Black"/>
              </a:rPr>
              <a:t>ГУС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3744720" cy="46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2a04"/>
                </a:solidFill>
                <a:latin typeface="Arial Black"/>
              </a:rPr>
              <a:t>У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27280" y="2398680"/>
            <a:ext cx="4105440" cy="3406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2a04"/>
                </a:solidFill>
                <a:latin typeface="Arial Black"/>
              </a:rPr>
              <a:t>ИНДЮ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a04"/>
                </a:solidFill>
                <a:latin typeface="Arial Black"/>
              </a:rPr>
              <a:t>ПОКАЖИ КУРИЦУ, ГУСЯ, УТКУ, ИНДЮК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73672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2305080" cy="2593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5640" y="443700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867280" y="4076640"/>
            <a:ext cx="2519640" cy="2522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a04"/>
                </a:solidFill>
                <a:latin typeface="Arial Black"/>
              </a:rPr>
              <a:t>РАССКАЖИ,ЧТО ДАЮТ ПТИЦЫ ЛЮДЯМ:</a:t>
            </a:r>
            <a:r>
              <a:rPr b="0" lang="en-US" sz="40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889440" cy="381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29240" y="2262240"/>
            <a:ext cx="2274840" cy="1419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651640" y="422100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4:11:07Z</dcterms:created>
  <dc:creator>Марина</dc:creator>
  <dc:description/>
  <dc:language>en-US</dc:language>
  <cp:lastModifiedBy>Марина</cp:lastModifiedBy>
  <dcterms:modified xsi:type="dcterms:W3CDTF">2011-12-25T09:57:43Z</dcterms:modified>
  <cp:revision>21</cp:revision>
  <dc:subject/>
  <dc:title>ДОМАШНИЕ ПТИЦЫ</dc:title>
</cp:coreProperties>
</file>