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C91-CDF0-49EE-8D0D-C88428F6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CFD-CEB5-464C-9F15-A8E48CF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524-247C-4CF1-876F-6A0DE801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52F-CCF1-4478-9F83-F32E01C4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1698-7C99-4F0A-A2C9-4A17F010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48F3-3301-48FA-AE5E-BD7DD767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160B-3109-4782-885D-2BC6763C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733C-6490-4C65-90DF-270EF597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81B3-E7B6-4CD3-9CCA-63961E4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E1B3-5C3D-4A26-BCD1-528045A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D44A-AE49-4BF6-908F-3D28C0D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6B0-832E-4204-AF5C-270FB942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08AF-FEFD-4210-A00C-ABA276FE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1EAA-FB6B-4C52-AA2E-95F1E79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BDA-770A-4E17-AE67-DCF5B91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5F3-344D-43A3-8D4F-A2D05FBC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D4D-53FD-4E3B-BE24-848B6140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F0ED-8A9F-42B6-8D97-EB2BAC0B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981A-B811-421F-A897-16ED8E2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A7BF-EECC-48E2-8EA8-F09A0D67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55D4-9D84-4E8D-8049-39041979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4FA7-82FD-4573-BD89-1AC31B9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DA3-2F1F-496D-8FDF-FC884EF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2F25-1386-4269-963E-3C10E285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4698-1072-42C0-81D7-CB056D2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25F2-E3C9-44A5-9E41-5FD68AF4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AC98-15C8-4F76-92D0-81D1BC6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EB9F-AC84-486B-9B06-D977E5A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5ADA-B2DB-4EB0-93D1-14402DD2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BB2D-AF93-4B16-A325-1679EA29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4E46-7EB3-4D6A-B0F7-404D4B74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D72C-D08A-4A56-93ED-F3E4FA8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C278-D4F7-4754-BB11-1C6D681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A25-5C87-4C43-867E-865F938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AA09-9005-42D1-A073-EBE0FA3F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E8FC-C509-43F2-8FD6-855C43DE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B22F-B73A-4566-8033-D798BB2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D6C8-1941-4EBD-9FAA-064B969D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2364-8B08-4344-A2C1-BF97443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CE844-2D41-4D03-B3BE-C915B31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4521-51DB-479C-BAB8-73784896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F66E-AB73-4C6F-80B9-CCF2E323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DB65-2294-4C1D-97A3-8E895A49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DD4E0-8539-4EAA-8ABA-C4755E23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543-50D4-4421-B032-1424058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A6761-0767-4EAF-800D-1E8C20FD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89BC-2291-404B-AE6C-6E776FB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C77A-32AB-4E7B-9443-ADB4F28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5EDFF-F1A2-45F6-A6E1-EE9D56EE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368C-2B8E-41BE-9ADC-1C9A96C5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5885-7816-4584-AAD1-16207F3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B1E3-61F2-47C0-84EB-2972061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91C6-0C52-4475-8DA8-B05CD7C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145E-C007-40EB-B07A-7E55374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8F5D7-28B0-4282-88C4-760E1077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ACD-E77F-4E85-9359-E760C39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8F66-67A8-4948-BFB7-FD47BD4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9642-841B-4661-9621-6D729B29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6B8F4-8D76-4134-B288-2CE4D78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EF45-7ECE-4922-9564-92DD632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2B98-9B5B-4601-8738-7A132D3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CCDF-0B62-4988-A23B-4F380FF3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B2C6-16AA-4E34-945B-808D8F8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234B-2EEB-4E20-AE82-4D1F629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4E4E-4C57-44AA-B4D8-0AF73D7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900A-4351-4304-B6FC-B22ECBE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43A-7CC2-4EC3-A8CB-5D6A6ED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95A2-C6E6-4EE1-90B2-A7C43EDA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C725-F427-45D0-ABC2-71CDEA6C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94B9-9D73-4178-A716-3609CA4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8BD52-B90C-4FF1-B231-3819A997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65D9-F21B-4E50-9E17-273F77A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A3B68-76B0-4891-8790-9D17D06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79F2-8C0F-4FD2-9C26-84BE386E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77A7-7527-4B0A-B508-332001AB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41A8-EDFD-430F-86D1-5F8DF88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B347-1F60-4681-B43B-C88AADE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B3D-6022-4037-8308-1CB7E4B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B13A-6011-4B66-9B8E-5B58C25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AFB83-A3E6-41B5-AC7B-E85FD11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5B6E-0E99-45AB-AE31-AD25042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8899-58E8-4D72-81CB-08A11221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5E15-1B46-41F4-A692-D6249BDC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A3B-ABCF-4777-AE74-F93FA80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F1FD-FF5D-4A54-A6B9-409DE6399BE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254C-7D17-4AC5-BA44-986635664EC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5AA-44EC-4F59-B234-9DE14954368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22A-4283-4549-977F-5906316C6E0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46F-9659-4036-B159-13732CE61CB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50B7-AC2F-4E04-A661-7C3B02BC7378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067C-6F28-431B-A2AD-61F1F416D0F4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  <p:sp>
        <p:nvSpPr>
          <p:cNvPr id="303" name="Улыбающееся лицо 4"/>
          <p:cNvSpPr/>
          <p:nvPr/>
        </p:nvSpPr>
        <p:spPr>
          <a:xfrm>
            <a:off x="6516720" y="3213000"/>
            <a:ext cx="1942920" cy="1511280"/>
          </a:xfrm>
          <a:prstGeom prst="smileyFace">
            <a:avLst>
              <a:gd name="adj" fmla="val 9282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5092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5005f"/>
                </a:solidFill>
                <a:latin typeface="Arial"/>
                <a:ea typeface="Arial"/>
              </a:rPr>
              <a:t>Тетраэдр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верхность, составленная из четырех треугольник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05" name="Group 4"/>
          <p:cNvGrpSpPr/>
          <p:nvPr/>
        </p:nvGrpSpPr>
        <p:grpSpPr>
          <a:xfrm>
            <a:off x="3386520" y="1557360"/>
            <a:ext cx="4814280" cy="4914720"/>
            <a:chOff x="3386520" y="1557360"/>
            <a:chExt cx="4814280" cy="4914720"/>
          </a:xfrm>
        </p:grpSpPr>
        <p:sp>
          <p:nvSpPr>
            <p:cNvPr id="306" name="AutoShape 5"/>
            <p:cNvSpPr/>
            <p:nvPr/>
          </p:nvSpPr>
          <p:spPr>
            <a:xfrm rot="19945800">
              <a:off x="5366160" y="1890360"/>
              <a:ext cx="1703520" cy="3937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66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3519360" y="5213520"/>
              <a:ext cx="438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7"/>
            <p:cNvSpPr/>
            <p:nvPr/>
          </p:nvSpPr>
          <p:spPr>
            <a:xfrm>
              <a:off x="6145200" y="58906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8"/>
            <p:cNvSpPr/>
            <p:nvPr/>
          </p:nvSpPr>
          <p:spPr>
            <a:xfrm>
              <a:off x="3386520" y="530712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7747200" y="51404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entury Gothic"/>
                </a:rPr>
                <a:t>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0"/>
            <p:cNvSpPr/>
            <p:nvPr/>
          </p:nvSpPr>
          <p:spPr>
            <a:xfrm>
              <a:off x="483840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11"/>
            <p:cNvSpPr/>
            <p:nvPr/>
          </p:nvSpPr>
          <p:spPr>
            <a:xfrm>
              <a:off x="492624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3519360" y="2098800"/>
              <a:ext cx="2877480" cy="3888720"/>
            </a:xfrm>
            <a:custGeom>
              <a:avLst/>
              <a:gdLst>
                <a:gd name="textAreaLeft" fmla="*/ 0 w 2877480"/>
                <a:gd name="textAreaRight" fmla="*/ 2877840 w 2877480"/>
                <a:gd name="textAreaTop" fmla="*/ 0 h 3888720"/>
                <a:gd name="textAreaBottom" fmla="*/ 3889080 h 3888720"/>
              </a:gdLst>
              <a:ahLst/>
              <a:rect l="textAreaLeft" t="textAreaTop" r="textAreaRight" b="textAreaBottom"/>
              <a:pathLst>
                <a:path w="1608" h="2240">
                  <a:moveTo>
                    <a:pt x="1608" y="2240"/>
                  </a:moveTo>
                  <a:lnTo>
                    <a:pt x="984" y="0"/>
                  </a:lnTo>
                  <a:lnTo>
                    <a:pt x="0" y="1800"/>
                  </a:lnTo>
                  <a:lnTo>
                    <a:pt x="1608" y="2240"/>
                  </a:lnTo>
                  <a:close/>
                </a:path>
              </a:pathLst>
            </a:custGeom>
            <a:solidFill>
              <a:srgbClr val="ff33cc">
                <a:alpha val="5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Параллелепипе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верхность, составленная из шести параллелограмм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5" name="Group 27"/>
          <p:cNvGrpSpPr/>
          <p:nvPr/>
        </p:nvGrpSpPr>
        <p:grpSpPr>
          <a:xfrm>
            <a:off x="4716720" y="1702440"/>
            <a:ext cx="4061520" cy="3521160"/>
            <a:chOff x="4716720" y="1702440"/>
            <a:chExt cx="4061520" cy="3521160"/>
          </a:xfrm>
        </p:grpSpPr>
        <p:sp>
          <p:nvSpPr>
            <p:cNvPr id="316" name="Freeform 28"/>
            <p:cNvSpPr/>
            <p:nvPr/>
          </p:nvSpPr>
          <p:spPr>
            <a:xfrm flipH="1" rot="20520600">
              <a:off x="5734080" y="2056320"/>
              <a:ext cx="2400120" cy="676080"/>
            </a:xfrm>
            <a:custGeom>
              <a:avLst/>
              <a:gdLst>
                <a:gd name="textAreaLeft" fmla="*/ -360 w 2400120"/>
                <a:gd name="textAreaRight" fmla="*/ 2400120 w 24001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512" h="426">
                  <a:moveTo>
                    <a:pt x="0" y="420"/>
                  </a:moveTo>
                  <a:lnTo>
                    <a:pt x="1026" y="426"/>
                  </a:lnTo>
                  <a:lnTo>
                    <a:pt x="1512" y="3"/>
                  </a:lnTo>
                  <a:lnTo>
                    <a:pt x="474" y="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9"/>
            <p:cNvSpPr/>
            <p:nvPr/>
          </p:nvSpPr>
          <p:spPr>
            <a:xfrm flipH="1" rot="20520600">
              <a:off x="5072040" y="2424960"/>
              <a:ext cx="1785600" cy="258588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2585880"/>
                <a:gd name="textAreaBottom" fmla="*/ 2586240 h 2585880"/>
              </a:gdLst>
              <a:ahLst/>
              <a:rect l="textAreaLeft" t="textAreaTop" r="textAreaRight" b="textAreaBottom"/>
              <a:pathLst>
                <a:path w="1125" h="1629">
                  <a:moveTo>
                    <a:pt x="648" y="1629"/>
                  </a:moveTo>
                  <a:lnTo>
                    <a:pt x="1125" y="1215"/>
                  </a:lnTo>
                  <a:lnTo>
                    <a:pt x="480" y="0"/>
                  </a:lnTo>
                  <a:lnTo>
                    <a:pt x="0" y="417"/>
                  </a:lnTo>
                  <a:lnTo>
                    <a:pt x="648" y="1629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0"/>
            <p:cNvSpPr/>
            <p:nvPr/>
          </p:nvSpPr>
          <p:spPr>
            <a:xfrm flipH="1" rot="20520600">
              <a:off x="5878080" y="2699640"/>
              <a:ext cx="2667240" cy="1928880"/>
            </a:xfrm>
            <a:custGeom>
              <a:avLst/>
              <a:gdLst>
                <a:gd name="textAreaLeft" fmla="*/ -360 w 2667240"/>
                <a:gd name="textAreaRight" fmla="*/ 2667240 w 2667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680" h="1215">
                  <a:moveTo>
                    <a:pt x="639" y="1212"/>
                  </a:moveTo>
                  <a:lnTo>
                    <a:pt x="1680" y="1215"/>
                  </a:lnTo>
                  <a:lnTo>
                    <a:pt x="1035" y="0"/>
                  </a:lnTo>
                  <a:lnTo>
                    <a:pt x="0" y="15"/>
                  </a:lnTo>
                  <a:lnTo>
                    <a:pt x="639" y="121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5306760" y="1943280"/>
              <a:ext cx="2881800" cy="3046680"/>
              <a:chOff x="5306760" y="1943280"/>
              <a:chExt cx="2881800" cy="3046680"/>
            </a:xfrm>
          </p:grpSpPr>
          <p:sp>
            <p:nvSpPr>
              <p:cNvPr id="320" name="Line 32"/>
              <p:cNvSpPr/>
              <p:nvPr/>
            </p:nvSpPr>
            <p:spPr>
              <a:xfrm flipH="1" flipV="1">
                <a:off x="6871680" y="4083840"/>
                <a:ext cx="941760" cy="39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3"/>
              <p:cNvSpPr/>
              <p:nvPr/>
            </p:nvSpPr>
            <p:spPr>
              <a:xfrm flipH="1" rot="20520600">
                <a:off x="5269680" y="4337640"/>
                <a:ext cx="1641960" cy="720"/>
              </a:xfrm>
              <a:custGeom>
                <a:avLst/>
                <a:gdLst>
                  <a:gd name="textAreaLeft" fmla="*/ -360 w 1641960"/>
                  <a:gd name="textAreaRight" fmla="*/ 1641960 w 164196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32" h="1">
                    <a:moveTo>
                      <a:pt x="0" y="0"/>
                    </a:moveTo>
                    <a:lnTo>
                      <a:pt x="1632" y="0"/>
                    </a:lnTo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5310000" y="4591080"/>
                <a:ext cx="941760" cy="39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3" name="Group 35"/>
              <p:cNvGrpSpPr/>
              <p:nvPr/>
            </p:nvGrpSpPr>
            <p:grpSpPr>
              <a:xfrm>
                <a:off x="5680800" y="1943640"/>
                <a:ext cx="2504160" cy="906120"/>
                <a:chOff x="5680800" y="1943640"/>
                <a:chExt cx="2504160" cy="906120"/>
              </a:xfrm>
            </p:grpSpPr>
            <p:sp>
              <p:nvSpPr>
                <p:cNvPr id="324" name="Line 36"/>
                <p:cNvSpPr/>
                <p:nvPr/>
              </p:nvSpPr>
              <p:spPr>
                <a:xfrm flipH="1">
                  <a:off x="6622920" y="2342520"/>
                  <a:ext cx="1562040" cy="50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37"/>
                <p:cNvSpPr/>
                <p:nvPr/>
              </p:nvSpPr>
              <p:spPr>
                <a:xfrm flipH="1" flipV="1">
                  <a:off x="5680800" y="2450880"/>
                  <a:ext cx="941760" cy="39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38"/>
                <p:cNvSpPr/>
                <p:nvPr/>
              </p:nvSpPr>
              <p:spPr>
                <a:xfrm flipH="1" flipV="1">
                  <a:off x="7242840" y="1943640"/>
                  <a:ext cx="941760" cy="39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39"/>
                <p:cNvSpPr/>
                <p:nvPr/>
              </p:nvSpPr>
              <p:spPr>
                <a:xfrm flipH="1">
                  <a:off x="5681520" y="1944000"/>
                  <a:ext cx="1561680" cy="50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Line 40"/>
              <p:cNvSpPr/>
              <p:nvPr/>
            </p:nvSpPr>
            <p:spPr>
              <a:xfrm flipH="1">
                <a:off x="6251760" y="4482720"/>
                <a:ext cx="1561680" cy="50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Group 41"/>
              <p:cNvGrpSpPr/>
              <p:nvPr/>
            </p:nvGrpSpPr>
            <p:grpSpPr>
              <a:xfrm>
                <a:off x="5306760" y="1943280"/>
                <a:ext cx="2881800" cy="3045960"/>
                <a:chOff x="5306760" y="1943280"/>
                <a:chExt cx="2881800" cy="3045960"/>
              </a:xfrm>
            </p:grpSpPr>
            <p:sp>
              <p:nvSpPr>
                <p:cNvPr id="330" name="Line 42"/>
                <p:cNvSpPr/>
                <p:nvPr/>
              </p:nvSpPr>
              <p:spPr>
                <a:xfrm flipV="1">
                  <a:off x="5306760" y="245052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43"/>
                <p:cNvSpPr/>
                <p:nvPr/>
              </p:nvSpPr>
              <p:spPr>
                <a:xfrm flipV="1">
                  <a:off x="6868440" y="194328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44"/>
                <p:cNvSpPr/>
                <p:nvPr/>
              </p:nvSpPr>
              <p:spPr>
                <a:xfrm flipV="1">
                  <a:off x="6252120" y="2860560"/>
                  <a:ext cx="374760" cy="212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5"/>
                <p:cNvSpPr/>
                <p:nvPr/>
              </p:nvSpPr>
              <p:spPr>
                <a:xfrm flipV="1">
                  <a:off x="7813800" y="2353320"/>
                  <a:ext cx="374760" cy="212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4" name="Group 2"/>
          <p:cNvGrpSpPr/>
          <p:nvPr/>
        </p:nvGrpSpPr>
        <p:grpSpPr>
          <a:xfrm>
            <a:off x="679320" y="2350440"/>
            <a:ext cx="4494600" cy="3593520"/>
            <a:chOff x="679320" y="2350440"/>
            <a:chExt cx="4494600" cy="3593520"/>
          </a:xfrm>
        </p:grpSpPr>
        <p:sp>
          <p:nvSpPr>
            <p:cNvPr id="335" name="Freeform 3"/>
            <p:cNvSpPr/>
            <p:nvPr/>
          </p:nvSpPr>
          <p:spPr>
            <a:xfrm rot="1012800">
              <a:off x="1275120" y="2733840"/>
              <a:ext cx="2742120" cy="669960"/>
            </a:xfrm>
            <a:custGeom>
              <a:avLst/>
              <a:gdLst>
                <a:gd name="textAreaLeft" fmla="*/ 0 w 2742120"/>
                <a:gd name="textAreaRight" fmla="*/ 2742120 w 27421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1512" h="426">
                  <a:moveTo>
                    <a:pt x="0" y="420"/>
                  </a:moveTo>
                  <a:lnTo>
                    <a:pt x="1026" y="426"/>
                  </a:lnTo>
                  <a:lnTo>
                    <a:pt x="1512" y="3"/>
                  </a:lnTo>
                  <a:lnTo>
                    <a:pt x="474" y="0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4"/>
            <p:cNvSpPr/>
            <p:nvPr/>
          </p:nvSpPr>
          <p:spPr>
            <a:xfrm rot="1012800">
              <a:off x="2805120" y="3139200"/>
              <a:ext cx="2040480" cy="2563560"/>
            </a:xfrm>
            <a:custGeom>
              <a:avLst/>
              <a:gdLst>
                <a:gd name="textAreaLeft" fmla="*/ 0 w 2040480"/>
                <a:gd name="textAreaRight" fmla="*/ 2040840 w 2040480"/>
                <a:gd name="textAreaTop" fmla="*/ 0 h 2563560"/>
                <a:gd name="textAreaBottom" fmla="*/ 2563920 h 2563560"/>
              </a:gdLst>
              <a:ahLst/>
              <a:rect l="textAreaLeft" t="textAreaTop" r="textAreaRight" b="textAreaBottom"/>
              <a:pathLst>
                <a:path w="1125" h="1629">
                  <a:moveTo>
                    <a:pt x="648" y="1629"/>
                  </a:moveTo>
                  <a:lnTo>
                    <a:pt x="1125" y="1215"/>
                  </a:lnTo>
                  <a:lnTo>
                    <a:pt x="480" y="0"/>
                  </a:lnTo>
                  <a:lnTo>
                    <a:pt x="0" y="417"/>
                  </a:lnTo>
                  <a:lnTo>
                    <a:pt x="648" y="1629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 rot="1012800">
              <a:off x="891000" y="3382560"/>
              <a:ext cx="3047400" cy="1911960"/>
            </a:xfrm>
            <a:custGeom>
              <a:avLst/>
              <a:gdLst>
                <a:gd name="textAreaLeft" fmla="*/ 0 w 3047400"/>
                <a:gd name="textAreaRight" fmla="*/ 3047760 w 3047400"/>
                <a:gd name="textAreaTop" fmla="*/ 0 h 1911960"/>
                <a:gd name="textAreaBottom" fmla="*/ 1912320 h 1911960"/>
              </a:gdLst>
              <a:ahLst/>
              <a:rect l="textAreaLeft" t="textAreaTop" r="textAreaRight" b="textAreaBottom"/>
              <a:pathLst>
                <a:path w="1680" h="1215">
                  <a:moveTo>
                    <a:pt x="639" y="1212"/>
                  </a:moveTo>
                  <a:lnTo>
                    <a:pt x="1680" y="1215"/>
                  </a:lnTo>
                  <a:lnTo>
                    <a:pt x="1035" y="0"/>
                  </a:lnTo>
                  <a:lnTo>
                    <a:pt x="0" y="15"/>
                  </a:lnTo>
                  <a:lnTo>
                    <a:pt x="639" y="1212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Group 6"/>
            <p:cNvGrpSpPr/>
            <p:nvPr/>
          </p:nvGrpSpPr>
          <p:grpSpPr>
            <a:xfrm>
              <a:off x="1229040" y="2609280"/>
              <a:ext cx="3395160" cy="3083040"/>
              <a:chOff x="1229040" y="2609280"/>
              <a:chExt cx="3395160" cy="3083040"/>
            </a:xfrm>
          </p:grpSpPr>
          <p:sp>
            <p:nvSpPr>
              <p:cNvPr id="339" name="Line 7"/>
              <p:cNvSpPr/>
              <p:nvPr/>
            </p:nvSpPr>
            <p:spPr>
              <a:xfrm flipV="1">
                <a:off x="1788120" y="4767840"/>
                <a:ext cx="1037520" cy="37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 rot="1012800">
                <a:off x="2784960" y="5040360"/>
                <a:ext cx="1875960" cy="72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0 h 720"/>
                  <a:gd name="textAreaBottom" fmla="*/ 1080 h 720"/>
                </a:gdLst>
                <a:ahLst/>
                <a:rect l="textAreaLeft" t="textAreaTop" r="textAreaRight" b="textAreaBottom"/>
                <a:pathLst>
                  <a:path w="1632" h="1">
                    <a:moveTo>
                      <a:pt x="0" y="0"/>
                    </a:moveTo>
                    <a:lnTo>
                      <a:pt x="1632" y="0"/>
                    </a:lnTo>
                  </a:path>
                </a:pathLst>
              </a:custGeom>
              <a:solidFill>
                <a:srgbClr val="ffff66"/>
              </a:solidFill>
              <a:ln w="1260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"/>
              <p:cNvSpPr/>
              <p:nvPr/>
            </p:nvSpPr>
            <p:spPr>
              <a:xfrm flipH="1">
                <a:off x="3583080" y="5312880"/>
                <a:ext cx="1037520" cy="37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Group 10"/>
              <p:cNvGrpSpPr/>
              <p:nvPr/>
            </p:nvGrpSpPr>
            <p:grpSpPr>
              <a:xfrm>
                <a:off x="1232280" y="2609280"/>
                <a:ext cx="2832480" cy="924120"/>
                <a:chOff x="1232280" y="2609280"/>
                <a:chExt cx="2832480" cy="924120"/>
              </a:xfrm>
            </p:grpSpPr>
            <p:sp>
              <p:nvSpPr>
                <p:cNvPr id="343" name="Line 11"/>
                <p:cNvSpPr/>
                <p:nvPr/>
              </p:nvSpPr>
              <p:spPr>
                <a:xfrm>
                  <a:off x="1232280" y="2988720"/>
                  <a:ext cx="1794960" cy="54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2"/>
                <p:cNvSpPr/>
                <p:nvPr/>
              </p:nvSpPr>
              <p:spPr>
                <a:xfrm flipV="1">
                  <a:off x="3027600" y="3153600"/>
                  <a:ext cx="1037160" cy="37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3"/>
                <p:cNvSpPr/>
                <p:nvPr/>
              </p:nvSpPr>
              <p:spPr>
                <a:xfrm flipV="1">
                  <a:off x="1232280" y="2609280"/>
                  <a:ext cx="1037520" cy="37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4"/>
                <p:cNvSpPr/>
                <p:nvPr/>
              </p:nvSpPr>
              <p:spPr>
                <a:xfrm>
                  <a:off x="2269800" y="2609640"/>
                  <a:ext cx="1794960" cy="54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Line 15"/>
              <p:cNvSpPr/>
              <p:nvPr/>
            </p:nvSpPr>
            <p:spPr>
              <a:xfrm>
                <a:off x="1787760" y="5147640"/>
                <a:ext cx="1795320" cy="544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6"/>
              <p:cNvGrpSpPr/>
              <p:nvPr/>
            </p:nvGrpSpPr>
            <p:grpSpPr>
              <a:xfrm>
                <a:off x="1229040" y="2609280"/>
                <a:ext cx="3395160" cy="3082320"/>
                <a:chOff x="1229040" y="2609280"/>
                <a:chExt cx="3395160" cy="3082320"/>
              </a:xfrm>
            </p:grpSpPr>
            <p:sp>
              <p:nvSpPr>
                <p:cNvPr id="349" name="Line 17"/>
                <p:cNvSpPr/>
                <p:nvPr/>
              </p:nvSpPr>
              <p:spPr>
                <a:xfrm flipH="1" flipV="1">
                  <a:off x="4065120" y="315396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8"/>
                <p:cNvSpPr/>
                <p:nvPr/>
              </p:nvSpPr>
              <p:spPr>
                <a:xfrm flipH="1" flipV="1">
                  <a:off x="2269800" y="260928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9"/>
                <p:cNvSpPr/>
                <p:nvPr/>
              </p:nvSpPr>
              <p:spPr>
                <a:xfrm flipH="1" flipV="1">
                  <a:off x="3024000" y="354420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0"/>
                <p:cNvSpPr/>
                <p:nvPr/>
              </p:nvSpPr>
              <p:spPr>
                <a:xfrm flipH="1" flipV="1">
                  <a:off x="1229040" y="2999520"/>
                  <a:ext cx="559080" cy="214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92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, составленную из многоугольников и ограничивающую некоторое геометрическое тело, будем называть многогранной поверхностью или </a:t>
            </a:r>
            <a:r>
              <a:rPr b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многогранником</a:t>
            </a:r>
            <a:r>
              <a:rPr b="0" i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.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4" name="Group 8"/>
          <p:cNvGrpSpPr/>
          <p:nvPr/>
        </p:nvGrpSpPr>
        <p:grpSpPr>
          <a:xfrm>
            <a:off x="5219640" y="2276640"/>
            <a:ext cx="3313080" cy="3789000"/>
            <a:chOff x="5219640" y="2276640"/>
            <a:chExt cx="3313080" cy="3789000"/>
          </a:xfrm>
        </p:grpSpPr>
        <p:sp>
          <p:nvSpPr>
            <p:cNvPr id="355" name="Freeform 9"/>
            <p:cNvSpPr/>
            <p:nvPr/>
          </p:nvSpPr>
          <p:spPr>
            <a:xfrm>
              <a:off x="5230440" y="2287440"/>
              <a:ext cx="3301920" cy="37782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3778200"/>
                <a:gd name="textAreaBottom" fmla="*/ 3778560 h 3778200"/>
              </a:gdLst>
              <a:ahLst/>
              <a:rect l="textAreaLeft" t="textAreaTop" r="textAreaRight" b="textAreaBottom"/>
              <a:pathLst>
                <a:path w="2400" h="2832">
                  <a:moveTo>
                    <a:pt x="0" y="1576"/>
                  </a:moveTo>
                  <a:lnTo>
                    <a:pt x="1448" y="2832"/>
                  </a:lnTo>
                  <a:lnTo>
                    <a:pt x="1488" y="1720"/>
                  </a:lnTo>
                  <a:lnTo>
                    <a:pt x="2400" y="1240"/>
                  </a:lnTo>
                  <a:lnTo>
                    <a:pt x="1064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7200720" y="3941640"/>
              <a:ext cx="1331640" cy="212400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968" h="1592">
                  <a:moveTo>
                    <a:pt x="968" y="0"/>
                  </a:moveTo>
                  <a:lnTo>
                    <a:pt x="0" y="159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>
              <a:off x="5230440" y="3685680"/>
              <a:ext cx="3301920" cy="70416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2400" h="528">
                  <a:moveTo>
                    <a:pt x="2400" y="192"/>
                  </a:moveTo>
                  <a:lnTo>
                    <a:pt x="1056" y="0"/>
                  </a:lnTo>
                  <a:lnTo>
                    <a:pt x="0" y="52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6683400" y="2276640"/>
              <a:ext cx="528120" cy="377856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3778560"/>
                <a:gd name="textAreaBottom" fmla="*/ 3778920 h 3778560"/>
              </a:gdLst>
              <a:ahLst/>
              <a:rect l="textAreaLeft" t="textAreaTop" r="textAreaRight" b="textAreaBottom"/>
              <a:pathLst>
                <a:path w="384" h="2832">
                  <a:moveTo>
                    <a:pt x="0" y="0"/>
                  </a:moveTo>
                  <a:lnTo>
                    <a:pt x="0" y="1056"/>
                  </a:lnTo>
                  <a:lnTo>
                    <a:pt x="384" y="283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5219640" y="2276640"/>
              <a:ext cx="2058120" cy="2305440"/>
            </a:xfrm>
            <a:custGeom>
              <a:avLst/>
              <a:gdLst>
                <a:gd name="textAreaLeft" fmla="*/ 0 w 2058120"/>
                <a:gd name="textAreaRight" fmla="*/ 2058480 w 2058120"/>
                <a:gd name="textAreaTop" fmla="*/ 0 h 2305440"/>
                <a:gd name="textAreaBottom" fmla="*/ 2305800 h 2305440"/>
              </a:gdLst>
              <a:ahLst/>
              <a:rect l="textAreaLeft" t="textAreaTop" r="textAreaRight" b="textAreaBottom"/>
              <a:pathLst>
                <a:path w="1496" h="1728">
                  <a:moveTo>
                    <a:pt x="1064" y="0"/>
                  </a:moveTo>
                  <a:lnTo>
                    <a:pt x="0" y="1576"/>
                  </a:lnTo>
                  <a:lnTo>
                    <a:pt x="1496" y="1728"/>
                  </a:lnTo>
                  <a:lnTo>
                    <a:pt x="1072" y="10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0099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5219640" y="2276640"/>
              <a:ext cx="3313080" cy="37785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3778560"/>
                <a:gd name="textAreaBottom" fmla="*/ 3778920 h 3778560"/>
              </a:gdLst>
              <a:ahLst/>
              <a:rect l="textAreaLeft" t="textAreaTop" r="textAreaRight" b="textAreaBottom"/>
              <a:pathLst>
                <a:path w="2408" h="2832">
                  <a:moveTo>
                    <a:pt x="1448" y="2832"/>
                  </a:moveTo>
                  <a:lnTo>
                    <a:pt x="2408" y="1248"/>
                  </a:lnTo>
                  <a:lnTo>
                    <a:pt x="1064" y="0"/>
                  </a:lnTo>
                  <a:lnTo>
                    <a:pt x="1488" y="1720"/>
                  </a:lnTo>
                  <a:lnTo>
                    <a:pt x="0" y="1576"/>
                  </a:lnTo>
                  <a:lnTo>
                    <a:pt x="1448" y="2832"/>
                  </a:lnTo>
                  <a:close/>
                </a:path>
              </a:pathLst>
            </a:custGeom>
            <a:solidFill>
              <a:srgbClr val="0099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Прямоугольник 16"/>
          <p:cNvSpPr/>
          <p:nvPr/>
        </p:nvSpPr>
        <p:spPr>
          <a:xfrm>
            <a:off x="611280" y="5300640"/>
            <a:ext cx="5184720" cy="825480"/>
          </a:xfrm>
          <a:prstGeom prst="rect">
            <a:avLst/>
          </a:prstGeom>
          <a:noFill/>
          <a:ln w="9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2bd8"/>
                </a:solidFill>
                <a:latin typeface="Arial"/>
              </a:rPr>
              <a:t>Октаэд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ставлен из восьми треуг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5"/>
          <p:cNvSpPr/>
          <p:nvPr/>
        </p:nvSpPr>
        <p:spPr>
          <a:xfrm>
            <a:off x="250920" y="117360"/>
            <a:ext cx="4647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угольники, из которых составлен многогранник, назыв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ан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роны граней называю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ебра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концы ребер 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ршинам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езок, соединяющий две вершины, не принадлежащие одной грани, называ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агональю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гран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скость , по обе стороны от которой имеются точки многогранника ,называетс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кущей плоск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общая часть многогранника  и секущей плоскости 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чен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5435640" y="476280"/>
            <a:ext cx="3023640" cy="5616360"/>
            <a:chOff x="5435640" y="476280"/>
            <a:chExt cx="3023640" cy="5616360"/>
          </a:xfrm>
        </p:grpSpPr>
        <p:sp>
          <p:nvSpPr>
            <p:cNvPr id="364" name="AutoShape 22"/>
            <p:cNvSpPr/>
            <p:nvPr/>
          </p:nvSpPr>
          <p:spPr>
            <a:xfrm>
              <a:off x="5435640" y="524160"/>
              <a:ext cx="3023640" cy="5568480"/>
            </a:xfrm>
            <a:prstGeom prst="cube">
              <a:avLst>
                <a:gd name="adj" fmla="val 26962"/>
              </a:avLst>
            </a:prstGeom>
            <a:solidFill>
              <a:srgbClr val="17bb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3"/>
            <p:cNvSpPr/>
            <p:nvPr/>
          </p:nvSpPr>
          <p:spPr>
            <a:xfrm flipH="1">
              <a:off x="6213600" y="4807440"/>
              <a:ext cx="2245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4"/>
            <p:cNvSpPr/>
            <p:nvPr/>
          </p:nvSpPr>
          <p:spPr>
            <a:xfrm>
              <a:off x="6265800" y="476280"/>
              <a:ext cx="1440" cy="4283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1" h="1440">
                  <a:moveTo>
                    <a:pt x="0" y="0"/>
                  </a:moveTo>
                  <a:lnTo>
                    <a:pt x="0" y="1440"/>
                  </a:lnTo>
                </a:path>
              </a:pathLst>
            </a:custGeom>
            <a:solidFill>
              <a:srgbClr val="17bbfd"/>
            </a:solid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5"/>
            <p:cNvSpPr/>
            <p:nvPr/>
          </p:nvSpPr>
          <p:spPr>
            <a:xfrm>
              <a:off x="5435640" y="4807440"/>
              <a:ext cx="830160" cy="12848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48" h="432">
                  <a:moveTo>
                    <a:pt x="448" y="0"/>
                  </a:moveTo>
                  <a:lnTo>
                    <a:pt x="0" y="432"/>
                  </a:lnTo>
                </a:path>
              </a:pathLst>
            </a:custGeom>
            <a:solidFill>
              <a:srgbClr val="17bbfd"/>
            </a:solidFill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0"/>
            <a:ext cx="8801280" cy="1238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Users\1\Desktop\0003-003-Mnogogranniki-byvajut-vypuklymi-i-nevypuklymi.jpg"/>
          <p:cNvPicPr/>
          <p:nvPr/>
        </p:nvPicPr>
        <p:blipFill>
          <a:blip r:embed="rId2"/>
          <a:stretch/>
        </p:blipFill>
        <p:spPr>
          <a:xfrm>
            <a:off x="1042920" y="129528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684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Выпуклом многограннике сумма всех плоских углов  при каждой его вершине меньше 360 градусов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50*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-180*(n-2)=36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5435640" y="1557360"/>
            <a:ext cx="2881440" cy="4319640"/>
          </a:xfrm>
          <a:prstGeom prst="cube">
            <a:avLst>
              <a:gd name="adj" fmla="val 37763"/>
            </a:avLst>
          </a:prstGeom>
          <a:solidFill>
            <a:srgbClr val="ff0000"/>
          </a:soli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5-конечная звезда 5"/>
          <p:cNvSpPr/>
          <p:nvPr/>
        </p:nvSpPr>
        <p:spPr>
          <a:xfrm>
            <a:off x="7956720" y="333360"/>
            <a:ext cx="863280" cy="934920"/>
          </a:xfrm>
          <a:custGeom>
            <a:avLst/>
            <a:gdLst>
              <a:gd name="textAreaLeft" fmla="*/ 266760 w 863280"/>
              <a:gd name="textAreaRight" fmla="*/ 596520 w 863280"/>
              <a:gd name="textAreaTop" fmla="*/ 357120 h 934920"/>
              <a:gd name="textAreaBottom" fmla="*/ 714240 h 934920"/>
            </a:gdLst>
            <a:ahLst/>
            <a:rect l="textAreaLeft" t="textAreaTop" r="textAreaRight" b="textAreaBottom"/>
            <a:pathLst>
              <a:path w="864096" h="936104">
                <a:moveTo>
                  <a:pt x="1" y="357559"/>
                </a:moveTo>
                <a:lnTo>
                  <a:pt x="330057" y="357561"/>
                </a:lnTo>
                <a:lnTo>
                  <a:pt x="432048" y="0"/>
                </a:lnTo>
                <a:lnTo>
                  <a:pt x="534039" y="357561"/>
                </a:lnTo>
                <a:lnTo>
                  <a:pt x="864095" y="357559"/>
                </a:lnTo>
                <a:lnTo>
                  <a:pt x="597073" y="578541"/>
                </a:lnTo>
                <a:lnTo>
                  <a:pt x="699069" y="936101"/>
                </a:lnTo>
                <a:lnTo>
                  <a:pt x="432048" y="715115"/>
                </a:lnTo>
                <a:lnTo>
                  <a:pt x="165027" y="936101"/>
                </a:lnTo>
                <a:lnTo>
                  <a:pt x="267023" y="578541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6:46:04Z</dcterms:created>
  <dc:creator>1</dc:creator>
  <dc:description/>
  <dc:language>en-US</dc:language>
  <cp:lastModifiedBy>1</cp:lastModifiedBy>
  <dcterms:modified xsi:type="dcterms:W3CDTF">2011-12-26T17:39:55Z</dcterms:modified>
  <cp:revision>6</cp:revision>
  <dc:subject/>
  <dc:title>Понятие иногогранника.</dc:title>
</cp:coreProperties>
</file>