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D4B-F1BF-44D4-A3BA-F7ED4FF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9DA-D0E5-4CFB-90AF-CE6C9EE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4D9-354A-404B-9F07-CD03E974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7F3-799C-472D-9BCC-11171B3C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38D7-B599-4FEF-BCC7-AF62B084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EF11-0A97-4193-B110-EAE3E62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8898-71D6-4378-89D9-A75B4D47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3E6-1418-48AE-B818-700A9284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61C7-506E-468C-9C6D-83CCE889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2EE7-2EFD-4B07-A999-25A09C3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CEA1-731D-437B-B0CE-B3AD8295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C64-51C3-4771-AE90-B1536AA0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DA4-467E-4278-902E-1BF68BD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966A-7004-4C63-AFAA-590F700B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EDF-A9D8-455A-B2C7-B0864947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F08-566D-4A76-AC3F-EDE51EC9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6693-1F22-46A3-B29C-32FE37C3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E8F2-AA46-4B9A-A648-958E97E4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3B67-E7ED-4298-A323-53C4C8B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1CF6-07E1-45A6-9C22-DFBD3DC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DE44-2DAF-4AFD-88EC-1D63A1B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39E8-A981-49CB-868E-4397AEF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7AD-2CB3-4E8C-8B26-132D9CBB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5F31-4795-42FD-B48B-6AA0F7EA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3375-D6B1-47E1-A3AF-5A643E0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AB52-A72B-4F37-BEAE-341DE18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3AA2-5F2E-477A-8968-5D85841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90B1-D434-4691-A93C-FC70DB9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F0BD-3682-4F4D-81AC-5876391C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7734-5CBA-4610-9EF5-8B9BE23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6782-98F7-4656-90A6-AD49E49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DAFC-B126-4C34-84E3-F9A5DCFB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FA4A-75BE-424E-BB40-E13C2FD2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9F3-399A-4AF3-84BB-8F6E3390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BFDA-CA78-4BCC-9440-3FCFD24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2AA8-76AF-482A-ADED-9040E6BA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CA5EE-0DE3-413F-939C-CD15E039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E27A-8683-411C-91A0-8A9D027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8321-03A3-4832-B989-C2D63A7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1F87-FA62-4607-B065-DBABC5B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2CFD-AD3F-4ACD-8213-822C80A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DA38-A4FF-4299-92D6-EE88370C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DB79-BAB0-4D05-A117-15202449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0698-DC9B-473C-B0F7-06DD52B5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BAC-D4BD-4733-BF66-98432E6E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38E7-A492-4DB3-9963-72310988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63E1-5EBD-4919-AC5A-F3620C71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6696-D02C-49B3-BDD4-B44EC98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CD7F-2E56-4319-9EF3-57B77565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E62E-2329-4273-8E93-7446228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DE8E-92A5-4FD9-9229-7BDFC25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1EB4-ACC1-41CA-B1AE-3E08CF4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CDD3-C11D-4DE4-8A9B-2E2B295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E662-C3FD-461E-B50A-AD56C254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E312-306D-4ACA-B07C-FE5E39F0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BBC-0EA9-4664-A720-EFFF743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070D-AF7F-4353-BBEE-63EC940A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A0A50-6495-41CF-BA95-4AF6C7EA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9CB5-72D7-455C-BEC3-A4E0F6B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2E19-0974-4C4C-9DCE-6A09502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9317-1068-4D77-9D7D-DEDA7D4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6EFFE-F048-4038-8482-95375D3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D86F0-5616-4967-923C-CD02A5F7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87A74-1EEB-4B40-8082-8A44F22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AA401-E302-4C10-AF01-279A9E2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C49E-66BE-49CC-A147-AF23DED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0FA-2F8A-435D-8512-75F7E22A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36B74-5804-4E6F-BF66-014653A2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17B22-0A4B-45C1-94A2-CAAE1C27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32C54-8ACB-4462-AF47-3849C7DC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434C-597D-44FF-AB74-1E890189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DDAA-FFC6-453E-9561-44C1BB3D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6BAF-E846-47CA-9F24-D3621E0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D4B68-D4E8-446E-842C-E4E30A4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47BCA-CA9C-4BDE-B007-7892C0C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0EE4-B3EB-43B0-864C-1E06BF9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F93F-1498-4145-AB74-368EEA3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0FB-3D27-4899-8164-879A5C50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C6BF-DF0F-4ABF-9A0C-8B3F495E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48B5-88AB-43F9-8691-358CCCA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B405C-BA77-421C-82A1-7BB5C99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BB8A-2D21-417E-9B22-F7F4B4C9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38F35-AC3B-4862-8ACA-3E89EFEA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EB0-CB81-403F-AD51-C962CA66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8446-D021-41D5-A348-657FA8301D2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EBD-17A1-4EC6-8EA1-4FA88ABD835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B9B-966D-42EF-9DB9-B0EF2676D16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5BC-0773-4252-82AB-CE7096F4569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A16B-784D-4DC0-A7A1-E7D0D5DB132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C86-491B-467F-B566-06A5071146C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120F-98F5-4C92-AF2F-C4D812BA078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sp>
        <p:nvSpPr>
          <p:cNvPr id="303" name="Улыбающееся лицо 4"/>
          <p:cNvSpPr/>
          <p:nvPr/>
        </p:nvSpPr>
        <p:spPr>
          <a:xfrm>
            <a:off x="6516720" y="3213000"/>
            <a:ext cx="1942920" cy="1511280"/>
          </a:xfrm>
          <a:prstGeom prst="smileyFace">
            <a:avLst>
              <a:gd name="adj" fmla="val 9282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5092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5005f"/>
                </a:solidFill>
                <a:latin typeface="Arial"/>
                <a:ea typeface="Arial"/>
              </a:rPr>
              <a:t>Тетраэдр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верхность, составленная из четырех треугольник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05" name="Group 4"/>
          <p:cNvGrpSpPr/>
          <p:nvPr/>
        </p:nvGrpSpPr>
        <p:grpSpPr>
          <a:xfrm>
            <a:off x="3386520" y="1557360"/>
            <a:ext cx="4814280" cy="4914720"/>
            <a:chOff x="3386520" y="1557360"/>
            <a:chExt cx="4814280" cy="4914720"/>
          </a:xfrm>
        </p:grpSpPr>
        <p:sp>
          <p:nvSpPr>
            <p:cNvPr id="306" name="AutoShape 5"/>
            <p:cNvSpPr/>
            <p:nvPr/>
          </p:nvSpPr>
          <p:spPr>
            <a:xfrm rot="19945800">
              <a:off x="5366160" y="1890360"/>
              <a:ext cx="1703520" cy="3937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66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3519360" y="5213520"/>
              <a:ext cx="438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7"/>
            <p:cNvSpPr/>
            <p:nvPr/>
          </p:nvSpPr>
          <p:spPr>
            <a:xfrm>
              <a:off x="6145200" y="58906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entury Gothic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8"/>
            <p:cNvSpPr/>
            <p:nvPr/>
          </p:nvSpPr>
          <p:spPr>
            <a:xfrm>
              <a:off x="3386520" y="530712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entury Gothic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7747200" y="51404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entury Gothic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483840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11"/>
            <p:cNvSpPr/>
            <p:nvPr/>
          </p:nvSpPr>
          <p:spPr>
            <a:xfrm>
              <a:off x="492624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3519360" y="2098800"/>
              <a:ext cx="2877480" cy="3888720"/>
            </a:xfrm>
            <a:custGeom>
              <a:avLst/>
              <a:gdLst>
                <a:gd name="textAreaLeft" fmla="*/ 0 w 2877480"/>
                <a:gd name="textAreaRight" fmla="*/ 2877840 w 2877480"/>
                <a:gd name="textAreaTop" fmla="*/ 0 h 3888720"/>
                <a:gd name="textAreaBottom" fmla="*/ 3889080 h 3888720"/>
              </a:gdLst>
              <a:ahLst/>
              <a:rect l="textAreaLeft" t="textAreaTop" r="textAreaRight" b="textAreaBottom"/>
              <a:pathLst>
                <a:path w="1608" h="2240">
                  <a:moveTo>
                    <a:pt x="1608" y="2240"/>
                  </a:moveTo>
                  <a:lnTo>
                    <a:pt x="984" y="0"/>
                  </a:lnTo>
                  <a:lnTo>
                    <a:pt x="0" y="1800"/>
                  </a:lnTo>
                  <a:lnTo>
                    <a:pt x="1608" y="2240"/>
                  </a:lnTo>
                  <a:close/>
                </a:path>
              </a:pathLst>
            </a:custGeom>
            <a:solidFill>
              <a:srgbClr val="ff33cc">
                <a:alpha val="5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Параллелепипед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верхность, составленная из шести параллелограмм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5" name="Group 27"/>
          <p:cNvGrpSpPr/>
          <p:nvPr/>
        </p:nvGrpSpPr>
        <p:grpSpPr>
          <a:xfrm>
            <a:off x="4716720" y="1702440"/>
            <a:ext cx="4061520" cy="3521160"/>
            <a:chOff x="4716720" y="1702440"/>
            <a:chExt cx="4061520" cy="3521160"/>
          </a:xfrm>
        </p:grpSpPr>
        <p:sp>
          <p:nvSpPr>
            <p:cNvPr id="316" name="Freeform 28"/>
            <p:cNvSpPr/>
            <p:nvPr/>
          </p:nvSpPr>
          <p:spPr>
            <a:xfrm flipH="1" rot="20520600">
              <a:off x="5734080" y="2056320"/>
              <a:ext cx="2400120" cy="676080"/>
            </a:xfrm>
            <a:custGeom>
              <a:avLst/>
              <a:gdLst>
                <a:gd name="textAreaLeft" fmla="*/ -360 w 2400120"/>
                <a:gd name="textAreaRight" fmla="*/ 2400120 w 24001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512" h="426">
                  <a:moveTo>
                    <a:pt x="0" y="420"/>
                  </a:moveTo>
                  <a:lnTo>
                    <a:pt x="1026" y="426"/>
                  </a:lnTo>
                  <a:lnTo>
                    <a:pt x="1512" y="3"/>
                  </a:lnTo>
                  <a:lnTo>
                    <a:pt x="474" y="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9"/>
            <p:cNvSpPr/>
            <p:nvPr/>
          </p:nvSpPr>
          <p:spPr>
            <a:xfrm flipH="1" rot="20520600">
              <a:off x="5072040" y="2424960"/>
              <a:ext cx="1785600" cy="2585880"/>
            </a:xfrm>
            <a:custGeom>
              <a:avLst/>
              <a:gdLst>
                <a:gd name="textAreaLeft" fmla="*/ 0 w 1785600"/>
                <a:gd name="textAreaRight" fmla="*/ 1785600 w 1785600"/>
                <a:gd name="textAreaTop" fmla="*/ 0 h 2585880"/>
                <a:gd name="textAreaBottom" fmla="*/ 2586240 h 2585880"/>
              </a:gdLst>
              <a:ahLst/>
              <a:rect l="textAreaLeft" t="textAreaTop" r="textAreaRight" b="textAreaBottom"/>
              <a:pathLst>
                <a:path w="1125" h="1629">
                  <a:moveTo>
                    <a:pt x="648" y="1629"/>
                  </a:moveTo>
                  <a:lnTo>
                    <a:pt x="1125" y="1215"/>
                  </a:lnTo>
                  <a:lnTo>
                    <a:pt x="480" y="0"/>
                  </a:lnTo>
                  <a:lnTo>
                    <a:pt x="0" y="417"/>
                  </a:lnTo>
                  <a:lnTo>
                    <a:pt x="648" y="1629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0"/>
            <p:cNvSpPr/>
            <p:nvPr/>
          </p:nvSpPr>
          <p:spPr>
            <a:xfrm flipH="1" rot="20520600">
              <a:off x="5878080" y="2699640"/>
              <a:ext cx="2667240" cy="1928880"/>
            </a:xfrm>
            <a:custGeom>
              <a:avLst/>
              <a:gdLst>
                <a:gd name="textAreaLeft" fmla="*/ -360 w 2667240"/>
                <a:gd name="textAreaRight" fmla="*/ 2667240 w 2667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680" h="1215">
                  <a:moveTo>
                    <a:pt x="639" y="1212"/>
                  </a:moveTo>
                  <a:lnTo>
                    <a:pt x="1680" y="1215"/>
                  </a:lnTo>
                  <a:lnTo>
                    <a:pt x="1035" y="0"/>
                  </a:lnTo>
                  <a:lnTo>
                    <a:pt x="0" y="15"/>
                  </a:lnTo>
                  <a:lnTo>
                    <a:pt x="639" y="121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5306760" y="1943280"/>
              <a:ext cx="2881800" cy="3046680"/>
              <a:chOff x="5306760" y="1943280"/>
              <a:chExt cx="2881800" cy="3046680"/>
            </a:xfrm>
          </p:grpSpPr>
          <p:sp>
            <p:nvSpPr>
              <p:cNvPr id="320" name="Line 32"/>
              <p:cNvSpPr/>
              <p:nvPr/>
            </p:nvSpPr>
            <p:spPr>
              <a:xfrm flipH="1" flipV="1">
                <a:off x="6871680" y="4083840"/>
                <a:ext cx="941760" cy="39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3"/>
              <p:cNvSpPr/>
              <p:nvPr/>
            </p:nvSpPr>
            <p:spPr>
              <a:xfrm flipH="1" rot="20520600">
                <a:off x="5269680" y="4337640"/>
                <a:ext cx="1641960" cy="720"/>
              </a:xfrm>
              <a:custGeom>
                <a:avLst/>
                <a:gdLst>
                  <a:gd name="textAreaLeft" fmla="*/ -360 w 1641960"/>
                  <a:gd name="textAreaRight" fmla="*/ 1641960 w 164196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32" h="1">
                    <a:moveTo>
                      <a:pt x="0" y="0"/>
                    </a:moveTo>
                    <a:lnTo>
                      <a:pt x="1632" y="0"/>
                    </a:lnTo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5310000" y="4591080"/>
                <a:ext cx="941760" cy="39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3" name="Group 35"/>
              <p:cNvGrpSpPr/>
              <p:nvPr/>
            </p:nvGrpSpPr>
            <p:grpSpPr>
              <a:xfrm>
                <a:off x="5680800" y="1943640"/>
                <a:ext cx="2504160" cy="906120"/>
                <a:chOff x="5680800" y="1943640"/>
                <a:chExt cx="2504160" cy="906120"/>
              </a:xfrm>
            </p:grpSpPr>
            <p:sp>
              <p:nvSpPr>
                <p:cNvPr id="324" name="Line 36"/>
                <p:cNvSpPr/>
                <p:nvPr/>
              </p:nvSpPr>
              <p:spPr>
                <a:xfrm flipH="1">
                  <a:off x="6622920" y="2342520"/>
                  <a:ext cx="1562040" cy="50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37"/>
                <p:cNvSpPr/>
                <p:nvPr/>
              </p:nvSpPr>
              <p:spPr>
                <a:xfrm flipH="1" flipV="1">
                  <a:off x="5680800" y="2450880"/>
                  <a:ext cx="941760" cy="39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38"/>
                <p:cNvSpPr/>
                <p:nvPr/>
              </p:nvSpPr>
              <p:spPr>
                <a:xfrm flipH="1" flipV="1">
                  <a:off x="7242840" y="1943640"/>
                  <a:ext cx="941760" cy="39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39"/>
                <p:cNvSpPr/>
                <p:nvPr/>
              </p:nvSpPr>
              <p:spPr>
                <a:xfrm flipH="1">
                  <a:off x="5681520" y="1944000"/>
                  <a:ext cx="1561680" cy="50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Line 40"/>
              <p:cNvSpPr/>
              <p:nvPr/>
            </p:nvSpPr>
            <p:spPr>
              <a:xfrm flipH="1">
                <a:off x="6251760" y="4482720"/>
                <a:ext cx="1561680" cy="50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Group 41"/>
              <p:cNvGrpSpPr/>
              <p:nvPr/>
            </p:nvGrpSpPr>
            <p:grpSpPr>
              <a:xfrm>
                <a:off x="5306760" y="1943280"/>
                <a:ext cx="2881800" cy="3045960"/>
                <a:chOff x="5306760" y="1943280"/>
                <a:chExt cx="2881800" cy="3045960"/>
              </a:xfrm>
            </p:grpSpPr>
            <p:sp>
              <p:nvSpPr>
                <p:cNvPr id="330" name="Line 42"/>
                <p:cNvSpPr/>
                <p:nvPr/>
              </p:nvSpPr>
              <p:spPr>
                <a:xfrm flipV="1">
                  <a:off x="5306760" y="2450520"/>
                  <a:ext cx="374760" cy="212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43"/>
                <p:cNvSpPr/>
                <p:nvPr/>
              </p:nvSpPr>
              <p:spPr>
                <a:xfrm flipV="1">
                  <a:off x="6868440" y="1943280"/>
                  <a:ext cx="374760" cy="212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44"/>
                <p:cNvSpPr/>
                <p:nvPr/>
              </p:nvSpPr>
              <p:spPr>
                <a:xfrm flipV="1">
                  <a:off x="6252120" y="2860560"/>
                  <a:ext cx="374760" cy="212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5"/>
                <p:cNvSpPr/>
                <p:nvPr/>
              </p:nvSpPr>
              <p:spPr>
                <a:xfrm flipV="1">
                  <a:off x="7813800" y="2353320"/>
                  <a:ext cx="374760" cy="212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4" name="Group 2"/>
          <p:cNvGrpSpPr/>
          <p:nvPr/>
        </p:nvGrpSpPr>
        <p:grpSpPr>
          <a:xfrm>
            <a:off x="679320" y="2350440"/>
            <a:ext cx="4494600" cy="3593520"/>
            <a:chOff x="679320" y="2350440"/>
            <a:chExt cx="4494600" cy="3593520"/>
          </a:xfrm>
        </p:grpSpPr>
        <p:sp>
          <p:nvSpPr>
            <p:cNvPr id="335" name="Freeform 3"/>
            <p:cNvSpPr/>
            <p:nvPr/>
          </p:nvSpPr>
          <p:spPr>
            <a:xfrm rot="1012800">
              <a:off x="1275120" y="2733840"/>
              <a:ext cx="2742120" cy="669960"/>
            </a:xfrm>
            <a:custGeom>
              <a:avLst/>
              <a:gdLst>
                <a:gd name="textAreaLeft" fmla="*/ 0 w 2742120"/>
                <a:gd name="textAreaRight" fmla="*/ 2742120 w 274212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1512" h="426">
                  <a:moveTo>
                    <a:pt x="0" y="420"/>
                  </a:moveTo>
                  <a:lnTo>
                    <a:pt x="1026" y="426"/>
                  </a:lnTo>
                  <a:lnTo>
                    <a:pt x="1512" y="3"/>
                  </a:lnTo>
                  <a:lnTo>
                    <a:pt x="474" y="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4"/>
            <p:cNvSpPr/>
            <p:nvPr/>
          </p:nvSpPr>
          <p:spPr>
            <a:xfrm rot="1012800">
              <a:off x="2805120" y="3139200"/>
              <a:ext cx="2040480" cy="2563560"/>
            </a:xfrm>
            <a:custGeom>
              <a:avLst/>
              <a:gdLst>
                <a:gd name="textAreaLeft" fmla="*/ 0 w 2040480"/>
                <a:gd name="textAreaRight" fmla="*/ 2040840 w 2040480"/>
                <a:gd name="textAreaTop" fmla="*/ 0 h 2563560"/>
                <a:gd name="textAreaBottom" fmla="*/ 2563920 h 2563560"/>
              </a:gdLst>
              <a:ahLst/>
              <a:rect l="textAreaLeft" t="textAreaTop" r="textAreaRight" b="textAreaBottom"/>
              <a:pathLst>
                <a:path w="1125" h="1629">
                  <a:moveTo>
                    <a:pt x="648" y="1629"/>
                  </a:moveTo>
                  <a:lnTo>
                    <a:pt x="1125" y="1215"/>
                  </a:lnTo>
                  <a:lnTo>
                    <a:pt x="480" y="0"/>
                  </a:lnTo>
                  <a:lnTo>
                    <a:pt x="0" y="417"/>
                  </a:lnTo>
                  <a:lnTo>
                    <a:pt x="648" y="1629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 rot="1012800">
              <a:off x="891000" y="3382560"/>
              <a:ext cx="3047400" cy="1911960"/>
            </a:xfrm>
            <a:custGeom>
              <a:avLst/>
              <a:gdLst>
                <a:gd name="textAreaLeft" fmla="*/ 0 w 3047400"/>
                <a:gd name="textAreaRight" fmla="*/ 3047760 w 3047400"/>
                <a:gd name="textAreaTop" fmla="*/ 0 h 1911960"/>
                <a:gd name="textAreaBottom" fmla="*/ 1912320 h 1911960"/>
              </a:gdLst>
              <a:ahLst/>
              <a:rect l="textAreaLeft" t="textAreaTop" r="textAreaRight" b="textAreaBottom"/>
              <a:pathLst>
                <a:path w="1680" h="1215">
                  <a:moveTo>
                    <a:pt x="639" y="1212"/>
                  </a:moveTo>
                  <a:lnTo>
                    <a:pt x="1680" y="1215"/>
                  </a:lnTo>
                  <a:lnTo>
                    <a:pt x="1035" y="0"/>
                  </a:lnTo>
                  <a:lnTo>
                    <a:pt x="0" y="15"/>
                  </a:lnTo>
                  <a:lnTo>
                    <a:pt x="639" y="1212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Group 6"/>
            <p:cNvGrpSpPr/>
            <p:nvPr/>
          </p:nvGrpSpPr>
          <p:grpSpPr>
            <a:xfrm>
              <a:off x="1229040" y="2609280"/>
              <a:ext cx="3395160" cy="3083040"/>
              <a:chOff x="1229040" y="2609280"/>
              <a:chExt cx="3395160" cy="3083040"/>
            </a:xfrm>
          </p:grpSpPr>
          <p:sp>
            <p:nvSpPr>
              <p:cNvPr id="339" name="Line 7"/>
              <p:cNvSpPr/>
              <p:nvPr/>
            </p:nvSpPr>
            <p:spPr>
              <a:xfrm flipV="1">
                <a:off x="1788120" y="4767840"/>
                <a:ext cx="1037520" cy="37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 rot="1012800">
                <a:off x="2784960" y="5040360"/>
                <a:ext cx="1875960" cy="72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32" h="1">
                    <a:moveTo>
                      <a:pt x="0" y="0"/>
                    </a:moveTo>
                    <a:lnTo>
                      <a:pt x="1632" y="0"/>
                    </a:lnTo>
                  </a:path>
                </a:pathLst>
              </a:custGeom>
              <a:solidFill>
                <a:srgbClr val="ffff66"/>
              </a:solidFill>
              <a:ln w="1260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"/>
              <p:cNvSpPr/>
              <p:nvPr/>
            </p:nvSpPr>
            <p:spPr>
              <a:xfrm flipH="1">
                <a:off x="3583080" y="5312880"/>
                <a:ext cx="1037520" cy="37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Group 10"/>
              <p:cNvGrpSpPr/>
              <p:nvPr/>
            </p:nvGrpSpPr>
            <p:grpSpPr>
              <a:xfrm>
                <a:off x="1232280" y="2609280"/>
                <a:ext cx="2832480" cy="924120"/>
                <a:chOff x="1232280" y="2609280"/>
                <a:chExt cx="2832480" cy="924120"/>
              </a:xfrm>
            </p:grpSpPr>
            <p:sp>
              <p:nvSpPr>
                <p:cNvPr id="343" name="Line 11"/>
                <p:cNvSpPr/>
                <p:nvPr/>
              </p:nvSpPr>
              <p:spPr>
                <a:xfrm>
                  <a:off x="1232280" y="2988720"/>
                  <a:ext cx="1794960" cy="54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2"/>
                <p:cNvSpPr/>
                <p:nvPr/>
              </p:nvSpPr>
              <p:spPr>
                <a:xfrm flipV="1">
                  <a:off x="3027600" y="3153600"/>
                  <a:ext cx="1037160" cy="37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3"/>
                <p:cNvSpPr/>
                <p:nvPr/>
              </p:nvSpPr>
              <p:spPr>
                <a:xfrm flipV="1">
                  <a:off x="1232280" y="2609280"/>
                  <a:ext cx="1037520" cy="379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4"/>
                <p:cNvSpPr/>
                <p:nvPr/>
              </p:nvSpPr>
              <p:spPr>
                <a:xfrm>
                  <a:off x="2269800" y="2609640"/>
                  <a:ext cx="1794960" cy="54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Line 15"/>
              <p:cNvSpPr/>
              <p:nvPr/>
            </p:nvSpPr>
            <p:spPr>
              <a:xfrm>
                <a:off x="1787760" y="5147640"/>
                <a:ext cx="1795320" cy="54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6"/>
              <p:cNvGrpSpPr/>
              <p:nvPr/>
            </p:nvGrpSpPr>
            <p:grpSpPr>
              <a:xfrm>
                <a:off x="1229040" y="2609280"/>
                <a:ext cx="3395160" cy="3082320"/>
                <a:chOff x="1229040" y="2609280"/>
                <a:chExt cx="3395160" cy="3082320"/>
              </a:xfrm>
            </p:grpSpPr>
            <p:sp>
              <p:nvSpPr>
                <p:cNvPr id="349" name="Line 17"/>
                <p:cNvSpPr/>
                <p:nvPr/>
              </p:nvSpPr>
              <p:spPr>
                <a:xfrm flipH="1" flipV="1">
                  <a:off x="4065120" y="315396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8"/>
                <p:cNvSpPr/>
                <p:nvPr/>
              </p:nvSpPr>
              <p:spPr>
                <a:xfrm flipH="1" flipV="1">
                  <a:off x="2269800" y="260928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9"/>
                <p:cNvSpPr/>
                <p:nvPr/>
              </p:nvSpPr>
              <p:spPr>
                <a:xfrm flipH="1" flipV="1">
                  <a:off x="3024000" y="354420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0"/>
                <p:cNvSpPr/>
                <p:nvPr/>
              </p:nvSpPr>
              <p:spPr>
                <a:xfrm flipH="1" flipV="1">
                  <a:off x="1229040" y="299952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92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, составленную из многоугольников и ограничивающую некоторое геометрическое тело, будем называть многогранной поверхностью или </a:t>
            </a:r>
            <a:r>
              <a:rPr b="1" lang="ru-RU" sz="3000" spc="-1" strike="noStrike">
                <a:solidFill>
                  <a:srgbClr val="00b0f0"/>
                </a:solidFill>
                <a:latin typeface="Arial"/>
                <a:ea typeface="Arial"/>
              </a:rPr>
              <a:t>многогранником</a:t>
            </a:r>
            <a:r>
              <a:rPr b="0" i="1" lang="ru-RU" sz="3000" spc="-1" strike="noStrike">
                <a:solidFill>
                  <a:srgbClr val="00b0f0"/>
                </a:solidFill>
                <a:latin typeface="Arial"/>
                <a:ea typeface="Arial"/>
              </a:rPr>
              <a:t>.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4" name="Group 8"/>
          <p:cNvGrpSpPr/>
          <p:nvPr/>
        </p:nvGrpSpPr>
        <p:grpSpPr>
          <a:xfrm>
            <a:off x="5219640" y="2276640"/>
            <a:ext cx="3313080" cy="3789000"/>
            <a:chOff x="5219640" y="2276640"/>
            <a:chExt cx="3313080" cy="3789000"/>
          </a:xfrm>
        </p:grpSpPr>
        <p:sp>
          <p:nvSpPr>
            <p:cNvPr id="355" name="Freeform 9"/>
            <p:cNvSpPr/>
            <p:nvPr/>
          </p:nvSpPr>
          <p:spPr>
            <a:xfrm>
              <a:off x="5230440" y="2287440"/>
              <a:ext cx="3301920" cy="37782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3778200"/>
                <a:gd name="textAreaBottom" fmla="*/ 3778560 h 3778200"/>
              </a:gdLst>
              <a:ahLst/>
              <a:rect l="textAreaLeft" t="textAreaTop" r="textAreaRight" b="textAreaBottom"/>
              <a:pathLst>
                <a:path w="2400" h="2832">
                  <a:moveTo>
                    <a:pt x="0" y="1576"/>
                  </a:moveTo>
                  <a:lnTo>
                    <a:pt x="1448" y="2832"/>
                  </a:lnTo>
                  <a:lnTo>
                    <a:pt x="1488" y="1720"/>
                  </a:lnTo>
                  <a:lnTo>
                    <a:pt x="2400" y="1240"/>
                  </a:lnTo>
                  <a:lnTo>
                    <a:pt x="106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7200720" y="3941640"/>
              <a:ext cx="1331640" cy="212400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968" h="1592">
                  <a:moveTo>
                    <a:pt x="968" y="0"/>
                  </a:moveTo>
                  <a:lnTo>
                    <a:pt x="0" y="159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11"/>
            <p:cNvSpPr/>
            <p:nvPr/>
          </p:nvSpPr>
          <p:spPr>
            <a:xfrm>
              <a:off x="5230440" y="3685680"/>
              <a:ext cx="3301920" cy="70416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2400" h="528">
                  <a:moveTo>
                    <a:pt x="2400" y="192"/>
                  </a:moveTo>
                  <a:lnTo>
                    <a:pt x="1056" y="0"/>
                  </a:lnTo>
                  <a:lnTo>
                    <a:pt x="0" y="52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6683400" y="2276640"/>
              <a:ext cx="528120" cy="377856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3778560"/>
                <a:gd name="textAreaBottom" fmla="*/ 3778920 h 3778560"/>
              </a:gdLst>
              <a:ahLst/>
              <a:rect l="textAreaLeft" t="textAreaTop" r="textAreaRight" b="textAreaBottom"/>
              <a:pathLst>
                <a:path w="384" h="2832">
                  <a:moveTo>
                    <a:pt x="0" y="0"/>
                  </a:moveTo>
                  <a:lnTo>
                    <a:pt x="0" y="1056"/>
                  </a:lnTo>
                  <a:lnTo>
                    <a:pt x="384" y="283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5219640" y="2276640"/>
              <a:ext cx="2058120" cy="2305440"/>
            </a:xfrm>
            <a:custGeom>
              <a:avLst/>
              <a:gdLst>
                <a:gd name="textAreaLeft" fmla="*/ 0 w 2058120"/>
                <a:gd name="textAreaRight" fmla="*/ 2058480 w 2058120"/>
                <a:gd name="textAreaTop" fmla="*/ 0 h 2305440"/>
                <a:gd name="textAreaBottom" fmla="*/ 2305800 h 2305440"/>
              </a:gdLst>
              <a:ahLst/>
              <a:rect l="textAreaLeft" t="textAreaTop" r="textAreaRight" b="textAreaBottom"/>
              <a:pathLst>
                <a:path w="1496" h="1728">
                  <a:moveTo>
                    <a:pt x="1064" y="0"/>
                  </a:moveTo>
                  <a:lnTo>
                    <a:pt x="0" y="1576"/>
                  </a:lnTo>
                  <a:lnTo>
                    <a:pt x="1496" y="1728"/>
                  </a:lnTo>
                  <a:lnTo>
                    <a:pt x="1072" y="10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0099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5219640" y="2276640"/>
              <a:ext cx="3313080" cy="37785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3778560"/>
                <a:gd name="textAreaBottom" fmla="*/ 3778920 h 3778560"/>
              </a:gdLst>
              <a:ahLst/>
              <a:rect l="textAreaLeft" t="textAreaTop" r="textAreaRight" b="textAreaBottom"/>
              <a:pathLst>
                <a:path w="2408" h="2832">
                  <a:moveTo>
                    <a:pt x="1448" y="2832"/>
                  </a:moveTo>
                  <a:lnTo>
                    <a:pt x="2408" y="1248"/>
                  </a:lnTo>
                  <a:lnTo>
                    <a:pt x="1064" y="0"/>
                  </a:lnTo>
                  <a:lnTo>
                    <a:pt x="1488" y="1720"/>
                  </a:lnTo>
                  <a:lnTo>
                    <a:pt x="0" y="1576"/>
                  </a:lnTo>
                  <a:lnTo>
                    <a:pt x="1448" y="2832"/>
                  </a:lnTo>
                  <a:close/>
                </a:path>
              </a:pathLst>
            </a:custGeom>
            <a:solidFill>
              <a:srgbClr val="0099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Прямоугольник 16"/>
          <p:cNvSpPr/>
          <p:nvPr/>
        </p:nvSpPr>
        <p:spPr>
          <a:xfrm>
            <a:off x="611280" y="5300640"/>
            <a:ext cx="5184720" cy="825480"/>
          </a:xfrm>
          <a:prstGeom prst="rect">
            <a:avLst/>
          </a:prstGeom>
          <a:noFill/>
          <a:ln w="9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bd8"/>
                </a:solidFill>
                <a:latin typeface="Arial"/>
              </a:rPr>
              <a:t>Октаэд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ставлен из восьми треуг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5"/>
          <p:cNvSpPr/>
          <p:nvPr/>
        </p:nvSpPr>
        <p:spPr>
          <a:xfrm>
            <a:off x="250920" y="117360"/>
            <a:ext cx="4647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угольники, из которых составлен многогранник, назыв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ан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роны граней называю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бра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концы ребер 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ршинам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резок, соединяющий две вершины, не принадлежащие одной грани, называе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агональю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гран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скость , по обе стороны от которой имеются точки многогранника ,называе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кущей плоск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общая часть многогранника  и секущей плоскости 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чен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5435640" y="476280"/>
            <a:ext cx="3023640" cy="5616360"/>
            <a:chOff x="5435640" y="476280"/>
            <a:chExt cx="3023640" cy="5616360"/>
          </a:xfrm>
        </p:grpSpPr>
        <p:sp>
          <p:nvSpPr>
            <p:cNvPr id="364" name="AutoShape 22"/>
            <p:cNvSpPr/>
            <p:nvPr/>
          </p:nvSpPr>
          <p:spPr>
            <a:xfrm>
              <a:off x="5435640" y="524160"/>
              <a:ext cx="3023640" cy="5568480"/>
            </a:xfrm>
            <a:prstGeom prst="cube">
              <a:avLst>
                <a:gd name="adj" fmla="val 26962"/>
              </a:avLst>
            </a:prstGeom>
            <a:solidFill>
              <a:srgbClr val="17bb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3"/>
            <p:cNvSpPr/>
            <p:nvPr/>
          </p:nvSpPr>
          <p:spPr>
            <a:xfrm flipH="1">
              <a:off x="6213600" y="4807440"/>
              <a:ext cx="2245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4"/>
            <p:cNvSpPr/>
            <p:nvPr/>
          </p:nvSpPr>
          <p:spPr>
            <a:xfrm>
              <a:off x="6265800" y="476280"/>
              <a:ext cx="1440" cy="428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1" h="1440">
                  <a:moveTo>
                    <a:pt x="0" y="0"/>
                  </a:moveTo>
                  <a:lnTo>
                    <a:pt x="0" y="1440"/>
                  </a:lnTo>
                </a:path>
              </a:pathLst>
            </a:custGeom>
            <a:solidFill>
              <a:srgbClr val="17bbfd"/>
            </a:solid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5"/>
            <p:cNvSpPr/>
            <p:nvPr/>
          </p:nvSpPr>
          <p:spPr>
            <a:xfrm>
              <a:off x="5435640" y="4807440"/>
              <a:ext cx="830160" cy="12848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48" h="432">
                  <a:moveTo>
                    <a:pt x="448" y="0"/>
                  </a:moveTo>
                  <a:lnTo>
                    <a:pt x="0" y="432"/>
                  </a:lnTo>
                </a:path>
              </a:pathLst>
            </a:custGeom>
            <a:solidFill>
              <a:srgbClr val="17bbfd"/>
            </a:solid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0"/>
            <a:ext cx="8801280" cy="1238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Users\1\Desktop\0003-003-Mnogogranniki-byvajut-vypuklymi-i-nevypuklymi.jpg"/>
          <p:cNvPicPr/>
          <p:nvPr/>
        </p:nvPicPr>
        <p:blipFill>
          <a:blip r:embed="rId2"/>
          <a:stretch/>
        </p:blipFill>
        <p:spPr>
          <a:xfrm>
            <a:off x="1042920" y="129528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684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Выпуклом многограннике сумма всех плоских углов  при каждой его вершине меньше 360 градус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50*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-180*(n-2)=36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5435640" y="1557360"/>
            <a:ext cx="2881440" cy="4319640"/>
          </a:xfrm>
          <a:prstGeom prst="cube">
            <a:avLst>
              <a:gd name="adj" fmla="val 37763"/>
            </a:avLst>
          </a:prstGeom>
          <a:solidFill>
            <a:srgbClr val="ff0000"/>
          </a:soli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5-конечная звезда 5"/>
          <p:cNvSpPr/>
          <p:nvPr/>
        </p:nvSpPr>
        <p:spPr>
          <a:xfrm>
            <a:off x="7956720" y="333360"/>
            <a:ext cx="863280" cy="934920"/>
          </a:xfrm>
          <a:custGeom>
            <a:avLst/>
            <a:gdLst>
              <a:gd name="textAreaLeft" fmla="*/ 266760 w 863280"/>
              <a:gd name="textAreaRight" fmla="*/ 596520 w 863280"/>
              <a:gd name="textAreaTop" fmla="*/ 357120 h 934920"/>
              <a:gd name="textAreaBottom" fmla="*/ 714240 h 934920"/>
            </a:gdLst>
            <a:ahLst/>
            <a:rect l="textAreaLeft" t="textAreaTop" r="textAreaRight" b="textAreaBottom"/>
            <a:pathLst>
              <a:path w="864096" h="936104">
                <a:moveTo>
                  <a:pt x="1" y="357559"/>
                </a:moveTo>
                <a:lnTo>
                  <a:pt x="330057" y="357561"/>
                </a:lnTo>
                <a:lnTo>
                  <a:pt x="432048" y="0"/>
                </a:lnTo>
                <a:lnTo>
                  <a:pt x="534039" y="357561"/>
                </a:lnTo>
                <a:lnTo>
                  <a:pt x="864095" y="357559"/>
                </a:lnTo>
                <a:lnTo>
                  <a:pt x="597073" y="578541"/>
                </a:lnTo>
                <a:lnTo>
                  <a:pt x="699069" y="936101"/>
                </a:lnTo>
                <a:lnTo>
                  <a:pt x="432048" y="715115"/>
                </a:lnTo>
                <a:lnTo>
                  <a:pt x="165027" y="936101"/>
                </a:lnTo>
                <a:lnTo>
                  <a:pt x="267023" y="578541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6:46:04Z</dcterms:created>
  <dc:creator>1</dc:creator>
  <dc:description/>
  <dc:language>en-US</dc:language>
  <cp:lastModifiedBy>1</cp:lastModifiedBy>
  <dcterms:modified xsi:type="dcterms:W3CDTF">2011-12-26T17:39:55Z</dcterms:modified>
  <cp:revision>6</cp:revision>
  <dc:subject/>
  <dc:title>Понятие иногогранника.</dc:title>
</cp:coreProperties>
</file>