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632C-38E8-4DFD-86CD-137F120E4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1834-B168-4B42-A9D9-A4498FA2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95C9-DAE6-4682-B38A-9C1EF3154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0037-2647-428F-96E1-05FE65F2E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6F38-A022-400D-AE0B-8D7A16AA1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A2595-701D-41CA-B542-4CC2B642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BCFB-BE12-4996-8CB5-3A79A424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2A39-ABC6-45BF-9034-EB8B0F93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9F5E-5282-41DF-B92F-175BC0A0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4D64-5396-478E-BBF5-24204334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F0EC-B6F6-47D2-A84E-3C21FD8B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E0AE-CAE4-4DD1-B1FB-D082A98E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A6C3-A162-4332-AA37-8C0D7C47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90E3-5D1D-460D-A647-B200CBF4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5DC3-C4FC-4D28-87FF-9A41967D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3676-5675-485A-A24D-85DA8AC21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AF2D-0E3A-43BF-9B07-9E90A012B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DB3B1-1D08-4571-AAFF-07EAE2784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3A35D-C3E6-4D65-9250-EFD879BF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4C80A-902A-4DF2-A40C-A33A34CD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5C394-6AE1-4D1C-9587-C5747860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7616C-FD77-4ED3-8D29-170EAAFD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64E9-DBDF-4208-84E8-871A8063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25935-AAD3-447A-9800-B1A0C10E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11DDB-39E6-4FFA-86E0-3417A08D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C860B-5ED9-499F-8F77-3E225BFD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EB21E-2301-4701-8DAA-F50EBCEB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1D587-ED07-4110-8860-A3C85858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5189F-B88A-4C17-A1AF-9E0AB3448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A8675-AADA-42E6-B389-3E0967AFF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48BCD-D56E-4748-8BED-452D74253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7A00D-7ADA-440D-8AF7-40D41E47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18837-9EE2-476C-A188-23D6131E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9633-B734-4146-988C-AF461514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BEB5E-0986-4637-AE4E-08A0809B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C38FF-F602-4AD7-B52D-42CA5C6D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6BAE0-8ECC-4B23-901A-1CD5B984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D6FF3-0DD2-4E39-B684-53F790E7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3E743-58BB-4893-84C5-08501FFF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18DBE-F625-4FDF-89AE-643FD1DF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914FF-1BB4-43CD-99CF-984F54C6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D1500-6BD4-4099-91DC-8307C0D27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CAC27-8F64-4284-B93D-48F563AEB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550BF-7197-440E-9F8C-E86EE584E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F233-732D-4F95-91B7-D48CED38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6153B-A8DB-4E50-82EF-B1E1A6DA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E08E0-5619-441B-B850-CD7DEE77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6EB52-5EB8-401B-89C7-9BF5B71C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906DD-725B-4269-88EF-AC8AA36A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9A4DD-7A66-4D08-8C93-87881C73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6E965-4D7C-42CB-865C-EFB5A96D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AD255-D383-4045-8A3B-E577F818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889D7-CCE0-4F9A-9DC5-BB634EB1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AAA8F-662A-4B05-B197-8B95E152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81455-E15F-4EDE-9832-BF626966B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57FB-174F-416C-8880-B095164A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23ADB-375F-4DBC-BF59-D38FEBED9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4BB4-6721-44B1-94E7-2935B1F3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CBA2-3A7D-4BF4-BA6B-95973C67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CFFC-A466-4CD7-BE80-74D5B5E8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7BBC-6D81-4436-8B19-3EAD25A69281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2A3A-4692-4169-848B-79183C32087E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543B-5BC8-4C67-B12D-F5E85977E862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B9F3-771E-4DD0-BBC4-40735CBCA5C9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F589-B615-4700-B78B-D8398D438935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2865600" y="171360"/>
            <a:ext cx="5705280" cy="30592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етод – это дидактическая категория; совокупность приёмов, операций овладения определённой областью практического или теоретического знания, той или иной деятельностью; путь познания, способ организации процесса позна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Rectangle 2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водится новая лексика по теме «Лицо города – визитная карточка страны.» Учитель знакомит учащихся с лексикой, предназначенной для активного овладения, и одновременно предлагает каждой подгруппе дополнительный список лексики, которая может им потребоваться при обсуждении. Эта лексика предназначена для узнавания. После закрепления активной лексики, каждая группа готовит сообщени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чинается распределение ролей по группам и внутри групп. При этом каждой группе даётся определённый текст для чт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 этом же уроке возможно и овладение грамматическим материалом ( сложносочинённые предложения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Rectangle 2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руппам даётся задание выбрать свой город, где проходят рождественские базары и обосновать выбор. Каждая группа выбирает свой способ представления того или иного города, используя известную им лексику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сле того как каждая группа обосновала свою точку зрения и ответила на вопросы участников других групп, учитель организует общие обсужд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 этом уроке учитель может предложить ребятам прослушать дополнительный материал в звукозаписи, связанный с обсуждаемой проблем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Rectangle 2" descr=""/>
          <p:cNvPicPr/>
          <p:nvPr/>
        </p:nvPicPr>
        <p:blipFill>
          <a:blip r:embed="rId1"/>
          <a:stretch/>
        </p:blipFill>
        <p:spPr>
          <a:xfrm>
            <a:off x="281160" y="30240"/>
            <a:ext cx="7472160" cy="14382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аждый из участников начинает работать над своей проблемой, определённой ему группо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аждая группа работает отдельно, пытаясь организовать своё путешествие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Можно предложить в качестве образца ряд диалогов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Rectangle 2" descr=""/>
          <p:cNvPicPr/>
          <p:nvPr/>
        </p:nvPicPr>
        <p:blipFill>
          <a:blip r:embed="rId1"/>
          <a:stretch/>
        </p:blipFill>
        <p:spPr>
          <a:xfrm>
            <a:off x="255600" y="-128520"/>
            <a:ext cx="7450200" cy="15969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а предыдущих занятиях ребята определились с выбором программы пребывания, в частности с выбором достопримечательносте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 подготовке к этим урокам учащимся предлагалось подобрать из разных источников информацию, однако это не исключает помощи со стороны учите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 результате обсуждения в группах ребята составляют программу прогулки по городам и посещение их достопримечательносте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Rectangle 2" descr=""/>
          <p:cNvPicPr/>
          <p:nvPr/>
        </p:nvPicPr>
        <p:blipFill>
          <a:blip r:embed="rId1"/>
          <a:stretch/>
        </p:blipFill>
        <p:spPr>
          <a:xfrm>
            <a:off x="255600" y="-128520"/>
            <a:ext cx="7450200" cy="15969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а заключительном этапе каждая группа защищает перед всем классом свой проект, аргументируя, почему выбраны те или иные города и программы пребывания. Участники других групп задают выступающим как можно больше вопросов, стараясь найти недостатки в проекте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 окончании защиты проектов и общего обсуждения класс составляет полную программу подготовки к поездке и пребывания в Германи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317520" y="73080"/>
            <a:ext cx="7388280" cy="22986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2590560"/>
            <a:ext cx="7238880" cy="38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1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пыт и знания ребёнок должен приобрести путём работы в ходе исследования какой-либо проблемы. Таким образом, ребёнок усваивает материал быстрее и увереннее, в силу того, что удовлетворяет свою потребность в знаниях, то есть он является активным субъектом обучения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334800" y="42840"/>
            <a:ext cx="7371000" cy="14256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Связь идеи (проблемы) проекта с реальной жизнью (как страны изучаемого языка, так и страны проживания); ориентация учащихся на сопоставление и сравнение событий, явлений, фактов, из истории и жизни людей разных стран, подходов в решении тех или иных проблем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интерес к выполнению проекта со стороны всех участников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едущая роль консультативно-координирующей функции преподавател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1066320"/>
            <a:ext cx="72388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амоорганизация и ответственность участников проект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целенность на создание конкретного продукт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нопредметный и межпредметный характер проекто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ременная и структурная завершённость проект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пользование исследовательских методов; определение проблемы, выдвижение гипотезы решения поставленных задач; обсуждения методов исследования полученных данных, подведение итог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Rectangle 2" descr=""/>
          <p:cNvPicPr/>
          <p:nvPr/>
        </p:nvPicPr>
        <p:blipFill>
          <a:blip r:embed="rId1"/>
          <a:stretch/>
        </p:blipFill>
        <p:spPr>
          <a:xfrm>
            <a:off x="255600" y="-128520"/>
            <a:ext cx="7450200" cy="15969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ставление ситуаций, позволяющих выявить одну или несколько проблем по обсуждаемой тематике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движение гипотез решения поставленной проблемы («мозговой штурм»), обсуждение и обоснование каждой из гипотез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суждение методов проверки принятых гипотез в малых группах, возможных источников информации для проверки выдвинутой гипотезы; оформление результато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бота в группах над поиском фактов, аргументов, подтверждающих или опровергающих гипотезу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щита проектов (гипотез решения проблемы) каждая из групп с оппонированием со стороны всех присутствующих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явление новых пробле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7480440" cy="12430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минирующие в проекте метод или вид деятельности: исследовательский, творческий, ролево-игровой, информационный, практико-ориентированный и т.п.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метно-содержательная область: монопроект (в рамках одной области знания) и межпредметный проект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характер координации проекта: с открытой, явной координацией и со скрытой координацие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характер контактов (среди участников одной школы, одного класса, города и т.д.): внутренний, или региональный, и международный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личество участников проекта (личностные, парные, групповые); продолжительность проекта (краткосрочный, средней продолжительности, долгосрочный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сследовательски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Творчески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Ролево-игровы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нформационны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актико-ориентированны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Rectangle 2" descr=""/>
          <p:cNvPicPr/>
          <p:nvPr/>
        </p:nvPicPr>
        <p:blipFill>
          <a:blip r:embed="rId1"/>
          <a:stretch/>
        </p:blipFill>
        <p:spPr>
          <a:xfrm>
            <a:off x="255600" y="-128520"/>
            <a:ext cx="7450200" cy="15969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туация: немецкие школьники пригласили наших ребят приехать к ним на празднование Рождества и попросили обсудить культурную программу по городам Германии, выбрать и заказать заранее экскурсии ( проведение рождественских базаров в Мюнхене, Нюрнберге, Дрездене, Франкфурте 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проекта определяется как практико-ориентированный. Однако, как и любой другой проект, он предусматривает использование исследовательских метод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жет потребоваться информация исторического и географического план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Rectangle 2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туация предлагается учителем на первом уроке работы над темой «Лицо города – визитная карточка страны.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итель просит определиться с выбором города, где наиболее красочно проходят рождественские ярмарки и базары в Германии. А также определиться с выбором покупок: ёлочные украшения, традиционные сувениры и угощ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ащиеся в праве задавать учителю любые вопросы. На данном этапе урока учитель подсказывает всю необходимую для этого лексику. Проходит естественное обсуждение, где инициатива исходит от учащихся. Класс делится на подгрупп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1-12-23T09:46:50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