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4F5-2F04-42BC-8426-FB00DCC0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6B5-77C3-4AE8-9D6C-6D98F3A1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E4B-241A-4998-8BE0-EA3B28B9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1D5-B665-4FA3-9761-A3D6222F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1B1E-DD37-44A2-8D77-43A89411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F2E0-9525-41AD-A164-0FCC758C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D8F5-15E6-4F53-8000-72645E99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5020-E5BD-4C59-A8CB-A8C343D4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3496-08F5-491B-B7F1-E6AC1860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169E-8419-4B29-8441-D0A4D5AA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A899-D059-4DA2-AC05-6CB23E35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F4F4-F089-4E04-8A81-1B00D8F1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EAD2-D3DA-48FE-B121-9652FF5D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45CC-70E5-45E7-BE5F-F445E2CA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DD65-ED61-496C-8EA7-952687D2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B8BD-25F1-427B-A302-7B20F905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58D0-DAA1-4831-8021-36B49EA9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1163B-763A-4A53-88CD-4BF132B7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727E6-AC5F-422C-989C-D315C832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28206-E422-4634-89FE-90900A81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F9480-E149-4B69-B3D7-779F53DF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88E86-C240-4A8D-A1B7-65F929A0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E22-87AB-4B31-887A-FF0316F4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1DB45-5C8F-4561-8DB3-4EC78305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A57DB-CBAB-4D80-AF71-3FFACF62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84327-4A41-4CE1-9D0C-7B1A9854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F23AF-3CC8-4891-8FB7-515DBF28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3E28C-DE23-4DFB-A695-B32B41F8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CC369-B4B5-4F2C-A660-DA639003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BAA43-257C-407B-9B69-7E4DFC25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2F6A7-0A1D-427E-BBE0-7443A7CA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4BF89-3B7F-4D70-96DE-F77B9E88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2F3CA-DAA5-4063-9D3E-652A95E2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B10-B3EA-4285-AEAE-85EF96E8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56591-B27C-4C6F-8C37-9FF8FDB4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79CD7-1F36-4B0D-AA72-AF0A5B07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2A570-BC59-49EA-B2B6-FD938694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B0438-F33E-402E-8B92-77945452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D9C1C-EBA1-46F5-B542-BF66113F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9FBB3-1B84-47AF-8274-7481CF43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59DC4-0231-4266-A3A2-528D14DF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1E596-7183-4E84-A0B6-30939929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2532C-0F60-498B-9B4A-BDBA098D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DF178-DAA8-4287-8999-7E14FB19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3E0C-B672-44D6-BAE4-58234D9B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BAEFA-DA3D-479F-8023-CE2CEC6C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D0CBE-31B4-4186-BC49-85AA5844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3C7A6-1A37-413E-96EF-E893D076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8D5FD-C94C-4F6A-8CA2-3BCA202D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042ED-433B-42CB-B838-F22EB503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205D4-5F2E-4B99-95AD-AFC038F0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10B77-4B1E-4042-AFA7-A6C5BDBC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EB080-55D3-4BFF-BBFC-8E022DF7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457B6-9580-478A-8186-EE1B8364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A8DA7-D10D-48BF-B46F-DBF7E152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BD0-0978-4D6E-9B37-D7E853C0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41425-F1D1-48CB-9770-86C38C04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884-3D3F-4C66-9FCF-9999F8E5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BB7C-D458-448D-A303-66529981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558-F176-4CDB-8D91-0B6E4448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D17E-A6CB-407A-8AD2-1B0631466AF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14A0-61E3-4F4E-9904-460662466C5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1AEE-8E00-4070-A650-24E4C4E07C6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F4F2-DF77-47C1-AC1D-551C1DB2DB11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368D-7342-4834-8D06-A323205059F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2865600" y="171360"/>
            <a:ext cx="5705280" cy="3059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етод – это дидактическая категория; совокупность приёмов, операций овладения определённой областью практического или теоретического знания, той или иной деятельностью; путь познания, способ организации процесса позна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водится новая лексика по теме «Лицо города – визитная карточка страны.» Учитель знакомит учащихся с лексикой, предназначенной для активного овладения, и одновременно предлагает каждой подгруппе дополнительный список лексики, которая может им потребоваться при обсуждении. Эта лексика предназначена для узнавания. После закрепления активной лексики, каждая группа готовит сообще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чинается распределение ролей по группам и внутри групп. При этом каждой группе даётся определённый текст для чт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этом же уроке возможно и овладение грамматическим материалом ( сложносочинённые предложени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руппам даётся задание выбрать свой город, где проходят рождественские базары и обосновать выбор. Каждая группа выбирает свой способ представления того или иного города, используя известную им лексик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 того как каждая группа обосновала свою точку зрения и ответила на вопросы участников других групп, учитель организует общие обсужд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этом уроке учитель может предложить ребятам прослушать дополнительный материал в звукозаписи, связанный с обсуждаемой проблем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281160" y="30240"/>
            <a:ext cx="7472160" cy="1438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аждый из участников начинает работать над своей проблемой, определённой ему группо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аждая группа работает отдельно, пытаясь организовать своё путешестви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жно предложить в качестве образца ряд диалог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255600" y="-128520"/>
            <a:ext cx="7450200" cy="15969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предыдущих занятиях ребята определились с выбором программы пребывания, в частности с выбором достопримечательност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подготовке к этим урокам учащимся предлагалось подобрать из разных источников информацию, однако это не исключает помощи со стороны учите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результате обсуждения в группах ребята составляют программу прогулки по городам и посещение их достопримечательност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255600" y="-128520"/>
            <a:ext cx="7450200" cy="15969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заключительном этапе каждая группа защищает перед всем классом свой проект, аргументируя, почему выбраны те или иные города и программы пребывания. Участники других групп задают выступающим как можно больше вопросов, стараясь найти недостатки в проекте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защиты проектов и общего обсуждения класс составляет полную программу подготовки к поездке и пребывания в Герман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317520" y="73080"/>
            <a:ext cx="7388280" cy="2298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2590560"/>
            <a:ext cx="723888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1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ыт и знания ребёнок должен приобрести путём работы в ходе исследования какой-либо проблемы. Таким образом, ребёнок усваивает материал быстрее и увереннее, в силу того, что удовлетворяет свою потребность в знаниях, то есть он является активным субъектом обучения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334800" y="42840"/>
            <a:ext cx="7371000" cy="1425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вязь идеи (проблемы) проекта с реальной жизнью (как страны изучаемого языка, так и страны проживания); ориентация учащихся на сопоставление и сравнение событий, явлений, фактов, из истории и жизни людей разных стран, подходов в решении тех или иных проблем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нтерес к выполнению проекта со стороны всех участников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едущая роль консультативно-координирующей функции преподавател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066320"/>
            <a:ext cx="7238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моорганизация и ответственность участников проек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еленность на создание конкретного продук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нопредметный и межпредметный характер проект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еменная и структурная завершённость проек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ние исследовательских методов; определение проблемы, выдвижение гипотезы решения поставленных задач; обсуждения методов исследования полученных данных, подведение итог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255600" y="-128520"/>
            <a:ext cx="7450200" cy="1596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ставление ситуаций, позволяющих выявить одну или несколько проблем по обсуждаемой тематик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движение гипотез решения поставленной проблемы («мозговой штурм»), обсуждение и обоснование каждой из гипотез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суждение методов проверки принятых гипотез в малых группах, возможных источников информации для проверки выдвинутой гипотезы; оформление результат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в группах над поиском фактов, аргументов, подтверждающих или опровергающих гипотез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щита проектов (гипотез решения проблемы) каждая из групп с оппонированием со стороны всех присутству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явление новых пробл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480440" cy="12430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минирующие в проекте метод или вид деятельности: исследовательский, творческий, ролево-игровой, информационный, практико-ориентированный и т.п.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метно-содержательная область: монопроект (в рамках одной области знания) и межпредметный проект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арактер координации проекта: с открытой, явной координацией и со скрытой координаци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арактер контактов (среди участников одной школы, одного класса, города и т.д.): внутренний, или региональный, и международный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личество участников проекта (личностные, парные, групповые); продолжительность проекта (краткосрочный, средней продолжительности, долгосрочный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сследовательск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ворческ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олево-игровы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формационны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ктико-ориентированны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255600" y="-128520"/>
            <a:ext cx="7450200" cy="15969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я: немецкие школьники пригласили наших ребят приехать к ним на празднование Рождества и попросили обсудить культурную программу по городам Германии, выбрать и заказать заранее экскурсии ( проведение рождественских базаров в Мюнхене, Нюрнберге, Дрездене, Франкфурте 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екта определяется как практико-ориентированный. Однако, как и любой другой проект, он предусматривает использование исследовательских метод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 потребоваться информация исторического и географического пла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я предлагается учителем на первом уроке работы над темой «Лицо города – визитная карточка страны.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итель просит определиться с выбором города, где наиболее красочно проходят рождественские ярмарки и базары в Германии. А также определиться с выбором покупок: ёлочные украшения, традиционные сувениры и угощ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еся в праве задавать учителю любые вопросы. На данном этапе урока учитель подсказывает всю необходимую для этого лексику. Проходит естественное обсуждение, где инициатива исходит от учащихся. Класс делится на подгрупп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1-12-23T09:46:5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