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E34-AAE0-454B-A677-69AE7C24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7EA-705F-4B12-974A-39DD544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ED8-4BB8-4F4F-905A-FD884D24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106-36BB-41B1-9495-AA420F2A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000-DECC-4495-A728-82B70CDC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55E-F45A-44DB-9627-9B779580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D35-440D-4D3E-93B0-0B6406C9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157-D69F-4D60-8226-4AA00C28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804-D9A9-4A37-9384-00ED8129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BC3-A380-4C8E-83E0-B1BD44B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871-CAAF-4F91-85E5-859CBCA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BE0-6B4A-4D7D-B942-1C3F00B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F7E-AF8A-47CE-907E-C0BC3C1E2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vangard-212.ucoz.ru/79ce09b50a2b620d190479ba67404f31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7480" y="1046160"/>
            <a:ext cx="59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98100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роблемно-диалогическая технология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7240" y="4076640"/>
            <a:ext cx="358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Хазова Зинаида Акингин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МОУ «Верховажская нач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общеобразовательная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61640" y="604044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-main-pic" descr="Картинка 3 из 2330"/>
          <p:cNvPicPr/>
          <p:nvPr/>
        </p:nvPicPr>
        <p:blipFill>
          <a:blip r:embed="rId1"/>
          <a:stretch/>
        </p:blipFill>
        <p:spPr>
          <a:xfrm>
            <a:off x="0" y="2492280"/>
            <a:ext cx="3403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676440"/>
            <a:ext cx="776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 е л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воение и внедрение в учебный процесс проблемно – диалогической технологии как средства формирования универсальных учебных действ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4149720"/>
            <a:ext cx="664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мство с проблемно – диалогической технолог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дрение проблемно – диалогического обучения в учебный проц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полнение сценариев уроков с использованием проблемно-диалогического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7991280" cy="2664000"/>
          </a:xfrm>
          <a:custGeom>
            <a:avLst/>
            <a:gdLst>
              <a:gd name="textAreaLeft" fmla="*/ 0 w 7991280"/>
              <a:gd name="textAreaRight" fmla="*/ 7991640 w 7991280"/>
              <a:gd name="textAreaTop" fmla="*/ 345240 h 2664000"/>
              <a:gd name="textAreaBottom" fmla="*/ 23187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1120" y="1050840"/>
            <a:ext cx="79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облемно-диалогическое обучение – это ти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бучения, обеспечивающий творческое усв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наний учащимися посредством диалога с учителем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6 из 23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390840"/>
            <a:ext cx="380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7280" y="4644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буждающий от проблемной ситуац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052640"/>
          <a:ext cx="8496000" cy="4248000"/>
        </p:xfrm>
        <a:graphic>
          <a:graphicData uri="http://schemas.openxmlformats.org/drawingml/2006/table">
            <a:tbl>
              <a:tblPr/>
              <a:tblGrid>
                <a:gridCol w="3438360"/>
                <a:gridCol w="3049560"/>
                <a:gridCol w="20080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иемы создания проблем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буждение к осознанию противоре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буждение к формулированию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3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.Одновременно предъявить противоречивые факты, теории, точки зр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 факта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Что вас удивило? Что интересного заметили? Какие вы видите фак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 теория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Что вас удивило? Сколько существует теорий (точек зрения)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 Столкнуть мнения учеников вопросом или практическим задание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Сколько в классе мнений? Почему так получилось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0" y="9353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98900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3080" y="1052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60280"/>
          <a:ext cx="8640720" cy="5926320"/>
        </p:xfrm>
        <a:graphic>
          <a:graphicData uri="http://schemas.openxmlformats.org/drawingml/2006/table">
            <a:tbl>
              <a:tblPr/>
              <a:tblGrid>
                <a:gridCol w="3456000"/>
                <a:gridCol w="2849400"/>
                <a:gridCol w="2335320"/>
              </a:tblGrid>
              <a:tr h="20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.Шаг 1. Обнажить житейское представление учащихся вопросом или практическим заданием «на ошибку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Шаг 2. Предъявить научный факт сообщением, экспериментом, наглядность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Вы сначала как думали? А как на самом дел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ыбрать подходяще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Какой возникает 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Какова будет тема уро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.Дать практическое задание, не выполнимое вообщ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Вы смогли выполнить задание? Почему? В чем затруднени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.Дать практическое задание, не сходное с предыдущи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Вы смогли выполнить задание? Почему не получается? Чем это задание не похоже на предыдущи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14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. Шаг 1. Дать практическое задание, сходное с предыдущ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Шаг 2. Доказать, что задание учениками не выполн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Что вы хотели сделать? Какие знания применили? Задание выполнено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7013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87160" y="259560"/>
            <a:ext cx="629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буждающий к гипотезам диал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125360"/>
          <a:ext cx="7848360" cy="5756400"/>
        </p:xfrm>
        <a:graphic>
          <a:graphicData uri="http://schemas.openxmlformats.org/drawingml/2006/table">
            <a:tbl>
              <a:tblPr/>
              <a:tblGrid>
                <a:gridCol w="1813320"/>
                <a:gridCol w="216000"/>
                <a:gridCol w="1548720"/>
                <a:gridCol w="216000"/>
                <a:gridCol w="1619640"/>
                <a:gridCol w="243468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буждение к выдвижению гипо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буждение к проверке гипо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ст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актичес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е поб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гипотеза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- Какие есть гипотезы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аргументу/ контраргументу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Согласны с этой гипотезой? Почему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плану проверк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 Как можно проверить эту гипотезу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дсказ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решающей гипотез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аргументу/ контраргумен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плану провер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общ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шающей гипотез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ргумента/ контраргумен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а провер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522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fe"/>
            </a:gs>
            <a:gs pos="50000">
              <a:srgbClr val="6666ff"/>
            </a:gs>
            <a:gs pos="100000">
              <a:srgbClr val="b4b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103560" cy="3170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346200">
            <a:off x="1042920" y="1197000"/>
            <a:ext cx="479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.</a:t>
            </a:r>
            <a:endParaRPr b="0" lang="en-US" sz="1800" spc="1" strike="noStrike">
              <a:ln w="22320">
                <a:solidFill>
                  <a:srgbClr val="ff00ff"/>
                </a:solidFill>
                <a:prstDash val="sysDot"/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7:39:46Z</dcterms:created>
  <dc:creator>Зина</dc:creator>
  <dc:description/>
  <dc:language>en-US</dc:language>
  <cp:lastModifiedBy>Зина</cp:lastModifiedBy>
  <dcterms:modified xsi:type="dcterms:W3CDTF">2011-12-20T17:14:15Z</dcterms:modified>
  <cp:revision>7</cp:revision>
  <dc:subject/>
  <dc:title>Слайд 1</dc:title>
</cp:coreProperties>
</file>