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BE56-D2B2-40B6-B67D-CF079175A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94EB-4B0E-4DC0-9E24-BC900749A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8836-ADA2-46DE-9603-2E69FA5AC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BE6C-A366-4ECE-AD0E-D1DB002B1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685F-448D-4F6A-871E-FD8306C6C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9FC2-0FCF-413D-84FE-14449F309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9D0A-E2AD-4F7A-9E36-7199D3C8B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FCCF-7A48-4E91-A4BF-24216A448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2E6D-5D04-4491-B949-EB8DB6D8B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F741-9663-4180-B71C-E6CD97D00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689E-4FE6-4377-A3A6-AB72268BF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BA4D-624F-4916-AD9D-B190AC781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D024C-9117-4073-A60F-6F110A51EA2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754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К.И.Чуковский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619280" y="3789360"/>
            <a:ext cx="3168720" cy="2746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124000" y="1916280"/>
            <a:ext cx="2951280" cy="21808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788000" y="692280"/>
            <a:ext cx="3960720" cy="2205000"/>
          </a:xfrm>
          <a:prstGeom prst="cloudCallout">
            <a:avLst>
              <a:gd name="adj1" fmla="val -43745"/>
              <a:gd name="adj2" fmla="val 8635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"/>
          <p:cNvSpPr/>
          <p:nvPr/>
        </p:nvSpPr>
        <p:spPr>
          <a:xfrm>
            <a:off x="4786560" y="1413000"/>
            <a:ext cx="38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Кря,кря,кря!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84360" y="2565360"/>
            <a:ext cx="3958920" cy="32544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059280" y="476280"/>
            <a:ext cx="4321080" cy="1944720"/>
          </a:xfrm>
          <a:prstGeom prst="cloudCallout">
            <a:avLst>
              <a:gd name="adj1" fmla="val -44120"/>
              <a:gd name="adj2" fmla="val 542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"/>
          <p:cNvSpPr/>
          <p:nvPr/>
        </p:nvSpPr>
        <p:spPr>
          <a:xfrm>
            <a:off x="3849120" y="932040"/>
            <a:ext cx="270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М-у-у-у!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025960" y="1557360"/>
            <a:ext cx="4118040" cy="53006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 flipH="1">
            <a:off x="394560" y="476280"/>
            <a:ext cx="5256360" cy="1584360"/>
          </a:xfrm>
          <a:prstGeom prst="cloudCallout">
            <a:avLst>
              <a:gd name="adj1" fmla="val -43449"/>
              <a:gd name="adj2" fmla="val 1128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"/>
          <p:cNvSpPr/>
          <p:nvPr/>
        </p:nvSpPr>
        <p:spPr>
          <a:xfrm>
            <a:off x="1121760" y="571680"/>
            <a:ext cx="40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Ку-ка-ре-ку!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1871640" cy="16574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619280" y="0"/>
            <a:ext cx="2087640" cy="1036800"/>
          </a:xfrm>
          <a:prstGeom prst="cloudCallout">
            <a:avLst>
              <a:gd name="adj1" fmla="val -25587"/>
              <a:gd name="adj2" fmla="val 904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"/>
          <p:cNvSpPr/>
          <p:nvPr/>
        </p:nvSpPr>
        <p:spPr>
          <a:xfrm>
            <a:off x="1741680" y="333360"/>
            <a:ext cx="185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Мяу-мяу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987640" y="981000"/>
            <a:ext cx="1728720" cy="1656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187280" y="3500280"/>
            <a:ext cx="2521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"/>
          <p:cNvSpPr/>
          <p:nvPr/>
        </p:nvSpPr>
        <p:spPr>
          <a:xfrm>
            <a:off x="4356000" y="0"/>
            <a:ext cx="2592360" cy="1125360"/>
          </a:xfrm>
          <a:prstGeom prst="cloudCallout">
            <a:avLst>
              <a:gd name="adj1" fmla="val -54162"/>
              <a:gd name="adj2" fmla="val 5662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"/>
          <p:cNvSpPr/>
          <p:nvPr/>
        </p:nvSpPr>
        <p:spPr>
          <a:xfrm>
            <a:off x="4643280" y="333360"/>
            <a:ext cx="22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Хрю-хрю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5796000" y="1844640"/>
            <a:ext cx="2087640" cy="1655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7020000" y="333360"/>
            <a:ext cx="2124000" cy="792000"/>
          </a:xfrm>
          <a:prstGeom prst="cloudCallout">
            <a:avLst>
              <a:gd name="adj1" fmla="val -60087"/>
              <a:gd name="adj2" fmla="val 16202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"/>
          <p:cNvSpPr/>
          <p:nvPr/>
        </p:nvSpPr>
        <p:spPr>
          <a:xfrm>
            <a:off x="7169040" y="523800"/>
            <a:ext cx="17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Ква-ква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324000" y="3645000"/>
            <a:ext cx="1368360" cy="10112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395280" y="4437000"/>
            <a:ext cx="1476360" cy="12794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547640" y="2924280"/>
            <a:ext cx="2160720" cy="1081080"/>
          </a:xfrm>
          <a:prstGeom prst="cloudCallout">
            <a:avLst>
              <a:gd name="adj1" fmla="val -47648"/>
              <a:gd name="adj2" fmla="val 890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"/>
          <p:cNvSpPr/>
          <p:nvPr/>
        </p:nvSpPr>
        <p:spPr>
          <a:xfrm>
            <a:off x="1908000" y="3141720"/>
            <a:ext cx="17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ря,кря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2484360" y="4292640"/>
            <a:ext cx="1859040" cy="18730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924360" y="3284640"/>
            <a:ext cx="1511280" cy="792000"/>
          </a:xfrm>
          <a:prstGeom prst="cloudCallout">
            <a:avLst>
              <a:gd name="adj1" fmla="val -57037"/>
              <a:gd name="adj2" fmla="val 876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"/>
          <p:cNvSpPr/>
          <p:nvPr/>
        </p:nvSpPr>
        <p:spPr>
          <a:xfrm>
            <a:off x="4127760" y="3405240"/>
            <a:ext cx="125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М-у-у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1" name="" descr=""/>
          <p:cNvPicPr/>
          <p:nvPr/>
        </p:nvPicPr>
        <p:blipFill>
          <a:blip r:embed="rId7"/>
          <a:stretch/>
        </p:blipFill>
        <p:spPr>
          <a:xfrm>
            <a:off x="7236000" y="3573360"/>
            <a:ext cx="1584000" cy="29242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 flipH="1" flipV="1">
            <a:off x="4932360" y="4508640"/>
            <a:ext cx="2519280" cy="1225440"/>
          </a:xfrm>
          <a:prstGeom prst="cloudCallout">
            <a:avLst>
              <a:gd name="adj1" fmla="val -45842"/>
              <a:gd name="adj2" fmla="val 449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"/>
          <p:cNvSpPr/>
          <p:nvPr/>
        </p:nvSpPr>
        <p:spPr>
          <a:xfrm>
            <a:off x="5135040" y="4869000"/>
            <a:ext cx="235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Ку-ка-ре-ку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55640" y="260280"/>
            <a:ext cx="7508880" cy="1434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СКАЗКИ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692360" y="1700280"/>
            <a:ext cx="1079280" cy="1439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5867280" y="1700280"/>
            <a:ext cx="1441440" cy="1368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"/>
          <p:cNvSpPr/>
          <p:nvPr/>
        </p:nvSpPr>
        <p:spPr>
          <a:xfrm>
            <a:off x="616680" y="3348000"/>
            <a:ext cx="2535480" cy="5814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РОДНЫ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"/>
          <p:cNvSpPr/>
          <p:nvPr/>
        </p:nvSpPr>
        <p:spPr>
          <a:xfrm>
            <a:off x="5082480" y="3348000"/>
            <a:ext cx="3506040" cy="5814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ИТЕРАТУРНЫ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К.И.Чуковский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СКАЗКИ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СТИХИ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ЗАГАДКИ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1258920" y="1197000"/>
            <a:ext cx="7058160" cy="1728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пасибо за урок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987640" y="1700280"/>
            <a:ext cx="3745080" cy="472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754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Творчество</a:t>
            </a:r>
            <a:br>
              <a:rPr sz="8000"/>
            </a:b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К.И.Чуковского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К.И.Чуковский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8136000" cy="45259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СКАЗОЧНИК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15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ПЕРЕВОДЧИК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83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125  ЛЕТ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43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Сказки К.И.Чуковского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1725480" cy="252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979640" y="3860640"/>
            <a:ext cx="1800360" cy="251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804000" y="1700280"/>
            <a:ext cx="1800360" cy="252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5508720" y="3860640"/>
            <a:ext cx="1655640" cy="259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3708360" y="1700280"/>
            <a:ext cx="1951200" cy="2665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07280" cy="1143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omic Sans MS"/>
              </a:rPr>
              <a:t>ПУД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– 16 КГ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1 КГ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– 10 ШОКОЛАДОК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5 ПУДОВ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-80 ЧЕЛОВЕК ПО 10 ШОКОЛАДОК КАЖДОМУ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6 ПУДОВ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– 96 ЧЕЛОВЕК ПО 10ШОКОЛАДОК  КАЖДОМУ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" dur="2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763640" y="2060640"/>
            <a:ext cx="5689800" cy="40910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140360" y="476280"/>
            <a:ext cx="4103640" cy="1512720"/>
          </a:xfrm>
          <a:prstGeom prst="cloudCallout">
            <a:avLst>
              <a:gd name="adj1" fmla="val -49884"/>
              <a:gd name="adj2" fmla="val 509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"/>
          <p:cNvSpPr/>
          <p:nvPr/>
        </p:nvSpPr>
        <p:spPr>
          <a:xfrm>
            <a:off x="4607280" y="789120"/>
            <a:ext cx="285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Мяу-мяу!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4437000" cy="4824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059280" y="333360"/>
            <a:ext cx="4465440" cy="1511280"/>
          </a:xfrm>
          <a:prstGeom prst="cloudCallout">
            <a:avLst>
              <a:gd name="adj1" fmla="val -48722"/>
              <a:gd name="adj2" fmla="val 8413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"/>
          <p:cNvSpPr/>
          <p:nvPr/>
        </p:nvSpPr>
        <p:spPr>
          <a:xfrm>
            <a:off x="3741120" y="500040"/>
            <a:ext cx="330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Хрю,хрю!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68360" y="2349360"/>
            <a:ext cx="3983040" cy="41054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284720" y="836640"/>
            <a:ext cx="4500360" cy="1906560"/>
          </a:xfrm>
          <a:prstGeom prst="cloudCallout">
            <a:avLst>
              <a:gd name="adj1" fmla="val -49648"/>
              <a:gd name="adj2" fmla="val 638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"/>
          <p:cNvSpPr/>
          <p:nvPr/>
        </p:nvSpPr>
        <p:spPr>
          <a:xfrm>
            <a:off x="4856400" y="1268280"/>
            <a:ext cx="383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Ква-ква-ква!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3T16:19:13Z</dcterms:created>
  <dc:creator>Владимир</dc:creator>
  <dc:description/>
  <dc:language>en-US</dc:language>
  <cp:lastModifiedBy>*</cp:lastModifiedBy>
  <dcterms:modified xsi:type="dcterms:W3CDTF">2011-10-02T14:37:17Z</dcterms:modified>
  <cp:revision>11</cp:revision>
  <dc:subject/>
  <dc:title>Чу</dc:title>
</cp:coreProperties>
</file>