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71A-04AB-45FF-B7DA-0E09A802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793-49D4-4C0D-BD35-E64CCEB9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56B-28B4-4F9D-830A-B28E27E1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730-0B60-4E90-A55B-BC7E6A69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1FA-D1EB-4311-9AA1-9AABF675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CB8-5289-4624-A066-277746C0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8E7-E564-41D6-BC06-99450DFE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5B5-7653-4CB4-8BCB-F6DD97FE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984-E92B-46E4-95A8-805E07FA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DAA-76BF-4606-A8BE-84F93542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862-73A1-4D1C-B221-904DBE75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8BA-2971-41D0-BE20-C253669D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D7C5-A336-4845-929F-5F1034895E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К.И.Чуковский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3789360"/>
            <a:ext cx="3168720" cy="2746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2951280" cy="2180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88000" y="692280"/>
            <a:ext cx="3960720" cy="2205000"/>
          </a:xfrm>
          <a:prstGeom prst="cloudCallout">
            <a:avLst>
              <a:gd name="adj1" fmla="val -43745"/>
              <a:gd name="adj2" fmla="val 86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786560" y="1413000"/>
            <a:ext cx="38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ря,кря,кря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3958920" cy="3254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59280" y="476280"/>
            <a:ext cx="4321080" cy="1944720"/>
          </a:xfrm>
          <a:prstGeom prst="cloudCallout">
            <a:avLst>
              <a:gd name="adj1" fmla="val -44120"/>
              <a:gd name="adj2" fmla="val 54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3849120" y="932040"/>
            <a:ext cx="27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М-у-у-у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25960" y="1557360"/>
            <a:ext cx="4118040" cy="5300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394560" y="476280"/>
            <a:ext cx="5256360" cy="1584360"/>
          </a:xfrm>
          <a:prstGeom prst="cloudCallout">
            <a:avLst>
              <a:gd name="adj1" fmla="val -43449"/>
              <a:gd name="adj2" fmla="val 112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121760" y="571680"/>
            <a:ext cx="40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Ку-ка-ре-ку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1871640" cy="165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19280" y="0"/>
            <a:ext cx="2087640" cy="1036800"/>
          </a:xfrm>
          <a:prstGeom prst="cloudCallout">
            <a:avLst>
              <a:gd name="adj1" fmla="val -25587"/>
              <a:gd name="adj2" fmla="val 90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741680" y="33336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яу-мяу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1728720" cy="165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3500280"/>
            <a:ext cx="252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0"/>
            <a:ext cx="2592360" cy="1125360"/>
          </a:xfrm>
          <a:prstGeom prst="cloudCallout">
            <a:avLst>
              <a:gd name="adj1" fmla="val -54162"/>
              <a:gd name="adj2" fmla="val 566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33336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Хрю-хрю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796000" y="1844640"/>
            <a:ext cx="2087640" cy="165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20000" y="333360"/>
            <a:ext cx="2124000" cy="792000"/>
          </a:xfrm>
          <a:prstGeom prst="cloudCallout">
            <a:avLst>
              <a:gd name="adj1" fmla="val -60087"/>
              <a:gd name="adj2" fmla="val 162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7169040" y="52380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ва-кв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1368360" cy="101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1476360" cy="127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47640" y="2924280"/>
            <a:ext cx="2160720" cy="1081080"/>
          </a:xfrm>
          <a:prstGeom prst="cloudCallout">
            <a:avLst>
              <a:gd name="adj1" fmla="val -47648"/>
              <a:gd name="adj2" fmla="val 89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3141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я,кря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484360" y="4292640"/>
            <a:ext cx="1859040" cy="1873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24360" y="3284640"/>
            <a:ext cx="1511280" cy="792000"/>
          </a:xfrm>
          <a:prstGeom prst="cloudCallout">
            <a:avLst>
              <a:gd name="adj1" fmla="val -57037"/>
              <a:gd name="adj2" fmla="val 87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4127760" y="340524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-у-у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7236000" y="3573360"/>
            <a:ext cx="158400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>
            <a:off x="4932360" y="4508640"/>
            <a:ext cx="2519280" cy="1225440"/>
          </a:xfrm>
          <a:prstGeom prst="cloudCallout">
            <a:avLst>
              <a:gd name="adj1" fmla="val -45842"/>
              <a:gd name="adj2" fmla="val 44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5135040" y="4869000"/>
            <a:ext cx="23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у-ка-ре-ку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260280"/>
            <a:ext cx="7508880" cy="1434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692360" y="1700280"/>
            <a:ext cx="107928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700280"/>
            <a:ext cx="1441440" cy="1368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616680" y="3348000"/>
            <a:ext cx="253548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ОД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082480" y="3348000"/>
            <a:ext cx="350604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ТЕРАТУР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К.И.Чуковский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СКАЗК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СТИХ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ЗАГАДК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58920" y="1197000"/>
            <a:ext cx="705816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374508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Творчество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К.И.Чуковского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К.И.Чуковский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1360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СКАЗОЧНИ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ПЕРЕВОДЧИ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125  ЛЕТ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Сказки К.И.Чуковског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17254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79640" y="3860640"/>
            <a:ext cx="180036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04000" y="1700280"/>
            <a:ext cx="180036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08720" y="3860640"/>
            <a:ext cx="1655640" cy="25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708360" y="1700280"/>
            <a:ext cx="195120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ПУД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– 16 КГ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 КГ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10 ШОКОЛАД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5 ПУДОВ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80 ЧЕЛОВЕК ПО 10 ШОКОЛАДОК КАЖДОМ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6 ПУДОВ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96 ЧЕЛОВЕК ПО 10ШОКОЛАДОК  КАЖДОМ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689800" cy="4091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40360" y="476280"/>
            <a:ext cx="4103640" cy="1512720"/>
          </a:xfrm>
          <a:prstGeom prst="cloudCallout">
            <a:avLst>
              <a:gd name="adj1" fmla="val -49884"/>
              <a:gd name="adj2" fmla="val 50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4607280" y="789120"/>
            <a:ext cx="285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Мяу-мяу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437000" cy="4824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9280" y="333360"/>
            <a:ext cx="4465440" cy="1511280"/>
          </a:xfrm>
          <a:prstGeom prst="cloudCallout">
            <a:avLst>
              <a:gd name="adj1" fmla="val -48722"/>
              <a:gd name="adj2" fmla="val 84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3741120" y="50004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Хрю,хрю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983040" cy="4105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84720" y="836640"/>
            <a:ext cx="4500360" cy="1906560"/>
          </a:xfrm>
          <a:prstGeom prst="cloudCallout">
            <a:avLst>
              <a:gd name="adj1" fmla="val -49648"/>
              <a:gd name="adj2" fmla="val 63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4856400" y="1268280"/>
            <a:ext cx="383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ва-ква-ква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6:19:13Z</dcterms:created>
  <dc:creator>Владимир</dc:creator>
  <dc:description/>
  <dc:language>en-US</dc:language>
  <cp:lastModifiedBy>*</cp:lastModifiedBy>
  <dcterms:modified xsi:type="dcterms:W3CDTF">2011-10-02T14:37:17Z</dcterms:modified>
  <cp:revision>11</cp:revision>
  <dc:subject/>
  <dc:title>Чу</dc:title>
</cp:coreProperties>
</file>