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AF4-D7DF-4858-B5E9-970D0986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4DB-F2D7-4CCC-A17C-39E1FF38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3DD3-12CE-4B6D-A699-BC2F137A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72C0-5F24-4285-BA7E-9D358AAE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3021-7092-408A-B4A9-441A1C6F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B03C-0305-4010-8354-53A23FEE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E4EE-94E9-42FF-91CF-A07E7632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3F6E-8887-4FE7-AFE0-A24A85D2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8522-E3C6-4D58-9202-B2F700A0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19B7-C869-4470-98ED-0988BC8D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9823-E027-4ADB-9E53-BBA49031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9E5-EF6A-4CCA-BE03-280B6AB6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1A24-EC2F-423D-A7C8-3A7CE8A6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097C-89F8-4646-A094-1DE25DA5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9A03-A89F-4B78-962B-23BBED25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1020-52B4-44E1-885A-0D1CDCF3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19C0-B1FF-4CC9-9C20-6E36E4D8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463-F507-4DF2-A1FE-9EB960D9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6DE-0F00-4AAC-9C77-FC253CA7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2CC-B560-4B11-890A-EFAD23A9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B91-6C1E-48AB-9F45-B4C38A7E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57F6-03F1-4CFF-8550-53EF7AE5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00A-3FDD-4881-905E-CDD92C62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8DE-EF9D-46F1-8F62-35AF91F6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A248-36EF-48AD-B587-7083C74EA8F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461D-D8B3-4D1C-8343-DB2262EB93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ОУ « ЛИЦЕЙ №3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.Перм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Blackadder ITC"/>
              </a:rPr>
              <a:t>Физика в самостоятельных исследования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/из опыта работы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Лукиных Г.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аучно-практическая конференция.  МО  учителей . Апрель 2008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Частные методы позна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3200" y="1557000"/>
            <a:ext cx="901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Эксперимента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наблю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измер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экспериментальная проверка эмпирических законов и теоретических выв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Теоре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обобщение наблюд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выдвижение гипоте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математическая и графическая обработка данных эксперимен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осмысление (интерпретац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обобщение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ПРИМЕР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Накопленные факты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да находится в 3х состояниях: твёрдое, жидкое, газообраз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Проблем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чему одно и то же вещество может быть твёрдым, жидким, газообразным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Гипотез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дположение: что вещество состоит из отдельных мельчайших частиц, которые находятся в непрерывном движении и действуют друг на друга на очень маленьких расстояния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Следствие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ещество может находиться в газовом, жидком, твёрдом состоянии в зависимости от расстояния между молекулами и связи между ним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Эксперимент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иффузия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Дидактический аспект концепци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921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бный материал подается в фор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кспериментальных и теоретических исследован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Результатом этих исследований являю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исходные фак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эмпирические зак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модельные гипоте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теоретические вы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экспериментальная проверка теоретического предви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сихологический аспект концепции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владение школьниками опы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ватель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теллектуальное развит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етодический аспек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ория и эксперимент в содержании предмета должны быть одновременно и объектом и методом позн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Исследование (схема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535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ледование    1-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ма : Зависимость силы тяжести , действующей на тело, от его масс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Цель исследования: Установить зависимость силы тяжести действующей на тело, от его масс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орудование :Динамометр, набор грузов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ариант выполнения исследован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 .Закрепите динамометр в лапке штатива строго вертикально крючку динамомет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Последовательно подвешивайте 1,2,3,4. груза,каждый раз фиксируя показания динамомет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Результаты измерений занесите в таблиц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исло грузов1234 Масса ,кг Сила Р,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Результаты представьте графичес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.Найдите отношение силы тяжести к массе для всех результа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.Сделайте выво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940360" y="1916280"/>
            <a:ext cx="249408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Домашнее исследов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следование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ите устройство медицинского термометра (градусника) для измерения температуры тела человека. Полученную информацию, после ее анализа, запишите в таблицу 1.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блица 1.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Цена деления шкалы термометра Верхний предел шкалы термометра Нижний предел шкалы термометра Погрешность термометра Выскажите свое предположение о том, какое физическое явление ле­жит в основе действия (работы) термомет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мерьте свою температуру. Результат измерения запишите в виде: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+ \&lt;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0- \ (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— показание термометр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следование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ите устройство медицинского шприца и охарактеризуйте его как прибор для измерения объема (при отсутствии шприца это можно про­делать с мензуркой или мерной кружкой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ле рассмотрения и анализа прибора результаты запишите в таб­лицу 1.3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блица 1.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Цена деления шкалы шприца Верхний предел шкалы С помощью шприца определите объем той посуды, которой вы пользу­етесь — столовой ложки, чайной ложки, чаш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зультаты опытов, с учетом абсолютной погрешности измерения, за­пишите в таблицу 1.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блица 1.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ъем столовой ложки Объем чайной ложки Объем чашк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Для практического овладения методами научного познания предлагаются систематические упражнени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Arial"/>
              </a:rPr>
              <a:t>Упражнения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 помощью измерительной ленты измерьте длину и ширину своей комнаты и вычислите ее площад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сутках 24 часа. Выразите это время в минутах и секундах. Запишите эти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числа в стандартном вид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лина демонстрационного стола в кабинете физики равна 2,4 м. Выразите эту длину в километрах, дециметрах, сантиметрах и миллиметр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змеры поверхности крышки лабораторного стола 120 см х 50 см. Вычислите площадь поверхности крышки в квадратных сантиметрах и квадратных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етр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Исследовательский подход в обучении</a:t>
            </a:r>
            <a:br>
              <a:rPr sz="2800"/>
            </a:b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- реализация идеи</a:t>
            </a:r>
            <a:br>
              <a:rPr sz="2800"/>
            </a:b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«обучение через открытие»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ченик сам открывает закономернос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войства, явление, способ ре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не известные ему ранее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Исследовательская деятельност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292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это процесс, результатом которого     является получение субъективно объективного нового зн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Приоритеты образовательной политики: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   * развитие личности, познавательных и созидательных способностей учащихся;</a:t>
            </a:r>
            <a:br>
              <a:rPr sz="28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  </a:t>
            </a:r>
            <a:br>
              <a:rPr sz="28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* формирование современных ключевых компетентностей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нная концепция соответствует новым условиям и потребностям общества, международным тенденц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а прогрессивна, потому что личностно ориентирована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Рекомендац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Обучение должно быть построено на самостоятельной деятельности уче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На уроках должно что-то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создаватьс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а именно: знания, или умения, или объекты, или то, и друг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Высокий уровень трудности предлагаемого учебного материала (не давать знания в готовом виде, ученик должен их добыть, выполнив задание, требующее интенсивной умственной работ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Быстрый темп обучения, без пережёвывания того, что уже известно, ибо известное ослабляет работу у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Построение учебного процесса опирается на зону актуального развития и стимулирует продвижение в зону ближайшего развит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Главные идеи модернизации школьного образовани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Глубокое овладение знания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азвитие познавательных и творческих способностей уча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еятельностный подход к организации педагогического процесс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становка проблем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1810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Как осуществлять изучение школь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курса физики, применяя науч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методы познания, чтобы повыс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качество обучения учащих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ограмма двухуровнева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вый уровень по объёму и сложности не превышает требований общеобразовательного стандар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торой уровень предназначен для учащихся, изучающим физику на повышенном уровне в профильных класс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нцепция преподавания физики в профильных классах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Философская основ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овременный метод научного познания, суть которого в модельном отражении действительности, в сознательном приближении знаний к исти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957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блюдения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копленные  факты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ипотеза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еорет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ледствия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Экспериментальная провер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бщий метод позна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340000" y="2492280"/>
            <a:ext cx="3771360" cy="1828440"/>
            <a:chOff x="2340000" y="2492280"/>
            <a:chExt cx="3771360" cy="1828440"/>
          </a:xfrm>
        </p:grpSpPr>
        <p:sp>
          <p:nvSpPr>
            <p:cNvPr id="117" name=""/>
            <p:cNvSpPr/>
            <p:nvPr/>
          </p:nvSpPr>
          <p:spPr>
            <a:xfrm>
              <a:off x="2340000" y="2492280"/>
              <a:ext cx="1600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3300"/>
                  </a:solidFill>
                  <a:latin typeface="Times New Roman"/>
                </a:rPr>
                <a:t>ФАКТ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82920" y="2492280"/>
              <a:ext cx="18284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3300"/>
                  </a:solidFill>
                  <a:latin typeface="Times New Roman"/>
                </a:rPr>
                <a:t>ГИПОТЕЗ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40000" y="3636000"/>
              <a:ext cx="1600200" cy="68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3300"/>
                  </a:solidFill>
                  <a:latin typeface="Times New Roman"/>
                </a:rPr>
                <a:t>ЭКСП-Т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2920" y="3634920"/>
              <a:ext cx="18284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cc3300"/>
                  </a:solidFill>
                  <a:latin typeface="Times New Roman"/>
                </a:rPr>
                <a:t>СЛЕДСТВИ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40200" y="283536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2840" y="31780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939840" y="397800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254040" y="31777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924360" y="2781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2708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76720" y="3141720"/>
            <a:ext cx="142920" cy="503280"/>
          </a:xfrm>
          <a:prstGeom prst="downArrow">
            <a:avLst>
              <a:gd name="adj1" fmla="val 50000"/>
              <a:gd name="adj2" fmla="val 8803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24360" y="3860640"/>
            <a:ext cx="360360" cy="144720"/>
          </a:xfrm>
          <a:prstGeom prst="leftArrow">
            <a:avLst>
              <a:gd name="adj1" fmla="val 50000"/>
              <a:gd name="adj2" fmla="val 6225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87640" y="314172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4:49:35Z</dcterms:created>
  <dc:creator>Дом</dc:creator>
  <dc:description/>
  <dc:language>en-US</dc:language>
  <cp:lastModifiedBy>Дом</cp:lastModifiedBy>
  <dcterms:modified xsi:type="dcterms:W3CDTF">2008-04-23T18:50:45Z</dcterms:modified>
  <cp:revision>13</cp:revision>
  <dc:subject/>
  <dc:title>Слайд 1</dc:title>
</cp:coreProperties>
</file>