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18D1-40E3-4944-B876-DF518FC6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8D45-19B2-42A1-BACA-1A36E769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D973-D4E7-4163-BFAA-CBA1B6F4A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7E90-D63C-4AB7-AF8D-E8C7DEAED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8F0E-E270-49A1-8ECD-B6A35E906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7074-0BAF-4037-AEE8-AF45A160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1252-5D55-49E9-B8F0-188CA74B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7FB6-3282-443B-8C10-5EF8665D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CECF-49D9-49D5-8CDD-85621D13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926B-C344-4CB0-88D4-A6103798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3D1C-F7CD-4E67-B199-01E1DC2F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6BDB-9B63-47F4-AFC0-266F9211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D42C-C4E6-428A-83C4-0F4ED4AF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B805-87DC-4B0C-B6EC-FE2229D8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9D9D-171B-47D7-A65A-AC3FB702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4398-0D3F-413C-8A8A-7D220A41D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0C7D-5834-49E0-890B-AE4EC4F52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D3E02-B239-49E3-A2D0-BC0329226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57F1F-15CA-46F8-8737-1751C1BC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9A2B7-D41B-4CDE-8106-9E67CFEA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BD929-4E8E-4A25-8FCF-237EF169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3F484-6109-4EA6-9036-2C95CE48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E5FD-FD78-4562-BA06-A5BE5C25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5EFB1-88DC-4D25-966A-47493558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86B0A-7432-4548-8B8D-0D437D77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8112C-6DFC-4237-B71E-5E18E372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2704F-4FC8-43EF-92B0-5550634F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601B5-536F-439B-955D-E1E71944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A4F6A-1EA2-44D9-BD18-59B897281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BBC7F-D3B0-419C-B5CA-115532408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7B8D5-A077-43F1-9ED9-0B92CBE97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25056-2E54-4D00-A4BE-66918531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86B53-FE6E-488B-AD84-EC29AD60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C082-26D5-43DF-8109-9A67B7B7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0BB48-C559-4853-BB38-F1D5803B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1DD16-FE55-4314-9089-AA2B83F5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C1B3D-6325-4E3D-95B7-0EA400C1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B211E-9493-4FA1-B716-29E72319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7E38D-70FD-46BF-A4EE-070323B3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38BC3-FCE3-471A-8A0C-F548A753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E3134-0BF9-4C81-B0A3-6DF1AFA8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4BCA3-27FE-483E-ABF9-1B281F41E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17BBB-D04F-48BD-B087-E887A20C4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C96F-35E0-49EB-AB7B-3C8A05F1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A1A5-C613-458B-AD3A-DF3964BE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ABB8-E639-4767-AB19-8715C787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5DDE-B9EC-4759-B864-3391A635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AFEE-60C3-40CD-8695-BC89AE1E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5e72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5e7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5e72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94FB-A932-4813-9CA9-DED0B02290EA}" type="slidenum">
              <a:rPr b="0" lang="en-US" sz="1200" spc="-1" strike="noStrike">
                <a:solidFill>
                  <a:srgbClr val="565e7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cacc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cacc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cacc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AF7D-5759-4626-99BD-82F98FDDE683}" type="slidenum">
              <a:rPr b="0" lang="en-US" sz="1200" spc="-1" strike="noStrike">
                <a:solidFill>
                  <a:srgbClr val="cacacc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cacc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cacc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cacc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CA6D-6F07-4772-9351-46341E9858A7}" type="slidenum">
              <a:rPr b="0" lang="en-US" sz="1200" spc="-1" strike="noStrike">
                <a:solidFill>
                  <a:srgbClr val="cacacc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5e72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5e7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5e72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83F0-C2F2-40E6-95E4-2C51ECAB6555}" type="slidenum">
              <a:rPr b="0" lang="en-US" sz="1200" spc="-1" strike="noStrike">
                <a:solidFill>
                  <a:srgbClr val="565e7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Рисунок 6" descr="1205585719_korobochki-1.jpg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60880"/>
          </a:xfrm>
          <a:prstGeom prst="rect">
            <a:avLst/>
          </a:prstGeom>
          <a:ln w="0">
            <a:noFill/>
          </a:ln>
        </p:spPr>
      </p:pic>
      <p:pic>
        <p:nvPicPr>
          <p:cNvPr id="196" name="Прямоугольник 7" descr=""/>
          <p:cNvPicPr/>
          <p:nvPr/>
        </p:nvPicPr>
        <p:blipFill>
          <a:blip r:embed="rId3"/>
          <a:stretch/>
        </p:blipFill>
        <p:spPr>
          <a:xfrm>
            <a:off x="450720" y="103320"/>
            <a:ext cx="8626680" cy="1957320"/>
          </a:xfrm>
          <a:prstGeom prst="rect">
            <a:avLst/>
          </a:prstGeom>
          <a:ln w="0">
            <a:noFill/>
          </a:ln>
        </p:spPr>
      </p:pic>
      <p:sp>
        <p:nvSpPr>
          <p:cNvPr id="197" name="TextBox 8"/>
          <p:cNvSpPr/>
          <p:nvPr/>
        </p:nvSpPr>
        <p:spPr>
          <a:xfrm>
            <a:off x="3009240" y="6000840"/>
            <a:ext cx="53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Выполнила: Ермакова Майя , МОУ лицей №2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Руководитель: Бурцева Г.М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"/>
          <p:cNvSpPr/>
          <p:nvPr/>
        </p:nvSpPr>
        <p:spPr>
          <a:xfrm>
            <a:off x="0" y="120168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Цели и задачи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00b0f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 Black"/>
                <a:ea typeface="Times New Roman"/>
              </a:rPr>
              <a:t>Ознакомиться с историей развития вышивки крест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00b0f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 Black"/>
                <a:ea typeface="Times New Roman"/>
              </a:rPr>
              <a:t>Закрепить умения выполнять  счетные шв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00b0f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 Black"/>
                <a:ea typeface="Times New Roman"/>
              </a:rPr>
              <a:t>Воспитывать любовь к одному из самых древних видов искусства - вышивка крест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00b0f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 Black"/>
                <a:ea typeface="Times New Roman"/>
              </a:rPr>
              <a:t>Усовершенствование своих возможностей в области проектной деятельност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"/>
          <p:cNvSpPr/>
          <p:nvPr/>
        </p:nvSpPr>
        <p:spPr>
          <a:xfrm>
            <a:off x="0" y="383040"/>
            <a:ext cx="9144000" cy="57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Black"/>
                <a:ea typeface="Times New Roman"/>
              </a:rPr>
              <a:t>Выбор и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Black"/>
                <a:ea typeface="Times New Roman"/>
              </a:rPr>
              <a:t>обоснование проблемы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000"/>
                </a:solidFill>
                <a:latin typeface="Arial Black"/>
                <a:ea typeface="Times New Roman"/>
              </a:rPr>
              <a:t>Просматривая сборник стихотворений, я встретила замечательные строчки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 Black"/>
                <a:ea typeface="Times New Roman"/>
              </a:rPr>
              <a:t>Есть в природе знак святой и вещи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 Black"/>
                <a:ea typeface="Times New Roman"/>
              </a:rPr>
              <a:t>Ярко обозначенный в века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 Black"/>
                <a:ea typeface="Times New Roman"/>
              </a:rPr>
              <a:t>Самая прекрасная из женщин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 Black"/>
                <a:ea typeface="Times New Roman"/>
              </a:rPr>
              <a:t>Женщина с ребенком на руках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 Black"/>
                <a:ea typeface="Times New Roman"/>
              </a:rPr>
              <a:t>Пусть ей вечно солнце рукоплещет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 Black"/>
                <a:ea typeface="Times New Roman"/>
              </a:rPr>
              <a:t>Так она и будет жить в веках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 Black"/>
                <a:ea typeface="Times New Roman"/>
              </a:rPr>
              <a:t>Самая прекрасная из женщин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 Black"/>
                <a:ea typeface="Times New Roman"/>
              </a:rPr>
              <a:t>Женщина с ребенком на руках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000"/>
                </a:solidFill>
                <a:latin typeface="Arial Black"/>
                <a:ea typeface="Times New Roman"/>
              </a:rPr>
              <a:t>28 ноября в России празднуется день матери. И к этому дню мне хотелось бы приготовить подарок маме. Значит надо поискать идеи для подарка и приступать к выполнению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"/>
          <p:cNvSpPr/>
          <p:nvPr/>
        </p:nvSpPr>
        <p:spPr>
          <a:xfrm>
            <a:off x="1734480" y="429840"/>
            <a:ext cx="60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 Black"/>
                <a:ea typeface="Times New Roman"/>
              </a:rPr>
              <a:t>Составление схемы работы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02" name="Group 2"/>
          <p:cNvGrpSpPr/>
          <p:nvPr/>
        </p:nvGrpSpPr>
        <p:grpSpPr>
          <a:xfrm>
            <a:off x="1000080" y="1285920"/>
            <a:ext cx="8001000" cy="5072040"/>
            <a:chOff x="1000080" y="1285920"/>
            <a:chExt cx="8001000" cy="5072040"/>
          </a:xfrm>
        </p:grpSpPr>
        <p:sp>
          <p:nvSpPr>
            <p:cNvPr id="203" name="AutoShape 20"/>
            <p:cNvSpPr/>
            <p:nvPr/>
          </p:nvSpPr>
          <p:spPr>
            <a:xfrm>
              <a:off x="1000080" y="1285920"/>
              <a:ext cx="8001000" cy="507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04" name="Oval 19"/>
            <p:cNvSpPr/>
            <p:nvPr/>
          </p:nvSpPr>
          <p:spPr>
            <a:xfrm>
              <a:off x="3760560" y="3340800"/>
              <a:ext cx="1775160" cy="10011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Georgia"/>
                  <a:ea typeface="Times New Roman"/>
                </a:rPr>
                <a:t>Вышивка </a:t>
              </a:r>
              <a:endParaRPr b="0" lang="en-US" sz="15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Georgia"/>
                  <a:ea typeface="Times New Roman"/>
                </a:rPr>
                <a:t>крестом</a:t>
              </a:r>
              <a:endParaRPr b="0" lang="en-US" sz="15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05" name="Oval 18"/>
            <p:cNvSpPr/>
            <p:nvPr/>
          </p:nvSpPr>
          <p:spPr>
            <a:xfrm>
              <a:off x="2228040" y="1385640"/>
              <a:ext cx="2322360" cy="12913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Georgia"/>
                  <a:ea typeface="Times New Roman"/>
                </a:rPr>
                <a:t>Охрана</a:t>
              </a:r>
              <a:endParaRPr b="0" lang="en-US" sz="15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Georgia"/>
                  <a:ea typeface="Times New Roman"/>
                </a:rPr>
                <a:t>труда</a:t>
              </a:r>
              <a:endParaRPr b="0" lang="en-US" sz="15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06" name="Oval 17"/>
            <p:cNvSpPr/>
            <p:nvPr/>
          </p:nvSpPr>
          <p:spPr>
            <a:xfrm>
              <a:off x="1180800" y="2595960"/>
              <a:ext cx="2087280" cy="11916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вязь с</a:t>
              </a:r>
              <a:endParaRPr b="0" lang="en-US" sz="15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экологией</a:t>
              </a:r>
              <a:endParaRPr b="0" lang="en-US" sz="15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07" name="Oval 16"/>
            <p:cNvSpPr/>
            <p:nvPr/>
          </p:nvSpPr>
          <p:spPr>
            <a:xfrm>
              <a:off x="1739520" y="5166720"/>
              <a:ext cx="2641680" cy="11912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Экономические</a:t>
              </a:r>
              <a:endParaRPr b="0" lang="en-US" sz="15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затраты</a:t>
              </a:r>
              <a:endParaRPr b="0" lang="en-US" sz="15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08" name="Oval 15"/>
            <p:cNvSpPr/>
            <p:nvPr/>
          </p:nvSpPr>
          <p:spPr>
            <a:xfrm>
              <a:off x="5870520" y="4061160"/>
              <a:ext cx="2320200" cy="11908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Технология</a:t>
              </a:r>
              <a:endParaRPr b="0" lang="en-US" sz="15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изготовления</a:t>
              </a:r>
              <a:endParaRPr b="0" lang="en-US" sz="15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09" name="Oval 14"/>
            <p:cNvSpPr/>
            <p:nvPr/>
          </p:nvSpPr>
          <p:spPr>
            <a:xfrm>
              <a:off x="5870520" y="2677320"/>
              <a:ext cx="2183760" cy="12916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Georgia"/>
                  <a:ea typeface="Times New Roman"/>
                </a:rPr>
                <a:t>Выбор </a:t>
              </a:r>
              <a:endParaRPr b="0" lang="en-US" sz="15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Georgia"/>
                  <a:ea typeface="Times New Roman"/>
                </a:rPr>
                <a:t>эскиза</a:t>
              </a:r>
              <a:endParaRPr b="0" lang="en-US" sz="15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10" name="Oval 13"/>
            <p:cNvSpPr/>
            <p:nvPr/>
          </p:nvSpPr>
          <p:spPr>
            <a:xfrm>
              <a:off x="4767840" y="1404000"/>
              <a:ext cx="2184840" cy="11919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Georgia"/>
                  <a:ea typeface="Times New Roman"/>
                </a:rPr>
                <a:t>История</a:t>
              </a:r>
              <a:endParaRPr b="0" lang="en-US" sz="15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Georgia"/>
                  <a:ea typeface="Times New Roman"/>
                </a:rPr>
                <a:t>вышивания</a:t>
              </a:r>
              <a:endParaRPr b="0" lang="en-US" sz="15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11" name="Line 12"/>
            <p:cNvSpPr/>
            <p:nvPr/>
          </p:nvSpPr>
          <p:spPr>
            <a:xfrm flipV="1">
              <a:off x="5040720" y="2595600"/>
              <a:ext cx="495000" cy="74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12" name="Line 11"/>
            <p:cNvSpPr/>
            <p:nvPr/>
          </p:nvSpPr>
          <p:spPr>
            <a:xfrm flipV="1">
              <a:off x="5430600" y="3504240"/>
              <a:ext cx="43992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13" name="Line 10"/>
            <p:cNvSpPr/>
            <p:nvPr/>
          </p:nvSpPr>
          <p:spPr>
            <a:xfrm>
              <a:off x="4892760" y="4342320"/>
              <a:ext cx="537480" cy="8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14" name="Line 9"/>
            <p:cNvSpPr/>
            <p:nvPr/>
          </p:nvSpPr>
          <p:spPr>
            <a:xfrm flipV="1">
              <a:off x="3641040" y="4341960"/>
              <a:ext cx="649440" cy="8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15" name="Line 8"/>
            <p:cNvSpPr/>
            <p:nvPr/>
          </p:nvSpPr>
          <p:spPr>
            <a:xfrm>
              <a:off x="3186000" y="3504240"/>
              <a:ext cx="57456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16" name="Line 7"/>
            <p:cNvSpPr/>
            <p:nvPr/>
          </p:nvSpPr>
          <p:spPr>
            <a:xfrm>
              <a:off x="3760560" y="2677320"/>
              <a:ext cx="621000" cy="66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17" name="Oval 6"/>
            <p:cNvSpPr/>
            <p:nvPr/>
          </p:nvSpPr>
          <p:spPr>
            <a:xfrm>
              <a:off x="1000080" y="3974760"/>
              <a:ext cx="2185920" cy="11916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Georgia"/>
                  <a:ea typeface="Times New Roman"/>
                </a:rPr>
                <a:t>время</a:t>
              </a:r>
              <a:endParaRPr b="0" lang="en-US" sz="15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18" name="Oval 5"/>
            <p:cNvSpPr/>
            <p:nvPr/>
          </p:nvSpPr>
          <p:spPr>
            <a:xfrm>
              <a:off x="4518360" y="5166720"/>
              <a:ext cx="2434320" cy="11912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Georgia"/>
                  <a:ea typeface="Times New Roman"/>
                </a:rPr>
                <a:t>материалы и инструменты</a:t>
              </a:r>
              <a:endParaRPr b="0" lang="en-US" sz="15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19" name="Line 4"/>
            <p:cNvSpPr/>
            <p:nvPr/>
          </p:nvSpPr>
          <p:spPr>
            <a:xfrm flipV="1">
              <a:off x="3186000" y="4123440"/>
              <a:ext cx="57456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0" name="Line 3"/>
            <p:cNvSpPr/>
            <p:nvPr/>
          </p:nvSpPr>
          <p:spPr>
            <a:xfrm>
              <a:off x="5430600" y="4061160"/>
              <a:ext cx="545040" cy="27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21" name="Rectangle 31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"/>
          <p:cNvSpPr/>
          <p:nvPr/>
        </p:nvSpPr>
        <p:spPr>
          <a:xfrm>
            <a:off x="785880" y="732240"/>
            <a:ext cx="7929360" cy="56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 Black"/>
                <a:ea typeface="Times New Roman"/>
              </a:rPr>
              <a:t>ВЫЯВЛЕНИЕ ОСНОВНЫХ ПАРАМЕТРОВ И ОГРАНИЧЕНИ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К своему изделию я буду предъявлять особые требования. Если я буду учитывать их при выполнении работы, то изделие будет красивым и аккуратны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Изделие должно быть высокохудожественны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Изделие должно быть качественным, поэтому все дефекты и недостатки должны быть устранены  в процессе работ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Изделие должно иметь невысокую себестоимост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1"/>
          <p:cNvSpPr/>
          <p:nvPr/>
        </p:nvSpPr>
        <p:spPr>
          <a:xfrm>
            <a:off x="714240" y="2286000"/>
            <a:ext cx="7715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8200"/>
                </a:solidFill>
                <a:latin typeface="Arial Black"/>
              </a:rPr>
              <a:t>Для вышивания необходимы ткань, нитки и несложный набор инструментов и приспособлений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48200"/>
                </a:solidFill>
                <a:latin typeface="Arial Black"/>
              </a:rPr>
              <a:t>иглы, ножницы, наперсток, линейка</a:t>
            </a:r>
            <a:r>
              <a:rPr b="0" i="1" lang="en-US" sz="2800" spc="-1" strike="noStrike">
                <a:solidFill>
                  <a:srgbClr val="b48200"/>
                </a:solidFill>
                <a:latin typeface="Arial Black"/>
              </a:rPr>
              <a:t> или </a:t>
            </a:r>
            <a:r>
              <a:rPr b="1" i="1" lang="en-US" sz="2800" spc="-1" strike="noStrike">
                <a:solidFill>
                  <a:srgbClr val="b48200"/>
                </a:solidFill>
                <a:latin typeface="Arial Black"/>
              </a:rPr>
              <a:t>сантиметровая лента, пяльц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Rectangle 1"/>
          <p:cNvSpPr/>
          <p:nvPr/>
        </p:nvSpPr>
        <p:spPr>
          <a:xfrm>
            <a:off x="1136160" y="433080"/>
            <a:ext cx="708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 Black"/>
                <a:ea typeface="Times New Roman"/>
              </a:rPr>
              <a:t>Выбор инструментов,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 Black"/>
                <a:ea typeface="Times New Roman"/>
              </a:rPr>
              <a:t>приспособлений, оборудования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"/>
          <p:cNvSpPr/>
          <p:nvPr/>
        </p:nvSpPr>
        <p:spPr>
          <a:xfrm>
            <a:off x="0" y="93456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равила техники безопасност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ри выполнении ручных рабо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Что нужно сделать до начала работы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rial Black"/>
                <a:ea typeface="Times New Roman"/>
              </a:rPr>
              <a:t>Посчитать количество иголок в игольниц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 Black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rial Black"/>
                <a:ea typeface="Times New Roman"/>
              </a:rPr>
              <a:t>Положить инструменты и приспособления в отведенное для них место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Что нужно сделать во время работы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 Black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rial Black"/>
                <a:ea typeface="Times New Roman"/>
              </a:rPr>
              <a:t>Быть внимательной к работ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 Black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rial Black"/>
                <a:ea typeface="Times New Roman"/>
              </a:rPr>
              <a:t>Надевать наперсток на средний палец правой руки, чтобы не уколоть его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 Black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rial Black"/>
                <a:ea typeface="Times New Roman"/>
              </a:rPr>
              <a:t>Вкладывать иглы только в игольницу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 Black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rial Black"/>
                <a:ea typeface="Times New Roman"/>
              </a:rPr>
              <a:t>Класть ножницы справа с сомкнутыми лезвиями, направленными от себ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 Black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rial Black"/>
                <a:ea typeface="Times New Roman"/>
              </a:rPr>
              <a:t>Передавать ножницы только с сомкнутыми лезвиями и кольцами вперёд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Что нужно сделать после окончания работы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 Black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rial Black"/>
                <a:ea typeface="Times New Roman"/>
              </a:rPr>
              <a:t>Посчитать количество иголок и булавок в игольнице. Их должно быть столько, сколько было в начале работ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 Black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rial Black"/>
                <a:ea typeface="Times New Roman"/>
              </a:rPr>
              <a:t>Убрать рабочее место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1"/>
          <p:cNvSpPr/>
          <p:nvPr/>
        </p:nvSpPr>
        <p:spPr>
          <a:xfrm>
            <a:off x="1051200" y="642960"/>
            <a:ext cx="74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ЭКОНОМИЧЕСКОЕ ОБОСНОВАНИЕ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214280" y="2000160"/>
          <a:ext cx="7021800" cy="3645000"/>
        </p:xfrm>
        <a:graphic>
          <a:graphicData uri="http://schemas.openxmlformats.org/drawingml/2006/table">
            <a:tbl>
              <a:tblPr/>
              <a:tblGrid>
                <a:gridCol w="390600"/>
                <a:gridCol w="3395880"/>
                <a:gridCol w="1357200"/>
                <a:gridCol w="857160"/>
                <a:gridCol w="1020960"/>
              </a:tblGrid>
              <a:tr h="1041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Название  материа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Ц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Сум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70c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70c0"/>
                          </a:solidFill>
                          <a:latin typeface="Arial Black"/>
                          <a:ea typeface="Times New Roman"/>
                        </a:rPr>
                        <a:t>Ткань кан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70c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0070c0"/>
                          </a:solidFill>
                          <a:latin typeface="Arial Black"/>
                          <a:ea typeface="Times New Roman"/>
                        </a:rPr>
                        <a:t>0х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70c0"/>
                          </a:solidFill>
                          <a:latin typeface="Arial Black"/>
                          <a:ea typeface="Times New Roman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70c0"/>
                          </a:solidFill>
                          <a:latin typeface="Arial Black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70c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70c0"/>
                          </a:solidFill>
                          <a:latin typeface="Arial Black"/>
                          <a:ea typeface="Times New Roman"/>
                        </a:rPr>
                        <a:t>Нитки мули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70c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70c0"/>
                          </a:solidFill>
                          <a:latin typeface="Arial Black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70c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70c0"/>
                          </a:solidFill>
                          <a:latin typeface="Arial Black"/>
                          <a:ea typeface="Times New Roman"/>
                        </a:rPr>
                        <a:t>Рам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70c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70c0"/>
                          </a:solidFill>
                          <a:latin typeface="Arial Black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70c0"/>
                          </a:solidFill>
                          <a:latin typeface="Arial Black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70c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70c0"/>
                          </a:solidFill>
                          <a:latin typeface="Arial Black"/>
                          <a:ea typeface="Times New Roman"/>
                        </a:rPr>
                        <a:t>Электроэнер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70c0"/>
                          </a:solidFill>
                          <a:latin typeface="Arial Black"/>
                          <a:ea typeface="Times New Roman"/>
                        </a:rPr>
                        <a:t>1кВ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70c0"/>
                          </a:solidFill>
                          <a:latin typeface="Arial Black"/>
                          <a:ea typeface="Times New Roman"/>
                        </a:rPr>
                        <a:t>2.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70c0"/>
                          </a:solidFill>
                          <a:latin typeface="Arial Black"/>
                          <a:ea typeface="Times New Roman"/>
                        </a:rPr>
                        <a:t>2.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Ито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86.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2707560" y="358920"/>
            <a:ext cx="314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Black"/>
                <a:ea typeface="Times New Roman"/>
              </a:rPr>
              <a:t>Самооценк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500040" y="1293480"/>
            <a:ext cx="7929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8200"/>
                </a:solidFill>
                <a:latin typeface="Arial Black"/>
                <a:ea typeface="Times New Roman"/>
              </a:rPr>
              <a:t>После кропотливо проделанной работы, я изготовила картину, которая в большей части отражает мою задумку. Надеюсь, что моей маме картина тоже понравится, и будет долго ее радовать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Рисунок 3" descr="фото1.jpg"/>
          <p:cNvPicPr/>
          <p:nvPr/>
        </p:nvPicPr>
        <p:blipFill>
          <a:blip r:embed="rId2"/>
          <a:stretch/>
        </p:blipFill>
        <p:spPr>
          <a:xfrm>
            <a:off x="1000080" y="3429000"/>
            <a:ext cx="7248600" cy="3000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тр школы</cp:lastModifiedBy>
  <dcterms:modified xsi:type="dcterms:W3CDTF">2010-04-15T20:55:45Z</dcterms:modified>
  <cp:revision>6</cp:revision>
  <dc:subject/>
  <dc:title>Слайд 1</dc:title>
</cp:coreProperties>
</file>