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99AF-62BF-4FAD-AB45-10F927BC0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76F-8CF2-48D9-9096-3515C435FB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CB4-ECE4-47B3-B473-72924C14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C6F-8EFC-487C-B9BC-A87813A4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557-AA45-409B-BBB7-16E09FE5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A01-BEAA-4197-AF12-30737BE0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854-0421-4BF5-BF85-376FCD54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3A-0B07-46BD-8696-97ED5997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CF3-8BFD-4502-BE5C-FF872C9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A01-01C5-47BE-9CE1-A349EB96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4A7-A117-43B4-B231-A08E407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8B8-ACD4-4E7E-B11C-7FB18F5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D91-A68D-450A-ABA5-00F5EE8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A63-8960-4905-AD9F-AC6B40C9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D3F5-881D-4955-8A7B-2E39D2857B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ешение задач на движение.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9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371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0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9436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1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5943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rcRect l="0" t="0" r="0" b="65686"/>
          <a:stretch/>
        </p:blipFill>
        <p:spPr>
          <a:xfrm>
            <a:off x="1295280" y="1371600"/>
            <a:ext cx="593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rcRect l="0" t="34318" r="0" b="0"/>
          <a:stretch/>
        </p:blipFill>
        <p:spPr>
          <a:xfrm>
            <a:off x="2133720" y="990720"/>
            <a:ext cx="59371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9371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59436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619200" y="380880"/>
            <a:ext cx="829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943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"/>
          <p:cNvPicPr/>
          <p:nvPr/>
        </p:nvPicPr>
        <p:blipFill>
          <a:blip r:embed="rId1"/>
          <a:stretch/>
        </p:blipFill>
        <p:spPr>
          <a:xfrm>
            <a:off x="1447920" y="141120"/>
            <a:ext cx="74674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59371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937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8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5943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27T22:24:55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