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5.png" ContentType="image/png"/>
  <Override PartName="/ppt/media/image16.gif" ContentType="image/gif"/>
  <Override PartName="/ppt/media/image1.wmf" ContentType="image/x-wmf"/>
  <Override PartName="/ppt/media/image2.png" ContentType="image/png"/>
  <Override PartName="/ppt/media/image14.gif" ContentType="image/gif"/>
  <Override PartName="/ppt/media/image9.gif" ContentType="image/gif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D3B-EBB0-49D1-BC1F-7EB4C407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856-CF5F-4D70-A50D-9DC4FC3D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BCF-46DD-472E-8E56-F8210985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944-2D6D-4D0A-A4E3-CD7E9104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B95A-D6D5-43D2-8376-B28B32B1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844A-5CC1-45D3-BD60-F00AFC19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EF61-3CFB-40CD-9DDF-5A035C0F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96C8-3EFE-4DF4-BB18-CA3485B6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4E2A-871D-4219-AAEF-BC11F3CB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F6D9-03A8-49CB-96A2-6D73129E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25B2-A8C0-4E21-9FA8-52FBEEF3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89B-D50A-4B69-95AE-715E26AF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7CDD-10CF-4D35-AC82-927BC2A7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2544-9C86-4E88-A360-A7A620D1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8F09-B305-4F12-96B9-FABD3331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841D-58B8-469E-AB71-19905222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84AC-898F-4B0F-A40A-88E470DD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B2178-2CE5-4848-862D-A68C95DC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D7CD-D93D-47B3-B495-370DFBC5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78877-2A59-4D90-BB83-B4C20BE3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5678-5DF5-44B6-8DE9-083C32EC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81A5-43F8-4010-A5E4-7458BE2A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989-D672-4D80-8863-96CC56EB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5BC5-5A60-459E-A189-D3AB3C52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87A8-2208-4446-892B-D9AB0052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738D9-CAF0-46A1-8DEE-0F1AF738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192C7-BD81-4B92-9B54-8053BA70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BF0A-0B8B-4B44-9569-73A0C928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552AD-2C8A-4182-AB71-D54522AE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B4F66-A31F-4248-81D3-5B0E3F1B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86811-7120-4E18-A93B-646B14CD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E02D-D822-47A2-A01E-B0A1A011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C4AA6-5654-4CA9-BBFE-1AE501A9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816-FC12-4026-B864-E4FF250D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BF79C-F4C2-40FB-B3E6-8295AD56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4A7BE-17C0-4887-BD91-4D0E5BD1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B37F-17B6-44C8-AA46-A1497148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9BD00-F95D-4C8A-88CC-64E4B8C1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CE55E-C8E4-46F9-9832-4A901349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3553-BD13-404B-8E65-282DB6E9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9632-5B85-499D-9B49-1BF2B751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E4B9B-1F3B-457C-8F82-506E9826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F781A-4FEB-4277-AE25-4285D0F3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D9A88-4DBF-43C4-8E8B-5C361A27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683-A2E1-472A-9ECB-BBCB6279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4B800-D173-4D27-8289-6C5845F6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4FBDC-B091-4175-96E7-6D235313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26974-72B5-48FE-81EB-DF22804D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34346-615A-46F3-A370-583700F4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901B-99C2-45F4-8C96-737AF717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150F7-164A-4B77-972B-A7098F6A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F757-75A8-4D71-B739-8BF2007E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B7AB7-762D-43E4-8C39-9FB54526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1EE85-5260-4253-AC8E-857A0DCB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D7103-8A93-4A2E-B204-D6260251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173-C856-4BE0-AD94-E215646A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F0D8F-A889-49BF-8BE9-64CD43EE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7B5F1-A4D6-4A81-AC90-07DE2700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A6C5B-00C4-4DC4-9398-6F264011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E0B74-9AE2-4540-8439-96EC046F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C398A-5245-4955-AA4F-DE3926E5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0DB0F-EFDD-4219-BDE1-B066BB99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E9B7B-C174-48B4-A54A-97583A49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FCACE-159C-44BC-AF93-F00C2062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D993E-BB72-440A-923E-06C5C7D0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CEB85-228C-4C46-8945-6C6244EF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BF3-83AB-4767-9754-96AE9CEF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709CC-ED02-42CD-A004-62C24E67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AA0EB-F228-4D47-832F-1BF5105A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08D16-47EE-437A-83AD-335644C0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A99-8238-4D60-B64B-DDCB4029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2FF-E773-42FA-A382-62096DB6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B0E3-6CE6-418F-8142-6D6DA3BBD8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9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10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89B4-CD59-4ECD-8D12-FDC1009264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4A54-C69D-4D17-BF42-53A894A7761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3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8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0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4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A3C3-5AA8-4CAA-A797-FEA950B137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9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9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9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9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9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29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30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30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1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20F9-35A6-47D4-A3C1-084205BA59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9DBA-063E-42C6-AC9A-BC3AFB0366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2928600" y="3786120"/>
            <a:ext cx="6072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аботу подготовил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чащиеся 10 б класс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ОУ СОШ №7 п. Майский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ошехабльского райо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ондратьев А. и Блинов А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уководитель : Саларова Е.В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WordArt 6"/>
          <p:cNvSpPr txBox="1"/>
          <p:nvPr/>
        </p:nvSpPr>
        <p:spPr>
          <a:xfrm rot="20981400">
            <a:off x="1403280" y="1557000"/>
            <a:ext cx="730908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фагор Самосский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2" name="Picture 7" descr="Пифагор"/>
          <p:cNvPicPr/>
          <p:nvPr/>
        </p:nvPicPr>
        <p:blipFill>
          <a:blip r:embed="rId1"/>
          <a:stretch/>
        </p:blipFill>
        <p:spPr>
          <a:xfrm>
            <a:off x="0" y="3645000"/>
            <a:ext cx="2892600" cy="321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0" y="1413000"/>
          <a:ext cx="7667640" cy="5303880"/>
        </p:xfrm>
        <a:graphic>
          <a:graphicData uri="http://schemas.openxmlformats.org/drawingml/2006/table">
            <a:tbl>
              <a:tblPr/>
              <a:tblGrid>
                <a:gridCol w="7667640"/>
              </a:tblGrid>
              <a:tr h="5306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ть истины вся в том, что нам она – навечно,</a:t>
                      </a:r>
                      <a:br>
                        <a:rPr sz="3600"/>
                      </a:b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гда хоть раз в прозрении её увидим свет,</a:t>
                      </a:r>
                      <a:br>
                        <a:rPr sz="3600"/>
                      </a:b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теорема Пифагора через столько лет</a:t>
                      </a:r>
                      <a:br>
                        <a:rPr sz="3600"/>
                      </a:b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нас. Как для него, бесспорна, безупречна …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. Шамисс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AutoShape 31"/>
          <p:cNvSpPr/>
          <p:nvPr/>
        </p:nvSpPr>
        <p:spPr>
          <a:xfrm>
            <a:off x="7380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8175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6330" y="3794"/>
                </a:lnTo>
                <a:lnTo>
                  <a:pt x="6330" y="17806"/>
                </a:lnTo>
                <a:lnTo>
                  <a:pt x="4667" y="17806"/>
                </a:lnTo>
                <a:close/>
              </a:path>
            </a:pathLst>
          </a:custGeom>
          <a:solidFill>
            <a:srgbClr val="a4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>
            <a:off x="1447200" y="118188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http://www.sunhome.ru/tags/философ+пифагор/0/2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2597760" y="184392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aina.aib.ru/biography/pifagor.htm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0" y="3109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еометрия, 7-9: Учеб. для общеобразоват. учреждений / Л.С. Атанасян, В.Ф. Бутузов, С.Б. Кадомцев и др. – 12-е изд. – М. : Просвещение, 2009г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2" name="Picture 8" descr="korova08"/>
          <p:cNvPicPr/>
          <p:nvPr/>
        </p:nvPicPr>
        <p:blipFill>
          <a:blip r:embed="rId2"/>
          <a:stretch/>
        </p:blipFill>
        <p:spPr>
          <a:xfrm>
            <a:off x="3564000" y="4005360"/>
            <a:ext cx="1979640" cy="23763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9" descr="goos"/>
          <p:cNvPicPr/>
          <p:nvPr/>
        </p:nvPicPr>
        <p:blipFill>
          <a:blip r:embed="rId3"/>
          <a:stretch/>
        </p:blipFill>
        <p:spPr>
          <a:xfrm>
            <a:off x="3635280" y="-316080"/>
            <a:ext cx="187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Биограф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Теорема Пифаго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Решение задач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35" name="Picture 4" descr="688821674"/>
          <p:cNvPicPr/>
          <p:nvPr/>
        </p:nvPicPr>
        <p:blipFill>
          <a:blip r:embed="rId3"/>
          <a:stretch/>
        </p:blipFill>
        <p:spPr>
          <a:xfrm>
            <a:off x="5508720" y="3716280"/>
            <a:ext cx="2448000" cy="16318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карандаш"/>
          <p:cNvPicPr/>
          <p:nvPr/>
        </p:nvPicPr>
        <p:blipFill>
          <a:blip r:embed="rId4"/>
          <a:stretch/>
        </p:blipFill>
        <p:spPr>
          <a:xfrm>
            <a:off x="3635280" y="0"/>
            <a:ext cx="952560" cy="1511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карандаш"/>
          <p:cNvPicPr/>
          <p:nvPr/>
        </p:nvPicPr>
        <p:blipFill>
          <a:blip r:embed="rId5"/>
          <a:stretch/>
        </p:blipFill>
        <p:spPr>
          <a:xfrm>
            <a:off x="4643280" y="0"/>
            <a:ext cx="952560" cy="1511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карандаш"/>
          <p:cNvPicPr/>
          <p:nvPr/>
        </p:nvPicPr>
        <p:blipFill>
          <a:blip r:embed="rId6"/>
          <a:stretch/>
        </p:blipFill>
        <p:spPr>
          <a:xfrm>
            <a:off x="2627280" y="0"/>
            <a:ext cx="9525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иограф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96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ифагор Самосский</a:t>
            </a:r>
            <a:r>
              <a:rPr b="1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hiller"/>
              </a:rPr>
              <a:t>(ок. 580 — ок. 500 до н. э.) 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легенде ничего не говорится о годе рождения Пифагора, исторические исследования датируют его появление на свет приблизительно 580 годом до нашей эры. Вернувшись из путешествия, счастливый отец воздвигает алтарь Аполлону и окружает юного Пифагора заботами, которые могли бы способствовать исполнению божественного пророчества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и дать сыну хорошее воспитание и образование у Мнесарха были. Как всякий отец, Мнесарх мечтал, что сын будет продолжать его дело — ремесло золотых дел мастера. Жизнь рассудила иначе. Будущий великий математик и философ уже в детстве обнаружил большие способности к наукам. У своего первого учителя Гермодамаса Пифагор получает знания основ музыки и живописи. Для упражнения памяти Гермодамас заставлял его учить песни из «Одиссеи» и «Илиады». Первый учитель прививал юному Пифагору любовь к природе и ее тайнам. «Есть еще другая Школа, — говорил Гермодамас, — твои чувствования происходят от Природы, да будет она первым и главным предметом твоего учения»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6"/>
          <p:cNvSpPr/>
          <p:nvPr/>
        </p:nvSpPr>
        <p:spPr>
          <a:xfrm>
            <a:off x="0" y="551160"/>
            <a:ext cx="870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шло несколько лет, и по совету своего учителя Пифагор решает продолжить образование в Египте, у жрецов. Попасть в Египет в то время было трудно, потому что страну фактически закрыли для греков. Да и властитель Самоса тиран Поликрат тоже не поощрял подобные поездки. При помощи учителя Пифагору удается покинуть остров Самое. Но пока до Египта далеко. Он живет на острове Лесбос у своего родственника Зоила. Там происходит знакомство Пифагора с философом Ферекидом — другом Фалеса Милетского. У Ферекида Пифагор учится астрологии, предсказанию затмений, тайнам чисел, медицине и другим обязательным для того времени наукам. Пифагор прожил на Лесбосе несколько лет. Оттуда путь Пифагора лежит в Милет — к знаменитому Фалесу, основателю первой в истории философской школы. От него принято вести историю греческой философии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 внимательно слушает в Милете лекции Фалеса, тогда уже восьмидесятилетнего старца, и его более молодого коллегу и ученика Анаксимандра, выдающегося географа и астронома. Много важных знаний приобрел Пифагор за время своего пребывания в Милетской школе. И Пифагор отправляется в путь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"/>
          <p:cNvSpPr/>
          <p:nvPr/>
        </p:nvSpPr>
        <p:spPr>
          <a:xfrm>
            <a:off x="0" y="1819800"/>
            <a:ext cx="8388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а Пифагора в Египте способствует тому, что он сделался одним из самых образованных людей своего времен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ех пор как Пифагор покинул Грецию, там произошли большие изменения. Лучшие умы, спасаясь от персидского ига, перебрались в Южную Италию, которую тогда называли Великой Грецией, и основали там города-колонии Сиракузы, Агригент, Кротон. Здесь и задумывает Пифагор создать собственную философскую школу. Пифагор умело использует знания, полученные в странствиях по свету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 учил медицине, принципам политической деятельности, астрономии, математике, музыке, этике и многому другому. Из его школы вышли выдающиеся политические и государственные деятели, историки, математики и астрономы. Это был не только учитель, но и исследователь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050920" y="400536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400f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Если дан нам треугольник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И притом с прямым углом,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То квадрат гипотенузы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Мы всегда легко найдём: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Катеты в квадрат возводим,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Сумму степеней находим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И таким простым путём</a:t>
            </a:r>
            <a:br>
              <a:rPr sz="2400"/>
            </a:br>
            <a:r>
              <a:rPr b="0" lang="ru-RU" sz="2400" spc="-1" strike="noStrike">
                <a:solidFill>
                  <a:srgbClr val="3400f2"/>
                </a:solidFill>
                <a:latin typeface="Comic Sans MS"/>
              </a:rPr>
              <a:t>К результату мы придё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0" y="1626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Геометрия владеет двумя сокровищами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одно из них —</a:t>
            </a:r>
            <a:br>
              <a:rPr sz="2400"/>
            </a:b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это теорема Пифагора..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Иоганн Кеплер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4"/>
          <p:cNvSpPr/>
          <p:nvPr/>
        </p:nvSpPr>
        <p:spPr>
          <a:xfrm>
            <a:off x="0" y="770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 е о р е м 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ямоугольном треугольнике квадрат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енузы равен сумме квадратов катет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47" name="Picture 6" descr="fetch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49" name="Picture 4" descr="Опорный сигнал, теорема Пифагор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Рисунок3"/>
          <p:cNvPicPr/>
          <p:nvPr/>
        </p:nvPicPr>
        <p:blipFill>
          <a:blip r:embed="rId3"/>
          <a:stretch/>
        </p:blipFill>
        <p:spPr>
          <a:xfrm>
            <a:off x="611280" y="3860640"/>
            <a:ext cx="2592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Решение зада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161200" cy="44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 а д а ч а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 е ш е н и 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ямоугольный с гипотенузо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теореме Пифаго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64 + 3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 т в е т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Прямоугольный треугольник, теорема Пифагора"/>
          <p:cNvPicPr/>
          <p:nvPr/>
        </p:nvPicPr>
        <p:blipFill>
          <a:blip r:embed="rId2"/>
          <a:stretch/>
        </p:blipFill>
        <p:spPr>
          <a:xfrm>
            <a:off x="3492360" y="1557360"/>
            <a:ext cx="2087640" cy="1685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713314077"/>
          <p:cNvPicPr/>
          <p:nvPr/>
        </p:nvPicPr>
        <p:blipFill>
          <a:blip r:embed="rId3"/>
          <a:stretch/>
        </p:blipFill>
        <p:spPr>
          <a:xfrm>
            <a:off x="4726080" y="1557360"/>
            <a:ext cx="820800" cy="86364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6"/>
          <p:cNvSpPr/>
          <p:nvPr/>
        </p:nvSpPr>
        <p:spPr>
          <a:xfrm>
            <a:off x="1042920" y="6237360"/>
            <a:ext cx="4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3924360" y="4581360"/>
            <a:ext cx="4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40:49Z</dcterms:created>
  <dc:creator>Учитель</dc:creator>
  <dc:description/>
  <dc:language>en-US</dc:language>
  <cp:lastModifiedBy>Елена</cp:lastModifiedBy>
  <dcterms:modified xsi:type="dcterms:W3CDTF">2010-11-23T05:15:31Z</dcterms:modified>
  <cp:revision>14</cp:revision>
  <dc:subject/>
  <dc:title> </dc:title>
</cp:coreProperties>
</file>