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4.gif" ContentType="image/gif"/>
  <Override PartName="/ppt/media/image9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C8A-833A-464C-A6F6-4F54D449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925-7416-425E-8058-240CBE3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78E-14FE-4E5A-906A-19B36CF8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6BD-E6C5-452F-B8F4-F201C501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AAD-7ED6-47B2-813D-ACE0F0B2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9499-4E0C-49BB-8F44-FCE477B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7E07-794E-4EE4-8CC7-19BCF53C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ED9F-8B90-4873-92B8-12E8E7B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F12-1BE2-487D-8BD4-4ED3590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6406-9895-47BE-B8E2-1962CD7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EB2-74D0-475B-9906-45C03A4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A34-2EDC-4B4B-B6CB-2FE1DEF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C66-265A-4A84-AE03-5F750AE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1199-3799-44DB-B0F9-B55E342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A89-B449-41CD-8EBB-1122FAF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D269-8ED6-4421-96B2-C5BCD248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0FD-0061-412B-A036-81DFED53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D077-C8CD-4ED2-B2DA-BCF835CC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6494-40B1-42EE-9520-BF71556F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96EA-036D-478F-800C-3330204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83FC-95C4-49A6-8327-E07E4F7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D9B0-77C6-4139-8AED-0A61E92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408-7781-4AB7-A9B7-0FE9807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D3F3-7659-4A5F-8EAF-E8076BA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BF22-9165-4527-9185-6C6E736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9C41-E2AA-4C57-BC69-D2B38DA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35A4-31E3-42F5-9266-3E2D2AC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83E2-00CD-4515-B9BF-6AADEE9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9AC9-5B5A-40D6-86CF-CDD07DCC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E1CE-1AB1-4E78-9A81-2EC58FFC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0B06-9F03-4028-8681-D700D818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77A8-BBB0-4E26-8C84-049094E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D0A1-4148-44CB-90C0-4FB96717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6A6-7797-4F41-B7E3-66CF9104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93DD-7621-4E6F-9CC0-E25E0486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64C1-6D92-4466-89C5-B583524A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26CA-7F82-42A8-BB91-25C9A6F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FF776-FC5E-4BCE-800B-746F4C2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780C-1B91-43FF-8B09-D13C8B5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3BF4-E49E-4AB0-881F-36EFEB89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8966-4E90-47D8-86CC-C44CE0F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96C4-5F32-43AC-BAAF-3D32B0A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3DFB-0063-4113-8587-94F436B6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EFE0-334D-4A10-BE6A-5446AC30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CCC-5564-4D0E-AFFE-6BE8480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E1FD-EA7B-41A8-B1F3-38A1501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88BA0-78BB-479D-AFEE-75597EEC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02B7-7F98-4468-AC09-0A28747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CA993-9076-445F-A5E6-244C201D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13EC-41EC-4BE7-9ABE-0DAD4341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681E-33CD-44AA-BB75-E95429E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9DE3-B9E8-4660-A7B9-B2B22D0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A927-C5F0-4337-A034-6B36AF2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BD65-ED66-4E68-96B5-28388BB5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4776-475D-4EDA-B7A0-D8621415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60A-6D48-4487-B6BC-81B3CDC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BCE8-871D-4402-A28E-A5D91E46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7484-8A35-4948-B052-1D083A49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872E-FD2F-49E3-93AD-349B0BCA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A917-7104-4AC0-92DC-3686A31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9F82E-A0E8-46D2-A5A3-C7CA815E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A6FC-6990-4DA4-9298-20ADC75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EAB01-1430-4B8A-9F2A-B4B70DE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B2F0-7ED7-41ED-8459-B9D7B70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D96A-CE2F-4119-9AE0-85D5AD4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0D79-03BB-4FE8-85F8-7F5F2C95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08A-3742-4B10-9CD4-48376945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088CD-E3EF-4185-937A-DBD7CAE6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A0417-0382-4369-98EE-C8F0AD9B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258DC-E029-4346-9B29-4823ECD4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78E-699D-4F9E-9F2D-6A0F427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E26-B1D0-41D8-9FF2-04712CF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758-EFFE-4E41-A088-9EBA4254E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261-FE04-4CB5-A3E6-46FD1CA793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3B0B-8877-4AE6-8949-65534A5BE4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4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DD46-96C8-45AF-B54F-13708BF5A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9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30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30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73FF-91EF-44CA-BD3F-583902D7CC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D673-2FB8-4F23-A921-1D616384B0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928600" y="3786120"/>
            <a:ext cx="6072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боту подготовил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чащиеся 10 б класс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У СОШ №7 п. Майск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шехабльского райо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ндратьев А. и Блинов 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уководитель : Саларова Е.В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WordArt 6"/>
          <p:cNvSpPr txBox="1"/>
          <p:nvPr/>
        </p:nvSpPr>
        <p:spPr>
          <a:xfrm rot="20981400">
            <a:off x="1403280" y="1557000"/>
            <a:ext cx="730908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фагор Самосский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Picture 7" descr="Пифагор"/>
          <p:cNvPicPr/>
          <p:nvPr/>
        </p:nvPicPr>
        <p:blipFill>
          <a:blip r:embed="rId1"/>
          <a:stretch/>
        </p:blipFill>
        <p:spPr>
          <a:xfrm>
            <a:off x="0" y="3645000"/>
            <a:ext cx="2892600" cy="321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1413000"/>
          <a:ext cx="7667640" cy="5303880"/>
        </p:xfrm>
        <a:graphic>
          <a:graphicData uri="http://schemas.openxmlformats.org/drawingml/2006/table">
            <a:tbl>
              <a:tblPr/>
              <a:tblGrid>
                <a:gridCol w="7667640"/>
              </a:tblGrid>
              <a:tr h="5306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ть истины вся в том, что нам она – навечно,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гда хоть раз в прозрении её увидим свет,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теорема Пифагора через столько лет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нас. Как для него, бесспорна, безупречна …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. Шамисс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AutoShape 31"/>
          <p:cNvSpPr/>
          <p:nvPr/>
        </p:nvSpPr>
        <p:spPr>
          <a:xfrm>
            <a:off x="7380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8175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6330" y="3794"/>
                </a:lnTo>
                <a:lnTo>
                  <a:pt x="6330" y="17806"/>
                </a:lnTo>
                <a:lnTo>
                  <a:pt x="4667" y="17806"/>
                </a:ln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1447200" y="118188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www.sunhome.ru/tags/философ+пифагор/0/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597760" y="184392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aina.aib.ru/biography/pifagor.htm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еометрия, 7-9: Учеб. для общеобразоват. учреждений / Л.С. Атанасян, В.Ф. Бутузов, С.Б. Кадомцев и др. – 12-е изд. – М. : Просвещение, 2009г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2" name="Picture 8" descr="korova08"/>
          <p:cNvPicPr/>
          <p:nvPr/>
        </p:nvPicPr>
        <p:blipFill>
          <a:blip r:embed="rId2"/>
          <a:stretch/>
        </p:blipFill>
        <p:spPr>
          <a:xfrm>
            <a:off x="3564000" y="4005360"/>
            <a:ext cx="1979640" cy="2376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goos"/>
          <p:cNvPicPr/>
          <p:nvPr/>
        </p:nvPicPr>
        <p:blipFill>
          <a:blip r:embed="rId3"/>
          <a:stretch/>
        </p:blipFill>
        <p:spPr>
          <a:xfrm>
            <a:off x="3635280" y="-316080"/>
            <a:ext cx="187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Биограф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5" name="Picture 4" descr="688821674"/>
          <p:cNvPicPr/>
          <p:nvPr/>
        </p:nvPicPr>
        <p:blipFill>
          <a:blip r:embed="rId3"/>
          <a:stretch/>
        </p:blipFill>
        <p:spPr>
          <a:xfrm>
            <a:off x="5508720" y="371628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карандаш"/>
          <p:cNvPicPr/>
          <p:nvPr/>
        </p:nvPicPr>
        <p:blipFill>
          <a:blip r:embed="rId4"/>
          <a:stretch/>
        </p:blipFill>
        <p:spPr>
          <a:xfrm>
            <a:off x="3635280" y="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карандаш"/>
          <p:cNvPicPr/>
          <p:nvPr/>
        </p:nvPicPr>
        <p:blipFill>
          <a:blip r:embed="rId5"/>
          <a:stretch/>
        </p:blipFill>
        <p:spPr>
          <a:xfrm>
            <a:off x="4643280" y="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карандаш"/>
          <p:cNvPicPr/>
          <p:nvPr/>
        </p:nvPicPr>
        <p:blipFill>
          <a:blip r:embed="rId6"/>
          <a:stretch/>
        </p:blipFill>
        <p:spPr>
          <a:xfrm>
            <a:off x="2627280" y="0"/>
            <a:ext cx="9525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ограф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96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ифагор Самосский</a:t>
            </a: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hiller"/>
              </a:rPr>
              <a:t>(ок. 580 — ок. 500 до н. э.)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легенде ничего не говорится о годе рождения Пифагора, исторические исследования датируют его появление на свет приблизительно 580 годом до нашей эры. Вернувшись из путешествия, счастливый отец воздвигает алтарь Аполлону и окружает юного Пифагора заботами, которые могли бы способствовать исполнению божественного пророчества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и дать сыну хорошее воспитание и образование у Мнесарха были. Как всякий отец, Мнесарх мечтал, что сын будет продолжать его дело — ремесло золотых дел мастера. Жизнь рассудила иначе. Будущий великий математик и философ уже в детстве обнаружил большие способности к наукам. У своего первого учителя Гермодамаса Пифагор получает знания основ музыки и живописи. Для упражнения памяти Гермодамас заставлял его учить песни из «Одиссеи» и «Илиады». Первый учитель прививал юному Пифагору любовь к природе и ее тайнам. «Есть еще другая Школа, — говорил Гермодамас, — твои чувствования происходят от Природы, да будет она первым и главным предметом твоего учения»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0" y="551160"/>
            <a:ext cx="870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о несколько лет, и по совету своего учителя Пифагор решает продолжить образование в Египте, у жрецов. Попасть в Египет в то время было трудно, потому что страну фактически закрыли для греков. Да и властитель Самоса тиран Поликрат тоже не поощрял подобные поездки. При помощи учителя Пифагору удается покинуть остров Самое. Но пока до Египта далеко. Он живет на острове Лесбос у своего родственника Зоила. Там происходит знакомство Пифагора с философом Ферекидом — другом Фалеса Милетского. У Ферекида Пифагор учится астрологии, предсказанию затмений, тайнам чисел, медицине и другим обязательным для того времени наукам. Пифагор прожил на Лесбосе несколько лет. Оттуда путь Пифагора лежит в Милет — к знаменитому Фалесу, основателю первой в истории философской школы. От него принято вести историю греческой философи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 внимательно слушает в Милете лекции Фалеса, тогда уже восьмидесятилетнего старца, и его более молодого коллегу и ученика Анаксимандра, выдающегося географа и астронома. Много важных знаний приобрел Пифагор за время своего пребывания в Милетской школе. И Пифагор отправляется в путь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0" y="1819800"/>
            <a:ext cx="838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а Пифагора в Египте способствует тому, что он сделался одним из самых образованных людей своего времен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 пор как Пифагор покинул Грецию, там произошли большие изменения. Лучшие умы, спасаясь от персидского ига, перебрались в Южную Италию, которую тогда называли Великой Грецией, и основали там города-колонии Сиракузы, Агригент, Кротон. Здесь и задумывает Пифагор создать собственную философскую школу. Пифагор умело использует знания, полученные в странствиях по свету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 учил медицине, принципам политической деятельности, астрономии, математике, музыке, этике и многому другому. Из его школы вышли выдающиеся политические и государственные деятели, историки, математики и астрономы. Это был не только учитель, но и исследователь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050920" y="400536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400f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Если дан нам треугольник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И притом с прямым углом,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То квадрат гипотенузы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Мы всегда легко найдём: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Катеты в квадрат возводим,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Сумму степеней находим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И таким простым путём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К результату мы придё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1626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Геометрия владеет двумя сокровищам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одно из них —</a:t>
            </a:r>
            <a:br>
              <a:rPr sz="2400"/>
            </a:b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это теорема Пифагора..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Иоганн Кепле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"/>
          <p:cNvSpPr/>
          <p:nvPr/>
        </p:nvSpPr>
        <p:spPr>
          <a:xfrm>
            <a:off x="0" y="77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 е о р е м 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ямоугольном треугольнике квадрат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нузы равен сумме квадратов кате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7" name="Picture 6" descr="fetch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9" name="Picture 4" descr="Опорный сигнал, теорема Пифагор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Рисунок3"/>
          <p:cNvPicPr/>
          <p:nvPr/>
        </p:nvPicPr>
        <p:blipFill>
          <a:blip r:embed="rId3"/>
          <a:stretch/>
        </p:blipFill>
        <p:spPr>
          <a:xfrm>
            <a:off x="611280" y="3860640"/>
            <a:ext cx="25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Решение зада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16120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а д а ч 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 е ш е н и 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ямоугольный с гипотенуз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еореме Пифаго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 + 3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 т в е т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Прямоугольный треугольник, теорема Пифагора"/>
          <p:cNvPicPr/>
          <p:nvPr/>
        </p:nvPicPr>
        <p:blipFill>
          <a:blip r:embed="rId2"/>
          <a:stretch/>
        </p:blipFill>
        <p:spPr>
          <a:xfrm>
            <a:off x="3492360" y="1557360"/>
            <a:ext cx="2087640" cy="1685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713314077"/>
          <p:cNvPicPr/>
          <p:nvPr/>
        </p:nvPicPr>
        <p:blipFill>
          <a:blip r:embed="rId3"/>
          <a:stretch/>
        </p:blipFill>
        <p:spPr>
          <a:xfrm>
            <a:off x="4726080" y="1557360"/>
            <a:ext cx="820800" cy="8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1042920" y="623736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3924360" y="458136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40:49Z</dcterms:created>
  <dc:creator>Учитель</dc:creator>
  <dc:description/>
  <dc:language>en-US</dc:language>
  <cp:lastModifiedBy>Елена</cp:lastModifiedBy>
  <dcterms:modified xsi:type="dcterms:W3CDTF">2010-11-23T05:15:31Z</dcterms:modified>
  <cp:revision>14</cp:revision>
  <dc:subject/>
  <dc:title> </dc:title>
</cp:coreProperties>
</file>