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FBF45-5E1A-4017-B938-FEA53EEF6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41948-CD05-4B0D-A9BA-3401C365C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7C840-2FF3-4FC5-B52B-742C56E90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0515F-83AF-4FE3-9928-E6576DD9D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6C295-2C9A-4DD8-80F5-F76F4BD89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4E627-AE31-4D7F-9F23-13BC8110B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6B6B6-B65F-4AC1-81A4-7F2650AB1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07F25-A0BA-4D8F-807E-8B8EA34B9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E2A9C-6819-4694-92FC-C1EF8B63A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5F7EF-330F-4E44-9E0A-560B25A77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A30D5-FDB2-497F-9778-3B080C45D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6695B-3018-46A2-969C-E3C79A921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88909-F0C9-4D55-BC0F-6FEB6D02F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B7B20-350B-44C5-AFB6-B6F2E1113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3C908-6800-4574-B46B-A0F85F24E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5FE79-4230-49FB-BF38-6867A6722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A70BD-4F51-486F-8996-64E7B47C8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D3B8CA-7A9E-44B5-BC0D-A4B1B5C19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1BBC71-17F9-46BF-B45B-5DC348F1A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9CD11B-8863-4DDC-97F7-8FF1860B7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797C20-6200-4336-84C3-2DDE5C32F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375BA9-FA83-4B20-8732-D1160F43A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B5DAD-5ECA-4581-BC91-41A358E74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2F2841-BAD8-4E61-B93E-4CED91BCE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2D701B-E612-4A0E-9F0D-DBFEC9C2B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A69AAC-FB3F-40E1-9958-321377D00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3FDD0A-40B7-4A54-945B-2614635E6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C3981E-8571-4AE7-9712-A2D5A2E86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649F8C-375F-4F91-ACCD-AA64F3C8C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32E660-0FF7-4884-BE54-C83C2C394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EF8584-E891-44CF-875A-54BE4CD86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7DEB4B-81AC-4004-9DFA-617506FF5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558157-ED3F-4EDB-AB97-A323F57A1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493E1-918E-49A8-92E5-542C11FC9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0B6712-CE91-465B-95E8-E36439AB9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9C2D59-506A-4A1D-BDC1-207B91FD8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3E70C0-587D-49B6-9978-79447D616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B3C395-8613-406D-9216-3E6D9E481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9063E5-41D9-4F5B-88E9-537701484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2A3F58-4257-4B77-B075-FA31FD3BA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60E716-8884-4BCB-B346-4A794516F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74A896-E59B-4843-9F56-C0B99E833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54F6AB-F57F-4988-B2BC-C2953E530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929A8D-7353-4552-B893-9400761DA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B1BAA-8A62-4D04-A685-A7EBE9FEE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E498DA-8849-4F67-AE64-5CFB8E450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03BC7E-D52E-4012-AB56-2E7DEB99E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9B070F-698E-4158-B100-119DDF1DC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4D6E74-E0E1-46E8-A186-3C7EB5A32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7B083C-856E-4891-8EA4-AB498D31B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67DF07-3B74-4205-8A10-AD143EF76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CC2D8A-F3C1-4EEA-85CF-5E61B81AA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974069-F16A-4D72-9EE2-118ECE18F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B4DB0F-0BA9-4171-95E2-32BBACB48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7E15B2-E4A1-499A-BEA6-1C84EF101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2D3A1-407B-4B67-8F2A-6AF58D876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DA0E78-E3A2-4FAF-A9D5-9DD4E03E9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9B317-E35B-4D18-A7AA-2252BDA51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6017F-2D3F-447C-AD66-3E1EB2C8D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29F9D-CCBE-4ECB-9895-7BE8E1350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8DB7C-3F45-4E73-A8E7-9F823E80C61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42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43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46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A1698-6A8E-4C4A-B5CB-866CEBEC64B5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90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93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dt" idx="7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ftr" idx="8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Num" idx="9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D77E7-B973-4B6A-AD66-49D765D22C0B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2C955-B2BE-4086-A8F8-C01DBC1FB9FF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44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3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54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55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8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62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70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71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74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75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6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77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85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E5951-3905-4D04-BFED-68C17446C3E4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228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1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232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37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238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1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242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7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0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39640" y="692280"/>
            <a:ext cx="8352000" cy="22730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Урок геометрии в 8а классе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(2 часа)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1547280" y="2924280"/>
            <a:ext cx="648036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9900"/>
                </a:solidFill>
                <a:latin typeface="Comic Sans MS"/>
              </a:rPr>
              <a:t>Повторение и обобщение темы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03dff"/>
                </a:solidFill>
                <a:latin typeface="Comic Sans MS"/>
              </a:rPr>
              <a:t>Четырёхугольники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03dff"/>
                </a:solidFill>
                <a:latin typeface="Comic Sans MS"/>
              </a:rPr>
              <a:t>Площади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dff"/>
                </a:solidFill>
                <a:latin typeface="Comic Sans MS"/>
              </a:rPr>
              <a:t>Учитель: Каримова Ф.Р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dff"/>
                </a:solidFill>
                <a:latin typeface="Comic Sans MS"/>
              </a:rPr>
              <a:t>МОУ «Кунашакская СОШ»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cover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1332000" y="1916280"/>
            <a:ext cx="7200720" cy="4033800"/>
          </a:xfrm>
          <a:prstGeom prst="triangle">
            <a:avLst>
              <a:gd name="adj" fmla="val 71046"/>
            </a:avLst>
          </a:prstGeom>
          <a:solidFill>
            <a:srgbClr val="bbe0e3"/>
          </a:solidFill>
          <a:ln w="1908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 flipV="1">
            <a:off x="1403280" y="3141360"/>
            <a:ext cx="5616720" cy="2808360"/>
          </a:xfrm>
          <a:prstGeom prst="line">
            <a:avLst/>
          </a:prstGeom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/>
          </p:nvPr>
        </p:nvSpPr>
        <p:spPr>
          <a:xfrm>
            <a:off x="900000" y="5733720"/>
            <a:ext cx="658800" cy="43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title"/>
          </p:nvPr>
        </p:nvSpPr>
        <p:spPr>
          <a:xfrm>
            <a:off x="6156000" y="1557000"/>
            <a:ext cx="86364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8567640" y="573408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 rot="19968600">
            <a:off x="6876720" y="3141360"/>
            <a:ext cx="216000" cy="210960"/>
          </a:xfrm>
          <a:prstGeom prst="rect">
            <a:avLst/>
          </a:prstGeom>
          <a:solidFill>
            <a:srgbClr val="0066ff"/>
          </a:soli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6443640" y="1916280"/>
            <a:ext cx="0" cy="4033800"/>
          </a:xfrm>
          <a:prstGeom prst="line">
            <a:avLst/>
          </a:prstGeom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6443640" y="5734080"/>
            <a:ext cx="216000" cy="216000"/>
          </a:xfrm>
          <a:prstGeom prst="rect">
            <a:avLst/>
          </a:prstGeom>
          <a:solidFill>
            <a:srgbClr val="0066ff"/>
          </a:soli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7093080" y="285264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6156360" y="60213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7596360" y="3573360"/>
            <a:ext cx="86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 rot="20035200">
            <a:off x="4500720" y="3789000"/>
            <a:ext cx="87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с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4788000" y="595008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с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6443640" y="3933720"/>
            <a:ext cx="5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1258920" y="620640"/>
            <a:ext cx="403380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ff66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Решите задачу: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ff66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468360" y="549360"/>
            <a:ext cx="3808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ff"/>
                </a:solidFill>
                <a:latin typeface="Arial"/>
              </a:rPr>
              <a:t>8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ff"/>
              </a:solidFill>
              <a:latin typeface="Arial"/>
              <a:ea typeface="Arial"/>
            </a:endParaRPr>
          </a:p>
        </p:txBody>
      </p:sp>
    </p:spTree>
  </p:cSld>
  <p:transition>
    <p:cover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50000">
              <a:srgbClr val="ffff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3203640" y="1341360"/>
            <a:ext cx="1079280" cy="2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1547640" y="1628640"/>
            <a:ext cx="6696360" cy="4321440"/>
          </a:xfrm>
          <a:prstGeom prst="line">
            <a:avLst/>
          </a:prstGeom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3635280" y="1628640"/>
            <a:ext cx="216000" cy="3240360"/>
          </a:xfrm>
          <a:prstGeom prst="line">
            <a:avLst/>
          </a:prstGeom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3851280" y="4869000"/>
            <a:ext cx="4392720" cy="1081080"/>
          </a:xfrm>
          <a:prstGeom prst="line">
            <a:avLst/>
          </a:prstGeom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 flipH="1">
            <a:off x="1547280" y="1628640"/>
            <a:ext cx="2087640" cy="0"/>
          </a:xfrm>
          <a:prstGeom prst="line">
            <a:avLst/>
          </a:prstGeom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 rot="2005200">
            <a:off x="5002920" y="378900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3203280" y="3645000"/>
            <a:ext cx="64764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с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4140360" y="4365720"/>
            <a:ext cx="115236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ff"/>
                </a:solidFill>
                <a:latin typeface="Arial"/>
              </a:rPr>
              <a:t>S=39cм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ff"/>
              </a:solidFill>
              <a:latin typeface="Arial"/>
              <a:ea typeface="Arial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5364000" y="4365720"/>
            <a:ext cx="144720" cy="1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ff"/>
                </a:solidFill>
                <a:latin typeface="Arial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ff"/>
              </a:solidFill>
              <a:latin typeface="Arial"/>
              <a:ea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3781800" y="227664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с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rot="2116800">
            <a:off x="2341440" y="249192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с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 txBox="1"/>
          <p:nvPr/>
        </p:nvSpPr>
        <p:spPr>
          <a:xfrm>
            <a:off x="2627280" y="1916280"/>
            <a:ext cx="828720" cy="28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S=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</p:txBody>
      </p:sp>
      <p:sp>
        <p:nvSpPr>
          <p:cNvPr id="463" name=""/>
          <p:cNvSpPr txBox="1"/>
          <p:nvPr/>
        </p:nvSpPr>
        <p:spPr>
          <a:xfrm>
            <a:off x="2843280" y="2205000"/>
            <a:ext cx="144360" cy="120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117800" y="14842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709800" y="278136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349440" y="472428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8174160" y="5661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 txBox="1"/>
          <p:nvPr/>
        </p:nvSpPr>
        <p:spPr>
          <a:xfrm>
            <a:off x="611280" y="692280"/>
            <a:ext cx="20001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ff"/>
                </a:solidFill>
                <a:latin typeface="Arial"/>
              </a:rPr>
              <a:t>S   =39см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ff"/>
              </a:solidFill>
              <a:latin typeface="Arial"/>
              <a:ea typeface="Arial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2771640" y="549360"/>
            <a:ext cx="216000" cy="28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ff"/>
                </a:solidFill>
                <a:latin typeface="Arial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ff"/>
              </a:solidFill>
              <a:latin typeface="Arial"/>
              <a:ea typeface="Arial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900000" y="1125360"/>
            <a:ext cx="432000" cy="26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ff"/>
                </a:solidFill>
                <a:latin typeface="Arial"/>
              </a:rPr>
              <a:t>F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ff"/>
              </a:solidFill>
              <a:latin typeface="Arial"/>
              <a:ea typeface="Arial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755640" y="5589720"/>
            <a:ext cx="17431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Найти 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2627280" y="6021360"/>
            <a:ext cx="50472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ROK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250920" y="115920"/>
            <a:ext cx="36036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ff"/>
                </a:solidFill>
                <a:latin typeface="Arial"/>
              </a:rPr>
              <a:t>9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ff"/>
              </a:solidFill>
              <a:latin typeface="Arial"/>
              <a:ea typeface="Arial"/>
            </a:endParaRPr>
          </a:p>
        </p:txBody>
      </p:sp>
    </p:spTree>
  </p:cSld>
  <p:transition>
    <p:cover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ce3ee"/>
            </a:gs>
            <a:gs pos="50000">
              <a:srgbClr val="ffffff"/>
            </a:gs>
            <a:gs pos="100000">
              <a:srgbClr val="ace3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/>
          </p:nvPr>
        </p:nvSpPr>
        <p:spPr>
          <a:xfrm>
            <a:off x="457200" y="115560"/>
            <a:ext cx="8229600" cy="60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ычислить площадь трапец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 flipV="1">
            <a:off x="5724360" y="2707920"/>
            <a:ext cx="2735280" cy="2233440"/>
          </a:xfrm>
          <a:custGeom>
            <a:avLst/>
            <a:gdLst>
              <a:gd name="textAreaLeft" fmla="*/ 601560 w 2735280"/>
              <a:gd name="textAreaRight" fmla="*/ 2133720 w 2735280"/>
              <a:gd name="textAreaTop" fmla="*/ 491040 h 2233440"/>
              <a:gd name="textAreaBottom" fmla="*/ 1742400 h 223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 flipV="1">
            <a:off x="1258920" y="980640"/>
            <a:ext cx="4608360" cy="1656000"/>
          </a:xfrm>
          <a:custGeom>
            <a:avLst/>
            <a:gdLst>
              <a:gd name="textAreaLeft" fmla="*/ 1238760 w 4608360"/>
              <a:gd name="textAreaRight" fmla="*/ 3369600 w 4608360"/>
              <a:gd name="textAreaTop" fmla="*/ 444960 h 1656000"/>
              <a:gd name="textAreaBottom" fmla="*/ 1211040 h 165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4297" y="21600"/>
                </a:lnTo>
                <a:lnTo>
                  <a:pt x="7303" y="21600"/>
                </a:lnTo>
                <a:close/>
              </a:path>
            </a:pathLst>
          </a:custGeom>
          <a:solidFill>
            <a:srgbClr val="ff99ff"/>
          </a:solidFill>
          <a:ln w="381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971640" y="3789360"/>
            <a:ext cx="0" cy="208764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971640" y="3789360"/>
            <a:ext cx="1871640" cy="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843280" y="3789360"/>
            <a:ext cx="1512720" cy="208764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 flipH="1">
            <a:off x="971280" y="5877000"/>
            <a:ext cx="3384360" cy="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1403280" y="342900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с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97080" y="450864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с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2843280" y="3789360"/>
            <a:ext cx="0" cy="2087640"/>
          </a:xfrm>
          <a:prstGeom prst="line">
            <a:avLst/>
          </a:prstGeom>
          <a:ln w="2844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 rot="2716800">
            <a:off x="3322440" y="43207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с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3492360" y="53737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3635280" y="544500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611280" y="580536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1476360" y="220500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2195640" y="1484280"/>
            <a:ext cx="14436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 flipH="1">
            <a:off x="4787640" y="1484280"/>
            <a:ext cx="14436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684360" y="357336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2700360" y="350028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4357800" y="56610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3348000" y="62064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843280" y="981000"/>
            <a:ext cx="0" cy="165600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918160" y="155736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с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284720" y="981000"/>
            <a:ext cx="0" cy="165600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702160" y="58770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6877080" y="227664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6588000" y="501336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с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6443640" y="2708280"/>
            <a:ext cx="0" cy="223344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6374520" y="378936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с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 txBox="1"/>
          <p:nvPr/>
        </p:nvSpPr>
        <p:spPr>
          <a:xfrm>
            <a:off x="539640" y="692280"/>
            <a:ext cx="36036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ff"/>
                </a:solidFill>
                <a:latin typeface="Arial"/>
              </a:rPr>
              <a:t>10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ff"/>
              </a:solidFill>
              <a:latin typeface="Arial"/>
              <a:ea typeface="Arial"/>
            </a:endParaRPr>
          </a:p>
        </p:txBody>
      </p:sp>
      <p:sp>
        <p:nvSpPr>
          <p:cNvPr id="504" name=""/>
          <p:cNvSpPr txBox="1"/>
          <p:nvPr/>
        </p:nvSpPr>
        <p:spPr>
          <a:xfrm>
            <a:off x="7885080" y="1268280"/>
            <a:ext cx="43200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ff"/>
                </a:solidFill>
                <a:latin typeface="Arial"/>
              </a:rPr>
              <a:t>11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ff"/>
              </a:solidFill>
              <a:latin typeface="Arial"/>
              <a:ea typeface="Arial"/>
            </a:endParaRPr>
          </a:p>
        </p:txBody>
      </p:sp>
      <p:sp>
        <p:nvSpPr>
          <p:cNvPr id="505" name=""/>
          <p:cNvSpPr txBox="1"/>
          <p:nvPr/>
        </p:nvSpPr>
        <p:spPr>
          <a:xfrm>
            <a:off x="539640" y="2852640"/>
            <a:ext cx="4334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ff"/>
                </a:solidFill>
                <a:latin typeface="Arial"/>
              </a:rPr>
              <a:t>12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ff"/>
              </a:solidFill>
              <a:latin typeface="Arial"/>
              <a:ea typeface="Arial"/>
            </a:endParaRPr>
          </a:p>
        </p:txBody>
      </p:sp>
    </p:spTree>
  </p:cSld>
  <p:transition>
    <p:cover dir="l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Comic Sans MS"/>
              </a:rPr>
              <a:t>Домашнее задание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Вопросы: 1 – 7, № 479 (а,в), №481.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cover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66"/>
                </a:solidFill>
                <a:latin typeface="Arial"/>
              </a:rPr>
              <a:t>Самостоятельная рабо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178920" y="549360"/>
            <a:ext cx="4248360" cy="57592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1 вариан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1. Стороны параллелограмма равны 10см и 6см, а угол между ними равен 150</a:t>
            </a:r>
            <a:r>
              <a:rPr b="1" lang="ru-RU" sz="2400" spc="-1" strike="noStrike" baseline="30000">
                <a:solidFill>
                  <a:srgbClr val="0000ff"/>
                </a:solidFill>
                <a:latin typeface="Arial"/>
              </a:rPr>
              <a:t>0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. Найдите площадь этого параллелограм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2. Высота и основания трапеции относятся как 5:6:4. Найдите меньшее основание трапеции, если её площадь равна 8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см</a:t>
            </a:r>
            <a:r>
              <a:rPr b="1" lang="ru-RU" sz="2400" spc="-1" strike="noStrike" baseline="30000">
                <a:solidFill>
                  <a:srgbClr val="0000ff"/>
                </a:solidFill>
                <a:latin typeface="Arial"/>
              </a:rPr>
              <a:t>2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47960" y="549360"/>
            <a:ext cx="4244760" cy="57592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17604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2 вариан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80000"/>
              </a:lnSpc>
              <a:spcBef>
                <a:spcPts val="601"/>
              </a:spcBef>
              <a:buClr>
                <a:srgbClr val="00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Острый угол параллелограмма равен 30</a:t>
            </a:r>
            <a:r>
              <a:rPr b="1" lang="en-US" sz="2400" spc="-1" strike="noStrike" baseline="30000">
                <a:solidFill>
                  <a:srgbClr val="009900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 , а высоты, проведенные из вершины тупого угла, равны 4см и 3см. Найдите площадь этого параллелограм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6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6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2. Высота трапеции равна меньшему основанию и в два раза меньше большего основания. Найдите высоту трапеции, если её площадь равна 54 см</a:t>
            </a:r>
            <a:r>
              <a:rPr b="1" lang="en-US" sz="2400" spc="-1" strike="noStrike" baseline="30000">
                <a:solidFill>
                  <a:srgbClr val="0099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 rot="4597800">
            <a:off x="3598560" y="944280"/>
            <a:ext cx="1729080" cy="1656000"/>
          </a:xfrm>
          <a:prstGeom prst="rect">
            <a:avLst/>
          </a:prstGeom>
          <a:solidFill>
            <a:srgbClr val="cc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ff"/>
                </a:solidFill>
                <a:latin typeface="Arial"/>
              </a:rPr>
              <a:t>Четырёхугольни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95280" y="907920"/>
            <a:ext cx="2232000" cy="1511280"/>
          </a:xfrm>
          <a:prstGeom prst="parallelogram">
            <a:avLst>
              <a:gd name="adj" fmla="val 36922"/>
            </a:avLst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rot="10800000">
            <a:off x="-360" y="2997360"/>
            <a:ext cx="3097080" cy="1008000"/>
          </a:xfrm>
          <a:custGeom>
            <a:avLst/>
            <a:gdLst>
              <a:gd name="textAreaLeft" fmla="*/ 681120 w 3097080"/>
              <a:gd name="textAreaRight" fmla="*/ 2415960 w 3097080"/>
              <a:gd name="textAreaTop" fmla="*/ 221400 h 1008000"/>
              <a:gd name="textAreaBottom" fmla="*/ 78660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 rot="520800">
            <a:off x="3564000" y="2924280"/>
            <a:ext cx="1655640" cy="3384360"/>
          </a:xfrm>
          <a:prstGeom prst="diamond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 rot="4600200">
            <a:off x="604440" y="4300200"/>
            <a:ext cx="2317680" cy="1584360"/>
          </a:xfrm>
          <a:prstGeom prst="parallelogram">
            <a:avLst>
              <a:gd name="adj" fmla="val 74625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 rot="10585200">
            <a:off x="6315840" y="1280880"/>
            <a:ext cx="2303640" cy="1368360"/>
          </a:xfrm>
          <a:custGeom>
            <a:avLst/>
            <a:gdLst>
              <a:gd name="textAreaLeft" fmla="*/ 644400 w 2303640"/>
              <a:gd name="textAreaRight" fmla="*/ 1659240 w 2303640"/>
              <a:gd name="textAreaTop" fmla="*/ 382680 h 1368360"/>
              <a:gd name="textAreaBottom" fmla="*/ 985680 h 136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3873" y="21600"/>
                </a:lnTo>
                <a:lnTo>
                  <a:pt x="7727" y="21600"/>
                </a:lnTo>
                <a:close/>
              </a:path>
            </a:pathLst>
          </a:cu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6012000" y="3429000"/>
            <a:ext cx="0" cy="1655640"/>
          </a:xfrm>
          <a:prstGeom prst="line">
            <a:avLst/>
          </a:prstGeom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12000" y="3429000"/>
            <a:ext cx="1512720" cy="0"/>
          </a:xfrm>
          <a:prstGeom prst="line">
            <a:avLst/>
          </a:prstGeom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7524720" y="3429000"/>
            <a:ext cx="1150920" cy="1655640"/>
          </a:xfrm>
          <a:prstGeom prst="line">
            <a:avLst/>
          </a:prstGeom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 flipH="1">
            <a:off x="6011640" y="5084640"/>
            <a:ext cx="2663640" cy="0"/>
          </a:xfrm>
          <a:prstGeom prst="line">
            <a:avLst/>
          </a:prstGeom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5364000" y="5445000"/>
            <a:ext cx="2737080" cy="115272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 flipH="1">
            <a:off x="395280" y="907920"/>
            <a:ext cx="2232000" cy="151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971640" y="907920"/>
            <a:ext cx="1079280" cy="151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 flipH="1">
            <a:off x="4140000" y="2924280"/>
            <a:ext cx="502920" cy="331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564000" y="4508640"/>
            <a:ext cx="165564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 flipH="1">
            <a:off x="6372000" y="1268280"/>
            <a:ext cx="1368360" cy="144000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7093080" y="1268280"/>
            <a:ext cx="1511280" cy="129708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 flipH="1">
            <a:off x="5363640" y="5445000"/>
            <a:ext cx="2737080" cy="1152720"/>
          </a:xfrm>
          <a:prstGeom prst="line">
            <a:avLst/>
          </a:prstGeom>
          <a:ln w="1908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364000" y="5445000"/>
            <a:ext cx="2737080" cy="1152720"/>
          </a:xfrm>
          <a:prstGeom prst="line">
            <a:avLst/>
          </a:prstGeom>
          <a:ln w="1908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55640" y="4149720"/>
            <a:ext cx="2016000" cy="18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971280" y="4941720"/>
            <a:ext cx="1584360" cy="28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042920" y="2492280"/>
            <a:ext cx="7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1763640" y="4149720"/>
            <a:ext cx="7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332000" y="5805360"/>
            <a:ext cx="73008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4932360" y="2637000"/>
            <a:ext cx="100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602136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7667640" y="270828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8244000" y="414972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8423280" y="616572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3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26920" y="18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3300"/>
                </a:solidFill>
                <a:latin typeface="Arial"/>
              </a:rPr>
              <a:t>Площад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395280" y="1483920"/>
            <a:ext cx="84247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лощадь прямоугольн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лощадь параллелограм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1403280" y="2133720"/>
            <a:ext cx="2089080" cy="1150920"/>
          </a:xfrm>
          <a:prstGeom prst="rect">
            <a:avLst/>
          </a:prstGeom>
          <a:solidFill>
            <a:srgbClr val="ffffff"/>
          </a:soli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4500720" y="2133720"/>
            <a:ext cx="237636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66ff"/>
                  </a:solidFill>
                  <a:miter/>
                </a:ln>
                <a:solidFill>
                  <a:srgbClr val="0066ff"/>
                </a:solidFill>
                <a:latin typeface="Arial"/>
              </a:rPr>
              <a:t>S = ab</a:t>
            </a:r>
            <a:endParaRPr b="0" lang="en-US" sz="1800" spc="1" strike="noStrike">
              <a:ln w="9360">
                <a:solidFill>
                  <a:srgbClr val="0066ff"/>
                </a:solidFill>
                <a:miter/>
              </a:ln>
              <a:solidFill>
                <a:srgbClr val="0066ff"/>
              </a:solidFill>
              <a:latin typeface="Arial"/>
              <a:ea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124000" y="3213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33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492360" y="256536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33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1116000" y="4581360"/>
            <a:ext cx="2232000" cy="935280"/>
          </a:xfrm>
          <a:prstGeom prst="parallelogram">
            <a:avLst>
              <a:gd name="adj" fmla="val 59661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1692360" y="4581360"/>
            <a:ext cx="0" cy="93528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1692360" y="56610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1763640" y="48690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ff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4140360" y="4797360"/>
            <a:ext cx="223344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S=ah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p:transition>
    <p:cover dir="l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50000">
              <a:srgbClr val="ffff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24000" y="69228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лощадь треугольн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68360" y="4292640"/>
            <a:ext cx="850248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лощадь трапе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539640" y="2060640"/>
            <a:ext cx="2519640" cy="1798560"/>
          </a:xfrm>
          <a:prstGeom prst="triangle">
            <a:avLst>
              <a:gd name="adj" fmla="val 48139"/>
            </a:avLst>
          </a:prstGeom>
          <a:solidFill>
            <a:srgbClr val="ffffff"/>
          </a:solidFill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1763640" y="2060640"/>
            <a:ext cx="0" cy="180000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1692360" y="37893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835280" y="292428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ff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3419640" y="2349360"/>
            <a:ext cx="2232000" cy="81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cc00"/>
                </a:solidFill>
                <a:latin typeface="Arial"/>
              </a:rPr>
              <a:t>S= - ah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cc00"/>
              </a:solidFill>
              <a:latin typeface="Arial"/>
              <a:ea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4356000" y="2349360"/>
            <a:ext cx="287280" cy="43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cc00"/>
                </a:solidFill>
                <a:latin typeface="Arial"/>
              </a:rPr>
              <a:t>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cc00"/>
              </a:solidFill>
              <a:latin typeface="Arial"/>
              <a:ea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4427640" y="292428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cc00"/>
                </a:solidFill>
                <a:latin typeface="Arial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cc00"/>
              </a:solidFill>
              <a:latin typeface="Arial"/>
              <a:ea typeface="Arial"/>
            </a:endParaRPr>
          </a:p>
        </p:txBody>
      </p:sp>
      <p:sp>
        <p:nvSpPr>
          <p:cNvPr id="338" name=""/>
          <p:cNvSpPr/>
          <p:nvPr/>
        </p:nvSpPr>
        <p:spPr>
          <a:xfrm flipV="1">
            <a:off x="468360" y="4941000"/>
            <a:ext cx="3024000" cy="1295640"/>
          </a:xfrm>
          <a:custGeom>
            <a:avLst/>
            <a:gdLst>
              <a:gd name="textAreaLeft" fmla="*/ 651600 w 3024000"/>
              <a:gd name="textAreaRight" fmla="*/ 2372400 w 3024000"/>
              <a:gd name="textAreaTop" fmla="*/ 279000 h 1295640"/>
              <a:gd name="textAreaBottom" fmla="*/ 101664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373" y="21600"/>
                </a:lnTo>
                <a:lnTo>
                  <a:pt x="5227" y="21600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1547640" y="6308640"/>
            <a:ext cx="7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1835280" y="4581360"/>
            <a:ext cx="57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3300"/>
                </a:solidFill>
                <a:latin typeface="Arial"/>
              </a:rPr>
              <a:t>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1187280" y="4941720"/>
            <a:ext cx="0" cy="129564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187280" y="544500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33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4067280" y="4941720"/>
            <a:ext cx="715680" cy="8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cc00"/>
                </a:solidFill>
                <a:latin typeface="Arial"/>
              </a:rPr>
              <a:t>S=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cc00"/>
              </a:solidFill>
              <a:latin typeface="Arial"/>
              <a:ea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4859280" y="4797360"/>
            <a:ext cx="14436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cc00"/>
                </a:solidFill>
                <a:latin typeface="Arial"/>
              </a:rPr>
              <a:t>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cc00"/>
              </a:solidFill>
              <a:latin typeface="Arial"/>
              <a:ea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4859280" y="5445000"/>
            <a:ext cx="2890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cc00"/>
                </a:solidFill>
                <a:latin typeface="Arial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cc00"/>
              </a:solidFill>
              <a:latin typeface="Arial"/>
              <a:ea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4932360" y="5013360"/>
            <a:ext cx="2303640" cy="73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cc00"/>
                </a:solidFill>
                <a:latin typeface="Arial"/>
              </a:rPr>
              <a:t>-(а+в)h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cc00"/>
              </a:solidFill>
              <a:latin typeface="Arial"/>
              <a:ea typeface="Arial"/>
            </a:endParaRPr>
          </a:p>
        </p:txBody>
      </p:sp>
    </p:spTree>
  </p:cSld>
  <p:transition>
    <p:cover dir="l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Arial"/>
              </a:rPr>
              <a:t>Практическая работ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Начертите: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8000"/>
                </a:solidFill>
                <a:latin typeface="Arial"/>
              </a:rPr>
              <a:t>параллелограмм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8000"/>
                </a:solidFill>
                <a:latin typeface="Arial"/>
              </a:rPr>
              <a:t>ромб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8000"/>
                </a:solidFill>
                <a:latin typeface="Arial"/>
              </a:rPr>
              <a:t>трапецию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Выполните необходимые измерения и вычислите площади этих фигур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" descr=""/>
          <p:cNvPicPr/>
          <p:nvPr/>
        </p:nvPicPr>
        <p:blipFill>
          <a:blip r:embed="rId1"/>
          <a:srcRect l="19368" t="24482" r="32506" b="26166"/>
          <a:stretch/>
        </p:blipFill>
        <p:spPr>
          <a:xfrm>
            <a:off x="539640" y="115920"/>
            <a:ext cx="4537080" cy="3068640"/>
          </a:xfrm>
          <a:prstGeom prst="rect">
            <a:avLst/>
          </a:prstGeom>
          <a:ln w="0">
            <a:noFill/>
          </a:ln>
        </p:spPr>
      </p:pic>
      <p:pic>
        <p:nvPicPr>
          <p:cNvPr id="350" name="" descr=""/>
          <p:cNvPicPr/>
          <p:nvPr/>
        </p:nvPicPr>
        <p:blipFill>
          <a:blip r:embed="rId2"/>
          <a:srcRect l="18308" t="27295" r="30315" b="20281"/>
          <a:stretch/>
        </p:blipFill>
        <p:spPr>
          <a:xfrm>
            <a:off x="468360" y="3284640"/>
            <a:ext cx="4537080" cy="3343320"/>
          </a:xfrm>
          <a:prstGeom prst="rect">
            <a:avLst/>
          </a:prstGeom>
          <a:ln w="0">
            <a:noFill/>
          </a:ln>
        </p:spPr>
      </p:pic>
      <p:pic>
        <p:nvPicPr>
          <p:cNvPr id="351" name="" descr=""/>
          <p:cNvPicPr/>
          <p:nvPr/>
        </p:nvPicPr>
        <p:blipFill>
          <a:blip r:embed="rId3"/>
          <a:srcRect l="52567" t="25376" r="22630" b="29868"/>
          <a:stretch/>
        </p:blipFill>
        <p:spPr>
          <a:xfrm>
            <a:off x="5148360" y="1844640"/>
            <a:ext cx="3673440" cy="400536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50000">
              <a:srgbClr val="ffffff"/>
            </a:gs>
            <a:gs pos="100000">
              <a:srgbClr val="99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ff"/>
                </a:solidFill>
                <a:latin typeface="Arial"/>
              </a:rPr>
              <a:t>Задач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179280" y="1844640"/>
            <a:ext cx="3745080" cy="863640"/>
          </a:xfrm>
          <a:prstGeom prst="parallelogram">
            <a:avLst>
              <a:gd name="adj" fmla="val 108410"/>
            </a:avLst>
          </a:prstGeom>
          <a:solidFill>
            <a:srgbClr val="ffffff"/>
          </a:solidFill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2987640" y="3357720"/>
            <a:ext cx="11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с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443640" y="4292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с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2771640" y="5445000"/>
            <a:ext cx="13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1116000" y="285264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с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179280" y="191628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с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95280" y="242100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5003640" y="2060640"/>
            <a:ext cx="33530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66"/>
                  </a:solidFill>
                  <a:miter/>
                </a:ln>
                <a:solidFill>
                  <a:srgbClr val="cc3300"/>
                </a:solidFill>
                <a:latin typeface="Arial"/>
              </a:rPr>
              <a:t>Найти площади.</a:t>
            </a:r>
            <a:endParaRPr b="0" lang="en-US" sz="1800" spc="1" strike="noStrike">
              <a:ln w="9360">
                <a:solidFill>
                  <a:srgbClr val="ff0066"/>
                </a:solidFill>
                <a:miter/>
              </a:ln>
              <a:solidFill>
                <a:srgbClr val="cc3300"/>
              </a:solidFill>
              <a:latin typeface="Arial"/>
              <a:ea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1116000" y="1844640"/>
            <a:ext cx="0" cy="86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5796000" y="3645000"/>
            <a:ext cx="0" cy="2160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108000" y="278136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900000" y="155736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3851280" y="155736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987640" y="270828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826920" y="26370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2629080" y="57340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1260720" y="33577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653440" y="32846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021800" y="57340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508720" y="58053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539640" y="1052640"/>
            <a:ext cx="28728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ff"/>
                </a:solidFill>
                <a:latin typeface="Arial"/>
              </a:rPr>
              <a:t>1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66ff"/>
              </a:solidFill>
              <a:latin typeface="Arial"/>
              <a:ea typeface="Arial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539640" y="4724280"/>
            <a:ext cx="36036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ff"/>
                </a:solidFill>
                <a:latin typeface="Arial"/>
              </a:rPr>
              <a:t>2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66ff"/>
              </a:solidFill>
              <a:latin typeface="Arial"/>
              <a:ea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052360" y="5375160"/>
            <a:ext cx="1725480" cy="720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269" y="301"/>
                </a:moveTo>
                <a:arcTo wR="10800" hR="10800" stAng="-6213119" swAng="6620076"/>
                <a:lnTo>
                  <a:pt x="10800" y="10800"/>
                </a:lnTo>
                <a:close/>
              </a:path>
              <a:path fill="none" w="21600" h="21600">
                <a:moveTo>
                  <a:pt x="8269" y="301"/>
                </a:moveTo>
                <a:arcTo wR="10800" hR="10800" stAng="-6213119" swAng="6620076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22920" y="2349360"/>
            <a:ext cx="576720" cy="717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1116000" y="2565360"/>
            <a:ext cx="142920" cy="14292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796000" y="5661000"/>
            <a:ext cx="144360" cy="14436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2340000" y="2852640"/>
            <a:ext cx="2160720" cy="3818160"/>
          </a:xfrm>
          <a:prstGeom prst="diamond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340000" y="4797360"/>
            <a:ext cx="2160720" cy="0"/>
          </a:xfrm>
          <a:prstGeom prst="line">
            <a:avLst/>
          </a:prstGeom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419640" y="2852640"/>
            <a:ext cx="0" cy="3816360"/>
          </a:xfrm>
          <a:prstGeom prst="line">
            <a:avLst/>
          </a:prstGeom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4572000" y="907920"/>
            <a:ext cx="4248000" cy="1224000"/>
          </a:xfrm>
          <a:prstGeom prst="parallelogram">
            <a:avLst>
              <a:gd name="adj" fmla="val 112199"/>
            </a:avLst>
          </a:prstGeom>
          <a:solidFill>
            <a:srgbClr val="66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940360" y="907920"/>
            <a:ext cx="0" cy="12258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7020000" y="40464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4788000" y="177336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4861080" y="1700280"/>
            <a:ext cx="431280" cy="720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89627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89627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3419640" y="4653000"/>
            <a:ext cx="144360" cy="144360"/>
          </a:xfrm>
          <a:prstGeom prst="rect">
            <a:avLst/>
          </a:prstGeom>
          <a:solidFill>
            <a:srgbClr val="ff0066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 flipH="1">
            <a:off x="5435280" y="2060640"/>
            <a:ext cx="144360" cy="144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 flipH="1">
            <a:off x="6588000" y="2060640"/>
            <a:ext cx="144720" cy="144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1763640" y="45813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276720" y="249228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4572000" y="458136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3348000" y="649116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3348000" y="479736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4211640" y="198900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5651640" y="54936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8801280" y="620640"/>
            <a:ext cx="68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7524720" y="198900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5796000" y="213372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755640" y="692280"/>
            <a:ext cx="34956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ff"/>
                </a:solidFill>
                <a:latin typeface="Arial"/>
              </a:rPr>
              <a:t>Найти площади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66ff"/>
              </a:solidFill>
              <a:latin typeface="Arial"/>
              <a:ea typeface="Arial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826920" y="2781360"/>
            <a:ext cx="170532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АС=6см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ВD=8см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796000" y="1989000"/>
            <a:ext cx="144360" cy="144720"/>
          </a:xfrm>
          <a:prstGeom prst="rect">
            <a:avLst/>
          </a:prstGeom>
          <a:solidFill>
            <a:srgbClr val="ff0066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5076720" y="260280"/>
            <a:ext cx="35892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ff"/>
                </a:solidFill>
                <a:latin typeface="Arial"/>
              </a:rPr>
              <a:t>3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66ff"/>
              </a:solidFill>
              <a:latin typeface="Arial"/>
              <a:ea typeface="Arial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324000" y="2205000"/>
            <a:ext cx="431640" cy="308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ff"/>
                </a:solidFill>
                <a:latin typeface="Arial"/>
              </a:rPr>
              <a:t>4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66ff"/>
              </a:solidFill>
              <a:latin typeface="Arial"/>
              <a:ea typeface="Arial"/>
            </a:endParaRPr>
          </a:p>
        </p:txBody>
      </p:sp>
    </p:spTree>
  </p:cSld>
  <p:transition>
    <p:cover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fffff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/>
          <p:nvPr/>
        </p:nvSpPr>
        <p:spPr>
          <a:xfrm>
            <a:off x="684360" y="4149720"/>
            <a:ext cx="3743280" cy="1728720"/>
          </a:xfrm>
          <a:prstGeom prst="triangle">
            <a:avLst>
              <a:gd name="adj" fmla="val 50000"/>
            </a:avLst>
          </a:prstGeom>
          <a:solidFill>
            <a:srgbClr val="ff99ff"/>
          </a:solidFill>
          <a:ln w="190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851280" y="1413000"/>
            <a:ext cx="4105440" cy="2663640"/>
          </a:xfrm>
          <a:prstGeom prst="triangle">
            <a:avLst>
              <a:gd name="adj" fmla="val 100000"/>
            </a:avLst>
          </a:prstGeom>
          <a:solidFill>
            <a:srgbClr val="bbe0e3"/>
          </a:solidFill>
          <a:ln w="1908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796000" y="429264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с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973440" y="465300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с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7740720" y="3860640"/>
            <a:ext cx="216000" cy="216000"/>
          </a:xfrm>
          <a:prstGeom prst="rect">
            <a:avLst/>
          </a:prstGeom>
          <a:solidFill>
            <a:srgbClr val="ff0066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826920" y="5516640"/>
            <a:ext cx="6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900360" y="5445000"/>
            <a:ext cx="431280" cy="86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2411280" y="4292640"/>
            <a:ext cx="144720" cy="144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 flipV="1">
            <a:off x="2556000" y="4292280"/>
            <a:ext cx="144360" cy="144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24720" y="15573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900000" y="260280"/>
            <a:ext cx="3743280" cy="2089080"/>
          </a:xfrm>
          <a:prstGeom prst="triangle">
            <a:avLst>
              <a:gd name="adj" fmla="val 50000"/>
            </a:avLst>
          </a:prstGeom>
          <a:solidFill>
            <a:srgbClr val="99cc00"/>
          </a:solidFill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2771640" y="260280"/>
            <a:ext cx="0" cy="20890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771640" y="2205000"/>
            <a:ext cx="144720" cy="144360"/>
          </a:xfrm>
          <a:prstGeom prst="rect">
            <a:avLst/>
          </a:prstGeom>
          <a:solidFill>
            <a:srgbClr val="ff0066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2484360" y="256536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с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2843280" y="105264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с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468360" y="333360"/>
            <a:ext cx="287280" cy="308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ff"/>
                </a:solidFill>
                <a:latin typeface="Arial"/>
              </a:rPr>
              <a:t>5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66ff"/>
              </a:solidFill>
              <a:latin typeface="Arial"/>
              <a:ea typeface="Arial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5796000" y="1125360"/>
            <a:ext cx="288720" cy="3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ff"/>
                </a:solidFill>
                <a:latin typeface="Arial"/>
              </a:rPr>
              <a:t>6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66ff"/>
              </a:solidFill>
              <a:latin typeface="Arial"/>
              <a:ea typeface="Arial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468360" y="3716280"/>
            <a:ext cx="358560" cy="308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ff"/>
                </a:solidFill>
                <a:latin typeface="Arial"/>
              </a:rPr>
              <a:t>7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66ff"/>
              </a:solidFill>
              <a:latin typeface="Arial"/>
              <a:ea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539640" y="213372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2627280" y="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572000" y="213372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3565800" y="37893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8029440" y="105264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8028000" y="393372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627280" y="234936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395280" y="573408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340000" y="37893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356000" y="566100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 flipH="1" flipV="1" rot="19169400">
            <a:off x="6981480" y="533880"/>
            <a:ext cx="861120" cy="1584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129" y="130"/>
                </a:moveTo>
                <a:arcTo wR="10800" hR="10800" stAng="-5933949" swAng="4662688"/>
                <a:lnTo>
                  <a:pt x="10800" y="10800"/>
                </a:lnTo>
                <a:close/>
              </a:path>
              <a:path fill="none" w="21600" h="21600">
                <a:moveTo>
                  <a:pt x="9129" y="130"/>
                </a:moveTo>
                <a:arcTo wR="10800" hR="10800" stAng="-5933949" swAng="4662688"/>
              </a:path>
            </a:pathLst>
          </a:custGeom>
          <a:noFill/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 rot="19953600">
            <a:off x="5293080" y="242064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10:19:26Z</dcterms:created>
  <dc:creator>User</dc:creator>
  <dc:description/>
  <dc:language>en-US</dc:language>
  <cp:lastModifiedBy>USER</cp:lastModifiedBy>
  <dcterms:modified xsi:type="dcterms:W3CDTF">2001-12-31T19:14:20Z</dcterms:modified>
  <cp:revision>39</cp:revision>
  <dc:subject/>
  <dc:title>Плошади</dc:title>
</cp:coreProperties>
</file>