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2CC-F98E-4F6C-BAC4-EE3BC6FD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9EE-199C-4F28-9756-E9E49FA6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87C-4294-4965-AF25-DA156202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D5D-C590-4BD8-A9C1-DDC3AC73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5D11-DFB3-45E8-9E21-F58532E4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1575-6FB7-459A-BB4B-BA4C5856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928A-2776-41EF-BC64-B961314F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0C31-C18F-441C-8F29-CF840502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9A91-3F2D-4058-B7BF-AC384715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151-A4B8-4381-B50E-DD8605D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F1AB-0E5F-41B1-83E9-B952634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FA7-E207-474D-8BA2-ADD98CE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314B-A96A-4F92-855E-A939A724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FD4-7FDB-4C9A-80CD-FFC27C7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67E-3EB9-4FB8-8023-2129E92C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0CE8-7856-4A73-BB52-535DAEDA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8341-ACA6-4A91-8C48-52507737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69B0-B950-4ADD-AB30-E67D8397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9A62-5239-47D9-8190-90CFCDF6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148F-967F-4CDC-8733-00D22CF5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220B-1622-433F-BC1E-6A9EF28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D346-C5AB-44E4-A6AD-0C5D884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3B0-EA8F-4E4A-9C7C-D5675430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8D37-1F64-4FAC-9EB3-7D94716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0C0F-05AF-47CE-815F-BF2C652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06D9-0EA1-44F7-A9F6-1FBB9A9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E707-65EC-4B0E-8D70-6F92A4C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DC00-8A7E-4818-82D1-D3D62C24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8F26-1199-43B7-84F6-CB4DE48A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39E9-4587-49B0-A912-77D48099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E53A-6C92-4CDF-8C4F-D4E1275A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0F40-ECA4-48F9-B9F7-606941E7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D64A-8956-4C98-A278-0E5EF7AC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E25-5278-49EE-B36B-DA1C9F0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5F08-C171-4A0E-9EE3-BBFF38E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CF9E-61EB-4CC3-B331-47E50639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9309-4B53-4A0B-94F6-0B09154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7796-093B-4511-B24C-85229C5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7DCB-A0E6-4CCE-9539-AE681D02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69B7-1A51-4589-9EA2-558A4EF5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03B9-9AD8-428A-B78E-A7E193CB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E067-9C2A-474D-9BBC-9AA248AE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F3C0-797F-4331-99CF-41F5FA04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676A-61BD-46E6-88FC-164E2501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2F0-3DA7-4518-AECE-539B9F1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DA4DF-E49D-424C-B474-D6390FC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3C9C-095A-485C-990F-0B163156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AE5B6-94CD-418F-A6F6-0006274B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FC76-CE14-47A4-A868-D1FA611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FA38-EE7C-40CB-87B2-EAB04BC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5FCC-5B90-4FBE-9218-5DF63E4A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5124-B671-4CF1-BC2F-666054A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D432-8FFD-4167-8F45-06A11E1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DA35-5F87-42FE-A48E-9077F27D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5DAC-89B4-4CA0-A1CD-9E856871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B20-2009-446E-A6FD-FE81DC73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9E183-0233-4426-98F0-A8A6C4B6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6CB-244B-42DC-89DB-8D891210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3C6-C231-4055-9408-18BCB1D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49C-10BD-4734-8017-3F74CF8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AC0E-61E4-4DE0-B964-F069CC510F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926-512C-4F23-9812-E24CA02A675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9B1E-9D17-4CBC-BF77-9F77454D073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BDF-36D4-46C1-A200-2A923955084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58B7-4A15-4F6B-9604-5D61A05237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3520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рок геометрии в 8а класс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2 часа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547280" y="2924280"/>
            <a:ext cx="648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Повторение и обобщение тем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Четырёхугольн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лощад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Учитель: Каримова Ф.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Кунашакская СОШ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332000" y="1916280"/>
            <a:ext cx="7200720" cy="4033800"/>
          </a:xfrm>
          <a:prstGeom prst="triangle">
            <a:avLst>
              <a:gd name="adj" fmla="val 71046"/>
            </a:avLst>
          </a:prstGeom>
          <a:solidFill>
            <a:srgbClr val="bbe0e3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03280" y="3141360"/>
            <a:ext cx="5616720" cy="2808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00000" y="5733720"/>
            <a:ext cx="658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156000" y="1557000"/>
            <a:ext cx="863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56764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9968600">
            <a:off x="6876720" y="3141360"/>
            <a:ext cx="216000" cy="21096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43640" y="1916280"/>
            <a:ext cx="0" cy="4033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5734080"/>
            <a:ext cx="216000" cy="216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636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96360" y="3573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035200">
            <a:off x="4500720" y="37890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595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43640" y="393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58920" y="620640"/>
            <a:ext cx="40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360" y="54936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8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03640" y="1341360"/>
            <a:ext cx="1079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7640" y="1628640"/>
            <a:ext cx="6696360" cy="4321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1628640"/>
            <a:ext cx="216000" cy="3240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51280" y="4869000"/>
            <a:ext cx="4392720" cy="1081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547280" y="1628640"/>
            <a:ext cx="208764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05200">
            <a:off x="5002920" y="37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203280" y="3645000"/>
            <a:ext cx="647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140360" y="4365720"/>
            <a:ext cx="115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S=39c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364000" y="4365720"/>
            <a:ext cx="1447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81800" y="2276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116800">
            <a:off x="2341440" y="249192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627280" y="1916280"/>
            <a:ext cx="8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=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843280" y="2205000"/>
            <a:ext cx="144360" cy="1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17800" y="148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0980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4944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174160" y="566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1280" y="692280"/>
            <a:ext cx="20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S   =39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771640" y="549360"/>
            <a:ext cx="2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00000" y="1125360"/>
            <a:ext cx="432000" cy="2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F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55640" y="5589720"/>
            <a:ext cx="174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йти 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627280" y="6021360"/>
            <a:ext cx="50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50920" y="11592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9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3ee"/>
            </a:gs>
            <a:gs pos="50000">
              <a:srgbClr val="ffffff"/>
            </a:gs>
            <a:gs pos="100000">
              <a:srgbClr val="ace3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ь площадь трапе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724360" y="2707920"/>
            <a:ext cx="2735280" cy="2233440"/>
          </a:xfrm>
          <a:custGeom>
            <a:avLst/>
            <a:gdLst>
              <a:gd name="textAreaLeft" fmla="*/ 601560 w 2735280"/>
              <a:gd name="textAreaRight" fmla="*/ 2133720 w 2735280"/>
              <a:gd name="textAreaTop" fmla="*/ 491040 h 2233440"/>
              <a:gd name="textAreaBottom" fmla="*/ 174240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258920" y="980640"/>
            <a:ext cx="4608360" cy="1656000"/>
          </a:xfrm>
          <a:custGeom>
            <a:avLst/>
            <a:gdLst>
              <a:gd name="textAreaLeft" fmla="*/ 1238760 w 4608360"/>
              <a:gd name="textAreaRight" fmla="*/ 3369600 w 4608360"/>
              <a:gd name="textAreaTop" fmla="*/ 444960 h 1656000"/>
              <a:gd name="textAreaBottom" fmla="*/ 12110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297" y="21600"/>
                </a:lnTo>
                <a:lnTo>
                  <a:pt x="7303" y="21600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3789360"/>
            <a:ext cx="0" cy="2087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71640" y="3789360"/>
            <a:ext cx="18716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43280" y="3789360"/>
            <a:ext cx="1512720" cy="2087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971280" y="5877000"/>
            <a:ext cx="338436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03280" y="342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7080" y="4508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43280" y="3789360"/>
            <a:ext cx="0" cy="20876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2716800">
            <a:off x="3322440" y="4320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9236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528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28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7636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1484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787640" y="1484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0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5780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62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981000"/>
            <a:ext cx="0" cy="165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18160" y="155736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84720" y="981000"/>
            <a:ext cx="0" cy="165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2160" y="587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77080" y="22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88000" y="501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43640" y="2708280"/>
            <a:ext cx="0" cy="22334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4520" y="378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39640" y="692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885080" y="126828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9640" y="2852640"/>
            <a:ext cx="4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1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просы: 1 – 7, № 479 (а,в), №481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549360"/>
            <a:ext cx="4248360" cy="57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Стороны параллелограмма равны 10см и 6см, а угол между ними равен 15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Найдите площадь этого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Высота и основания трапеции относятся как 5:6:4. Найдите меньшее основание трапеции, если её площадь равна 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м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47960" y="549360"/>
            <a:ext cx="4244760" cy="57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стрый угол параллелограмма равен 3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, а высоты, проведенные из вершины тупого угла, равны 4см и 3см. Найдите площадь этого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 Высота трапеции равна меньшему основанию и в два раза меньше большего основания. Найдите высоту трапеции, если её площадь равна 54 см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4597800">
            <a:off x="3598560" y="944280"/>
            <a:ext cx="1729080" cy="165600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Четырёхуголь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907920"/>
            <a:ext cx="2232000" cy="1511280"/>
          </a:xfrm>
          <a:prstGeom prst="parallelogram">
            <a:avLst>
              <a:gd name="adj" fmla="val 3692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-360" y="2997360"/>
            <a:ext cx="3097080" cy="1008000"/>
          </a:xfrm>
          <a:custGeom>
            <a:avLst/>
            <a:gdLst>
              <a:gd name="textAreaLeft" fmla="*/ 681120 w 3097080"/>
              <a:gd name="textAreaRight" fmla="*/ 2415960 w 309708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520800">
            <a:off x="3564000" y="2924280"/>
            <a:ext cx="1655640" cy="3384360"/>
          </a:xfrm>
          <a:prstGeom prst="diamond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4600200">
            <a:off x="604440" y="4300200"/>
            <a:ext cx="2317680" cy="1584360"/>
          </a:xfrm>
          <a:prstGeom prst="parallelogram">
            <a:avLst>
              <a:gd name="adj" fmla="val 7462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585200">
            <a:off x="6315840" y="1280880"/>
            <a:ext cx="2303640" cy="1368360"/>
          </a:xfrm>
          <a:custGeom>
            <a:avLst/>
            <a:gdLst>
              <a:gd name="textAreaLeft" fmla="*/ 644400 w 2303640"/>
              <a:gd name="textAreaRight" fmla="*/ 1659240 w 2303640"/>
              <a:gd name="textAreaTop" fmla="*/ 382680 h 1368360"/>
              <a:gd name="textAreaBottom" fmla="*/ 9856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873" y="21600"/>
                </a:lnTo>
                <a:lnTo>
                  <a:pt x="7727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3429000"/>
            <a:ext cx="0" cy="1655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3429000"/>
            <a:ext cx="15127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4720" y="3429000"/>
            <a:ext cx="1150920" cy="16556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011640" y="5084640"/>
            <a:ext cx="26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4000" y="5445000"/>
            <a:ext cx="2737080" cy="1152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95280" y="907920"/>
            <a:ext cx="223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907920"/>
            <a:ext cx="1079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140000" y="2924280"/>
            <a:ext cx="50292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4508640"/>
            <a:ext cx="165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372000" y="1268280"/>
            <a:ext cx="1368360" cy="1440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93080" y="1268280"/>
            <a:ext cx="1511280" cy="1297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63640" y="5445000"/>
            <a:ext cx="2737080" cy="11527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64000" y="5445000"/>
            <a:ext cx="2737080" cy="11527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414972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971280" y="4941720"/>
            <a:ext cx="158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24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32000" y="5805360"/>
            <a:ext cx="730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32360" y="263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6764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44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23280" y="61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Площ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03280" y="2133720"/>
            <a:ext cx="20890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00720" y="2133720"/>
            <a:ext cx="237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S = ab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24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2565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4581360"/>
            <a:ext cx="2232000" cy="935280"/>
          </a:xfrm>
          <a:prstGeom prst="parallelogram">
            <a:avLst>
              <a:gd name="adj" fmla="val 59661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2360" y="4581360"/>
            <a:ext cx="0" cy="935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92360" y="566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6364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0360" y="4797360"/>
            <a:ext cx="223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=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щадь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502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2060640"/>
            <a:ext cx="2519640" cy="1798560"/>
          </a:xfrm>
          <a:prstGeom prst="triangle">
            <a:avLst>
              <a:gd name="adj" fmla="val 4813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2060640"/>
            <a:ext cx="0" cy="1800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35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19640" y="2349360"/>
            <a:ext cx="2232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S= - 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356000" y="2349360"/>
            <a:ext cx="287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42764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68360" y="4941000"/>
            <a:ext cx="3024000" cy="1295640"/>
          </a:xfrm>
          <a:custGeom>
            <a:avLst/>
            <a:gdLst>
              <a:gd name="textAreaLeft" fmla="*/ 651600 w 3024000"/>
              <a:gd name="textAreaRight" fmla="*/ 2372400 w 3024000"/>
              <a:gd name="textAreaTop" fmla="*/ 279000 h 1295640"/>
              <a:gd name="textAreaBottom" fmla="*/ 10166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73" y="21600"/>
                </a:lnTo>
                <a:lnTo>
                  <a:pt x="5227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7640" y="63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45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4941720"/>
            <a:ext cx="0" cy="12956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54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67280" y="4941720"/>
            <a:ext cx="715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859280" y="4797360"/>
            <a:ext cx="14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859280" y="544500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932360" y="5013360"/>
            <a:ext cx="2303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-(а+в)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Практическ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чертите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параллелогра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ром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трапец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полните необходимые измерения и вычислите площади этих фигу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19368" t="24482" r="32506" b="26166"/>
          <a:stretch/>
        </p:blipFill>
        <p:spPr>
          <a:xfrm>
            <a:off x="539640" y="115920"/>
            <a:ext cx="4537080" cy="3068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18308" t="27295" r="30315" b="20281"/>
          <a:stretch/>
        </p:blipFill>
        <p:spPr>
          <a:xfrm>
            <a:off x="468360" y="3284640"/>
            <a:ext cx="4537080" cy="3343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rcRect l="52567" t="25376" r="22630" b="29868"/>
          <a:stretch/>
        </p:blipFill>
        <p:spPr>
          <a:xfrm>
            <a:off x="5148360" y="1844640"/>
            <a:ext cx="3673440" cy="4005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844640"/>
            <a:ext cx="3745080" cy="863640"/>
          </a:xfrm>
          <a:prstGeom prst="parallelogram">
            <a:avLst>
              <a:gd name="adj" fmla="val 108410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764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3640" y="2060640"/>
            <a:ext cx="3353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айти площади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6000" y="184464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6000" y="3645000"/>
            <a:ext cx="0" cy="21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27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0000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1280" y="155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764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26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29080" y="573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607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53440" y="32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21800" y="573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0872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640" y="1052640"/>
            <a:ext cx="287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9640" y="4724280"/>
            <a:ext cx="36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2360" y="5375160"/>
            <a:ext cx="17254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69" y="301"/>
                </a:moveTo>
                <a:arcTo wR="10800" hR="10800" stAng="-6213119" swAng="6620076"/>
                <a:lnTo>
                  <a:pt x="10800" y="10800"/>
                </a:lnTo>
                <a:close/>
              </a:path>
              <a:path fill="none" w="21600" h="21600">
                <a:moveTo>
                  <a:pt x="8269" y="301"/>
                </a:moveTo>
                <a:arcTo wR="10800" hR="10800" stAng="-6213119" swAng="66200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2920" y="2349360"/>
            <a:ext cx="576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2565360"/>
            <a:ext cx="142920" cy="142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6000" y="5661000"/>
            <a:ext cx="14436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340000" y="2852640"/>
            <a:ext cx="2160720" cy="38181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40000" y="4797360"/>
            <a:ext cx="2160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2852640"/>
            <a:ext cx="0" cy="3816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907920"/>
            <a:ext cx="4248000" cy="1224000"/>
          </a:xfrm>
          <a:prstGeom prst="parallelogram">
            <a:avLst>
              <a:gd name="adj" fmla="val 112199"/>
            </a:avLst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40360" y="907920"/>
            <a:ext cx="0" cy="1225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20000" y="40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61080" y="1700280"/>
            <a:ext cx="4312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962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962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4653000"/>
            <a:ext cx="144360" cy="144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435280" y="206064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588000" y="206064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6364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48000" y="6491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348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1164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51640" y="5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801280" y="62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600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640" y="692280"/>
            <a:ext cx="34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йти площа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26920" y="2781360"/>
            <a:ext cx="17053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С=6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D=8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1989000"/>
            <a:ext cx="144360" cy="144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076720" y="260280"/>
            <a:ext cx="35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4000" y="2205000"/>
            <a:ext cx="43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4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4360" y="4149720"/>
            <a:ext cx="3743280" cy="17287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1413000"/>
            <a:ext cx="4105440" cy="266364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600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73440" y="46530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740720" y="3860640"/>
            <a:ext cx="216000" cy="216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551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00360" y="5445000"/>
            <a:ext cx="431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4292640"/>
            <a:ext cx="14472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556000" y="4292280"/>
            <a:ext cx="1443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155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00000" y="260280"/>
            <a:ext cx="3743280" cy="2089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1640" y="260280"/>
            <a:ext cx="0" cy="20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1640" y="2205000"/>
            <a:ext cx="144720" cy="144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8436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8360" y="333360"/>
            <a:ext cx="28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5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0" y="1125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6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8360" y="3716280"/>
            <a:ext cx="3585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21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27280" y="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65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029440" y="105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2800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19169400">
            <a:off x="6981480" y="533880"/>
            <a:ext cx="861120" cy="15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29" y="130"/>
                </a:moveTo>
                <a:arcTo wR="10800" hR="10800" stAng="-5933949" swAng="4662688"/>
                <a:lnTo>
                  <a:pt x="10800" y="10800"/>
                </a:lnTo>
                <a:close/>
              </a:path>
              <a:path fill="none" w="21600" h="21600">
                <a:moveTo>
                  <a:pt x="9129" y="130"/>
                </a:moveTo>
                <a:arcTo wR="10800" hR="10800" stAng="-5933949" swAng="4662688"/>
              </a:path>
            </a:pathLst>
          </a:cu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9953600">
            <a:off x="5293080" y="242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19:26Z</dcterms:created>
  <dc:creator>User</dc:creator>
  <dc:description/>
  <dc:language>en-US</dc:language>
  <cp:lastModifiedBy>USER</cp:lastModifiedBy>
  <dcterms:modified xsi:type="dcterms:W3CDTF">2001-12-31T19:14:20Z</dcterms:modified>
  <cp:revision>39</cp:revision>
  <dc:subject/>
  <dc:title>Плошади</dc:title>
</cp:coreProperties>
</file>