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8D1-F5D3-474D-B769-8560E44D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C271-6B5B-4411-8A5F-3E548297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D8A72-BB86-466F-8531-7060318A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4CBFD-20C3-497D-8186-67C56CFF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B17BA-2A4A-4794-8627-D4D1AFE5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6257D-C931-4495-9944-309D7B9B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04A53-BE87-4A4B-94C6-13DA2BA0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CFCAA-35D0-462D-B4FD-9C84A7FA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2C407-B6B9-4289-99CE-0D01EFAE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55D5D-8E7C-4006-81D8-662174BD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8C2BD-ADE3-44BC-A0F0-4297B1F0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5507-4733-4766-9A54-EE146110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4851-0792-4359-8EC6-2B8C419B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C260-3313-4184-B3ED-96F6397E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F082-4699-4C00-A5A2-FDB0070A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A815-B6DC-4510-B511-B02BCEA5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598B-2D83-450E-9D5C-26222208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BAE2-1B1C-4B1D-986C-5820658E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69E2-9563-4956-AE0F-B5D6B9B8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780B-6B3B-49D9-97EE-D1BB58FB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52F2-896D-4714-A2A4-10E65C32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D5F6-3560-4F57-A2A3-17B7A1D5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49D2-354F-4D9C-B01C-D4DFED6C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C38C-80FF-40A1-B718-A810E748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04A2-2C5A-43FF-89FA-ABCAA3F8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968B-33B9-4A5C-8ABD-61822D82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08BAA-4C2E-452E-80DB-CA488FBA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CB5A9-B585-413C-8BA8-5A1EA5C1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3C1CE-BC53-4D42-B37E-4A7F851E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966A8-EF2D-498B-9DFB-9FE7FD4E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4A5E7-8ADB-472B-B957-BB397819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4279-04AE-42A1-A653-CB3832F4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1050B-A664-484D-B589-62198F50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7CC28-3A9A-4C56-AFA5-7AE3F909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49471-3A22-4E6A-9999-DB5EF7BE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B37E1-5E24-40DC-9565-813AAEDB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2623A-83FA-431B-8F58-87883834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7F7F0-B5DF-491F-BAA4-5A752863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9D749-C198-4E4C-95D0-BB60CF2C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407BE-011F-4451-A9BE-5EBBC5B0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17649-D311-4F7B-8943-BF622C4C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FCDCE-A693-4CB1-BF1C-D64CAF0C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B80F-53FB-4B12-A3F4-793AFE09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4E350-1D81-41A3-BCC0-F2DFD430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A38CF-0A89-4194-9B33-A79F81CA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CFF83-86A3-4C5D-B785-F1EA6007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7C815-9FF2-4C90-AC60-385E145D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DA999-7FF2-45AD-9A19-FE780FF0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E9D39-7E20-4769-9362-C7B01AE2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346EB-5E0A-4A9A-99A5-0B538B01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54F2F-D8AB-45C7-897E-536E6300F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109F0-9A80-41AC-933F-8209D7ACB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76D76-88E1-4C9C-A854-C2C3516A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C049-EAB4-41A0-B76B-B92904E2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18B65-51CF-4891-B519-EAA29A2D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002C9-7A6F-443C-840E-A3290705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4850B-7EF1-4E5E-841B-3715FA29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8FBFF-BFAA-4F76-8207-CBBAECFD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5D582-C028-496F-AA55-F52AEC07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5ADC3-920C-461A-8AC2-FEED2E4D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EAF4C-A30E-4428-A813-2A855130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9F6EE-B49D-4B38-B77D-911AD6AB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10180-395E-4FF8-A9A9-FF44C838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8D76A-7E9E-4215-B264-9C38418E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830E-48A4-4E0E-9BB7-2E1CF997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2CD40-BB76-4C84-9C6C-79A0615B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384BD-07B5-4C4B-A94F-8100FA3C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2BCDC-5515-459B-84DC-5D29E982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2012A-E1FB-48B2-B8D0-2010C864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1823C-208E-4473-8C7B-224EAC27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27DE1-9D3A-4778-B11F-BE0F6F69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04D18-0128-4F7B-8A5A-365CC5FB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2D358-C722-4ACD-9F9C-AEFA9FCD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4F254-D122-43C3-8269-6C70BC59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9C7F9-E03B-43B9-9CB6-D9510A8F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F71E-04DD-44F7-89BD-FF8CF37F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CBAA5-A8D1-4EBD-81B1-F266264C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54840-024A-4DA2-A4D9-D7464B3D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D12E8-2F3D-445D-86B6-F5020F10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3C8E1-3F45-43D0-AB64-D829182F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784F3-F959-487F-B48F-97AD7A4C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3FBC4-F62F-489A-9597-375BA496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9F4F6-4201-48B8-BDA0-8503B9B6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5018A-3119-4D56-AC3E-0F65C704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0D0B5-5EE7-49A0-BB2F-00A7D0D8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1C092-9ACC-47F4-8543-5CB8203B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1079-16F4-47EC-87BE-E3E0D46F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5F7FE-2E82-4F04-975C-352DDEAE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2ACA1-92B4-451C-BA4D-CCE38C51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C49F1-9DEF-46CE-9DB4-94394220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DD103-B8F5-4570-BE10-F2CB2E41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A120F-5092-46B4-9372-FF6711BA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151EC-9EF4-460D-8CA6-7A93DA57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88090-606D-4114-96BA-0C122686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7E6AE-B518-4577-9612-F70AAE55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92B55-ECA4-4322-B593-DB5539AD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3E520-A8C4-43D5-AB66-9D32C30A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2728-8529-45F5-B43E-7738F869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65451-46A5-4B7D-897A-FBEA4B95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D88D5-EA55-42AF-8984-66496A6E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4A95F-3FFB-4872-B3B8-C2B962F9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440CF-BDEC-492A-BD06-A09D59D4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E62FE-8E44-4EF0-BA7C-622ABEC9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16BDC-9E37-4485-84F6-37778268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52BA0-64D2-4B51-9448-A36BB740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B99FA-907A-45F4-90B5-5913AFAC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70982-BFAD-46EA-8153-60CB7655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B2C45-03D3-4CA5-B9A9-7208C06F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CA42-B029-4380-8A11-3EA32407D9F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E90B-8C31-4B17-9A83-AD022D798A3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8D57-323A-469E-8838-7766E91CB6A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80E7-ECDA-4C77-A00A-10EC7C13D18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3134-CAD3-4395-8E74-C1A95137744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6261-7867-4821-AA91-EE40FFC4CBC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7BE9-1420-4356-AE68-78FE1A2EDA7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01EE-57A2-4F0F-9BB3-DF713E1548E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26A0-739F-4266-AF14-FB69010103D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11426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«Чем лучше мы будем знать прошлое,тем легче, тем более глубоко и радостно поймём важное значение настоящего»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                    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/ А.М.Горький /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FC29-3774-4D3D-A986-670481051E1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2682720" y="1981080"/>
            <a:ext cx="5712120" cy="123192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3" descr="117248198072989.jpg"/>
          <p:cNvPicPr/>
          <p:nvPr/>
        </p:nvPicPr>
        <p:blipFill>
          <a:blip r:embed="rId2"/>
          <a:stretch/>
        </p:blipFill>
        <p:spPr>
          <a:xfrm>
            <a:off x="244440" y="171360"/>
            <a:ext cx="871560" cy="90180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4" descr="ceh5p.JPG"/>
          <p:cNvPicPr/>
          <p:nvPr/>
        </p:nvPicPr>
        <p:blipFill>
          <a:blip r:embed="rId3"/>
          <a:stretch/>
        </p:blipFill>
        <p:spPr>
          <a:xfrm>
            <a:off x="3303720" y="1311120"/>
            <a:ext cx="1019160" cy="779760"/>
          </a:xfrm>
          <a:prstGeom prst="rect">
            <a:avLst/>
          </a:prstGeom>
          <a:ln w="0">
            <a:noFill/>
          </a:ln>
        </p:spPr>
      </p:pic>
      <p:sp>
        <p:nvSpPr>
          <p:cNvPr id="404" name="Номер слайда 8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4105-C9F5-47AA-956C-4845234CB99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2" descr="C:\Documents and Settings\Алла\Рабочий стол\Фото с Занятий\фото\Мои рисунки\к занят.о хлебе\img_4142.jpg"/>
          <p:cNvPicPr/>
          <p:nvPr/>
        </p:nvPicPr>
        <p:blipFill>
          <a:blip r:embed="rId4"/>
          <a:stretch/>
        </p:blipFill>
        <p:spPr>
          <a:xfrm>
            <a:off x="103320" y="5784840"/>
            <a:ext cx="1096920" cy="9507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3" descr="C:\Documents and Settings\Алла\Рабочий стол\Фото с Занятий\фото\Мои рисунки\к занят.о хлебе\untitled.bmp"/>
          <p:cNvPicPr/>
          <p:nvPr/>
        </p:nvPicPr>
        <p:blipFill>
          <a:blip r:embed="rId5"/>
          <a:stretch/>
        </p:blipFill>
        <p:spPr>
          <a:xfrm>
            <a:off x="7858080" y="3498840"/>
            <a:ext cx="1036800" cy="8906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4" descr="C:\Documents and Settings\Алла\Рабочий стол\Фото с Занятий\фото\Мои рисунки\5991_w640_h640_pic0144.jpg"/>
          <p:cNvPicPr/>
          <p:nvPr/>
        </p:nvPicPr>
        <p:blipFill>
          <a:blip r:embed="rId6"/>
          <a:stretch/>
        </p:blipFill>
        <p:spPr>
          <a:xfrm>
            <a:off x="6016680" y="1085760"/>
            <a:ext cx="1195200" cy="9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323640" y="357120"/>
            <a:ext cx="8569080" cy="616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581f"/>
                </a:solidFill>
                <a:latin typeface="Franklin Gothic Book"/>
              </a:rPr>
              <a:t>ВЫСКАЗЫВАНИЯ ДЕТЕЙ О ТОМ, ГДЕ РАСТЁТ ХЛЕБ: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43329"/>
                </a:solidFill>
                <a:latin typeface="Franklin Gothic Book"/>
              </a:rPr>
              <a:t>-Когда я был маленьким,я думал, что хлеб растёт на ёлке, как шишки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43329"/>
                </a:solidFill>
                <a:latin typeface="Franklin Gothic Book"/>
              </a:rPr>
              <a:t>– </a:t>
            </a:r>
            <a:r>
              <a:rPr b="0" lang="ru-RU" sz="1400" spc="-1" strike="noStrike">
                <a:solidFill>
                  <a:srgbClr val="443329"/>
                </a:solidFill>
                <a:latin typeface="Franklin Gothic Book"/>
              </a:rPr>
              <a:t>А я думал, что хлеб делают в магазине!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43329"/>
                </a:solidFill>
                <a:latin typeface="Franklin Gothic Book"/>
              </a:rPr>
              <a:t>– </a:t>
            </a:r>
            <a:r>
              <a:rPr b="0" lang="ru-RU" sz="1400" spc="-1" strike="noStrike">
                <a:solidFill>
                  <a:srgbClr val="443329"/>
                </a:solidFill>
                <a:latin typeface="Franklin Gothic Book"/>
              </a:rPr>
              <a:t>А мне бабушка говорила, что пряники и булочки печёт только добрый человек, поэтому они такие вкусные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43329"/>
                </a:solidFill>
                <a:latin typeface="Franklin Gothic Book"/>
              </a:rPr>
              <a:t>– </a:t>
            </a:r>
            <a:r>
              <a:rPr b="0" lang="ru-RU" sz="1400" spc="-1" strike="noStrike">
                <a:solidFill>
                  <a:srgbClr val="443329"/>
                </a:solidFill>
                <a:latin typeface="Franklin Gothic Book"/>
              </a:rPr>
              <a:t>А я сама лепила из тест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43329"/>
                </a:solidFill>
                <a:latin typeface="Franklin Gothic Book"/>
              </a:rPr>
              <a:t>пирожки и пекла в духовке!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</a:t>
            </a:r>
            <a:endParaRPr b="0" lang="en-US" sz="5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Номер слайда 6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8C86-D1A1-41A7-A264-A6A923ABCAD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9" descr="C:\Documents and Settings\Алла\Рабочий стол\Фото с Занятий\фото\Мои рисунки\untitled.bmp"/>
          <p:cNvPicPr/>
          <p:nvPr/>
        </p:nvPicPr>
        <p:blipFill>
          <a:blip r:embed="rId1"/>
          <a:stretch/>
        </p:blipFill>
        <p:spPr>
          <a:xfrm>
            <a:off x="7989840" y="3895560"/>
            <a:ext cx="685800" cy="605160"/>
          </a:xfrm>
          <a:prstGeom prst="rect">
            <a:avLst/>
          </a:prstGeom>
          <a:ln w="28440">
            <a:solidFill>
              <a:srgbClr val="f0a22e"/>
            </a:solidFill>
            <a:prstDash val="sysDot"/>
            <a:miter/>
          </a:ln>
        </p:spPr>
      </p:pic>
      <p:pic>
        <p:nvPicPr>
          <p:cNvPr id="411" name="Picture 11" descr="C:\Documents and Settings\Алла\Рабочий стол\Фото с Занятий\фото\Мои рисунки\к занят.о хлебе\img.jpg"/>
          <p:cNvPicPr/>
          <p:nvPr/>
        </p:nvPicPr>
        <p:blipFill>
          <a:blip r:embed="rId2"/>
          <a:stretch/>
        </p:blipFill>
        <p:spPr>
          <a:xfrm>
            <a:off x="1646280" y="5883120"/>
            <a:ext cx="112068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4724280" y="-6480"/>
            <a:ext cx="4426200" cy="9702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C:\Documents and Settings\Алла\Рабочий стол\Фото с Занятий\фото\Мои рисунки\к занят.о хлебе\хлебн.дер..jpg"/>
          <p:cNvPicPr/>
          <p:nvPr/>
        </p:nvPicPr>
        <p:blipFill>
          <a:blip r:embed="rId2"/>
          <a:stretch/>
        </p:blipFill>
        <p:spPr>
          <a:xfrm>
            <a:off x="103320" y="5389560"/>
            <a:ext cx="969840" cy="12193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C:\Documents and Settings\Алла\Рабочий стол\Фото с Занятий\фото\Мои рисунки\к занят.о хлебе\хлебн.дерево.jpg"/>
          <p:cNvPicPr/>
          <p:nvPr/>
        </p:nvPicPr>
        <p:blipFill>
          <a:blip r:embed="rId3"/>
          <a:stretch/>
        </p:blipFill>
        <p:spPr>
          <a:xfrm>
            <a:off x="7858080" y="2279520"/>
            <a:ext cx="889200" cy="901800"/>
          </a:xfrm>
          <a:prstGeom prst="rect">
            <a:avLst/>
          </a:prstGeom>
          <a:ln w="0">
            <a:noFill/>
          </a:ln>
        </p:spPr>
      </p:pic>
      <p:sp>
        <p:nvSpPr>
          <p:cNvPr id="415" name="Номер слайда 5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FEFD-06C6-4F5C-AB4C-8C3FE8E6706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476280" y="-6480"/>
            <a:ext cx="8674200" cy="933480"/>
          </a:xfrm>
          <a:prstGeom prst="rect">
            <a:avLst/>
          </a:prstGeom>
          <a:ln w="0">
            <a:noFill/>
          </a:ln>
        </p:spPr>
      </p:pic>
      <p:sp>
        <p:nvSpPr>
          <p:cNvPr id="417" name="Номер слайда 7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5954-51BE-4C3F-99CA-09C89DDFA34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7" descr="C:\Documents and Settings\Алла\Рабочий стол\Фото с Занятий\фото\Мои рисунки\422568.jpg"/>
          <p:cNvPicPr/>
          <p:nvPr/>
        </p:nvPicPr>
        <p:blipFill>
          <a:blip r:embed="rId2"/>
          <a:stretch/>
        </p:blipFill>
        <p:spPr>
          <a:xfrm>
            <a:off x="7997760" y="907920"/>
            <a:ext cx="897120" cy="7686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9" descr="C:\Documents and Settings\Алла\Рабочий стол\Фото с Занятий\фото\Мои рисунки\673777.jpg"/>
          <p:cNvPicPr/>
          <p:nvPr/>
        </p:nvPicPr>
        <p:blipFill>
          <a:blip r:embed="rId3"/>
          <a:stretch/>
        </p:blipFill>
        <p:spPr>
          <a:xfrm>
            <a:off x="4986360" y="3425760"/>
            <a:ext cx="884160" cy="7192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0" descr="C:\Documents and Settings\Алла\Рабочий стол\Фото с Занятий\фото\Мои рисунки\612356.jpg"/>
          <p:cNvPicPr/>
          <p:nvPr/>
        </p:nvPicPr>
        <p:blipFill>
          <a:blip r:embed="rId4"/>
          <a:stretch/>
        </p:blipFill>
        <p:spPr>
          <a:xfrm>
            <a:off x="463680" y="981000"/>
            <a:ext cx="1036440" cy="8114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C:\Documents and Settings\Алла\Рабочий стол\Фото с Занятий\фото\Мои рисунки\682601.jpg"/>
          <p:cNvPicPr/>
          <p:nvPr/>
        </p:nvPicPr>
        <p:blipFill>
          <a:blip r:embed="rId5"/>
          <a:stretch/>
        </p:blipFill>
        <p:spPr>
          <a:xfrm>
            <a:off x="1627200" y="4218120"/>
            <a:ext cx="1073160" cy="860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2" descr="C:\Documents and Settings\Алла\Рабочий стол\Фото с Занятий\фото\Мои рисунки\630391.png"/>
          <p:cNvPicPr/>
          <p:nvPr/>
        </p:nvPicPr>
        <p:blipFill>
          <a:blip r:embed="rId6"/>
          <a:stretch/>
        </p:blipFill>
        <p:spPr>
          <a:xfrm>
            <a:off x="8137440" y="4218120"/>
            <a:ext cx="903240" cy="7142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5" descr="C:\Documents and Settings\Алла\Рабочий стол\Фото с Занятий\фото\Мои рисунки\02113_.jpg"/>
          <p:cNvPicPr/>
          <p:nvPr/>
        </p:nvPicPr>
        <p:blipFill>
          <a:blip r:embed="rId7"/>
          <a:stretch/>
        </p:blipFill>
        <p:spPr>
          <a:xfrm>
            <a:off x="5048280" y="907920"/>
            <a:ext cx="1035000" cy="8114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9" descr="C:\Documents and Settings\Алла\Рабочий стол\Фото с Занятий\фото\Мои рисунки\06088_.jpg"/>
          <p:cNvPicPr/>
          <p:nvPr/>
        </p:nvPicPr>
        <p:blipFill>
          <a:blip r:embed="rId8"/>
          <a:stretch/>
        </p:blipFill>
        <p:spPr>
          <a:xfrm>
            <a:off x="1349280" y="3624120"/>
            <a:ext cx="44640" cy="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8T16:22:25Z</dcterms:created>
  <dc:creator>Administrator</dc:creator>
  <dc:description/>
  <dc:language>en-US</dc:language>
  <cp:lastModifiedBy>Administrator</cp:lastModifiedBy>
  <dcterms:modified xsi:type="dcterms:W3CDTF">2011-12-28T16:41:17Z</dcterms:modified>
  <cp:revision>2</cp:revision>
  <dc:subject/>
  <dc:title>Слайд 1</dc:title>
</cp:coreProperties>
</file>