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A48-0F87-402E-B62E-E0229025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915-3BB9-4EE0-A800-16C5C28B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C9AE4-C59B-4437-AF27-EAB1E5A4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AB2D9-4C3E-4D53-B81A-3B0ED455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6857F-F77B-49FA-AB75-78F9D983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F7D29-4712-431A-B56C-461AD82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0F343-C925-4B0C-9432-C1900E24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FAD10-75EB-4EAE-B352-CBDDCDE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43CB8-41A1-4348-9B7C-229B1A8B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4E091-470F-4D8C-AD1A-DBAF03BA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A557D-020F-4C3F-8BCE-6529B625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DB8-32ED-42E7-97F9-688B2514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F0F-C4C9-41A8-9BB3-78681245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DA64-0BC1-4BF1-A475-8DE4016F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2D20-F076-491D-962F-F828658E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D636-5E62-4522-A83B-B8C589EE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1AEC-6C82-4691-BF2E-C7D2AFAB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A450-9E84-4B57-948A-95362697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1DEA-0FC2-493B-B464-20335B1B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B268-4562-443B-91F8-EC137656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B2B-7F6D-48B5-B9D7-F667F987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5CEC-3154-4E7D-96A2-4DDCE9B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A1EF-58E8-428D-BD18-3FE4A18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6400-B2F9-4AE0-96A2-9CED1B22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8403-D41C-4430-912E-C85CF164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8EFA-4924-4D9F-983D-8F558B74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A3F4-9618-4CDC-9D4D-F6BB2325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49A2-BFE1-48BB-BF47-2D72A9A6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EC43-1C98-4CAC-91BC-B83F51DB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FE1D-22A9-4356-BCAC-1988160F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55D6-55E6-4339-B0FF-21A96769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FE7-AFAF-43EA-916B-0CC5C76F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4936-16EA-4D4D-A4D5-2569D720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BF89-0822-49D5-93B4-18F4738B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128A-6820-4E4F-90A3-93F7BF6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B160-D873-45B0-A143-B085155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0054-C926-4680-AA66-9A9DC5D2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CAD2-DDD6-435C-9DB4-3DEF0D57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6C02B-64B8-41A9-BAEC-2317A7F0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1F90-258D-4D12-9202-44090BA5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E95D3-06C4-4FA6-8EDD-5514D1D7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FEB43-164B-44BE-BFBF-40299C72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ED7-80AE-438E-8EB1-F1D04AA8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9A69-4DD5-4D20-B787-5505832C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5066-F3BC-4727-B945-4F5B51D6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39BE-B9C5-4D5F-A770-830F98C3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4657-70BB-4DFE-91BE-17CCDCB2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E061-2989-4FE7-B7B5-50973F5A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5BE46-E7F7-4DB2-AF45-3475B02A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2C0E-76C9-4787-AABA-1469BBC0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28D34-7635-481B-8800-7D6EDCEE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E9A1-6ECA-4308-8700-C964681D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8C2D2-4485-4421-B8B1-6B049792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738-AF86-4F2F-9269-BC2ED50A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3480-A61D-4E33-BD14-040044CB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725DC-13E9-4A23-8988-CF88AD5C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7A18-0956-48F6-BB8F-4CF87A8C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9EE9-2917-48F4-B901-567654E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BBFB3-B0AD-45B8-A43E-4C05B40F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4648-772F-49E0-889F-84055F3F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E84F-F4F1-4CC3-8FA2-82ECC20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C2AEB-E716-4F38-926F-E2077AB7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8A943-2D22-4713-B596-ADDEDD63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05EF-9E92-4A29-893F-4D6771FF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3A2-7AA3-4A95-8E03-5042DF0B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33701-A9F5-429B-B33B-D60E3195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BE8E6-9D45-4158-8733-B6E623E4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E518-7F92-42F4-96D6-F002254F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8599-45BA-47B8-A368-6819C704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D38CC-F3AA-4DB9-95DB-8B8E1D03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CABA2-4B82-472A-B127-9837E8B7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C23E2-1ADC-467C-B225-740CCE24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0BB7-6246-46D8-984B-756A0668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94187-AD7A-4D8C-96F2-FFD00E2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5D07B-A2BD-4ADE-9BA7-18AD42F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CE1-EC07-42C7-A9F1-B74902B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CB6F5-875A-46CA-93E4-ED7BC987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4477E-7780-4EB0-A46B-9A2E7DC9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EC56-B844-480B-9602-DAE5BE21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FAF69-2FC7-4B42-BB56-9FAC79E9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4A88E-9143-438A-AA65-C75CD749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E696A-B512-411C-836A-4BB9E08A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2663D-5209-4334-902E-39CA6D3C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61786-1D9F-42BC-AE4D-79B30E6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EF6D5-70CE-4F64-A759-28154987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7C687-47AB-47F7-AA8B-798121F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78A-0946-4737-9F84-AC10D37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47C1-E949-4149-AA07-373B2A35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7A3B-7042-4A6F-91D3-5ED7393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B0331-BB99-4F50-8C9E-F4AC9E32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A7711-5A08-4DA2-A860-98172862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BB092-DF88-4AC0-B3A7-F67D7FAB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71749-B83F-4A2C-8E4C-61784FCE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90A94-5308-4D61-8D8B-623E0AC5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2446E-F059-4B0A-8E48-3BB9B136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24E3-8E40-4C74-A40A-0D9B5055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4A95D-61E1-425D-8706-D61EBABE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776-F5BF-40B3-9D33-48D0D8A7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AE30C-9BAA-4E4F-8570-F4DC2E4D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D1C72-DD53-4F2D-ACD8-B0055870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8D7C3-7994-4455-9451-87C605E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E1DE2-7A0F-4C5B-8D85-DD28DF7E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EC779-67A9-42AE-89F9-D09D33C7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CF1A7-3511-49BD-BD06-3E0CAE31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9BCAD-4159-4431-A240-585A82C3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2319C-9091-4177-8643-9BACAA11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C5AD9-B2AD-4CB0-8636-ECBC3313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518D0-BFBD-44AA-B40D-8598D802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B09E-65D0-45DB-83B8-5BEC855799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0740-12C4-4CA1-A760-A63307D04E1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3D1-B36A-49A3-BCED-16307EC9B9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8DE-B796-459F-A4BF-C4ED0689BC2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62A2-DF4D-4CE1-8B34-312D4DE04E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102A-F510-49F2-9DE2-5A6CD2E2BE9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C8D2-6515-4A7C-A3E6-14198934D2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1598-E732-42C5-B7DE-AB8BE3FF21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5F66-DC56-4CBA-A9AC-85470E17C41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5" descr="fizarioz kolosa pshenici.jpg"/>
          <p:cNvPicPr/>
          <p:nvPr/>
        </p:nvPicPr>
        <p:blipFill>
          <a:blip r:embed="rId1"/>
          <a:stretch/>
        </p:blipFill>
        <p:spPr>
          <a:xfrm>
            <a:off x="-96840" y="3011400"/>
            <a:ext cx="1170000" cy="129240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1"/>
          <p:cNvSpPr/>
          <p:nvPr/>
        </p:nvSpPr>
        <p:spPr>
          <a:xfrm>
            <a:off x="2075760" y="4287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C:\Documents and Settings\Алла\Рабочий стол\Фото с Занятий\фото\Мои рисунки\к занят.о хлебе\50642.jpg"/>
          <p:cNvPicPr/>
          <p:nvPr/>
        </p:nvPicPr>
        <p:blipFill>
          <a:blip r:embed="rId2"/>
          <a:stretch/>
        </p:blipFill>
        <p:spPr>
          <a:xfrm>
            <a:off x="4565520" y="2000160"/>
            <a:ext cx="1158840" cy="121932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8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9" descr="C:\Documents and Settings\Алла\Рабочий стол\Фото с Занятий\фото\Мои рисунки\pole_2_web.jpg"/>
          <p:cNvPicPr/>
          <p:nvPr/>
        </p:nvPicPr>
        <p:blipFill>
          <a:blip r:embed="rId3"/>
          <a:stretch/>
        </p:blipFill>
        <p:spPr>
          <a:xfrm>
            <a:off x="7864560" y="55440"/>
            <a:ext cx="1309680" cy="115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C:\Documents and Settings\Алла\Рабочий стол\Фото с Занятий\фото\Мои рисунки\pole_4_web.jpg"/>
          <p:cNvPicPr/>
          <p:nvPr/>
        </p:nvPicPr>
        <p:blipFill>
          <a:blip r:embed="rId4"/>
          <a:stretch/>
        </p:blipFill>
        <p:spPr>
          <a:xfrm>
            <a:off x="5376960" y="3444840"/>
            <a:ext cx="1199880" cy="1127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C:\Documents and Settings\Алла\Рабочий стол\Фото с Занятий\фото\Мои рисунки\01.jpg"/>
          <p:cNvPicPr/>
          <p:nvPr/>
        </p:nvPicPr>
        <p:blipFill>
          <a:blip r:embed="rId5"/>
          <a:stretch/>
        </p:blipFill>
        <p:spPr>
          <a:xfrm>
            <a:off x="-23760" y="847800"/>
            <a:ext cx="1262160" cy="11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169560" cy="927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Алла\Рабочий стол\Фото с Занятий\фото\Мои рисунки\к занят.о хлебе\i2.jpg"/>
          <p:cNvPicPr/>
          <p:nvPr/>
        </p:nvPicPr>
        <p:blipFill>
          <a:blip r:embed="rId2"/>
          <a:stretch/>
        </p:blipFill>
        <p:spPr>
          <a:xfrm>
            <a:off x="566640" y="4998960"/>
            <a:ext cx="1006560" cy="1036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Documents and Settings\Алла\Рабочий стол\Фото с Занятий\фото\Мои рисунки\к занят.о хлебе\GoludiDubki_0_preview.jpg"/>
          <p:cNvPicPr/>
          <p:nvPr/>
        </p:nvPicPr>
        <p:blipFill>
          <a:blip r:embed="rId3"/>
          <a:stretch/>
        </p:blipFill>
        <p:spPr>
          <a:xfrm>
            <a:off x="244440" y="755640"/>
            <a:ext cx="914400" cy="897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Алла\Рабочий стол\Фото с Занятий\фото\Мои рисунки\к занят.о хлебе\103.jpg"/>
          <p:cNvPicPr/>
          <p:nvPr/>
        </p:nvPicPr>
        <p:blipFill>
          <a:blip r:embed="rId4"/>
          <a:stretch/>
        </p:blipFill>
        <p:spPr>
          <a:xfrm>
            <a:off x="2798640" y="774720"/>
            <a:ext cx="803520" cy="816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Алла\Рабочий стол\Фото с Занятий\фото\Мои рисунки\к занят.о хлебе\1272572109_16.jpg"/>
          <p:cNvPicPr/>
          <p:nvPr/>
        </p:nvPicPr>
        <p:blipFill>
          <a:blip r:embed="rId5"/>
          <a:stretch/>
        </p:blipFill>
        <p:spPr>
          <a:xfrm>
            <a:off x="7858080" y="1407960"/>
            <a:ext cx="96840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31840" y="-6480"/>
            <a:ext cx="8918640" cy="9273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Documents and Settings\Алла\Рабочий стол\Фото с Занятий\фото\Мои рисунки\к занят.о хлебе\muz_hleb.jpg"/>
          <p:cNvPicPr/>
          <p:nvPr/>
        </p:nvPicPr>
        <p:blipFill>
          <a:blip r:embed="rId2"/>
          <a:stretch/>
        </p:blipFill>
        <p:spPr>
          <a:xfrm>
            <a:off x="493560" y="3352680"/>
            <a:ext cx="828720" cy="725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Documents and Settings\Алла\Рабочий стол\Фото с Занятий\фото\Мои рисунки\к занят.о хлебе\logo_liels.jpg"/>
          <p:cNvPicPr/>
          <p:nvPr/>
        </p:nvPicPr>
        <p:blipFill>
          <a:blip r:embed="rId3"/>
          <a:stretch/>
        </p:blipFill>
        <p:spPr>
          <a:xfrm>
            <a:off x="3200400" y="2998800"/>
            <a:ext cx="749160" cy="792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Алла\Рабочий стол\Фото с Занятий\фото\Мои рисунки\к занят.о хлебе\photo2.jpg"/>
          <p:cNvPicPr/>
          <p:nvPr/>
        </p:nvPicPr>
        <p:blipFill>
          <a:blip r:embed="rId4"/>
          <a:stretch/>
        </p:blipFill>
        <p:spPr>
          <a:xfrm>
            <a:off x="7845480" y="115920"/>
            <a:ext cx="834840" cy="669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Алла\Рабочий стол\Фото с Занятий\фото\Мои рисунки\к занят.о хлебе\museim_015_big.jpg"/>
          <p:cNvPicPr/>
          <p:nvPr/>
        </p:nvPicPr>
        <p:blipFill>
          <a:blip r:embed="rId5"/>
          <a:stretch/>
        </p:blipFill>
        <p:spPr>
          <a:xfrm>
            <a:off x="5602320" y="3786120"/>
            <a:ext cx="82872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79520" y="0"/>
            <a:ext cx="8664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лово пшеница- потомок древнерусского слова «пашеница», означающее «толочь», «пихать»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На украинском- «пшен</a:t>
            </a: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ця»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На белорусском- «пшан</a:t>
            </a: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ца»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На чешском- «пшениче»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На словацком- «прешница»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На польском и болгарском слово пшеница звучит точно так, как и у нас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357120" y="0"/>
            <a:ext cx="8786880" cy="39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ешь ли ты пословицы о хлеб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– всему го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а – вода, ягода – трава, а хлеб – всему го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– батюшка, водица – мату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да соль – это труд да любо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на стол – так и стол престол; а хлеба ни куска – так и стол до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да вода – крестьянская 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 обед, когда хлеба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2"/>
          <p:cNvSpPr/>
          <p:nvPr/>
        </p:nvSpPr>
        <p:spPr>
          <a:xfrm>
            <a:off x="8229600" y="6500880"/>
            <a:ext cx="628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6:38:41Z</dcterms:created>
  <dc:creator>Administrator</dc:creator>
  <dc:description/>
  <dc:language>en-US</dc:language>
  <cp:lastModifiedBy>Administrator</cp:lastModifiedBy>
  <dcterms:modified xsi:type="dcterms:W3CDTF">2011-12-28T18:00:49Z</dcterms:modified>
  <cp:revision>2</cp:revision>
  <dc:subject/>
  <dc:title>Слайд 1</dc:title>
</cp:coreProperties>
</file>