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4A9-E7A5-450D-95DE-07F4E184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46A-6B6C-4FD5-AC9E-A4B247C1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76698-E223-4D62-A7B3-484A2576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D7F36-9078-429C-AC92-8D9E2F95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DFF86-6B33-4CEE-81A6-D0FFCFCF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2BA2C-7C48-4B65-816A-16E1A1E7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373BC-C614-4C7D-B04F-3EB989C8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F18AF-B620-4420-8EF0-494DE363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9D149-A166-406C-9C49-C68B1C79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F2B0F-A581-49AB-876E-0AE115B7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C6600-E0E4-4E6E-A50B-B789DAA5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A1F-6E03-4EEC-AB95-D8D136C7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4BF-9F06-413C-BE4D-D3DD3C9A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6D67-4DF0-44F4-9FC6-CE7D39AA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6C5B-47F6-4D7C-B85C-5E88E9B4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036C-0C0C-472A-BBBA-0E88E9B6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46EA-117A-4DAE-B9FC-8A42D949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B29B-5A84-46F2-AFB8-F2F717F7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0501-F5C8-4140-88A3-EBEE8E73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CB4B-C784-4B98-B741-775CD568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27B6-75B0-4E16-AD6B-9389CC8D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BE71-F786-426E-B0B6-52070C5B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33B0-DD2A-42C8-89A2-BCC76000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6343-0191-42DF-8A71-3BF9735C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6002-8A75-4D77-82E8-72C113A7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6A45-046E-4190-930F-E83F14E1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D6F2D-30BC-40C9-A299-2A812C0E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9FBBA-D054-4E85-B384-5336B60A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4C7FA-D1D0-4FED-BE25-48372C54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C9C0E-B8BE-47D7-B2C8-5E8FEC42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A4BE-1844-4703-A32E-85CE0EDA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80D-0707-41F3-9B64-3BB3C936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1AA2E-3BFC-4900-BE09-9FAC72A9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BB797-F1E3-4E7B-BEEF-1A9D3CCE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BBFB0-B1C5-4D92-B309-7643D12A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39211-1D8F-45BE-B5F5-77861652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52132-0D0D-432B-A33A-1E790D3E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69B05-0FCC-4AEA-AAA9-794EA713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70851-7007-45BD-BC6E-9541C60A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30FFF-F9B8-4BA2-960F-2716AC2F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A68D3-1D0F-42F7-B974-8210771C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6DD0F-A0E2-4C81-97C4-447D32EA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A8C7-C993-4EFE-9C06-8B7F735E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1F940-76B7-468B-84C0-38FF9205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22A56-AF0B-42A7-87AE-36C2F21F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14379-5A93-4C85-B60B-CADAB003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5B7A8-2D3B-4EDE-8E67-F325A877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72E8F-5F87-40C5-9C23-10399709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07BD5-F78F-4610-83DD-5B2FD8DB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9264E-5704-46D9-A20F-C0D45A98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ACD35-2AF7-4231-89E6-5D6A3133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2032D-8B34-4FDA-A472-511DF23F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410EC-9185-4AC9-B319-50CEC6B4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8BD-45DA-41B0-9BC0-0AC91530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EFEE3-45CF-487A-AD49-6DE3CBC1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E0B51-E943-49BB-8BBC-3C5D349B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87440-B148-4D92-9729-55E97922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C5A66-7B97-44E0-A725-D180036D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3B9F7-892A-4B9E-BDAE-CE46F466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25E71-FF6F-487A-8DAF-B5C6FED1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0B276-06D5-4251-BB6A-35610210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F63B4-17D7-4B9D-A43B-7C46040A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69968-777D-4253-B6E9-EB564AD8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A44BB-1269-4728-8E71-679743D3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4CB-8DE9-4383-AC83-3930EF33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E2112-FF4B-430D-A908-898B930D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760CF-4662-40D8-987C-75DAD083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1BB37-2934-4B0D-AC48-E7A4E080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175AB-5322-4A77-994B-CD407252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E54D4-9248-4512-962F-A2B83696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A3858-1043-4183-8666-13ECD41F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936C1-AAA0-4FDE-A283-83F5F3AB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86035-BEFD-4E92-9A2C-4F3FE546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56E18-8CFD-4D57-9C85-5534A291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A77D4-76C8-4FC2-9235-6FE6B3FB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B121-4170-45E3-879E-F8709204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F47C6-B2B7-42EE-924B-48C59A43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6B8F7-05BB-4DC5-A4E4-E63B29C4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60B0A-6939-4D05-9B24-F02265C0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AD68E-0962-4CE5-A41E-8C2BED44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B8A43-89D3-4CFB-BF06-B428D458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354CB-DD43-4DCB-ADAE-CC1AFCE2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9735A-28D8-42E6-9C1E-E471C6D0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6B36C-98B1-41A1-8B65-0386D440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DE0B7-C120-46A5-B9B1-41EBF1E7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DD19A-5E9C-4BD3-AADE-E06E43BB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FAE-7C1F-4F3A-B040-D12C000D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484DB-A268-47A4-BF60-8A3CCD13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469CC-FBBE-4BE8-87FB-41DB2332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39B4E-9C0F-44AA-A297-9BA39228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0181A-B201-454F-A130-F931694E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6A932-43E9-4076-96E8-13C1D54C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D0661-3F6F-4DDA-AEC9-0F585BC2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13D2C-25C0-45CA-A6D8-8D0AA003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6C3CA-A4F0-447C-9859-CFE7798F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17BCE-F408-46BE-BFA3-D1430E6D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20EB5-E850-49C8-A4CF-9D1A9FCB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75CC-3803-44CE-9B3B-B26D5E57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C0FF0-BE98-42B0-BA77-2E4535B4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6F0A1-CA6D-4BEE-965D-F15887AA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EA36E-C635-4A09-8D43-466F02DA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C7344-0A2D-483B-9FA3-493C5B7E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650C5-31EA-4584-B3E5-D78C615B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9E7C5-6ED0-4429-A620-58E1736C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05FEC-0A62-4565-B3D3-266892D1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D22A7-92E6-4B22-8128-B523A552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F67E7-A12F-4FCF-B420-69899CB0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36F99-D2B5-459F-9DD7-B771052A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81DB-AED2-462D-A2A1-01331BBC871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EE22-2DC9-4004-ADB5-45F5A5E6364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496A-2A8A-47F2-8BC4-1025FDCA76C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8279-A61C-4507-8AB1-6FD6F589DEE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CE7D-7D94-4858-88D4-47190680744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3DCA-A0BE-44D6-A218-8767FA4CAAB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7CE7-E318-4E5A-9811-4EEE2171AD2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56FB-6621-48E0-997D-36BF6DBF9DE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9A36-FF90-472E-A19C-286609DCFFF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1857240" y="50004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Рисунок 2" descr="prnim.php.jpg"/>
          <p:cNvPicPr/>
          <p:nvPr/>
        </p:nvPicPr>
        <p:blipFill>
          <a:blip r:embed="rId1"/>
          <a:stretch/>
        </p:blipFill>
        <p:spPr>
          <a:xfrm>
            <a:off x="858960" y="5711760"/>
            <a:ext cx="731880" cy="57960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4" descr="img98126.jpg"/>
          <p:cNvPicPr/>
          <p:nvPr/>
        </p:nvPicPr>
        <p:blipFill>
          <a:blip r:embed="rId2"/>
          <a:stretch/>
        </p:blipFill>
        <p:spPr>
          <a:xfrm>
            <a:off x="7796160" y="79200"/>
            <a:ext cx="1135080" cy="1030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C:\Documents and Settings\Алла\Рабочий стол\Фото с Занятий\фото\Мои рисунки\к занят.о хлебе\рожь.jpg"/>
          <p:cNvPicPr/>
          <p:nvPr/>
        </p:nvPicPr>
        <p:blipFill>
          <a:blip r:embed="rId3"/>
          <a:stretch/>
        </p:blipFill>
        <p:spPr>
          <a:xfrm>
            <a:off x="682560" y="762120"/>
            <a:ext cx="749520" cy="603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C:\Documents and Settings\Алла\Рабочий стол\Фото с Занятий\фото\Мои рисунки\к занят.о хлебе\ржан.хлеб.jpg"/>
          <p:cNvPicPr/>
          <p:nvPr/>
        </p:nvPicPr>
        <p:blipFill>
          <a:blip r:embed="rId4"/>
          <a:stretch/>
        </p:blipFill>
        <p:spPr>
          <a:xfrm>
            <a:off x="5211720" y="3498840"/>
            <a:ext cx="781200" cy="665280"/>
          </a:xfrm>
          <a:prstGeom prst="rect">
            <a:avLst/>
          </a:prstGeom>
          <a:ln w="0">
            <a:noFill/>
          </a:ln>
        </p:spPr>
      </p:pic>
      <p:sp>
        <p:nvSpPr>
          <p:cNvPr id="404" name="Номер слайда 8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2" descr="21.jpg"/>
          <p:cNvPicPr/>
          <p:nvPr/>
        </p:nvPicPr>
        <p:blipFill>
          <a:blip r:embed="rId1"/>
          <a:stretch/>
        </p:blipFill>
        <p:spPr>
          <a:xfrm>
            <a:off x="914400" y="55440"/>
            <a:ext cx="1090440" cy="1230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C:\Documents and Settings\Алла\Рабочий стол\Фото с Занятий\фото\Мои рисунки\к занят.о хлебе\graudberzis_Ventspils.jpg"/>
          <p:cNvPicPr/>
          <p:nvPr/>
        </p:nvPicPr>
        <p:blipFill>
          <a:blip r:embed="rId2"/>
          <a:stretch/>
        </p:blipFill>
        <p:spPr>
          <a:xfrm>
            <a:off x="7937640" y="55440"/>
            <a:ext cx="1023840" cy="981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Documents and Settings\Алла\Рабочий стол\Фото с Занятий\фото\Мои рисунки\к занят.о хлебе\hleb.jpg"/>
          <p:cNvPicPr/>
          <p:nvPr/>
        </p:nvPicPr>
        <p:blipFill>
          <a:blip r:embed="rId3"/>
          <a:stretch/>
        </p:blipFill>
        <p:spPr>
          <a:xfrm>
            <a:off x="5016600" y="3297240"/>
            <a:ext cx="987480" cy="9572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C:\Documents and Settings\Алла\Рабочий стол\Фото с Занятий\фото\Мои рисунки\к занят.о хлебе\logo_liels.jpg"/>
          <p:cNvPicPr/>
          <p:nvPr/>
        </p:nvPicPr>
        <p:blipFill>
          <a:blip r:embed="rId4"/>
          <a:stretch/>
        </p:blipFill>
        <p:spPr>
          <a:xfrm>
            <a:off x="3865680" y="3584520"/>
            <a:ext cx="1066680" cy="1079640"/>
          </a:xfrm>
          <a:prstGeom prst="rect">
            <a:avLst/>
          </a:prstGeom>
          <a:ln w="0">
            <a:noFill/>
          </a:ln>
        </p:spPr>
      </p:pic>
      <p:sp>
        <p:nvSpPr>
          <p:cNvPr id="409" name="Номер слайда 9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Franklin Gothic Book"/>
              </a:rPr>
              <a:t>1</a:t>
            </a:r>
            <a:fld id="{534AD3F8-A1CF-4822-A0C5-DAAB3121B09A}" type="slidenum">
              <a:rPr b="0" lang="ru-RU" sz="1600" spc="-1" strike="noStrike">
                <a:solidFill>
                  <a:srgbClr val="ff0000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Номер слайда 9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Franklin Gothic Book"/>
              </a:rPr>
              <a:t>1</a:t>
            </a:r>
            <a:fld id="{29D5F84A-A1A3-43A0-9F86-1758CF28BDF9}" type="slidenum">
              <a:rPr b="0" lang="ru-RU" sz="1600" spc="-1" strike="noStrike">
                <a:solidFill>
                  <a:srgbClr val="ff0000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Documents and Settings\Алла\Рабочий стол\Фото с Занятий\фото\Мои рисунки\к занят.о хлебе\01c9e09cd9b928861515895105e912a2_big.jpg"/>
          <p:cNvPicPr/>
          <p:nvPr/>
        </p:nvPicPr>
        <p:blipFill>
          <a:blip r:embed="rId1"/>
          <a:stretch/>
        </p:blipFill>
        <p:spPr>
          <a:xfrm>
            <a:off x="103320" y="115920"/>
            <a:ext cx="682560" cy="719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Documents and Settings\Алла\Рабочий стол\Фото с Занятий\фото\Мои рисунки\к занят.о хлебе\germany.jpg"/>
          <p:cNvPicPr/>
          <p:nvPr/>
        </p:nvPicPr>
        <p:blipFill>
          <a:blip r:embed="rId2"/>
          <a:stretch/>
        </p:blipFill>
        <p:spPr>
          <a:xfrm>
            <a:off x="6284880" y="4290840"/>
            <a:ext cx="603360" cy="525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C:\Documents and Settings\Алла\Рабочий стол\Фото с Занятий\фото\Мои рисунки\к занят.о хлебе\стар.ветряк..bmp"/>
          <p:cNvPicPr/>
          <p:nvPr/>
        </p:nvPicPr>
        <p:blipFill>
          <a:blip r:embed="rId3"/>
          <a:stretch/>
        </p:blipFill>
        <p:spPr>
          <a:xfrm>
            <a:off x="8028000" y="115920"/>
            <a:ext cx="689040" cy="6588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C:\Documents and Settings\Алла\Рабочий стол\Фото с Занятий\фото\Мои рисунки\к занят.о хлебе\belgium.jpg"/>
          <p:cNvPicPr/>
          <p:nvPr/>
        </p:nvPicPr>
        <p:blipFill>
          <a:blip r:embed="rId4"/>
          <a:stretch/>
        </p:blipFill>
        <p:spPr>
          <a:xfrm>
            <a:off x="103320" y="5572080"/>
            <a:ext cx="830160" cy="749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C:\Documents and Settings\Алла\Рабочий стол\Фото с Занятий\фото\Мои рисунки\к занят.о хлебе\11849_NewsSP.jpg"/>
          <p:cNvPicPr/>
          <p:nvPr/>
        </p:nvPicPr>
        <p:blipFill>
          <a:blip r:embed="rId5"/>
          <a:stretch/>
        </p:blipFill>
        <p:spPr>
          <a:xfrm>
            <a:off x="3352680" y="1427040"/>
            <a:ext cx="725760" cy="66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8T16:27:20Z</dcterms:created>
  <dc:creator>Administrator</dc:creator>
  <dc:description/>
  <dc:language>en-US</dc:language>
  <cp:lastModifiedBy>Administrator</cp:lastModifiedBy>
  <dcterms:modified xsi:type="dcterms:W3CDTF">2011-12-28T17:20:58Z</dcterms:modified>
  <cp:revision>7</cp:revision>
  <dc:subject/>
  <dc:title>Старинная утварь для хлеба</dc:title>
</cp:coreProperties>
</file>