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C86F-2468-4A84-8280-EDFB5BD770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3FD-AF99-48F8-B417-8E4810C7AD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3BC-02D6-4F58-ADD1-404195CF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8C4-C7BB-46A0-A8B6-0BEFF5EC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226BB-D56C-4FDA-9252-0947AB1C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F4EA4-4DD4-4234-891B-B156D490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9BA8D-EE1B-4188-945A-74BF4CC7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FAE39-E067-4430-934A-0863E1EC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49A86-F87C-4CFB-90CA-AA35DA4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C75F6-BDC8-4A34-8EB5-AE384D23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3553F-6DDD-4314-914C-2A24034B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CD3F3-1697-4615-9C4E-70852942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17A43-D49E-4D88-90D0-1002C224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A5F-CFCD-4948-943F-76D0A2F4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763-7875-44D3-B895-C4D48E77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FC18-6A36-4321-A384-324F140F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0C03-8049-4442-9214-31E07E57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4544-1FCB-42BF-86FC-1334A0A5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E0D9-3587-4F78-8F01-068A92F7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908C-A825-45BA-980D-EBA22742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E297-F90B-442B-88E2-C35A44E8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F690-42BA-4FA4-BC84-2EC6E70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CFB-4B3E-4F73-9E3B-221A5516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9CEF-6F3A-4100-9A88-66D8D6D9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C58E-0870-4324-8612-E65426F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5CE7-9DC0-4DA1-9880-DC32DC35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AFA1-743D-4E14-93ED-58F4998C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9839-4847-442E-846B-90E99342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1B74F-F3E8-4BB3-AA09-9416E51C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1775-3A81-4831-B410-F9BB114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F75B-DBAA-46B8-B6E7-552DBCA0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02EC-242B-44AB-8A02-C50F17D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00F08-B2EF-4118-A6C1-CE7EA6A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4C5-8DCF-4212-B5C2-58478212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4CA2F-23CE-4D78-88E0-C272FB51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3A0F-73BD-4A44-B108-A1613C3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FC24-E4B6-4F12-B98F-9BB9C09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7CFF-E617-45FA-8A64-6CA8B969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6920-CC14-459B-AB68-A11C026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AEDD-7A6E-4F55-B4A2-26836015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0DD3-5961-42A8-8526-0C4BAF14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ED40-8CCB-4C07-8889-98DB0AEC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9C73-75E6-4617-BC5E-BA0ECFCB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F3B2-238E-4E11-B79C-AD548574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EDE-EA2D-4ED8-A43C-6BBCEB86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30E1E-EFC1-4C21-B253-74DA589D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E1E1-143A-4C84-8D9A-72B84A5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D540-E5DE-44AE-95D4-B83FE69F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89AD-9E71-4AF0-917A-0B954326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B443D-8F4B-4B7E-A8EA-A395D6A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14D5-4948-48AE-ABCE-8C8D3B3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0FF6-4FF9-498F-8357-391318D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62B6-FBBA-4D8F-AF32-916C320F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86E3-43B5-464B-9536-FC6AE35B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CB8F4-97C7-457E-8170-8703628A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A03-2E46-42CC-B11F-3B1A2B83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C132A-25B6-46CB-892B-30C84457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8A3F8-C038-40CA-9467-2687ACBC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BE70B-66C6-44CC-9D6D-3BA845CE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3C56-C1DE-4C3F-8A1C-190D036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8B581-5CA2-4BAF-8BC5-C8D0AA71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61152-CE19-4684-8231-E23E000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A4C6-7663-4F6C-A2A9-261B21D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573E-E9E3-4508-B9F5-4BFEB246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422D7-85CF-4055-9D0C-E9A514D9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864C-B912-4E55-9B6B-908619CD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4B9-24D4-418B-AED5-82F5F7FD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FF89A-AA3E-4558-B73C-0160CE23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2E237-F37B-4F5D-9697-E65D543F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83ED4-B1A1-4ADC-BFAD-E4782A79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26E1D-7812-4C83-8694-FCA84095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9CAF5-774A-475E-ACCC-FD5DD499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AD9FD-F4A3-4EEC-990D-02F84073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CC9FC-3668-4C96-B7C9-7BDC99C7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4E02-0CED-4EE7-BA31-4AAB02A7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B95DC-9ECD-43E1-A176-45EF9470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42F9-00A6-471E-ACD6-45682D7F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B42-D537-4B09-A62E-B62E1489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22F20-377A-4E32-B8BF-86D646AD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E888-A2A5-4C8F-A58B-1BC7E4AC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19743-976F-4B02-B875-F1E85024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CD0DC-3E23-48A1-8A3E-3D2F5560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D38A2-C83E-45BE-9C5D-D68FB43E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F7274-8EF5-4564-BD1D-0C41DB32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C58A-2FA9-41FC-BED4-B594A957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5C447-0D01-4F89-8CB4-9755D285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EFF72-0D9A-4606-A9DA-B0EE0CBC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574EB-8DD4-41EF-8B31-FD08CD3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7FD-58E7-4B4A-988F-21201642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B16EF-0E1E-405F-923C-FC77FC8D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E74BD-4306-4E57-90EE-91B9770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E77C6-0F9B-415D-AEA0-A1FFB9DE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C7DBC-00B9-427E-8134-504B2D98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59F8B-867F-46FF-8AEF-0759FDCD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3E591-70C3-4473-8DE4-EA1314FA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90771-6C2E-4DDF-9C08-89364BF8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EA4C0-0340-4EC8-A13D-6087EE1B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9554-AA2E-41BD-B9B0-C336E9E8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6C529-7B67-45EF-8017-998A941A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34A-EC96-4AD1-8988-DB05EF85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5E19F-F38C-466A-8EB9-AC41F4BE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13DF-30C8-4E1E-9940-F4ACF5C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65E3C-EBD6-4229-917F-EF098B5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A36A0-85F4-4DA4-A673-295059C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0605C-A54E-4DDC-85A0-E56BED0F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E9155-7221-45B4-8D26-386DA8D3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C9A91-A710-4BB4-BF10-6962D8E2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D13B5-8050-4882-A543-A78E59E2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2CA99-69E2-481F-BCD6-10454D48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5C33E-40CD-41DD-8B82-28A01EEB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67A3-58C4-40B1-89F2-4C50B8437B8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9189-D459-4C9B-AF15-E517379A685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F6DC-98F8-41A9-94C5-6D9EFE35C4C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073D-B14D-41E7-A9BC-4A211A41BD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7AC-F058-46B6-B5AC-795552F624B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1869-53FF-498E-891D-67E8F0828A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079-9715-44E9-A28A-52D89F4595D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8413-116C-468C-98DA-477AF759A4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B252-A082-46D7-BC29-499CB6FEC9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:\Documents and Settings\Алла\Рабочий стол\Фото с Занятий\фото\Мои рисунки\к занят.о хлебе\глиняные печи.jpg"/>
          <p:cNvPicPr/>
          <p:nvPr/>
        </p:nvPicPr>
        <p:blipFill>
          <a:blip r:embed="rId1"/>
          <a:stretch/>
        </p:blipFill>
        <p:spPr>
          <a:xfrm>
            <a:off x="7284960" y="1639800"/>
            <a:ext cx="749520" cy="669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Documents and Settings\Алла\Рабочий стол\Фото с Занятий\фото\Мои рисунки\к занят.о хлебе\глинобитная печь.jpg"/>
          <p:cNvPicPr/>
          <p:nvPr/>
        </p:nvPicPr>
        <p:blipFill>
          <a:blip r:embed="rId2"/>
          <a:stretch/>
        </p:blipFill>
        <p:spPr>
          <a:xfrm>
            <a:off x="2554200" y="4211640"/>
            <a:ext cx="951120" cy="768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3"/>
          <a:stretch/>
        </p:blipFill>
        <p:spPr>
          <a:xfrm>
            <a:off x="426960" y="5425920"/>
            <a:ext cx="932040" cy="785880"/>
          </a:xfrm>
          <a:prstGeom prst="rect">
            <a:avLst/>
          </a:prstGeom>
          <a:ln w="0">
            <a:noFill/>
          </a:ln>
        </p:spPr>
      </p:pic>
      <p:pic>
        <p:nvPicPr>
          <p:cNvPr id="409" name="Заголовок 6" descr=""/>
          <p:cNvPicPr/>
          <p:nvPr/>
        </p:nvPicPr>
        <p:blipFill>
          <a:blip r:embed="rId4"/>
          <a:stretch/>
        </p:blipFill>
        <p:spPr>
          <a:xfrm>
            <a:off x="1914480" y="-6480"/>
            <a:ext cx="6095880" cy="927360"/>
          </a:xfrm>
          <a:prstGeom prst="rect">
            <a:avLst/>
          </a:prstGeom>
          <a:ln w="0">
            <a:noFill/>
          </a:ln>
        </p:spPr>
      </p:pic>
      <p:sp>
        <p:nvSpPr>
          <p:cNvPr id="410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15D1-19B6-4CDE-98E6-43B53FBB81C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1071720" y="1078920"/>
            <a:ext cx="1857240" cy="329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еликой Отечественной войны жителям Ленинграда выпала страшная доля – 900 дней вражеской блокады. Жители города получали 125 г хлеба на весь день, но именно он, этот хлеб помог ленинградцам не только выстоять, но и победить.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1803 ленинградца погибли в дни блокады от голода. 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искаревском кладбище тысячи могил. Около одной могилы стоят люди и молча плачут. На могиле лежит ломтик хлеба, а рядом слова: «Доченька, если бы я могла тебе дать его тогда».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2" name="Рисунок 2" descr="46-7-1.jpg"/>
          <p:cNvPicPr/>
          <p:nvPr/>
        </p:nvPicPr>
        <p:blipFill>
          <a:blip r:embed="rId1"/>
          <a:stretch/>
        </p:blipFill>
        <p:spPr>
          <a:xfrm>
            <a:off x="7510320" y="579600"/>
            <a:ext cx="1090800" cy="11998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3" descr="34.gif"/>
          <p:cNvPicPr/>
          <p:nvPr/>
        </p:nvPicPr>
        <p:blipFill>
          <a:blip r:embed="rId2"/>
          <a:stretch/>
        </p:blipFill>
        <p:spPr>
          <a:xfrm>
            <a:off x="7723080" y="4297320"/>
            <a:ext cx="1208160" cy="1036800"/>
          </a:xfrm>
          <a:prstGeom prst="rect">
            <a:avLst/>
          </a:prstGeom>
          <a:ln w="0">
            <a:noFill/>
          </a:ln>
        </p:spPr>
      </p:pic>
      <p:sp>
        <p:nvSpPr>
          <p:cNvPr id="414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12C8-AEF2-4B09-A25F-0AE71A6AE5C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C:\Documents and Settings\Алла\Рабочий стол\Фото с Занятий\фото\Мои рисунки\к занят.о хлебе\775.jpg"/>
          <p:cNvPicPr/>
          <p:nvPr/>
        </p:nvPicPr>
        <p:blipFill>
          <a:blip r:embed="rId1"/>
          <a:stretch/>
        </p:blipFill>
        <p:spPr>
          <a:xfrm>
            <a:off x="4638600" y="3571920"/>
            <a:ext cx="866880" cy="81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C:\Documents and Settings\Алла\Рабочий стол\Фото с Занятий\фото\Мои рисунки\к занят.о хлебе\37059--14375734-.jpg"/>
          <p:cNvPicPr/>
          <p:nvPr/>
        </p:nvPicPr>
        <p:blipFill>
          <a:blip r:embed="rId2"/>
          <a:stretch/>
        </p:blipFill>
        <p:spPr>
          <a:xfrm>
            <a:off x="2687760" y="3067200"/>
            <a:ext cx="664920" cy="7236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C:\Documents and Settings\Алла\Рабочий стол\Фото с Занятий\фото\Мои рисунки\к занят.о хлебе\38800217_34.gif"/>
          <p:cNvPicPr/>
          <p:nvPr/>
        </p:nvPicPr>
        <p:blipFill>
          <a:blip r:embed="rId3"/>
          <a:stretch/>
        </p:blipFill>
        <p:spPr>
          <a:xfrm>
            <a:off x="1689120" y="1122480"/>
            <a:ext cx="816120" cy="7063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C:\Documents and Settings\Алла\Рабочий стол\Фото с Занятий\фото\Мои рисунки\к занят.о хлебе\m_3f490757d44337f7.jpg"/>
          <p:cNvPicPr/>
          <p:nvPr/>
        </p:nvPicPr>
        <p:blipFill>
          <a:blip r:embed="rId4"/>
          <a:stretch/>
        </p:blipFill>
        <p:spPr>
          <a:xfrm>
            <a:off x="7211880" y="781200"/>
            <a:ext cx="987480" cy="865080"/>
          </a:xfrm>
          <a:prstGeom prst="rect">
            <a:avLst/>
          </a:prstGeom>
          <a:ln w="0">
            <a:noFill/>
          </a:ln>
        </p:spPr>
      </p:pic>
      <p:sp>
        <p:nvSpPr>
          <p:cNvPr id="419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6E7-3FA8-4FC5-9210-B7763212ECA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1039320"/>
            <a:ext cx="2928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ос в поле дом,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н дом зерном,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позолочены,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ни заколочены,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дом ходу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бе золот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Прямоугольник 4"/>
          <p:cNvSpPr/>
          <p:nvPr/>
        </p:nvSpPr>
        <p:spPr>
          <a:xfrm>
            <a:off x="5429160" y="64296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кмахер необыч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дко чуб стрижёт пшеничный,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ежат за ним вразброс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ны золотых волос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Прямоугольник 5"/>
          <p:cNvSpPr/>
          <p:nvPr/>
        </p:nvSpPr>
        <p:spPr>
          <a:xfrm>
            <a:off x="1357200" y="357192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я сыпучим,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– тягучим,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гонь попал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м стал. 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Прямоугольник 6"/>
          <p:cNvSpPr/>
          <p:nvPr/>
        </p:nvSpPr>
        <p:spPr>
          <a:xfrm>
            <a:off x="2428920" y="214200"/>
            <a:ext cx="15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696"/>
                </a:solidFill>
                <a:latin typeface="Times New Roman"/>
                <a:ea typeface="Times New Roman"/>
              </a:rPr>
              <a:t>Отгадайте загадки: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4" name="Рисунок 7" descr="03_01_00.jpg"/>
          <p:cNvPicPr/>
          <p:nvPr/>
        </p:nvPicPr>
        <p:blipFill>
          <a:blip r:embed="rId1"/>
          <a:stretch/>
        </p:blipFill>
        <p:spPr>
          <a:xfrm>
            <a:off x="4243320" y="500040"/>
            <a:ext cx="987480" cy="10303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8" descr="kzs7.jpg"/>
          <p:cNvPicPr/>
          <p:nvPr/>
        </p:nvPicPr>
        <p:blipFill>
          <a:blip r:embed="rId2"/>
          <a:stretch/>
        </p:blipFill>
        <p:spPr>
          <a:xfrm>
            <a:off x="7680240" y="2298600"/>
            <a:ext cx="1251000" cy="10731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10" descr="324420153_YFXGx-M.jpg"/>
          <p:cNvPicPr/>
          <p:nvPr/>
        </p:nvPicPr>
        <p:blipFill>
          <a:blip r:embed="rId3"/>
          <a:stretch/>
        </p:blipFill>
        <p:spPr>
          <a:xfrm>
            <a:off x="5651640" y="4290840"/>
            <a:ext cx="1103040" cy="93996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11" descr="a285891435d8.jpg"/>
          <p:cNvPicPr/>
          <p:nvPr/>
        </p:nvPicPr>
        <p:blipFill>
          <a:blip r:embed="rId4"/>
          <a:stretch/>
        </p:blipFill>
        <p:spPr>
          <a:xfrm>
            <a:off x="1500120" y="4809960"/>
            <a:ext cx="1285920" cy="1067040"/>
          </a:xfrm>
          <a:prstGeom prst="rect">
            <a:avLst/>
          </a:prstGeom>
          <a:ln w="0">
            <a:noFill/>
          </a:ln>
        </p:spPr>
      </p:pic>
      <p:sp>
        <p:nvSpPr>
          <p:cNvPr id="428" name="Номер слайда 9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56F1-EEC2-4740-9288-85E0332874C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9" descr="pirog_sladkiy.jpg"/>
          <p:cNvPicPr/>
          <p:nvPr/>
        </p:nvPicPr>
        <p:blipFill>
          <a:blip r:embed="rId1"/>
          <a:stretch/>
        </p:blipFill>
        <p:spPr>
          <a:xfrm>
            <a:off x="2273400" y="4133880"/>
            <a:ext cx="1171440" cy="106056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2"/>
          <p:cNvSpPr/>
          <p:nvPr/>
        </p:nvSpPr>
        <p:spPr>
          <a:xfrm>
            <a:off x="127080" y="1006560"/>
            <a:ext cx="2781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0" y="214200"/>
            <a:ext cx="3286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цо не просто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цо золото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стящее, хрустяще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на загляденье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и объеденье!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Прямоугольник 4"/>
          <p:cNvSpPr/>
          <p:nvPr/>
        </p:nvSpPr>
        <p:spPr>
          <a:xfrm>
            <a:off x="1714680" y="2214720"/>
            <a:ext cx="52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 сковородку наливают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четверо сгибают? 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Прямоугольник 5"/>
          <p:cNvSpPr/>
          <p:nvPr/>
        </p:nvSpPr>
        <p:spPr>
          <a:xfrm>
            <a:off x="3714840" y="4919760"/>
            <a:ext cx="3786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ь сперва его сажают,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 выйдет он оттуда,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кладут его на блюдо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теперь зови ребят!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усочку все съедят. 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4" name="Рисунок 6" descr="всч.jpg"/>
          <p:cNvPicPr/>
          <p:nvPr/>
        </p:nvPicPr>
        <p:blipFill>
          <a:blip r:embed="rId2"/>
          <a:stretch/>
        </p:blipFill>
        <p:spPr>
          <a:xfrm>
            <a:off x="2859120" y="0"/>
            <a:ext cx="1298520" cy="981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7" descr="11.jpg"/>
          <p:cNvPicPr/>
          <p:nvPr/>
        </p:nvPicPr>
        <p:blipFill>
          <a:blip r:embed="rId3"/>
          <a:stretch/>
        </p:blipFill>
        <p:spPr>
          <a:xfrm>
            <a:off x="2712960" y="2712960"/>
            <a:ext cx="1084320" cy="90180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8" descr="adad376a1f2a.jpg"/>
          <p:cNvPicPr/>
          <p:nvPr/>
        </p:nvPicPr>
        <p:blipFill>
          <a:blip r:embed="rId4"/>
          <a:stretch/>
        </p:blipFill>
        <p:spPr>
          <a:xfrm>
            <a:off x="7918560" y="1212840"/>
            <a:ext cx="950760" cy="944640"/>
          </a:xfrm>
          <a:prstGeom prst="rect">
            <a:avLst/>
          </a:prstGeom>
          <a:ln w="0">
            <a:noFill/>
          </a:ln>
        </p:spPr>
      </p:pic>
      <p:sp>
        <p:nvSpPr>
          <p:cNvPr id="437" name="Номер слайда 9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78D9-AB8A-43A9-A2A4-EDBFE3A27BE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7:22:58Z</dcterms:created>
  <dc:creator>Administrator</dc:creator>
  <dc:description/>
  <dc:language>en-US</dc:language>
  <cp:lastModifiedBy>Administrator</cp:lastModifiedBy>
  <dcterms:modified xsi:type="dcterms:W3CDTF">2011-12-28T17:30:57Z</dcterms:modified>
  <cp:revision>1</cp:revision>
  <dc:subject/>
  <dc:title>Выпечка  хлебов  </dc:title>
</cp:coreProperties>
</file>